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62D-8BFE-4610-959A-07D70335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822-09E4-4B1F-9815-4E4088F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42D-2FCB-40A3-AB63-0C12C29D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1A1-7DDC-49AB-A5EC-E9B063B6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3C1-2FDD-45E2-A2D4-F1BA22B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86E-C7E0-4E2F-9D02-F493842E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8C3-8F44-46CF-BBBC-79FE539D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5FB-6E55-4EB5-97C7-1A8F11A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36D-72EE-4220-9B2C-B9BBFE2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AEC-2BB9-42A9-B70C-77EB893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A32-927A-4A21-9B10-BDCAFF9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A23-8D9C-4A4A-BE71-CEF2C5C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756-7BCF-4465-BD1C-F4E957E74B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70829_geschiedeniseu0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hooltv.nl/beeldbank/clip/20070829_geschiedeniseu0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81013_groeieu01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907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8209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e vraa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t hoofdstuk staat de vraag centra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Welke invloed heeft de Europese Unie op Nederland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1916280"/>
            <a:ext cx="813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iedeni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1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van 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conomische samenwerking op gebied van kolen en sta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Vergroten va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lux (België/Nederland/Luxemburg) Frankrijk, Duitsland en Itali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50028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ich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 maar dan voor meer economische gebieden dan alle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len en staal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m als EG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95280" y="465300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7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uropese Gemeenscha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t alleen samenwerking op economisch gebied maar ook bv. Cul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re democratische Europese landen mogen ook lid wo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134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68360" y="476280"/>
            <a:ext cx="81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volg geschieden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572000" y="530064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er in 1 minuut het ontstaan van de Europese U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360" y="90792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amsverandering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uropese Uni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e gemeenschappelijke handelsmarkt d.w.z.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rij verkeer van goederen, diensten, geld en mensen door opheff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binnengrenz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deren van eerlijke concurren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schappelijk landbouw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nwerking op gebied v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tenlandsbele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d4ec891-0b71-42fc-9f11-b26be6f4eac1_european_union_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84640"/>
            <a:ext cx="3097440" cy="308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dyn007_original_230_230_gif_2616433_045200ad0f6ddc4359e05e37fcbfbe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64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68360" y="47628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den van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2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97000"/>
            <a:ext cx="4897440" cy="489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yn007_original_230_230_gif_2616433_045200ad0f6ddc4359e05e37fcbfbe38"/>
          <p:cNvPicPr/>
          <p:nvPr/>
        </p:nvPicPr>
        <p:blipFill>
          <a:blip r:embed="rId3"/>
          <a:stretch/>
        </p:blipFill>
        <p:spPr>
          <a:xfrm>
            <a:off x="6877080" y="285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76280"/>
            <a:ext cx="8137440" cy="51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vloed van de EU op Nederlan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7 van de 27 landen hebben de Euro als mu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(Let op het boek spreekt over 12 landen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        dat is dus achterhaal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2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België, Duitsland, Finland, Frankrijk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Griekenland Ierland, Italië, Luxemburg,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Nederland, Oostenrijk, Portugal en 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panje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7: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8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Cyprus en M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09</a:t>
            </a:r>
            <a:br>
              <a:rPr sz="1400"/>
            </a:b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Slowakijë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Sind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1347840"/>
                <a:tab algn="l" pos="1792440"/>
                <a:tab algn="l" pos="457200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Est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6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187164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5148360" y="1989000"/>
            <a:ext cx="399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oordelen van één munt            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de Euro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geld omwissel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s geen koersverlie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vordert handel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lvaar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bleem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alle lidstaten (b.v. Grieken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and en Italié) houden zich 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afgesproken strenge begr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ngsregels waardoor er econo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ische problemen ontsta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836640"/>
            <a:ext cx="83534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van de consument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rechten worden met Europese wetten bescher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ondheid en veiligheid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elijke strenge gezondheids-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veiligheidseisen in alle EU-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obiel bel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goedkoper mobiel bellen i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buiten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lijke rechten voor man en vro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lieubescherming en verbod op dierpro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burgerschap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eciale rechten voor burgers binnen de EU zoals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v. vrij reizen, wonen, wer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nsenrechten en democratische beginselen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trijding discrimin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ije verkiezingen en stem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tudie- en stagemogelijkhed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loed van de EU op Nederland (vervol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mobieltje_oke"/>
          <p:cNvPicPr/>
          <p:nvPr/>
        </p:nvPicPr>
        <p:blipFill>
          <a:blip r:embed="rId1"/>
          <a:stretch/>
        </p:blipFill>
        <p:spPr>
          <a:xfrm>
            <a:off x="6084720" y="2205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836640"/>
            <a:ext cx="83534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wikkel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bestuur en de verdeling van de werkelijke macht binnen Europa zit ingewikkeld in elkaar. Hoewel he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en officieel wettelijk bestuursorga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, is het de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uropese Ra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= de vergadering van Europese regeringsleiders)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e in wezen de dienst uit maak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uursorgan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uur va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49236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651640" y="278136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08000" y="278136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340000" y="5373720"/>
            <a:ext cx="475128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n van wetsvoorstell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ontroleren of lidstaten de Europese wetten uitvo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3924360" y="501300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219564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4360" y="4076640"/>
            <a:ext cx="237636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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/ afke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uropese commissie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516720" y="4076640"/>
            <a:ext cx="23032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tten goed- of afkeu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 flipV="1">
            <a:off x="7380360" y="357336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539640" y="5157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9640" y="4005360"/>
            <a:ext cx="2664000" cy="97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gelijks bestuur van de EU; een soort van Europees k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2421000"/>
            <a:ext cx="2664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 de 5 jaar gekozen door 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se bur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5640" y="836640"/>
            <a:ext cx="2232000" cy="763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inisters van de diverse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idst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619280" y="321264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1619280" y="16282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292720" y="981000"/>
            <a:ext cx="266400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Reger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987640" y="1197000"/>
            <a:ext cx="2303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3203640" y="1341000"/>
            <a:ext cx="2663640" cy="302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92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92360" y="1916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70836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399564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92720" y="2349360"/>
            <a:ext cx="3456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uropese Commissie ontwerpt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wet en legt die ter goedkeu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voor aan het Europe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neer het Parlement de we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t legt deze de wet t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edkeuring voor aan de Ra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Mini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eren de wet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se Commissie controlee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de regeringen van de lidstat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Europese wetten go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tvoer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dyn007_original_230_230_gif_2616433_045200ad0f6ddc4359e05e37fcbfbe38"/>
          <p:cNvPicPr/>
          <p:nvPr/>
        </p:nvPicPr>
        <p:blipFill>
          <a:blip r:embed="rId1"/>
          <a:stretch/>
        </p:blipFill>
        <p:spPr>
          <a:xfrm>
            <a:off x="334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627280" y="260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e ontstaat een wet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951280" cy="1984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932360" y="4076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jnissen van de SP heeft het niet zo op Europa. Kijk en luister naar zijn me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yn007_original_230_230_gif_2616433_045200ad0f6ddc4359e05e37fcbfbe38"/>
          <p:cNvPicPr/>
          <p:nvPr/>
        </p:nvPicPr>
        <p:blipFill>
          <a:blip r:embed="rId2"/>
          <a:stretch/>
        </p:blipFill>
        <p:spPr>
          <a:xfrm>
            <a:off x="514836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95280" y="333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htspraak in Europa en knelpu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68360" y="836640"/>
            <a:ext cx="835344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pese Hof van Justit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t uitspraken over zaken die met de Europese wetten hebben te m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elpunten in de E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r Europese regels beperken de zeggenschap van lidstaten binnen hun eigen lan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Er is nog te weinig democratische controle mogelijk.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is een log en bureaucratisch gehe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et de EU nog wel groter worden met nog meer landen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arbeiders uit lagelonenlanden gaan werk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t rijkere noordwest Europ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el bedrijven gaan zich vestigen in de lidstaten met lage lonen ten koste van d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kgelegenheid van de rijkere l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8031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3-13T08:55:06Z</dcterms:modified>
  <cp:revision>57</cp:revision>
  <dc:subject/>
  <dc:title>Dia 1</dc:title>
</cp:coreProperties>
</file>