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F3D-14F4-408A-8057-ACA8C33F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991-ECDA-4DCA-846B-4122D4C9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821-AD9F-4D22-A82D-B113CE27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170-C0F0-4CDF-8603-6FAE226E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F6F-8D81-4446-B8E0-7C31C725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FE3-6376-4E6E-B57B-3A1496A4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00D-9934-4530-AB51-9D03C891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D74-03CB-4605-A35B-E29E7F3E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7AD-1E6A-4CD8-BE28-50F217E9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18C-AD5E-42A6-BCDB-A0FCC21C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C7B-9206-49B6-A288-5375D58B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1B1-81AE-44CD-91EA-EEDF3342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FCAD-39B2-4E39-A2C0-7D04CC136A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, staat e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dict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132" t="6980" r="5187" b="9286"/>
          <a:stretch/>
        </p:blipFill>
        <p:spPr>
          <a:xfrm>
            <a:off x="900000" y="3933720"/>
            <a:ext cx="208764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tellen van regels die te mak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bben met het besturen van h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meervoud van he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ord politicu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vertegenwoordigers di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ns het volk besluiten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24000" y="4653000"/>
            <a:ext cx="8497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e nivea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elijk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rste en Tweede Kam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Brab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al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lijk niveau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 &amp; Ma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 staat en dict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67280" y="1197000"/>
            <a:ext cx="439236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68360" y="3573360"/>
            <a:ext cx="2808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goed besturen is niet eenvoudi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8606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54936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preken van een staat wanneer er sprak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en grondgebied (hoeft niet aaneen geslo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zijn maar meestal is dat we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overheid (= het gez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95280" y="263700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rondgebie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rondgebied = het land, het water (tot maximaal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2 km in zee) en het luchtruim daarb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70400" y="476280"/>
            <a:ext cx="3576600" cy="417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395280" y="357336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bestaat de bevolking uit autochto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llochtonen. (multiculturele samenleving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5280" y="465300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a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ag = de overheid die het land, provincie, gemeente enz. bestuur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gezag wordt niet altijd door elk land erkend. (Noord-Cyprus wordt alleen door Turkije als zelfstandig land erkend. Taiwan wordt niet door China als zelfstandig land erkend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54936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cta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dictatuur is een staat waarbij de macht in handen is van één persoon (dictator), een kleine groep mensen of één politieke partij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95280" y="1700280"/>
            <a:ext cx="8748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dictatuu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olk heeft geen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(b.v. vrijheid van m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ngsuiting of partijvorming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bescherming van grond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zoals onafhankelij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praa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er speelt vaak rol als onde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ukk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95280" y="4292640"/>
            <a:ext cx="3095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orbeelden van dictatur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Ko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artoon: Kim Jong Un (medium) by Erl tagged nord,korea,diktator,kim,jong,il,tod,nachfolge,sohn,un,dick,stalinismus,hunger,armut,hoffnung,reformen,nordkorea,kim jong il,tod,nachfolge,sohn,stalinismus,kim,jong,il"/>
          <p:cNvPicPr/>
          <p:nvPr/>
        </p:nvPicPr>
        <p:blipFill>
          <a:blip r:embed="rId1"/>
          <a:stretch/>
        </p:blipFill>
        <p:spPr>
          <a:xfrm>
            <a:off x="3995640" y="2060640"/>
            <a:ext cx="4689720" cy="332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30Z</dcterms:modified>
  <cp:revision>34</cp:revision>
  <dc:subject/>
  <dc:title>Dia 1</dc:title>
</cp:coreProperties>
</file>