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55D-813B-4BA6-8474-BBE3E4161D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6F9C-5B07-4615-9E20-03AD880FD9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1F8-1ECB-4313-B895-5C51DFE1D5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4EF3-1AB9-47D2-9869-E5B01A0CC6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639-6474-4815-9E7A-3FD5DE86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D42-CEDC-42A7-8F7C-7ACC2BF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D55-B311-46F3-8F31-743E5583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1BF-B19D-4AFD-BA77-25250AF4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E8C-F3E5-4308-9FEF-04713AB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A89-F7A1-4D62-AC3A-E135D594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347-35E1-43C7-8F55-49F0651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5D0-24F0-4F5B-A81B-839D755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36F-ABF0-433D-8BE7-18BBD8A3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18E-C3A4-49C4-A179-1A7FF10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6BD-6300-45B3-9EFB-F4D6890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9F1-F855-4DD5-8DF4-E2D538A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F53-C2C5-46E0-85AB-AF1E190BDB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Regels e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recht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5040" cy="19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 en 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le vormen van gedrag die volgens de wet strafbaar zij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2060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en rech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s en rechten zijn omschreven in wet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rondwet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grondwet staan de basisregels van onze democratie beschrev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e grondrechten als burgers en de manier waarop onze staat is ge-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ee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dere wett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ere wetten mogen nooit in strijd zijn met de grond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-  Wetboek van Strafre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Opium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genverkeers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 economische deli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55640" y="1125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anderen door de tijd he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omoseksualiteit strafbaar, nu niet mee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et inbreken in iemand anders zijn computer 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ar. Er bestonden immers geen computers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ntificatieplicht is er pas sinds 200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501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schillen per plaat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Nederland is het  homohuwelijk toegestaan maar in veel landen niet.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uurwapens zijn voor bijna iedereen in Nederland verboden in de V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het een grondrecht om een wapen te mogen bezitte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verboden-toegang_groot"/>
          <p:cNvPicPr/>
          <p:nvPr/>
        </p:nvPicPr>
        <p:blipFill>
          <a:blip r:embed="rId1"/>
          <a:stretch/>
        </p:blipFill>
        <p:spPr>
          <a:xfrm>
            <a:off x="2050920" y="2781360"/>
            <a:ext cx="4392720" cy="183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e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197000"/>
            <a:ext cx="777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at waarin de burgers worden be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md tegen machtsmisbruik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llekeur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derland is een rechtsstaat wa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n en plichten van de burger liggen vast in de (grond)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verheid zorgt voor rechtshandhaving en rechtsbescherm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een democratisch gekozen parleme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scheiding va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gev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uitvoer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echterlijke macht</a:t>
            </a:r>
            <a:br>
              <a:rPr sz="18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merking: In Nederland is de scheiding tussen wetgevende en uitvoerende macht niet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olledig doorgevoerd. Dit beperkt onze democratische rechten echter niet. Zie ook de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werPoint  ‘Staat en regering’.</a:t>
            </a:r>
            <a:br>
              <a:rPr sz="1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spraak opereert onafhankelijk van de over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rechtsstaat"/>
          <p:cNvPicPr/>
          <p:nvPr/>
        </p:nvPicPr>
        <p:blipFill>
          <a:blip r:embed="rId1"/>
          <a:srcRect l="14789" t="27624" r="12900" b="18081"/>
          <a:stretch/>
        </p:blipFill>
        <p:spPr>
          <a:xfrm>
            <a:off x="5003640" y="765000"/>
            <a:ext cx="3168720" cy="15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8:48:02Z</dcterms:modified>
  <cp:revision>45</cp:revision>
  <dc:subject/>
  <dc:title>Dia 1</dc:title>
</cp:coreProperties>
</file>