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6A80-2952-43CF-965C-A85CC767C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3B35-E426-4BF1-9B4A-E00B71308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7214-91C9-4896-8A86-E2B4DD5A1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21F2-4E24-4673-B0D7-D30F29308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8A6A-F912-4EC4-A0FD-F231AAB37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E602-2375-4030-8C03-1A92B301C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5CA5-6EA7-42BC-991B-9852252A6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D32B-194C-4367-B25F-67E63A76B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9D7A-61EB-4573-94CB-FE828F2AF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873C-5139-4916-B6A3-F649FA7A9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E50C-EFB7-47A4-911C-14F37212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BDFD-3D85-4453-B62C-59DBB7258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245C9-0A2A-4654-997A-F56407A036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50816_supportersgeweld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692280"/>
            <a:ext cx="705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.LET OP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227640" y="620640"/>
            <a:ext cx="2625840" cy="2232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26920" y="1268280"/>
            <a:ext cx="7058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ze powerpoint gaat over  </a:t>
            </a: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“Van politie naar </a:t>
            </a:r>
            <a:br>
              <a:rPr sz="1800"/>
            </a:b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officie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1989000"/>
            <a:ext cx="70581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De powerpoint bevat de basisstof die je moet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kennen om het centraal schriftelijk met succes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te kunnen mak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3068640"/>
            <a:ext cx="705816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rg dus dat j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oed kent en door hebt wat er in dez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a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geet niet ook he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 bestuderen/raadplegen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03280" y="3429000"/>
            <a:ext cx="70581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nder deze basiskennis is het maken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van inzichtvragen – die veel op het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examen voorkomen – onbegonne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we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08360" y="4869000"/>
            <a:ext cx="4249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EEL SUC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64360" y="623736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900000" y="4076640"/>
            <a:ext cx="3311640" cy="22082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539640" y="549360"/>
            <a:ext cx="59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an politie naar offic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611280" y="1052640"/>
            <a:ext cx="806436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5712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ofdvraag van dit hoofdstuk: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elke procedure moet worden gevolgd als er een strafbaar feit is geconstatee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5712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ken van de polit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taak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lpverleningstaa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sporingstaa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enti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nstverlening en advie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3419640" y="4076640"/>
            <a:ext cx="554508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AutoNum type="arabicPlain"/>
              <a:tabLst>
                <a:tab algn="l" pos="268200"/>
                <a:tab algn="l" pos="1617840"/>
                <a:tab algn="l" pos="233028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deta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68200"/>
                <a:tab algn="l" pos="1617840"/>
                <a:tab algn="l" pos="233028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itie heeft speciale bevoegdheden als het gaa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m het handhaven van de or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emand verplichten door te lopen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ntroleren op wettelijk verplichte papieren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keuren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dien nodig geweld gebruik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68200"/>
                <a:tab algn="l" pos="1617840"/>
                <a:tab algn="l" pos="233028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6" descr="dyn007_original_230_230_gif_2616433_045200ad0f6ddc4359e05e37fcbfbe3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450864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219640" y="1916280"/>
            <a:ext cx="1822680" cy="2039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5"/>
          <p:cNvSpPr/>
          <p:nvPr/>
        </p:nvSpPr>
        <p:spPr>
          <a:xfrm>
            <a:off x="539640" y="549360"/>
            <a:ext cx="8064720" cy="65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357120"/>
                <a:tab algn="l" pos="80316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Hulpverleningsta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357120"/>
                <a:tab algn="l" pos="80316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weg wijzen, verloren kinderen opsporen enz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357120"/>
                <a:tab algn="l" pos="80316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Opsporingstaak </a:t>
            </a: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(bij strafbare feiten)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357120"/>
                <a:tab algn="l" pos="80316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emand staande mogen houden (= naam en adres vragen).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Fouillere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anhouden (= arresteren)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asthouden (= in bureaucel opsluiten)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eslagleggen (bv. Van gestolen goederen)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uiszoeking doe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es uur vasthouden voor verhoor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an 2x drie dagen verlengd worden door de officier van justitie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og langer vasthouden kan met toestemming van de rechter-commis-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aris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357120"/>
                <a:tab algn="l" pos="80316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evoegdheden van de politie staan precies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mschreven om de rechten van de burgers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te bescherm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357120"/>
                <a:tab algn="l" pos="80316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5"/>
          <p:cNvSpPr/>
          <p:nvPr/>
        </p:nvSpPr>
        <p:spPr>
          <a:xfrm>
            <a:off x="468360" y="404640"/>
            <a:ext cx="80643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357120"/>
                <a:tab algn="l" pos="80316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Preven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357120"/>
                <a:tab algn="l" pos="80316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trafbare feiten voorkomen zoals waarschuwen voor zakkenrollers maar ook fietsen graver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357120"/>
                <a:tab algn="l" pos="80316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Dienstverlening en advies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357120"/>
                <a:tab algn="l" pos="80316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vies geven hoe b.v. inbraak kan voorkomen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erkeer regelen bij bv. een verkeersongelu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6" descr="dyn007_original_230_230_gif_2616433_045200ad0f6ddc4359e05e37fcbfbe38"/>
          <p:cNvPicPr/>
          <p:nvPr/>
        </p:nvPicPr>
        <p:blipFill>
          <a:blip r:embed="rId1"/>
          <a:stretch/>
        </p:blipFill>
        <p:spPr>
          <a:xfrm>
            <a:off x="6804000" y="184464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84360" y="2708280"/>
            <a:ext cx="43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en inbreker wordt opgepakt en dan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87280" y="4797360"/>
            <a:ext cx="935280" cy="368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i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843280" y="4653000"/>
            <a:ext cx="1224000" cy="580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ulpofficier van justit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03640" y="4653000"/>
            <a:ext cx="1440000" cy="580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hter-commissar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08720" y="4797360"/>
            <a:ext cx="1368720" cy="3373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htka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11280" y="5661000"/>
            <a:ext cx="165708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 uren + na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5589720"/>
            <a:ext cx="1729080" cy="580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3 dagen + 3 da-gen verleng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219640" y="5734080"/>
            <a:ext cx="107964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 da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308720" y="5734080"/>
            <a:ext cx="136872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x 30 da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19280" y="5157720"/>
            <a:ext cx="0" cy="503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92360" y="5229360"/>
            <a:ext cx="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24360" y="522936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956720" y="5157720"/>
            <a:ext cx="0" cy="57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124000" y="494172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067280" y="4941720"/>
            <a:ext cx="93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43640" y="5013360"/>
            <a:ext cx="865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933720"/>
            <a:ext cx="10080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rho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68360" y="3933720"/>
            <a:ext cx="23036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erzekeringstel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16360" y="3933720"/>
            <a:ext cx="20178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bewaringstel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948360" y="3933720"/>
            <a:ext cx="19796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vangenhou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19280" y="4292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92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4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956720" y="4292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24000" y="3284640"/>
            <a:ext cx="46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e lang kun je vastgehouden word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5"/>
          <p:cNvSpPr/>
          <p:nvPr/>
        </p:nvSpPr>
        <p:spPr>
          <a:xfrm>
            <a:off x="539640" y="404640"/>
            <a:ext cx="8064720" cy="17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57120"/>
                <a:tab algn="l" pos="80316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ficier van justitie  (= openbare aanklag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57120"/>
                <a:tab algn="l" pos="80316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oekt namens de samenleving bewijzen tegen de verdachte (= openbar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anklager)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ist straf tegen de verdachte tijdens het proce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e officieren van justitie = Openbaar Ministerie (OM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indverantwoordelijke voor het OM is de Minister van Justit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rcRect l="32928" t="0" r="22699" b="0"/>
          <a:stretch/>
        </p:blipFill>
        <p:spPr>
          <a:xfrm>
            <a:off x="468360" y="2852640"/>
            <a:ext cx="1946160" cy="2459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89" name=""/>
          <p:cNvSpPr/>
          <p:nvPr/>
        </p:nvSpPr>
        <p:spPr>
          <a:xfrm>
            <a:off x="250920" y="5300640"/>
            <a:ext cx="223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Ivo Opstelten</a:t>
            </a:r>
            <a:br>
              <a:rPr sz="1400"/>
            </a:b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Min. van Justitie (VV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00360" y="2997360"/>
            <a:ext cx="5905440" cy="3070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litie constateert strafbaar feit en stelt een proces verbaal o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700360" y="3573360"/>
            <a:ext cx="5904000" cy="3070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.l.v. officier van justitie volgt opsporingsonderzoek door polit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987640" y="4149720"/>
            <a:ext cx="5041800" cy="3373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ficier van justitie beslist of er een rechtszaak komt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651640" y="335772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651640" y="3933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492360" y="4724280"/>
            <a:ext cx="4392720" cy="3373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ficier van justitie eist straf tijdens rechtszaa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51640" y="450864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427640" y="5300640"/>
            <a:ext cx="2449440" cy="3373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chter doet uitspraak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32000" y="5877000"/>
            <a:ext cx="4897440" cy="3373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ficier van justitie zorgt dat straf wordt uitgevoerd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51640" y="508464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51640" y="566100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067280" y="2421000"/>
            <a:ext cx="3025800" cy="368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loop van een strafza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5"/>
          <p:cNvSpPr/>
          <p:nvPr/>
        </p:nvSpPr>
        <p:spPr>
          <a:xfrm>
            <a:off x="539640" y="549360"/>
            <a:ext cx="806472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80316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l of niet naar de rech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80316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een opsporingsonderzoek wordt een dossier aangelegd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ar aanleiding van het dossier zijn er drie mogelijkhed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0000"/>
              </a:buClr>
              <a:buFont typeface="Arial"/>
              <a:buAutoNum type="arabicPeriod"/>
              <a:tabLst>
                <a:tab algn="l" pos="80316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poner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t betekent dat er wordt afgezien van verdere rechtsvervol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0000"/>
              </a:buClr>
              <a:buFont typeface="Arial"/>
              <a:buAutoNum type="arabicPeriod"/>
              <a:tabLst>
                <a:tab algn="l" pos="80316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chikk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 vindt geen verdere vervolging plaats wanneer de verdachte een bepaalde geldboete wil betal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0000"/>
              </a:buClr>
              <a:buFont typeface="Arial"/>
              <a:buAutoNum type="arabicPeriod"/>
              <a:tabLst>
                <a:tab algn="l" pos="80316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ervolg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zaak komt voor de rech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724360" y="4005360"/>
            <a:ext cx="3094200" cy="2070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6" descr="dyn007_original_230_230_gif_2616433_045200ad0f6ddc4359e05e37fcbfbe38"/>
          <p:cNvPicPr/>
          <p:nvPr/>
        </p:nvPicPr>
        <p:blipFill>
          <a:blip r:embed="rId2"/>
          <a:stretch/>
        </p:blipFill>
        <p:spPr>
          <a:xfrm>
            <a:off x="611280" y="429264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700360" y="4508640"/>
            <a:ext cx="24494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rechtsgang en wat er voor de rechter gebeu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jk naar het filmp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einde-toets_2394275"/>
          <p:cNvPicPr/>
          <p:nvPr/>
        </p:nvPicPr>
        <p:blipFill>
          <a:blip r:embed="rId1"/>
          <a:srcRect l="30948" t="31377" r="29982" b="27682"/>
          <a:stretch/>
        </p:blipFill>
        <p:spPr>
          <a:xfrm>
            <a:off x="2771640" y="1628640"/>
            <a:ext cx="3024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8" dur="250" autoRev="1" fill="hold"/>
                                        <p:tgtEl>
                                          <p:spTgt spid="1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2" dur="250" autoRev="1" fill="hold"/>
                                        <p:tgtEl>
                                          <p:spTgt spid="1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500"/>
                            </p:stCondLst>
                            <p:childTnLst>
                              <p:par>
                                <p:cTn id="254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6" dur="250" autoRev="1" fill="hold"/>
                                        <p:tgtEl>
                                          <p:spTgt spid="1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5:21:23Z</dcterms:created>
  <dc:creator>jan van gils</dc:creator>
  <dc:description/>
  <dc:language>en-US</dc:language>
  <cp:lastModifiedBy>jan van gils</cp:lastModifiedBy>
  <dcterms:modified xsi:type="dcterms:W3CDTF">2012-02-09T19:14:40Z</dcterms:modified>
  <cp:revision>51</cp:revision>
  <dc:subject/>
  <dc:title>Dia 1</dc:title>
</cp:coreProperties>
</file>