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D73-ACAB-4A8A-AE37-97FC76BF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625-C56A-4B58-AB28-EA310A1A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4EA-2CDB-4D4E-9D4A-E68DF944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D73-3BB4-4F3E-B3FE-3BA7696E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706-E764-452C-BF69-DCEBC280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117-3608-46B0-9B05-0626E9D3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88E-C0BA-42A6-9018-E3258D53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EC5-6683-4E5D-B244-F563FAE1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EF7-DE41-40DC-B5C0-E353586E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71B-F3D6-462F-B188-0282EAE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F63-CE75-462F-A270-BAB6108A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DA4-FC26-423B-B124-478274A2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98CA-9497-4DD2-9688-BFA2007C86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Politieke Stroming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zerometer-nietdegrootste"/>
          <p:cNvPicPr/>
          <p:nvPr/>
        </p:nvPicPr>
        <p:blipFill>
          <a:blip r:embed="rId2"/>
          <a:stretch/>
        </p:blipFill>
        <p:spPr>
          <a:xfrm>
            <a:off x="900000" y="3933720"/>
            <a:ext cx="39610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1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gegev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tieke stromingen 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en geheel van ideeën over wat belangrijk is in de maatschappij 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n hoe mensen het beste met elkaar kunnen samenl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al in dit hoofdstuk staat de deelvraag: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t willen het liberalisme, het socialisme en het confesionalism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olitieke str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395280" y="2637000"/>
            <a:ext cx="8064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iberalisme (Recht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eerst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 vanuit de Franse revolutie. Burgers eisten vrijheid tegenover de macht van koning en de a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willen individuele vrijheid. Iedereen moet zoveel mogelijk zijn eig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issingen nemen. Overheid moet deze persoonlijke vrijheid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moeten vrij zijn om voor zichzelf te zorgen; bedrijven te starten. Er moet zo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inig mogelijk regelgeving zijn zodat de economie maximaal de ruimte krij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belang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die hard werken mogen gerust meer verdienen. Grote inkomensverschil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geen probleem voor liberalen. Lage belastingen (bevordert de economie) en lag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keringen (zet mensen eerder aan tot werken) zijn liberale item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VD is een voorbeeld van een liberale part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2" descr="view"/>
          <p:cNvPicPr/>
          <p:nvPr/>
        </p:nvPicPr>
        <p:blipFill>
          <a:blip r:embed="rId1"/>
          <a:stretch/>
        </p:blipFill>
        <p:spPr>
          <a:xfrm>
            <a:off x="7020000" y="260280"/>
            <a:ext cx="1728720" cy="2090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380360" y="623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4640"/>
            <a:ext cx="8207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ciaal-democratie (Link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tijdens de industriële revolutie in de tweed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. Het liberalisme leidde tijdens de industriële revolutie (ontstaan van fabrieken) tot uitbuiting van de arbeiders door de rijke industriëlen. Economische vrijheid leidde zo tot misstan-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(ook wel sociaaldemocraten genoemd) streven naar gelijke kans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ongeacht de afkomst. Gelijkheid en gelijkwaardigheid staan bij hen hoog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aan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kans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en zijn voorstander van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v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overheid. Zwakkeren moe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ansen krijgen en daarin heeft de overheid een belangrijke rol. Sociaal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mocraten willen dan ook graag dat lagere inkomens sneller stijgen dan hoge (di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et nivelleren = verschil verkleinen) en dat mannen en vrouwen zowel thuis als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samenleving het werk eerlijk verdelen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vdA en SP zijn voorbeelden van partijen voor wie het socialisme belangrijk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hippogallery%3Apicture&amp;sa=X&amp;ei=4bRcT_CoDcSgOsK-vPkM&amp;ved=0CAwQ8wc&amp;usg=AFQjCNGi9swkjSyPj9p91hW-EhF3SBUSJw"/>
          <p:cNvPicPr/>
          <p:nvPr/>
        </p:nvPicPr>
        <p:blipFill>
          <a:blip r:embed="rId1"/>
          <a:stretch/>
        </p:blipFill>
        <p:spPr>
          <a:xfrm>
            <a:off x="1835280" y="5013360"/>
            <a:ext cx="132084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sp_logo_FF0000"/>
          <p:cNvPicPr/>
          <p:nvPr/>
        </p:nvPicPr>
        <p:blipFill>
          <a:blip r:embed="rId2"/>
          <a:stretch/>
        </p:blipFill>
        <p:spPr>
          <a:xfrm>
            <a:off x="3708360" y="5084640"/>
            <a:ext cx="20890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404640"/>
            <a:ext cx="8207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hristen-democratie (Midd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tweede helft van de negentiende eeuw als tegenhanger van het liberalisme en later ook het socialisme die als heidens werden gez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belse waar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enliefde en verantwoordelijkheid voor de medemens staan centraal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orgvuldig met elkaar en de aarde omgaan (= rentmeesterschap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gezin is de hoeksteen van de samenleving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lijk leven is van grote waarde en daardoor staan christen-democraten ze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iverig t.o.v. abortus en euthanas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perkte rol over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endemocraten zijn voorstanders van particuliere organisaties die zorg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aken als onderwijs, gezondheidszorg, kunst enz. De overheid dient de zwakkeren t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posi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gen niet de nadruk op economische vrijheid (= liberaal) of financiële gelijkheid (=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isch) maar op gezamenlijke verantwoordelijkheid van werkgevers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rknemer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A, CU en SGP zijn voorbeelden hiervan waarbij CU en SGP erg Bijbelgericht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DA-logo"/>
          <p:cNvPicPr/>
          <p:nvPr/>
        </p:nvPicPr>
        <p:blipFill>
          <a:blip r:embed="rId1"/>
          <a:stretch/>
        </p:blipFill>
        <p:spPr>
          <a:xfrm>
            <a:off x="468360" y="5445000"/>
            <a:ext cx="2448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gp"/>
          <p:cNvPicPr/>
          <p:nvPr/>
        </p:nvPicPr>
        <p:blipFill>
          <a:blip r:embed="rId2"/>
          <a:stretch/>
        </p:blipFill>
        <p:spPr>
          <a:xfrm>
            <a:off x="3419640" y="537372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christenunie"/>
          <p:cNvPicPr/>
          <p:nvPr/>
        </p:nvPicPr>
        <p:blipFill>
          <a:blip r:embed="rId3"/>
          <a:stretch/>
        </p:blipFill>
        <p:spPr>
          <a:xfrm>
            <a:off x="5580000" y="5516640"/>
            <a:ext cx="3097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8360" y="620640"/>
            <a:ext cx="8207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 extrem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het rechts extremisme zijn niet alle mensen gelijkwaar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gelijkwaard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igen volk is superieur. Sommige rassen zijn beter dan anderen. Eigen volk eerst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itenlanders zijn de schuld van ellende zoals werkeloosheid, criminaliteit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ningno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wel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s extremisten schuwen geen geweld om hu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 te berei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 van dit soort partijen in Nederland zij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SB in de jaren 30 van de vorige eeuw, e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 (Centrum Democraten) en de Volksunie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eind van de vorige eeu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entrum%20democraten-poster"/>
          <p:cNvPicPr/>
          <p:nvPr/>
        </p:nvPicPr>
        <p:blipFill>
          <a:blip r:embed="rId1"/>
          <a:srcRect l="0" t="0" r="0" b="17835"/>
          <a:stretch/>
        </p:blipFill>
        <p:spPr>
          <a:xfrm>
            <a:off x="639720" y="2538360"/>
            <a:ext cx="2952720" cy="379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8" descr="Afbeeldingsresultaat voor rechts extremisme"/>
          <p:cNvPicPr/>
          <p:nvPr/>
        </p:nvPicPr>
        <p:blipFill>
          <a:blip r:embed="rId2"/>
          <a:stretch/>
        </p:blipFill>
        <p:spPr>
          <a:xfrm>
            <a:off x="5313240" y="4437000"/>
            <a:ext cx="160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hthoek 5"/>
          <p:cNvSpPr/>
          <p:nvPr/>
        </p:nvSpPr>
        <p:spPr>
          <a:xfrm>
            <a:off x="395280" y="404640"/>
            <a:ext cx="777708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Ecologische stro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atuu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lieu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mag zo min mogelijk worden aangetast door mensen. Burgers moeten zich milieubewust gedragen. Groen Links en de Partij voor de Dieren zijn voorbeelden van milieupartij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opul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een stijl van politiek bedrijven. Inspelen op de onderbuik gevoelens van het volk. Zij zijn van mening dat zij als enige de ‘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l van het vol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’ kennen en bereid zijn daarnaar te luisteren. Deze partijen hebben vaak zeer nationalistische standpunten. Dus tegen Europa en tegen immigratie. Pvv en Sp zijn voorbeelden hierva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Afbeelding 7" descr=""/>
          <p:cNvPicPr/>
          <p:nvPr/>
        </p:nvPicPr>
        <p:blipFill>
          <a:blip r:embed="rId1"/>
          <a:stretch/>
        </p:blipFill>
        <p:spPr>
          <a:xfrm>
            <a:off x="1187280" y="3730680"/>
            <a:ext cx="3643560" cy="2577960"/>
          </a:xfrm>
          <a:prstGeom prst="rect">
            <a:avLst/>
          </a:prstGeom>
          <a:ln w="0">
            <a:noFill/>
          </a:ln>
        </p:spPr>
      </p:pic>
      <p:pic>
        <p:nvPicPr>
          <p:cNvPr id="75" name="Afbeelding 8" descr=""/>
          <p:cNvPicPr/>
          <p:nvPr/>
        </p:nvPicPr>
        <p:blipFill>
          <a:blip r:embed="rId2"/>
          <a:stretch/>
        </p:blipFill>
        <p:spPr>
          <a:xfrm>
            <a:off x="5003640" y="4200480"/>
            <a:ext cx="2791080" cy="163836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9" descr=""/>
          <p:cNvPicPr/>
          <p:nvPr/>
        </p:nvPicPr>
        <p:blipFill>
          <a:blip r:embed="rId3"/>
          <a:stretch/>
        </p:blipFill>
        <p:spPr>
          <a:xfrm>
            <a:off x="7053120" y="6116760"/>
            <a:ext cx="14842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Vos, O (Ole) de</cp:lastModifiedBy>
  <dcterms:modified xsi:type="dcterms:W3CDTF">2017-02-06T10:18:46Z</dcterms:modified>
  <cp:revision>66</cp:revision>
  <dc:subject/>
  <dc:title>Dia 1</dc:title>
</cp:coreProperties>
</file>