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26A-6549-4E06-9D57-DADA7753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B60-E445-4B4F-96DF-580AB987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60F-4001-4E3C-BA65-55D4554D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33E-C4FC-483C-BA45-568B8E1A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30A-9DBD-40AA-9975-88E81D16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AC9-C03F-4091-9971-11672C87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47E-3BBC-4581-BD35-661E66AA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5B0-F7B4-41DE-9F41-93E65E08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388-CFB7-4748-948B-0E48B639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095-9050-4A21-BACF-E4116100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B25-38D0-407A-9F3E-FD0962A1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65B-B360-4E69-B278-44E82A2C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3B7C-D645-4D49-A908-40EDC12B3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youtube.com/watch?v=2od1KTX0SoI&amp;feature=related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outube.com/watch?v=1Hw3av8gjgM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Het beleid van de overhei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7336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92720" y="566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58920" y="400536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t beleid van de ove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052640"/>
            <a:ext cx="85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dit hoofdstuk staat de volgen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at kan de overheid doen om het aantal misdrijven omlaag te brengen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44640"/>
            <a:ext cx="77774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Beleid tegen criminalit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terugdringen van criminaliteit is in principe e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weesporenbelei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Preven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beleid dat wil voorko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Repress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beleid dat wil bestraff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789360"/>
            <a:ext cx="7777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Welke overheden spelen hier een 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ststellen wetten + bespreken van andere oplossin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meentelijke overhei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meester is verantwoordelijk voor de openbare orde en veiligheid. Hij is het hoofd van de polit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Justi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ustitie bestaat uit het O.M. (Openbaar Ministerie), officier van justitie en politie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fficier van justitie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erantwoordelijk voor opsporing en vervolg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227640" y="2060640"/>
            <a:ext cx="2232000" cy="221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77774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leidsdaden van de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beleid van de overheid wat zich richt tegen criminaliteit is binnen het tweesporen beleid op te splitsen in zes onderde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sporing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vangeni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uwe wetgev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ie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3220920"/>
            <a:ext cx="77774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. Opsporings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heid richt zich de laatste jaren vooral op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ware georganiseerde misd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voorkomende criminalit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iligheid en terr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4797360"/>
            <a:ext cx="77774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2. Vervolgings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volgingsbeleid = op welke manier wil de overheid misdrijven bestraff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elrecht (= lik op stuk beleid) bij b.v. voetbalvandal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estaan van softdrugs (= gedoogbele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204" t="0" r="4368" b="3704"/>
          <a:stretch/>
        </p:blipFill>
        <p:spPr>
          <a:xfrm>
            <a:off x="5148360" y="1773360"/>
            <a:ext cx="3024000" cy="251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476280"/>
            <a:ext cx="7921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Vervolgingsbeleid 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el voorkomende criminalit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ruk ligt op preventie (= voorkoming) en geldt vooral bv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vandalisme, winkeldiefstal en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l: Overlast op straat met 25% verminder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al werk- en/of leerstraffen worden toegepa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659640" y="476280"/>
            <a:ext cx="1519200" cy="1800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3959280" y="2708280"/>
            <a:ext cx="51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rganiseerde misd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nk aan: vrouwenhandel, drugshandel, heling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ruk ligt hier op repressie. (= bestraffing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reurbestrij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rijding van bv. aanslagen en vliegtuigkaping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el: verruiming van bevoegdheden van politie 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echaussee. (bv arrestatiemogelijkheid bij ver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cht gedra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2156040" cy="230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900000" y="5373720"/>
            <a:ext cx="3959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Wil de overheid ons waarschuwen, opvoeden of indoctrineren of zijn wij echt met z’n allen ver-antwoordelijk voor onze veiligheid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5734080"/>
            <a:ext cx="86508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6" descr="dyn007_original_230_230_gif_2616433_045200ad0f6ddc4359e05e37fcbfbe3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494172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476280"/>
            <a:ext cx="7921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.  Gevangenis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 cell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bepaalde gevallen meer mensen in één c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2737080" cy="1822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611280" y="1557360"/>
            <a:ext cx="7920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4.  Nieuwe wetge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tboek  van Strafrecht moet regelmatig word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ngepast aan de actualite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it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j nieuwe wetgeving zal de overheid zich altijd afvragen of nieuwe maatregelen voldoende het gewenste effect oplever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nselijkh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heid stelt zich de vraag of nieuwe maatregelen passen bij de waarden en normen van dit moment. De visie van burgers en politiek is dus van bela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4292640"/>
            <a:ext cx="38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.  Preventiebelei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zie hoofdstuk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4797360"/>
            <a:ext cx="5327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6.  Jeugd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rpunten op het gebied va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r toezic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eller straff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enpl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dyn007_original_230_230_gif_2616433_045200ad0f6ddc4359e05e37fcbfbe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4437000"/>
            <a:ext cx="1512720" cy="1513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4581360"/>
            <a:ext cx="19429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ekijk het filmpje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ver jeugddetent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Kan zijn dat er eerst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en reclamefilmpje komt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25T16:58:44Z</dcterms:modified>
  <cp:revision>56</cp:revision>
  <dc:subject/>
  <dc:title>Dia 1</dc:title>
</cp:coreProperties>
</file>