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895-C8E0-423E-A8DF-887D80C6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9C4-3105-46D7-A184-C22D9D23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636-6226-411E-9815-63113E07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F67-5B53-422D-8861-8964A672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3F6-67E3-4D81-9C9A-A6C4E2A3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A1A-A67C-4389-A42B-0F8C529E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5E5-4C2B-4D2E-8090-B0C7247D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95E-2829-4DDC-A343-750BD532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088-B648-49B7-AF54-2D67A7F8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5BEA-9EB3-4644-B1BB-A5764608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02D-C809-40C1-85EC-E4E6B716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0A4-150B-4140-904E-A241C3FA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4A49-8616-4EBB-BE03-9ECFDCCDF7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3/Pol-landschap-2010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litieke partij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1 Kies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2 Soorten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f en passief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 Nederlanders van achttien jaar en ouder hebben actief en passief kiesre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ct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te mogen stemmen.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s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je verkiesbaar te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m de vier jaar kiezen de burgers van Nederland de nieuwe led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Tweede Ka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Provinciale Stat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Gemeentera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arnaast zijn er elke vijf jaar verkiezingen voor he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uropees 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politieke partij bestaat ui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en groep mensen met ongeveer dezelfde ideeën over hoe de samenleving eruit zou moeten zi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ol van politiek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eke partijen proberen op allerlei manieren invloed uit te oefenen op het beleid van de overhei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brengen hu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standpunt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oortdurend naar v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ertegenwoordi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aak de belangen van maatschappelijke organisaties en bepaalde groepen in de maatschappij. (VVD komt op voor de werkgevers en de SP voor de werknemer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leveren mense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oor politieke functi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 (Ministers, burgemeesters, Kamerl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beïnvloe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in politieke functies. Partijen hebben veel contact met hun eigen Kamerleden, gemeenteraadsleden, ministers, leden van het Europees parlement en Burgemee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nkse en rechts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3"/>
          <p:cNvSpPr/>
          <p:nvPr/>
        </p:nvSpPr>
        <p:spPr>
          <a:xfrm>
            <a:off x="379440" y="985680"/>
            <a:ext cx="820728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rogressief of conservat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gressief (vooruitstrev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verandering. Je wilt de samenleving beter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onservatief (behoud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moet zo weinig mogelijk veranderen. Wat is moet blij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, links of m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s (Vrij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zo weinig mogelijk overheidsbemoeienis en zoveel mogelijk vrijheid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elf hun verantwoordelijkheid n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ssi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n, zich zo min mogelijk bemoeien met het dagelijks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ven en d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inks (Gelijk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dat de staat zich met veel dingen actief bemoeit want de zwakkeren i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amenleving moeten worden beschermd. Zoveel mogelijk gelijkwaardigheid is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ctief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zijn, zich inzet voor de mensen in de samenlev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826920" y="620640"/>
            <a:ext cx="792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Samen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mensen moeten het samen met de overheid doen. Sommige partijen hebben dus zowel linkse als rechtse standpunten. De overheid heeft e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anvullen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Bestand:Pol-landschap-2010.gif">
            <a:hlinkClick r:id="rId1"/>
          </p:cNvPr>
          <p:cNvPicPr/>
          <p:nvPr/>
        </p:nvPicPr>
        <p:blipFill>
          <a:blip r:embed="rId2"/>
          <a:srcRect l="0" t="0" r="0" b="1638"/>
          <a:stretch/>
        </p:blipFill>
        <p:spPr>
          <a:xfrm>
            <a:off x="395280" y="1989000"/>
            <a:ext cx="4535640" cy="446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059280" y="314172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5364000" y="2205000"/>
            <a:ext cx="33832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iernaast zie je een schema hoe je de belangrijkste politieke partijen van Nederland kunt indelen in progressief, rechts, conservatief en links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 iedereen houdt eenzelfde verdeling aan. Sommigen zien de PVV als meer rechts-conservatief als op de afbeelding hiernaast en de VVD minder conservatief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is dus maar net hoe je tegen de zaken aankijk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afbeelding op de volgende 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Matrix-Politieke-Partijen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Vos, O (Ole) de</cp:lastModifiedBy>
  <dcterms:modified xsi:type="dcterms:W3CDTF">2017-02-06T10:19:53Z</dcterms:modified>
  <cp:revision>71</cp:revision>
  <dc:subject/>
  <dc:title>Dia 1</dc:title>
</cp:coreProperties>
</file>