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D82-77B7-490E-AC5E-70F4BF9D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72A-269E-45F5-9C81-C3F126B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94F-081E-4977-B713-3A411102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92E-4786-4D28-B478-89AABC10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64D-7D89-4A35-AC5F-EFB28F5A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A55-5964-4B5A-9568-D4089D26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AA4-EE24-4C89-BE08-FEC0C4F5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21E-52FE-425E-A1DB-B3F330AD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564-DC2E-44FF-A159-9EA6DC5D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4F9-7AB0-48E1-A026-A59066B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7F6-7764-43EB-81DF-C1202FB8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F66-3450-41D5-9585-70AC7B22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0F7D-145D-4C4D-8932-5F670EF5C0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395280" y="2637000"/>
            <a:ext cx="8207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608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actieve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nfessionalisme: christen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13" descr="220px-Wappen_NSB_1936-1945"/>
          <p:cNvPicPr/>
          <p:nvPr/>
        </p:nvPicPr>
        <p:blipFill>
          <a:blip r:embed="rId2"/>
          <a:stretch/>
        </p:blipFill>
        <p:spPr>
          <a:xfrm>
            <a:off x="5003640" y="4437000"/>
            <a:ext cx="2095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4-06-27T14:07:39Z</dcterms:modified>
  <cp:revision>63</cp:revision>
  <dc:subject/>
  <dc:title>Dia 1</dc:title>
</cp:coreProperties>
</file>