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1059-4891-4F91-ADA2-54A112727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AD07-340E-4DB2-9B18-0B5CC6F1A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7B45-2505-4C9D-AC43-1F2EA0239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5EE5-E4DE-4051-A232-EDCDC109D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BCB7-CEF4-4316-800F-4AAE2D5DD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44EB-D2F8-4BD1-B7FC-34B1D60AC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0407-2A71-4AFF-A022-FC7BA5F46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BB9B-19F9-421A-B400-7F2CF65E2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9579-68DF-418A-ACC7-6F8D8CF48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2C74-56B9-4E93-B274-6703C2B0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F0C9-7650-40A3-9458-ED4AD56B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3D2B-C85D-4D73-B93C-6BB41419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72941-4C0D-4A9A-A936-95FED7788E9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26920" y="1268280"/>
            <a:ext cx="7058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de 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“Oorzaken van</a:t>
            </a:r>
            <a:br>
              <a:rPr sz="1800"/>
            </a:b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criminaliteit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1989000"/>
            <a:ext cx="7058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het centraal schriftelijk met succes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3213000"/>
            <a:ext cx="705816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a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geet niet ook he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03280" y="3573360"/>
            <a:ext cx="70581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der deze basiskennis is het maken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van inzichtvragen – die veel op het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examen voorkomen – onbegonn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08360" y="5084640"/>
            <a:ext cx="4249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64360" y="62373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rcRect l="12064" t="8099" r="6304" b="10894"/>
          <a:stretch/>
        </p:blipFill>
        <p:spPr>
          <a:xfrm>
            <a:off x="468360" y="4221000"/>
            <a:ext cx="3887640" cy="2160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539640" y="549360"/>
            <a:ext cx="59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orzaken van criminalit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197000"/>
            <a:ext cx="77774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rale vraa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e komt het dat sommige mensen crimineel worden en anderen nie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604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oen (19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de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eeuw)  :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riminaliteit is aangeboren.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u                          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gedrag van het individu los zien van ander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maatschappelijk verschijns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285264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285264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e worden criminee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jkend naar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geslacht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Jongens meer dan meisjes (zie hoofdstuk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9640" y="3645000"/>
            <a:ext cx="83534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jkend naar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leeftijd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Veel tussen 16 en 23 jaa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Zware criminaliteit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ooral volwasse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4437000"/>
            <a:ext cx="835344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br>
              <a:rPr sz="400"/>
            </a:b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jkend naar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maatschappelijke positi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lage maatschappelijke positi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ooral inbraak en agressieve delict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hoge maatschappelijke positi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ooral witteboordencriminalite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9640" y="5300640"/>
            <a:ext cx="835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br>
              <a:rPr sz="400"/>
            </a:br>
            <a:br>
              <a:rPr sz="4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ijkend naar </a:t>
            </a:r>
            <a:r>
              <a:rPr b="1" i="1" lang="nl-NL" sz="1800" spc="-1" strike="noStrike">
                <a:solidFill>
                  <a:srgbClr val="ff0000"/>
                </a:solidFill>
                <a:latin typeface="Arial"/>
              </a:rPr>
              <a:t>etnische afkomst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oorzaak criminaliteit vaak een combinatie van leeftijd en lage maatschap-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pelijke positie (verschil in opvoeding jongens en meisjes komt vo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24000" y="692280"/>
            <a:ext cx="835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viduele oorza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604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ns op crimineel gedrag wordt beïnvloed do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0" t="11374" r="0" b="11374"/>
          <a:stretch/>
        </p:blipFill>
        <p:spPr>
          <a:xfrm>
            <a:off x="5796000" y="3141720"/>
            <a:ext cx="2830320" cy="30938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4000" y="692280"/>
            <a:ext cx="835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viduele oorza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604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ns op crimineel gedrag wordt beïnvloed do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141300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4604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Groepsdru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ineel gedrag kan status geven in de groep.</a:t>
            </a:r>
            <a:br>
              <a:rPr sz="1800"/>
            </a:br>
            <a:br>
              <a:rPr sz="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1989000"/>
            <a:ext cx="835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44604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Aangeboren en aangeleerde eigenschapp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Criminaliteit is meestal aangeleerd (opvoeding)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Soms kunnen ook karaktereigenschappen crimineel gedrag bevorderen</a:t>
            </a:r>
            <a:br>
              <a:rPr sz="1800"/>
            </a:br>
            <a:br>
              <a:rPr sz="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2852640"/>
            <a:ext cx="83534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44604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br>
              <a:rPr sz="4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1800" spc="-1" strike="noStrike">
                <a:solidFill>
                  <a:srgbClr val="ff0000"/>
                </a:solidFill>
                <a:latin typeface="Arial"/>
              </a:rPr>
              <a:t>Opvoeding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erwaarlozing, mishandeling kunnen leiden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tot psychische problemen en/of gedrags-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oornissen wat kans op crimineel gedrag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oet toenemen. </a:t>
            </a:r>
            <a:br>
              <a:rPr sz="400"/>
            </a:br>
            <a:br>
              <a:rPr sz="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4000" y="4221000"/>
            <a:ext cx="83534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br>
              <a:rPr sz="400"/>
            </a:br>
            <a:br>
              <a:rPr sz="400"/>
            </a:br>
            <a:br>
              <a:rPr sz="4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1800" spc="-1" strike="noStrike">
                <a:solidFill>
                  <a:srgbClr val="ff0000"/>
                </a:solidFill>
                <a:latin typeface="Arial"/>
              </a:rPr>
              <a:t>Alcohol en drugs</a:t>
            </a:r>
            <a:br>
              <a:rPr sz="1800"/>
            </a:br>
            <a:r>
              <a:rPr b="1" i="1" lang="nl-NL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toegenomen gebruik leidt tot meer gewelds-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sdrijven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 bij veel gebruik nemen remmingen af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476280"/>
            <a:ext cx="835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atschappelijke oorza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604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ns op crimineel gedrag wordt beïnvloed do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1413000"/>
            <a:ext cx="8353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4604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Normvervag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der binding (familie), werkeloosheid, niet naar school gaan leiden to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 niet (meer) accepteren van de normen van de samenleving wat d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inaliteit bevordert. </a:t>
            </a:r>
            <a:br>
              <a:rPr sz="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2565360"/>
            <a:ext cx="835344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1800" spc="-1" strike="noStrike">
                <a:solidFill>
                  <a:srgbClr val="ff0000"/>
                </a:solidFill>
                <a:latin typeface="Arial"/>
              </a:rPr>
              <a:t>Minder sociale control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 individualisering (ik-cultuur) van de samenleving staat minder sociale con-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trole (= letten op elkaar) toe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 veel mensen bij elkaar (b.v. flats in grote steden) leidt tot anonimiteit (= el-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aar niet kennen) zodat mensen minder op elkaar letten en zich minder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erantwoordelijk voelen voor elkaar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nder sociale controle 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agere pakkans 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meer gelegenheid tot crimi-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aliteit</a:t>
            </a:r>
            <a:r>
              <a:rPr b="0" lang="nl-NL" sz="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= gelegenheidsmoti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4797360"/>
            <a:ext cx="83534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44604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br>
              <a:rPr sz="400"/>
            </a:b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Slechte leefomstandighed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moede en werkeloosheid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itzichtloosheid en afnemend vertrouw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de maatschappij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enemende neiging tot criminaliteit </a:t>
            </a:r>
            <a:br>
              <a:rPr sz="400"/>
            </a:br>
            <a:br>
              <a:rPr sz="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" dur="250" autoRev="1" fill="hold"/>
                                        <p:tgtEl>
                                          <p:spTgt spid="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250" autoRev="1" fill="hold"/>
                                        <p:tgtEl>
                                          <p:spTgt spid="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250" autoRev="1" fill="hold"/>
                                        <p:tgtEl>
                                          <p:spTgt spid="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5:21:23Z</dcterms:created>
  <dc:creator>jan van gils</dc:creator>
  <dc:description/>
  <dc:language>en-US</dc:language>
  <cp:lastModifiedBy>jan van gils</cp:lastModifiedBy>
  <dcterms:modified xsi:type="dcterms:W3CDTF">2012-02-05T15:58:17Z</dcterms:modified>
  <cp:revision>43</cp:revision>
  <dc:subject/>
  <dc:title>Dia 1</dc:title>
</cp:coreProperties>
</file>