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1E7-521D-436E-BEF6-A2AFED98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1BB-7635-4A46-85FF-C00C08DD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6FA-A65E-4221-9D70-7A000BEF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B4-2087-43FB-BF48-748D3F58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ABB-3D6B-4320-B1AA-E8990F4E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035-9856-40A9-8EA3-B76BFD81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525-88EA-40A5-8AD1-BF323EE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B09-CAC4-4E13-957D-C9B20CB6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350-AB36-4DB0-9094-783836B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DA0-90A6-4A92-9E3E-D74294A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563-F7F5-4F39-8D8D-8DD5D54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6D8-6A6A-4329-B93C-98DF06BB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5C10-E8A5-490B-A13D-ABC63A41AD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sBc1UqO5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eclassering.nl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chtofferhulp.n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Waarom straffen w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8" descr="straffen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221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om straffen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1052640"/>
            <a:ext cx="8532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it hoofdstuk staan de volgende vragen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Waarom straffen we?</a:t>
            </a:r>
            <a:br>
              <a:rPr sz="1600"/>
            </a:b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Welke straffen kennen we in Nederla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2133720"/>
            <a:ext cx="7777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oelen va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raak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gdoening voor het slachtoffe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de dader om te voorkomen dat die het nog eens do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ander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eiliging van de samenl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komen dat mensen voor eigenrechter gaan spelen.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(= heropvoe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de-straf-van-het-kind-thumb18222326"/>
          <p:cNvPicPr/>
          <p:nvPr/>
        </p:nvPicPr>
        <p:blipFill>
          <a:blip r:embed="rId1"/>
          <a:stretch/>
        </p:blipFill>
        <p:spPr>
          <a:xfrm>
            <a:off x="6948360" y="549360"/>
            <a:ext cx="1513080" cy="227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9"/>
          <p:cNvSpPr/>
          <p:nvPr/>
        </p:nvSpPr>
        <p:spPr>
          <a:xfrm>
            <a:off x="611280" y="4365720"/>
            <a:ext cx="7921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oeger en 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ddeleeuwen: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druk ligt op wraak, afschrikking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70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affing van de doodstraf in Nederlan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tooiing van het Wetboek van Strafrecht leidt tot afschaff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lijfstraff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u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 straf (opsluiting, geldboete, taakstraf) speelt resocialisa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e een belangrijke rol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1280" y="404640"/>
            <a:ext cx="5184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oe zwaar straft een rech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= hoe zwaar er gestraft wor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hangt af va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oor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 de dader al eerder is bestraft door de rechte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zo ja waarvoo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vraag of er verzachtende omstandigheden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907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3203640" y="2708280"/>
            <a:ext cx="58323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orte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ofdstraffen binnen het Wetboek van Strafrec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ldboe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e niet betaalt moet naar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Hechteni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overtredingen. Maximaal 1 ja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vangenis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een misdrijf. Maximaal levensla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aak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betaald werk waar de samenleving wat aan he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3e2adab2ce4280daf00a518fe9db866Z2V2YW5nZW5pc18xLmpwZw=="/>
          <p:cNvPicPr/>
          <p:nvPr/>
        </p:nvPicPr>
        <p:blipFill>
          <a:blip r:embed="rId3"/>
          <a:stretch/>
        </p:blipFill>
        <p:spPr>
          <a:xfrm>
            <a:off x="755640" y="3068640"/>
            <a:ext cx="209880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54936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komende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komende straffen hebben altijd iets te maken met he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onken chauffeu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vordering van het rijbewij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lke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bod om in een bepaalde wijk of stad te k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2349360"/>
            <a:ext cx="7993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Samenleving beschermen tegen de d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er beschikkingstelling  (tbs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sychiatrische behandeling van gevaarlijke lied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Onder toezichtstelling (o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insvoogd voor minderjarig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1280" y="4581360"/>
            <a:ext cx="7993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waardelijke str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Waarschu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waardelijke straf wordt pas uitgevoerd wanneer een dader hetzelfde delict binnen een door de rechter bepaalde tijd nogmaals pleeg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692385828"/>
          <p:cNvPicPr/>
          <p:nvPr/>
        </p:nvPicPr>
        <p:blipFill>
          <a:blip r:embed="rId1"/>
          <a:srcRect l="0" t="0" r="26198" b="0"/>
          <a:stretch/>
        </p:blipFill>
        <p:spPr>
          <a:xfrm>
            <a:off x="5651640" y="2349360"/>
            <a:ext cx="29527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40464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elpt gevangenisstra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 voor meer dan 50% van de da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sommige leidt gevangenisstraf niet to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maar tot  asocialisatie. (= zich ni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unnen aanpassen aan de maatschappi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11280" y="2060640"/>
            <a:ext cx="8064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lass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oel reclassering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helpen met resocialisatie en voorkomen 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doet de reclasse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óór de rechtszaak een verslag maken over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tuatie van d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zicht houden op uitvoering taakstra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dersteuning tijdens detentie (= gevangenschap)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k aan begeleiding bij familieproblemen of h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rten van een opleiding binnen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eden van terugkeerhulp. (Zoeken van huisvesting en werk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253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227640" y="3284640"/>
            <a:ext cx="259092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de site van de reclassering</a:t>
            </a: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ind je een film van een half uur te over wat de reclasse-ring do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De film heeft als titel: </a:t>
            </a: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“Reclassering Nederland Werk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7451640" y="2852640"/>
            <a:ext cx="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71640" y="620640"/>
            <a:ext cx="64087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lachtofferh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 een ernstig misdrijf hebben slachtoffers spreekrecht tijdens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chtszit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ondersteuning kan een slachtoffer terecht bij de Landelijke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rganisatie  Slachtofferhul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achtoffer kan vragen om schadevergoeding. Soms moet da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appart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achtofferhulp-nederland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3600360" cy="167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5867280" y="3645000"/>
            <a:ext cx="1800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Klik op het logo en bezoek eens de site van slachtofferhulp Nederla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4932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6-04-22T10:10:33Z</dcterms:modified>
  <cp:revision>53</cp:revision>
  <dc:subject/>
  <dc:title>Dia 1</dc:title>
</cp:coreProperties>
</file>