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5.png" ContentType="image/png"/>
  <Override PartName="/ppt/media/image6.jpeg" ContentType="image/jpeg"/>
  <Override PartName="/ppt/media/image8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468A0-F487-4850-8973-5DDEDDD72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D18AC-26E6-4285-8CA2-F8BED3B25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30189-F1EA-4335-9F7C-07FFBEFB3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E6C6B-B4CA-480F-B089-3D5430111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B58E8-923B-4E53-9C0A-5C9618F27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505BA-E448-455D-986A-F1E804FAB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68FD3-96D4-42A2-BF50-96F198C2F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A550A-675F-4A6A-8276-F2A495B1C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3B7DE-2A33-4988-9E6D-9705AE846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E31E8-45A8-411A-BB78-901F045A0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E8EEE-C37D-4B0D-8725-6B385BFDE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18BFD-21C1-4594-8DCA-1FE523D91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68C3D-14B5-4633-925E-2EB7E4790542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schooltv.nl/beeldbank/clip/20070829_geschiedeniseu01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www.schooltv.nl/beeldbank/clip/20070829_geschiedeniseu01" TargetMode="External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schooltv.nl/beeldbank/clip/20081013_groeieu01" TargetMode="External"/><Relationship Id="rId2" Type="http://schemas.openxmlformats.org/officeDocument/2006/relationships/image" Target="../media/image5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826920" y="692280"/>
            <a:ext cx="70581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…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..LET OP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6227640" y="620640"/>
            <a:ext cx="2625840" cy="2232000"/>
          </a:xfrm>
          <a:prstGeom prst="rect">
            <a:avLst/>
          </a:prstGeom>
          <a:ln w="0">
            <a:noFill/>
          </a:ln>
        </p:spPr>
      </p:pic>
      <p:sp>
        <p:nvSpPr>
          <p:cNvPr id="43" name="Text Box 4"/>
          <p:cNvSpPr/>
          <p:nvPr/>
        </p:nvSpPr>
        <p:spPr>
          <a:xfrm>
            <a:off x="826920" y="1268280"/>
            <a:ext cx="52578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eze powerpoint gaat over de </a:t>
            </a:r>
            <a:r>
              <a:rPr b="1" i="1" lang="nl-NL" sz="1800" spc="-1" strike="noStrike" u="sng">
                <a:solidFill>
                  <a:srgbClr val="993300"/>
                </a:solidFill>
                <a:uFillTx/>
                <a:latin typeface="Arial"/>
              </a:rPr>
              <a:t>Nederland en Euro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826920" y="1916280"/>
            <a:ext cx="705816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De powerpoint bevat de basisstof die je moet </a:t>
            </a:r>
            <a:br>
              <a:rPr sz="1800"/>
            </a:br>
            <a:r>
              <a:rPr b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kennen om het centraal schriftelijk met succes </a:t>
            </a:r>
            <a:br>
              <a:rPr sz="1800"/>
            </a:br>
            <a:r>
              <a:rPr b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te kunnen make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826920" y="2852640"/>
            <a:ext cx="7058160" cy="23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org dus dat j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LL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goed kent en door hebt wat er in dez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taat.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geet niet ook het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BOE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e bestuderen/raadplegen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7"/>
          <p:cNvSpPr/>
          <p:nvPr/>
        </p:nvSpPr>
        <p:spPr>
          <a:xfrm>
            <a:off x="1258920" y="3357720"/>
            <a:ext cx="741672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onder deze basiskennis is het maken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van inzichtvragen – die veel op het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examen voorkomen – onbegonne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werk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8"/>
          <p:cNvSpPr/>
          <p:nvPr/>
        </p:nvSpPr>
        <p:spPr>
          <a:xfrm>
            <a:off x="3708360" y="4653000"/>
            <a:ext cx="4249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VEEL SUC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10"/>
          <p:cNvSpPr/>
          <p:nvPr/>
        </p:nvSpPr>
        <p:spPr>
          <a:xfrm>
            <a:off x="7164360" y="6237360"/>
            <a:ext cx="158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ofdstuk 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7" descr=""/>
          <p:cNvPicPr/>
          <p:nvPr/>
        </p:nvPicPr>
        <p:blipFill>
          <a:blip r:embed="rId2"/>
          <a:stretch/>
        </p:blipFill>
        <p:spPr>
          <a:xfrm>
            <a:off x="826920" y="3860640"/>
            <a:ext cx="2907000" cy="24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5" descr="einde-toets_2394275"/>
          <p:cNvPicPr/>
          <p:nvPr/>
        </p:nvPicPr>
        <p:blipFill>
          <a:blip r:embed="rId1"/>
          <a:srcRect l="30948" t="31377" r="29982" b="27682"/>
          <a:stretch/>
        </p:blipFill>
        <p:spPr>
          <a:xfrm>
            <a:off x="2771640" y="1628640"/>
            <a:ext cx="302436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0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3" dur="250" autoRev="1" fill="hold"/>
                                        <p:tgtEl>
                                          <p:spTgt spid="11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500"/>
                            </p:stCondLst>
                            <p:childTnLst>
                              <p:par>
                                <p:cTn id="295" nodeType="afterEffect" fill="hold" presetClass="emph" presetID="26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7" dur="250" autoRev="1" fill="hold"/>
                                        <p:tgtEl>
                                          <p:spTgt spid="11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1500"/>
                            </p:stCondLst>
                            <p:childTnLst>
                              <p:par>
                                <p:cTn id="299" nodeType="afterEffect" fill="hold" presetClass="emph" presetID="26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1" dur="250" autoRev="1" fill="hold"/>
                                        <p:tgtEl>
                                          <p:spTgt spid="11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4"/>
          <p:cNvSpPr/>
          <p:nvPr/>
        </p:nvSpPr>
        <p:spPr>
          <a:xfrm>
            <a:off x="684360" y="476280"/>
            <a:ext cx="626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395280" y="836640"/>
            <a:ext cx="820908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534960"/>
                <a:tab algn="l" pos="1973160"/>
                <a:tab algn="l" pos="2330280"/>
                <a:tab algn="l" pos="4394160"/>
                <a:tab algn="l" pos="4840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entrale vraag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dit hoofdstuk staat de vraag centraal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534960"/>
                <a:tab algn="l" pos="1973160"/>
                <a:tab algn="l" pos="2330280"/>
                <a:tab algn="l" pos="4394160"/>
                <a:tab algn="l" pos="4840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00"/>
                </a:solidFill>
                <a:latin typeface="Arial"/>
              </a:rPr>
              <a:t>“</a:t>
            </a:r>
            <a:r>
              <a:rPr b="1" i="1" lang="en-US" sz="1600" spc="-1" strike="noStrike">
                <a:solidFill>
                  <a:srgbClr val="ff3300"/>
                </a:solidFill>
                <a:latin typeface="Arial"/>
              </a:rPr>
              <a:t>Welke invloed heeft de Europese Unie op Nederland?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0"/>
          <p:cNvSpPr/>
          <p:nvPr/>
        </p:nvSpPr>
        <p:spPr>
          <a:xfrm>
            <a:off x="395280" y="1916280"/>
            <a:ext cx="81374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60360"/>
                <a:tab algn="l" pos="1347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eschiedeni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60360"/>
                <a:tab algn="l" pos="1347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951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richting van d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GK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Europese Gemeenschap voor Kolen en Staal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e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  Economische samenwerking op gebied van kolen en staal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  Vergroten van veilighe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60360"/>
                <a:tab algn="l" pos="1347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de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nelux (België/Nederland/Luxemburg) Frankrijk, Duitsland en Italië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2"/>
          <p:cNvSpPr/>
          <p:nvPr/>
        </p:nvSpPr>
        <p:spPr>
          <a:xfrm>
            <a:off x="395280" y="333360"/>
            <a:ext cx="74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16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Nederland en Euro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4"/>
          <p:cNvSpPr/>
          <p:nvPr/>
        </p:nvSpPr>
        <p:spPr>
          <a:xfrm>
            <a:off x="7308720" y="6237360"/>
            <a:ext cx="136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ofdstuk 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0"/>
          <p:cNvSpPr/>
          <p:nvPr/>
        </p:nvSpPr>
        <p:spPr>
          <a:xfrm>
            <a:off x="395280" y="3500280"/>
            <a:ext cx="81374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60360"/>
                <a:tab algn="l" pos="1347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957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richting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EG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Europese Economische Gemeenschap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el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dem als EGKS maar dan voor meer economische gebieden dan allee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olen en staal.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den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dem als EG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0"/>
          <p:cNvSpPr/>
          <p:nvPr/>
        </p:nvSpPr>
        <p:spPr>
          <a:xfrm>
            <a:off x="395280" y="4653000"/>
            <a:ext cx="81374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60360"/>
                <a:tab algn="l" pos="1347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967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aamsverandering in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G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Europese Gemeenschap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el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iet alleen samenwerking op economisch gebied maar ook bv. Cultuu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den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ere democratische Europese landen mogen ook lid word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"/>
              <a:tabLst>
                <a:tab algn="l" pos="360360"/>
                <a:tab algn="l" pos="1347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4"/>
          <p:cNvSpPr/>
          <p:nvPr/>
        </p:nvSpPr>
        <p:spPr>
          <a:xfrm>
            <a:off x="684360" y="476280"/>
            <a:ext cx="626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0"/>
          <p:cNvSpPr/>
          <p:nvPr/>
        </p:nvSpPr>
        <p:spPr>
          <a:xfrm>
            <a:off x="468360" y="476280"/>
            <a:ext cx="813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60360"/>
                <a:tab algn="l" pos="1347840"/>
                <a:tab algn="l" pos="1792440"/>
                <a:tab algn="l" pos="4572000"/>
                <a:tab algn="l" pos="4840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ervolg geschiedeni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7308720" y="6237360"/>
            <a:ext cx="136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ofdstuk 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0"/>
          <p:cNvSpPr/>
          <p:nvPr/>
        </p:nvSpPr>
        <p:spPr>
          <a:xfrm>
            <a:off x="4572000" y="5300640"/>
            <a:ext cx="30956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er in 1 minuut het ontstaan van de Europese Uni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0"/>
          <p:cNvSpPr/>
          <p:nvPr/>
        </p:nvSpPr>
        <p:spPr>
          <a:xfrm>
            <a:off x="468360" y="907920"/>
            <a:ext cx="813744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60360"/>
                <a:tab algn="l" pos="1347840"/>
                <a:tab algn="l" pos="1792440"/>
                <a:tab algn="l" pos="4572000"/>
                <a:tab algn="l" pos="4840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992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aamsverandering in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U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Europese Unie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e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rije gemeenschappelijke handelsmarkt d.w.z.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rij verkeer van goederen, diensten, geld en mensen door opheffe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n binnengrenze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aranderen van eerlijke concurrenti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meenschappelijk landbouwbele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amenwerking op gebied van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itenlandsbele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ustiti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ilieu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12" descr="1d4ec891-0b71-42fc-9f11-b26be6f4eac1_european_union_map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00000" y="3284640"/>
            <a:ext cx="3097440" cy="30891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4" descr="dyn007_original_230_230_gif_2616433_045200ad0f6ddc4359e05e37fcbfbe38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796000" y="3645000"/>
            <a:ext cx="136836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8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5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4"/>
          <p:cNvSpPr/>
          <p:nvPr/>
        </p:nvSpPr>
        <p:spPr>
          <a:xfrm>
            <a:off x="684360" y="476280"/>
            <a:ext cx="626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0"/>
          <p:cNvSpPr/>
          <p:nvPr/>
        </p:nvSpPr>
        <p:spPr>
          <a:xfrm>
            <a:off x="468360" y="476280"/>
            <a:ext cx="8137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60360"/>
                <a:tab algn="l" pos="1347840"/>
                <a:tab algn="l" pos="1792440"/>
                <a:tab algn="l" pos="4572000"/>
                <a:tab algn="l" pos="4840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den van 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60360"/>
                <a:tab algn="l" pos="1347840"/>
                <a:tab algn="l" pos="1792440"/>
                <a:tab algn="l" pos="4572000"/>
                <a:tab algn="l" pos="4840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60360"/>
                <a:tab algn="l" pos="1347840"/>
                <a:tab algn="l" pos="1792440"/>
                <a:tab algn="l" pos="4572000"/>
                <a:tab algn="l" pos="4840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4"/>
          <p:cNvSpPr/>
          <p:nvPr/>
        </p:nvSpPr>
        <p:spPr>
          <a:xfrm>
            <a:off x="7308720" y="6237360"/>
            <a:ext cx="136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ofdstuk 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623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258920" y="1197000"/>
            <a:ext cx="4897440" cy="48974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9" descr="dyn007_original_230_230_gif_2616433_045200ad0f6ddc4359e05e37fcbfbe38"/>
          <p:cNvPicPr/>
          <p:nvPr/>
        </p:nvPicPr>
        <p:blipFill>
          <a:blip r:embed="rId3"/>
          <a:stretch/>
        </p:blipFill>
        <p:spPr>
          <a:xfrm>
            <a:off x="6877080" y="2852640"/>
            <a:ext cx="136836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2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7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4"/>
          <p:cNvSpPr/>
          <p:nvPr/>
        </p:nvSpPr>
        <p:spPr>
          <a:xfrm>
            <a:off x="684360" y="476280"/>
            <a:ext cx="626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0"/>
          <p:cNvSpPr/>
          <p:nvPr/>
        </p:nvSpPr>
        <p:spPr>
          <a:xfrm>
            <a:off x="468360" y="476280"/>
            <a:ext cx="8137440" cy="51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60360"/>
                <a:tab algn="l" pos="1347840"/>
                <a:tab algn="l" pos="1792440"/>
                <a:tab algn="l" pos="4572000"/>
                <a:tab algn="l" pos="4840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Invloed van de EU op Nederland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60360"/>
                <a:tab algn="l" pos="1347840"/>
                <a:tab algn="l" pos="1792440"/>
                <a:tab algn="l" pos="4572000"/>
                <a:tab algn="l" pos="4840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17 van de 27 landen hebben de Euro als munt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i="1" lang="nl-NL" sz="1200" spc="-1" strike="noStrike">
                <a:solidFill>
                  <a:srgbClr val="000000"/>
                </a:solidFill>
                <a:latin typeface="Arial"/>
              </a:rPr>
              <a:t>(Let op het boek spreekt over 12 landen</a:t>
            </a:r>
            <a:br>
              <a:rPr sz="1200"/>
            </a:br>
            <a:r>
              <a:rPr b="0" i="1" lang="nl-NL" sz="1200" spc="-1" strike="noStrike">
                <a:solidFill>
                  <a:srgbClr val="000000"/>
                </a:solidFill>
                <a:latin typeface="Arial"/>
              </a:rPr>
              <a:t>        dat is dus achterhaald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60360"/>
                <a:tab algn="l" pos="1347840"/>
                <a:tab algn="l" pos="1792440"/>
                <a:tab algn="l" pos="4572000"/>
                <a:tab algn="l" pos="4840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i="1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400" spc="-1" strike="noStrike" u="sng">
                <a:solidFill>
                  <a:srgbClr val="000000"/>
                </a:solidFill>
                <a:uFillTx/>
                <a:latin typeface="Arial"/>
              </a:rPr>
              <a:t>Sinds 2002: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1400" spc="-1" strike="noStrike">
                <a:solidFill>
                  <a:srgbClr val="000000"/>
                </a:solidFill>
                <a:latin typeface="Arial"/>
              </a:rPr>
              <a:t>België, Duitsland, Finland, Frankrijk, </a:t>
            </a:r>
            <a:br>
              <a:rPr sz="1400"/>
            </a:br>
            <a:r>
              <a:rPr b="0" i="1" lang="nl-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1400" spc="-1" strike="noStrike">
                <a:solidFill>
                  <a:srgbClr val="000000"/>
                </a:solidFill>
                <a:latin typeface="Arial"/>
              </a:rPr>
              <a:t>Griekenland Ierland, Italië, Luxemburg, </a:t>
            </a:r>
            <a:br>
              <a:rPr sz="1400"/>
            </a:br>
            <a:r>
              <a:rPr b="0" i="1" lang="nl-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1400" spc="-1" strike="noStrike">
                <a:solidFill>
                  <a:srgbClr val="000000"/>
                </a:solidFill>
                <a:latin typeface="Arial"/>
              </a:rPr>
              <a:t>Nederland, Oostenrijk, Portugal en </a:t>
            </a:r>
            <a:br>
              <a:rPr sz="1400"/>
            </a:br>
            <a:r>
              <a:rPr b="0" i="1" lang="nl-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1400" spc="-1" strike="noStrike">
                <a:solidFill>
                  <a:srgbClr val="000000"/>
                </a:solidFill>
                <a:latin typeface="Arial"/>
              </a:rPr>
              <a:t>Spanje</a:t>
            </a:r>
            <a:r>
              <a:rPr b="0" i="1" lang="nl-NL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60360"/>
                <a:tab algn="l" pos="1347840"/>
                <a:tab algn="l" pos="1792440"/>
                <a:tab algn="l" pos="4572000"/>
                <a:tab algn="l" pos="4840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400"/>
            </a:b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400" spc="-1" strike="noStrike" u="sng">
                <a:solidFill>
                  <a:srgbClr val="000000"/>
                </a:solidFill>
                <a:uFillTx/>
                <a:latin typeface="Arial"/>
              </a:rPr>
              <a:t>Sinds 2007:</a:t>
            </a:r>
            <a:br>
              <a:rPr sz="1400"/>
            </a:b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1400" spc="-1" strike="noStrike">
                <a:solidFill>
                  <a:srgbClr val="000000"/>
                </a:solidFill>
                <a:latin typeface="Arial"/>
              </a:rPr>
              <a:t>Sloveni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60360"/>
                <a:tab algn="l" pos="1347840"/>
                <a:tab algn="l" pos="1792440"/>
                <a:tab algn="l" pos="4572000"/>
                <a:tab algn="l" pos="4840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400"/>
            </a:br>
            <a:r>
              <a:rPr b="0" i="1" lang="nl-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400" spc="-1" strike="noStrike" u="sng">
                <a:solidFill>
                  <a:srgbClr val="000000"/>
                </a:solidFill>
                <a:uFillTx/>
                <a:latin typeface="Arial"/>
              </a:rPr>
              <a:t>Sinds 2008</a:t>
            </a:r>
            <a:br>
              <a:rPr sz="1400"/>
            </a:br>
            <a:r>
              <a:rPr b="0" i="1" lang="nl-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1400" spc="-1" strike="noStrike">
                <a:solidFill>
                  <a:srgbClr val="000000"/>
                </a:solidFill>
                <a:latin typeface="Arial"/>
              </a:rPr>
              <a:t>Cyprus en Mal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60360"/>
                <a:tab algn="l" pos="1347840"/>
                <a:tab algn="l" pos="1792440"/>
                <a:tab algn="l" pos="4572000"/>
                <a:tab algn="l" pos="4840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400" spc="-1" strike="noStrike" u="sng">
                <a:solidFill>
                  <a:srgbClr val="000000"/>
                </a:solidFill>
                <a:uFillTx/>
                <a:latin typeface="Arial"/>
              </a:rPr>
              <a:t>Sinds 2009</a:t>
            </a:r>
            <a:br>
              <a:rPr sz="1400"/>
            </a:br>
            <a:r>
              <a:rPr b="0" i="1" lang="nl-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1400" spc="-1" strike="noStrike">
                <a:solidFill>
                  <a:srgbClr val="000000"/>
                </a:solidFill>
                <a:latin typeface="Arial"/>
              </a:rPr>
              <a:t>Slowakijë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60360"/>
                <a:tab algn="l" pos="1347840"/>
                <a:tab algn="l" pos="1792440"/>
                <a:tab algn="l" pos="4572000"/>
                <a:tab algn="l" pos="4840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400" spc="-1" strike="noStrike" u="sng">
                <a:solidFill>
                  <a:srgbClr val="000000"/>
                </a:solidFill>
                <a:uFillTx/>
                <a:latin typeface="Arial"/>
              </a:rPr>
              <a:t>Sinds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60360"/>
                <a:tab algn="l" pos="1347840"/>
                <a:tab algn="l" pos="1792440"/>
                <a:tab algn="l" pos="4572000"/>
                <a:tab algn="l" pos="4840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1400" spc="-1" strike="noStrike">
                <a:solidFill>
                  <a:srgbClr val="000000"/>
                </a:solidFill>
                <a:latin typeface="Arial"/>
              </a:rPr>
              <a:t>Estl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4"/>
          <p:cNvSpPr/>
          <p:nvPr/>
        </p:nvSpPr>
        <p:spPr>
          <a:xfrm>
            <a:off x="7308720" y="6237360"/>
            <a:ext cx="136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ofdstuk 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166" descr=""/>
          <p:cNvPicPr/>
          <p:nvPr/>
        </p:nvPicPr>
        <p:blipFill>
          <a:blip r:embed="rId1"/>
          <a:stretch/>
        </p:blipFill>
        <p:spPr>
          <a:xfrm>
            <a:off x="2627280" y="3213000"/>
            <a:ext cx="1871640" cy="18655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73" name="Text Box 8"/>
          <p:cNvSpPr/>
          <p:nvPr/>
        </p:nvSpPr>
        <p:spPr>
          <a:xfrm>
            <a:off x="5148360" y="1989000"/>
            <a:ext cx="399564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Wingdings" charset="2"/>
              <a:buChar char=""/>
              <a:tabLst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Voordelen van één munt             </a:t>
            </a:r>
            <a:br>
              <a:rPr sz="1600"/>
            </a:b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(de Euro)</a:t>
            </a:r>
            <a:br>
              <a:rPr sz="1600"/>
            </a:b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geen geld omwisselen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dus geen koersverlies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bevordert handel en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welvaart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Wingdings" charset="2"/>
              <a:buChar char=""/>
              <a:tabLst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Probleem</a:t>
            </a:r>
            <a:br>
              <a:rPr sz="1600"/>
            </a:b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Niet alle lidstaten (b.v. Grieken-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land en Italié) houden zich aan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de afgesproken strenge begro-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tingsregels waardoor er econo-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mische problemen ontstaan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4"/>
          <p:cNvSpPr/>
          <p:nvPr/>
        </p:nvSpPr>
        <p:spPr>
          <a:xfrm>
            <a:off x="684360" y="476280"/>
            <a:ext cx="626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5"/>
          <p:cNvSpPr/>
          <p:nvPr/>
        </p:nvSpPr>
        <p:spPr>
          <a:xfrm>
            <a:off x="395280" y="836640"/>
            <a:ext cx="8353440" cy="51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34960"/>
                <a:tab algn="l" pos="803160"/>
                <a:tab algn="l" pos="1973160"/>
                <a:tab algn="l" pos="2330280"/>
                <a:tab algn="l" pos="4394160"/>
                <a:tab algn="l" pos="4840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Rechten van de consument</a:t>
            </a:r>
            <a:br>
              <a:rPr sz="1600"/>
            </a:b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Consumentenrechten worden met Europese wetten bescherm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Wingdings" charset="2"/>
              <a:buChar char=""/>
              <a:tabLst>
                <a:tab algn="l" pos="534960"/>
                <a:tab algn="l" pos="803160"/>
                <a:tab algn="l" pos="1973160"/>
                <a:tab algn="l" pos="2330280"/>
                <a:tab algn="l" pos="4394160"/>
                <a:tab algn="l" pos="4840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Gezondheid en veiligheid</a:t>
            </a:r>
            <a:br>
              <a:rPr sz="1600"/>
            </a:b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Streven naar gelijke strenge gezondheids- 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en veiligheidseisen in alle EU-land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Wingdings" charset="2"/>
              <a:buChar char=""/>
              <a:tabLst>
                <a:tab algn="l" pos="534960"/>
                <a:tab algn="l" pos="803160"/>
                <a:tab algn="l" pos="1973160"/>
                <a:tab algn="l" pos="2330280"/>
                <a:tab algn="l" pos="4394160"/>
                <a:tab algn="l" pos="4840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Mobiel bellen</a:t>
            </a:r>
            <a:br>
              <a:rPr sz="1600"/>
            </a:b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Streven naar goedkoper mobiel bellen in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het buitenland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Wingdings" charset="2"/>
              <a:buChar char=""/>
              <a:tabLst>
                <a:tab algn="l" pos="534960"/>
                <a:tab algn="l" pos="803160"/>
                <a:tab algn="l" pos="1973160"/>
                <a:tab algn="l" pos="2330280"/>
                <a:tab algn="l" pos="4394160"/>
                <a:tab algn="l" pos="4840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Gelijke rechten voor man en vrou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Wingdings" charset="2"/>
              <a:buChar char=""/>
              <a:tabLst>
                <a:tab algn="l" pos="534960"/>
                <a:tab algn="l" pos="803160"/>
                <a:tab algn="l" pos="1973160"/>
                <a:tab algn="l" pos="2330280"/>
                <a:tab algn="l" pos="4394160"/>
                <a:tab algn="l" pos="4840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Milieubescherming en verbod op dierproev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Wingdings" charset="2"/>
              <a:buChar char=""/>
              <a:tabLst>
                <a:tab algn="l" pos="534960"/>
                <a:tab algn="l" pos="803160"/>
                <a:tab algn="l" pos="1973160"/>
                <a:tab algn="l" pos="2330280"/>
                <a:tab algn="l" pos="4394160"/>
                <a:tab algn="l" pos="4840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Europees burgerschap</a:t>
            </a:r>
            <a:br>
              <a:rPr sz="1600"/>
            </a:b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Speciale rechten voor burgers binnen de EU zoals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bv. vrij reizen, wonen, werk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Wingdings" charset="2"/>
              <a:buChar char=""/>
              <a:tabLst>
                <a:tab algn="l" pos="534960"/>
                <a:tab algn="l" pos="803160"/>
                <a:tab algn="l" pos="1973160"/>
                <a:tab algn="l" pos="2330280"/>
                <a:tab algn="l" pos="4394160"/>
                <a:tab algn="l" pos="4840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Mensenrechten en democratische beginselen</a:t>
            </a:r>
            <a:br>
              <a:rPr sz="1600"/>
            </a:b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bestrijding discriminatie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vrije verkiezingen en stemrec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Wingdings" charset="2"/>
              <a:buChar char=""/>
              <a:tabLst>
                <a:tab algn="l" pos="534960"/>
                <a:tab algn="l" pos="803160"/>
                <a:tab algn="l" pos="1973160"/>
                <a:tab algn="l" pos="2330280"/>
                <a:tab algn="l" pos="4394160"/>
                <a:tab algn="l" pos="4840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Studie- en stagemogelijkheden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2"/>
          <p:cNvSpPr/>
          <p:nvPr/>
        </p:nvSpPr>
        <p:spPr>
          <a:xfrm>
            <a:off x="395280" y="333360"/>
            <a:ext cx="74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116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vloed van de EU op Nederland (vervol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4"/>
          <p:cNvSpPr/>
          <p:nvPr/>
        </p:nvSpPr>
        <p:spPr>
          <a:xfrm>
            <a:off x="7308720" y="6237360"/>
            <a:ext cx="136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ofdstuk 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10" descr="mobieltje_oke"/>
          <p:cNvPicPr/>
          <p:nvPr/>
        </p:nvPicPr>
        <p:blipFill>
          <a:blip r:embed="rId1"/>
          <a:stretch/>
        </p:blipFill>
        <p:spPr>
          <a:xfrm>
            <a:off x="6084720" y="2205000"/>
            <a:ext cx="2667240" cy="29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43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4"/>
          <p:cNvSpPr/>
          <p:nvPr/>
        </p:nvSpPr>
        <p:spPr>
          <a:xfrm>
            <a:off x="684360" y="476280"/>
            <a:ext cx="626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395280" y="836640"/>
            <a:ext cx="8353440" cy="14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534960"/>
                <a:tab algn="l" pos="803160"/>
                <a:tab algn="l" pos="1973160"/>
                <a:tab algn="l" pos="2330280"/>
                <a:tab algn="l" pos="4394160"/>
                <a:tab algn="l" pos="4840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gewikkel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t bestuur en de verdeling van de werkelijke macht binnen Europa zit ingewikkeld in elkaar. Hoewel het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geen officieel wettelijk bestuursorgaa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, is het de </a:t>
            </a:r>
            <a:r>
              <a:rPr b="1" i="1" lang="en-US" sz="1600" spc="-1" strike="noStrike" u="sng">
                <a:solidFill>
                  <a:srgbClr val="ff3300"/>
                </a:solidFill>
                <a:uFillTx/>
                <a:latin typeface="Arial"/>
              </a:rPr>
              <a:t>Europese Raa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= de vergadering van Europese regeringsleiders) </a:t>
            </a:r>
            <a:r>
              <a:rPr b="1" i="1" lang="en-US" sz="1600" spc="-1" strike="noStrike" u="sng">
                <a:solidFill>
                  <a:srgbClr val="ff3300"/>
                </a:solidFill>
                <a:uFillTx/>
                <a:latin typeface="Arial"/>
              </a:rPr>
              <a:t>die in wezen de dienst uit maakt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534960"/>
                <a:tab algn="l" pos="803160"/>
                <a:tab algn="l" pos="1973160"/>
                <a:tab algn="l" pos="2330280"/>
                <a:tab algn="l" pos="4394160"/>
                <a:tab algn="l" pos="4840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stuursorgane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2"/>
          <p:cNvSpPr/>
          <p:nvPr/>
        </p:nvSpPr>
        <p:spPr>
          <a:xfrm>
            <a:off x="395280" y="333360"/>
            <a:ext cx="74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116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stuur van Euro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4"/>
          <p:cNvSpPr/>
          <p:nvPr/>
        </p:nvSpPr>
        <p:spPr>
          <a:xfrm>
            <a:off x="7308720" y="6237360"/>
            <a:ext cx="136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ofdstuk 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7"/>
          <p:cNvSpPr/>
          <p:nvPr/>
        </p:nvSpPr>
        <p:spPr>
          <a:xfrm>
            <a:off x="3492360" y="4005360"/>
            <a:ext cx="2664000" cy="9766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uropese Commissie</a:t>
            </a:r>
            <a:br>
              <a:rPr sz="16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gelijks bestuur van de EU; een soort van Europees kabi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8"/>
          <p:cNvSpPr/>
          <p:nvPr/>
        </p:nvSpPr>
        <p:spPr>
          <a:xfrm>
            <a:off x="5651640" y="2781360"/>
            <a:ext cx="2232000" cy="76356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Raad van Ministers</a:t>
            </a:r>
            <a:br>
              <a:rPr sz="1400"/>
            </a:b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Ministers van de diverse</a:t>
            </a:r>
            <a:br>
              <a:rPr sz="1400"/>
            </a:b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lidstat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9"/>
          <p:cNvSpPr/>
          <p:nvPr/>
        </p:nvSpPr>
        <p:spPr>
          <a:xfrm>
            <a:off x="1908000" y="2781360"/>
            <a:ext cx="2664000" cy="76356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uropees Parlement</a:t>
            </a:r>
            <a:br>
              <a:rPr sz="16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m de 5 jaar gekozen door d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uropese burg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1"/>
          <p:cNvSpPr/>
          <p:nvPr/>
        </p:nvSpPr>
        <p:spPr>
          <a:xfrm>
            <a:off x="2340000" y="5373720"/>
            <a:ext cx="4751280" cy="520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oen van wetsvoorstell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controleren of lidstaten de Europese wetten uitvoer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13"/>
          <p:cNvSpPr/>
          <p:nvPr/>
        </p:nvSpPr>
        <p:spPr>
          <a:xfrm flipV="1">
            <a:off x="3924360" y="5013000"/>
            <a:ext cx="0" cy="36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16"/>
          <p:cNvSpPr/>
          <p:nvPr/>
        </p:nvSpPr>
        <p:spPr>
          <a:xfrm flipV="1">
            <a:off x="2195640" y="3573360"/>
            <a:ext cx="0" cy="503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20"/>
          <p:cNvSpPr/>
          <p:nvPr/>
        </p:nvSpPr>
        <p:spPr>
          <a:xfrm>
            <a:off x="684360" y="4076640"/>
            <a:ext cx="2376360" cy="733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000000"/>
              </a:buClr>
              <a:buFont typeface="Wingdings" charset="2"/>
              <a:buChar char=""/>
              <a:tabLst>
                <a:tab algn="l" pos="26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tten goed- / afkeur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Europese commissie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roler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21"/>
          <p:cNvSpPr/>
          <p:nvPr/>
        </p:nvSpPr>
        <p:spPr>
          <a:xfrm>
            <a:off x="6516720" y="4076640"/>
            <a:ext cx="2303280" cy="307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26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tten goed- of afkeur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22"/>
          <p:cNvSpPr/>
          <p:nvPr/>
        </p:nvSpPr>
        <p:spPr>
          <a:xfrm flipV="1">
            <a:off x="7380360" y="3573360"/>
            <a:ext cx="0" cy="503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24" descr="dyn007_original_230_230_gif_2616433_045200ad0f6ddc4359e05e37fcbfbe38"/>
          <p:cNvPicPr/>
          <p:nvPr/>
        </p:nvPicPr>
        <p:blipFill>
          <a:blip r:embed="rId1"/>
          <a:stretch/>
        </p:blipFill>
        <p:spPr>
          <a:xfrm>
            <a:off x="539640" y="5157720"/>
            <a:ext cx="136836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8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4"/>
          <p:cNvSpPr/>
          <p:nvPr/>
        </p:nvSpPr>
        <p:spPr>
          <a:xfrm>
            <a:off x="539640" y="4005360"/>
            <a:ext cx="2664000" cy="9766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uropese Commissie</a:t>
            </a:r>
            <a:br>
              <a:rPr sz="16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gelijks bestuur van de EU; een soort van Europees kabi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539640" y="2421000"/>
            <a:ext cx="2664000" cy="76356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uropees Parlement</a:t>
            </a:r>
            <a:br>
              <a:rPr sz="16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m de 5 jaar gekozen door d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uropese burg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755640" y="836640"/>
            <a:ext cx="2232000" cy="76356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Raad van Ministers</a:t>
            </a:r>
            <a:br>
              <a:rPr sz="1400"/>
            </a:b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Ministers van de diverse</a:t>
            </a:r>
            <a:br>
              <a:rPr sz="1400"/>
            </a:b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lidstat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7"/>
          <p:cNvSpPr/>
          <p:nvPr/>
        </p:nvSpPr>
        <p:spPr>
          <a:xfrm flipV="1">
            <a:off x="1619280" y="3212640"/>
            <a:ext cx="0" cy="792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8"/>
          <p:cNvSpPr/>
          <p:nvPr/>
        </p:nvSpPr>
        <p:spPr>
          <a:xfrm flipV="1">
            <a:off x="1619280" y="1628280"/>
            <a:ext cx="0" cy="792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1"/>
          <p:cNvSpPr/>
          <p:nvPr/>
        </p:nvSpPr>
        <p:spPr>
          <a:xfrm>
            <a:off x="5292720" y="981000"/>
            <a:ext cx="2664000" cy="3373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uropese Regering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12"/>
          <p:cNvSpPr/>
          <p:nvPr/>
        </p:nvSpPr>
        <p:spPr>
          <a:xfrm>
            <a:off x="2987640" y="1197000"/>
            <a:ext cx="230364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13"/>
          <p:cNvSpPr/>
          <p:nvPr/>
        </p:nvSpPr>
        <p:spPr>
          <a:xfrm flipV="1">
            <a:off x="3203640" y="1341000"/>
            <a:ext cx="2663640" cy="3024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4"/>
          <p:cNvSpPr/>
          <p:nvPr/>
        </p:nvSpPr>
        <p:spPr>
          <a:xfrm>
            <a:off x="1692360" y="3357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5"/>
          <p:cNvSpPr/>
          <p:nvPr/>
        </p:nvSpPr>
        <p:spPr>
          <a:xfrm>
            <a:off x="1692360" y="1916280"/>
            <a:ext cx="35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6"/>
          <p:cNvSpPr/>
          <p:nvPr/>
        </p:nvSpPr>
        <p:spPr>
          <a:xfrm>
            <a:off x="3708360" y="1197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7"/>
          <p:cNvSpPr/>
          <p:nvPr/>
        </p:nvSpPr>
        <p:spPr>
          <a:xfrm>
            <a:off x="3995640" y="2781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8"/>
          <p:cNvSpPr/>
          <p:nvPr/>
        </p:nvSpPr>
        <p:spPr>
          <a:xfrm>
            <a:off x="5292720" y="2349360"/>
            <a:ext cx="3456000" cy="38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26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  Europese Commissie ontwerpt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en wet en legt die ter goedkeu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ng voor aan het Europe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lemen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26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nneer het Parlement de wet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oedkeurt legt deze de wet te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oedkeuring voor aan de Raad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n Ministe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26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geringen van de lidstate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oeren de wet ui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26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uropese Commissie controleert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f de regeringen van de lidstate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 Europese wetten goed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itvoeren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19" descr="dyn007_original_230_230_gif_2616433_045200ad0f6ddc4359e05e37fcbfbe38"/>
          <p:cNvPicPr/>
          <p:nvPr/>
        </p:nvPicPr>
        <p:blipFill>
          <a:blip r:embed="rId1"/>
          <a:stretch/>
        </p:blipFill>
        <p:spPr>
          <a:xfrm>
            <a:off x="3348000" y="5229360"/>
            <a:ext cx="1368360" cy="136836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12"/>
          <p:cNvSpPr/>
          <p:nvPr/>
        </p:nvSpPr>
        <p:spPr>
          <a:xfrm>
            <a:off x="2627280" y="260280"/>
            <a:ext cx="395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116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e ontstaat een wet in Europ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4"/>
          <p:cNvSpPr/>
          <p:nvPr/>
        </p:nvSpPr>
        <p:spPr>
          <a:xfrm>
            <a:off x="7308720" y="6237360"/>
            <a:ext cx="136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ofdstuk 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5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9" descr=""/>
          <p:cNvPicPr/>
          <p:nvPr/>
        </p:nvPicPr>
        <p:blipFill>
          <a:blip r:embed="rId1"/>
          <a:stretch/>
        </p:blipFill>
        <p:spPr>
          <a:xfrm>
            <a:off x="755640" y="4221000"/>
            <a:ext cx="2951280" cy="198468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10"/>
          <p:cNvSpPr/>
          <p:nvPr/>
        </p:nvSpPr>
        <p:spPr>
          <a:xfrm>
            <a:off x="4932360" y="4076640"/>
            <a:ext cx="3672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an Marijnissen van de SP heeft het niet zo op Europa. Kijk en luister naar zijn mening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6" descr="dyn007_original_230_230_gif_2616433_045200ad0f6ddc4359e05e37fcbfbe38"/>
          <p:cNvPicPr/>
          <p:nvPr/>
        </p:nvPicPr>
        <p:blipFill>
          <a:blip r:embed="rId2"/>
          <a:stretch/>
        </p:blipFill>
        <p:spPr>
          <a:xfrm>
            <a:off x="5148360" y="5084640"/>
            <a:ext cx="1368360" cy="136872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12"/>
          <p:cNvSpPr/>
          <p:nvPr/>
        </p:nvSpPr>
        <p:spPr>
          <a:xfrm>
            <a:off x="395280" y="333360"/>
            <a:ext cx="74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116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chtspraak in Europa en knelpun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468360" y="836640"/>
            <a:ext cx="8353440" cy="329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357120"/>
                <a:tab algn="l" pos="803160"/>
                <a:tab algn="l" pos="1973160"/>
                <a:tab algn="l" pos="2330280"/>
                <a:tab algn="l" pos="4394160"/>
                <a:tab algn="l" pos="4840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uropese Hof van Justiti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et uitspraken over zaken die met de Europese wetten hebben te maken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357120"/>
                <a:tab algn="l" pos="803160"/>
                <a:tab algn="l" pos="1973160"/>
                <a:tab algn="l" pos="2330280"/>
                <a:tab algn="l" pos="4394160"/>
                <a:tab algn="l" pos="4840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Knelpunten in de EU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er Europese regels beperken de zeggenschap van lidstaten binnen hun eigen land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Er is nog te weinig democratische controle mogelijk. </a:t>
            </a:r>
            <a:br>
              <a:rPr sz="1600"/>
            </a:b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U is een log en bureaucratisch geheel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et de EU nog wel groter worden met nog meer landen?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el arbeiders uit lagelonenlanden gaan werken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het rijkere noordwest Europa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el bedrijven gaan zich vestigen in de lidstaten met lage lonen ten koste van de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rkgelegenheid van de rijkere land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357120"/>
                <a:tab algn="l" pos="803160"/>
                <a:tab algn="l" pos="1973160"/>
                <a:tab algn="l" pos="2330280"/>
                <a:tab algn="l" pos="4394160"/>
                <a:tab algn="l" pos="4840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4"/>
          <p:cNvSpPr/>
          <p:nvPr/>
        </p:nvSpPr>
        <p:spPr>
          <a:xfrm>
            <a:off x="7308720" y="6237360"/>
            <a:ext cx="136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ofdstuk 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6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29T18:07:09Z</dcterms:created>
  <dc:creator>jan van gils</dc:creator>
  <dc:description/>
  <dc:language>en-US</dc:language>
  <cp:lastModifiedBy>Naam</cp:lastModifiedBy>
  <dcterms:modified xsi:type="dcterms:W3CDTF">2012-03-13T08:55:06Z</dcterms:modified>
  <cp:revision>57</cp:revision>
  <dc:subject/>
  <dc:title>Dia 1</dc:title>
</cp:coreProperties>
</file>