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AC1-AF39-4270-984D-0E697BB8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999-3142-446E-9483-EE75841E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6C2-0AAF-4E8D-9221-B7A531B4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21A-39C2-44F7-9810-4AA79FEB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36D9-FAFE-4DE3-9923-0DBB2AA2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561-62E6-4FB0-B4B6-EDB57E17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FD8-EB90-4388-B069-AEC98081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0AD1-FA04-440C-B829-28042310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EDED-7410-4E62-8474-17CF2B5C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FD6-F75D-406A-A15F-D4A7BBA1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005-EA09-41C1-973A-71E6E5AD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744-9403-4758-8397-2C0F4788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258F-6D5C-4DF1-AE36-32E90EFAAD0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4nieuws.nl/show.php?key=172937&amp;titel=Moordenaar%20bejaarde%20echtgenoot%20niet%20strafbaar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Het strafrech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700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28464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095640" cy="2085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t straf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strafrecht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84464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itgangspunten van het strafrecht</a:t>
            </a:r>
            <a:br>
              <a:rPr sz="1800"/>
            </a:b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 w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Je kunt alleen worden gestraft voor wat in de wet strafbaar i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Wet bepaalt maximum stra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314172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 schuldvraa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Onschuldig tot het tegendeel is bewezen (rechter bepaal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Vóór de uitspraak van de rechter ben je verdach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Na de uitspraak ben je dader of is er vrijspraak (bij gebrek aan bewij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36572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et proce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Proces met onafhankelijke en onpartijdige rechte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Bij zware misdrijven drie rechters (= “meervoudige kamer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537372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rijspraa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Je kan niet voor hetzelfde feit meer keren worden berecht na vrijspra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0" b="2500"/>
          <a:stretch/>
        </p:blipFill>
        <p:spPr>
          <a:xfrm>
            <a:off x="5867280" y="549360"/>
            <a:ext cx="2590920" cy="172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62064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erjarin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Misdrijven en overtredingen kunnen na een aantal jaren niet meer word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vervo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484280"/>
            <a:ext cx="849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odweer en overmach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In de strafmaat en/of veroordeling weegt altijd mee of je handelde uit nood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weer (= zelfverdediging) en/of overmacht (iets strafbaars doen buiten j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chu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637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eeftijd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Voor jongeren geldt het jeugdstraf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3357720"/>
            <a:ext cx="8496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(on)toerekeningsvatbaar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Wist iemand wat hij deed op het moment van het strafbare feit of was hij/zij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hopeloos in de w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7200" y="4941720"/>
            <a:ext cx="636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rouw hoeft niet de cel in voor moord op haar ma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klein verschil tussen “sterk ontoerekeningsvatbaar” 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ontoerekeningsvatbaar” heeft grote gevolgen voor verda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ik op de filmproj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6" descr="dyn007_original_230_230_gif_2616433_045200ad0f6ddc4359e05e37fcbfbe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724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404640"/>
            <a:ext cx="83534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wet</a:t>
            </a:r>
            <a:br>
              <a:rPr sz="1800"/>
            </a:b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het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etboek van strafvord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 o.a.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n en bevoegdheden recht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slachtoffer(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hulpverleningsinstant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advoca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polit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officier van justit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van de verda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141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en van de verda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42900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bent pas verdachte bij een redelijk vermoeden van sch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3789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hebt recht om te weten waarvan je wordt verdac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149720"/>
            <a:ext cx="8497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nl-NL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e hebt recht op een advocaa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-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e moet dan wel langer dan 6 uren hebben vastgezet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e een advocaat niet kan betalen krijgt een zgn. pro Deo (= gratis) advo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a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30064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hebt recht te zwijg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moet wel meewerken aan het vaststellen van je identitei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moet ook meewerken aan het afnemen van vingerafdrukken of DN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227640" y="765000"/>
            <a:ext cx="2368800" cy="259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549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en van de verdachte (vervol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836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e mag je maar een beperkte tijd vasthouden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e is afhankelijk van waar je van verdacht word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844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ijs moet op een manier zijn verkregen die volgens de wet mag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 niet dan is het bewijs ongeldig. (= onrechtmatig verkregen bewijs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557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w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565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ugdstraf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2852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Kinderen tot 12 jaar kunnen niet door de rechter worden bestraf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Raad van de Kinderbescherming handelt dit af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429000"/>
            <a:ext cx="8353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ngeren tussen de 12 en 18 jaar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n terecht voor de kinderrechte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szitting niet openbaa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n gevangenisstraf maar jeugddetentie (= tuchtschool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dertoezichtstelling (= OTS) waarbij een gezinsvoogd het gez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elei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atsing in opvoedingsinterna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37372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Bij zware misdaden kan voor 16 t/m 18 jarigen het volwassen strafrech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d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j uitzondering komen 18 t/m 21 jarigen voor de kinderrech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05T15:59:52Z</dcterms:modified>
  <cp:revision>41</cp:revision>
  <dc:subject/>
  <dc:title>Dia 1</dc:title>
</cp:coreProperties>
</file>