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100-D999-4D84-AA32-D10829D4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490-3104-4BDA-9074-FDA965B6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5651-9BEF-4809-A163-405865EA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A450-5FD0-4F9C-91D6-0B1311C2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BC9C-244A-499A-8E9E-49CF2265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7D5-1BE4-4564-87A9-A3362E0F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8C58-7A0A-4424-833F-546EAE7F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8D1-8E51-4FAA-823F-36143E58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9B2-6EF0-4AC9-9DEF-BD3A60F8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71C-4496-407E-9969-6AFD09F4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D67-5370-4320-A2FC-88783D0C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719-E304-4C32-9E0C-7228086C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FDC2-F624-4112-8AD9-16887DC1FA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Politieke Stroming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n van inzichtvragen, di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el op het examen voorkom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begonnen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89420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9" descr="zerometer-nietdegrootste"/>
          <p:cNvPicPr/>
          <p:nvPr/>
        </p:nvPicPr>
        <p:blipFill>
          <a:blip r:embed="rId2"/>
          <a:stretch/>
        </p:blipFill>
        <p:spPr>
          <a:xfrm>
            <a:off x="900000" y="3933720"/>
            <a:ext cx="3961080" cy="2514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1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le gegev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tieke stromingen i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Een geheel van ideeën over wat belangrijk is in de maatschappij 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en hoe mensen het beste met elkaar kunnen samenlev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al in dit hoofdstuk staat de deelvraag: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Wat willen het liberalisme, het socialisme en het confesionalisme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Politieke strom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3"/>
          <p:cNvSpPr/>
          <p:nvPr/>
        </p:nvSpPr>
        <p:spPr>
          <a:xfrm>
            <a:off x="395280" y="2637000"/>
            <a:ext cx="8064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Liberalisme (Rechts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in de eerste helft van de 19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euw vanuit de Franse revolutie. Burgers eisten vrijheid tegenover de macht van koning en de a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willen individuele vrijheid. Iedereen moet zoveel mogelijk zijn eig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issingen nemen. Overheid moet deze persoonlijke vrijheid 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moeten vrij zijn om voor zichzelf te zorgen; bedrijven te starten. Er moet zo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inig mogelijk regelgeving zijn zodat de economie maximaal de ruimte krij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ersoonlijke belang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die hard werken mogen gerust meer verdienen. Grote inkomensverschill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s geen probleem voor liberalen. Lage belastingen (bevordert de economie) en lag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keringen (zet mensen eerder aan tot werken) zijn liberale items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VD is een voorbeeld van een liberale parti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2" descr="view"/>
          <p:cNvPicPr/>
          <p:nvPr/>
        </p:nvPicPr>
        <p:blipFill>
          <a:blip r:embed="rId1"/>
          <a:stretch/>
        </p:blipFill>
        <p:spPr>
          <a:xfrm>
            <a:off x="7020000" y="260280"/>
            <a:ext cx="1728720" cy="2090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7380360" y="623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68360" y="404640"/>
            <a:ext cx="82072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ociaal-democratie (Links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tijdens de industriële revolutie in de tweede helft van de 19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euw. Het liberalisme leidde tijdens de industriële revolutie (ontstaan van fabrieken) tot uitbuiting van de arbeiders door de rijke industriëlen. Economische vrijheid leidde zo tot misstan-d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isten (ook wel sociaaldemocraten genoemd) streven naar gelijke kansen v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ongeacht de afkomst. Gelijkheid en gelijkwaardigheid staan bij hen hoog i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vaan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e kans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aldemocraten zijn voorstander van een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ctiev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overheid. Zwakkeren moet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er kansen krijgen en daarin heeft de overheid een belangrijke rol. Sociaal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mocraten willen dan ook graag dat lagere inkomens sneller stijgen dan hoge (dit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et nivelleren = verschil verkleinen) en dat mannen en vrouwen zowel thuis als i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samenleving het werk eerlijk verdelen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vdA en SP zijn voorbeelden van partijen voor wie het socialisme belangrijk 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hippogallery%3Apicture&amp;sa=X&amp;ei=4bRcT_CoDcSgOsK-vPkM&amp;ved=0CAwQ8wc&amp;usg=AFQjCNGi9swkjSyPj9p91hW-EhF3SBUSJw"/>
          <p:cNvPicPr/>
          <p:nvPr/>
        </p:nvPicPr>
        <p:blipFill>
          <a:blip r:embed="rId1"/>
          <a:stretch/>
        </p:blipFill>
        <p:spPr>
          <a:xfrm>
            <a:off x="1835280" y="5013360"/>
            <a:ext cx="1320840" cy="158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sp_logo_FF0000"/>
          <p:cNvPicPr/>
          <p:nvPr/>
        </p:nvPicPr>
        <p:blipFill>
          <a:blip r:embed="rId2"/>
          <a:stretch/>
        </p:blipFill>
        <p:spPr>
          <a:xfrm>
            <a:off x="3708360" y="5084640"/>
            <a:ext cx="208908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68360" y="404640"/>
            <a:ext cx="820728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Christen-democratie (Midden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in de tweede helft van de negentiende eeuw als tegenhanger van het liberalisme en later ook het socialisme die als heidens werden gez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ijbelse waard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aastenliefde en verantwoordelijkheid voor de medemens staan centraal. Mens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oeten zorgvuldig met elkaar en de aarde omgaan (= rentmeesterschap)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gezin is de hoeksteen van de samenleving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lijk leven is van grote waarde en daardoor staan christen-democraten zee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uiverig t.o.v. abortus en euthanas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eperkte rol over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hristendemocraten zijn voorstanders van particuliere organisaties die zorgen v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aken als onderwijs, gezondheidszorg, kunst enz. De overheid dient de zwakkeren t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ddenposi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ggen niet de nadruk op economische vrijheid (= liberaal) of financiële gelijkheid (=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aldemocratisch) maar op gezamenlijke verantwoordelijkheid van werkgevers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rknemers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DA, CU en SGP zijn voorbeelden hiervan waarbij CU en SGP erg Bijbelgericht zij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CDA-logo"/>
          <p:cNvPicPr/>
          <p:nvPr/>
        </p:nvPicPr>
        <p:blipFill>
          <a:blip r:embed="rId1"/>
          <a:stretch/>
        </p:blipFill>
        <p:spPr>
          <a:xfrm>
            <a:off x="468360" y="5445000"/>
            <a:ext cx="2448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sgp"/>
          <p:cNvPicPr/>
          <p:nvPr/>
        </p:nvPicPr>
        <p:blipFill>
          <a:blip r:embed="rId2"/>
          <a:stretch/>
        </p:blipFill>
        <p:spPr>
          <a:xfrm>
            <a:off x="3419640" y="5373720"/>
            <a:ext cx="1655640" cy="112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christenunie"/>
          <p:cNvPicPr/>
          <p:nvPr/>
        </p:nvPicPr>
        <p:blipFill>
          <a:blip r:embed="rId3"/>
          <a:stretch/>
        </p:blipFill>
        <p:spPr>
          <a:xfrm>
            <a:off x="5580000" y="5516640"/>
            <a:ext cx="30974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8360" y="620640"/>
            <a:ext cx="820728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s extrem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ns het rechts extremisme zijn niet alle mensen gelijkwaardi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Ongelijkwaardig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igen volk is superieur. Sommige rassen zijn beter dan anderen. Eigen volk eerst.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itenlanders zijn de schuld van ellende zoals werkeloosheid, criminaliteit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oningno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wel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s extremisten schuwen geen geweld om hu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el te berei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 van dit soort partijen in Nederland zij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NSB in de jaren 30 van de vorige eeuw, en d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D (Centrum Democraten) en de Volksunie a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eind van de vorige eeu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centrum%20democraten-poster"/>
          <p:cNvPicPr/>
          <p:nvPr/>
        </p:nvPicPr>
        <p:blipFill>
          <a:blip r:embed="rId1"/>
          <a:srcRect l="0" t="0" r="0" b="17835"/>
          <a:stretch/>
        </p:blipFill>
        <p:spPr>
          <a:xfrm>
            <a:off x="639720" y="2538360"/>
            <a:ext cx="2952720" cy="379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Picture 8" descr="Afbeeldingsresultaat voor rechts extremisme"/>
          <p:cNvPicPr/>
          <p:nvPr/>
        </p:nvPicPr>
        <p:blipFill>
          <a:blip r:embed="rId2"/>
          <a:stretch/>
        </p:blipFill>
        <p:spPr>
          <a:xfrm>
            <a:off x="5313240" y="4437000"/>
            <a:ext cx="1609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hthoek 5"/>
          <p:cNvSpPr/>
          <p:nvPr/>
        </p:nvSpPr>
        <p:spPr>
          <a:xfrm>
            <a:off x="395280" y="404640"/>
            <a:ext cx="777708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Ecologische stro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Natuu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lieu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mag zo min mogelijk worden aangetast door mensen. Burgers moeten zich milieubewust gedragen. Groen Links en de Partij voor de Dieren zijn voorbeelden van milieupartij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Popul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s een stijl van politiek bedrijven. Inspelen op de onderbuik gevoelens van het volk. Zij zijn van mening dat zij als enige de ‘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il van het volk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’ kennen en bereid zijn daarnaar te luisteren. Deze partijen hebben vaak zeer nationalistische standpunten. Dus tegen Europa en tegen immigratie. Pvv en Sp zijn voorbeelden hierva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Afbeelding 7" descr=""/>
          <p:cNvPicPr/>
          <p:nvPr/>
        </p:nvPicPr>
        <p:blipFill>
          <a:blip r:embed="rId1"/>
          <a:stretch/>
        </p:blipFill>
        <p:spPr>
          <a:xfrm>
            <a:off x="1187280" y="3730680"/>
            <a:ext cx="3643560" cy="2577960"/>
          </a:xfrm>
          <a:prstGeom prst="rect">
            <a:avLst/>
          </a:prstGeom>
          <a:ln w="0">
            <a:noFill/>
          </a:ln>
        </p:spPr>
      </p:pic>
      <p:pic>
        <p:nvPicPr>
          <p:cNvPr id="75" name="Afbeelding 8" descr=""/>
          <p:cNvPicPr/>
          <p:nvPr/>
        </p:nvPicPr>
        <p:blipFill>
          <a:blip r:embed="rId2"/>
          <a:stretch/>
        </p:blipFill>
        <p:spPr>
          <a:xfrm>
            <a:off x="5003640" y="4200480"/>
            <a:ext cx="2791080" cy="1638360"/>
          </a:xfrm>
          <a:prstGeom prst="rect">
            <a:avLst/>
          </a:prstGeom>
          <a:ln w="0">
            <a:noFill/>
          </a:ln>
        </p:spPr>
      </p:pic>
      <p:pic>
        <p:nvPicPr>
          <p:cNvPr id="76" name="Afbeelding 9" descr=""/>
          <p:cNvPicPr/>
          <p:nvPr/>
        </p:nvPicPr>
        <p:blipFill>
          <a:blip r:embed="rId3"/>
          <a:stretch/>
        </p:blipFill>
        <p:spPr>
          <a:xfrm>
            <a:off x="7053120" y="6116760"/>
            <a:ext cx="148428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Vos, O (Ole) de</cp:lastModifiedBy>
  <dcterms:modified xsi:type="dcterms:W3CDTF">2017-02-06T10:18:46Z</dcterms:modified>
  <cp:revision>66</cp:revision>
  <dc:subject/>
  <dc:title>Dia 1</dc:title>
</cp:coreProperties>
</file>