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0A4-F15B-4016-A7E2-514D4C38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CA9-32D5-41C3-B0F0-831F5E04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C82-CD24-46FB-A4A2-8D5DD3F8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15A-9327-472F-9E5B-53AAA6D3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8B0-DAEA-4331-AE1E-F1605951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285-8C53-4364-AF54-3E8C31A9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B79-92B0-4B86-BC54-080A3ACE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97C-0102-42B1-A2B3-29632EB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4F1-D5D5-469F-8DDD-A27F9CB5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3A5-8ACC-482A-8494-2CCBCC5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A7D-0DD5-48FA-B623-49CD59E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976-EEA4-429D-A9AF-2763567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234-1645-4369-8CD5-1F8C7CBAA3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9:53Z</dcterms:modified>
  <cp:revision>71</cp:revision>
  <dc:subject/>
  <dc:title>Dia 1</dc:title>
</cp:coreProperties>
</file>