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5F5D-C5E5-4B3A-8D07-FA2664FF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7DA-F0CD-4644-A194-937E7CD3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985D-7E43-4CF2-BC30-053E1784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03F-ECAA-436F-8E20-B1268004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E37A-A340-489B-AF36-5DE22D93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958-4560-4578-9E02-24A23DD1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96B6-9249-4BDB-BFA7-DB905753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04D5-8CEF-461D-893A-080AA8BB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0BED-0964-463B-9CD6-86C492F2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EF2-0410-4DD0-B186-99BA6B7D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2ED-AB97-4A64-A323-8F81C2F4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774-0D32-4E67-89FB-24F23F37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A02A-61B8-4D14-863C-8584B92EE7A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f/f3/Pol-landschap-2010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litieke partij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3.1 Kiesr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3.2 Soorten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ief en passief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 Nederlanders van achttien jaar en ouder hebben actief en passief kiesre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ctief kiesrech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is het recht om te mogen stemmen.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ssief kiesrech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is het recht om je verkiesbaar te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m de vier jaar kiezen de burgers van Nederland de nieuwe leden v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Tweede Kam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Provinciale Stat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Gemeentera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arnaast zijn er elke vijf jaar verkiezingen voor he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Europees Par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politieke partij bestaat ui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een groep mensen met ongeveer dezelfde ideeën over hoe de samenleving eruit zou moeten zi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ol van politiek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itieke partijen proberen op allerlei manieren invloed uit te oefenen op het beleid van de overhei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brengen hun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standpunt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oortdurend naar v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vertegenwoordig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aak de belangen van maatschappelijke organisaties en bepaalde groepen in de maatschappij. (VVD komt op voor de werkgevers en de SP voor de werknemer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leveren mensen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voor politieke functie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 (Ministers, burgemeesters, Kamerle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beïnvloed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in politieke functies. Partijen hebben veel contact met hun eigen Kamerleden, gemeenteraadsleden, ministers, leden van het Europees parlement en Burgemee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nkse en rechts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3"/>
          <p:cNvSpPr/>
          <p:nvPr/>
        </p:nvSpPr>
        <p:spPr>
          <a:xfrm>
            <a:off x="379440" y="985680"/>
            <a:ext cx="820728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Progressief of conservat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gressief (vooruitstrevend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even naar verandering. Je wilt de samenleving beter m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onservatief (behoudend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moet zo weinig mogelijk veranderen. Wat is moet blij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s, links of mid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s (Vrijheid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l zo weinig mogelijk overheidsbemoeienis en zoveel mogelijk vrijheid. Mens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oeten zelf hun verantwoordelijkheid n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verheid moe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assie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n, zich zo min mogelijk bemoeien met het dagelijks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ven en de ec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Links (Gelijkheid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l dat de staat zich met veel dingen actief bemoeit want de zwakkeren in d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amenleving moeten worden beschermd. Zoveel mogelijk gelijkwaardigheid is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langrij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verheid moe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ctief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zijn, zich inzet voor de mensen in de samenlev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826920" y="620640"/>
            <a:ext cx="792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dd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Samen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mensen moeten het samen met de overheid doen. Sommige partijen hebben dus zowel linkse als rechtse standpunten. De overheid heeft een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anvullen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Bestand:Pol-landschap-2010.gif">
            <a:hlinkClick r:id="rId1"/>
          </p:cNvPr>
          <p:cNvPicPr/>
          <p:nvPr/>
        </p:nvPicPr>
        <p:blipFill>
          <a:blip r:embed="rId2"/>
          <a:srcRect l="0" t="0" r="0" b="1638"/>
          <a:stretch/>
        </p:blipFill>
        <p:spPr>
          <a:xfrm>
            <a:off x="395280" y="1989000"/>
            <a:ext cx="4535640" cy="446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3059280" y="3141720"/>
            <a:ext cx="57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5364000" y="2205000"/>
            <a:ext cx="338328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iernaast zie je een schema hoe je de belangrijkste politieke partijen van Nederland kunt indelen in progressief, rechts, conservatief en links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et iedereen houdt eenzelfde verdeling aan. Sommigen zien de PVV als meer rechts-conservatief als op de afbeelding hiernaast en de VVD minder conservatief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is dus maar net hoe je tegen de zaken aankijk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e afbeelding op de volgende d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Matrix-Politieke-Partijen"/>
          <p:cNvPicPr/>
          <p:nvPr/>
        </p:nvPicPr>
        <p:blipFill>
          <a:blip r:embed="rId1"/>
          <a:stretch/>
        </p:blipFill>
        <p:spPr>
          <a:xfrm>
            <a:off x="1258920" y="476280"/>
            <a:ext cx="62658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Ole de Vos</cp:lastModifiedBy>
  <dcterms:modified xsi:type="dcterms:W3CDTF">2016-02-18T09:59:38Z</dcterms:modified>
  <cp:revision>71</cp:revision>
  <dc:subject/>
  <dc:title>Dia 1</dc:title>
</cp:coreProperties>
</file>