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C4B-2EB1-4890-B277-18C3ADE0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E55-81B8-4E2A-9D19-41C2E0FD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339-EAB5-4913-928F-967178BC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BB9-CC48-4E01-B107-775B3342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6E2-E95F-4F06-8590-7433C230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D3F-6144-466E-9B9C-1C18FE01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D6C-1380-4805-808A-4903BFC6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ED8-42ED-46F6-B6E1-51E09786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28F-8319-4314-B8FC-B5780AC3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8B0-EEFD-46C3-BD4A-7783A62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B67-1953-42D4-A658-4208783D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7A9-066C-4347-890E-3EBAB004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267D-1DF9-47D5-92A8-725D8DE91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Burgers, de media en pressiegroep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259092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kunnen de media, burgers en pressiegroepen invloed uitoefenen op de politiek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gers, media en pressieg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05000"/>
            <a:ext cx="82072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formatie geven over politieke besluitvorming via radio, tv, internet en kra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gendafunc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ournalisten zoeken uit wat er onder de bevolking leef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b.v. kernenergie) Door er aandacht aan te bested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 media kan het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unctie van commentaar en meningsvorming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wordt er b.v. kritiek geleverd op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ndelen overheid, bedrijven enz. wel zoals het mo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04640"/>
            <a:ext cx="820728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bur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emmen bij verkiezing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re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ruikmaken van spreekrecht bij hoorzittingen van b.v. gemeenteraa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d worden van een politieke partij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elnemen aan partijbijeenkomsten en zo invloed uitoefenen op partijstandpu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Zelf een politieke partij opri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lksvertegenwoordigers aansprek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act zoeken met politici en hen vertell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e je over bepaalde onderwerpen denk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zoek indien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gen stellen of b.v. subsidie aanvragen bij College van B. &amp; 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lacht of bezwaarschrif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en / Nationale Ombudsman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dia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 oprichten of er lid van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nstreren en handtekeningenac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404640"/>
            <a:ext cx="820728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en streven een bepaald belang na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ssie groepen (pressie = druk) proberen hun doel te bereiken door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lobby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steun proberen te krijgen van politici en invloedrijke personen)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openlijke a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b.v. handtekeningenacties, staking, blokkades enz.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orte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belangen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bepaalde groep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aan meestal voor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en: ANWB, Winkeliersvereniging, LA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staan meestal voor kort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ctiegroep tegen invoering 130 km/uur op snelwe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organisat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durende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mnesty International die zich inzet voor mensenrechte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732720" y="2276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20640"/>
            <a:ext cx="82072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e krijgt een pressiegroep ma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nn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rgen dat je veel deskundigheid binnen de groep hebt over het ontwerp waar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e voor vo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te van de groe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groter de groep hoe meer m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geld krijg je nu eenmaal makkelijker zaken gerege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e contacten met de media geeft meer ma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 politici benadert kan invloed uitoefen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=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is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leider met uitstraling en gezag is 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 en adviesorga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tting zien te krijgen in besturen en adviesorgan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groot de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880000" cy="193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8:56:54Z</dcterms:modified>
  <cp:revision>58</cp:revision>
  <dc:subject/>
  <dc:title>Dia 1</dc:title>
</cp:coreProperties>
</file>