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CB1-1A0E-4B39-BD12-AF907158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098-3503-44EF-8871-958F16CF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E8C-F826-4BC0-B89D-3E86F58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39B-ADBE-43E1-8517-1E5EBBA9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7E6-1101-407E-A701-92ACAA0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FAF-F6C8-4873-A6BA-CECF01B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E36-0268-43F3-93E5-4AC7B840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8B5-0BCF-41D2-A9E9-F6B11DC1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70C-26BF-47A3-AFD5-E894BF92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E12-9985-4CEB-AB4B-EECD027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0B6-0260-42BA-B774-7863A94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999-1AF3-4F25-B4ED-F3A39E4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E24-A3F1-4A7B-8F38-DCB7A0F8E7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Linkse en rechtse partij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248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vragen zijn:</a:t>
            </a:r>
            <a:br>
              <a:rPr sz="1600"/>
            </a:br>
            <a:r>
              <a:rPr b="1" lang="nl-NL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nneer noemen we een politieke partij rechts of links en conservatief of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 progressief?”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2.  “Welke politieke partijen zijn er in Nederl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oor een antwoord op vraag 2 zie de powerpoint van hoofdstuk 4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37000"/>
            <a:ext cx="820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hts links conservatief progres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 in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rvat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ven naar vera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estand:Pol-landschap-2010.gif"/>
          <p:cNvPicPr/>
          <p:nvPr/>
        </p:nvPicPr>
        <p:blipFill>
          <a:blip r:embed="rId1"/>
          <a:srcRect l="0" t="0" r="0" b="1638"/>
          <a:stretch/>
        </p:blipFill>
        <p:spPr>
          <a:xfrm>
            <a:off x="611280" y="549360"/>
            <a:ext cx="4319640" cy="42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10:56:40Z</dcterms:modified>
  <cp:revision>64</cp:revision>
  <dc:subject/>
  <dc:title>Dia 1</dc:title>
</cp:coreProperties>
</file>