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B1D-8FE2-44C5-9337-E3FC12A6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27A-C7DA-4A66-86CD-A95D7A7F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C64-15BE-4413-AF7C-31BF8A6E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9C1-0170-42E2-AB68-5E1AB7FB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48C-61B1-49CD-8176-730637ED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E81-DEF5-48CC-98C4-02B076F3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A79-0813-4945-9964-83A6EBE6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644-0EDC-404C-9C0A-60F69EBF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C45-DC94-41AA-B9A4-7292E033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027-BDD4-4CFB-AA90-B5C3A56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564-DF67-4D79-A873-FBACE4B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D3A-AFC4-4DA2-A4AE-1C3930A6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7951-1104-4A49-9DE3-07F4F9497E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Linkse en rechtse partij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42483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vragen zijn:</a:t>
            </a:r>
            <a:br>
              <a:rPr sz="1600"/>
            </a:br>
            <a:r>
              <a:rPr b="1" lang="nl-NL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nneer noemen we een politieke partij rechts of links en conservatief of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 progressief?”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2.  “Welke politieke partijen zijn er in Nederl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oor een antwoord op vraag 2 zie de powerpoint van hoofdstuk 4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637000"/>
            <a:ext cx="820728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hts links conservatief progres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 in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rvat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ven naar veran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Bestand:Pol-landschap-2010.gif"/>
          <p:cNvPicPr/>
          <p:nvPr/>
        </p:nvPicPr>
        <p:blipFill>
          <a:blip r:embed="rId1"/>
          <a:srcRect l="0" t="0" r="0" b="1638"/>
          <a:stretch/>
        </p:blipFill>
        <p:spPr>
          <a:xfrm>
            <a:off x="611280" y="549360"/>
            <a:ext cx="4319640" cy="42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10:56:40Z</dcterms:modified>
  <cp:revision>64</cp:revision>
  <dc:subject/>
  <dc:title>Dia 1</dc:title>
</cp:coreProperties>
</file>