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7CB-D91A-41EE-A2CC-AA503595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FAC-85DD-477F-840D-0AAECAAF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040-3CE0-4A60-99F7-ED7D3D05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33A-58A2-4AB7-92E3-142781F1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032-8EC8-435A-876C-06A27685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248-ACD0-4561-9222-AE808AC0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F05-3813-40A6-AC2B-350020F2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D7E-C6C1-412E-9335-0133AC6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EE4-5D39-4788-A837-D2636AC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CD6-4A9E-4C6F-B4B5-26559DB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D45-E314-4DD7-9C27-C2F8EB8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CDB-C6F0-4706-A0D9-FE3329D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CCC-2CB8-48D0-9457-D579C2F25E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l.123rf.com/" TargetMode="External"/><Relationship Id="rId3" Type="http://schemas.openxmlformats.org/officeDocument/2006/relationships/hyperlink" Target="http://nl.123rf.com/" TargetMode="External"/><Relationship Id="rId4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5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2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3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4" Type="http://schemas.openxmlformats.org/officeDocument/2006/relationships/hyperlink" Target="http://www.google.nl/url?sa=i&amp;rct=j&amp;q=&amp;esrc=s&amp;frm=1&amp;source=images&amp;cd=&amp;cad=rja&amp;uact=8&amp;docid=WLdeJEDSitnNmM&amp;tbnid=XbAot9Fo4edEiM:&amp;ved=0CAYQjRw&amp;url=http%3A%2F%2Fprosjektexpo.hiof.no%2Fexpo08%2FH08I02%2FDutch%2FProject_dutch.htm&amp;ei=aHIlU72FH4KK1AW-zoC4CQ&amp;psig=AFQjCNGK2Vr6O340Y7_wSWNd0UD-75ByKw&amp;ust=1395049411369920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1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Maatschappelijke probleme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proefwerken en opdrachten met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ucces 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813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en 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inzichtvragen – die in de proefwer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n voorkomen – 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>
            <a:hlinkClick r:id="rId2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>
            <a:hlinkClick r:id="rId3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4"/>
          </p:cNvPr>
          <p:cNvSpPr/>
          <p:nvPr/>
        </p:nvSpPr>
        <p:spPr>
          <a:xfrm>
            <a:off x="11448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/>
          </p:cNvPr>
          <p:cNvSpPr/>
          <p:nvPr/>
        </p:nvSpPr>
        <p:spPr>
          <a:xfrm>
            <a:off x="266760" y="-1309680"/>
            <a:ext cx="304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http://www.xead.nl/resize/500-500/upload/92d204e26c5557792f91828388cad23fdW50aXRsZWQxLmpwZw==.jpg"/>
          <p:cNvPicPr/>
          <p:nvPr/>
        </p:nvPicPr>
        <p:blipFill>
          <a:blip r:embed="rId6"/>
          <a:srcRect l="0" t="0" r="1323" b="-1972"/>
          <a:stretch/>
        </p:blipFill>
        <p:spPr>
          <a:xfrm>
            <a:off x="861840" y="3938760"/>
            <a:ext cx="2457720" cy="2541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468360" y="26028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atschappe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765000"/>
            <a:ext cx="80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 van dit hoofds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vragen in dit hoofdstuk zij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elke kenmerken hebben maatschappelijke problemen?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asisbegrippen horen bij de analyse van een maatschappelijk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moet je aan betrouwbare informati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90680" y="292428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nmerken van een maatschappelijk proble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s e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oc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. ( = De situatie of gebeurtenis wordt door vee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nsen afgekeur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rschillende men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ve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zich moet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moei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de oplo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veel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anda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di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het proble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begri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 onderscheiden diverse kernbegri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. Waar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of principes die we belangrijk vin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het uiteindelijk omdraai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gezondheid, vrede, respect, eerlijkheid, geweldloosheid en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je om gaat met de waar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gezondheid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ro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respec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opstaan voor zwangere vrouw in de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tr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Belan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een maatschappelijk probleem spelen altijd belangen een rol. (= het voor- of nadeel dat iemand ergen van heeft.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huishuur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uurder wil lage huur &amp; huiseigenaar hoge huu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2. alcoholomze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aféhouder wil hoge omzet gezondheids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zorg ziet liever een lage omzet van alcoh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hebben van dwingende invloed op ander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Je ouders kunnen je verbieden om naar de disco te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. Geza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 die wettelijk is vastgele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Politie kan je arresteren en voor een bepaalde tijd opslui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. Machts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ddelen waarmee je het gedrag van anderen kunt beinvloe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goed kunnen spreken of organis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harism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uitstraling (mensen luisteren naar mensen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terke uitstraling hebb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3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cht van het geta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hoe meer mensen je achter j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bt hoe meer macht je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gewoon-nieuws.nl/wp-content/uploads/2013/11/macht2.jpg"/>
          <p:cNvPicPr/>
          <p:nvPr/>
        </p:nvPicPr>
        <p:blipFill>
          <a:blip r:embed="rId1"/>
          <a:stretch/>
        </p:blipFill>
        <p:spPr>
          <a:xfrm>
            <a:off x="611280" y="4302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ntoonstelling 'Macht en Geloof' in Heidelberg"/>
          <p:cNvPicPr/>
          <p:nvPr/>
        </p:nvPicPr>
        <p:blipFill>
          <a:blip r:embed="rId2"/>
          <a:stretch/>
        </p:blipFill>
        <p:spPr>
          <a:xfrm>
            <a:off x="3287880" y="5013360"/>
            <a:ext cx="414792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404640"/>
            <a:ext cx="836460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Wat is waar en niet w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. Objectivitei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iten en meningen die overeenstemmen met de werkelijk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8. F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waarheid die voor iedereen controleerbaar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9. Men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soonlijk oordeel of stand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0. Subjectivit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Gekleurde” werkelijk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Een journalist die Ajax-fan is zal minder snel negatief schrijven over Aj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1. Manipulat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bewust “kleuren” van inform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2 Propagand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eds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nipuleren ten gunste van een bepaalde groep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468360" y="404640"/>
            <a:ext cx="83646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naly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ier invalshoe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. sociaal-econom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ciaal-economische invalsh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hierbij vooral om de belangen van mense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ak zijn er tegengestelde bela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zijn de belangen van de betrokken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elangentegenstellingen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den en normen spelen hier een 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waarden en normen spelen hier een rol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len culturele kenmerken van de betrokkenen een rol; welke zijn d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">
            <a:hlinkClick r:id="rId1"/>
          </p:cNvPr>
          <p:cNvSpPr/>
          <p:nvPr/>
        </p:nvSpPr>
        <p:spPr>
          <a:xfrm>
            <a:off x="114480" y="-1119240"/>
            <a:ext cx="19522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>
            <a:hlinkClick r:id="rId2"/>
          </p:cNvPr>
          <p:cNvSpPr/>
          <p:nvPr/>
        </p:nvSpPr>
        <p:spPr>
          <a:xfrm>
            <a:off x="266760" y="-966960"/>
            <a:ext cx="19526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rId3"/>
          </p:cNvPr>
          <p:cNvSpPr/>
          <p:nvPr/>
        </p:nvSpPr>
        <p:spPr>
          <a:xfrm>
            <a:off x="419040" y="-814320"/>
            <a:ext cx="1952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>
            <a:hlinkClick r:id="rId4"/>
          </p:cNvPr>
          <p:cNvSpPr/>
          <p:nvPr/>
        </p:nvSpPr>
        <p:spPr>
          <a:xfrm>
            <a:off x="114480" y="-1227240"/>
            <a:ext cx="24094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66760" y="-1074600"/>
            <a:ext cx="24098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6084720" y="1519200"/>
            <a:ext cx="24796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68360" y="404640"/>
            <a:ext cx="8364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bij vooral om hoe een probleem kan worden aangepakt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heeft de overheid tot nu toe aan het probleem gedaa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vinden de politieke partij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staat er in de wet en wat zou je moeten/kunnen veranderen in de we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 om dat zaken aan verandering onderhevig zijn en niet overal hetzelfde wordt ged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Plaat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 land of streek over het probleem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et homohuwelijk in Rusland of in Nederland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ijd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e tijd over het probleem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emand zijn hand afhakken bij diefstal; nu of in de middeleeuw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roe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een bepaalde groep over het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VV wil moskeeën in Nederland verbieden; PvdA nie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4-06-30T13:23:48Z</dcterms:modified>
  <cp:revision>110</cp:revision>
  <dc:subject/>
  <dc:title>Dia 1</dc:title>
</cp:coreProperties>
</file>