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057-F0E6-4305-8FA7-7AFBDF8D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307-F598-41F6-B0B0-810A79EB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134-2A3C-46B7-86A9-BA08F417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2D0-378C-4501-8AE3-2C64A923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8A0-BB7D-4DAB-9F00-5B03BBC0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A5A-3425-4B5B-9F82-8228B19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83D-C766-482D-8F12-5117707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FFA-99CB-4F6C-8920-10F9034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F88-0DF8-4978-AB9F-CDC8DE3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2DD-5182-4EDF-9C0A-60987FE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594-35A4-4DA3-9376-7020D6E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D5D-6B4F-438D-8E5C-A5BEF71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F495-B866-41CE-B2AA-89BA74EA81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witmunin.com/v/628478/kinderkoor-zingt-aangepast-&apos;kerstliederen&apos;-in-winkelcentrum-voor-opvoedingslij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Criminaliteit,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een probleem?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bully"/>
          <p:cNvPicPr/>
          <p:nvPr/>
        </p:nvPicPr>
        <p:blipFill>
          <a:blip r:embed="rId2"/>
          <a:srcRect l="3685" t="0" r="0" b="0"/>
          <a:stretch/>
        </p:blipFill>
        <p:spPr>
          <a:xfrm>
            <a:off x="900000" y="4221000"/>
            <a:ext cx="309564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riminaliteit, een proble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197000"/>
            <a:ext cx="806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tred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 jaar hechteni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stal geen strafblad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hoge boete of hechtenis blijft de overtr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0 jaar geregistr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levensla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strafblad gedurende 20 j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ok strafbaar zij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oging om een misdrijf te ple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medeplichtig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422100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orten 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ware criminalitei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roof)moor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kracht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eorganiseerde misdaad (maffiapraktijk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voorkomen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nkeldiefst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dalis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39640" y="54936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 is ‘n maatschappelijk probleem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mensen hebben ermee te maken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bestaan verschillende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ver en er spelen diverse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rol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verheid bemoeit er zich mee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79640" y="213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Aantasting van waarden en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anneer overheid niet ingrijpt gaan mensen eigen rechter sp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is materiële en emotionele 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79640" y="3357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 en 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Zwaardere straffen willen of juist niet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coholgebruik pas bij 18 jaar of juist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79640" y="4292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85776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nks (b.v. ‘Groen Links’ en ‘SP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echte leefomstandigheden lei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meer 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eleid vooral richten op voorko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criminaliteit (preventie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chts (b.v. ‘PVV en VVD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ader verantwoordelij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leid gericht op (streng) straff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repress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riminaliteit"/>
          <p:cNvPicPr/>
          <p:nvPr/>
        </p:nvPicPr>
        <p:blipFill>
          <a:blip r:embed="rId1"/>
          <a:srcRect l="4283" t="3907" r="5703" b="5552"/>
          <a:stretch/>
        </p:blipFill>
        <p:spPr>
          <a:xfrm>
            <a:off x="3851280" y="907920"/>
            <a:ext cx="4896000" cy="357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Rechthoek 2"/>
          <p:cNvSpPr/>
          <p:nvPr/>
        </p:nvSpPr>
        <p:spPr>
          <a:xfrm>
            <a:off x="395280" y="5300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 nodig bij de opvo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filmprojector en kijk naar het  filmpj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8360" y="476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Jongeren en m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8360" y="90792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ren tussen 16 en 23 jaar plegen veel criminalit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 gebeurt vooral door jongens en m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68360" y="234936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orza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ns mogen vaa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r dan meisjes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n ouders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eboren verschill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lichaamsk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agressieneig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sden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4869000"/>
            <a:ext cx="1511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9:06:12Z</dcterms:modified>
  <cp:revision>42</cp:revision>
  <dc:subject/>
  <dc:title>Dia 1</dc:title>
</cp:coreProperties>
</file>