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C8A1-5FAA-4C54-9136-8ED0919D5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5E98-2F54-442A-8652-FBD6A957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A947-E302-40CF-8A5B-E01B4B200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F244-35B6-452A-9581-60383A919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D624-84D3-425F-BF39-D4CA8B8E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9FC8-7008-4521-AC41-C4306AC5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4BB8-093A-4C3C-A2E1-C249ECCF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8231-AB54-4149-97A1-9FEF8572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B91C-49C9-4625-BF5A-84D50214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E723-C9BE-4BF3-861E-46C22C1C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52A6-4B27-4D75-AEA7-AAC4C720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78C8-3949-474F-A3D8-FA685036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DF57-BD2B-415A-A238-92341289903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gemeente en de provi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852640"/>
            <a:ext cx="7058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3357720"/>
            <a:ext cx="741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4005360"/>
            <a:ext cx="3067200" cy="2171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836640"/>
            <a:ext cx="345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t Rij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landelijke overheid (= het Rijk) laat uitvoering van een deel van het beleid over aan lagere overheden (= gemeenten en provinci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95280" y="2276640"/>
            <a:ext cx="352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rovinci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s vooral bezig met ruimtelijke orde-ning en het milie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emeente en provin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395280" y="3213000"/>
            <a:ext cx="84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nciaal bestu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211640" y="1052640"/>
            <a:ext cx="4629240" cy="2600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"/>
          <p:cNvSpPr/>
          <p:nvPr/>
        </p:nvSpPr>
        <p:spPr>
          <a:xfrm>
            <a:off x="395280" y="3500280"/>
            <a:ext cx="8424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ovinciale Staten (P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m de vier jaren gaan de burgers va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 jaar en ouder naar de stembus om de Provinciale Staten (PS) te kiezen. (= het parlement van de provincie).  Aantal leden van de PS hangt af van het aantal inwoners. In Brabant zijn er dat 55. Taak: het controleren van de Gedeputeerde Sta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95280" y="4869000"/>
            <a:ext cx="84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Gedeputeerde Staten (G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dt samengesteld door PS. Uitvoerende macht van de provincie. Taak vergelijkbaar met de reger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95280" y="5734080"/>
            <a:ext cx="84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Commissaris van de Koningin (Cvd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ordt benoemd door de Koningin die goed luistert naar wat de PS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 iemand wil. De CvdK is de voorzitter van GS en P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76360" y="3645000"/>
            <a:ext cx="3960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derlanders van 18 jaar en ou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484360" y="3068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995640" y="3068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11280" y="321300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iez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321300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iez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79640" y="2708280"/>
            <a:ext cx="2735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nciale St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203640" y="2205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780000" y="2205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234936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lt sa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48000" y="234936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     controle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08000" y="1844640"/>
            <a:ext cx="2953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deputeerde St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003640" y="2924280"/>
            <a:ext cx="1224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00720" y="2565360"/>
            <a:ext cx="259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mt provinciale besluiten en controleert Gedeputeerde Staten  e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iest de Eerste Ka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003640" y="1989000"/>
            <a:ext cx="1224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64360" y="1557360"/>
            <a:ext cx="287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gelijks bestuur provincie. Bereidt besluiten voor en voert ze uit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63640" y="765000"/>
            <a:ext cx="33116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ssaris van de Koningin</a:t>
            </a: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Heet in Limburg “Gouverneur”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186920" y="112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1125360"/>
            <a:ext cx="0" cy="179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87280" y="2924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87280" y="2060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141300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orzitter v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219640" y="981000"/>
            <a:ext cx="100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64360" y="189000"/>
            <a:ext cx="2879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oemt door de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ningin op voordracht va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Min. Van Binnenland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a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867280" y="4149720"/>
            <a:ext cx="2216160" cy="2406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55640" y="4365720"/>
            <a:ext cx="2801880" cy="1869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708360" y="5229360"/>
            <a:ext cx="331164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00720" y="50846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lag v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18900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ncie in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68360" y="69228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ak Provi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1341360"/>
            <a:ext cx="81360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provincie heeft tot taak streekplannen te maken, ze uit te (laten) voeren en te zorgen voor het milie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reekplannen gaan over de inrichting van de provincie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ar komen recreatiegebied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ar industrie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ar beschermde natuurgebied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lke gemeenten mogen veel nieuwbouw woningen neerzetten 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lke bij na nie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nderhoud van het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rovinciale wegen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sluiten van de provincie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ogen nooit in strijd zijn met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tten en besluiten op rijks-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iveau (= landelijk nivea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24360" y="3573360"/>
            <a:ext cx="49528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42920" y="3645000"/>
            <a:ext cx="4394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derlanders van 18 jaar en ouder en niet-Nederlanders van 18 jaar en ouder die langer dan 5 jaar aaneengesloten legaal in ons land verblijv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484360" y="3068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995640" y="3068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11280" y="321300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iez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321300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iez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79640" y="2708280"/>
            <a:ext cx="2735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meentera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700360" y="2205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284720" y="2205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95640" y="2276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lt  sa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08360" y="227664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        controle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08000" y="1557360"/>
            <a:ext cx="2953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llege van Burgemees-ter en Wethou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003640" y="2924280"/>
            <a:ext cx="1224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2565360"/>
            <a:ext cx="284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eemt gemeentelijke beslui-ten en controleert het college van Burgemeester en Wethou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003640" y="1989000"/>
            <a:ext cx="1224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64360" y="1557360"/>
            <a:ext cx="287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gelijks bestuur gemeente. Bereidt besluiten voor en voert ze uit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63640" y="836640"/>
            <a:ext cx="3311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geme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186920" y="112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1125360"/>
            <a:ext cx="0" cy="179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87280" y="2924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87280" y="2060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141300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orzitter v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219640" y="981000"/>
            <a:ext cx="100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64360" y="189000"/>
            <a:ext cx="2879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oemd door de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ningin op voordracht va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Min. Van Binnenland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a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18900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meente in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65248"/>
          <a:stretch/>
        </p:blipFill>
        <p:spPr>
          <a:xfrm>
            <a:off x="1763640" y="5300640"/>
            <a:ext cx="55436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627280" y="549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ak Geme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27280" y="981000"/>
            <a:ext cx="813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gemeente heeft tot taak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Uitvoeren van wetten en maatregelen van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rijksoverheid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gelen van de gemeentelijke financien en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innen van gemeentelijke belasting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aststellen van het bestemmingsplan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= Wat mag waar gebouwd worden)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en voor de openbare orde en veiligheid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schaffen van paspoort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47640" y="4221000"/>
            <a:ext cx="6404040" cy="2159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41333" t="22047" r="32688" b="11803"/>
          <a:stretch/>
        </p:blipFill>
        <p:spPr>
          <a:xfrm>
            <a:off x="468360" y="620640"/>
            <a:ext cx="1584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jan van gils</cp:lastModifiedBy>
  <dcterms:modified xsi:type="dcterms:W3CDTF">2012-12-26T16:19:16Z</dcterms:modified>
  <cp:revision>44</cp:revision>
  <dc:subject/>
  <dc:title>Dia 1</dc:title>
</cp:coreProperties>
</file>