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9BF7-BB31-4473-9955-3EDBDCBA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08E3-92FD-42D7-B956-9DEC117C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3359-1655-40FB-911F-9CA888212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E06E-9F71-46DB-9BDD-F3DE91FC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4CB8-2A6E-4293-9B4E-9B82FD18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E924-F81B-412D-8FC4-681A9B84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7CD9-BE49-4370-B1A5-5569B5CF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FA72-EF54-45F0-BE56-FBFA99FD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4733-4D2A-4892-B69E-9E35CD04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9703-00FD-4533-8BEF-6A58F9F0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6020-3C1F-4DEC-8AC8-7D813350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843D-23C0-44FD-AE56-2EDDB538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092E-A2C6-4C9B-B34E-D04F8E0EC02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twitmunin.com/v/628478/kinderkoor-zingt-aangepast-&apos;kerstliederen&apos;-in-winkelcentrum-voor-opvoedingslijn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826920" y="126828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Criminaliteit, </a:t>
            </a:r>
            <a:br>
              <a:rPr sz="1800"/>
            </a:b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een probleem?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26920" y="198900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826920" y="3068640"/>
            <a:ext cx="7058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403280" y="342900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708360" y="4869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4" descr="bully"/>
          <p:cNvPicPr/>
          <p:nvPr/>
        </p:nvPicPr>
        <p:blipFill>
          <a:blip r:embed="rId2"/>
          <a:srcRect l="3685" t="0" r="0" b="0"/>
          <a:stretch/>
        </p:blipFill>
        <p:spPr>
          <a:xfrm>
            <a:off x="900000" y="4221000"/>
            <a:ext cx="309564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9640" y="549360"/>
            <a:ext cx="59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Criminaliteit, een proble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11280" y="1197000"/>
            <a:ext cx="806436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treding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ximaal 1 jaar hechtenis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estal geen strafblad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 hoge boete of hechtenis blijft de overtreding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ximaal 10 jaar geregistre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sdrijf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ximaal levenslang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strafblad gedurende 20 jaar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ook strafbaar zijn: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poging om een misdrijf te pleg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medeplichtig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39640" y="4221000"/>
            <a:ext cx="8064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233028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oorten criminalit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233028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ware criminaliteit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roof)moord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verkrachting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georganiseerde misdaad (maffiapraktijken)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233028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el voorkomend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winkeldiefst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riminalitei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vandalism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539640" y="549360"/>
            <a:ext cx="8064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Criminaliteit is ‘n maatschappelijk probleem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el mensen hebben ermee te maken (</a:t>
            </a: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sociaal probleem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Er bestaan verschillende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mening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over en er spelen diverse </a:t>
            </a: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belang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en rol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overheid bemoeit er zich mee (</a:t>
            </a: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politiek probleem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079640" y="21337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Sociaal probleem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Aantasting van waarden en norm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Wanneer overheid niet ingrijpt gaan mensen eigen rechter spel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Er is materiële en emotionele sch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079640" y="335772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Meningen en belang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Zwaardere straffen willen of juist niet 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coholgebruik pas bij 18 jaar of juist n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079640" y="429264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1973160"/>
                <a:tab algn="l" pos="3857760"/>
                <a:tab algn="l" pos="412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Politiek probleem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inks (b.v. ‘Groen Links’ en ‘SP’)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lechte leefomstandigheden leid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ot meer criminalitei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beleid vooral richten op voorkom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an criminaliteit (preventie)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chts (b.v. ‘PVV en VVD’)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dader verantwoordelijk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leid gericht op (streng) straffen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= repress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criminaliteit"/>
          <p:cNvPicPr/>
          <p:nvPr/>
        </p:nvPicPr>
        <p:blipFill>
          <a:blip r:embed="rId1"/>
          <a:srcRect l="4283" t="3907" r="5703" b="5552"/>
          <a:stretch/>
        </p:blipFill>
        <p:spPr>
          <a:xfrm>
            <a:off x="3851280" y="907920"/>
            <a:ext cx="4896000" cy="3576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0" name="Rechthoek 2"/>
          <p:cNvSpPr/>
          <p:nvPr/>
        </p:nvSpPr>
        <p:spPr>
          <a:xfrm>
            <a:off x="395280" y="530064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ulp nodig bij de opvoe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lik op de filmprojector en kijk naar het  filmpj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468360" y="47628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Jongeren en ma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468360" y="907920"/>
            <a:ext cx="3095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Jongeren tussen 16 en 23 jaar plegen veel criminalite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riminaliteit gebeurt vooral door jongens en man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468360" y="2349360"/>
            <a:ext cx="309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orzaken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Jongens mogen vaak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er dan meisjes va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un ouders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angeboren verschillen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lichaamskrach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agressieneiging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chtsdenk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6" descr="dyn007_original_230_230_gif_2616433_045200ad0f6ddc4359e05e37fcbfbe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84720" y="4869000"/>
            <a:ext cx="15116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Ole de Vos</cp:lastModifiedBy>
  <dcterms:modified xsi:type="dcterms:W3CDTF">2014-09-08T09:06:12Z</dcterms:modified>
  <cp:revision>42</cp:revision>
  <dc:subject/>
  <dc:title>Dia 1</dc:title>
</cp:coreProperties>
</file>