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23ED-DF80-4611-93FD-0F699003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C095-84B7-45AA-8893-0BB17905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B99-04AB-48B2-BFF9-242B952D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9EB-7396-41A5-BFC0-4E309ADA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0993-0CF3-4A32-B6F7-36FEC25E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6EAA-30C5-4E65-9CB1-2233B696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A012-60A1-477D-B49D-CFC66882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3CB-65A3-4C8B-B972-2D033E45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047-0CB2-4ED0-94A9-DE29FEF1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220-D4EF-4F27-897F-CAC1E72E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91EF-CB55-4C8B-9E12-33C67399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025-5FB5-4846-B615-ACB35418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7760-BB15-42FA-A9A5-82AEACB9F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Politieke besluitvorm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2772000" cy="2095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t hoofdstuk staat 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Hoe verloopt de politieke besluitvorming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 als deelvra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.   “Hoe leidt een maatschappelijke probleem in de samenleving tot politieke besluiten?”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.   “Welke invloed hebben ambtenaren en politieke partijen op de besluitvorming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litieke besluitv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068640"/>
            <a:ext cx="8207280" cy="29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sluitvorming in 4 fa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e 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er: uiten van wensen waardoor het als een politiek probleem wordt erken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beeld: Het willen verhogen van de maximumsnelheid naar 130 km/u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 zoveel mogelijk snelweg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stander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automobilis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drijfsle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genstander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ieubeweg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sen die in de buur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 de snelweg w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76720" y="4292640"/>
            <a:ext cx="574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4437000"/>
            <a:ext cx="33130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ze groepen proberen hun idee-ën en eisen onder de aandacht van politici te brengen o.a. via de massamed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ierdoor kan een vraagstuk op de politieke agenda kom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6265" t="0" r="6265" b="0"/>
          <a:stretch/>
        </p:blipFill>
        <p:spPr>
          <a:xfrm>
            <a:off x="5796000" y="549360"/>
            <a:ext cx="2016000" cy="141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333360"/>
            <a:ext cx="82076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e 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mzetting: het afwegen van de politieke problemen en het bedenken van een oploss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j voorbeeld: Wat krijgt de prioriteit? De economie (130 km/uur) of het milieu (geen 130 km/uur). Op alle snelwegen of op een gedeelte 130 km/uur of helemaal nie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wordt een oplossing bedacht / keuze gemaak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t heet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beleidsvoorbereid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2492280"/>
            <a:ext cx="820764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Fase 3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Omzetting: de besluitvormingsf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wordt een besluit genomen door het kabinet en daarna beslist de volksvertegenwoor-dig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(Op gemeentelijk niveau het College van Burgemeester en Wethouders en de gemeenteraad en op provinciaal niveau Gedeputeerde Staten en de Provinciale Staten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4437000"/>
            <a:ext cx="5689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Fase 4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Uitvoer: besluiten uitvo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besluit wordt uitgevoerd. 130 km/uur op diverse snelwe-gen is een feit. Mensen uiten hun ervaringen met het besluit en delen die weer met de publieke opinie en politici. Dit heet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terugkoppeling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n kan weer leiden tot fase 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6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611280" y="443700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3440" y="47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mbten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907920"/>
            <a:ext cx="777564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, gedeputeerden en wethouders zijn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politiek </a:t>
            </a:r>
            <a:br>
              <a:rPr sz="1600"/>
            </a:b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verantwoordelij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ar ze kunnen niet zonder 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kundigheid en ervaring van ambtenaren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, gedeputeerden en wethouders zijn vaa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ar enkele jaren in functie.  Ambtenaren blijv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ak jaren op hun post. Ze zijn een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vaste waar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t bovenstaande volgt dat hoge ambtenaren vee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politieke invlo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b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24480" t="17050" r="12240" b="9018"/>
          <a:stretch/>
        </p:blipFill>
        <p:spPr>
          <a:xfrm>
            <a:off x="6156360" y="907920"/>
            <a:ext cx="2519280" cy="211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612000" y="328464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litieke parti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3789360"/>
            <a:ext cx="799164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ek partijen spelen een grote rol tijdens de besluitvorming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Ze brengen hun standpunten naar vor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Ze beïnvloeden mensen in politieke functie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Ze leveren mensen voor politieke functie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Ze vertegenwoordigen regelmatig belangen van maatschappelijke organisa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loed van een regeringspartij is groter dan van een oppositieparti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en één partij heeft in Nederland de meerderheid. Daarom moeten partij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derhandelen over samenwerking en dus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compromiss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ui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2-02-22T19:15:45Z</dcterms:modified>
  <cp:revision>54</cp:revision>
  <dc:subject/>
  <dc:title>Dia 1</dc:title>
</cp:coreProperties>
</file>