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FA0-8185-482D-8481-9CBFA61F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97F-3583-458C-ABA4-94FE4918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D6C-908A-4096-B948-0A2B70A3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61A-0FD7-4E1B-AF5B-F707D08D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975-3DD4-4FAA-AE2C-3BF1436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272-1C8D-4B44-BA88-F0FD4F20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0CC-8860-4A70-AF70-BF7135B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BA9-362C-4AB7-B4F2-75B36302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D70-FC8C-4D50-A58F-8F7B1045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BEA-DB15-43A9-88FB-CEB9057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557-1CD4-40A0-9372-C98562C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532-C1DA-47E8-9039-75ABE05A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DB97-FE0A-4141-A86B-8DCADF82A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Knelpunten in de polit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at zijn de knelpunten in de politiek en wat kunnen we er aan do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‘afstand’  tussen de burgers en de politiek en politici is groo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rzaak zijn een aantal knelpunt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nelpunten in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68360" y="285264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cht bij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parlement is door de burgers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zou dus vanuit democratisch oogpu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eeste macht moeten hebben. O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ier klopt het. In de praktijk zijn het 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de min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39640" y="46530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eerakkoord is bepale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geerakkoord tussen de regeren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jen is in de praktijk bepalend. Discussi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onderwerpen die in dit akkoord sta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eft vaak weinig zin daar het besluit eigen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jk al vast sta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99376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395280" y="476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gen de wil van het vol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parlement en/of de regering nemen beslissingen waar de meerderheid van he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k het waarschijnlijk niet mee eens is. (b.v. deelname van Nederlandse militair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de oorlog in Afghanista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1628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men moeilijk oplosbaa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t de regering ook doet niet alles is makkelijk oplosbaar. Denk aan milieuprobl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tiek, het fileprobleem en de zeer hoge inkomens van sommige bestuurders/di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teu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9528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einig vertrouwen in de politie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ingewikkelde regelgeving en bureaucratie (=  zaken moet met veel formu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eren, via veel instanties en dus lange wachttijden geregeld worden) is er weini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trouwen in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36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0" y="393372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a bepaa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ds meer zaken worden op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veau beslist. Het Nederlandse parl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 regering moeten zich hier aan houd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burger krijgt zo het gevoel dat de politie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m/haar niet serieus neem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et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een democratie is belangrijk dat mensen betrokken zijn bij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verbeter je het democratisch proce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413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dum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burgers vragen over hun mening over een bepaald onderwer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0606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or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zers hebben directe invloed op het beslui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heeft bij aanvaarding steun van veel mensen (= draagva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68360" y="28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uitvorming duurt lang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i staan (tijdelijk) buiten spel. Aantasting van hun positie en aanzi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werpen waarover moet worden besloten zijn vaak moeilijk 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ewikke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leidt tot te simpele keu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095640" cy="20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539640" y="4508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Nederland werd op 1 juni 2005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adgevend referendum gehouden ov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 vraag of er een Europese grondwet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est komen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61,5% van de kiezers bleek tegen t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bben gestem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68360" y="47628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mpl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wettelijk verplichten bij verkiezingen hun stem uit te breng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8360" y="3860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guler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laten beslissen door de rijksoverheid en meer door de lagere overhed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gemeente en provinc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kan leiden tot meer maatwerk (voordeel) en verschillende regelgeving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 (nadeel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68360" y="5300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r bevoegdheden voor ‘t par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vooraf vastleggen in het regeerakkoord en parlement meer l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iss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merleden laten ondersteunen door ambtenaren en deskundi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22:00Z</dcterms:modified>
  <cp:revision>52</cp:revision>
  <dc:subject/>
  <dc:title>Dia 1</dc:title>
</cp:coreProperties>
</file>