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912-8ABB-47A2-9CBE-B163FA45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369-AA43-4C63-95A2-2CC319BC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6C2-282F-4810-AE7A-DB080984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41D-CC2B-4558-8AE6-89FBC19E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263-6F6E-471E-A066-60910FB2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D08-EF7A-48AD-8C26-C1713E22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543-E490-4034-85E5-392A14A9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3E5-11CE-43A8-9921-2D6663BB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8AA-5CFA-464D-AE2A-99BFD5D1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970-2410-4F82-B7AD-A6B37388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D68-8E6B-4B74-9D6A-FF9C812A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277-183F-4745-A114-53D95BB2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B804-64BC-4EA1-9671-3AD163D85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reventi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566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324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052640"/>
            <a:ext cx="85327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elke maatregelen kunnen we nemen om criminaliteit te voorkom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ieve maatregelen kunnen worden genomen do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ndelijke over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okale over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v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141720"/>
            <a:ext cx="7777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andelijk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hiervoor hoofdstuk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eerpunten in het beleid zijn naast hetge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hoofdstuk 9 staat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lichting inbraakpreventie vooraf aan vakantieperiod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ntispijbelbele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157720"/>
            <a:ext cx="7777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okal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g naast de mogelijkheden die de landelijke wetgeving geeft onder bepaalde voorwaarden ook b.v preventief fouilleren, een blowverbod instellen voor een bepaald gebied ter bestrijding van overlast en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02240" y="1916280"/>
            <a:ext cx="22910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777744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Welke preventie maatregelen zijn 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ociale control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e controle leidt tot minder criminalitei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betering woonomgev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ttige woonomgeving leidt tot minder criminalitei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ALT-bureau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T (= Het Alternatief) richt zich op minderjarige daders bij lichte overtredingen of lichte misdrijven.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(taak)straf dient altijd in relatie te staan met de overtreding of het misdrijf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 krijgt notitie in strafbl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4149720"/>
            <a:ext cx="3960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drijven en burg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ven en burgers kunnen zel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preventieve maatregelen nem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 vandalisme en inbraak te voorkom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3568" r="2808" b="5045"/>
          <a:stretch/>
        </p:blipFill>
        <p:spPr>
          <a:xfrm>
            <a:off x="5867280" y="692280"/>
            <a:ext cx="2665440" cy="1539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2920" b="0"/>
          <a:stretch/>
        </p:blipFill>
        <p:spPr>
          <a:xfrm>
            <a:off x="1042920" y="4149720"/>
            <a:ext cx="2376720" cy="198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Naam</cp:lastModifiedBy>
  <dcterms:modified xsi:type="dcterms:W3CDTF">2012-03-13T08:50:25Z</dcterms:modified>
  <cp:revision>60</cp:revision>
  <dc:subject/>
  <dc:title>Dia 1</dc:title>
</cp:coreProperties>
</file>