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143-3CEC-4DCA-ACC0-9D62A26B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CE7-6D0D-439A-B291-49394DC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EB1-1147-4511-903E-39F89FC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E6F-B6C0-4F66-85E5-4112A313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D78-7853-41A2-9345-B07ADA0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4A1-41F2-444C-BE7C-48EA693E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3B2-40FA-47EE-8534-84AC441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B9F-E9B3-42C0-B35B-3D4C2FE6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D72-943D-462D-AC63-441F138D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A6F-7471-4BC0-99F3-8B39483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3BF-1A4D-4B73-AA91-A2621FC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E5F-BF8F-4C87-BEC9-5C5490B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A82-D5F8-4E59-B282-9C7258BDE9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; rechts-staat en democ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3876840"/>
            <a:ext cx="20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staat waarin de overheid is ge-bonden aan wettelijke regels die door het parlement zijn goedge-keu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atvorm waarbij alle burgers in-vloed hebben op de besluitvor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3068640"/>
            <a:ext cx="849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gelijk voor de w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inwoners hebben op d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lfde manier invloed op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ag hoe het land moet wo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 geregeerd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onafhankelijke rechterlijke mach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grondwet die aangeeft hoe burgers en overheid met elkaar moeten omg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; rechtsstaat en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895640" cy="310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68360" y="515772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en plich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rechten. Het recht geeft aan wat je mag doen. (b.v. vrijheid v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ingsuiting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plichten. (b.v. belasting betal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8000" y="549360"/>
            <a:ext cx="3960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In)directe democ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tekent dat via het uitbrengen van stemmen door alle burgers van een land, besluiten worden genomen (= referendum) In de praktijk las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om hebben wij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Wij kiezen mensen in b.v. de gemeenteraad en de Tweede Kamer die namens ons beslissingen nemen over allerlei z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95280" y="364500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parlementaire 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at namens het volk beslis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lement ontstaat door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rije en geheime verkiezin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alleen jij beslist waar je 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emt en niemand kan weten waar jij op stemt als jij dat niet geheim wil houden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afhankelijke rechterlijke ma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we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ie aangeeft hoe burgers en overheid met elkaar moeten omg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wat de politici wel en niet mog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gering mo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antwoording afleg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aan het parlemen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beslist m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meerderheid van stemm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hebb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recht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Trias-politica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s van toepass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549360"/>
            <a:ext cx="849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van 18 jaar en ouder hebben passi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ct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628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gekozen te mogen 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421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te mogen kie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3477" b="0"/>
          <a:stretch/>
        </p:blipFill>
        <p:spPr>
          <a:xfrm>
            <a:off x="5003640" y="692280"/>
            <a:ext cx="3672000" cy="428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68360" y="551664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rias-politica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powerpoint bij hoofdstuk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04Z</dcterms:modified>
  <cp:revision>37</cp:revision>
  <dc:subject/>
  <dc:title>Dia 1</dc:title>
</cp:coreProperties>
</file>