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DCB-96DB-4B32-B311-9A203109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A13-FB1F-4824-9C7A-805EC88F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FA5-A8CC-410B-8CC0-DEFCCD65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71B-99A1-4AF8-87D6-6B99B913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9AB-5ECF-4B64-A805-6A140EBD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770-44C6-4F84-86A8-FF589D6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EAC-A633-4B8E-A5B5-5B46ED1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BB4-952F-4256-923F-A37CFE6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147-E706-437E-BC48-9891FA8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FA2-4F80-4131-ADC1-BE2E0B0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34C-8203-4D90-AA31-83DA60B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B94-B4B0-422D-AFE5-F174C47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970D-2DBB-4A1B-A5CC-A52FE48EB6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gemeente en de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67200" cy="217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Rij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 (= het Rijk) laat uitvoering van een deel van het beleid over aan lagere overheden (= gemeenten en provinc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vinc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vooral bezig met ruimtelijke orde-ning en het mili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eente en 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21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al bestu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29240" cy="260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95280" y="3500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nciale Staten (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de vier jaren gaan de burgers v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ar en ouder naar de stembus om de Provinciale Staten (PS) te kiezen. (= het parlement van de provincie).  Aantal leden van de PS hangt af van het aantal inwoners. In Brabant zijn er dat 55. Taak: het controleren van de Gedeputeerde St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5280" y="4869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deputeerde Staten (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t samengesteld door PS. Uitvoerende macht van de provincie. Taak vergelijkbaar met de reg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573408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mmissaris van de Koningin (Cv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rdt benoemd door de Koningin die goed luistert naar wat de P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iemand wil. De CvdK is de voorzitter van GS en 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364500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3493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349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844640"/>
            <a:ext cx="295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eputeerd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256536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mt provinciale besluiten en controleert Gedeputeerde Staten 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st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provinci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765000"/>
            <a:ext cx="3311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s van de Koningin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et in Limburg “Gouverneur”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t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1616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2801880" cy="186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5229360"/>
            <a:ext cx="33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08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nci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6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136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provincie heeft tot taak streekplannen te maken, ze uit te (laten) voeren en te zorgen voor het mil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eekplannen gaan over de inrichting van de provinc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komen recreatie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industr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beschermde natuur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gemeenten mogen veel nieuwbouw woningen neerzetten 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ij na ni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oud van h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vinciale wege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uiten van de provinci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n nooit in strijd zijn m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tten en besluiten op rijks-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(= landelijk niv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952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3645000"/>
            <a:ext cx="439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 en niet-Nederlanders van 18 jaar en ouder die langer dan 5 jaar aaneengesloten legaal in ons land verbl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276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557360"/>
            <a:ext cx="29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ge van Burgemees-ter en Wetho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56536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mt gemeentelijke beslui-ten en controleert het college van Burgemeester en Wethou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gemeent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836640"/>
            <a:ext cx="33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geme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d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eent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5248"/>
          <a:stretch/>
        </p:blipFill>
        <p:spPr>
          <a:xfrm>
            <a:off x="1763640" y="5300640"/>
            <a:ext cx="5543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54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Gem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981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meente heeft tot taak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van wetten en maatregelen va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ijksover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en van de gemeentelijke financien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nnen van gemeentelijke belasting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stellen van het bestemmingspla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Wat mag waar gebouwd word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en voor de openbare orde en veilig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affen van paspoo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40404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1333" t="22047" r="32688" b="11803"/>
          <a:stretch/>
        </p:blipFill>
        <p:spPr>
          <a:xfrm>
            <a:off x="468360" y="620640"/>
            <a:ext cx="158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19:16Z</dcterms:modified>
  <cp:revision>44</cp:revision>
  <dc:subject/>
  <dc:title>Dia 1</dc:title>
</cp:coreProperties>
</file>