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8FC-112C-4BAD-B54C-DC86905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483-6AB7-4688-8B69-D29C752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621-43E3-4BF6-B90D-FFECB621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460-843D-4400-8921-C975E40C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D7E-BF24-492C-82E6-91D3B34A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832-9EA4-4FB7-9100-509B0AC5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37E-A219-45FF-9FDE-BD7BDC81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14B-9B71-4044-9232-996B9244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F66-9823-4794-9950-5040A029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759-4149-4AEF-8842-A5903F30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2E8-C99A-404B-B9F6-D58964A8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5D1-5029-4254-AD46-B44904A8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437B-EC9D-4FF2-9AC2-F9930C04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ns beeld va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00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94172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167280" cy="231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s beeld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betrouwbaar is ons beeld van criminalitei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egenomen gevoelens van onveiligheid omdat media veel aandacht besteden aan crimin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t: Inbraken, diefstal en fraude komen meer voor dan geweldsmisdr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924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te invloed van d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505240" cy="32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11280" y="32846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ia kunnen beeldvorming lat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tstaan. Een aantal Marokkanen zij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eel dus alle Marokkanen zijn cri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neel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voorbeeld van stereo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65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ggen de media vaak dat we streng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eten straffen dan neemt een gro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 van de bevolking dit over. (= pu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ieke opi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eken brengen criminaliteit in 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lachtoff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slachtoff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uit blijkt dat er meer delicten zijn dan wat blijkt uit politiestatistie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d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dad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ouwbaarheid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98100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al Bureau van de Statistiek (CBS) maakt gebruik v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Politiestatistiek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geven geen betrouwbaar beeld van criminaliteit omdat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iftebereidheid van slachtoffers en instanties niet altijd even groo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alle delicten worden ontde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sporingsbeleid van politie heeft invloed op ontdekte misdrijv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hoeveel tijd wordt er aan opsporing bestee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icht de politie zich al of niet op bepaalde (bevolkings)groep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istratie is mensenwerk; dus fouten worden gemaa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moeten gekoppeld worden aan ontwikkeling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77336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aantal vermogensdelicten is sinds 1984 gedaa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20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eten onderscheid maken tuss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(= absolute cijfer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per honderd inwoners (= percen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766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eld is de laatste 20 jaar in Nederland toegeno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61912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7:00Z</dcterms:modified>
  <cp:revision>39</cp:revision>
  <dc:subject/>
  <dc:title>Dia 1</dc:title>
</cp:coreProperties>
</file>