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493-79C5-417B-A4E5-89D99124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00A-2462-4CA5-9BE8-55A05628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A32-6AB3-479D-95BA-2C3CE20C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72F-6905-4F1F-B7DD-45815D6F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C1D-1FAE-4F2C-AB27-4AD20B40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9E2-4482-414E-9E48-991D0913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3CF-D621-458C-8D2A-C6C0D5CE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2F5-EA74-4193-ACFA-111E24D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E0D-DEB1-4006-A909-729D45C1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9FD-05CA-4E04-90A5-97E3BF9C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E11-CDF1-48F3-B50E-5563A358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9F7-F92A-4A98-AB77-6193EF0D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5847-C5AA-4805-852E-4083D590F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reventi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324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052640"/>
            <a:ext cx="8532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elke maatregelen kunnen we nemen om criminaliteit te voorkom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eve maatregelen kunnen worden genomen do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ndelijke over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okale over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v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141720"/>
            <a:ext cx="7777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andelijk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hiervoor hoofdstuk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eerpunten in het beleid zijn naast hetge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hoofdstuk 9 staat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lichting inbraakpreventie vooraf aan vakantieperiod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ntispijbelbele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157720"/>
            <a:ext cx="7777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okal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g naast de mogelijkheden die de landelijke wetgeving geeft onder bepaalde voorwaarden ook b.v preventief fouilleren, een blowverbod instellen voor een bepaald gebied ter bestrijding van overlast en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02240" y="1916280"/>
            <a:ext cx="22910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777744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Welke preventie maatregelen zijn 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ociale control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e controle leidt tot minder criminalitei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betering woonomgev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ttige woonomgeving leidt tot minder criminalitei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ALT-bureau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T (= Het Alternatief) richt zich op minderjarige daders bij lichte overtredingen of lichte misdrijven.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(taak)straf dient altijd in relatie te staan met de overtreding of het misdrijf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 krijgt notitie in strafbl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4149720"/>
            <a:ext cx="3960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drijven en burg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ven en burgers kunnen zel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preventieve maatregelen nem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 vandalisme en inbraak te voorkom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3568" r="2808" b="5045"/>
          <a:stretch/>
        </p:blipFill>
        <p:spPr>
          <a:xfrm>
            <a:off x="5867280" y="692280"/>
            <a:ext cx="2665440" cy="153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2920" b="0"/>
          <a:stretch/>
        </p:blipFill>
        <p:spPr>
          <a:xfrm>
            <a:off x="1042920" y="4149720"/>
            <a:ext cx="2376720" cy="198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Naam</cp:lastModifiedBy>
  <dcterms:modified xsi:type="dcterms:W3CDTF">2012-03-13T08:50:25Z</dcterms:modified>
  <cp:revision>60</cp:revision>
  <dc:subject/>
  <dc:title>Dia 1</dc:title>
</cp:coreProperties>
</file>