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7D8E-97F5-40E7-B0C4-84A806A1FB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C2BB-C45D-4168-9515-CB3364C674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ECA-CAD0-483A-B1C1-AE9EFB3B5B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7F37-948A-490B-9356-4F8D1BAD56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CC2-44E5-40E2-907A-0EDF7A7E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D9B-5128-4822-85EB-8E496D67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A02-B8E6-4B49-9533-FF632AA7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A99-6BE4-49D8-945B-3A3D09B5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CA2-E886-4033-B151-F964906C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D94-1610-48D6-9F45-34B21DBE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8F9-52D6-499B-B4D4-9810EC84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19D-CF8D-4A32-B08C-6D62D54B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87F-ACC6-4EFA-8941-A66109C5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097-005F-4F41-ACFD-F9FFD307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1C8-5493-422C-9BA9-B27137A6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DF5-605C-4D84-95B2-CA3216C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FAC9-DC9D-4D4C-A3A7-23EB8CDB25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Regels e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recht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245040" cy="192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 en 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le vormen van gedrag die volgens de wet strafbaar zij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2060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en rech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s en rechten zijn omschreven in wet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rondwet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grondwet staan de basisregels van onze democratie beschrev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e grondrechten als burgers en de manier waarop onze staat is ge-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ee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dere wett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ere wetten mogen nooit in strijd zijn met de grond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-  Wetboek van Strafre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Opium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genverkeers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 economische delic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55640" y="11253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anderen door de tijd he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omoseksualiteit strafbaar, nu niet mee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et inbreken in iemand anders zijn computer 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ar. Er bestonden immers geen computers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ntificatieplicht is er pas sinds 200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4360" y="501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schillen per plaat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Nederland is het  homohuwelijk toegestaan maar in veel landen niet.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uurwapens zijn voor bijna iedereen in Nederland verboden in de V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het een grondrecht om een wapen te mogen bezitte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verboden-toegang_groot"/>
          <p:cNvPicPr/>
          <p:nvPr/>
        </p:nvPicPr>
        <p:blipFill>
          <a:blip r:embed="rId1"/>
          <a:stretch/>
        </p:blipFill>
        <p:spPr>
          <a:xfrm>
            <a:off x="2050920" y="2781360"/>
            <a:ext cx="4392720" cy="183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e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197000"/>
            <a:ext cx="7777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at waarin de burgers worden be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rmd tegen machtsmisbruik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llekeur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ederland is een rechtsstaat wa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n en plichten van de burger liggen vast in de (grond)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verheid zorgt voor rechtshandhaving en rechtsbescherm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een democratisch gekozen parleme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scheiding va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gev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uitvoer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echterlijke macht</a:t>
            </a:r>
            <a:br>
              <a:rPr sz="18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merking: In Nederland is de scheiding tussen wetgevende en uitvoerende macht niet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olledig doorgevoerd. Dit beperkt onze democratische rechten echter niet. Zie ook de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werPoint  ‘Staat en regering’.</a:t>
            </a:r>
            <a:br>
              <a:rPr sz="1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spraak opereert onafhankelijk van de over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rechtsstaat"/>
          <p:cNvPicPr/>
          <p:nvPr/>
        </p:nvPicPr>
        <p:blipFill>
          <a:blip r:embed="rId1"/>
          <a:srcRect l="14789" t="27624" r="12900" b="18081"/>
          <a:stretch/>
        </p:blipFill>
        <p:spPr>
          <a:xfrm>
            <a:off x="5003640" y="765000"/>
            <a:ext cx="3168720" cy="155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8:48:02Z</dcterms:modified>
  <cp:revision>45</cp:revision>
  <dc:subject/>
  <dc:title>Dia 1</dc:title>
</cp:coreProperties>
</file>