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FB66-AACA-4FD6-B355-2A5D94973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FBAD-12D5-41F3-B928-8CD28945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F30A-28C7-4631-AC9A-A54AEF7F7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DCA8-C87D-42B2-BE0C-3303A85DE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E12A-6774-4ED9-B575-DC5F14600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BA4F-888C-4A4D-9DE9-C223F5B51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97BB-56B9-48E5-A828-07D5AF564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870E-B12C-4B29-B2E7-5CAA2A36A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B2AB-82B5-48CB-B177-B757AD596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77D9-DD19-4D62-8834-377854A2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B7AB-3BD6-4A76-8D1C-579B0AB1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E466-3871-4C7A-B448-5FD1F686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B3969-F9AC-4536-B463-A8716960D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26920" y="1268280"/>
            <a:ext cx="5257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de 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Knelpunten in de politi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1916280"/>
            <a:ext cx="7058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het centraal schriftelijk met succes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2852640"/>
            <a:ext cx="70581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a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geet niet ook he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58920" y="3357720"/>
            <a:ext cx="7416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der deze basiskennis is het maken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van inzichtvragen – die veel op het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examen voorkomen – onbegonn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08360" y="4653000"/>
            <a:ext cx="4249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64360" y="62373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71640" y="3933720"/>
            <a:ext cx="244944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95280" y="836640"/>
            <a:ext cx="82090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ntrale vraa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dit hoofdstuk staat de vraag centraa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Wat zijn de knelpunten in de politiek en wat kunnen we er aan doen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395280" y="1916280"/>
            <a:ext cx="8137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6036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nelpunt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 ‘afstand’  tussen de burgers en de politiek en politici is groot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orzaak zijn een aantal knelpunte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395280" y="33336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nelpunten in de politi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468360" y="2852640"/>
            <a:ext cx="8137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60360"/>
                <a:tab algn="l" pos="134784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Macht bij mini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134784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t parlement is door de burgers gekoze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 zou dus vanuit democratisch oogpu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 meeste macht moeten hebben. O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pier klopt het. In de praktijk zijn het t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ak de minister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539640" y="4653000"/>
            <a:ext cx="8137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60360"/>
                <a:tab algn="l" pos="1347840"/>
                <a:tab algn="l" pos="3497400"/>
                <a:tab algn="l" pos="385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Regeerakkoord is bepalen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t regeerakkoord tussen de regerend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jen is in de praktijk bepalend. Discussi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er onderwerpen die in dit akkoord staa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eft vaak weinig zin daar het besluit eigen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jk al vast staa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4360" y="3068640"/>
            <a:ext cx="2993760" cy="3097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0"/>
          <p:cNvSpPr/>
          <p:nvPr/>
        </p:nvSpPr>
        <p:spPr>
          <a:xfrm>
            <a:off x="395280" y="476280"/>
            <a:ext cx="7993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"/>
              <a:tabLst>
                <a:tab algn="l" pos="36036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Tegen de wil van het volk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et parlement en/of de regering nemen beslissingen waar de meerderheid van het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lk het waarschijnlijk niet mee eens is. (b.v. deelname van Nederlandse militair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an de oorlog in Afghanistan)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"/>
              <a:tabLst>
                <a:tab algn="l" pos="36036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395280" y="1628640"/>
            <a:ext cx="7993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"/>
              <a:tabLst>
                <a:tab algn="l" pos="36036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Problemen moeilijk oplosbaar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at de regering ook doet niet alles is makkelijk oplosbaar. Denk aan milieuproble-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atiek, het fileprobleem en de zeer hoge inkomens van sommige bestuurders/di-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recteur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395280" y="2708280"/>
            <a:ext cx="7993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"/>
              <a:tabLst>
                <a:tab algn="l" pos="36036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Weinig vertrouwen in de politiek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oor ingewikkelde regelgeving en bureaucratie (=  zaken moet met veel formu-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lieren, via veel instanties en dus lange wachttijden geregeld worden) is er weinig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ertrouwen in de politiek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4360" y="4005360"/>
            <a:ext cx="2519280" cy="2361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2" name="Text Box 10"/>
          <p:cNvSpPr/>
          <p:nvPr/>
        </p:nvSpPr>
        <p:spPr>
          <a:xfrm>
            <a:off x="0" y="3933720"/>
            <a:ext cx="8137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60360"/>
                <a:tab algn="l" pos="1347840"/>
                <a:tab algn="l" pos="3497400"/>
                <a:tab algn="l" pos="385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uropa bepaal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eds meer zaken worden op Europe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veau beslist. Het Nederlandse parlemen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 de regering moeten zich hier aan houden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 burger krijgt zo het gevoel dat de politiek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m/haar niet serieus neem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468360" y="476280"/>
            <a:ext cx="8137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60360"/>
                <a:tab algn="l" pos="1347840"/>
                <a:tab algn="l" pos="1792440"/>
                <a:tab algn="l" pos="457200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rbeteri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1347840"/>
                <a:tab algn="l" pos="1792440"/>
                <a:tab algn="l" pos="457200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or een democratie is belangrijk dat mensen betrokken zijn bij de politiek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1347840"/>
                <a:tab algn="l" pos="1792440"/>
                <a:tab algn="l" pos="457200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e verbeter je het democratisch proces?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468360" y="1413000"/>
            <a:ext cx="799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"/>
              <a:tabLst>
                <a:tab algn="l" pos="36036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ferendum</a:t>
            </a:r>
            <a:br>
              <a:rPr sz="1600"/>
            </a:b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= burgers vragen over hun mening over een bepaald onderwerp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468360" y="2060640"/>
            <a:ext cx="799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60360"/>
                <a:tab algn="l" pos="71424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Voordelen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	</a:t>
            </a:r>
            <a:br>
              <a:rPr sz="1600"/>
            </a:b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iezers hebben directe invloed op het besluit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 heeft bij aanvaarding steun van veel mensen (= draagval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468360" y="2852640"/>
            <a:ext cx="7993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60360"/>
                <a:tab algn="l" pos="71424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adelen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	</a:t>
            </a:r>
            <a:br>
              <a:rPr sz="1600"/>
            </a:b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sluitvorming duurt langer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litici staan (tijdelijk) buiten spel. Aantasting van hun positie en aanzie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derwerpen waarover moet worden besloten zijn vaak moeilijk e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gewikkeld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t leidt tot te simpele keuz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003640" y="4076640"/>
            <a:ext cx="3095640" cy="2068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71" name="Text Box 10"/>
          <p:cNvSpPr/>
          <p:nvPr/>
        </p:nvSpPr>
        <p:spPr>
          <a:xfrm>
            <a:off x="539640" y="4508640"/>
            <a:ext cx="7993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60360"/>
                <a:tab algn="l" pos="71424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 Nederland werd op 1 juni 2005 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71424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aadgevend referendum gehouden over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e vraag of er een Europese grondwet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oest komen.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61,5% van de kiezers bleek tegen te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ebben gestem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468360" y="476280"/>
            <a:ext cx="813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0360"/>
                <a:tab algn="l" pos="1347840"/>
                <a:tab algn="l" pos="1792440"/>
                <a:tab algn="l" pos="457200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mpli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1347840"/>
                <a:tab algn="l" pos="1792440"/>
                <a:tab algn="l" pos="457200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nsen wettelijk verplichten bij verkiezingen hun stem uit te brengen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468360" y="1052640"/>
            <a:ext cx="7993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"/>
              <a:tabLst>
                <a:tab algn="l" pos="36036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Regionale kandidaatstelling verplichten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	</a:t>
            </a:r>
            <a:br>
              <a:rPr sz="1600"/>
            </a:b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nneer een Tweede Kamerlid uit de eigen omgeving komt is heeft hij meer kan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 mensen hem/haar kennen en dit kan de betrokkenheid van de burger bij d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litiek vergroten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o’n Kamerlid die in een landelijk parlement wordt gekozen voelt zich verplicht om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or de belangen van zijn regio op te komen. (zowel voordeel als nade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468360" y="2708280"/>
            <a:ext cx="7993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424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Door het volk gekozen minister-president en burgemeester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	</a:t>
            </a:r>
            <a:br>
              <a:rPr sz="1600"/>
            </a:b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kozen bestuurders staan dichter bij het vol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t Nederlandse politieke systeem is moeilijk te combineren met een gekoze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ster-presid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468360" y="3860640"/>
            <a:ext cx="7993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424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regulere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der laten beslissen door de rijksoverheid en meer door de lagere overheden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= gemeente en provincie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t kan leiden tot meer maatwerk (voordeel) en verschillende regelgeving pe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meente (nadeel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468360" y="5300640"/>
            <a:ext cx="7993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424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er bevoegdheden voor ‘t parle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der vooraf vastleggen in het regeerakkoord en parlement meer late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slissen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merleden laten ondersteunen door ambtenaren en deskundig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468360" y="1052640"/>
            <a:ext cx="7993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"/>
              <a:tabLst>
                <a:tab algn="l" pos="36036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ionale kandidaatstelling verplichten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	</a:t>
            </a:r>
            <a:br>
              <a:rPr sz="1600"/>
            </a:b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nneer een Tweede Kamerlid uit de eigen omgeving komt is heeft hij meer kan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 mensen hem/haar kennen en dit kan de betrokkenheid van de burger bij d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litiek vergroten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o’n Kamerlid die in een landelijk parlement wordt gekozen voelt zich verplicht om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or de belangen van zijn regio op te komen. (zowel voordeel als nade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468360" y="2708280"/>
            <a:ext cx="7993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424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or het volk gekozen minister-president en burgemeester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	</a:t>
            </a:r>
            <a:br>
              <a:rPr sz="1600"/>
            </a:b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kozen bestuurders staan dichter bij het vol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t Nederlandse politieke systeem is moeilijk te combineren met een gekoze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ster-presid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" dur="250" autoRev="1" fill="hold"/>
                                        <p:tgtEl>
                                          <p:spTgt spid="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9" dur="250" autoRev="1" fill="hold"/>
                                        <p:tgtEl>
                                          <p:spTgt spid="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" dur="250" autoRev="1" fill="hold"/>
                                        <p:tgtEl>
                                          <p:spTgt spid="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9T18:07:09Z</dcterms:created>
  <dc:creator>jan van gils</dc:creator>
  <dc:description/>
  <dc:language>en-US</dc:language>
  <cp:lastModifiedBy>jan van gils</cp:lastModifiedBy>
  <dcterms:modified xsi:type="dcterms:W3CDTF">2012-12-26T16:22:00Z</dcterms:modified>
  <cp:revision>52</cp:revision>
  <dc:subject/>
  <dc:title>Dia 1</dc:title>
</cp:coreProperties>
</file>