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08A-D34F-48A6-B612-0E12D114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55C-11C2-456A-8EFF-AECD44F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B62-DA54-4851-B96C-A01FF35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1C4-8C65-4398-9303-96F0321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0ED-CE06-4F4B-A0A2-32F40FC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86D-7FDB-41B7-993B-86A7E59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76B-76D0-4E51-8E74-485FA808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5AC-6B43-4953-8DA6-7C4B11E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243-4426-48D5-91C1-FBFEBAFA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540-DF7B-4873-A92B-FCEA933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23D-D6EB-482E-B7F8-C6888D2E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944-8A5C-4310-BCE4-CD7951B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1A0-C997-49CC-A16D-11566F77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youtube.com/watch?v=2od1KTX0SoI&amp;feature=relate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1Hw3av8gjg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Het beleid van de overhei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beleid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t kan de overheid doen om het aantal misdrijven omlaag te breng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4464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Beleid tegen crimin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terugdringen van criminaliteit is in principe e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weesporenbelei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Preven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voorko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Repre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bestraff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89360"/>
            <a:ext cx="777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overheden spelen hier een 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stellen wetten + bespreken van andere oplossi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meent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meester is verantwoordelijk voor de openbare orde en veiligheid. Hij is het hoofd van de poli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stitie bestaat uit het O.M. (Openbaar Ministerie), officier van justitie en politi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fficier van justitie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antwoordelijk voor opsporing en vervol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leidsdaden van d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leid van de overheid wat zich richt tegen criminaliteit is binnen het tweesporen beleid op te splitsen in zes onderde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220920"/>
            <a:ext cx="7777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. Opspor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richt zich de laatste jaren vooral op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are 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iligheid en t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9736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volgingsbeleid = op welke manier wil de overheid misdrijven bestraff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elrecht (= lik op stuk beleid) bij b.v. voetbalvand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staan van softdrugs (= gedoogbel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04" t="0" r="4368" b="3704"/>
          <a:stretch/>
        </p:blipFill>
        <p:spPr>
          <a:xfrm>
            <a:off x="5148360" y="1773360"/>
            <a:ext cx="302400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6280"/>
            <a:ext cx="79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 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op preventie (= voorkoming) en geldt vooral bv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vandalisme, winkeldiefstal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l: Overlast op straat met 25% verminder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al werk- en/of leerstraffen worden toege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51920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270828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k aan: vrouwenhandel, drugshandel, hel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hier op repressie. (= bestraff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eurbestrij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rijding van bv. aanslagen en vliegtuigkaping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el: verruiming van bevoegdheden van politie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echaussee. (bv arrestatiemogelijkheid bij v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ht gedra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6040" cy="23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00000" y="5373720"/>
            <a:ext cx="395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Wil de overheid ons waarschuwen, opvoeden of indoctrineren of zijn wij echt met z’n allen ver-antwoordelijk voor onze veilighei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8650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9417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76280"/>
            <a:ext cx="79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  Gevangeni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cell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paalde gevallen meer mensen in één 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737080" cy="18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.  Nieuwe wetge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boek  van Strafrecht moet regelmatig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gepast aan de actualit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nieuwe wetgeving zal de overheid zich altijd afvragen of nieuwe maatregelen voldoende het gewenste effect oplev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selijk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stelt zich de vraag of nieuwe maatregelen passen bij de waarden en normen van dit moment. De visie van burgers en politiek is dus van bel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292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.  Preventiebele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zie hoofdstuk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97360"/>
            <a:ext cx="5327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.  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rpunten op het gebied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toezi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en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4581360"/>
            <a:ext cx="1942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kijk het filmpje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ver jeugddeten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Kan zijn dat er eers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en reclamefilmpje kom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25T16:58:44Z</dcterms:modified>
  <cp:revision>56</cp:revision>
  <dc:subject/>
  <dc:title>Dia 1</dc:title>
</cp:coreProperties>
</file>