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8D2C-57E6-4473-B162-3057FAE4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B037-4262-4722-B6F9-544F1AE9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395F-D10F-4561-A065-C0B3D53F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ED5-4F44-4F31-B063-6201BBBD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BC18-8188-4747-A452-8984391A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5C0D-1815-44E6-9EC0-75ECD6AB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5799-3B8E-4E8C-999F-F1276578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8BE5-97BB-4A92-AE2A-FA428119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8EC5-9A2A-4F3F-8149-6E63CB59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19E-B4CD-40A5-B811-417D3EC8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6C3E-4C68-46A0-B336-ECDB3912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4A41-6DEC-49E7-BD67-363DCD57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C087-497B-460D-9510-5BC5CD313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Politieke besluitvorm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2772000" cy="2095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t hoofdstuk staat 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Hoe verloopt de politieke besluitvorming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 als deelvra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.   “Hoe leidt een maatschappelijke probleem in de samenleving tot politieke besluiten?”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2.   “Welke invloed hebben ambtenaren en politieke partijen op de besluitvorming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litieke besluitv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068640"/>
            <a:ext cx="8207280" cy="29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sluitvorming in 4 fa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e 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er: uiten van wensen waardoor het als een politiek probleem wordt erkend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beeld: Het willen verhogen van de maximumsnelheid naar 130 km/u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 zoveel mogelijk snelweg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stander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el automobilist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drijfsle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genstander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ieubeweg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sen die in de buur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 de snelweg w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76720" y="4292640"/>
            <a:ext cx="574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4437000"/>
            <a:ext cx="33130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ze groepen proberen hun idee-ën en eisen onder de aandacht van politici te brengen o.a. via de massamed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ierdoor kan een vraagstuk op de politieke agenda kom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6265" t="0" r="6265" b="0"/>
          <a:stretch/>
        </p:blipFill>
        <p:spPr>
          <a:xfrm>
            <a:off x="5796000" y="549360"/>
            <a:ext cx="2016000" cy="1419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333360"/>
            <a:ext cx="82076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e 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mzetting: het afwegen van de politieke problemen en het bedenken van een oploss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j voorbeeld: Wat krijgt de prioriteit? De economie (130 km/uur) of het milieu (geen 130 km/uur). Op alle snelwegen of op een gedeelte 130 km/uur of helemaal nie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wordt een oplossing bedacht / keuze gemaak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t heet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beleidsvoorbereid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2492280"/>
            <a:ext cx="820764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Fase 3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Omzetting: de besluitvormingsf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wordt een besluit genomen door het kabinet en daarna beslist de volksvertegenwoor-dig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(Op gemeentelijk niveau het College van Burgemeester en Wethouders en de gemeenteraad en op provinciaal niveau Gedeputeerde Staten en de Provinciale Staten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4437000"/>
            <a:ext cx="56894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Fase 4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Uitvoer: besluiten uitvo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besluit wordt uitgevoerd. 130 km/uur op diverse snelwe-gen is een feit. Mensen uiten hun ervaringen met het besluit en delen die weer met de publieke opinie en politici. Dit heet 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terugkoppeling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n kan weer leiden tot fase 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6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611280" y="443700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3440" y="476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mbten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907920"/>
            <a:ext cx="777564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, gedeputeerden en wethouders zijn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politiek </a:t>
            </a:r>
            <a:br>
              <a:rPr sz="1600"/>
            </a:b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verantwoordelij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ar ze kunnen niet zonder d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kundigheid en ervaring van ambtenaren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, gedeputeerden en wethouders zijn vaa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ar enkele jaren in functie.  Ambtenaren blijv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ak jaren op hun post. Ze zijn een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vaste waar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it bovenstaande volgt dat hoge ambtenaren vee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politieke invlo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b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24480" t="17050" r="12240" b="9018"/>
          <a:stretch/>
        </p:blipFill>
        <p:spPr>
          <a:xfrm>
            <a:off x="6156360" y="907920"/>
            <a:ext cx="2519280" cy="211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612000" y="328464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litieke parti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3789360"/>
            <a:ext cx="799164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ek partijen spelen een grote rol tijdens de besluitvorming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Ze brengen hun standpunten naar vor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Ze beïnvloeden mensen in politieke functie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Ze leveren mensen voor politieke functie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Ze vertegenwoordigen regelmatig belangen van maatschappelijke organisa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loed van een regeringspartij is groter dan van een oppositieparti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en één partij heeft in Nederland de meerderheid. Daarom moeten partij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derhandelen over samenwerking en dus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compromiss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uit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jan van gils</cp:lastModifiedBy>
  <dcterms:modified xsi:type="dcterms:W3CDTF">2012-02-22T19:15:45Z</dcterms:modified>
  <cp:revision>54</cp:revision>
  <dc:subject/>
  <dc:title>Dia 1</dc:title>
</cp:coreProperties>
</file>