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630-E089-4A01-970E-1C934AD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B43-0785-42C5-992D-C33FA64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330-9785-4BC4-98BB-5DC2108A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2E7-6F87-43AA-82AA-29FABF4A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331-F12B-44DD-81A2-32ECC0E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F53-2BC5-45B2-9A5D-2491F5C0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7A1-926D-40D4-94E5-81D397F2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650-B45F-489D-B3D0-557BF271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3E7-2350-489C-AE0B-DFBA602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BEB-226B-41B4-80EF-5A4F024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7C3-172D-4320-9529-7F911B5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FB7-068B-4AFA-9214-E7604A1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D22-FA04-4CF3-8C2C-254708DE5F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sBc1UqO5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classering.nl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chtofferhulp.n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Waarom straffen w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8" descr="straffen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221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om straffen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1052640"/>
            <a:ext cx="85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it hoofdstuk staan de volgende vragen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Waarom straffen we?</a:t>
            </a:r>
            <a:br>
              <a:rPr sz="1600"/>
            </a:b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Welke straffen kennen we in Neder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2133720"/>
            <a:ext cx="7777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oelen va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raak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gdoening voor het slachtoffe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de dader om te voorkomen dat die het nog eens do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ander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eiliging van de samenl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komen dat mensen voor eigenrechter gaan spelen.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(= heropvoe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de-straf-van-het-kind-thumb18222326"/>
          <p:cNvPicPr/>
          <p:nvPr/>
        </p:nvPicPr>
        <p:blipFill>
          <a:blip r:embed="rId1"/>
          <a:stretch/>
        </p:blipFill>
        <p:spPr>
          <a:xfrm>
            <a:off x="6948360" y="549360"/>
            <a:ext cx="1513080" cy="227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9"/>
          <p:cNvSpPr/>
          <p:nvPr/>
        </p:nvSpPr>
        <p:spPr>
          <a:xfrm>
            <a:off x="611280" y="4365720"/>
            <a:ext cx="7921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oeger en 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ddeleeuwen: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druk ligt op wraak, afschrikking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70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affing van de doodstraf in Nederlan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tooiing van het Wetboek van Strafrecht leidt tot afschaff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ijfstraff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u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 straf (opsluiting, geldboete, taakstraf) speelt resocialisa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e een belangrijke rol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4640"/>
            <a:ext cx="5184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oe zwaar straft een rech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= hoe zwaar er gestraft wor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hangt af va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oor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 de dader al eerder is bestraft door de rechte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zo ja waarvoo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vraag of er verzachtende omstandigheden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907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203640" y="2708280"/>
            <a:ext cx="58323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orte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ofdstraffen binnen het Wetboek van Strafrec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ldboe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e niet betaalt moet naar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Hechteni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overtredingen. Maximaal 1 ja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vangenis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een misdrijf. Maximaal levensl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aak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betaald werk waar de samenleving wat aan he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3e2adab2ce4280daf00a518fe9db866Z2V2YW5nZW5pc18xLmpwZw=="/>
          <p:cNvPicPr/>
          <p:nvPr/>
        </p:nvPicPr>
        <p:blipFill>
          <a:blip r:embed="rId3"/>
          <a:stretch/>
        </p:blipFill>
        <p:spPr>
          <a:xfrm>
            <a:off x="755640" y="3068640"/>
            <a:ext cx="209880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54936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komende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komende straffen hebben altijd iets te maken met he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onken chauffeu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vordering van het rijbewij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lke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bod om in een bepaalde wijk of stad te 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2349360"/>
            <a:ext cx="7993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Samenleving beschermen tegen de d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er beschikkingstelling  (tbs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sychiatrische behandeling van gevaarlijke lied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Onder toezichtstelling (o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insvoogd voor minderjarig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1280" y="4581360"/>
            <a:ext cx="7993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waardelijke str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Waarschu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waardelijke straf wordt pas uitgevoerd wanneer een dader hetzelfde delict binnen een door de rechter bepaalde tijd nogmaals pleeg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692385828"/>
          <p:cNvPicPr/>
          <p:nvPr/>
        </p:nvPicPr>
        <p:blipFill>
          <a:blip r:embed="rId1"/>
          <a:srcRect l="0" t="0" r="26198" b="0"/>
          <a:stretch/>
        </p:blipFill>
        <p:spPr>
          <a:xfrm>
            <a:off x="5651640" y="2349360"/>
            <a:ext cx="29527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40464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elpt gevangenisstra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 voor meer dan 50% van de d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sommige leidt gevangenisstraf niet to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maar tot  asocialisatie. (= zich ni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unnen aanpassen aan de maatschappi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1280" y="2060640"/>
            <a:ext cx="8064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lass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el reclassering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helpen met resocialisatie en voorkomen 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doet de reclasse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óór de rechtszaak een verslag maken over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tuatie van d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zicht houden op uitvoering taakstra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dersteuning tijdens detentie (= gevangenschap)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k aan begeleiding bij familieproblemen of h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rten van een opleiding binnen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eden van terugkeerhulp. (Zoeken van huisvesting en wer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25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227640" y="3284640"/>
            <a:ext cx="259092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de site van de reclassering</a:t>
            </a: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ind je een film van een half uur te over wat de reclasse-ring do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De film heeft als titel: </a:t>
            </a: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“Reclassering Nederland Werk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7451640" y="2852640"/>
            <a:ext cx="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71640" y="620640"/>
            <a:ext cx="6408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lachtofferh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 een ernstig misdrijf hebben slachtoffers spreekrecht tijdens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chtszit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ondersteuning kan een slachtoffer terecht bij de Landelijk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rganisatie  Slachtofferhul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achtoffer kan vragen om schadevergoeding. Soms moet da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appart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achtofferhulp-nederland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3600360" cy="167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5867280" y="3645000"/>
            <a:ext cx="180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Klik op het logo en bezoek eens de site van slachtofferhulp Nederla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932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6-04-22T10:10:33Z</dcterms:modified>
  <cp:revision>53</cp:revision>
  <dc:subject/>
  <dc:title>Dia 1</dc:title>
</cp:coreProperties>
</file>