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D11-A629-4917-A5D9-CC7EAFF7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629-BDB1-4CF8-80C4-A7651464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8AF-5B54-4885-93EB-E44812A6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B3F3-368E-4AB6-A81D-D3BC6FC5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03E-7308-437A-8E94-F8982092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EC4-425F-4C7C-A52F-78ED6CAE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15B-3F1D-44BE-8473-35D03697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CF8-8210-4630-AFFD-962A25A2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A7D-28E4-4225-8A1B-C2E43CBE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3E4-885A-40CD-8504-58AA2345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4B6-220A-49A8-ACD5-B90C911C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AEE-9537-4D95-9B26-650FADCC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7BC5-C8E2-45A0-B858-7148E6C22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Ons beeld van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criminalitei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0028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94172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167280" cy="2313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s beeld van crimin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197000"/>
            <a:ext cx="85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e betrouwbaar is ons beeld van criminaliteit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egenomen gevoelens van onveiligheid omdat media veel aandacht besteden aan criminalite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it: Inbraken, diefstal en fraude komen meer voor dan geweldsmisdrij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924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te invloed van d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940360" y="2852640"/>
            <a:ext cx="2505240" cy="32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611280" y="328464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ia kunnen beeldvorming lat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tstaan. Een aantal Marokkanen zij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rimineel dus alle Marokkanen zijn cri-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neel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= voorbeeld van stereoty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65300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ggen de media vaak dat we strenge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eten straffen dan neemt een groo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el van de bevolking dit over. (= pu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ieke opi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4936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eken brengen criminaliteit in 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29264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lachtofferenquêt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S vraagt mensen of ze slachtoffer zijn gewe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uit blijkt dat er meer delicten zijn dan wat blijkt uit politiestatistie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3737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derenquêt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S vraagt mensen of ze dader zijn gewe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rouwbaarheid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98100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al Bureau van de Statistiek (CBS) maakt gebruik v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413000"/>
            <a:ext cx="85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Politiestatistiek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litiestatistieken geven geen betrouwbaar beeld van criminaliteit omdat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giftebereidheid van slachtoffers en instanties niet altijd even groo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alle delicten worden ontdek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sporingsbeleid van politie heeft invloed op ontdekte misdrijv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hoeveel tijd wordt er aan opsporing besteed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richt de politie zich al of niet op bepaalde (bevolkings)groep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istratie is mensenwerk; dus fouten worden gemaak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litiestatistieken moeten gekoppeld worden aan ontwikkeling va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vol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77336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aantal vermogensdelicten is sinds 1984 gedaal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6206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oeten onderscheid maken tusse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ntal gepleegde misdrijven (= absolute cijfer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ntal gepleegde misdrijven per honderd inwoners (= percen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27664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weld is de laatste 20 jaar in Nederland toegeno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6000" y="3213000"/>
            <a:ext cx="61912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5T15:57:00Z</dcterms:modified>
  <cp:revision>39</cp:revision>
  <dc:subject/>
  <dc:title>Dia 1</dc:title>
</cp:coreProperties>
</file>