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3E9-CDFD-4E21-AB92-9D857235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57B-7FB3-41E5-8298-C3C3BA0A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2FE-F498-4342-B8D7-DD66154C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CFA-5B72-4A1A-9142-BBE6D54B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DF6-8BA0-456E-AC79-4E5A854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8B7-A3FE-4D43-B000-25B5BA7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08C-C629-4C7B-A1D8-99DF0DDB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F6B-4242-4A7E-92FF-41E390F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003-B6E2-4D59-B568-3D9D15D8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91D-A4AE-47A7-BD7B-CCAD08C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E5E-63F3-4051-9B7C-D1968E1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AD1-E48A-40DD-B6C0-DA05356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FBE-F541-4290-9E1F-BC2FC100ED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395280" y="2637000"/>
            <a:ext cx="8207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608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actieve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nfessionalisme: christen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13" descr="220px-Wappen_NSB_1936-1945"/>
          <p:cNvPicPr/>
          <p:nvPr/>
        </p:nvPicPr>
        <p:blipFill>
          <a:blip r:embed="rId2"/>
          <a:stretch/>
        </p:blipFill>
        <p:spPr>
          <a:xfrm>
            <a:off x="5003640" y="4437000"/>
            <a:ext cx="2095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4-06-27T14:07:39Z</dcterms:modified>
  <cp:revision>63</cp:revision>
  <dc:subject/>
  <dc:title>Dia 1</dc:title>
</cp:coreProperties>
</file>