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EC7-37C4-4A5D-AC5F-CB054ADB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053-6D51-4324-8988-0C2AFC5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2E0-7984-49B4-9DBD-6D5525A6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D8F-F51C-410D-8139-BE25C9A7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BD8-CE1A-48E2-8C6E-7A6F2F52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B2B-12D3-48CB-8549-5E7741B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C3E-22E3-49B1-A24F-0888C329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E53-996C-4C47-902D-A2AA9DD4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0EB-B45F-4E26-87B2-4A27B345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CF0-839C-4C0F-AFC9-3B4B15B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E6F-4CE9-4A9E-A958-7FF954F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E46-A016-468B-A52F-6E5A6F9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AE8-1EBE-4716-990C-AB5BCA6F94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orzaken va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21300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08464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2064" t="8099" r="6304" b="10894"/>
          <a:stretch/>
        </p:blipFill>
        <p:spPr>
          <a:xfrm>
            <a:off x="468360" y="4221000"/>
            <a:ext cx="38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orzaken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77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 komt het dat sommige mensen crimineel worden en anderen ni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en (19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euw)  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riminaliteit is aangeboren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                       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edrag van het individu los zien van and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aatschappelijk verschijn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8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worden crimine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sl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ongens meer dan meisjes (zie hoofdstuk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eel tussen 16 en 23 ja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Zware criminalite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volwas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437000"/>
            <a:ext cx="835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aatschappelijke positi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la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inbraak en agressieve delic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ho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witteboordencriminalit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etnische afkomst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oorzaak criminaliteit vaak een combinatie van leeftijd en lage maatschap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pelijke positie (verschil in opvoeding jongens en meisjes komt v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374" r="0" b="11374"/>
          <a:stretch/>
        </p:blipFill>
        <p:spPr>
          <a:xfrm>
            <a:off x="5796000" y="3141720"/>
            <a:ext cx="2830320" cy="30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roepsdr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eel gedrag kan status geven in de groep.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angeboren en aangeleerde eigenscha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Criminaliteit is meestal aangeleerd (opvoeding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oms kunnen ook karaktereigenschappen crimineel gedrag bevorderen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85264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Opvo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aarlozing, mishandeling kunnen leid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psychische problemen en/of gedrag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oornissen wat kans op crimineel gedrag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t toenemen.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cohol en drugs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genomen gebruik leidt tot meer geweld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v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bij veel gebruik nemen remmingen a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76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rmverva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r binding (familie), werkeloosheid, niet naar school gaan leiden t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niet (meer) accepteren van de normen van de samenleving wat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aliteit bevordert. 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56536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inder sociale contr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individualisering (ik-cultuur) van de samenleving staat minder sociale con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le (= letten op elkaar) t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veel mensen bij elkaar (b.v. flats in grote steden) leidt tot anonimiteit (= el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ar niet kennen) zodat mensen minder op elkaar letten en zich mind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ntwoordelijk voelen voor elk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der sociale control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agere pakkan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er gelegenheid tot crimi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liteit</a:t>
            </a: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= gelegenheidsmot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lechte leefomstandighed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ede en werkelooshe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tzichtloosheid en afnemend vertrouw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maatschappij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enemende neiging tot criminaliteit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8:17Z</dcterms:modified>
  <cp:revision>43</cp:revision>
  <dc:subject/>
  <dc:title>Dia 1</dc:title>
</cp:coreProperties>
</file>