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E12-9555-4ED7-85BD-B0A21CD1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D4B-523B-4053-8624-96DD4AD1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D5B-BE82-4162-BAAD-43AEA50E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909-F6CF-48BC-B003-CC5C1CFB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BBA-11AB-43BF-A95B-4EE2D7D5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F65-4C7F-444A-B87A-958915B5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A74-94BB-426C-A465-6DF221B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2ED-0C3E-452E-9FE0-83D328D4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474-C57B-40C9-A500-1123E75D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3B1-033C-478A-BEEC-0EBF7CC5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DDB-521A-44AE-A0F2-A4EEB9A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24A-EF57-4B8D-A67F-07CAEB1E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228-8DA2-40ED-AB22-21753C9C8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Voor de recht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716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5734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3116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or de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97000"/>
            <a:ext cx="85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 gebeurt er als de officier van justitie besluit dat je naar d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hter mo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492280"/>
            <a:ext cx="4608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vol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 de officier van justitie besluit tot vervolging dan krijg je ee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gvaard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in staa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arom je voor de rechter mo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chijn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ar je voor de rechter moet verschijn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je moet verschij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rechter beslist over een  verdachte dus spreken we ov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frechtspraa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9747" t="9823" r="12224" b="39855"/>
          <a:stretch/>
        </p:blipFill>
        <p:spPr>
          <a:xfrm>
            <a:off x="5219640" y="2781360"/>
            <a:ext cx="3457800" cy="295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620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sinsta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256536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t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12536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ge ra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184464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echtsh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derland kennen we drie soorten rechtsinstan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524720" y="220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524720" y="1483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413000"/>
            <a:ext cx="604836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banke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negentien gebieden met elk een rechtba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ke rechtbank heeft verschillende soorten afdelingen en rechter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ntonrecht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oor overtreding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recht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lichte misdrij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voudige kam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zwaardere misdrijv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3429000"/>
            <a:ext cx="7921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echtshove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vijf gerechtsh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wel de verdachte als de officier van justitie kunnen bij het gerechtshof in hoger beroep gaan wanneer ze het met de straf van de rechtbank niet eens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797360"/>
            <a:ext cx="7921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ge r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is één hoge ra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de hoge raad kun je in cassatie gaan zoals dat heet. De hoge raad kijkt of de rechtsregels goed zijn toegepas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 goed toegepa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itspraak gerechtshof is geldi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goed toegepa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rechtshof moet haar werk opnieuw do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47628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loop rechtsza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zie ook laatste filmpje bij hoofdstuk 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836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rechtszaak bestaat uit 8 stapp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197000"/>
            <a:ext cx="813744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1.  Open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roleren persoonsgegevens van de verdachte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instrueren hoe hij zich moet gedragen tijdens de rechtsz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2.  Aanklach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ficier van justitie leest de aanklacht v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3.  Getuigenverhoo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ren van getuigen die zijn opgeroepen door de officier van justitie en de advocaat van de verdachte. Ook deskundigen (b.v. psychiater) kan als getuige worden opgeroep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4.  Verhoor van de verdach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hoor door de officier van justitie en de advocaa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staat onder e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5.  Requisitoi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ficier van justitie eist straf en beargumenteert d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6.  Pleidooi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edigend woord van de advoca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7.  Laatste woor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mag als laatste zeggen wat hij zelf van de zaak en strafeis vind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8.  De uitspraak door de rec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10224" r="0" b="11353"/>
          <a:stretch/>
        </p:blipFill>
        <p:spPr>
          <a:xfrm>
            <a:off x="6156360" y="3789360"/>
            <a:ext cx="2187720" cy="165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476280"/>
            <a:ext cx="85327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uryrechtspra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erland kent geen juryrechtspraak. (zie toelichting boek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et von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nen het vonnis spelen 4 vragen een belangrijke r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Is er voldoende bewij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voldoende bewijs volgens de rechter dan volgt vrijspr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Gaat het om iets strafbaar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alle geweld is strafbaar. Je mag jezelf bv. tot op zekere hoogte verdedi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Is de dader strafbaar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is iets strafbaars gedaan. De vraag is of het de dader valt aan te rekenen. (zie bo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Welke straf of maatregel wordt opgeleg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29671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476280"/>
            <a:ext cx="806436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ngelijke behan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de wet is er geen ongelijke behandeling toegestaan. In de grondwet staat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is voor de wet gel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heeft recht op een eerlijk pro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ch is er nog sprake van ongelijke behandeling. Een niet-westerse allochtoon heeft in de praktijk in bepaalde situaties meer kans om te worden aangehouden en veroordeeld dan een autochto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ze ongelijke behandeling heet 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klassen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orzaken van ongelijke behandel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schillen in inkomen, opleiding en scholing leiden tot ongelijk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edigingskans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rlijke macht heeft ook vooroordelen t.o.v. bepaalde sociale klass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s van winkeldiefstal (vaker gepleegd door lagere sociale klassen dan hoge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) zijn makkelijker op te sporen dan daders van fraude (vaker gepleeg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gere sociale klassen dan lagere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ochtonen worden vanwege cultuurverschillen niet altijd begrep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 de praktijk blijkt dat mensen sneller aangifte doen tegen een allochtoon d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autochto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Naam</cp:lastModifiedBy>
  <dcterms:modified xsi:type="dcterms:W3CDTF">2012-02-28T10:49:05Z</dcterms:modified>
  <cp:revision>47</cp:revision>
  <dc:subject/>
  <dc:title>Dia 1</dc:title>
</cp:coreProperties>
</file>