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28CF-7003-4275-81E9-567CD963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768F-24DB-4CD2-B9DB-AB860463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E4DF-D768-4753-9E94-E8C503EF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A694-7D29-466B-BD73-1B206D5D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CAE8-D0A1-47D5-8CE5-BB8647B7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9B7D-9536-41E3-AC85-BE9653D1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D046-50FB-4B81-B86E-498D759A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4CCC-70D0-49BD-AE3E-13BF48C8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D9A8-53F9-415C-A467-338C6F7D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039C-C66B-4451-9138-5622CDC7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878D-06A5-434F-9297-7A0056D6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28F5-E3FC-41BE-ACE7-3DB256B0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5A80-B51B-4CC3-8C4A-07C767A8A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Burgers, de media en pressiegroepe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42920" y="3933720"/>
            <a:ext cx="2590920" cy="230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e vraa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t hoofdstuk staat de vraag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Hoe kunnen de media, burgers en pressiegroepen invloed uitoefenen op de politiek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rgers, media en pressiegro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2205000"/>
            <a:ext cx="8207280" cy="41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Invloed van de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formatieve func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formatie geven over politieke besluitvorming via radio, tv, internet en krante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gendafunc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Journalisten zoeken uit wat er onder de bevolking leeft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b.v. kernenergie) Door er aandacht aan te bestede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 de media kan het op de politieke agenda kom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Functie van commentaar en meningsvorming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ia de media wordt er b.v. kritiek geleverd op politieke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uit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ontrolerende func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andelen overheid, bedrijven enz. wel zoals het mo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preekbuisfunc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ia de media kunnen mensen hun mening gev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300720" y="378936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404640"/>
            <a:ext cx="8207280" cy="58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Invloed van de bur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temmen bij verkiezingen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preekrech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bruikmaken van spreekrecht bij hoorzittingen van b.v. gemeenteraa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Lid worden van een politieke partij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elnemen aan partijbijeenkomsten en zo invloed uitoefenen op partijstandpunte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Zelf een politieke partij opri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olksvertegenwoordigers aansprek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tact zoeken met politici en hen vertelle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e je over bepaalde onderwerpen denk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preekbuisfunc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ia de media kunnen mensen hun mening gev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erzoek indien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ragen stellen of b.v. subsidie aanvragen bij College van B. &amp; 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Klacht of bezwaarschrif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dienen / Nationale Ombudsman inschak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edia inschak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essiegroep oprichten of er lid van wo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monstreren en handtekeningenac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6" descr="dyn007_original_230_230_gif_2616433_045200ad0f6ddc4359e05e37fcbfbe38"/>
          <p:cNvPicPr/>
          <p:nvPr/>
        </p:nvPicPr>
        <p:blipFill>
          <a:blip r:embed="rId1"/>
          <a:stretch/>
        </p:blipFill>
        <p:spPr>
          <a:xfrm>
            <a:off x="6659640" y="2421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dyn007_original_230_230_gif_2616433_045200ad0f6ddc4359e05e37fcbfbe38"/>
          <p:cNvPicPr/>
          <p:nvPr/>
        </p:nvPicPr>
        <p:blipFill>
          <a:blip r:embed="rId2"/>
          <a:stretch/>
        </p:blipFill>
        <p:spPr>
          <a:xfrm>
            <a:off x="6659640" y="242100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404640"/>
            <a:ext cx="8207280" cy="56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Invloed van pressiegroe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essiegroepen streven een bepaald belang na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essie groepen (pressie = druk) proberen hun doel te bereiken door: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lobby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= steun proberen te krijgen van politici en invloedrijke personen)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openlijke actie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b.v. handtekeningenacties, staking, blokkades enz.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oorten pressiegroe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belangengroep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etten zich in voor een bepaalde groep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taan meestal voor langere tij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Voorbeelden: ANWB, Winkeliersvereniging, LA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actiegroep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etten zich in voor een duidelijk probleem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estaan meestal voor kortere tij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Voorbeeld: Actiegroep tegen invoering 130 km/uur op snelwe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actieorganisaties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etten zich in voor een duidelijk probleem</a:t>
            </a:r>
            <a:br>
              <a:rPr sz="16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durende langere tij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Voorbeeld: Amnesty International die zich inzet voor mensenrechten)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6" descr="dyn007_original_230_230_gif_2616433_045200ad0f6ddc4359e05e37fcbfbe38"/>
          <p:cNvPicPr/>
          <p:nvPr/>
        </p:nvPicPr>
        <p:blipFill>
          <a:blip r:embed="rId1"/>
          <a:stretch/>
        </p:blipFill>
        <p:spPr>
          <a:xfrm>
            <a:off x="6732720" y="2276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620640"/>
            <a:ext cx="8207280" cy="57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oe krijgt een pressiegroep ma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nn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rgen dat je veel deskundigheid binnen de groep hebt over het ontwerp waar j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e voor vo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te van de groe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e groter de groep hoe meer ma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l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 geld krijg je nu eenmaal makkelijker zaken geregel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di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ede contacten met de media geeft meer ma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tici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e politici benadert kan invloed uitoefen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loed = mach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ism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leider met uitstraling en gezag is belangrij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stuur en adviesorgaa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itting zien te krijgen in besturen en adviesorgan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groot de mach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867280" y="4005360"/>
            <a:ext cx="2880000" cy="1938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jan van gils</cp:lastModifiedBy>
  <dcterms:modified xsi:type="dcterms:W3CDTF">2012-02-22T18:56:54Z</dcterms:modified>
  <cp:revision>58</cp:revision>
  <dc:subject/>
  <dc:title>Dia 1</dc:title>
</cp:coreProperties>
</file>