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3BA-A7C8-4446-83FF-0B79E72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76E-2917-4F20-998D-8265CD5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B94-83EA-40EB-814B-538F1416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0D2-FCA9-4BFF-94BD-3B50F55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F04-9E12-4F1A-A3B9-06BAC769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6F3-7D17-4BE8-9785-EF838266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313-6BFA-4760-AAE8-9291419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236-F4C5-450B-AD3D-3B6418D1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514-F6AC-4B98-BB26-C6F10FF5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233-2C85-452A-8CDB-D6E03E2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0A8-3C55-4608-AE02-DD63031D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AEF-A9C2-4641-9A53-89FEE3F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66A5-9BAC-4351-86AC-FB6F24E5D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Voor de rech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or de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 gebeurt er als de officier van justitie besluit dat je naar 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hter mo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92280"/>
            <a:ext cx="4608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vol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 de officier van justitie besluit tot vervolging dan krijg je e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gvaar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in staa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om je voor de rechter mo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 je voor de rechter moet 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je moet verschij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rechter beslist over een  verdachte dus spreken we ov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frech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9747" t="9823" r="12224" b="39855"/>
          <a:stretch/>
        </p:blipFill>
        <p:spPr>
          <a:xfrm>
            <a:off x="5219640" y="2781360"/>
            <a:ext cx="3457800" cy="29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insta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56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12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84464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cht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kennen we drie soorten rechtsinstan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24720" y="220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24720" y="148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13000"/>
            <a:ext cx="6048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bank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negentien gebieden met elk een recht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e rechtbank heeft verschillende soorten afdelingen en rechter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tonrecht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or overtredi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rech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lichte mis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voudige kam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zwaardere misdrijv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429000"/>
            <a:ext cx="792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chtshov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vijf gerechtsh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wel de verdachte als de officier van justitie kunnen bij het gerechtshof in hoger beroep gaan wanneer ze het met de straf van de rechtbank niet eens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97360"/>
            <a:ext cx="7921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één hoge r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de hoge raad kun je in cassatie gaan zoals dat heet. De hoge raad kijkt of de rechtsregels goed zijn toegepas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itspraak gerechtshof is geldi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rechtshof moet haar werk opnieuw do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628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loop rechtsza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zie ook laatste filmpje bij hoofdstuk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36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rechtszaak bestaat uit 8 stapp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97000"/>
            <a:ext cx="81374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.  Open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roleren persoonsgegevens van de verdacht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instrueren hoe hij zich moet gedragen tijdens d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.  Aanklach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leest de aanklacht v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.  Getuigenverhoo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ren van getuigen die zijn opgeroepen door de officier van justitie en de advocaat van de verdachte. Ook deskundigen (b.v. psychiater) kan als getuige worden opgeroep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.  Verhoor van de verdach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hoor door de officier van justitie en de advocaa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staat onder 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.  Requisitoi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eist straf en beargumenteert d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.  Pleidooi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end woord van de advoca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7.  Laatste woor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mag als laatste zeggen wat hij zelf van de zaak en strafeis vind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8.  De uitspraak door de rec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10224" r="0" b="11353"/>
          <a:stretch/>
        </p:blipFill>
        <p:spPr>
          <a:xfrm>
            <a:off x="6156360" y="3789360"/>
            <a:ext cx="2187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76280"/>
            <a:ext cx="8532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ryrechtspra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kent geen juryrechtspraak. (zie toelichting boek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t von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nen het vonnis spelen 4 vragen een belangrijke 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s er voldoende bewij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voldoende bewijs volgens de rechter dan volgt vrijspr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Gaat het om iets strafbaar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 geweld is strafbaar. Je mag jezelf bv. tot op zekere hoogte verdedi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s de dader strafbaa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iets strafbaars gedaan. De vraag is of het de dader valt aan te rekenen. (zie bo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Welke straf of maatregel wordt opgeleg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29671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6280"/>
            <a:ext cx="80643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gelijke be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de wet is er geen ongelijke behandeling toegestaan. In de grondwet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voor de wet gel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heeft recht op een eerlijk pro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ch is er nog sprake van ongelijke behandeling. Een niet-westerse allochtoon heeft in de praktijk in bepaalde situaties meer kans om te worden aangehouden en veroordeeld dan een autoch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ongelijke behandeling heet 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klassen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orzaken van ongelijke behandel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schillen in inkomen, opleiding en scholing leiden tot ongelijk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ingskan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rlijke macht heeft ook vooroordelen t.o.v. bepaalde sociale klas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van winkeldiefstal (vaker gepleegd door lagere sociale klassen dan hog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) zijn makkelijker op te sporen dan daders van fraude (vaker gepleeg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gere sociale klassen dan lagere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ochtonen worden vanwege cultuurverschillen niet altijd begrep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 de praktijk blijkt dat mensen sneller aangifte doen tegen een allochtoon d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autochto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2-28T10:49:05Z</dcterms:modified>
  <cp:revision>47</cp:revision>
  <dc:subject/>
  <dc:title>Dia 1</dc:title>
</cp:coreProperties>
</file>