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0A6-95BA-49FC-A722-FE5FF636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48B-822D-44BD-BEBD-8A6FA14B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FD5-1BD4-4448-9058-BB1AAAFB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371-F3F0-42AB-AA8E-7F7BD97B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E5C-7987-41FF-BAA4-3744F8D7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513-486B-4D97-AD10-E90552AC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19D-C856-4848-915D-FB48FC81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00E-7FE9-4E3C-A2F3-DE64CC17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C1E-DB28-4BCA-B682-F0428370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217-FB31-43FC-B7F1-4B53B002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702-1977-4687-84ED-5A26BA15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ED5-6452-4DFB-9AEA-91E503DD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7A7B-EE95-46A8-A6BD-94B59CF44F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uropese_grondwet"/>
          <p:cNvPicPr/>
          <p:nvPr/>
        </p:nvPicPr>
        <p:blipFill>
          <a:blip r:embed="rId1"/>
          <a:stretch/>
        </p:blipFill>
        <p:spPr>
          <a:xfrm>
            <a:off x="684360" y="4149720"/>
            <a:ext cx="2735280" cy="1766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29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houd van de staatsinrichting van 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_kamer"/>
          <p:cNvPicPr/>
          <p:nvPr/>
        </p:nvPicPr>
        <p:blipFill>
          <a:blip r:embed="rId2"/>
          <a:stretch/>
        </p:blipFill>
        <p:spPr>
          <a:xfrm>
            <a:off x="3411360" y="4149720"/>
            <a:ext cx="266400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weede+kamer_tcm10-13826"/>
          <p:cNvPicPr/>
          <p:nvPr/>
        </p:nvPicPr>
        <p:blipFill>
          <a:blip r:embed="rId3"/>
          <a:stretch/>
        </p:blipFill>
        <p:spPr>
          <a:xfrm>
            <a:off x="6072120" y="4167360"/>
            <a:ext cx="26640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ing van de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Raad van Ministers is het goedkeuren van wetsvoo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Europese Commissie is het doen van voorstellen voor nieuwe voorstellen. Bovendien controleren ze of de wetten goed worden uit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het Europees Parlement is het controleren van de Europese Commissie en het goed- of afkeuren van we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grond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een democratie moeten de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n en plicht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van de burgers beschermd worden in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grondwet is ontstaan na de Franse revolutie (1789), als een soort bescherming tegen de koning (overhe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uropese_grondwet"/>
          <p:cNvPicPr/>
          <p:nvPr/>
        </p:nvPicPr>
        <p:blipFill>
          <a:blip r:embed="rId1"/>
          <a:stretch/>
        </p:blipFill>
        <p:spPr>
          <a:xfrm>
            <a:off x="2195640" y="3500280"/>
            <a:ext cx="4819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ondwet en grondrechten</a:t>
            </a:r>
            <a:br>
              <a:rPr sz="4000"/>
            </a:br>
            <a:br>
              <a:rPr sz="4000"/>
            </a:b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oek waarin de rechten en plichten van alle Nederlandse burgers in staa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e grondwet staan twee soorten grond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Klassiek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en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tegen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voor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godsdien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onderwij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vereniging, vergadering en beto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van peti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Referendum (nieuw recht, beschermt burger tegen de overhe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Social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ing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door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na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staanszek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onderwij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zondheidsz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oongelegen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e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woonbaarheid op het 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rechtsbij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Nationale ombudsma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 beschermt de burger tegen fouten die de overheid maakt. Is onafhankelij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is het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arlement zijn de Eerste Kamer en de Tweede kamer samen. Een ander woord voor parlement is de </a:t>
            </a:r>
            <a:r>
              <a:rPr b="0" lang="nl-NL" sz="1400" spc="-1" strike="noStrike">
                <a:solidFill>
                  <a:srgbClr val="ff0000"/>
                </a:solidFill>
                <a:latin typeface="Arial"/>
              </a:rPr>
              <a:t>Staten-gener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parlement wordt ook wel de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lksvertegenwoordiging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 omdat ze het hele Nederlandse  volk vertegenwoord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direct door de Nederlandse bevolking gekozen (d.m.v. Verkiezin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150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het Nederlandse volk tijdens verkiez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en wetgev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indirect gekozen door het Nederlandse vo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75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de leden van de Provinciale st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t het parlement voor 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ef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r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func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rmt een verbinding tussen het volk en de politiek.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Het volk kan stemmen wie er in de Tweede kamer moet komen. Hierdoor heeft het volk invloed op het bestuur in Ned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Het maken van wett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troleren van de regering.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oppositie controleert de re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gering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regeren, wordt ook wel e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alitie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ppositie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niet reg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n van de Eerste en Tweede Kamer</a:t>
            </a:r>
            <a:br>
              <a:rPr sz="3200"/>
            </a:br>
            <a:br>
              <a:rPr sz="40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same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Tweede Kamer heeft meer rechten dan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Eerst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interpellatie: vragenuurt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Tweed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recht van interpellatie: vragenuurt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amendement (een bestaande wet kunnen aanpass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initiatief (zelf een nieuwe wet indie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komt e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ot stand in Neder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dat een wet gebruikt kan worden moeten de volgende stappen worden geno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kamerlid of minister moet de wet indie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Tweed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Eerst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koning(in) zet samen met de minister een handtekening onder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wet wordt gepubliceerd in het Staatsb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moet in deze volgorde, anders geen w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9680" y="55371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ederland is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rechtsstaa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, dit betekent: burgers en regering moeten zich houden aan de regels van de w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werking in Eur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om Europese samenwerk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a WO2 kwamen de landen in Europa tot het besef dat ze moesten samenwerken op economisch gebied om conflicten te voorkomen. Later kwam daar ook poltieke samenwerking b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schiedenis van de samenwerking in Euro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6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Europese gemeenschap: EGKS + EEG samengevoeg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Unie) vanaf nu ook politieke samenwe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genwoordig hebben we in de EU drie instanties (orga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Europese commi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Straatsburg en Bruss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raad van minist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wet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oe komt een wet tot stand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ze volgor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se Commissie (bedenkt de we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Parlement (stemt voor of tegen de wetten + controle commiss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 (beoordeelt de wetten op kwaliteit en haalbaarheid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en wet kan dus worden tegengehouden do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et Europees Parlement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krijgt niet genoeg ste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aad van Ministers: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is kwalitatief niet goed genoeg of niet haal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f van 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ontroleert of de instanties zich wel aan de regels hou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8:12:25Z</dcterms:created>
  <dc:creator>Nick</dc:creator>
  <dc:description/>
  <dc:language>en-US</dc:language>
  <cp:lastModifiedBy>Raemaekers, EJM (Esther) </cp:lastModifiedBy>
  <dcterms:modified xsi:type="dcterms:W3CDTF">2016-09-21T07:22:42Z</dcterms:modified>
  <cp:revision>22</cp:revision>
  <dc:subject/>
  <dc:title>Staatsinrichting van Nederland (deel 2)</dc:title>
</cp:coreProperties>
</file>