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528-5EEA-4C89-8B31-2DD67EA2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F0F-F2AF-4B78-AC8E-3754C061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6EA-ECB6-444D-97F5-B6B9E673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180A-80D4-4D26-B0B6-4359654B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B34-23D6-4DF0-B76F-BCFF77C1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C961-C219-4CA0-A876-7FF153BE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C64-EAC8-4096-A8FD-57E90B01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F97-2220-4213-85AA-996BC475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22C-AB35-4C5C-A36A-613769E7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0ED8-EE2A-4465-9DD2-EA6A4D80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32D-DFE0-485A-98B6-F5A347DC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B7D-0355-4732-A377-3363FDE0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5E56-1924-4DB7-8D5D-0CE41F9F4B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uropese_grondwet"/>
          <p:cNvPicPr/>
          <p:nvPr/>
        </p:nvPicPr>
        <p:blipFill>
          <a:blip r:embed="rId1"/>
          <a:stretch/>
        </p:blipFill>
        <p:spPr>
          <a:xfrm>
            <a:off x="684360" y="4149720"/>
            <a:ext cx="2735280" cy="1766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29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houd van de staatsinrichting van 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tweede_kamer"/>
          <p:cNvPicPr/>
          <p:nvPr/>
        </p:nvPicPr>
        <p:blipFill>
          <a:blip r:embed="rId2"/>
          <a:stretch/>
        </p:blipFill>
        <p:spPr>
          <a:xfrm>
            <a:off x="3411360" y="4149720"/>
            <a:ext cx="2664000" cy="17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tweede+kamer_tcm10-13826"/>
          <p:cNvPicPr/>
          <p:nvPr/>
        </p:nvPicPr>
        <p:blipFill>
          <a:blip r:embed="rId3"/>
          <a:stretch/>
        </p:blipFill>
        <p:spPr>
          <a:xfrm>
            <a:off x="6072120" y="4167360"/>
            <a:ext cx="266400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rking van de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Raad van Ministers is het goedkeuren van wetsvoor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Europese Commissie is het doen van voorstellen voor nieuwe voorstellen. Bovendien controleren ze of de wetten goed worden uit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het Europees Parlement is het controleren van de Europese Commissie en het goed- of afkeuren van we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grond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een democratie moeten de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n en plichten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van de burgers beschermd worden in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grondwet is ontstaan na de Franse revolutie (1789), als een soort bescherming tegen de koning (overhe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europese_grondwet"/>
          <p:cNvPicPr/>
          <p:nvPr/>
        </p:nvPicPr>
        <p:blipFill>
          <a:blip r:embed="rId1"/>
          <a:stretch/>
        </p:blipFill>
        <p:spPr>
          <a:xfrm>
            <a:off x="2195640" y="3500280"/>
            <a:ext cx="48196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ondwet en grondrechten</a:t>
            </a:r>
            <a:br>
              <a:rPr sz="4000"/>
            </a:br>
            <a:br>
              <a:rPr sz="4000"/>
            </a:b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oek waarin de rechten en plichten van alle Nederlandse burgers in staa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de grondwet staan twee soorten grond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Klassiek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en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tegen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voor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godsdien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drukp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onderwij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vereniging, vergadering en beto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Kiesre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van peti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Referendum (nieuw recht, beschermt burger tegen de overhe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Social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ing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door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na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staanszeker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onderwij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zondheidsz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oongelegen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e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woonbaarheid op het 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rechtsbijst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Nationale ombudsma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 beschermt de burger tegen fouten die de overheid maakt. Is onafhankelij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at is het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arlement zijn de Eerste Kamer en de Tweede kamer samen. Een ander woord voor parlement is de </a:t>
            </a:r>
            <a:r>
              <a:rPr b="0" lang="nl-NL" sz="1400" spc="-1" strike="noStrike">
                <a:solidFill>
                  <a:srgbClr val="ff0000"/>
                </a:solidFill>
                <a:latin typeface="Arial"/>
              </a:rPr>
              <a:t>Staten-gener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parlement wordt ook wel de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lksvertegenwoordiging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 omdat ze het hele Nederlandse  volk vertegenwoord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direct door de Nederlandse bevolking gekozen (d.m.v. Verkiezing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150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het Nederlandse volk tijdens verkiezi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en wetgev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indirect gekozen door het Nederlandse vo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75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de leden van de Provinciale st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oet het parlement voor 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eef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r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func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rmt een verbinding tussen het volk en de politiek.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Het volk kan stemmen wie er in de Tweede kamer moet komen. Hierdoor heeft het volk invloed op het bestuur in Neder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Het maken van wett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troleren van de regering.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oppositie controleert de re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gering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regeren, wordt ook wel een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coalitie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ppositie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niet reg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n van de Eerste en Tweede Kamer</a:t>
            </a:r>
            <a:br>
              <a:rPr sz="3200"/>
            </a:br>
            <a:br>
              <a:rPr sz="40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same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Tweede Kamer heeft meer rechten dan de Eerst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Eerst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interpellatie: vragenuurt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Tweed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recht van interpellatie: vragenuurt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amendement (een bestaande wet kunnen aanpass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initiatief (zelf een nieuwe wet indien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komt een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ot stand in Neder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dat een wet gebruikt kan worden moeten de volgende stappen worden geno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kamerlid of minister moet de wet indie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Tweed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Eerst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koning(in) zet samen met de minister een handtekening onder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wet wordt gepubliceerd in het Staatsb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moet in deze volgorde, anders geen w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09680" y="55371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ederland is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rechtsstaa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, dit betekent: burgers en regering moeten zich houden aan de regels van de w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werking in Europ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om Europese samenwerk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a WO2 kwamen de landen in Europa tot het besef dat ze moesten samenwerken op economisch gebied om conflicten te voorkomen. Later kwam daar ook poltieke samenwerking bi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schiedenis van de samenwerking in Euro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2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K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gemeenschap voor kolen en sta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G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economische gemeensch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6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Europese gemeenschap: EGKS + EEG samengevoeg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Unie) vanaf nu ook politieke samenwe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genwoordig hebben we in de EU drie instanties (orga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Europese commiss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Straatsburg en Bruss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raad van minister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wet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oe komt een wet tot stand in Euro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deze volgor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se Commissie (bedenkt de we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es Parlement (stemt voor of tegen de wetten + controle commiss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 (beoordeelt de wetten op kwaliteit en haalbaarheid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en wet kan dus worden tegengehouden do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et Europees Parlement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krijgt niet genoeg ste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aad van Ministers: 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is kwalitatief niet goed genoeg of niet haal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of van justi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ontroleert of de instanties zich wel aan de regels hou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8:12:25Z</dcterms:created>
  <dc:creator>Nick</dc:creator>
  <dc:description/>
  <dc:language>en-US</dc:language>
  <cp:lastModifiedBy>Raemaekers, EJM (Esther) </cp:lastModifiedBy>
  <dcterms:modified xsi:type="dcterms:W3CDTF">2016-09-21T07:22:42Z</dcterms:modified>
  <cp:revision>22</cp:revision>
  <dc:subject/>
  <dc:title>Staatsinrichting van Nederland (deel 2)</dc:title>
</cp:coreProperties>
</file>