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B0D-A0CF-4B44-B475-4915CC7D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DAD-3486-482A-9961-0EE25A82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BCB-28A6-43FD-879D-6C44A8A5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ADC-DC67-4380-9C29-1ACFEDC2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216-9806-4E31-AE21-E5FE9656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1D3-0E7F-4A8D-AC78-78D0C1AF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311-D63D-4092-B11F-CC77EE1A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9B9-CD2F-4B00-9D97-CC37B727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B11-969E-4DA9-8532-94F81168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AF5-F0B6-491F-A9EE-B9589712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FE3-9E6B-42E7-A382-81840DD4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0E9-D26E-459D-9989-29EDC7B5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B376-B453-4FA1-B225-F654759165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toen.nu/media/3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Koning_Willem_I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4221000"/>
            <a:ext cx="1762200" cy="234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lgemeenkiesrecht2_1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211640" y="4221000"/>
            <a:ext cx="1622520" cy="230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250px-Thorbecke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2157480" y="4221000"/>
            <a:ext cx="1944720" cy="23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456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940360" y="4221000"/>
            <a:ext cx="3203640" cy="226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2920" y="2852280"/>
            <a:ext cx="67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schiedenis van de strijd om het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rondw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48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0_B_Grondwet"/>
          <p:cNvPicPr/>
          <p:nvPr/>
        </p:nvPicPr>
        <p:blipFill>
          <a:blip r:embed="rId3"/>
          <a:srcRect l="10841" t="0" r="0" b="0"/>
          <a:stretch/>
        </p:blipFill>
        <p:spPr>
          <a:xfrm>
            <a:off x="4500720" y="620640"/>
            <a:ext cx="450036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716360" y="4724280"/>
            <a:ext cx="3888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1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oning is onschendbaa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(is niet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antwoordelijk voor zijn ac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2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ministers zijn verantwoordelij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bestuur ligt in handen van de mini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eling van de m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Tot 1848 lag in Nederland alle macht bij de k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oning had wel ministers, maar die moesten uitvoeren wat de koning wi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Na 1848, veel verandering door de nieuwe grond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wee belangrijkste regels uit deze grondw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Koning is onschend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Ministers zijn verantwoordelijk (ministeriële verantwoordelijkh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andere belangrijke regel in de nieuwe grondwet w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Invoering van het censuskiesrecht 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(mannen die genoeg belasting betaalden mochten voortaan stemmen, vooral libera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e groep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olitieke strom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n 1848 tot ongeveer 1880 waren er vooral liberale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 werd in Nederland dus vooral een liberale politiek 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Openbaar onderwijs (niet gelovig onderwij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oral rijkere mensen hadden het go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a 1880 ontstonden er twee nieuwe politieke strom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fessionelen (Katholieken en Protestan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Socialisten (vaak armere arbe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Oorzaak van het ontstaan van deze nieuwe politieke strom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nfessionelen en socialisten wilden opkomen voor hun eigen rechten. In de Tweede Kamer zaten behoorlijk veel liberalen en bijna geen confessionelen of socialis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zuil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anaf 19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ond 1900 begint de verzuil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verdeling van d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amenlev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groe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r ontstaan vier groep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zui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0328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755640" y="530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de opkomst van de industrie in Nederland trokken veel mensen van het platteland naar de stad. In de stad wilden de mensen hun eigen geloof en politieke ideeen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85080" y="479736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Oorzaak van de verzui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050920" y="3141720"/>
            <a:ext cx="719280" cy="15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924360" y="3141720"/>
            <a:ext cx="718920" cy="1511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859280" y="3141720"/>
            <a:ext cx="719280" cy="15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19960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13632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thol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07124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te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00796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ci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050920" y="2781360"/>
            <a:ext cx="3527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662200" y="278136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derlandse maatschapp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084720" y="3141720"/>
            <a:ext cx="21592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Ze noemen deze groepen zuilen omdat ze samen de Nederlandse maatschappij droegen.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u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5120" y="1268280"/>
            <a:ext cx="74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lke zuil heeft zijn eigen kenmer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houd er rekening mee dat dit de situatie is van rond 19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01480" y="1916280"/>
          <a:ext cx="8425080" cy="3395520"/>
        </p:xfrm>
        <a:graphic>
          <a:graphicData uri="http://schemas.openxmlformats.org/drawingml/2006/table">
            <a:tbl>
              <a:tblPr/>
              <a:tblGrid>
                <a:gridCol w="1622520"/>
                <a:gridCol w="1584360"/>
                <a:gridCol w="1584360"/>
                <a:gridCol w="1401840"/>
                <a:gridCol w="22320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istisch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ek lei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an  Rudolph Thorbec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an Schaep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aham Kuy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ter Jelles Troels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AP</a:t>
                      </a: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(vooral voor rijke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 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onderwijs (voor iedere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drage democratis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ndwetswijziging 1848 + Liberale grondrech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strijd + emancipatie Katholiek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elijk denken in de wetg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ncipatie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han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gere burger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n uit alle lagen van de samenl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e luyden oftewel de midden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choolde)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77" descr="johan_rudolf_thorbecke"/>
          <p:cNvPicPr/>
          <p:nvPr/>
        </p:nvPicPr>
        <p:blipFill>
          <a:blip r:embed="rId1"/>
          <a:stretch/>
        </p:blipFill>
        <p:spPr>
          <a:xfrm>
            <a:off x="2440080" y="538632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0" descr="18-01"/>
          <p:cNvPicPr/>
          <p:nvPr/>
        </p:nvPicPr>
        <p:blipFill>
          <a:blip r:embed="rId2"/>
          <a:stretch/>
        </p:blipFill>
        <p:spPr>
          <a:xfrm>
            <a:off x="3772080" y="53863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2" descr="Abraham%20Kuyper"/>
          <p:cNvPicPr/>
          <p:nvPr/>
        </p:nvPicPr>
        <p:blipFill>
          <a:blip r:embed="rId3"/>
          <a:stretch/>
        </p:blipFill>
        <p:spPr>
          <a:xfrm>
            <a:off x="5508720" y="5386320"/>
            <a:ext cx="10778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4" descr="troelstra"/>
          <p:cNvPicPr/>
          <p:nvPr/>
        </p:nvPicPr>
        <p:blipFill>
          <a:blip r:embed="rId4"/>
          <a:stretch/>
        </p:blipFill>
        <p:spPr>
          <a:xfrm>
            <a:off x="7093080" y="5443560"/>
            <a:ext cx="1224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groepen voelden zich nog steeds achter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fessionelen (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katholie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protestan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lden bijzonder onderwijs gesubsidieerd krijg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fessionelen streden hierin tegen de liberalen, die wilden dat onderwijs openbaar (niet christelijk) ble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choolstr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ocialis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wilden algemeen kiesrecht voor alle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wilden kiesrecht voor alle mannen, maar liberalen wilden dit liever n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4630680" y="36910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ten en confessionelen hielpen elkaar in de Tweede Ka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Pacificatie van 1917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al tussen socialisten en confessionelen om elkaar te steunen in de Tweed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Socialist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de subsidiering van bijzonder onderwij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Confessionel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algemeen kiesrecht voor mannen</a:t>
            </a:r>
            <a:r>
              <a:rPr b="1" lang="nl-NL" sz="20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ls toevoeging bij het algemeen kiesrecht voor mannen werd het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strictenstelsel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vangen door het stelsel van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venredige vertegenwoord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Stelsel van evenredige vertegenwoordiging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rlijke verdeling zetels, dus 20 procent van de stemmen betekent 20 procent van de zetels in de Tweede Kam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en kiesrecht voor mannen en vr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af 1917 hadden alleen alle mannen kiesrecht door de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 pacificatie van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uwen streden ook voor kiesrecht maar werden nooit serieus genomen, ze kregen in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1917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ssief kiesre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(ze mochten wel worden gekozen in de 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eindelijk kregen vrouwen in 1919 ook kies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it kiesrecht werd vooral gerealiseerd door de inspanning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Aletta Jacob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erste vrouw die mocht gaan studeren aan een universiteit, richtte tevens de VVV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je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Wilhelmina Drucker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oprichtster van de VvVK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or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esrec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treven naar gelijke rechten van vrouwen op het gebied van onderwijs en kiesrecht wordt ook wel de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rste Feministische Gol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01"/>
          <p:cNvPicPr/>
          <p:nvPr/>
        </p:nvPicPr>
        <p:blipFill>
          <a:blip r:embed="rId1"/>
          <a:stretch/>
        </p:blipFill>
        <p:spPr>
          <a:xfrm>
            <a:off x="6012000" y="5589720"/>
            <a:ext cx="844560" cy="126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Wilhelmina_Drucker"/>
          <p:cNvPicPr/>
          <p:nvPr/>
        </p:nvPicPr>
        <p:blipFill>
          <a:blip r:embed="rId2"/>
          <a:stretch/>
        </p:blipFill>
        <p:spPr>
          <a:xfrm>
            <a:off x="6856560" y="5589720"/>
            <a:ext cx="936360" cy="130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564000" y="6110280"/>
            <a:ext cx="223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letta Jac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ilhelmina Dru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1:10:56Z</dcterms:created>
  <dc:creator>Nick</dc:creator>
  <dc:description/>
  <dc:language>en-US</dc:language>
  <cp:lastModifiedBy>eraemaekers</cp:lastModifiedBy>
  <dcterms:modified xsi:type="dcterms:W3CDTF">2016-09-13T11:54:09Z</dcterms:modified>
  <cp:revision>21</cp:revision>
  <dc:subject/>
  <dc:title>Staatsinrichting van Nederland</dc:title>
</cp:coreProperties>
</file>