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3BBA-9A7C-4DC9-981F-96D8D22A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33E-41AC-4E0E-9F46-FF4A95CD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791-803F-4360-825F-0C0A7B01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5FF-4A89-47BC-BC38-BD607EC1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B82-1727-4139-B832-03BBCE60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44A-ABA6-46D1-A1F9-CFC5962C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32F-6B9A-405C-BD0D-77BFA988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9AA-D153-4AF7-A141-BF29829F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580-AB8B-4499-83C9-DEF9B2D8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E82-A823-42DB-BB3A-7D3FAAAE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C20-3A5A-4E4E-AD28-263C3128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C1E-EE6B-4D83-BAC4-0E83929B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32BE-6576-454D-98C5-56975BBF48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europese_grondwet"/>
          <p:cNvPicPr/>
          <p:nvPr/>
        </p:nvPicPr>
        <p:blipFill>
          <a:blip r:embed="rId1"/>
          <a:stretch/>
        </p:blipFill>
        <p:spPr>
          <a:xfrm>
            <a:off x="684360" y="4149720"/>
            <a:ext cx="2735280" cy="1766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1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29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houd van de staatsinrichting van 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tweede_kamer"/>
          <p:cNvPicPr/>
          <p:nvPr/>
        </p:nvPicPr>
        <p:blipFill>
          <a:blip r:embed="rId2"/>
          <a:stretch/>
        </p:blipFill>
        <p:spPr>
          <a:xfrm>
            <a:off x="3411360" y="4149720"/>
            <a:ext cx="2664000" cy="177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tweede+kamer_tcm10-13826"/>
          <p:cNvPicPr/>
          <p:nvPr/>
        </p:nvPicPr>
        <p:blipFill>
          <a:blip r:embed="rId3"/>
          <a:stretch/>
        </p:blipFill>
        <p:spPr>
          <a:xfrm>
            <a:off x="6072120" y="4167360"/>
            <a:ext cx="2664000" cy="17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ing van de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aad v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Raad van Ministers is het goedkeuren van wetsvoor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commis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de Europese Commissie is het doen van voorstellen voor nieuwe voorstellen. Bovendien controleren ze of de wetten goed worden uit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belangrijkste taak van het Europees Parlement is het controleren van de Europese Commissie en het goed- of afkeuren van wet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grond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een democratie moeten de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n en plichten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 van de burgers beschermd worden in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grondwet is ontstaan na de Franse revolutie (1789), als een soort bescherming tegen de koning (overhe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europese_grondwet"/>
          <p:cNvPicPr/>
          <p:nvPr/>
        </p:nvPicPr>
        <p:blipFill>
          <a:blip r:embed="rId1"/>
          <a:stretch/>
        </p:blipFill>
        <p:spPr>
          <a:xfrm>
            <a:off x="2195640" y="3500280"/>
            <a:ext cx="4819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ondwet en grondrechten</a:t>
            </a:r>
            <a:br>
              <a:rPr sz="4000"/>
            </a:br>
            <a:br>
              <a:rPr sz="4000"/>
            </a:b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Grondwet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oek waarin de rechten en plichten van alle Nederlandse burgers in staa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 de grondwet staan twee soorten grondre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Klassiek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en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tegen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voor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meningsu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godsdien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drukp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onderwij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rijheid van vereniging, vergadering en betog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Kiesr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van peti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000" spc="-1" strike="noStrike">
                <a:solidFill>
                  <a:srgbClr val="000000"/>
                </a:solidFill>
                <a:latin typeface="Arial"/>
              </a:rPr>
              <a:t>Referendum (nieuw recht, beschermt burger tegen de overhe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Sociale grondrech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Bescherming van de burger </a:t>
            </a:r>
            <a:r>
              <a:rPr b="1" lang="nl-NL" sz="1200" spc="-1" strike="noStrike" u="sng">
                <a:solidFill>
                  <a:srgbClr val="ff0000"/>
                </a:solidFill>
                <a:uFillTx/>
                <a:latin typeface="Arial"/>
              </a:rPr>
              <a:t>door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de overhe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Ontstaan na 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staanszeker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onderwij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gezondheidsz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oongelegenhe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we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bewoonbaarheid op het 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Recht op rechtsbijst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Nationale ombudsma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 beschermt de burger tegen fouten die de overheid maakt. Is onafhankelij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Wat is het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arlement zijn de Eerste Kamer en de Tweede kamer samen. Een ander woord voor parlement is de </a:t>
            </a:r>
            <a:r>
              <a:rPr b="0" lang="nl-NL" sz="1400" spc="-1" strike="noStrike">
                <a:solidFill>
                  <a:srgbClr val="ff0000"/>
                </a:solidFill>
                <a:latin typeface="Arial"/>
              </a:rPr>
              <a:t>Staten-genera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parlement wordt ook wel de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volksvertegenwoordiging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 omdat ze het hele Nederlandse  volk vertegenwoord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direct door de Nederlandse bevolking gekozen (d.m.v. Verkiezing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150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het Nederlandse volk tijdens verkiezi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en wetgev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 wordt indirect gekozen door het Nederlandse vo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75 l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Gekozen door de leden van de Provinciale st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ontrolerende func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oet het parlement voor 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rlemen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heef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dri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func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rmt een verbinding tussen het volk en de politiek.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Het volk kan stemmen wie er in de Tweede kamer moet komen. Hierdoor heeft het volk invloed op het bestuur in Neder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Het maken van wett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troleren van de regering.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oppositie controleert de reg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gering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regeren, wordt ook wel een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coalitie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 genoem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ppositie: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partijen die niet reg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n van de Eerste en Tweede Kamer</a:t>
            </a:r>
            <a:br>
              <a:rPr sz="3200"/>
            </a:br>
            <a:br>
              <a:rPr sz="40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Eerst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600" spc="-1" strike="noStrike">
                <a:solidFill>
                  <a:srgbClr val="008000"/>
                </a:solidFill>
                <a:latin typeface="Arial"/>
              </a:rPr>
              <a:t>Tweede Kamer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samen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Tweede Kamer heeft meer rechten dan de Eerst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36100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Eerst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interpellatie: vragenuurt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2565000"/>
            <a:ext cx="38113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8000"/>
                </a:solidFill>
                <a:latin typeface="Arial"/>
              </a:rPr>
              <a:t>Tweede K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Recht van enquê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recht van interpellatie: vragenuurt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Motiere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amendement (een bestaande wet kunnen aanpass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Recht van initiatief (zelf een nieuwe wet indien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9528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6836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komt e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ot stand in Nederl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dat een wet gebruikt kan worden moeten de volgende stappen worden genom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kamerlid of minister moet de wet indie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Tweed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meerderheid van de Eerste Kamer moet instemmen met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koning(in) zet samen met de minister een handtekening onder de w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wet wordt gepubliceerd in het Staatsb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Het moet in deze volgorde, anders geen we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09680" y="5537160"/>
            <a:ext cx="770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Nederland is een </a:t>
            </a: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rechtsstaa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, dit betekent: burgers en regering moeten zich houden aan de regels van de w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werking in Europ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om Europese samenwerk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a WO2 kwamen de landen in Europa tot het besef dat ze moesten samenwerken op economisch gebied om conflicten te voorkomen. Later kwam daar ook poltieke samenwerking bi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schiedenis van de samenwerking in Europ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2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K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gemeenschap voor kolen en sta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5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G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economische gemeenscha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67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Europese gemeenschap: EGKS + EEG samengevoeg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1994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uropese Unie) vanaf nu ook politieke samenwe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egenwoordig hebben we in de EU drie instanties (organ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Europese commiss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Straatsburg en Bruss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 raad van ministers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(komt samen in Brussel, België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uropese wetge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oe komt een wet tot stand in Europ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 deze volgor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se Commissie (bedenkt de wett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uropees Parlement (stemt voor of tegen de wetten + controle commiss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aad van Ministers (beoordeelt de wetten op kwaliteit en haalbaarheid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en wet kan dus worden tegengehouden do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et Europees Parlement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krijgt niet genoeg stem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aad van Ministers: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wet is kwalitatief niet goed genoeg of niet haal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Hof van justitie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controleert of de instanties zich wel aan de regels houd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08:12:25Z</dcterms:created>
  <dc:creator>Nick</dc:creator>
  <dc:description/>
  <dc:language>en-US</dc:language>
  <cp:lastModifiedBy>Raemaekers, EJM (Esther) </cp:lastModifiedBy>
  <dcterms:modified xsi:type="dcterms:W3CDTF">2016-09-21T07:22:42Z</dcterms:modified>
  <cp:revision>22</cp:revision>
  <dc:subject/>
  <dc:title>Staatsinrichting van Nederland (deel 2)</dc:title>
</cp:coreProperties>
</file>