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EC1-7268-42AD-BD0E-63D48F87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CF74-0EF2-4015-822D-89944C46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B2E-EA02-4EE6-8663-0EEED04C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056B-8213-4022-B70B-E5D84792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CB1-DEC4-4382-9182-18FBD82E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BF8-4955-44C9-B3F2-6B7F25FE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AABE-8BB1-4E37-9F5D-492551E0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DAC-86D3-4074-82B0-54174CEE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56C-3D48-4B84-AB0D-AE41851B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681B-FCB7-4610-ABAD-26CF90C6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EEB9-E737-4DFD-8E94-5D18B504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7B2-56C5-48CD-AF0C-D6760655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666A-91F0-4955-8044-40CCB44B7E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toen.nu/media/30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Koning_Willem_II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5280" y="4221000"/>
            <a:ext cx="1762200" cy="2349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lgemeenkiesrecht2_1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211640" y="4221000"/>
            <a:ext cx="1622520" cy="2303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250px-Thorbecke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2157480" y="4221000"/>
            <a:ext cx="1944720" cy="234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14565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940360" y="4221000"/>
            <a:ext cx="3203640" cy="226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aatsinrichting van Nederland (deel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2920" y="2852280"/>
            <a:ext cx="6769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schiedenis van de strijd om het kies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rondw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481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30_B_Grondwet"/>
          <p:cNvPicPr/>
          <p:nvPr/>
        </p:nvPicPr>
        <p:blipFill>
          <a:blip r:embed="rId3"/>
          <a:srcRect l="10841" t="0" r="0" b="0"/>
          <a:stretch/>
        </p:blipFill>
        <p:spPr>
          <a:xfrm>
            <a:off x="4500720" y="620640"/>
            <a:ext cx="4500360" cy="4071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4716360" y="4724280"/>
            <a:ext cx="3888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tikel 1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Koning is onschendbaar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(is niet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antwoordelijk voor zijn ac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tikel 2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 ministers zijn verantwoordelijk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bestuur ligt in handen van de minist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eling van de m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Tot 1848 lag in Nederland alle macht bij de k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oning had wel ministers, maar die moesten uitvoeren wat de koning wi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Na 1848, veel verandering door de nieuwe grond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Twee belangrijkste regels uit deze grondw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Koning is onschend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Ministers zijn verantwoordelijk (ministeriële verantwoordelijkhe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n andere belangrijke regel in de nieuwe grondwet w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Invoering van het censuskiesrecht </a:t>
            </a:r>
            <a:r>
              <a:rPr b="1" lang="nl-NL" sz="1200" spc="-1" strike="noStrike">
                <a:solidFill>
                  <a:srgbClr val="008000"/>
                </a:solidFill>
                <a:latin typeface="Arial"/>
              </a:rPr>
              <a:t>(mannen die genoeg belasting betaalden mochten voortaan stemmen, vooral libera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e groep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politieke strom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n 1848 tot ongeveer 1880 waren er vooral liberale min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 werd in Nederland dus vooral een liberale politiek gevoe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Openbaar onderwijs (niet gelovig onderwij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Vooral rijkere mensen hadden het go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Na 1880 ontstonden er twee nieuwe politieke strom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Confessionelen (Katholieken en Protestan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Socialisten (vaak armere arbeid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Oorzaak van het ontstaan van deze nieuwe politieke stromi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nfessionelen en socialisten wilden opkomen voor hun eigen rechten. In de Tweede Kamer zaten behoorlijk veel liberalen en bijna geen confessionelen of socialist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zuiling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anaf 19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ond 1900 begint de verzuil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verdeling van de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samenlevin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n groe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r ontstaan vier groep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zuil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403280" y="3933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755640" y="530064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oor de opkomst van de industrie in Nederland trokken veel mensen van het platteland naar de stad. In de stad wilden de mensen hun eigen geloof en politieke ideeen bescher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85080" y="479736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Oorzaak van de verzui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2050920" y="3141720"/>
            <a:ext cx="719280" cy="15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2987640" y="3141720"/>
            <a:ext cx="71928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3924360" y="3141720"/>
            <a:ext cx="718920" cy="1511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859280" y="3141720"/>
            <a:ext cx="719280" cy="1511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199600" y="328464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iber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2987640" y="3141720"/>
            <a:ext cx="719280" cy="1511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136320" y="3284640"/>
            <a:ext cx="454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tholi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4071240" y="3284640"/>
            <a:ext cx="4546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rote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5007960" y="3284640"/>
            <a:ext cx="45468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ci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050920" y="2781360"/>
            <a:ext cx="3527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2662200" y="278136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derlandse maatschapp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6084720" y="3141720"/>
            <a:ext cx="2159280" cy="824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Ze noemen deze groepen zuilen omdat ze samen de Nederlandse maatschappij droegen.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zu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5120" y="1268280"/>
            <a:ext cx="7417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lke zuil heeft zijn eigen kenmerk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houd er rekening mee dat dit de situatie is van rond 19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01480" y="1916280"/>
          <a:ext cx="8425080" cy="3395520"/>
        </p:xfrm>
        <a:graphic>
          <a:graphicData uri="http://schemas.openxmlformats.org/drawingml/2006/table">
            <a:tbl>
              <a:tblPr/>
              <a:tblGrid>
                <a:gridCol w="1622520"/>
                <a:gridCol w="1584360"/>
                <a:gridCol w="1584360"/>
                <a:gridCol w="1401840"/>
                <a:gridCol w="22320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istische zu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ek lei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an  Rudolph Thorbec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man Schaep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aham Kuy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ter Jelles Troels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ale U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KS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AP</a:t>
                      </a: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derwij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baar (vooral voor rijker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ristelij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stants (christelij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baar onderwijs (voor iedere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jdrage democratis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ndwetswijziging 1848 + Liberale grondrech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strijd + emancipatie Katholiek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istelijk denken in de wetg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ncipatie arbe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hang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gere burger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tholieken uit alle lagen van de samenl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e luyden oftewel de middenst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schoolde) arbeid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pic>
        <p:nvPicPr>
          <p:cNvPr id="76" name="Picture 77" descr="johan_rudolf_thorbecke"/>
          <p:cNvPicPr/>
          <p:nvPr/>
        </p:nvPicPr>
        <p:blipFill>
          <a:blip r:embed="rId1"/>
          <a:stretch/>
        </p:blipFill>
        <p:spPr>
          <a:xfrm>
            <a:off x="2440080" y="5386320"/>
            <a:ext cx="1008000" cy="144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0" descr="18-01"/>
          <p:cNvPicPr/>
          <p:nvPr/>
        </p:nvPicPr>
        <p:blipFill>
          <a:blip r:embed="rId2"/>
          <a:stretch/>
        </p:blipFill>
        <p:spPr>
          <a:xfrm>
            <a:off x="3772080" y="538632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2" descr="Abraham%20Kuyper"/>
          <p:cNvPicPr/>
          <p:nvPr/>
        </p:nvPicPr>
        <p:blipFill>
          <a:blip r:embed="rId3"/>
          <a:stretch/>
        </p:blipFill>
        <p:spPr>
          <a:xfrm>
            <a:off x="5508720" y="5386320"/>
            <a:ext cx="10778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4" descr="troelstra"/>
          <p:cNvPicPr/>
          <p:nvPr/>
        </p:nvPicPr>
        <p:blipFill>
          <a:blip r:embed="rId4"/>
          <a:stretch/>
        </p:blipFill>
        <p:spPr>
          <a:xfrm>
            <a:off x="7093080" y="5443560"/>
            <a:ext cx="12240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ar 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oor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wee groepen voelden zich nog steeds achter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fessionelen (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katholiek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1800" spc="-1" strike="noStrike">
                <a:solidFill>
                  <a:srgbClr val="008000"/>
                </a:solidFill>
                <a:latin typeface="Arial"/>
              </a:rPr>
              <a:t>protestan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ilden bijzonder onderwijs gesubsidieerd krijgen)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fessionelen streden hierin tegen de liberalen, die wilden dat onderwijs openbaar (niet christelijk) blee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schoolstrij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Socialist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wilden algemeen kiesrecht voor alle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cialisten wilden kiesrecht voor alle mannen, maar liberalen wilden dit liever ni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4630680" y="369108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Naar algemeen kiesrech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oor man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cialisten en confessionelen hielpen elkaar in de Tweede Ka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Pacificatie van 1917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Deal tussen socialisten en confessionelen om elkaar te steunen in de Tweede Ka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Socialisten stemden voor </a:t>
            </a:r>
            <a:r>
              <a:rPr b="1" lang="nl-NL" sz="1600" spc="-1" strike="noStrike" u="sng">
                <a:solidFill>
                  <a:srgbClr val="008000"/>
                </a:solidFill>
                <a:uFillTx/>
                <a:latin typeface="Arial"/>
              </a:rPr>
              <a:t>de subsidiering van bijzonder onderwij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-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Confessionelen stemden voor </a:t>
            </a:r>
            <a:r>
              <a:rPr b="1" lang="nl-NL" sz="1600" spc="-1" strike="noStrike" u="sng">
                <a:solidFill>
                  <a:srgbClr val="008000"/>
                </a:solidFill>
                <a:uFillTx/>
                <a:latin typeface="Arial"/>
              </a:rPr>
              <a:t>algemeen kiesrecht voor mannen</a:t>
            </a:r>
            <a:r>
              <a:rPr b="1" lang="nl-NL" sz="20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ls toevoeging bij het algemeen kiesrecht voor mannen werd het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districtenstelsel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ervangen door het stelsel van 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venredige vertegenwoord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Stelsel van evenredige vertegenwoordiging: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erlijke verdeling zetels, dus 20 procent van de stemmen betekent 20 procent van de zetels in de Tweede Kam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gemeen kiesrecht voor mannen en vr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anaf 1917 hadden alleen alle mannen kiesrecht door de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 pacificatie van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rouwen streden ook voor kiesrecht maar werden nooit serieus genomen, ze kregen in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1917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wel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assief kiesrecht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(ze mochten wel worden gekozen in de 2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a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iteindelijk kregen vrouwen in 1919 ook kiesre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it kiesrecht werd vooral gerealiseerd door de inspanningen v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Aletta Jacobs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eerste vrouw die mocht gaan studeren aan een universiteit, richtte tevens de VVV;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je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ouw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enig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8000"/>
                </a:solidFill>
                <a:latin typeface="Arial"/>
              </a:rPr>
              <a:t>Wilhelmina Drucker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(oprichtster van de VvVK;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reniging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or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ouwen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iesrec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et streven naar gelijke rechten van vrouwen op het gebied van onderwijs en kiesrecht wordt ook wel de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Eerste Feministische Gol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noem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mage001"/>
          <p:cNvPicPr/>
          <p:nvPr/>
        </p:nvPicPr>
        <p:blipFill>
          <a:blip r:embed="rId1"/>
          <a:stretch/>
        </p:blipFill>
        <p:spPr>
          <a:xfrm>
            <a:off x="6012000" y="5589720"/>
            <a:ext cx="844560" cy="1268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Wilhelmina_Drucker"/>
          <p:cNvPicPr/>
          <p:nvPr/>
        </p:nvPicPr>
        <p:blipFill>
          <a:blip r:embed="rId2"/>
          <a:stretch/>
        </p:blipFill>
        <p:spPr>
          <a:xfrm>
            <a:off x="6856560" y="5589720"/>
            <a:ext cx="936360" cy="1304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3564000" y="6110280"/>
            <a:ext cx="223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nks: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letta Jac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chts: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ilhelmina Dru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1:10:56Z</dcterms:created>
  <dc:creator>Nick</dc:creator>
  <dc:description/>
  <dc:language>en-US</dc:language>
  <cp:lastModifiedBy>eraemaekers</cp:lastModifiedBy>
  <dcterms:modified xsi:type="dcterms:W3CDTF">2016-09-13T11:54:09Z</dcterms:modified>
  <cp:revision>21</cp:revision>
  <dc:subject/>
  <dc:title>Staatsinrichting van Nederland</dc:title>
</cp:coreProperties>
</file>