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6350-0BC4-4C2C-8661-6B20442C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AFA6-ED04-4C3B-9D39-CAFB258B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6B9A-AA4E-4967-83E2-25587DDC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D9F7-5290-4F81-97A6-BC0722E8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9742-D014-4DC8-8091-FADA021F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B6E1-C15E-4BE8-94A0-956D4884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6CA4-F2B4-4E06-8DB6-7BDC19B7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7CAD-36C2-4178-B8E1-60C91FCA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A8E9-AB2A-4BC8-93BE-7BBD9B84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25A1-BE60-485C-A1C6-8082ECA7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D563-C491-4CDD-A125-D2B7A6FA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35C6-6204-4342-9306-D31C94DD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8D93-C914-4239-A43B-AFCB855218A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uropese_grondwet"/>
          <p:cNvPicPr/>
          <p:nvPr/>
        </p:nvPicPr>
        <p:blipFill>
          <a:blip r:embed="rId1"/>
          <a:stretch/>
        </p:blipFill>
        <p:spPr>
          <a:xfrm>
            <a:off x="684360" y="4149720"/>
            <a:ext cx="2735280" cy="1766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1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atsinrichting van Nederland (deel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429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houd van de staatsinrichting van 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tweede_kamer"/>
          <p:cNvPicPr/>
          <p:nvPr/>
        </p:nvPicPr>
        <p:blipFill>
          <a:blip r:embed="rId2"/>
          <a:stretch/>
        </p:blipFill>
        <p:spPr>
          <a:xfrm>
            <a:off x="3411360" y="4149720"/>
            <a:ext cx="2664000" cy="1778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tweede+kamer_tcm10-13826"/>
          <p:cNvPicPr/>
          <p:nvPr/>
        </p:nvPicPr>
        <p:blipFill>
          <a:blip r:embed="rId3"/>
          <a:stretch/>
        </p:blipFill>
        <p:spPr>
          <a:xfrm>
            <a:off x="6072120" y="4167360"/>
            <a:ext cx="2664000" cy="17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rking van de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aad van Min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de Raad van Ministers is het goedkeuren van wetsvoorste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se commis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de Europese Commissie is het doen van voorstellen voor nieuwe voorstellen. Bovendien controleren ze of de wetten goed worden uitgevoe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het Europees Parlement is het controleren van de Europese Commissie en het goed- of afkeuren van wet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grond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 een democratie moeten de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en en plichten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van de burgers beschermd worden in een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grondwe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grondwet is ontstaan na de Franse revolutie (1789), als een soort bescherming tegen de koning (overhe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europese_grondwet"/>
          <p:cNvPicPr/>
          <p:nvPr/>
        </p:nvPicPr>
        <p:blipFill>
          <a:blip r:embed="rId1"/>
          <a:stretch/>
        </p:blipFill>
        <p:spPr>
          <a:xfrm>
            <a:off x="2195640" y="3500280"/>
            <a:ext cx="48196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rondwet en grondrechten</a:t>
            </a:r>
            <a:br>
              <a:rPr sz="4000"/>
            </a:br>
            <a:br>
              <a:rPr sz="4000"/>
            </a:b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Grondwet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oek waarin de rechten en plichten van alle Nederlandse burgers in staan</a:t>
            </a: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 de grondwet staan twee soorten grond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36100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Klassieke grondr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eschermen van de burger </a:t>
            </a:r>
            <a:r>
              <a:rPr b="1" lang="nl-NL" sz="1200" spc="-1" strike="noStrike" u="sng">
                <a:solidFill>
                  <a:srgbClr val="ff0000"/>
                </a:solidFill>
                <a:uFillTx/>
                <a:latin typeface="Arial"/>
              </a:rPr>
              <a:t>tegen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de overhe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Ontstaan voor 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meningsu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godsdien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drukp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onderwij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vereniging, vergadering en betog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Kiesrec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van peti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Referendum (nieuw recht, beschermt burger tegen de overhe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2565000"/>
            <a:ext cx="38113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Sociale grondr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escherming van de burger </a:t>
            </a:r>
            <a:r>
              <a:rPr b="1" lang="nl-NL" sz="1200" spc="-1" strike="noStrike" u="sng">
                <a:solidFill>
                  <a:srgbClr val="ff0000"/>
                </a:solidFill>
                <a:uFillTx/>
                <a:latin typeface="Arial"/>
              </a:rPr>
              <a:t>door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de overhe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Ontstaan na 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bestaanszekerhe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onderwij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gezondheidsz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woongelegenhe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we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bewoonbaarheid op het 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rechtsbijst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Nationale ombudsma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 beschermt de burger tegen fouten die de overheid maakt. Is onafhankelij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9528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68360" y="551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par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at is het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parlemen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arlement zijn de Eerste Kamer en de Tweede kamer samen. Een ander woord voor parlement is de </a:t>
            </a:r>
            <a:r>
              <a:rPr b="0" lang="nl-NL" sz="1400" spc="-1" strike="noStrike">
                <a:solidFill>
                  <a:srgbClr val="ff0000"/>
                </a:solidFill>
                <a:latin typeface="Arial"/>
              </a:rPr>
              <a:t>Staten-genera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parlement wordt ook wel de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lksvertegenwoordiging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genoemd omdat ze het hele Nederlandse  volk vertegenwoord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Tweede kamer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wordt direct door de Nederlandse bevolking gekozen (d.m.v. Verkiezing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150 l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kozen door het Nederlandse volk tijdens verkiezi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ontrolerende en wetgevende func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Eerste Kamer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wordt indirect gekozen door het Nederlandse vo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75 l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kozen door de leden van de Provinciale st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ontrolerende func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doet het parlement voor 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parleme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heeft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r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func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Vormt een verbinding tussen het volk en de politiek.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Het volk kan stemmen wie er in de Tweede kamer moet komen. Hierdoor heeft het volk invloed op het bestuur in Neder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Het maken van wette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Controleren van de regering.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oppositie controleert de reg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gering: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partijen die regeren, wordt ook wel een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coalitie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genoem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Oppositie: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partijen die niet reg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n van de Eerste en Tweede Kamer</a:t>
            </a:r>
            <a:br>
              <a:rPr sz="3200"/>
            </a:br>
            <a:br>
              <a:rPr sz="40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arlemen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8000"/>
                </a:solidFill>
                <a:latin typeface="Arial"/>
              </a:rPr>
              <a:t>Eerste Kame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1600" spc="-1" strike="noStrike">
                <a:solidFill>
                  <a:srgbClr val="008000"/>
                </a:solidFill>
                <a:latin typeface="Arial"/>
              </a:rPr>
              <a:t>Tweede Kame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samen</a:t>
            </a: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Tweede Kamer heeft meer rechten dan de Eerste 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36100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8000"/>
                </a:solidFill>
                <a:latin typeface="Arial"/>
              </a:rPr>
              <a:t>Eerste Ka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enquê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interpellatie: vragenuurtj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Motiere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2565000"/>
            <a:ext cx="38113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8000"/>
                </a:solidFill>
                <a:latin typeface="Arial"/>
              </a:rPr>
              <a:t>Tweede Ka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enquê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recht van interpellatie: vragenuurt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Motiere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cht van amendement (een bestaande wet kunnen aanpass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cht van initiatief (zelf een nieuwe wet indien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9528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468360" y="551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komt een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we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tot stand in Neder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dat een wet gebruikt kan worden moeten de volgende stappen worden genom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n kamerlid of minister moet de wet indie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meerderheid van de Tweede Kamer moet instemmen met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meerderheid van de Eerste Kamer moet instemmen met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koning(in) zet samen met de minister een handtekening onder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wet wordt gepubliceerd in het Staatsb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moet in deze volgorde, anders geen we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09680" y="5537160"/>
            <a:ext cx="77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Nederland is een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rechtsstaa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, dit betekent: burgers en regering moeten zich houden aan de regels van de we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menwerking in Europ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om Europese samenwerk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a WO2 kwamen de landen in Europa tot het besef dat ze moesten samenwerken op economisch gebied om conflicten te voorkomen. Later kwam daar ook poltieke samenwerking bi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schiedenis van de samenwerking in Europ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52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GKS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gemeenschap voor kolen en sta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57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EG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economische gemeensch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67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G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Europese gemeenschap: EGKS + EEG samengevoeg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94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Unie) vanaf nu ook politieke samenwer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egenwoordig hebben we in de EU drie instanties (organ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Europese commiss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Brussel, België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et Europees parlemen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Straatsburg en Bruss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raad van minister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Brussel, België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uropese wetge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oe komt een wet tot stand in Europ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 deze volgor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uropese Commissie (bedenkt de wet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uropees Parlement (stemt voor of tegen de wetten + controle commiss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aad van Ministers (beoordeelt de wetten op kwaliteit en haalbaarheid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en wet kan dus worden tegengehouden do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et Europees Parlement: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wet krijgt niet genoeg stem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aad van Ministers: 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wet is kwalitatief niet goed genoeg of niet haal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of van justi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controleert of de instanties zich wel aan de regels hou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08:12:25Z</dcterms:created>
  <dc:creator>Nick</dc:creator>
  <dc:description/>
  <dc:language>en-US</dc:language>
  <cp:lastModifiedBy>Raemaekers, EJM (Esther) </cp:lastModifiedBy>
  <dcterms:modified xsi:type="dcterms:W3CDTF">2016-09-21T07:22:42Z</dcterms:modified>
  <cp:revision>22</cp:revision>
  <dc:subject/>
  <dc:title>Staatsinrichting van Nederland (deel 2)</dc:title>
</cp:coreProperties>
</file>