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FEC9-E4CF-4ECB-A2B8-B29C0D3BA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BC9A-F225-4349-8A6A-8BA50A57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6C26-254C-4040-9293-4C3E9FE91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A27B-F1AC-46DB-A011-8D060AD67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28DF-4D9A-4722-A8FE-3D27FDCE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B275-91D3-41F2-882F-FBC610C0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B884-505D-498D-BC31-5CE43903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2F03-4797-41B7-96EA-50DA89E6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D50E-C666-479B-A5C1-ECD21A3F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6481-0FB1-4293-9B77-09407658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88A1-2AE2-4C8C-9F14-DC2C106B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0E43-34CC-4802-B529-F909B1A0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B137-7262-4AC2-94F1-01836C2CAE1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uropese_grondwet"/>
          <p:cNvPicPr/>
          <p:nvPr/>
        </p:nvPicPr>
        <p:blipFill>
          <a:blip r:embed="rId1"/>
          <a:stretch/>
        </p:blipFill>
        <p:spPr>
          <a:xfrm>
            <a:off x="684360" y="4149720"/>
            <a:ext cx="2735280" cy="1766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1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atsinrichting van Nederland (deel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4296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houd van de staatsinrichting van 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tweede_kamer"/>
          <p:cNvPicPr/>
          <p:nvPr/>
        </p:nvPicPr>
        <p:blipFill>
          <a:blip r:embed="rId2"/>
          <a:stretch/>
        </p:blipFill>
        <p:spPr>
          <a:xfrm>
            <a:off x="3411360" y="4149720"/>
            <a:ext cx="2664000" cy="1778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tweede+kamer_tcm10-13826"/>
          <p:cNvPicPr/>
          <p:nvPr/>
        </p:nvPicPr>
        <p:blipFill>
          <a:blip r:embed="rId3"/>
          <a:stretch/>
        </p:blipFill>
        <p:spPr>
          <a:xfrm>
            <a:off x="6072120" y="4167360"/>
            <a:ext cx="2664000" cy="17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rking van de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aad van Min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belangrijkste taak van de Raad van Ministers is het goedkeuren van wetsvoorstel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uropese commiss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belangrijkste taak van de Europese Commissie is het doen van voorstellen voor nieuwe voorstellen. Bovendien controleren ze of de wetten goed worden uitgevoe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belangrijkste taak van het Europees Parlement is het controleren van de Europese Commissie en het goed- of afkeuren van wet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grond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 een democratie moeten de </a:t>
            </a: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hten en plichten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van de burgers beschermd worden in een 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grondwe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grondwet is ontstaan na de Franse revolutie (1789), als een soort bescherming tegen de koning (overhei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europese_grondwet"/>
          <p:cNvPicPr/>
          <p:nvPr/>
        </p:nvPicPr>
        <p:blipFill>
          <a:blip r:embed="rId1"/>
          <a:stretch/>
        </p:blipFill>
        <p:spPr>
          <a:xfrm>
            <a:off x="2195640" y="3500280"/>
            <a:ext cx="48196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rondwet en grondrechten</a:t>
            </a:r>
            <a:br>
              <a:rPr sz="4000"/>
            </a:br>
            <a:br>
              <a:rPr sz="4000"/>
            </a:b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Grondwet: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boek waarin de rechten en plichten van alle Nederlandse burgers in staan</a:t>
            </a:r>
            <a:br>
              <a:rPr sz="1600"/>
            </a:b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 de grondwet staan twee soorten grond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361008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8000"/>
                </a:solidFill>
                <a:latin typeface="Arial"/>
              </a:rPr>
              <a:t>Klassieke grondre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Beschermen van de burger </a:t>
            </a:r>
            <a:r>
              <a:rPr b="1" lang="nl-NL" sz="1200" spc="-1" strike="noStrike" u="sng">
                <a:solidFill>
                  <a:srgbClr val="ff0000"/>
                </a:solidFill>
                <a:uFillTx/>
                <a:latin typeface="Arial"/>
              </a:rPr>
              <a:t>tegen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de overhe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Ontstaan voor 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meningsu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godsdien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drukp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onderwij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vereniging, vergadering en betog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Kiesrec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van peti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Referendum (nieuw recht, beschermt burger tegen de overhe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2565000"/>
            <a:ext cx="381132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8000"/>
                </a:solidFill>
                <a:latin typeface="Arial"/>
              </a:rPr>
              <a:t>Sociale grondre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Bescherming van de burger </a:t>
            </a:r>
            <a:r>
              <a:rPr b="1" lang="nl-NL" sz="1200" spc="-1" strike="noStrike" u="sng">
                <a:solidFill>
                  <a:srgbClr val="ff0000"/>
                </a:solidFill>
                <a:uFillTx/>
                <a:latin typeface="Arial"/>
              </a:rPr>
              <a:t>door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de overhe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Ontstaan na 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bestaanszekerhe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onderwij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gezondheidsz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woongelegenhe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we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bewoonbaarheid op het 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rechtsbijst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Nationale ombudsma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 beschermt de burger tegen fouten die de overheid maakt. Is onafhankelijk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95280" y="126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68360" y="551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par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Wat is het 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parlemen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arlement zijn de Eerste Kamer en de Tweede kamer samen. Een ander woord voor parlement is de </a:t>
            </a:r>
            <a:r>
              <a:rPr b="0" lang="nl-NL" sz="1400" spc="-1" strike="noStrike">
                <a:solidFill>
                  <a:srgbClr val="ff0000"/>
                </a:solidFill>
                <a:latin typeface="Arial"/>
              </a:rPr>
              <a:t>Staten-genera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t parlement wordt ook wel de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volksvertegenwoordiging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genoemd omdat ze het hele Nederlandse  volk vertegenwoordi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Tweede kamer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wordt direct door de Nederlandse bevolking gekozen (d.m.v. Verkiezing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150 l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Gekozen door het Nederlandse volk tijdens verkiezi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Controlerende en wetgevende func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Eerste Kamer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wordt indirect gekozen door het Nederlandse vo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75 l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Gekozen door de leden van de Provinciale st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Controlerende func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doet het parlement voor 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parleme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heeft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ri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func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Vormt een verbinding tussen het volk en de politiek.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Het volk kan stemmen wie er in de Tweede kamer moet komen. Hierdoor heeft het volk invloed op het bestuur in Neder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Het maken van wette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Controleren van de regering.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oppositie controleert de reg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Regering:</a:t>
            </a:r>
            <a:r>
              <a:rPr b="1" lang="nl-NL" sz="1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 partijen die regeren, wordt ook wel een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coalitie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genoem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Oppositie:</a:t>
            </a:r>
            <a:r>
              <a:rPr b="1" lang="nl-NL" sz="1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 partijen die niet reg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en van de Eerste en Tweede Kamer</a:t>
            </a:r>
            <a:br>
              <a:rPr sz="3200"/>
            </a:br>
            <a:br>
              <a:rPr sz="40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arlemen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8000"/>
                </a:solidFill>
                <a:latin typeface="Arial"/>
              </a:rPr>
              <a:t>Eerste Kamer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1600" spc="-1" strike="noStrike">
                <a:solidFill>
                  <a:srgbClr val="008000"/>
                </a:solidFill>
                <a:latin typeface="Arial"/>
              </a:rPr>
              <a:t>Tweede Kamer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samen</a:t>
            </a:r>
            <a:br>
              <a:rPr sz="1600"/>
            </a:b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Tweede Kamer heeft meer rechten dan de Eerste Ka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361008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8000"/>
                </a:solidFill>
                <a:latin typeface="Arial"/>
              </a:rPr>
              <a:t>Eerste Ka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enquê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interpellatie: vragenuurtj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Motiere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2565000"/>
            <a:ext cx="381132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8000"/>
                </a:solidFill>
                <a:latin typeface="Arial"/>
              </a:rPr>
              <a:t>Tweede Ka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enquê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t recht van interpellatie: vragenuurt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Motiere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Recht van amendement (een bestaande wet kunnen aanpass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Recht van initiatief (zelf een nieuwe wet indien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95280" y="126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468360" y="551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 komt een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we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tot stand in Nederl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dat een wet gebruikt kan worden moeten de volgende stappen worden genom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en kamerlid of minister moet de wet indie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meerderheid van de Tweede Kamer moet instemmen met de w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meerderheid van de Eerste Kamer moet instemmen met de w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koning(in) zet samen met de minister een handtekening onder de w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wet wordt gepubliceerd in het Staatsb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t moet in deze volgorde, anders geen we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409680" y="5537160"/>
            <a:ext cx="770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Nederland is een 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rechtsstaa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, dit betekent: burgers en regering moeten zich houden aan de regels van de we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amenwerking in Europ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aarom Europese samenwerk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Na WO2 kwamen de landen in Europa tot het besef dat ze moesten samenwerken op economisch gebied om conflicten te voorkomen. Later kwam daar ook poltieke samenwerking bi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schiedenis van de samenwerking in Europ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952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GKS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Europese gemeenschap voor kolen en sta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957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EG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Europese economische gemeensch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967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G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(Europese gemeenschap: EGKS + EEG samengevoeg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994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U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Europese Unie) vanaf nu ook politieke samenwer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egenwoordig hebben we in de EU drie instanties (organ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Europese commiss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komt samen in Brussel, België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Het Europees parlemen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komt samen in Straatsburg en Bruss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raad van ministers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komt samen in Brussel, België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uropese wetge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Hoe komt een wet tot stand in Europ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 deze volgor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uropese Commissie (bedenkt de wet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uropees Parlement (stemt voor of tegen de wetten + controle commiss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aad van Ministers (beoordeelt de wetten op kwaliteit en haalbaarheid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en wet kan dus worden tegengehouden do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et Europees Parlement: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wet krijgt niet genoeg stem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Raad van Ministers: 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wet is kwalitatief niet goed genoeg of niet haalb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Hof van justit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controleert of de instanties zich wel aan de regels hou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08:12:25Z</dcterms:created>
  <dc:creator>Nick</dc:creator>
  <dc:description/>
  <dc:language>en-US</dc:language>
  <cp:lastModifiedBy>Raemaekers, EJM (Esther) </cp:lastModifiedBy>
  <dcterms:modified xsi:type="dcterms:W3CDTF">2016-09-21T07:22:42Z</dcterms:modified>
  <cp:revision>22</cp:revision>
  <dc:subject/>
  <dc:title>Staatsinrichting van Nederland (deel 2)</dc:title>
</cp:coreProperties>
</file>