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33E-AC24-41EA-9B55-6B1E65B4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EBC-09C1-4F7A-8A4B-DF728EA2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A79-C28B-436E-BE0A-54D045FF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E8F-ABC5-4C8A-82FD-3E393235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074-6DE2-4DDB-BFB8-35D854E3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008-D9AC-49E2-A8F2-ABB13358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B8C-46C5-417B-9B8B-D8ACB5A6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9F2-5697-48BA-9073-66774927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374-B11B-4CC4-AC21-D9B64496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D9C-BA06-4443-BED8-654413DF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BD8-1AC9-464A-A59E-C389E658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164-ACDE-4001-9F17-0B8E7AFC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E7A2-1575-44BF-9023-91A692FF4B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uropese_grondwet"/>
          <p:cNvPicPr/>
          <p:nvPr/>
        </p:nvPicPr>
        <p:blipFill>
          <a:blip r:embed="rId1"/>
          <a:stretch/>
        </p:blipFill>
        <p:spPr>
          <a:xfrm>
            <a:off x="684360" y="4149720"/>
            <a:ext cx="2735280" cy="176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29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houd van de staatsinrichting van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_kamer"/>
          <p:cNvPicPr/>
          <p:nvPr/>
        </p:nvPicPr>
        <p:blipFill>
          <a:blip r:embed="rId2"/>
          <a:stretch/>
        </p:blipFill>
        <p:spPr>
          <a:xfrm>
            <a:off x="3411360" y="41497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weede+kamer_tcm10-13826"/>
          <p:cNvPicPr/>
          <p:nvPr/>
        </p:nvPicPr>
        <p:blipFill>
          <a:blip r:embed="rId3"/>
          <a:stretch/>
        </p:blipFill>
        <p:spPr>
          <a:xfrm>
            <a:off x="6072120" y="4167360"/>
            <a:ext cx="2664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ing van de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Raad van Ministers is het goedkeuren van wets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Europese Commissie is het doen van voorstellen voor nieuwe voorstellen. Bovendien controleren ze of de wetten goed worden uit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het Europees Parlement is het controleren van de Europese Commissie en het goed- of afkeuren van w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grond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een democratie moeten de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n en plicht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van de burgers beschermd worden in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grondwet is ontstaan na de Franse revolutie (1789), als een soort bescherming tegen de koning (overhe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uropese_grondwet"/>
          <p:cNvPicPr/>
          <p:nvPr/>
        </p:nvPicPr>
        <p:blipFill>
          <a:blip r:embed="rId1"/>
          <a:stretch/>
        </p:blipFill>
        <p:spPr>
          <a:xfrm>
            <a:off x="2195640" y="3500280"/>
            <a:ext cx="481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ondwet en grondrechten</a:t>
            </a:r>
            <a:br>
              <a:rPr sz="4000"/>
            </a:br>
            <a:br>
              <a:rPr sz="4000"/>
            </a:b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oek waarin de rechten en plichten van alle Nederlandse burgers in staa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e grondwet staan twee soorten grond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Klassiek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en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tegen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voor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godsdien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onderwij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vereniging, vergadering en beto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van peti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Referendum (nieuw recht, beschermt burger tegen de overhe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Social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ing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door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na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staanszek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onderwij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zondheidsz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oongelegen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woonbaarheid op het 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rechtsbij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Nationale ombudsma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 beschermt de burger tegen fouten die de overheid maakt. Is onafhankelij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is het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arlement zijn de Eerste Kamer en de Tweede kamer samen. Een ander woord voor parlement is de </a:t>
            </a: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Staten-gen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parlement wordt ook wel de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lksvertegenwoordiging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 omdat ze het hele Nederlandse  volk vertegenwoord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direct door de Nederlandse bevolking gekozen (d.m.v. Verkiezin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150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het Nederlandse volk tijdens verkiez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en wetgev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indirect gekozen door het Nederlandse vo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75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de leden van de Provinciale 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t het parlement voor 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ef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func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rmt een verbinding tussen het volk en de politiek.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Het volk kan stemmen wie er in de Tweede kamer moet komen. Hierdoor heeft het volk invloed op het bestuur in Ned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Het maken van wet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troleren van de regering.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oppositie controleert de re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gering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regeren, wordt ook wel e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alitie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ppositie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niet reg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n van de Eerste en Tweede Kamer</a:t>
            </a:r>
            <a:br>
              <a:rPr sz="3200"/>
            </a:br>
            <a:br>
              <a:rPr sz="40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same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Tweede Kamer heeft meer rechten dan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Eerst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interpellatie: vragenuurt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Tweed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recht van interpellatie: vragenuur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amendement (een bestaande wet kunnen aanpas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initiatief (zelf een nieuwe wet indie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komt e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ot stand in Neder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dat een wet gebruikt kan worden moeten de volgende stappen worden geno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kamerlid of minister moet de wet indi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Tweed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Eerst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koning(in) zet samen met de minister een handtekening onder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wet wordt gepubliceerd in het Staatsb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moet in deze volgorde, anders geen w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9680" y="5537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ederland is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rechtsstaa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, dit betekent: burgers en regering moeten zich houden aan de regels van de w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werking in Eur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om Europese samenwerk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a WO2 kwamen de landen in Europa tot het besef dat ze moesten samenwerken op economisch gebied om conflicten te voorkomen. Later kwam daar ook poltieke samenwerking b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chiedenis van de samenwerking in Euro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6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Europese gemeenschap: EGKS + EEG samengevoeg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Unie) vanaf nu ook politieke 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genwoordig hebben we in de EU drie instanties (orga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Europese commi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Straatsburg en Brus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raad van minist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wet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komt een wet tot stand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ze volgor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se Commissie (bedenkt de we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Parlement (stemt voor of tegen de wetten + controle commiss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 (beoordeelt de wetten op kwaliteit en haalbaarheid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en wet kan dus worden tegengehouden do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et Europees Parlement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krijgt niet genoeg ste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aad van Ministers: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is kwalitatief niet goed genoeg of niet haal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f van 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ontroleert of de instanties zich wel aan de regels hou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12:25Z</dcterms:created>
  <dc:creator>Nick</dc:creator>
  <dc:description/>
  <dc:language>en-US</dc:language>
  <cp:lastModifiedBy>Raemaekers, EJM (Esther) </cp:lastModifiedBy>
  <dcterms:modified xsi:type="dcterms:W3CDTF">2016-09-21T07:22:42Z</dcterms:modified>
  <cp:revision>22</cp:revision>
  <dc:subject/>
  <dc:title>Staatsinrichting van Nederland (deel 2)</dc:title>
</cp:coreProperties>
</file>