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BC7-4000-4D21-BEF2-612CE248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06B-116A-4B3A-9E3D-A7D995DC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91C-5C01-4BF0-B64D-CB2084E9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D83-219A-44F8-82BE-5AFB68EB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0F0-1238-418A-952E-5D00757F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7F5-ECFA-474E-A378-3282A791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E6F-27E3-4630-A25F-6913D89C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DC0-12A0-4246-8805-C9754333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B08-BF5E-44B4-8DEA-247751E2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99C-CCC4-482B-A1BD-52466EA8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D51-2676-44C7-9ECA-B831DD64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C36-C336-4981-BB64-1DE8A4D6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F197-D775-4115-BA06-81314E9631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toen.nu/media/3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ning_Willem_I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22100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lgemeenkiesrecht2_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11640" y="4221000"/>
            <a:ext cx="162252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50px-Thorbecke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2157480" y="422100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456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940360" y="4221000"/>
            <a:ext cx="3203640" cy="22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schiedenis van de strijd om het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ondw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0_B_Grondwet"/>
          <p:cNvPicPr/>
          <p:nvPr/>
        </p:nvPicPr>
        <p:blipFill>
          <a:blip r:embed="rId3"/>
          <a:srcRect l="10841" t="0" r="0" b="0"/>
          <a:stretch/>
        </p:blipFill>
        <p:spPr>
          <a:xfrm>
            <a:off x="4500720" y="620640"/>
            <a:ext cx="450036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716360" y="4724280"/>
            <a:ext cx="388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oning is onschendbaa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(is niet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antwoordelijk voor zijn ac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ministers zijn verantwoordelij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bestuur ligt in handen van de mini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eling van de m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Tot 1848 lag in Nederland alle macht bij de k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oning had wel ministers, maar die moesten uitvoeren wat de koning wi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Na 1848, veel verandering door de nieuwe grond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wee belangrijkste regels uit deze grondw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Koning is onschend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Ministers zijn verantwoordelijk (ministeriële verantwoordelijkh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andere belangrijke regel in de nieuwe grondwet w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Invoering van het censuskiesrecht 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(mannen die genoeg belasting betaalden mochten voortaan stemmen, vooral libera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e groep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olitieke strom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n 1848 tot ongeveer 1880 waren er vooral liberale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 werd in Nederland dus vooral een liberale politiek 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Openbaar onderwijs (niet gelovig onderwij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oral rijkere mensen hadden het go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a 1880 ontstonden er twee nieuwe politieke strom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fessionelen (Katholieken en Protestan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Socialisten (vaak armere arbe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Oorzaak van het ontstaan van deze nieuwe politieke strom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nfessionelen en socialisten wilden opkomen voor hun eigen rechten. In de Tweede Kamer zaten behoorlijk veel liberalen en bijna geen confessionelen of socia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zuil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anaf 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ond 1900 begint de verzuil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verdeling van d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menlev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groe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r ontstaan vier groep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zui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755640" y="530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de opkomst van de industrie in Nederland trokken veel mensen van het platteland naar de stad. In de stad wilden de mensen hun eigen geloof en politieke ideeen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080" y="47973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Oorzaak van de verzui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0920" y="3141720"/>
            <a:ext cx="71928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24360" y="3141720"/>
            <a:ext cx="71892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3141720"/>
            <a:ext cx="719280" cy="15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19960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13632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07124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00796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ci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050920" y="2781360"/>
            <a:ext cx="3527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662200" y="2781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derlandse maatschapp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4720" y="3141720"/>
            <a:ext cx="2159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Ze noemen deze groepen zuilen omdat ze samen de Nederlandse maatschappij droegen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6828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lke zuil heeft zijn eigen kenmer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houd er rekening mee dat dit de situatie is van ro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1480" y="1916280"/>
          <a:ext cx="8425080" cy="3395520"/>
        </p:xfrm>
        <a:graphic>
          <a:graphicData uri="http://schemas.openxmlformats.org/drawingml/2006/table">
            <a:tbl>
              <a:tblPr/>
              <a:tblGrid>
                <a:gridCol w="1622520"/>
                <a:gridCol w="1584360"/>
                <a:gridCol w="1584360"/>
                <a:gridCol w="1401840"/>
                <a:gridCol w="22320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stisch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ek lei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an  Rudolph Thorbe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 Schaep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ham Kuy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ter Jelles Troel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AP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(vooral voor rijk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onderwijs (voor ieder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drage democratis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dwetswijziging 1848 + Liberale grondrech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strijd + emancipatie Katholie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elijk denken in de wetg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ncipatie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gere burger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n uit alle lagen van de samenl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e luyden oftewel de midden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choolde)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7" descr="johan_rudolf_thorbecke"/>
          <p:cNvPicPr/>
          <p:nvPr/>
        </p:nvPicPr>
        <p:blipFill>
          <a:blip r:embed="rId1"/>
          <a:stretch/>
        </p:blipFill>
        <p:spPr>
          <a:xfrm>
            <a:off x="2440080" y="538632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18-01"/>
          <p:cNvPicPr/>
          <p:nvPr/>
        </p:nvPicPr>
        <p:blipFill>
          <a:blip r:embed="rId2"/>
          <a:stretch/>
        </p:blipFill>
        <p:spPr>
          <a:xfrm>
            <a:off x="3772080" y="53863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2" descr="Abraham%20Kuyper"/>
          <p:cNvPicPr/>
          <p:nvPr/>
        </p:nvPicPr>
        <p:blipFill>
          <a:blip r:embed="rId3"/>
          <a:stretch/>
        </p:blipFill>
        <p:spPr>
          <a:xfrm>
            <a:off x="5508720" y="5386320"/>
            <a:ext cx="1077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4" descr="troelstra"/>
          <p:cNvPicPr/>
          <p:nvPr/>
        </p:nvPicPr>
        <p:blipFill>
          <a:blip r:embed="rId4"/>
          <a:stretch/>
        </p:blipFill>
        <p:spPr>
          <a:xfrm>
            <a:off x="7093080" y="5443560"/>
            <a:ext cx="12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groepen voelden zich nog steeds achter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fessionelen (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katholie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protest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lden bijzonder onderwijs gesubsidieerd krijg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fessionelen streden hierin tegen de liberalen, die wilden dat onderwijs openbaar (niet christelijk) ble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choolstr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ocialis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wilden algemeen kiesrecht voor alle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wilden kiesrecht voor alle mannen, maar liberalen wilden dit liever n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4630680" y="3691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ten en confessionelen hielpen elkaar in de Tweede K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Pacificatie van 1917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al tussen socialisten en confessionelen om elkaar te steunen in de Tweed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Socialist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de subsidiering van bijzonder onderwi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Confessionel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algemeen kiesrecht voor mannen</a:t>
            </a:r>
            <a:r>
              <a:rPr b="1" lang="nl-NL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toevoeging bij het algemeen kiesrecht voor mannen werd het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strictenstelsel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vangen door het stelsel van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venredige vertegenwoord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Stelsel van evenredige vertegenwoordiging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rlijke verdeling zetels, dus 20 procent van de stemmen betekent 20 procent van de zetels in de Tweede Kam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en kiesrecht voor mannen en 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af 1917 hadden alleen alle mannen kiesrecht door de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 pacificatie van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uwen streden ook voor kiesrecht maar werden nooit serieus genomen, ze kregen in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1917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ssief kiesre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(ze mochten wel worden gekozen in de 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eindelijk kregen vrouwen in 1919 ook kies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t kiesrecht werd vooral gerealiseerd door de inspanning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Aletta Jacob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erste vrouw die mocht gaan studeren aan een universiteit, richtte tevens de VVV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je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Wilhelmina Drucker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oprichtster van de VvVK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or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esre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treven naar gelijke rechten van vrouwen op het gebied van onderwijs en kiesrecht wordt ook wel de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rste Feministische Gol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1"/>
          <p:cNvPicPr/>
          <p:nvPr/>
        </p:nvPicPr>
        <p:blipFill>
          <a:blip r:embed="rId1"/>
          <a:stretch/>
        </p:blipFill>
        <p:spPr>
          <a:xfrm>
            <a:off x="6012000" y="5589720"/>
            <a:ext cx="84456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Wilhelmina_Drucker"/>
          <p:cNvPicPr/>
          <p:nvPr/>
        </p:nvPicPr>
        <p:blipFill>
          <a:blip r:embed="rId2"/>
          <a:stretch/>
        </p:blipFill>
        <p:spPr>
          <a:xfrm>
            <a:off x="6856560" y="5589720"/>
            <a:ext cx="936360" cy="130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564000" y="6110280"/>
            <a:ext cx="22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letta 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ilhelmina Dru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1:10:56Z</dcterms:created>
  <dc:creator>Nick</dc:creator>
  <dc:description/>
  <dc:language>en-US</dc:language>
  <cp:lastModifiedBy>eraemaekers</cp:lastModifiedBy>
  <dcterms:modified xsi:type="dcterms:W3CDTF">2016-09-13T11:54:09Z</dcterms:modified>
  <cp:revision>21</cp:revision>
  <dc:subject/>
  <dc:title>Staatsinrichting van Nederland</dc:title>
</cp:coreProperties>
</file>