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D2-E2CF-4F44-9A65-8714CE331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F80-C482-46B0-A7F4-C155B0414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2E4-3CC8-43FF-A72F-3666A18C9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AF5-C1D8-44E0-B8A1-8E8F8799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1CCE-85CB-4BA4-B58C-CB972B949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658-4F6F-4D19-BDEA-31A6155C4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EA9-417D-4B53-8214-FC0DA35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3881-0C7C-4194-B649-2F8008F1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E1F-32EA-404C-B450-A821CB9C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FC1-663E-4955-A334-762937D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6532-D1EB-49FE-BDD1-1DDACBF7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568A-3334-4CFB-8E24-6BFA77C9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5F7DCC-F1FC-4F2E-B1A4-F4E3C14B61F4}" type="datetime">
              <a:rPr b="0" lang="nl-NL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DB2A3ED-7794-464C-B635-0D38AC6D75C3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jaren zesti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Afbeelding 3" descr=""/>
          <p:cNvPicPr/>
          <p:nvPr/>
        </p:nvPicPr>
        <p:blipFill>
          <a:blip r:embed="rId1"/>
          <a:stretch/>
        </p:blipFill>
        <p:spPr>
          <a:xfrm>
            <a:off x="225360" y="1212840"/>
            <a:ext cx="3175200" cy="4610160"/>
          </a:xfrm>
          <a:prstGeom prst="rect">
            <a:avLst/>
          </a:prstGeom>
          <a:ln w="0">
            <a:noFill/>
          </a:ln>
        </p:spPr>
      </p:pic>
      <p:pic>
        <p:nvPicPr>
          <p:cNvPr id="66" name="Afbeelding 4" descr=""/>
          <p:cNvPicPr/>
          <p:nvPr/>
        </p:nvPicPr>
        <p:blipFill>
          <a:blip r:embed="rId2"/>
          <a:stretch/>
        </p:blipFill>
        <p:spPr>
          <a:xfrm>
            <a:off x="3800520" y="1417680"/>
            <a:ext cx="508932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rovo’s: proberen zich af te zetten tegen de mensen met macht (politie, regering, kerk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zxYXLcy6WP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b2YSAVH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Afbeelding 3" descr=""/>
          <p:cNvPicPr/>
          <p:nvPr/>
        </p:nvPicPr>
        <p:blipFill>
          <a:blip r:embed="rId1"/>
          <a:stretch/>
        </p:blipFill>
        <p:spPr>
          <a:xfrm>
            <a:off x="0" y="274680"/>
            <a:ext cx="4397400" cy="4397400"/>
          </a:xfrm>
          <a:prstGeom prst="rect">
            <a:avLst/>
          </a:prstGeom>
          <a:ln w="0">
            <a:noFill/>
          </a:ln>
        </p:spPr>
      </p:pic>
      <p:pic>
        <p:nvPicPr>
          <p:cNvPr id="72" name="Afbeelding 4" descr=""/>
          <p:cNvPicPr/>
          <p:nvPr/>
        </p:nvPicPr>
        <p:blipFill>
          <a:blip r:embed="rId2"/>
          <a:stretch/>
        </p:blipFill>
        <p:spPr>
          <a:xfrm>
            <a:off x="3619440" y="2927520"/>
            <a:ext cx="5524560" cy="36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9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ippie’s: lange haren, wijde kleding, veel bloemen, vrije gedachten over sex en drugs, willen niet trouwen maar samenwo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1"/>
          <a:stretch/>
        </p:blipFill>
        <p:spPr>
          <a:xfrm>
            <a:off x="2100240" y="3068640"/>
            <a:ext cx="2754360" cy="1835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2"/>
          <a:stretch/>
        </p:blipFill>
        <p:spPr>
          <a:xfrm>
            <a:off x="144360" y="4410000"/>
            <a:ext cx="2305080" cy="1990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3"/>
          <a:stretch/>
        </p:blipFill>
        <p:spPr>
          <a:xfrm>
            <a:off x="4176720" y="468648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4"/>
          <a:stretch/>
        </p:blipFill>
        <p:spPr>
          <a:xfrm>
            <a:off x="6654960" y="3227400"/>
            <a:ext cx="229536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"/>
          <p:cNvPicPr/>
          <p:nvPr/>
        </p:nvPicPr>
        <p:blipFill>
          <a:blip r:embed="rId1"/>
          <a:stretch/>
        </p:blipFill>
        <p:spPr>
          <a:xfrm>
            <a:off x="262080" y="1001880"/>
            <a:ext cx="3781440" cy="4290840"/>
          </a:xfrm>
          <a:prstGeom prst="rect">
            <a:avLst/>
          </a:prstGeom>
          <a:ln w="0">
            <a:noFill/>
          </a:ln>
        </p:spPr>
      </p:pic>
      <p:pic>
        <p:nvPicPr>
          <p:cNvPr id="83" name="Afbeelding 4" descr=""/>
          <p:cNvPicPr/>
          <p:nvPr/>
        </p:nvPicPr>
        <p:blipFill>
          <a:blip r:embed="rId2"/>
          <a:stretch/>
        </p:blipFill>
        <p:spPr>
          <a:xfrm>
            <a:off x="3619440" y="1001880"/>
            <a:ext cx="53816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eministen: willen meer zijn dan huisvrouw, kiezen of zij wel of geen kinderen willen krijgen. Dolle Mina’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1343160" y="3471840"/>
            <a:ext cx="61783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Afbeelding 3" descr=""/>
          <p:cNvPicPr/>
          <p:nvPr/>
        </p:nvPicPr>
        <p:blipFill>
          <a:blip r:embed="rId1"/>
          <a:stretch/>
        </p:blipFill>
        <p:spPr>
          <a:xfrm>
            <a:off x="225360" y="274680"/>
            <a:ext cx="5079960" cy="3848040"/>
          </a:xfrm>
          <a:prstGeom prst="rect">
            <a:avLst/>
          </a:prstGeom>
          <a:ln w="0">
            <a:noFill/>
          </a:ln>
        </p:spPr>
      </p:pic>
      <p:pic>
        <p:nvPicPr>
          <p:cNvPr id="90" name="Afbeelding 4" descr=""/>
          <p:cNvPicPr/>
          <p:nvPr/>
        </p:nvPicPr>
        <p:blipFill>
          <a:blip r:embed="rId2"/>
          <a:stretch/>
        </p:blipFill>
        <p:spPr>
          <a:xfrm>
            <a:off x="4446720" y="3267000"/>
            <a:ext cx="4433760" cy="32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Kleinere wer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oor de TV, auto, internet is alle binnen handberei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596880" y="3589200"/>
            <a:ext cx="2076480" cy="2210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2"/>
          <a:stretch/>
        </p:blipFill>
        <p:spPr>
          <a:xfrm>
            <a:off x="3133800" y="3089160"/>
            <a:ext cx="2876400" cy="15908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3"/>
          <a:stretch/>
        </p:blipFill>
        <p:spPr>
          <a:xfrm>
            <a:off x="6427800" y="409428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Iedereen een au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Nederlanders zijn in de jaren zestig rijk geworden, maar hoe is d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luk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Afbeelding 3" descr=""/>
          <p:cNvPicPr/>
          <p:nvPr/>
        </p:nvPicPr>
        <p:blipFill>
          <a:blip r:embed="rId1"/>
          <a:stretch/>
        </p:blipFill>
        <p:spPr>
          <a:xfrm>
            <a:off x="5448240" y="2424240"/>
            <a:ext cx="3016440" cy="40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De schade herstell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s er in Europa geen geld om de oorlogsschade te herstell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arshallhulp: VS leent geld uit aan Europese landen om te beginnen met de wederopbou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aarom geeft VS Marshallhulp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inster Marshall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Afbeelding 4" descr=""/>
          <p:cNvPicPr/>
          <p:nvPr/>
        </p:nvPicPr>
        <p:blipFill>
          <a:blip r:embed="rId1"/>
          <a:stretch/>
        </p:blipFill>
        <p:spPr>
          <a:xfrm>
            <a:off x="4000680" y="828720"/>
            <a:ext cx="41558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Afbeelding 4" descr=""/>
          <p:cNvPicPr/>
          <p:nvPr/>
        </p:nvPicPr>
        <p:blipFill>
          <a:blip r:embed="rId1"/>
          <a:stretch/>
        </p:blipFill>
        <p:spPr>
          <a:xfrm>
            <a:off x="3516480" y="2509920"/>
            <a:ext cx="5627520" cy="3616200"/>
          </a:xfrm>
          <a:prstGeom prst="rect">
            <a:avLst/>
          </a:prstGeom>
          <a:ln w="0">
            <a:noFill/>
          </a:ln>
        </p:spPr>
      </p:pic>
      <p:pic>
        <p:nvPicPr>
          <p:cNvPr id="54" name="Afbeelding 5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489096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Een zekere toekom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herstel van de economie stond na WOII voorop. De regering bepaalde hoe hoog de lonen mochten zijn en wat de prijzen van de producten wa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kwamen uitkeringen voor mensen die niet konden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zorgingssta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aren zeventig: andere landen konden goedkoper produceren, meer mensen op kantoo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anaf de jaren negentig computer, internet en e-mai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Jeugdcult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 de oorlog: kinderen gingen na de lagere school werk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a WOII waren er meer mensen nodig met een opleiding, ouders hadden meer geld dus kinderen mochten hun verdiende geld zelf hou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Jeugdcultuu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Calibri"/>
              </a:rPr>
              <a:t>Nieuwe ideeë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ozems: jaren 50, brommers, leren jasjes, spijkerbroe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tpzV_0l5I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ttp://www.youtube.com/watch?v=HPoNH4gidL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14:18:59Z</dcterms:created>
  <dc:creator>Lara Ras</dc:creator>
  <dc:description/>
  <dc:language>en-US</dc:language>
  <cp:lastModifiedBy>Ole de Vos</cp:lastModifiedBy>
  <dcterms:modified xsi:type="dcterms:W3CDTF">2016-06-07T13:06:21Z</dcterms:modified>
  <cp:revision>5</cp:revision>
  <dc:subject/>
  <dc:title>6.3: De jaren zestig</dc:title>
</cp:coreProperties>
</file>