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12.jpeg" ContentType="image/jpeg"/>
  <Override PartName="/ppt/media/image13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29.jpeg" ContentType="image/jpeg"/>
  <Override PartName="/ppt/media/image5.jpeg" ContentType="image/jpeg"/>
  <Override PartName="/ppt/media/image3.png" ContentType="image/png"/>
  <Override PartName="/ppt/media/image26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5.png" ContentType="image/pn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FAE7-0CB7-442A-92A3-0DE26C642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ECE5-9E8D-4CF9-8C56-94E7C9D82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516D-F879-4DA8-9193-F3EFF82E4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82C5-9268-443E-A1AA-5D6A7ED2E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EF17-1E60-4510-A45E-31935B08C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0CBF-F215-4ADD-BEA5-81DA2879C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01EC-3326-4D33-AB1D-D66AF7561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0358-9667-493D-99EF-CB11EE0FB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1D6E-425E-4C33-BACF-7316C9320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1E48-2438-4964-9AF8-DF2668F06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ABC5-9557-48E5-B603-4C254CC3A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2269-C49B-4BDC-A83E-59B5C4268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EDF70-DA6B-4B78-8824-01DD9CFA4790}" type="slidenum">
              <a:rPr b="0" lang="nl-NL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upload.wikimedia.org/wikipedia/commons/8/87/Cold_war_europe_military_alliances_map.png" TargetMode="External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jpeg"/><Relationship Id="rId3" Type="http://schemas.openxmlformats.org/officeDocument/2006/relationships/hyperlink" Target="http://kunststad.nl/wordpress/wp-content/uploads/03_07_berlinermauer.jpg" TargetMode="External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84360" y="2349000"/>
            <a:ext cx="6858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4500" spc="-1" strike="noStrike">
                <a:solidFill>
                  <a:srgbClr val="000000"/>
                </a:solidFill>
                <a:latin typeface="Calibri Light"/>
              </a:rPr>
              <a:t>Koude Oorlog</a:t>
            </a:r>
            <a:endParaRPr b="0" lang="en-US" sz="4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43000" y="516708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1945-198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http://educatie-en-school.infonu.nl/artikel-foto-upload/samenvattingen/36854-de-koude-oorlog.jpg"/>
          <p:cNvPicPr/>
          <p:nvPr/>
        </p:nvPicPr>
        <p:blipFill>
          <a:blip r:embed="rId1"/>
          <a:stretch/>
        </p:blipFill>
        <p:spPr>
          <a:xfrm>
            <a:off x="900000" y="189000"/>
            <a:ext cx="3214800" cy="3214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http://www.blikopdewereld.nl/Ontwikkeling/images/stories/fenoverh10/vrdeling%20duisland%20na%20woii%20feniks%20hfst%2010.gif"/>
          <p:cNvPicPr/>
          <p:nvPr/>
        </p:nvPicPr>
        <p:blipFill>
          <a:blip r:embed="rId2"/>
          <a:stretch/>
        </p:blipFill>
        <p:spPr>
          <a:xfrm>
            <a:off x="4716360" y="333360"/>
            <a:ext cx="396252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Weste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West-Europa ging meer samenwerken met V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100" spc="-1" strike="noStrike" u="sng">
                <a:solidFill>
                  <a:srgbClr val="000000"/>
                </a:solidFill>
                <a:uFillTx/>
                <a:latin typeface="Calibri"/>
              </a:rPr>
              <a:t>Blokvorming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Westblok: West-Europa met V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Oostblok: SU met ingepikte landen 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1955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907560"/>
            <a:ext cx="822960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2 Duitslanden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West: Bonds Republiek Duitsland (BRD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Oost: Duitse Democratische Republiek (DDR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http://www.trouw.nl/multimedia/archive/00239/OostenWestDuitsland_239038a.jpg"/>
          <p:cNvPicPr/>
          <p:nvPr/>
        </p:nvPicPr>
        <p:blipFill>
          <a:blip r:embed="rId1"/>
          <a:stretch/>
        </p:blipFill>
        <p:spPr>
          <a:xfrm>
            <a:off x="3786120" y="2637000"/>
            <a:ext cx="302904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Koude Oorlog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Die 2 blokken kregen steeds meer ruzi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Had een oorlog kunnen worden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Daarom naam: Koude Oorlo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Europa is gesplitst in 2: door groot hekwerk: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100" spc="-1" strike="noStrike" u="sng">
                <a:solidFill>
                  <a:srgbClr val="000000"/>
                </a:solidFill>
                <a:uFillTx/>
                <a:latin typeface="Calibri"/>
              </a:rPr>
              <a:t>IJzeren Gordijn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28560" y="1825200"/>
            <a:ext cx="7886880" cy="43513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http://www.michaelbrochstein.com/photo/images/czech03/cz03023a.jpg"/>
          <p:cNvPicPr/>
          <p:nvPr/>
        </p:nvPicPr>
        <p:blipFill>
          <a:blip r:embed="rId2"/>
          <a:stretch/>
        </p:blipFill>
        <p:spPr>
          <a:xfrm>
            <a:off x="642960" y="285840"/>
            <a:ext cx="5037120" cy="3357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http://www.freewebs.com/pbbduitsland/muur.jpg"/>
          <p:cNvPicPr/>
          <p:nvPr/>
        </p:nvPicPr>
        <p:blipFill>
          <a:blip r:embed="rId3"/>
          <a:stretch/>
        </p:blipFill>
        <p:spPr>
          <a:xfrm>
            <a:off x="4572000" y="3857760"/>
            <a:ext cx="407520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28560" y="1825200"/>
            <a:ext cx="7886880" cy="43513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http://www.hongarijevandaag.nl/portal2/images/stories/img2009/ironcurtain_29311s.jpg"/>
          <p:cNvPicPr/>
          <p:nvPr/>
        </p:nvPicPr>
        <p:blipFill>
          <a:blip r:embed="rId2"/>
          <a:stretch/>
        </p:blipFill>
        <p:spPr>
          <a:xfrm>
            <a:off x="428760" y="357120"/>
            <a:ext cx="795312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Marshallplan</a:t>
            </a: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	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04920" y="1412640"/>
            <a:ext cx="8686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Amerika ging Europa geld aanbieden om hun land op te bouwe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Oostbloklanden mochten er (van de SU!) geen gebruik van maken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Zij kregen een communistische economie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Om Marshallplan te kunnen invoeren: West-Duitsland kreeg een nieuwe munt: Duitse Mark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Stalin was het hier niet blij mee!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Blokkade van berlij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04920" y="1197000"/>
            <a:ext cx="8686800" cy="48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Stalin was zo boos, dat zijn leger alle wegen naar West-Berlijn blokkeerde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VS, GB en Fr moesten Berlijn maar verlaten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Ze gaven niet op: voedsel werd gebracht via luchtbrug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Na 9 maanden gaf Stalin op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www.aeropedia.nl/birds/max/berlinairlift.jpg"/>
          <p:cNvPicPr/>
          <p:nvPr/>
        </p:nvPicPr>
        <p:blipFill>
          <a:blip r:embed="rId1"/>
          <a:stretch/>
        </p:blipFill>
        <p:spPr>
          <a:xfrm>
            <a:off x="4859280" y="4459320"/>
            <a:ext cx="3570480" cy="23986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http://static.rnw.nl/migratie/www.wereldomroep.nl/images/assets/13737091"/>
          <p:cNvPicPr/>
          <p:nvPr/>
        </p:nvPicPr>
        <p:blipFill>
          <a:blip r:embed="rId2"/>
          <a:stretch/>
        </p:blipFill>
        <p:spPr>
          <a:xfrm>
            <a:off x="755640" y="4494240"/>
            <a:ext cx="3384720" cy="23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Duidelijk 2 blokken: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Augustus 1949: Stalin deed eerste atoombom-test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VS wilde West-Europa beschermen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Start NAVO: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NAVO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3357720"/>
            <a:ext cx="8229600" cy="273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Leden: West-Europa, VS en Canada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De VS beschermden ons met atoombommen tegen de Sovjet-Unie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http://www.edu-kw1c.nl/460/internationalisering/_derived/reader_navo.htm_txt_Map_of_NATO_countries.gif"/>
          <p:cNvPicPr/>
          <p:nvPr/>
        </p:nvPicPr>
        <p:blipFill>
          <a:blip r:embed="rId1"/>
          <a:stretch/>
        </p:blipFill>
        <p:spPr>
          <a:xfrm>
            <a:off x="1042920" y="549360"/>
            <a:ext cx="78710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Warschaupac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1955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SU start eigen militaire pact in Oost-Europa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Landen werden verplicht lid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28560" y="1825200"/>
            <a:ext cx="7886880" cy="435132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2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http://www.strijdbewijs.nl/berlijn/point05.jpg"/>
          <p:cNvPicPr/>
          <p:nvPr/>
        </p:nvPicPr>
        <p:blipFill>
          <a:blip r:embed="rId2"/>
          <a:stretch/>
        </p:blipFill>
        <p:spPr>
          <a:xfrm>
            <a:off x="5135400" y="214200"/>
            <a:ext cx="3632400" cy="28576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http://www.anno.nl/gfx/content/koude-oorlog-kaart.jpg"/>
          <p:cNvPicPr/>
          <p:nvPr/>
        </p:nvPicPr>
        <p:blipFill>
          <a:blip r:embed="rId3"/>
          <a:stretch/>
        </p:blipFill>
        <p:spPr>
          <a:xfrm>
            <a:off x="428760" y="3071880"/>
            <a:ext cx="735624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28560" y="1825200"/>
            <a:ext cx="7886880" cy="43513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Bestand:Cold war europe military alliances map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42960" y="357120"/>
            <a:ext cx="6143760" cy="63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containmen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Meer landen communistisch: China, Noord-Vietnam, Noord-Korea, Cuba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De Amerikanen wilden communisme tegenhouden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100" spc="-1" strike="noStrike" u="sng">
                <a:solidFill>
                  <a:srgbClr val="000000"/>
                </a:solidFill>
                <a:uFillTx/>
                <a:latin typeface="Calibri"/>
              </a:rPr>
              <a:t>Containmentpolitiek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Ruzies tussen 2 kanten: 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Beide landen wilden meer kernwapens dan vijand hebben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100" spc="-1" strike="noStrike" u="sng">
                <a:solidFill>
                  <a:srgbClr val="000000"/>
                </a:solidFill>
                <a:uFillTx/>
                <a:latin typeface="Calibri"/>
              </a:rPr>
              <a:t>Bewapeningswedloop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: wie had de meeste atoombommen? 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In 1961 werd het gevaarlijk: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Regering van Oost-Duitsland gaat een muur door Berlijn bouwen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Berlijnse Muur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523880"/>
            <a:ext cx="3827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Teveel mensen vluchtten van Oost-Duitsland naar West-Duitsland via Berlijn: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2 miljoen in 16 jaar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http://www.trouw.nl/multimedia/archive/00239/OostenWestDuitsland_239038a.jpg"/>
          <p:cNvPicPr/>
          <p:nvPr/>
        </p:nvPicPr>
        <p:blipFill>
          <a:blip r:embed="rId1"/>
          <a:stretch/>
        </p:blipFill>
        <p:spPr>
          <a:xfrm>
            <a:off x="4427640" y="476280"/>
            <a:ext cx="4429080" cy="60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10" name="Tijdelijke aanduiding voor inhoud 3" descr="BERLIJN.png"/>
          <p:cNvPicPr/>
          <p:nvPr/>
        </p:nvPicPr>
        <p:blipFill>
          <a:blip r:embed="rId1"/>
          <a:stretch/>
        </p:blipFill>
        <p:spPr>
          <a:xfrm>
            <a:off x="714240" y="357120"/>
            <a:ext cx="764388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28560" y="1825200"/>
            <a:ext cx="7886880" cy="43513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http://www.obsdetimp.nl/uploads/html/groep8/geschiedenis/een-verdeelde-wereld/berlijnse%20muur.jpg"/>
          <p:cNvPicPr/>
          <p:nvPr/>
        </p:nvPicPr>
        <p:blipFill>
          <a:blip r:embed="rId2"/>
          <a:stretch/>
        </p:blipFill>
        <p:spPr>
          <a:xfrm>
            <a:off x="714240" y="28584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http://www.digischool.nl/kleioscoop/camerascoop/koude%20oorlog/de-muurf.jpg"/>
          <p:cNvPicPr/>
          <p:nvPr/>
        </p:nvPicPr>
        <p:blipFill>
          <a:blip r:embed="rId3"/>
          <a:stretch/>
        </p:blipFill>
        <p:spPr>
          <a:xfrm>
            <a:off x="3786120" y="3000240"/>
            <a:ext cx="4786560" cy="36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28560" y="1825200"/>
            <a:ext cx="7886880" cy="43513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http://kunststad.nl/wordpress/wp-content/uploads/kaartje-van-berlijn.jpg"/>
          <p:cNvPicPr/>
          <p:nvPr/>
        </p:nvPicPr>
        <p:blipFill>
          <a:blip r:embed="rId2"/>
          <a:stretch/>
        </p:blipFill>
        <p:spPr>
          <a:xfrm>
            <a:off x="3214800" y="2500200"/>
            <a:ext cx="5742000" cy="41436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Historische foto tijdens de bouw van de muur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14200" y="285840"/>
            <a:ext cx="39909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1962 ( jaar later): Toch Oorlog? 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VS kwam erachter dat er Russische raketten op eiland Cuba lagen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VS was laaiend: wat een lef van de SU!!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Kennedy blokkeerde Cuba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met marineschepen, en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eiste dat SU de rakette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weg zou halen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Chroesjtsjov gaf toe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6" descr="http://www.ufo1.com/wp-content/uploads/2009/05/john_f__kennedy_white_house_color_photo_portrait.jpg"/>
          <p:cNvPicPr/>
          <p:nvPr/>
        </p:nvPicPr>
        <p:blipFill>
          <a:blip r:embed="rId1"/>
          <a:stretch/>
        </p:blipFill>
        <p:spPr>
          <a:xfrm>
            <a:off x="4788000" y="4581360"/>
            <a:ext cx="1728720" cy="2067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http://www.christenhistorici.nl/photoshow.php?id=472&amp;type=thumb"/>
          <p:cNvPicPr/>
          <p:nvPr/>
        </p:nvPicPr>
        <p:blipFill>
          <a:blip r:embed="rId2"/>
          <a:stretch/>
        </p:blipFill>
        <p:spPr>
          <a:xfrm>
            <a:off x="6804000" y="3141720"/>
            <a:ext cx="1871640" cy="21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28560" y="1825200"/>
            <a:ext cx="7886880" cy="43513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http://www.jfklibrary.org/NR/rdonlyres/77247A3D-DCEB-4E4B-913D-D6EE591033A8/40233/77247A3DDCEB4E4B913DD6EE591033A8.jpg"/>
          <p:cNvPicPr/>
          <p:nvPr/>
        </p:nvPicPr>
        <p:blipFill>
          <a:blip r:embed="rId2"/>
          <a:stretch/>
        </p:blipFill>
        <p:spPr>
          <a:xfrm>
            <a:off x="250920" y="333360"/>
            <a:ext cx="741672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42560" y="1523880"/>
            <a:ext cx="3714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Cubacrisis duurde 10 dagen,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Wereld was doodbang voor atoomoorlog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2" descr="http://alexanderdenton.net/images/cmc_map_missile_range.jpg"/>
          <p:cNvPicPr/>
          <p:nvPr/>
        </p:nvPicPr>
        <p:blipFill>
          <a:blip r:embed="rId1"/>
          <a:stretch/>
        </p:blipFill>
        <p:spPr>
          <a:xfrm>
            <a:off x="3929040" y="214200"/>
            <a:ext cx="4878360" cy="64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28560" y="1825200"/>
            <a:ext cx="7886880" cy="4351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http://website-software.nl/images/stories/internet_situatie_analyse/geschiedenis_internet_koude_oorlog.jpg"/>
          <p:cNvPicPr/>
          <p:nvPr/>
        </p:nvPicPr>
        <p:blipFill>
          <a:blip r:embed="rId2"/>
          <a:stretch/>
        </p:blipFill>
        <p:spPr>
          <a:xfrm>
            <a:off x="285840" y="214200"/>
            <a:ext cx="3467160" cy="3124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http://educatie-en-school.infonu.nl/artikel-foto-upload/samenvattingen/36854-de-koude-oorlog.jpg"/>
          <p:cNvPicPr/>
          <p:nvPr/>
        </p:nvPicPr>
        <p:blipFill>
          <a:blip r:embed="rId3"/>
          <a:stretch/>
        </p:blipFill>
        <p:spPr>
          <a:xfrm>
            <a:off x="1357200" y="3357720"/>
            <a:ext cx="3214800" cy="3214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http://www.blikopdewereld.nl/Ontwikkeling/images/stories/fenoverh10/vrdeling%20duisland%20na%20woii%20feniks%20hfst%2010.gif"/>
          <p:cNvPicPr/>
          <p:nvPr/>
        </p:nvPicPr>
        <p:blipFill>
          <a:blip r:embed="rId4"/>
          <a:stretch/>
        </p:blipFill>
        <p:spPr>
          <a:xfrm>
            <a:off x="4786200" y="714240"/>
            <a:ext cx="396252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28560" y="1825200"/>
            <a:ext cx="7886880" cy="4351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" descr="http://www.sfinx-online.nl/assets/sfinx/Koude%20Oorlog%2005%20copy.gif"/>
          <p:cNvPicPr/>
          <p:nvPr/>
        </p:nvPicPr>
        <p:blipFill>
          <a:blip r:embed="rId2"/>
          <a:stretch/>
        </p:blipFill>
        <p:spPr>
          <a:xfrm>
            <a:off x="285840" y="428760"/>
            <a:ext cx="8286840" cy="619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Na Cubacrisi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Beide partijen waren geschrokken van mogelijk oorlog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Ze wilden wapens verminderen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Duurde in totaal 30 jaar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Belangrijkste leiders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VS: Reagan 1981-1989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SU: Gorbatsjov 1985-1991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4" descr="http://www.s9.com/images/portraits/25091_Reagan-Ronald-Wilson.jpg"/>
          <p:cNvPicPr/>
          <p:nvPr/>
        </p:nvPicPr>
        <p:blipFill>
          <a:blip r:embed="rId1"/>
          <a:stretch/>
        </p:blipFill>
        <p:spPr>
          <a:xfrm>
            <a:off x="6875640" y="206064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http://www.duurzameenergiethuis.nl/wp-content/uploads/2009/10/gorbatsjov.jpg"/>
          <p:cNvPicPr/>
          <p:nvPr/>
        </p:nvPicPr>
        <p:blipFill>
          <a:blip r:embed="rId2"/>
          <a:stretch/>
        </p:blipFill>
        <p:spPr>
          <a:xfrm>
            <a:off x="6372360" y="4648320"/>
            <a:ext cx="23810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Reaga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Wilde bewapeningswedloop winnen met ruimteschild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http://www.kennislink.nl/upload/123806_276_1101374857379-raketaanval_tekst.jpg"/>
          <p:cNvPicPr/>
          <p:nvPr/>
        </p:nvPicPr>
        <p:blipFill>
          <a:blip r:embed="rId1"/>
          <a:stretch/>
        </p:blipFill>
        <p:spPr>
          <a:xfrm>
            <a:off x="179280" y="2852640"/>
            <a:ext cx="866952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SU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Economie was erg slecht in SU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Gorbatsjov moest gaan praten over ontwapening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Gorbatsjov moest ook eigen land veranderen; communisme werkte niet zo goed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100" spc="-1" strike="noStrike" u="sng">
                <a:solidFill>
                  <a:srgbClr val="000000"/>
                </a:solidFill>
                <a:uFillTx/>
                <a:latin typeface="Calibri"/>
              </a:rPr>
              <a:t>Glasnost</a:t>
            </a: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: vrije mening geven, verkiezingen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2" descr="http://ufo.be/rubrieken/geschiedenis/rapporten/High-Tech/aimge/SDI/t25479.jpg"/>
          <p:cNvPicPr/>
          <p:nvPr/>
        </p:nvPicPr>
        <p:blipFill>
          <a:blip r:embed="rId1"/>
          <a:stretch/>
        </p:blipFill>
        <p:spPr>
          <a:xfrm>
            <a:off x="6948360" y="260280"/>
            <a:ext cx="1857600" cy="24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Gevolg van veranderingen: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Opstanden in bezette landen in Oostblok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Zij wilden ook vrije verkiezingen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Overal verloren communistische partijen hun macht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9 november 1989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268280"/>
            <a:ext cx="868680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Einde Koude Oorlo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Einde communisme in Oost-Duitslan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Berlijnse muur werd gesloopt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2" descr="http://harryvanbommel.sp.nl/weblog/files/2007/11/berlijnse_muur.jpg"/>
          <p:cNvPicPr/>
          <p:nvPr/>
        </p:nvPicPr>
        <p:blipFill>
          <a:blip r:embed="rId1"/>
          <a:stretch/>
        </p:blipFill>
        <p:spPr>
          <a:xfrm>
            <a:off x="4788000" y="3068640"/>
            <a:ext cx="3744720" cy="37638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http://www.demorgen.be/static/FOTO/pe/1/12/11/art_large_736061.jpg"/>
          <p:cNvPicPr/>
          <p:nvPr/>
        </p:nvPicPr>
        <p:blipFill>
          <a:blip r:embed="rId2"/>
          <a:stretch/>
        </p:blipFill>
        <p:spPr>
          <a:xfrm>
            <a:off x="1071720" y="3071880"/>
            <a:ext cx="2371680" cy="35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857760" y="1523880"/>
            <a:ext cx="4829040" cy="11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Duitsland werd weer 1 lan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2" descr="http://europa.eu/abc/12lessons/images/content_berlin_wall.jpg"/>
          <p:cNvPicPr/>
          <p:nvPr/>
        </p:nvPicPr>
        <p:blipFill>
          <a:blip r:embed="rId1"/>
          <a:stretch/>
        </p:blipFill>
        <p:spPr>
          <a:xfrm>
            <a:off x="214200" y="214200"/>
            <a:ext cx="3489480" cy="26434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http://www.volkskrant.nl/multimedia/archive/00151/muur_151130b.jpg"/>
          <p:cNvPicPr/>
          <p:nvPr/>
        </p:nvPicPr>
        <p:blipFill>
          <a:blip r:embed="rId2"/>
          <a:stretch/>
        </p:blipFill>
        <p:spPr>
          <a:xfrm>
            <a:off x="3071880" y="2786040"/>
            <a:ext cx="581004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1991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Einde communisme in Sovjet-Unie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Oostblok bestond niet meer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Sovjet-Unie valt uit elkaar: heet nu weer Rusland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Tijdens WO II: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VS, GB en SU vochten tegen de nazi´s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Fr. en GB waren niet enige grootmachten in de wereld meer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Raakten kolonies kwijt, dus macht en grondstoffen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SU en VS waren nieuwe grootmachten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Calibri Light"/>
              </a:rPr>
              <a:t>Plannen met Europa na WO II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28200" y="1825200"/>
            <a:ext cx="38862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bf9000"/>
              </a:buClr>
              <a:buFont typeface="Wingdings 2" charset="2"/>
              <a:buChar char="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2100" spc="-1" strike="noStrike" u="sng">
                <a:solidFill>
                  <a:srgbClr val="bf9000"/>
                </a:solidFill>
                <a:uFillTx/>
                <a:latin typeface="Calibri"/>
              </a:rPr>
              <a:t>SU (Rusland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Rusland mocht nooit meer aangevallen worden.</a:t>
            </a:r>
            <a:r>
              <a:rPr b="0" lang="en-GB" sz="2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Er moest een buffer tussen SU en West-Europa komen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Buffer van bevriende lande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28880" y="1825200"/>
            <a:ext cx="38862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bf9000"/>
              </a:buClr>
              <a:buFont typeface="Wingdings 2" charset="2"/>
              <a:buChar char="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GB" sz="2100" spc="-1" strike="noStrike" u="sng">
                <a:solidFill>
                  <a:srgbClr val="bf9000"/>
                </a:solidFill>
                <a:uFillTx/>
                <a:latin typeface="Calibri"/>
              </a:rPr>
              <a:t>VS</a:t>
            </a:r>
            <a:r>
              <a:rPr b="0" lang="en-GB" sz="21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Europa moest vrij zijn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Vrije volken die in vrijheid leefden, democratie, en zelfgekozen regeringen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Problemen SU en VS: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6840" y="1523880"/>
            <a:ext cx="8472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VS: democratisch, kapitalistisch, vrijhei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SU: dictatuur, communistisch, gelijkheid,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Dat botst!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Februari 1945: vergadering bij Jalta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Afspraak: Duitsland en Berlijn zouden na de oorlog verdeeld worden in bezettingszones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Alle geallieerden zouden in 1 zone invloed krijgen: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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100" spc="-1" strike="noStrike" u="sng">
                <a:solidFill>
                  <a:srgbClr val="000000"/>
                </a:solidFill>
                <a:uFillTx/>
                <a:latin typeface="Calibri"/>
              </a:rPr>
              <a:t>= Invloedssferen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28560" y="1825200"/>
            <a:ext cx="7886880" cy="43513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http://www.blikopdewereld.nl/Ontwikkeling/images/stories/fenoverh10/vrdeling%20duisland%20na%20woii%20feniks%20hfst%2010.gif"/>
          <p:cNvPicPr/>
          <p:nvPr/>
        </p:nvPicPr>
        <p:blipFill>
          <a:blip r:embed="rId2"/>
          <a:stretch/>
        </p:blipFill>
        <p:spPr>
          <a:xfrm>
            <a:off x="1143000" y="214200"/>
            <a:ext cx="5857920" cy="62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628560" y="1825200"/>
            <a:ext cx="7886880" cy="4351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http://upload.wikimedia.org/wikipedia/commons/thumb/b/bb/Deutschland_Besatzungszonen_1945.png/240px-Deutschland_Besatzungszonen_1945.png"/>
          <p:cNvPicPr/>
          <p:nvPr/>
        </p:nvPicPr>
        <p:blipFill>
          <a:blip r:embed="rId2"/>
          <a:stretch/>
        </p:blipFill>
        <p:spPr>
          <a:xfrm>
            <a:off x="1214280" y="357120"/>
            <a:ext cx="475632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Calibri Light"/>
              </a:rPr>
              <a:t>Sovjetuni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Calibri"/>
              </a:rPr>
              <a:t>Alle landen die de SU had bevrijd, werden nu communistisch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Tijdelijke aanduiding voor inhoud 3" descr="IJzeren_Gordijn.png"/>
          <p:cNvPicPr/>
          <p:nvPr/>
        </p:nvPicPr>
        <p:blipFill>
          <a:blip r:embed="rId1"/>
          <a:stretch/>
        </p:blipFill>
        <p:spPr>
          <a:xfrm>
            <a:off x="4500720" y="2786040"/>
            <a:ext cx="400500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4T14:56:13Z</dcterms:created>
  <dc:creator>Mevr. Liefting</dc:creator>
  <dc:description/>
  <dc:language>en-US</dc:language>
  <cp:lastModifiedBy>Ole de Vos</cp:lastModifiedBy>
  <dcterms:modified xsi:type="dcterms:W3CDTF">2016-06-07T12:52:17Z</dcterms:modified>
  <cp:revision>30</cp:revision>
  <dc:subject/>
  <dc:title>Dia 1</dc:title>
</cp:coreProperties>
</file>