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BF04-49C6-4545-9B06-7BDA9D489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5F69-51D4-4873-AC5F-4E5C4A4E1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01E1-ECC5-440C-8232-46F38A1C4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9D10-D6D8-4E10-AC4C-2F5C4ED3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40BE-0382-4EEA-8F84-C1306DAB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B34E-42E0-4874-8494-214668EE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D0F-D0F6-4CCF-AF3C-466F28BE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9E09-B0D6-49D5-AF65-F2D281D6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4EEA-871B-4029-BF3F-B8599EC7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D1B9-D888-46EC-93A8-60B13FD5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179A-3D00-4850-9832-D8E00826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49C6-C06D-4670-A1F9-5423744A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BB88-338B-436B-8F9C-D9ABE8535014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12248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Historisch overzicht </a:t>
            </a:r>
            <a:br>
              <a:rPr sz="4500"/>
            </a:br>
            <a:r>
              <a:rPr b="0" lang="nl-NL" sz="4500" spc="-1" strike="noStrike">
                <a:solidFill>
                  <a:srgbClr val="000000"/>
                </a:solidFill>
                <a:latin typeface="Calibri Light"/>
              </a:rPr>
              <a:t>paragraaf 4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inde Koude Oorl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muslimahmerican.com/wp-content/uploads/2009/12/al-qaeda.png"/>
          <p:cNvPicPr/>
          <p:nvPr/>
        </p:nvPicPr>
        <p:blipFill>
          <a:blip r:embed="rId1"/>
          <a:stretch/>
        </p:blipFill>
        <p:spPr>
          <a:xfrm>
            <a:off x="714240" y="4429080"/>
            <a:ext cx="2643480" cy="1990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http://www.forumdemocratie.nl/files/Image/gorbaciov.jpg"/>
          <p:cNvPicPr/>
          <p:nvPr/>
        </p:nvPicPr>
        <p:blipFill>
          <a:blip r:embed="rId2"/>
          <a:stretch/>
        </p:blipFill>
        <p:spPr>
          <a:xfrm>
            <a:off x="6929280" y="285840"/>
            <a:ext cx="1800360" cy="2000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http://www.demorgen.be/static/FOTO/pe/1/12/11/art_large_736061.jpg"/>
          <p:cNvPicPr/>
          <p:nvPr/>
        </p:nvPicPr>
        <p:blipFill>
          <a:blip r:embed="rId3"/>
          <a:stretch/>
        </p:blipFill>
        <p:spPr>
          <a:xfrm>
            <a:off x="285840" y="428760"/>
            <a:ext cx="1774800" cy="2638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http://www.duitslandweb.nl/binaries/content/gallery/Actueel/Uitgelicht/2006/10/wir-sind-ein-volk-194.jpg/wir-sind-ein-volk-194.jpg/hippogallery:picture"/>
          <p:cNvPicPr/>
          <p:nvPr/>
        </p:nvPicPr>
        <p:blipFill>
          <a:blip r:embed="rId4"/>
          <a:stretch/>
        </p:blipFill>
        <p:spPr>
          <a:xfrm>
            <a:off x="7000920" y="3786120"/>
            <a:ext cx="1847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9 november 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rlijnse muur werd gesloopt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harryvanbommel.sp.nl/weblog/files/2007/11/berlijnse_muur.jpg"/>
          <p:cNvPicPr/>
          <p:nvPr/>
        </p:nvPicPr>
        <p:blipFill>
          <a:blip r:embed="rId1"/>
          <a:stretch/>
        </p:blipFill>
        <p:spPr>
          <a:xfrm>
            <a:off x="4429080" y="2143080"/>
            <a:ext cx="4429080" cy="4451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demorgen.be/static/FOTO/pe/1/12/11/art_large_736061.jpg"/>
          <p:cNvPicPr/>
          <p:nvPr/>
        </p:nvPicPr>
        <p:blipFill>
          <a:blip r:embed="rId2"/>
          <a:stretch/>
        </p:blipFill>
        <p:spPr>
          <a:xfrm>
            <a:off x="1071720" y="2214720"/>
            <a:ext cx="292896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57760" y="1523880"/>
            <a:ext cx="482904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land werd weer 1 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europa.eu/abc/12lessons/images/content_berlin_wall.jpg"/>
          <p:cNvPicPr/>
          <p:nvPr/>
        </p:nvPicPr>
        <p:blipFill>
          <a:blip r:embed="rId1"/>
          <a:stretch/>
        </p:blipFill>
        <p:spPr>
          <a:xfrm>
            <a:off x="214200" y="214200"/>
            <a:ext cx="3489480" cy="2643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http://www.volkskrant.nl/multimedia/archive/00151/muur_151130b.jpg"/>
          <p:cNvPicPr/>
          <p:nvPr/>
        </p:nvPicPr>
        <p:blipFill>
          <a:blip r:embed="rId2"/>
          <a:stretch/>
        </p:blipFill>
        <p:spPr>
          <a:xfrm>
            <a:off x="3071880" y="2786040"/>
            <a:ext cx="5810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85480"/>
            <a:ext cx="8229600" cy="58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Tsjechoslowakije: vrije verkiezingen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Bulgarije. Communisme verlies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c 1989: vrije verkiezingen na revoluti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http://www.blikopdewereld.nl/Ontwikkeling/images/stories/dicttotdemocr/hfst4/decemb89%20roemeense%20revolutie%20deel%204%20dicta%20tot%20democra.jpg"/>
          <p:cNvPicPr/>
          <p:nvPr/>
        </p:nvPicPr>
        <p:blipFill>
          <a:blip r:embed="rId1"/>
          <a:stretch/>
        </p:blipFill>
        <p:spPr>
          <a:xfrm>
            <a:off x="250920" y="2492280"/>
            <a:ext cx="4757760" cy="3168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http://www.nederland.ro/files/Images%20Vraagbaak/revolutie.jpg"/>
          <p:cNvPicPr/>
          <p:nvPr/>
        </p:nvPicPr>
        <p:blipFill>
          <a:blip r:embed="rId2"/>
          <a:stretch/>
        </p:blipFill>
        <p:spPr>
          <a:xfrm>
            <a:off x="5292720" y="2565360"/>
            <a:ext cx="331164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 de val van de muur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zenden mensen vertrokken van Oost naar West Duit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ar was luxe en mooie winkel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 Oosten; veel armer, staat bepaalde lon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 val van de muur: 2000 ossies vertrokken per dag naar We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it was een ramp voor Oost-Duitsland: liep lee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plossing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-Duitsland bondkanselier Kohl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lossing: 2 landen weer samenvoe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oosten moest eerst democratisch worden me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regering most dan stemmen over herenig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e eenwor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nl-NL" sz="21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voorwaarde Kohl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eel Duitsland zou lid blijven van NAV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edereen akkoor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http://www.duitslandweb.nl/binaries/content/gallery/Actueel/Uitgelicht/2006/10/wir-sind-ein-volk-194.jpg/wir-sind-ein-volk-194.jpg/hippogallery:picture"/>
          <p:cNvPicPr/>
          <p:nvPr/>
        </p:nvPicPr>
        <p:blipFill>
          <a:blip r:embed="rId1"/>
          <a:stretch/>
        </p:blipFill>
        <p:spPr>
          <a:xfrm>
            <a:off x="7000920" y="3786120"/>
            <a:ext cx="184788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oblemen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23520"/>
            <a:ext cx="822960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vertrekken naar Wes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en raakte arbeiders kwij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abrieken stonden sti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abrieken moesten overschakelen van planeconomie naar markteconomie. (leidde tot veel ontslagen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ussen reden niet me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en: slechter milieu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-Duitsland: economische ramp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kwamen binn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k nodig, huis nodig, voedsel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m al deze problemen op te lossen: belastingverhoging, want ze hadden miljarden nodi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nrust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lastingverhoging leidde tot onrust in westkant van Duit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komst neonazi’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aftermathnews.files.wordpress.com/2007/02/parramore_nazis_feb06.jpg"/>
          <p:cNvPicPr/>
          <p:nvPr/>
        </p:nvPicPr>
        <p:blipFill>
          <a:blip r:embed="rId1"/>
          <a:stretch/>
        </p:blipFill>
        <p:spPr>
          <a:xfrm>
            <a:off x="5643720" y="2071800"/>
            <a:ext cx="3124080" cy="4047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msnbcmedia.msn.com/j/msnbc/Components/Photos/070205/070205_neonazi_hmed_3p.hmedium.jpg"/>
          <p:cNvPicPr/>
          <p:nvPr/>
        </p:nvPicPr>
        <p:blipFill>
          <a:blip r:embed="rId2"/>
          <a:stretch/>
        </p:blipFill>
        <p:spPr>
          <a:xfrm>
            <a:off x="1071720" y="3500280"/>
            <a:ext cx="39049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Oostblok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 was nu onafhankelij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wel nog problemen: volken wilden zich afsplits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sjechoslowakije: in 2: Tsjechië en Slowakij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oegoslavië: Kroatië, Slovenië en Bosnië-Herzegovin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erven wilden 1 land: leidde tot burger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ttp://www.filavaria.nl/images/joegoslavie1991versie2.jpg"/>
          <p:cNvPicPr/>
          <p:nvPr/>
        </p:nvPicPr>
        <p:blipFill>
          <a:blip r:embed="rId2"/>
          <a:stretch/>
        </p:blipFill>
        <p:spPr>
          <a:xfrm>
            <a:off x="642960" y="357120"/>
            <a:ext cx="650088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ovjetuni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oedselprijzen ste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ontevreden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91: sommige deelrepublieken (provincies) willen los kom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verklaarden zich onafhankelij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resident van de SU was overbodi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 verdwijn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president van Rusland: Jeltsi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unie bestaat niet mee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8" descr="http://gfx.aftonbladet-cdn.se/multimedia/archive/00244/NYHETER-26s02-boris_244856w.jpg"/>
          <p:cNvPicPr/>
          <p:nvPr/>
        </p:nvPicPr>
        <p:blipFill>
          <a:blip r:embed="rId1"/>
          <a:stretch/>
        </p:blipFill>
        <p:spPr>
          <a:xfrm>
            <a:off x="6500880" y="3286080"/>
            <a:ext cx="23731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http://www.hongarijevandaag.nl/portal2/images/stories/img2009/ironcurtain_29311s.jpg"/>
          <p:cNvPicPr/>
          <p:nvPr/>
        </p:nvPicPr>
        <p:blipFill>
          <a:blip r:embed="rId2"/>
          <a:stretch/>
        </p:blipFill>
        <p:spPr>
          <a:xfrm>
            <a:off x="428760" y="357120"/>
            <a:ext cx="7953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agteresweb.nl/digiatlas/Voormalige%20Sovjetunie_bestanden/image019.gif"/>
          <p:cNvPicPr/>
          <p:nvPr/>
        </p:nvPicPr>
        <p:blipFill>
          <a:blip r:embed="rId2"/>
          <a:stretch/>
        </p:blipFill>
        <p:spPr>
          <a:xfrm>
            <a:off x="142920" y="357120"/>
            <a:ext cx="89740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Hoe nu verder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90: einde communisme in SU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-Europa was nu vrij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den nu democratische lan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heeft Koude Oorlog gewonn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enige supermacht nog ove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ommunisme bleef bestaan in China, Noord-Korea, Noord-Vietnam en Cub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S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chten dat communisme wel zou verdwijn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mocratie, kapitalisme en vrijheid zijn de basis voor “the American way of life”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toch nieuwe problem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rika en Midden-Oost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islamitische fundamentali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keerden zich tegen de westerse invl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images.volkskrant.com/weblog/www/pub/mm/2007/10/1193655262.46751.jpg"/>
          <p:cNvPicPr/>
          <p:nvPr/>
        </p:nvPicPr>
        <p:blipFill>
          <a:blip r:embed="rId1"/>
          <a:stretch/>
        </p:blipFill>
        <p:spPr>
          <a:xfrm>
            <a:off x="6858000" y="3214800"/>
            <a:ext cx="228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anaf jaren ‘80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rrorisme wordt een bedreigin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1 september 2001: WTC aanval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ders: Al-Qaida, moslimfundamentalis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zijn tegen westerse invloed op islamitische lan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is nu alleen maar bezig met strijden tegen fundamentalisten, en niet tegen communism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http://muslimahmerican.com/wp-content/uploads/2009/12/al-qaeda.png"/>
          <p:cNvPicPr/>
          <p:nvPr/>
        </p:nvPicPr>
        <p:blipFill>
          <a:blip r:embed="rId1"/>
          <a:stretch/>
        </p:blipFill>
        <p:spPr>
          <a:xfrm>
            <a:off x="714240" y="4429080"/>
            <a:ext cx="2643480" cy="199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drjudywood.com/articles/why/whypics/18_wtc1heli.jpg"/>
          <p:cNvPicPr/>
          <p:nvPr/>
        </p:nvPicPr>
        <p:blipFill>
          <a:blip r:embed="rId2"/>
          <a:stretch/>
        </p:blipFill>
        <p:spPr>
          <a:xfrm>
            <a:off x="6715080" y="142920"/>
            <a:ext cx="1822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erdrag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bestaat nog, Warschaupact is opgehev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was niet meer echt nodig, maar heeft nu andere taa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N helpen met militaire steu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echten tegen terrorism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VO wordt groter: nieuwe led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http://www.edu-kw1c.nl/460/internationalisering/_derived/reader_navo.htm_txt_Map_of_NATO_countries.gif"/>
          <p:cNvPicPr/>
          <p:nvPr/>
        </p:nvPicPr>
        <p:blipFill>
          <a:blip r:embed="rId1"/>
          <a:stretch/>
        </p:blipFill>
        <p:spPr>
          <a:xfrm>
            <a:off x="1785960" y="4214880"/>
            <a:ext cx="680724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85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unie: Gorbatsjov komt aan de mach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conomie in Sovjetunie was slecht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apenwedloop was niet meer te betal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 kort aan landbouw- en industrieproduc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ijfjarenplannen waren misluk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t iedereen had gelijke rech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forumdemocratie.nl/files/Image/gorbaciov.jpg"/>
          <p:cNvPicPr/>
          <p:nvPr/>
        </p:nvPicPr>
        <p:blipFill>
          <a:blip r:embed="rId1"/>
          <a:stretch/>
        </p:blipFill>
        <p:spPr>
          <a:xfrm>
            <a:off x="6929280" y="285840"/>
            <a:ext cx="18003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erandering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komt met verandering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erestrojka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Politieke en economische verander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static.marktplaza.be/images/1/3/1464003.jpg"/>
          <p:cNvPicPr/>
          <p:nvPr/>
        </p:nvPicPr>
        <p:blipFill>
          <a:blip r:embed="rId1"/>
          <a:stretch/>
        </p:blipFill>
        <p:spPr>
          <a:xfrm>
            <a:off x="6429240" y="2928960"/>
            <a:ext cx="20005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Economisch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voeren van markteconomie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t van vraag en aanbod bepaalt de prijs van een produ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leine privébedrijven mochten ontstaa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lf prijzen bepalen; concurrent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èl vijfjarenplann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olitiek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ieuwe grondw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erkiezing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openheid van bestuur: </a:t>
            </a: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Glasnost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rije meningsui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www.feldmangallery.com/media/perestroika/glasnost-01.jpg"/>
          <p:cNvPicPr/>
          <p:nvPr/>
        </p:nvPicPr>
        <p:blipFill>
          <a:blip r:embed="rId1"/>
          <a:stretch/>
        </p:blipFill>
        <p:spPr>
          <a:xfrm>
            <a:off x="4788000" y="2997360"/>
            <a:ext cx="3097080" cy="372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Bekijk de afbeelding op ware grootte"/>
          <p:cNvPicPr/>
          <p:nvPr/>
        </p:nvPicPr>
        <p:blipFill>
          <a:blip r:embed="rId2"/>
          <a:stretch/>
        </p:blipFill>
        <p:spPr>
          <a:xfrm>
            <a:off x="1042920" y="4005360"/>
            <a:ext cx="295272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uitenlandse politiek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on militairen in het buitenland niet meer betal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rok soldaten terug uit Afghanistan 1988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ntwapening: SU ging onderhandelen met VS om bepaalde kernraketten af te schaff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Reagan en Gorbatsjov"/>
          <p:cNvPicPr/>
          <p:nvPr/>
        </p:nvPicPr>
        <p:blipFill>
          <a:blip r:embed="rId1"/>
          <a:stretch/>
        </p:blipFill>
        <p:spPr>
          <a:xfrm>
            <a:off x="2916360" y="3429000"/>
            <a:ext cx="4968720" cy="31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oude oorlog is voorbij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aar wat nu met Oost-Europa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ot 1989: bij problemen kwam SU helpen met leg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anaf 1989: SU zegt: je moet zelf voor je communistische regering zorgen. SU kan niet help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Vanaf to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landen in Oost-Europa wilden onafhankelijk zij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Juni 1989: Polen: vrije verkiezingen. Communisme verlies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ept 1989: Hongarije: Communisme verliest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ov 1989: bevolking Oost-Duitsland wil van muur af. Massale demonstratie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1:10:05Z</dcterms:created>
  <dc:creator>Mevr. Liefting</dc:creator>
  <dc:description/>
  <dc:language>en-US</dc:language>
  <cp:lastModifiedBy>Ole de Vos</cp:lastModifiedBy>
  <dcterms:modified xsi:type="dcterms:W3CDTF">2016-06-07T13:18:20Z</dcterms:modified>
  <cp:revision>17</cp:revision>
  <dc:subject/>
  <dc:title>Dia 1</dc:title>
</cp:coreProperties>
</file>