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B891-A324-4653-998E-386992DD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D1A5-1FBC-49DC-96DD-DAA5BC7C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1AE6-F5B3-4F1B-9EFF-33843082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23B4-1937-47E7-98EC-26837552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F524-C56F-422E-9743-231701AD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0EA0-F9DA-4872-8D49-53984626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CDF2-4287-4504-BDCC-A9674099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CE86-9B55-41DB-A689-DAEA1A31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66BC-7150-43CE-BB11-5767E315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1706-E920-48EE-9AE0-1C7E0475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772A-C154-4E0E-BFE0-85E5C50B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0A3-3D35-4873-8E66-BA1FD8C0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6630-AE25-4440-AD44-A88EFCEB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0F1A-BD82-4658-9044-0B167183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9670-6A84-40F0-861E-17FB0F70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C3FB-2F9B-4D73-936F-F85343F5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D5C5-5EE3-41C5-B53D-6C9C0680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F535E-B65B-4804-93FA-C57A809E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A0DD3-69E3-4AEB-8D44-5F37614A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D45AF-88E5-4C0D-BEEC-50152780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F4A06-EF57-4CBC-9CEC-AAB41FA5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819ED-EF4A-4B9A-A312-5A0AB573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0C97-680A-4E40-810D-35CEA267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03AEF-3F0D-45D8-9841-6AE4D13E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7A595-F67D-4D21-B67E-D9449DC0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EB2A1-7342-4347-870E-78B04AE3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8DFB5-A924-40A5-AA2E-93F3B7E6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1364E-D8FB-4CDA-BC9C-E15508EE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EBF37-8659-4720-A3B4-ECE0A56F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8EF5B-4258-4321-AC4E-5CFFBB04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058-8572-4CBB-BC34-E722A355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FCFC-1B04-4E8D-BBD5-F1B49033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A614-C19A-4B88-9054-DA878E44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13EE-744D-460F-9453-BA3EB108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46B-7A18-425D-AA91-A940AD39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B3F4-F9FA-43DB-A6F9-76D0BC25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717E-B7F9-48B4-A9FE-111F1AC43FBA}" type="slidenum">
              <a:rPr b="0" lang="nl-NL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E983-B0EF-419E-9DAE-6AC3DEC8D6D1}" type="slidenum">
              <a:rPr b="0" lang="nl-NL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29F6-4E91-4706-9480-172D45C88838}" type="slidenum">
              <a:rPr b="0" lang="nl-NL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i184.photobucket.com/albums/x27/jipiyanuar/Album%2520Covers/IrSoekarno.jpg&amp;imgrefurl=http://profiles.friendster.com/59519733&amp;usg=__hVj18A0N0QS6nHTTrTuk2BHDAYg=&amp;h=1000&amp;w=700&amp;sz=62&amp;hl=nl&amp;start=5&amp;um=1&amp;tbnid=E0z-OoSDB8JvNM:&amp;tbnh=149&amp;tbnw=104&amp;prev=/images%3Fq%3DSoekarno%26hl%3Dnl%26um%3D1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33ff.com/flags/XL_flags/Indonesia_flag.gif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5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ost-Indi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ederlands-Indi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donesi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Werk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lke boer moest een vijfde deel van zijn grond gebruiken voor gewassen voor de Europese markt (=cultures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(Peper, suiker, koffie, thee en taba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ze producten werden tegen een laag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‘plantloon’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verkocht aan de NH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NHM vervoerde de producten naar Europa, om ze daar te verkop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t de winst werden er in Nederland spoorwegen en kanalen aangeleg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560" y="1356840"/>
            <a:ext cx="4429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stuu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125000"/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leine groep Nederlandse bestuurder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Zij gaven opdrachten en controleerden de uitvoer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lke gewassen waar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bouwd moesten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125000"/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groep Indonesische bestuurder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aren de Indonesische adel (sultans tot dorpsade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ieten dorpeling onbetaald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voorbeeld wegen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anleggen en fabrieken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uwen (herendienst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3" descr="memo hfst 6 afb 6"/>
          <p:cNvPicPr/>
          <p:nvPr/>
        </p:nvPicPr>
        <p:blipFill>
          <a:blip r:embed="rId1"/>
          <a:stretch/>
        </p:blipFill>
        <p:spPr>
          <a:xfrm>
            <a:off x="4716360" y="1916280"/>
            <a:ext cx="403884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oninklijk Nederlandsch-Indisch Leg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ielpen het bestuur bij het handhaven van de or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alleen Nederlanders in dienst (Molukke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8" descr="knil"/>
          <p:cNvPicPr/>
          <p:nvPr/>
        </p:nvPicPr>
        <p:blipFill>
          <a:blip r:embed="rId1"/>
          <a:stretch/>
        </p:blipFill>
        <p:spPr>
          <a:xfrm>
            <a:off x="5651640" y="1484280"/>
            <a:ext cx="30193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478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bestuurders, zowel de Nederlandse als de Indonesische, profiteerden het meest van het cultuurstels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bestuurders werden beloond met een premie (=cultuurprocente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ij een grotere productie ontvingen ze meer prem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Indonesisch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stuurders lieten hun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oeren dan ook zoveel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ogelijk verplicht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wassen producer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7" descr="http://www.schooltv.nl/eigenwijzer/mmbase/images/1176754"/>
          <p:cNvPicPr/>
          <p:nvPr/>
        </p:nvPicPr>
        <p:blipFill>
          <a:blip r:embed="rId1"/>
          <a:stretch/>
        </p:blipFill>
        <p:spPr>
          <a:xfrm>
            <a:off x="4838760" y="24940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285560"/>
            <a:ext cx="8858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Gevolgen Cultuurstelsel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dustrialisering met name suikerfabrie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boeren verplicht suikerriet te verbouw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frastructuur verbeterd door aanleg (spoor)weg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werd  vaak onbetaald aangelegd door de Indonesische bevol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ld kwam in omloop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groter verschil in kleine groep rijken en grote groep arm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werkdruk van de Indonesische boeren nam to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door het verbouwen van de verplichte gewassen hadden de boeren minder tijd voor hun eigen voedselproduct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Hongersnode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99840"/>
            <a:ext cx="464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1870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inde cultuurstels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t parlement was voor een vrije economi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een overheidsbemoeien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Particulieren gaan naar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Indië en beginnen daar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un plantages en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ijnbouwonderneming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 inheemse bevolking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orden </a:t>
            </a: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contractarbeider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(=zij hebben een contract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etekend voor een aantal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jaar en worden vooruit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taald)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6" descr="http://www.digischool.nl/kleioscoop/caleidoscoop/nederlands%20indie/indie-56-koeliearbeid-op-pl.jpg"/>
          <p:cNvPicPr/>
          <p:nvPr/>
        </p:nvPicPr>
        <p:blipFill>
          <a:blip r:embed="rId1"/>
          <a:stretch/>
        </p:blipFill>
        <p:spPr>
          <a:xfrm>
            <a:off x="4676760" y="2475000"/>
            <a:ext cx="39816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Calibri"/>
              </a:rPr>
              <a:t>Atjeh oorlog (1873-190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Expansie gebiedsuitbreiding op Sumat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Motiev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Modern Imperialis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Piraterij ophe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Concurrentie voorkomen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Frankrijk, Italië, V.S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Aard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1"/>
          <a:stretch/>
        </p:blipFill>
        <p:spPr>
          <a:xfrm>
            <a:off x="5435640" y="1989000"/>
            <a:ext cx="35053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70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n Heutsz: held of beu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 de Islamitische Indonesiërs werd het als een Heilige oorlog gezien (Jih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rde oorlog guerrilla (Indonesische kant) en terreur (Nederlandse kant)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bloedige oorl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Uiteindelijk weinig daadwerkelijke controle over Atjeh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9" descr="Staatsieportret"/>
          <p:cNvPicPr/>
          <p:nvPr/>
        </p:nvPicPr>
        <p:blipFill>
          <a:blip r:embed="rId1"/>
          <a:stretch/>
        </p:blipFill>
        <p:spPr>
          <a:xfrm>
            <a:off x="6516720" y="1700280"/>
            <a:ext cx="2301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roonrede koningin Wilhelmina (1901)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Nederland heeft tegenover de bevolking dezer gewesten (=Ned.-Indië) een </a:t>
            </a: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zedelijke roeping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 te vervullen”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8" descr="2337775"/>
          <p:cNvPicPr/>
          <p:nvPr/>
        </p:nvPicPr>
        <p:blipFill>
          <a:blip r:embed="rId1"/>
          <a:stretch/>
        </p:blipFill>
        <p:spPr>
          <a:xfrm>
            <a:off x="5867280" y="1989000"/>
            <a:ext cx="29908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thische politiek (rond19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elatie moeder en kind (moederland en kolon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vaart en welzijn lokale bevolking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twikkeling van landbouw, zorg en onderwij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10" descr="Desaschool op Java"/>
          <p:cNvPicPr/>
          <p:nvPr/>
        </p:nvPicPr>
        <p:blipFill>
          <a:blip r:embed="rId1"/>
          <a:stretch/>
        </p:blipFill>
        <p:spPr>
          <a:xfrm>
            <a:off x="4643280" y="2349360"/>
            <a:ext cx="4321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6" name="Picture 6" descr="indonesie"/>
          <p:cNvPicPr/>
          <p:nvPr/>
        </p:nvPicPr>
        <p:blipFill>
          <a:blip r:embed="rId1"/>
          <a:stretch/>
        </p:blipFill>
        <p:spPr>
          <a:xfrm>
            <a:off x="4572000" y="1628640"/>
            <a:ext cx="4254480" cy="2368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95280" y="4365360"/>
            <a:ext cx="85075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13.000 eilanden en vijftig keer zo groot als Neder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le volkeren en ta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ijk aan voedingsstoffen, grondstoffen en minera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Rijst, maïs, suiker, hout, rubber, tabak, koffie, thee, aardolie en 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7" descr="Indische%20archipel"/>
          <p:cNvPicPr/>
          <p:nvPr/>
        </p:nvPicPr>
        <p:blipFill>
          <a:blip r:embed="rId2"/>
          <a:stretch/>
        </p:blipFill>
        <p:spPr>
          <a:xfrm>
            <a:off x="395280" y="1628640"/>
            <a:ext cx="395928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7928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Landbouw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: landbouwkredieten, irrigatiewerken, betere gewassen (rijstsoorten) en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Zorg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: bouw ziekenhuizen, vaccinatieprogramma’s, nieuwe geneesmiddelen en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Onderwijs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: bouw scholen, oprichting volksscholen, beter lesmateriaal, beter opgeleide leerkrachten en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79280" y="159984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evolg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Voedseloverscho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Daling kindersterft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Stijging levensverwachting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Bevolkingsgroei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Afname analfabetisme (minimaal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0" y="2060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Verspreiding westerse ideeën         - democratie              - communisme          - nationalism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Toenemend zelfbewustzij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900" spc="-1" strike="noStrike" u="sng">
                <a:solidFill>
                  <a:srgbClr val="000000"/>
                </a:solidFill>
                <a:uFillTx/>
                <a:latin typeface="Calibri"/>
              </a:rPr>
              <a:t>Ontstaan nationale bewegingen</a:t>
            </a: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 &gt;&gt;&gt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ationale beweg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Boedi Oetomo (1908) “Het schone streve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Uitbreiding van het onderwij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Meer invloed op het bes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Indonesische eenheidsgedachte: één land, één vol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arekat Islam (1911) “Islamitische Vereniging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Verbeteren economische positie van de l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Politieke verenig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In 1919 ontbonden op beschuldiging van het plannen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n een opstand tegen het koloniale geza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8360" y="1196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Politieke organisat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Partai Komunis Indonesia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(1914) “Communistische Partij Indonesië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Strijd tegen het imperialisme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=kapitalisme vergroot uitbuiting koloni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Werd door leden uit Sarekat Islam opgeric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Organiseert sta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1926 sein tot (gewelddadige) opst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Doel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: Communistische revolutie in Indonesië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Orde werd hersteld door de KNIL, de leiders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den opgepakt en de partij verbod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Calibri"/>
              </a:rPr>
              <a:t>Partai Nasional Indonesia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 (1927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Nationalistische Partij Indonesië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Indonesië als nationale een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nl-NL" sz="2600" spc="-1" strike="noStrike">
                <a:solidFill>
                  <a:srgbClr val="000000"/>
                </a:solidFill>
                <a:latin typeface="Calibri"/>
              </a:rPr>
              <a:t>Doel: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 Stichten van een nationale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staat Indonesië dat het hele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gebied van Nederlands-Indië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moest omva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Leiders: Soekarn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Hat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4" descr="IrSoekarn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1986120"/>
            <a:ext cx="990720" cy="1419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g16148_u13125_foto_mutiara_hatta"/>
          <p:cNvPicPr/>
          <p:nvPr/>
        </p:nvPicPr>
        <p:blipFill>
          <a:blip r:embed="rId3"/>
          <a:stretch/>
        </p:blipFill>
        <p:spPr>
          <a:xfrm>
            <a:off x="5815080" y="3941640"/>
            <a:ext cx="17049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lksraad (19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gericht door koloniaal bestuur als antwoord op de roep om meer politieke inspraak voor de lokale bevolk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60 leden (30 Ind., 25 Ned., 5 Chin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eden werden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- deels gekozen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beperkt kiesrecht)           - deels aangest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perkte macht vooral een adviserende 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Gebouw van de Volksraad"/>
          <p:cNvPicPr/>
          <p:nvPr/>
        </p:nvPicPr>
        <p:blipFill>
          <a:blip r:embed="rId1"/>
          <a:stretch/>
        </p:blipFill>
        <p:spPr>
          <a:xfrm>
            <a:off x="4648320" y="1774800"/>
            <a:ext cx="40384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1936 diende Soetardjo, lid van de Volksraad, een petitie in waarin hij opriep tot een conferentie waar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...op den voet van gelijkgerechtigdheid een plan zal hebben op te stellen, ten einde aan Nederlandsch-Indië langs den weg van geleidelijken hervorming (...) een staat van zelfstandigheid toe te kennen..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petitie werd door de Nederlandse overheid afgewez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Afbeelding van de vergadering van de Volksra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2276640"/>
            <a:ext cx="331128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75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Wereldoorlog I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anval op Pearl Harbor (7-12-194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merikaanse marine in Grote Oceaan uitgeschak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ed.-Indië doelwit voor Japanse le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pitulatie Ned.-Indië (8-3-194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meeste Nederlanders verdwijnen in kampen (Jappenkamp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inde Nederlandse heerschappi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Pacific550"/>
          <p:cNvPicPr/>
          <p:nvPr/>
        </p:nvPicPr>
        <p:blipFill>
          <a:blip r:embed="rId1"/>
          <a:stretch/>
        </p:blipFill>
        <p:spPr>
          <a:xfrm>
            <a:off x="4648320" y="1963800"/>
            <a:ext cx="403848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?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Onafhankelijkhei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en deel van de bevolking haalt de Japanners met veel gejuich binn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el Indonesiërs waren verbaasd over de snelle nederlaag van de Nederlanders (versterkt zelfbewustzijn en nationalism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Japan beloofde (om het aan grondstoffenrijke Indonesië aan hun kant te krijgen) onafhankelijkheid onder Japanse bescherm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ekarno en Hatta werken nauw samen met de Japanners (“landverrader”?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954f72"/>
                </a:solidFill>
                <a:latin typeface="Calibri"/>
              </a:rPr>
              <a:t>	</a:t>
            </a:r>
            <a:r>
              <a:rPr b="1" lang="nl-NL" sz="2400" spc="-1" strike="noStrike">
                <a:solidFill>
                  <a:srgbClr val="954f72"/>
                </a:solidFill>
                <a:latin typeface="Calibri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onafhankelijkhe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donesisch leger wordt opgericht en getraind door Japann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ndonesia Merdeka (17-08-45) “Indonesië vrij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apitulatie Japan (15-08-1945) als gevolg van de atoombommen op Hiroshima en Nagasa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tta en Soekarno roepen onder druk van fanatieke jongerenbewegingen de onafhankelijke Republiek Indonesië 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reageert Nederlan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Tijdelijke aanduiding voor inhoud 8" descr="proklamatie.jpg"/>
          <p:cNvPicPr/>
          <p:nvPr/>
        </p:nvPicPr>
        <p:blipFill>
          <a:blip r:embed="rId1"/>
          <a:stretch/>
        </p:blipFill>
        <p:spPr>
          <a:xfrm>
            <a:off x="5786280" y="1571760"/>
            <a:ext cx="2843280" cy="2189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1177456"/>
          <p:cNvPicPr/>
          <p:nvPr/>
        </p:nvPicPr>
        <p:blipFill>
          <a:blip r:embed="rId2"/>
          <a:stretch/>
        </p:blipFill>
        <p:spPr>
          <a:xfrm>
            <a:off x="5715000" y="4000680"/>
            <a:ext cx="300996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de 16</a:t>
            </a:r>
            <a:r>
              <a:rPr b="0" lang="nl-NL" sz="2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eeuw komen de eerste Europeanen (Portugese handelaren) aan in Oost-Indië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Doel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andel drijven met de Indonesische vorst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Zo kreeg Portugal rechtstreeks de specerijen in handen en verliep het niet langer langs de arabie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prijs van de specerijen zou dalen voor de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ortugezen en zij zouden ze voor veel winst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unnen verkopen in Europ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28556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ederland accepteerde de Indonesische onafhankelijkheid nie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ederland vond dat Nederland en Indonesië elkaar nodig hadd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(Nederland was overtuigd dat de wederopbouw niet zou slagen zonder de inkomsten uit Indonesië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oekarno werd niet door het hele volk gesteun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(De onafhankelijkheid was uitgeroepen door een klein groepje nationalisten)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 Indonesiërs konden in de ogen van de Nederlanders hun land nog niet zelf bestur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(Nederland wilde in een periode van 25 jaar stap voor stap de macht aan Indonesië overdrag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14200" y="1599840"/>
            <a:ext cx="4572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600" spc="-1" strike="noStrike">
                <a:solidFill>
                  <a:srgbClr val="f5f5f5"/>
                </a:solidFill>
                <a:latin typeface="Calibri"/>
              </a:rPr>
              <a:t>Veel onduidelijkheid in Indonesië na de Japanse capitulati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Britse soldaten uit India zorgden voor orde en rust in Indonesië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Japanse soldaten  beschermden de Nederlanders in de kampen tegen Indonesische jong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Tijdelijke aanduiding voor inhoud 4" descr="Jap. soldaten beschermen ned.jpg"/>
          <p:cNvPicPr/>
          <p:nvPr/>
        </p:nvPicPr>
        <p:blipFill>
          <a:blip r:embed="rId1"/>
          <a:stretch/>
        </p:blipFill>
        <p:spPr>
          <a:xfrm>
            <a:off x="4629240" y="2738520"/>
            <a:ext cx="38862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r waren van 1945 tot en met 1949 twee Indonesische land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- Nederlands-Indië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Neder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- Republiek Indonesië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donesi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Tijdelijke aanduiding voor inhoud 7" descr="vlag indonesië.jpg"/>
          <p:cNvPicPr/>
          <p:nvPr/>
        </p:nvPicPr>
        <p:blipFill>
          <a:blip r:embed="rId1"/>
          <a:stretch/>
        </p:blipFill>
        <p:spPr>
          <a:xfrm>
            <a:off x="5365800" y="3193920"/>
            <a:ext cx="241308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043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 weg naar de Indonesische onafhankelijkheid bestaat uit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- Onderhandele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- Oorl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Tijdelijke aanduiding voor inhoud 11" descr="1946-Oorlogsvrijwilligers.jpg"/>
          <p:cNvPicPr/>
          <p:nvPr/>
        </p:nvPicPr>
        <p:blipFill>
          <a:blip r:embed="rId1"/>
          <a:stretch/>
        </p:blipFill>
        <p:spPr>
          <a:xfrm>
            <a:off x="3357720" y="3214800"/>
            <a:ext cx="492912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599840"/>
            <a:ext cx="4471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(15 nov.) 194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66ff66"/>
                </a:solidFill>
                <a:latin typeface="Calibri"/>
              </a:rPr>
              <a:t>Linggadjati-akkoor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fspraken over het langzaam onafhankelijk laten worden van Indonesië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Erkenning Republiek op Java, Madoera en Sumatra als onderdeel van de Verenigde staten van Indonesië binnen de Nederlands-Indonesische Un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Tijdelijke aanduiding voor inhoud 4" descr="Linggadjati.jpg"/>
          <p:cNvPicPr/>
          <p:nvPr/>
        </p:nvPicPr>
        <p:blipFill>
          <a:blip r:embed="rId1"/>
          <a:stretch/>
        </p:blipFill>
        <p:spPr>
          <a:xfrm>
            <a:off x="5072040" y="2286000"/>
            <a:ext cx="3776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(21 juli) 194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66ff66"/>
                </a:solidFill>
                <a:latin typeface="Calibri"/>
              </a:rPr>
              <a:t>Eerste politionele act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innenlandse “politie-aktie” om de orde en rust te herstell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 werkelijkheid militair ingrijpen door de Nederlandse overheid!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66ff66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66ff66"/>
                </a:solidFill>
                <a:latin typeface="Calibri"/>
              </a:rPr>
              <a:t>Beide landen hielden zich niet aan de gemaakte  afsprake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Tijdelijke aanduiding voor inhoud 6" descr="1e politionele actie.jpg"/>
          <p:cNvPicPr/>
          <p:nvPr/>
        </p:nvPicPr>
        <p:blipFill>
          <a:blip r:embed="rId1"/>
          <a:stretch/>
        </p:blipFill>
        <p:spPr>
          <a:xfrm>
            <a:off x="4672080" y="2602080"/>
            <a:ext cx="380052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599840"/>
            <a:ext cx="4257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(17 jan.) 194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66ff66"/>
                </a:solidFill>
                <a:latin typeface="Calibri"/>
              </a:rPr>
              <a:t>Renville-akkoor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 het oorlogsschip de Renville kwamen Nederland en Indonesië met elkaar pra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beurde onder dwang van de V.S. en de V.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islukking. Beide partijen deden niet hun best om tot een vreedzame oplossing te kom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Tijdelijke aanduiding voor inhoud 4" descr="Renville overeenkomst.jpg"/>
          <p:cNvPicPr/>
          <p:nvPr/>
        </p:nvPicPr>
        <p:blipFill>
          <a:blip r:embed="rId1"/>
          <a:stretch/>
        </p:blipFill>
        <p:spPr>
          <a:xfrm>
            <a:off x="4786200" y="2500200"/>
            <a:ext cx="40388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4400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(18 dec.) 194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f5f5f5"/>
                </a:solidFill>
                <a:latin typeface="Calibri"/>
              </a:rPr>
              <a:t>Tweede Politionele acti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rlogsmisdaden aan beide kant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oekarno en Hatta gevangen genom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Tijdelijke aanduiding voor inhoud 6" descr="soekarno gevangen.jpg"/>
          <p:cNvPicPr/>
          <p:nvPr/>
        </p:nvPicPr>
        <p:blipFill>
          <a:blip r:embed="rId1"/>
          <a:stretch/>
        </p:blipFill>
        <p:spPr>
          <a:xfrm>
            <a:off x="5000760" y="1928880"/>
            <a:ext cx="37591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1599840"/>
            <a:ext cx="5543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27 (dec.) 194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f5f5f5"/>
                </a:solidFill>
                <a:latin typeface="Calibri"/>
              </a:rPr>
              <a:t>Onderhandelingen in Den-Haa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der druk van de V.S. die dreigden de Marshall-hulp (= financiële hulp aan Nederland) stop te zet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V.N. keurt de oorlog in Indonesië a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ekarno en Hatta vrijgela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ederland aanvaardt de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donesische onafhankelijkhe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Tijdelijke aanduiding voor inhoud 4" descr="1949-souvereiniteitsoverdracht.jpg"/>
          <p:cNvPicPr/>
          <p:nvPr/>
        </p:nvPicPr>
        <p:blipFill>
          <a:blip r:embed="rId1"/>
          <a:stretch/>
        </p:blipFill>
        <p:spPr>
          <a:xfrm>
            <a:off x="4908600" y="1825560"/>
            <a:ext cx="33274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8920" y="1557000"/>
            <a:ext cx="8796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1596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ederlandse expeditie bereikt Oost-Indië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le Nederlandse expedities van verschillende compagnieën vol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markt wordt overspoeld met producten uit Indië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or de concurrenti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Dalen de prijzen van de specerijen in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Neder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Stijgen de inkoopprijzen van de specerijen in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Oost-Indi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winsten da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160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Republiek der Zeven Verenigde Nederlanden grijpt 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verschillende compagnieën worden één compagn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VOC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Verenigde Oost-Indische Compagni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7" descr="voc-vlag2"/>
          <p:cNvPicPr/>
          <p:nvPr/>
        </p:nvPicPr>
        <p:blipFill>
          <a:blip r:embed="rId1"/>
          <a:stretch/>
        </p:blipFill>
        <p:spPr>
          <a:xfrm>
            <a:off x="4859280" y="2349360"/>
            <a:ext cx="39974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4392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aken VO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ndel drijven met Oost-Indië.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met de inheemse vorst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lle Europese handelaren verdrijven uit Oost-Indië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leine handelsposten stichtten aan de kus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treven naar een monopolie   (alleenhandel) in specerij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iplomatie (verdragen sluiten) en Geweld (oorlog voere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7" descr="voc3"/>
          <p:cNvPicPr/>
          <p:nvPr/>
        </p:nvPicPr>
        <p:blipFill>
          <a:blip r:embed="rId1"/>
          <a:stretch/>
        </p:blipFill>
        <p:spPr>
          <a:xfrm>
            <a:off x="4572000" y="2060640"/>
            <a:ext cx="43783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nl-NL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 eeu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VOC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stuurt een groot deel van Java en de Molukk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ndel en scheepvaartroutes stonden onder controle van leger en oorlogsvloo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o nodig met geweld werd de inheemse bevolking onder de duim gehoud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6" descr="cat"/>
          <p:cNvPicPr/>
          <p:nvPr/>
        </p:nvPicPr>
        <p:blipFill>
          <a:blip r:embed="rId1"/>
          <a:stretch/>
        </p:blipFill>
        <p:spPr>
          <a:xfrm>
            <a:off x="4648320" y="2401920"/>
            <a:ext cx="403848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17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VOC werd opgehev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entrale gezag vanuit Batavia faal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groot gebied &gt; onbestuurba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rruptie (tegenstrijdige belan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brek aan geld (1796 al faillie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oenemende concurrentie van met name Engel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Franse tijd: Nederland onderdeel van Franse keizerrijk. (Engeland houdt toezicht in Oost-Indië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dergang van de VOC! Hoe nu verder in Indië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1830-1870 Cultuurstelsel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Doe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Zoveel mogelijk winst maken voor Nederlan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Nederlandse Handelsmaatschappij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(NH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it staatsbedrijf had de taak het Cultuurstelsel in goede banen te leiden en hadden het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monopolie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op het vervoeren en handelen van goederen uit Nederlands-Indië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3:21:09Z</dcterms:created>
  <dc:creator>mmpc.vanbeers</dc:creator>
  <dc:description/>
  <dc:language>en-US</dc:language>
  <cp:lastModifiedBy>Ole de Vos</cp:lastModifiedBy>
  <dcterms:modified xsi:type="dcterms:W3CDTF">2016-06-07T12:49:29Z</dcterms:modified>
  <cp:revision>74</cp:revision>
  <dc:subject/>
  <dc:title>Indonesië</dc:title>
</cp:coreProperties>
</file>