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AD1-84AE-4356-8B4B-5CF61320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991-8711-4011-A831-B136B2BE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2C2-E033-4FFA-BC86-54D16BDC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A5A-7ABE-4CD4-849C-CA4A9F90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B19-99CC-4325-B238-6036E9C3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F6F-4A4C-44BE-BD21-DE8D816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FF4-BEFD-4EA0-811F-B7E3D34D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113-2FC9-4E15-B325-F7C26FFD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0F2-5CBA-454D-B88D-02FD662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CCA-C529-4F84-921A-90B9FCC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352-9029-4345-999E-37787E1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3E2-8F60-4E3B-9902-3E70CE0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671-7ECA-48C6-A32C-A4E4803CC6B6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8/87/Cold_war_europe_military_alliances_map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hyperlink" Target="http://kunststad.nl/wordpress/wp-content/uploads/03_07_berlinermauer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84360" y="234900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1670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945-198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ducatie-en-school.infonu.nl/artikel-foto-upload/samenvattingen/36854-de-koude-oorlog.jpg"/>
          <p:cNvPicPr/>
          <p:nvPr/>
        </p:nvPicPr>
        <p:blipFill>
          <a:blip r:embed="rId1"/>
          <a:stretch/>
        </p:blipFill>
        <p:spPr>
          <a:xfrm>
            <a:off x="900000" y="18900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4716360" y="33336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es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Europa ging meer samenwerken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lokvorming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blok: West-Europa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: SU met ingepikte landen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5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Duits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: Bonds Republiek Duitsland (BR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: Duitse Democratische Republiek (DDR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3786120" y="2637000"/>
            <a:ext cx="30290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e 2 blokken kregen steeds meer ruz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ad een oorlog kunnen wor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om naam: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is gesplitst in 2: door groot hekwer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IJzeren Gordij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michaelbrochstein.com/photo/images/czech03/cz03023a.jpg"/>
          <p:cNvPicPr/>
          <p:nvPr/>
        </p:nvPicPr>
        <p:blipFill>
          <a:blip r:embed="rId2"/>
          <a:stretch/>
        </p:blipFill>
        <p:spPr>
          <a:xfrm>
            <a:off x="642960" y="285840"/>
            <a:ext cx="503712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reewebs.com/pbbduitsland/muur.jpg"/>
          <p:cNvPicPr/>
          <p:nvPr/>
        </p:nvPicPr>
        <p:blipFill>
          <a:blip r:embed="rId3"/>
          <a:stretch/>
        </p:blipFill>
        <p:spPr>
          <a:xfrm>
            <a:off x="4572000" y="3857760"/>
            <a:ext cx="407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rshallplan</a:t>
            </a: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merika ging Europa geld aanbieden om hun land op te bouw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landen mochten er (van de SU!) geen gebruik van mak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regen een communistische econom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Marshallplan te kunnen invoeren: West-Duitsland kreeg een nieuwe munt: Duitse Mar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het hier niet blij me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lokkade van berlij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zo boos, dat zijn leger alle wegen naar West-Berlijn blokkeerd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Fr moesten Berlijn maar verla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gaven niet op: voedsel werd gebracht via luchtbru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9 maanden gaf Stalin op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aeropedia.nl/birds/max/berlinairlift.jpg"/>
          <p:cNvPicPr/>
          <p:nvPr/>
        </p:nvPicPr>
        <p:blipFill>
          <a:blip r:embed="rId1"/>
          <a:stretch/>
        </p:blipFill>
        <p:spPr>
          <a:xfrm>
            <a:off x="4859280" y="4459320"/>
            <a:ext cx="35704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rnw.nl/migratie/www.wereldomroep.nl/images/assets/13737091"/>
          <p:cNvPicPr/>
          <p:nvPr/>
        </p:nvPicPr>
        <p:blipFill>
          <a:blip r:embed="rId2"/>
          <a:stretch/>
        </p:blipFill>
        <p:spPr>
          <a:xfrm>
            <a:off x="755640" y="4494240"/>
            <a:ext cx="3384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Duidelijk 2 blokk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gustus 1949: Stalin deed eerste atoombom-tes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ilde West-Europa bescher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rt NAVO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V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eden: West-Europa, VS en Canad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VS beschermden ons met atoombommen tegen de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042920" y="549360"/>
            <a:ext cx="787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arschaup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start eigen militaire pact in Oost-Europ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anden werden verplicht li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strijdbewijs.nl/berlijn/point05.jpg"/>
          <p:cNvPicPr/>
          <p:nvPr/>
        </p:nvPicPr>
        <p:blipFill>
          <a:blip r:embed="rId2"/>
          <a:stretch/>
        </p:blipFill>
        <p:spPr>
          <a:xfrm>
            <a:off x="5135400" y="214200"/>
            <a:ext cx="36324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anno.nl/gfx/content/koude-oorlog-kaart.jpg"/>
          <p:cNvPicPr/>
          <p:nvPr/>
        </p:nvPicPr>
        <p:blipFill>
          <a:blip r:embed="rId3"/>
          <a:stretch/>
        </p:blipFill>
        <p:spPr>
          <a:xfrm>
            <a:off x="428760" y="3071880"/>
            <a:ext cx="735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Bestand:Cold war europe military alliances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57120"/>
            <a:ext cx="6143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ontain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landen communistisch: China, Noord-Vietnam, Noord-Korea,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Amerikanen wilden communisme tegenhou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Containmentpolitiek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uzies tussen 2 kant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landen wilden meer kernwapens dan vijand hebb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ewapeningswedloop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wie had de meeste atoombommen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1961 werd het gevaarlij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egering van Oost-Duitsland gaat een muur door Berlijn bouw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erlijnse Muu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luchtten van Oost-Duitsland naar West-Duitsland via Berlij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miljoen in 16 jaa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4427640" y="476280"/>
            <a:ext cx="44290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Tijdelijke aanduiding voor inhoud 3" descr="BERLIJN.pn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obsdetimp.nl/uploads/html/groep8/geschiedenis/een-verdeelde-wereld/berlijnse%20muur.jpg"/>
          <p:cNvPicPr/>
          <p:nvPr/>
        </p:nvPicPr>
        <p:blipFill>
          <a:blip r:embed="rId2"/>
          <a:stretch/>
        </p:blipFill>
        <p:spPr>
          <a:xfrm>
            <a:off x="714240" y="2858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igischool.nl/kleioscoop/camerascoop/koude%20oorlog/de-muurf.jpg"/>
          <p:cNvPicPr/>
          <p:nvPr/>
        </p:nvPicPr>
        <p:blipFill>
          <a:blip r:embed="rId3"/>
          <a:stretch/>
        </p:blipFill>
        <p:spPr>
          <a:xfrm>
            <a:off x="3786120" y="3000240"/>
            <a:ext cx="4786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kunststad.nl/wordpress/wp-content/uploads/kaartje-van-berlijn.jpg"/>
          <p:cNvPicPr/>
          <p:nvPr/>
        </p:nvPicPr>
        <p:blipFill>
          <a:blip r:embed="rId2"/>
          <a:stretch/>
        </p:blipFill>
        <p:spPr>
          <a:xfrm>
            <a:off x="3214800" y="2500200"/>
            <a:ext cx="5742000" cy="414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istorische foto tijdens de bouw van de muu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62 ( jaar later): Toch Oorlog?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kwam erachter dat er Russische raketten op eiland Cuba la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as laaiend: wat een lef van de SU!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ennedy blokkeerde Cub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t marineschepen, 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ste dat SU de raket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g zou hal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esjtsjov gaf to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://www.ufo1.com/wp-content/uploads/2009/05/john_f__kennedy_white_house_color_photo_portrait.jpg"/>
          <p:cNvPicPr/>
          <p:nvPr/>
        </p:nvPicPr>
        <p:blipFill>
          <a:blip r:embed="rId1"/>
          <a:stretch/>
        </p:blipFill>
        <p:spPr>
          <a:xfrm>
            <a:off x="4788000" y="4581360"/>
            <a:ext cx="1728720" cy="206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christenhistorici.nl/photoshow.php?id=472&amp;type=thumb"/>
          <p:cNvPicPr/>
          <p:nvPr/>
        </p:nvPicPr>
        <p:blipFill>
          <a:blip r:embed="rId2"/>
          <a:stretch/>
        </p:blipFill>
        <p:spPr>
          <a:xfrm>
            <a:off x="6804000" y="3141720"/>
            <a:ext cx="1871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jfklibrary.org/NR/rdonlyres/77247A3D-DCEB-4E4B-913D-D6EE591033A8/40233/77247A3DDCEB4E4B913DD6EE591033A8.jpg"/>
          <p:cNvPicPr/>
          <p:nvPr/>
        </p:nvPicPr>
        <p:blipFill>
          <a:blip r:embed="rId2"/>
          <a:stretch/>
        </p:blipFill>
        <p:spPr>
          <a:xfrm>
            <a:off x="250920" y="333360"/>
            <a:ext cx="74167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2560" y="152388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ubacrisis duurde 10 dagen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eld was doodbang voor atoom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alexanderdenton.net/images/cmc_map_missile_range.jpg"/>
          <p:cNvPicPr/>
          <p:nvPr/>
        </p:nvPicPr>
        <p:blipFill>
          <a:blip r:embed="rId1"/>
          <a:stretch/>
        </p:blipFill>
        <p:spPr>
          <a:xfrm>
            <a:off x="3929040" y="214200"/>
            <a:ext cx="4878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ebsite-software.nl/images/stories/internet_situatie_analyse/geschiedenis_internet_koude_oorlog.jpg"/>
          <p:cNvPicPr/>
          <p:nvPr/>
        </p:nvPicPr>
        <p:blipFill>
          <a:blip r:embed="rId2"/>
          <a:stretch/>
        </p:blipFill>
        <p:spPr>
          <a:xfrm>
            <a:off x="285840" y="214200"/>
            <a:ext cx="346716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educatie-en-school.infonu.nl/artikel-foto-upload/samenvattingen/36854-de-koude-oorlog.jpg"/>
          <p:cNvPicPr/>
          <p:nvPr/>
        </p:nvPicPr>
        <p:blipFill>
          <a:blip r:embed="rId3"/>
          <a:stretch/>
        </p:blipFill>
        <p:spPr>
          <a:xfrm>
            <a:off x="1357200" y="335772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blikopdewereld.nl/Ontwikkeling/images/stories/fenoverh10/vrdeling%20duisland%20na%20woii%20feniks%20hfst%2010.gif"/>
          <p:cNvPicPr/>
          <p:nvPr/>
        </p:nvPicPr>
        <p:blipFill>
          <a:blip r:embed="rId4"/>
          <a:stretch/>
        </p:blipFill>
        <p:spPr>
          <a:xfrm>
            <a:off x="4786200" y="71424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finx-online.nl/assets/sfinx/Koude%20Oorlog%2005%20copy.gif"/>
          <p:cNvPicPr/>
          <p:nvPr/>
        </p:nvPicPr>
        <p:blipFill>
          <a:blip r:embed="rId2"/>
          <a:stretch/>
        </p:blipFill>
        <p:spPr>
          <a:xfrm>
            <a:off x="285840" y="428760"/>
            <a:ext cx="828684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Cubacris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partijen waren geschrokken van mogelijk 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wilden wapens vermind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urde in totaal 30 ja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ngrijkste leider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Reagan 1981-19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Gorbatsjov 1985-199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http://www.s9.com/images/portraits/25091_Reagan-Ronald-Wilson.jpg"/>
          <p:cNvPicPr/>
          <p:nvPr/>
        </p:nvPicPr>
        <p:blipFill>
          <a:blip r:embed="rId1"/>
          <a:stretch/>
        </p:blipFill>
        <p:spPr>
          <a:xfrm>
            <a:off x="6875640" y="206064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duurzameenergiethuis.nl/wp-content/uploads/2009/10/gorbatsjov.jpg"/>
          <p:cNvPicPr/>
          <p:nvPr/>
        </p:nvPicPr>
        <p:blipFill>
          <a:blip r:embed="rId2"/>
          <a:stretch/>
        </p:blipFill>
        <p:spPr>
          <a:xfrm>
            <a:off x="6372360" y="4648320"/>
            <a:ext cx="2381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eaga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ilde bewapeningswedloop winnen met ruimteschil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kennislink.nl/upload/123806_276_1101374857379-raketaanval_tekst.jpg"/>
          <p:cNvPicPr/>
          <p:nvPr/>
        </p:nvPicPr>
        <p:blipFill>
          <a:blip r:embed="rId1"/>
          <a:stretch/>
        </p:blipFill>
        <p:spPr>
          <a:xfrm>
            <a:off x="179280" y="2852640"/>
            <a:ext cx="866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U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was erg slecht in S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gaan praten over ontwapen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ook eigen land veranderen; communisme werkte niet zo g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vrije mening geven,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fo.be/rubrieken/geschiedenis/rapporten/High-Tech/aimge/SDI/t25479.jpg"/>
          <p:cNvPicPr/>
          <p:nvPr/>
        </p:nvPicPr>
        <p:blipFill>
          <a:blip r:embed="rId1"/>
          <a:stretch/>
        </p:blipFill>
        <p:spPr>
          <a:xfrm>
            <a:off x="6948360" y="260280"/>
            <a:ext cx="18576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volg van veranderin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standen in bezette landen in Oostblo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wilden ook vrije verkiez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veral verloren communistische partijen hun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Oost-Duits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788000" y="3068640"/>
            <a:ext cx="3744720" cy="376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3071880"/>
            <a:ext cx="2371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9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bestond niet me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-Unie valt uit elkaar: heet nu weer Ru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Tijdens WO II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SU vochten tegen de nazi´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r. en GB waren niet enige grootmachten in de wereld mee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aakten kolonies kwijt, dus macht en grondstoff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en VS waren nieuwe grootmach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Plannen met Europa na WO 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SU (Rusl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usland mocht nooit meer aangevallen worden.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moest een buffer tussen SU en West-Europa ko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ffer van bevriende land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VS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moest vrij zij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volken die in vrijheid leefden, democratie, en zelfgekozen reger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 SU en 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democratisch, kapitalistisch, vrij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dictatuur, communistisch, gelijkheid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t botst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bruari 1945: vergadering bij Jal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ak: Duitsland en Berlijn zouden na de oorlog verdeeld worden in bezettingszon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geallieerden zouden in 1 zone invloed krijg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= Invloedssf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1143000" y="214200"/>
            <a:ext cx="5857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upload.wikimedia.org/wikipedia/commons/thumb/b/bb/Deutschland_Besatzungszonen_1945.png/240px-Deutschland_Besatzungszonen_1945.png"/>
          <p:cNvPicPr/>
          <p:nvPr/>
        </p:nvPicPr>
        <p:blipFill>
          <a:blip r:embed="rId2"/>
          <a:stretch/>
        </p:blipFill>
        <p:spPr>
          <a:xfrm>
            <a:off x="1214280" y="357120"/>
            <a:ext cx="4756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die de SU had bevrijd, werden nu communistisch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IJzeren_Gordijn.png"/>
          <p:cNvPicPr/>
          <p:nvPr/>
        </p:nvPicPr>
        <p:blipFill>
          <a:blip r:embed="rId1"/>
          <a:stretch/>
        </p:blipFill>
        <p:spPr>
          <a:xfrm>
            <a:off x="4500720" y="2786040"/>
            <a:ext cx="400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56:13Z</dcterms:created>
  <dc:creator>Mevr. Liefting</dc:creator>
  <dc:description/>
  <dc:language>en-US</dc:language>
  <cp:lastModifiedBy>Ole de Vos</cp:lastModifiedBy>
  <dcterms:modified xsi:type="dcterms:W3CDTF">2016-06-07T12:52:17Z</dcterms:modified>
  <cp:revision>30</cp:revision>
  <dc:subject/>
  <dc:title>Dia 1</dc:title>
</cp:coreProperties>
</file>