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33.jpeg" ContentType="image/jpeg"/>
  <Override PartName="/ppt/media/image24.wmf" ContentType="image/x-wmf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11.jpeg" ContentType="image/jpeg"/>
  <Override PartName="/ppt/media/image20.png" ContentType="image/png"/>
  <Override PartName="/ppt/media/image36.jpeg" ContentType="image/jpeg"/>
  <Override PartName="/ppt/media/image13.png" ContentType="image/png"/>
  <Override PartName="/ppt/media/image37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40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7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95C-6562-450D-9330-803010B2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F1C-E1AC-41A2-BBEF-5D5D7E84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236-9DB0-4FE4-AEC7-25300A92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093-3CA0-4489-BC59-5560A145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737-9273-49F4-81D6-A034659E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1FD-EEBD-4C90-B8A1-516C8FB1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3BF-76ED-4AA3-8BCD-3E1919E1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A9D-2583-470B-A986-2F9BA39A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E89-779B-49F4-89E1-C6E6DF58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55D-FF48-43AA-B24B-E7CB983F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714-46EF-4815-A179-B67E4A13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115-5B26-4D81-9B9D-26054154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DF8D-1823-4576-B699-E45154041A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7/BerlinerBlockadeLuftwege.png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upload.wikimedia.org/wikipedia/commons/8/86/Reisepass_BRD_1980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upload.wikimedia.org/wikipedia/commons/8/86/Reisepass_BRD_1980.JPG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_c_roosevelt-stalin-yalta"/>
          <p:cNvPicPr/>
          <p:nvPr/>
        </p:nvPicPr>
        <p:blipFill>
          <a:blip r:embed="rId1"/>
          <a:stretch/>
        </p:blipFill>
        <p:spPr>
          <a:xfrm>
            <a:off x="1835280" y="1557360"/>
            <a:ext cx="5329080" cy="43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741px-Occupied_Berlin"/>
          <p:cNvPicPr/>
          <p:nvPr/>
        </p:nvPicPr>
        <p:blipFill>
          <a:blip r:embed="rId2"/>
          <a:stretch/>
        </p:blipFill>
        <p:spPr>
          <a:xfrm>
            <a:off x="6588000" y="2133720"/>
            <a:ext cx="2556000" cy="2070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5796000" y="2924280"/>
            <a:ext cx="1224000" cy="288720"/>
          </a:xfrm>
          <a:prstGeom prst="rightArrow">
            <a:avLst>
              <a:gd name="adj1" fmla="val 50000"/>
              <a:gd name="adj2" fmla="val 1059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 rot="19321800">
            <a:off x="6588360" y="299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rl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741px-Occupied_Berlin"/>
          <p:cNvPicPr/>
          <p:nvPr/>
        </p:nvPicPr>
        <p:blipFill>
          <a:blip r:embed="rId2"/>
          <a:stretch/>
        </p:blipFill>
        <p:spPr>
          <a:xfrm>
            <a:off x="6588000" y="2133720"/>
            <a:ext cx="2556000" cy="2070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5"/>
          <p:cNvSpPr/>
          <p:nvPr/>
        </p:nvSpPr>
        <p:spPr>
          <a:xfrm>
            <a:off x="5796000" y="2924280"/>
            <a:ext cx="1224000" cy="288720"/>
          </a:xfrm>
          <a:prstGeom prst="rightArrow">
            <a:avLst>
              <a:gd name="adj1" fmla="val 50000"/>
              <a:gd name="adj2" fmla="val 1059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 rot="5400000">
            <a:off x="7595640" y="1989000"/>
            <a:ext cx="1008000" cy="718920"/>
          </a:xfrm>
          <a:prstGeom prst="leftArrow">
            <a:avLst>
              <a:gd name="adj1" fmla="val 50000"/>
              <a:gd name="adj2" fmla="val 35053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 rot="16200000">
            <a:off x="6335640" y="3825360"/>
            <a:ext cx="1655640" cy="719280"/>
          </a:xfrm>
          <a:prstGeom prst="leftArrow">
            <a:avLst>
              <a:gd name="adj1" fmla="val 50000"/>
              <a:gd name="adj2" fmla="val 57545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7093080" y="134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372360" y="51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pit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 rot="19321800">
            <a:off x="6588360" y="299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rl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120" name="Line 5"/>
          <p:cNvSpPr/>
          <p:nvPr/>
        </p:nvSpPr>
        <p:spPr>
          <a:xfrm>
            <a:off x="5003640" y="2781360"/>
            <a:ext cx="576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 flipV="1">
            <a:off x="4788000" y="3068640"/>
            <a:ext cx="79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Line 5"/>
          <p:cNvSpPr/>
          <p:nvPr/>
        </p:nvSpPr>
        <p:spPr>
          <a:xfrm>
            <a:off x="5003640" y="2781360"/>
            <a:ext cx="576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4788000" y="3068640"/>
            <a:ext cx="79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stalin"/>
          <p:cNvPicPr/>
          <p:nvPr/>
        </p:nvPicPr>
        <p:blipFill>
          <a:blip r:embed="rId2"/>
          <a:stretch/>
        </p:blipFill>
        <p:spPr>
          <a:xfrm>
            <a:off x="6443640" y="2421000"/>
            <a:ext cx="2311560" cy="31957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8"/>
          <p:cNvSpPr/>
          <p:nvPr/>
        </p:nvSpPr>
        <p:spPr>
          <a:xfrm>
            <a:off x="5867280" y="0"/>
            <a:ext cx="2160720" cy="2133720"/>
          </a:xfrm>
          <a:prstGeom prst="cloudCallout">
            <a:avLst>
              <a:gd name="adj1" fmla="val 19652"/>
              <a:gd name="adj2" fmla="val 74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1" descr="spy"/>
          <p:cNvPicPr/>
          <p:nvPr/>
        </p:nvPicPr>
        <p:blipFill>
          <a:blip r:embed="rId3"/>
          <a:stretch/>
        </p:blipFill>
        <p:spPr>
          <a:xfrm>
            <a:off x="6443640" y="189000"/>
            <a:ext cx="10224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5003640" y="2781360"/>
            <a:ext cx="576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V="1">
            <a:off x="4788000" y="3068640"/>
            <a:ext cx="79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stalin"/>
          <p:cNvPicPr/>
          <p:nvPr/>
        </p:nvPicPr>
        <p:blipFill>
          <a:blip r:embed="rId2"/>
          <a:stretch/>
        </p:blipFill>
        <p:spPr>
          <a:xfrm>
            <a:off x="6443640" y="2421000"/>
            <a:ext cx="2311560" cy="319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tuto15_1"/>
          <p:cNvPicPr/>
          <p:nvPr/>
        </p:nvPicPr>
        <p:blipFill>
          <a:blip r:embed="rId3"/>
          <a:stretch/>
        </p:blipFill>
        <p:spPr>
          <a:xfrm>
            <a:off x="4932360" y="2565360"/>
            <a:ext cx="45864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File:BerlinerBlockadeLuftweg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1341360"/>
            <a:ext cx="4646520" cy="487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Flugzeuge werden entladen"/>
          <p:cNvPicPr/>
          <p:nvPr/>
        </p:nvPicPr>
        <p:blipFill>
          <a:blip r:embed="rId3"/>
          <a:stretch/>
        </p:blipFill>
        <p:spPr>
          <a:xfrm>
            <a:off x="324000" y="4221000"/>
            <a:ext cx="2952720" cy="2417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Berlin_Blockade_Milk"/>
          <p:cNvPicPr/>
          <p:nvPr/>
        </p:nvPicPr>
        <p:blipFill>
          <a:blip r:embed="rId4"/>
          <a:stretch/>
        </p:blipFill>
        <p:spPr>
          <a:xfrm>
            <a:off x="395280" y="404640"/>
            <a:ext cx="2860560" cy="360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19957"/>
          <p:cNvPicPr/>
          <p:nvPr/>
        </p:nvPicPr>
        <p:blipFill>
          <a:blip r:embed="rId5"/>
          <a:stretch/>
        </p:blipFill>
        <p:spPr>
          <a:xfrm>
            <a:off x="3492360" y="404640"/>
            <a:ext cx="2878200" cy="2133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5003640" y="61657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kkade van Berlijn 1948 - 19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brd_ddr"/>
          <p:cNvPicPr/>
          <p:nvPr/>
        </p:nvPicPr>
        <p:blipFill>
          <a:blip r:embed="rId1"/>
          <a:stretch/>
        </p:blipFill>
        <p:spPr>
          <a:xfrm>
            <a:off x="2627280" y="1197000"/>
            <a:ext cx="3686040" cy="4762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700360" y="5877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949 deling van 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brd_ddr"/>
          <p:cNvPicPr/>
          <p:nvPr/>
        </p:nvPicPr>
        <p:blipFill>
          <a:blip r:embed="rId1"/>
          <a:stretch/>
        </p:blipFill>
        <p:spPr>
          <a:xfrm>
            <a:off x="2627280" y="1197000"/>
            <a:ext cx="3686040" cy="4762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700360" y="5877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wee aparte l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79280" y="1484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undes Republik 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B.R.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651640" y="1484280"/>
            <a:ext cx="33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utsche Democratische Repub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D.D.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brd_dd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627280" y="1197000"/>
            <a:ext cx="3686040" cy="4762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700360" y="5877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wee aparte l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79280" y="1484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undes Republik 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B.R.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651640" y="1484280"/>
            <a:ext cx="33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utsche Democratische Repub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D.D.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2565360"/>
            <a:ext cx="457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er U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Kapit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Democra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roductiemiddelen van particu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Inkomen afhankelijk van opleiding, geluk, in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Vrijemarkteconomie met vraag en aan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Lid van de N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364000" y="2565360"/>
            <a:ext cx="3780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er S.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Eenpartij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Alle productiemiddelen van de 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Iedereen verdient evenv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Vijfjarenpla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Lid van het Warschau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8"/>
          <p:cNvSpPr/>
          <p:nvPr/>
        </p:nvSpPr>
        <p:spPr>
          <a:xfrm rot="4380000">
            <a:off x="3562560" y="2205720"/>
            <a:ext cx="720720" cy="576360"/>
          </a:xfrm>
          <a:custGeom>
            <a:avLst/>
            <a:gdLst>
              <a:gd name="textAreaLeft" fmla="*/ 144360 w 720720"/>
              <a:gd name="textAreaRight" fmla="*/ 576360 w 720720"/>
              <a:gd name="textAreaTop" fmla="*/ 163800 h 576360"/>
              <a:gd name="textAreaBottom" fmla="*/ 412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a_c_roosevelt-stalin-yalta"/>
          <p:cNvPicPr/>
          <p:nvPr/>
        </p:nvPicPr>
        <p:blipFill>
          <a:blip r:embed="rId1"/>
          <a:stretch/>
        </p:blipFill>
        <p:spPr>
          <a:xfrm>
            <a:off x="1835280" y="1557360"/>
            <a:ext cx="5329080" cy="4340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39640" y="21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urc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924360" y="609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7885080" y="2205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1619280" y="2349360"/>
            <a:ext cx="792000" cy="14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 flipV="1">
            <a:off x="6227280" y="2349000"/>
            <a:ext cx="1584360" cy="7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V="1">
            <a:off x="4500720" y="3429000"/>
            <a:ext cx="0" cy="266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 rot="4380000">
            <a:off x="3562560" y="2205720"/>
            <a:ext cx="720720" cy="576360"/>
          </a:xfrm>
          <a:custGeom>
            <a:avLst/>
            <a:gdLst>
              <a:gd name="textAreaLeft" fmla="*/ 144360 w 720720"/>
              <a:gd name="textAreaRight" fmla="*/ 576360 w 720720"/>
              <a:gd name="textAreaTop" fmla="*/ 163800 h 576360"/>
              <a:gd name="textAreaBottom" fmla="*/ 412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ddr brd berlin"/>
          <p:cNvPicPr/>
          <p:nvPr/>
        </p:nvPicPr>
        <p:blipFill>
          <a:blip r:embed="rId2"/>
          <a:stretch/>
        </p:blipFill>
        <p:spPr>
          <a:xfrm>
            <a:off x="5867280" y="1268280"/>
            <a:ext cx="3059280" cy="290700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7"/>
          <p:cNvSpPr/>
          <p:nvPr/>
        </p:nvSpPr>
        <p:spPr>
          <a:xfrm rot="10626600">
            <a:off x="6876720" y="2275920"/>
            <a:ext cx="644400" cy="431640"/>
          </a:xfrm>
          <a:custGeom>
            <a:avLst/>
            <a:gdLst>
              <a:gd name="textAreaLeft" fmla="*/ 129240 w 644400"/>
              <a:gd name="textAreaRight" fmla="*/ 515160 w 644400"/>
              <a:gd name="textAreaTop" fmla="*/ 122400 h 431640"/>
              <a:gd name="textAreaBottom" fmla="*/ 309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5"/>
          <p:cNvSpPr/>
          <p:nvPr/>
        </p:nvSpPr>
        <p:spPr>
          <a:xfrm rot="4380000">
            <a:off x="3562560" y="2205720"/>
            <a:ext cx="720720" cy="576360"/>
          </a:xfrm>
          <a:custGeom>
            <a:avLst/>
            <a:gdLst>
              <a:gd name="textAreaLeft" fmla="*/ 144360 w 720720"/>
              <a:gd name="textAreaRight" fmla="*/ 576360 w 720720"/>
              <a:gd name="textAreaTop" fmla="*/ 163800 h 576360"/>
              <a:gd name="textAreaBottom" fmla="*/ 412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ddr brd berlin"/>
          <p:cNvPicPr/>
          <p:nvPr/>
        </p:nvPicPr>
        <p:blipFill>
          <a:blip r:embed="rId2"/>
          <a:stretch/>
        </p:blipFill>
        <p:spPr>
          <a:xfrm>
            <a:off x="5867280" y="1268280"/>
            <a:ext cx="3059280" cy="2907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7"/>
          <p:cNvSpPr/>
          <p:nvPr/>
        </p:nvSpPr>
        <p:spPr>
          <a:xfrm rot="10626600">
            <a:off x="6876720" y="2275920"/>
            <a:ext cx="644400" cy="431640"/>
          </a:xfrm>
          <a:custGeom>
            <a:avLst/>
            <a:gdLst>
              <a:gd name="textAreaLeft" fmla="*/ 129240 w 644400"/>
              <a:gd name="textAreaRight" fmla="*/ 515160 w 644400"/>
              <a:gd name="textAreaTop" fmla="*/ 122400 h 431640"/>
              <a:gd name="textAreaBottom" fmla="*/ 309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File:Reisepass BRD 1980.JPG">
            <a:hlinkClick r:id="rId3"/>
          </p:cNvPr>
          <p:cNvPicPr/>
          <p:nvPr/>
        </p:nvPicPr>
        <p:blipFill>
          <a:blip r:embed="rId4"/>
          <a:stretch/>
        </p:blipFill>
        <p:spPr>
          <a:xfrm rot="20104200">
            <a:off x="5003640" y="1196640"/>
            <a:ext cx="1379520" cy="19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/>
          <p:cNvSpPr/>
          <p:nvPr/>
        </p:nvSpPr>
        <p:spPr>
          <a:xfrm rot="4380000">
            <a:off x="3562560" y="2205720"/>
            <a:ext cx="720720" cy="576360"/>
          </a:xfrm>
          <a:custGeom>
            <a:avLst/>
            <a:gdLst>
              <a:gd name="textAreaLeft" fmla="*/ 144360 w 720720"/>
              <a:gd name="textAreaRight" fmla="*/ 576360 w 720720"/>
              <a:gd name="textAreaTop" fmla="*/ 163800 h 576360"/>
              <a:gd name="textAreaBottom" fmla="*/ 412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ddr brd berlin"/>
          <p:cNvPicPr/>
          <p:nvPr/>
        </p:nvPicPr>
        <p:blipFill>
          <a:blip r:embed="rId2"/>
          <a:stretch/>
        </p:blipFill>
        <p:spPr>
          <a:xfrm>
            <a:off x="5867280" y="1268280"/>
            <a:ext cx="3059280" cy="2907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7"/>
          <p:cNvSpPr/>
          <p:nvPr/>
        </p:nvSpPr>
        <p:spPr>
          <a:xfrm rot="10626600">
            <a:off x="6876720" y="2275920"/>
            <a:ext cx="644400" cy="431640"/>
          </a:xfrm>
          <a:custGeom>
            <a:avLst/>
            <a:gdLst>
              <a:gd name="textAreaLeft" fmla="*/ 129240 w 644400"/>
              <a:gd name="textAreaRight" fmla="*/ 515160 w 644400"/>
              <a:gd name="textAreaTop" fmla="*/ 122400 h 431640"/>
              <a:gd name="textAreaBottom" fmla="*/ 309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File:Reisepass BRD 1980.JPG">
            <a:hlinkClick r:id="rId3"/>
          </p:cNvPr>
          <p:cNvPicPr/>
          <p:nvPr/>
        </p:nvPicPr>
        <p:blipFill>
          <a:blip r:embed="rId4"/>
          <a:stretch/>
        </p:blipFill>
        <p:spPr>
          <a:xfrm rot="20104200">
            <a:off x="5003640" y="1196640"/>
            <a:ext cx="1379520" cy="1920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1206572559605899892johnny_automatic_NPS_map_pictographs_part_102"/>
          <p:cNvPicPr/>
          <p:nvPr/>
        </p:nvPicPr>
        <p:blipFill>
          <a:blip r:embed="rId5"/>
          <a:stretch/>
        </p:blipFill>
        <p:spPr>
          <a:xfrm>
            <a:off x="2411280" y="2421000"/>
            <a:ext cx="1001880" cy="96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1206572559605899892johnny_automatic_NPS_map_pictographs_part_102"/>
          <p:cNvPicPr/>
          <p:nvPr/>
        </p:nvPicPr>
        <p:blipFill>
          <a:blip r:embed="rId2"/>
          <a:stretch/>
        </p:blipFill>
        <p:spPr>
          <a:xfrm>
            <a:off x="2411280" y="2421000"/>
            <a:ext cx="1001880" cy="965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250px-NikitaKhrushchev"/>
          <p:cNvPicPr/>
          <p:nvPr/>
        </p:nvPicPr>
        <p:blipFill>
          <a:blip r:embed="rId3"/>
          <a:stretch/>
        </p:blipFill>
        <p:spPr>
          <a:xfrm>
            <a:off x="6156360" y="2349360"/>
            <a:ext cx="2381040" cy="269568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2"/>
          <p:cNvSpPr/>
          <p:nvPr/>
        </p:nvSpPr>
        <p:spPr>
          <a:xfrm>
            <a:off x="5796000" y="620640"/>
            <a:ext cx="3024000" cy="1760760"/>
          </a:xfrm>
          <a:prstGeom prst="cloudCallout">
            <a:avLst>
              <a:gd name="adj1" fmla="val -444"/>
              <a:gd name="adj2" fmla="val 733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156360" y="1052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RR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615636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roets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95280" y="1550880"/>
            <a:ext cx="798516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berlin-wall"/>
          <p:cNvPicPr/>
          <p:nvPr/>
        </p:nvPicPr>
        <p:blipFill>
          <a:blip r:embed="rId1"/>
          <a:stretch/>
        </p:blipFill>
        <p:spPr>
          <a:xfrm>
            <a:off x="826920" y="1197000"/>
            <a:ext cx="3240360" cy="2527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1961-08-13-buildin_1515801i"/>
          <p:cNvPicPr/>
          <p:nvPr/>
        </p:nvPicPr>
        <p:blipFill>
          <a:blip r:embed="rId2"/>
          <a:stretch/>
        </p:blipFill>
        <p:spPr>
          <a:xfrm>
            <a:off x="4284720" y="3954600"/>
            <a:ext cx="4105080" cy="2647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BerlinWall61Building300pxw"/>
          <p:cNvPicPr/>
          <p:nvPr/>
        </p:nvPicPr>
        <p:blipFill>
          <a:blip r:embed="rId3"/>
          <a:stretch/>
        </p:blipFill>
        <p:spPr>
          <a:xfrm>
            <a:off x="4284720" y="1197000"/>
            <a:ext cx="4081320" cy="2585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wallbegin"/>
          <p:cNvPicPr/>
          <p:nvPr/>
        </p:nvPicPr>
        <p:blipFill>
          <a:blip r:embed="rId4"/>
          <a:stretch/>
        </p:blipFill>
        <p:spPr>
          <a:xfrm>
            <a:off x="826920" y="3824280"/>
            <a:ext cx="3240360" cy="27608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4"/>
          <p:cNvSpPr/>
          <p:nvPr/>
        </p:nvSpPr>
        <p:spPr>
          <a:xfrm>
            <a:off x="3132000" y="314172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196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demuur3"/>
          <p:cNvPicPr/>
          <p:nvPr/>
        </p:nvPicPr>
        <p:blipFill>
          <a:blip r:embed="rId1"/>
          <a:stretch/>
        </p:blipFill>
        <p:spPr>
          <a:xfrm>
            <a:off x="250920" y="3789360"/>
            <a:ext cx="2044440" cy="2232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image003"/>
          <p:cNvPicPr/>
          <p:nvPr/>
        </p:nvPicPr>
        <p:blipFill>
          <a:blip r:embed="rId2"/>
          <a:stretch/>
        </p:blipFill>
        <p:spPr>
          <a:xfrm>
            <a:off x="5148360" y="1413000"/>
            <a:ext cx="3240000" cy="2336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1961-08-13-fleeing_1515803i"/>
          <p:cNvPicPr/>
          <p:nvPr/>
        </p:nvPicPr>
        <p:blipFill>
          <a:blip r:embed="rId3"/>
          <a:stretch/>
        </p:blipFill>
        <p:spPr>
          <a:xfrm>
            <a:off x="5148360" y="3889440"/>
            <a:ext cx="3240000" cy="2089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32"/>
          <p:cNvPicPr/>
          <p:nvPr/>
        </p:nvPicPr>
        <p:blipFill>
          <a:blip r:embed="rId4"/>
          <a:stretch/>
        </p:blipFill>
        <p:spPr>
          <a:xfrm>
            <a:off x="2484360" y="2133720"/>
            <a:ext cx="2595600" cy="3887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Berlin_Escape_Run_1"/>
          <p:cNvPicPr/>
          <p:nvPr/>
        </p:nvPicPr>
        <p:blipFill>
          <a:blip r:embed="rId5"/>
          <a:stretch/>
        </p:blipFill>
        <p:spPr>
          <a:xfrm>
            <a:off x="250920" y="1844640"/>
            <a:ext cx="201744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grenzanlagen"/>
          <p:cNvPicPr/>
          <p:nvPr/>
        </p:nvPicPr>
        <p:blipFill>
          <a:blip r:embed="rId1"/>
          <a:stretch/>
        </p:blipFill>
        <p:spPr>
          <a:xfrm>
            <a:off x="468360" y="1268280"/>
            <a:ext cx="8064360" cy="51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iron_curtain_TBBJ"/>
          <p:cNvPicPr/>
          <p:nvPr/>
        </p:nvPicPr>
        <p:blipFill>
          <a:blip r:embed="rId1"/>
          <a:stretch/>
        </p:blipFill>
        <p:spPr>
          <a:xfrm>
            <a:off x="755640" y="1197000"/>
            <a:ext cx="3292560" cy="5516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z03023a"/>
          <p:cNvPicPr/>
          <p:nvPr/>
        </p:nvPicPr>
        <p:blipFill>
          <a:blip r:embed="rId2"/>
          <a:stretch/>
        </p:blipFill>
        <p:spPr>
          <a:xfrm>
            <a:off x="4356000" y="1197000"/>
            <a:ext cx="4283280" cy="2855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iron_curtain_2"/>
          <p:cNvPicPr/>
          <p:nvPr/>
        </p:nvPicPr>
        <p:blipFill>
          <a:blip r:embed="rId3"/>
          <a:stretch/>
        </p:blipFill>
        <p:spPr>
          <a:xfrm>
            <a:off x="4356000" y="4149720"/>
            <a:ext cx="427032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ironcurtain"/>
          <p:cNvPicPr/>
          <p:nvPr/>
        </p:nvPicPr>
        <p:blipFill>
          <a:blip r:embed="rId1"/>
          <a:stretch/>
        </p:blipFill>
        <p:spPr>
          <a:xfrm>
            <a:off x="250920" y="1341360"/>
            <a:ext cx="4924440" cy="53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484360" y="5950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oldWarEUAlliance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8"/>
          <p:cNvSpPr/>
          <p:nvPr/>
        </p:nvSpPr>
        <p:spPr>
          <a:xfrm rot="1158000">
            <a:off x="3708360" y="3428640"/>
            <a:ext cx="1589040" cy="792000"/>
          </a:xfrm>
          <a:prstGeom prst="rightArrow">
            <a:avLst>
              <a:gd name="adj1" fmla="val 50000"/>
              <a:gd name="adj2" fmla="val 501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 rot="20460000">
            <a:off x="4356000" y="3357720"/>
            <a:ext cx="720720" cy="366480"/>
          </a:xfrm>
          <a:prstGeom prst="rightArrow">
            <a:avLst>
              <a:gd name="adj1" fmla="val 50000"/>
              <a:gd name="adj2" fmla="val 491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 rot="5400000">
            <a:off x="3935520" y="4209120"/>
            <a:ext cx="865440" cy="314280"/>
          </a:xfrm>
          <a:prstGeom prst="rightArrow">
            <a:avLst>
              <a:gd name="adj1" fmla="val 50000"/>
              <a:gd name="adj2" fmla="val 6884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 rot="10800000">
            <a:off x="6012000" y="3499920"/>
            <a:ext cx="1728720" cy="792360"/>
          </a:xfrm>
          <a:prstGeom prst="rightArrow">
            <a:avLst>
              <a:gd name="adj1" fmla="val 50000"/>
              <a:gd name="adj2" fmla="val 5454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 rot="8032200">
            <a:off x="6339960" y="4107960"/>
            <a:ext cx="865080" cy="226800"/>
          </a:xfrm>
          <a:prstGeom prst="rightArrow">
            <a:avLst>
              <a:gd name="adj1" fmla="val 50000"/>
              <a:gd name="adj2" fmla="val 953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 rot="14215200">
            <a:off x="6472080" y="3544560"/>
            <a:ext cx="576000" cy="201600"/>
          </a:xfrm>
          <a:prstGeom prst="rightArrow">
            <a:avLst>
              <a:gd name="adj1" fmla="val 50000"/>
              <a:gd name="adj2" fmla="val 714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195640" y="3645000"/>
            <a:ext cx="863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516720" y="3716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.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 rot="1175400">
            <a:off x="3707640" y="364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U.S. &amp; G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roncurtain"/>
          <p:cNvPicPr/>
          <p:nvPr/>
        </p:nvPicPr>
        <p:blipFill>
          <a:blip r:embed="rId1"/>
          <a:stretch/>
        </p:blipFill>
        <p:spPr>
          <a:xfrm>
            <a:off x="250920" y="1341360"/>
            <a:ext cx="4924440" cy="5391360"/>
          </a:xfrm>
          <a:prstGeom prst="rect">
            <a:avLst/>
          </a:prstGeom>
          <a:ln w="0">
            <a:noFill/>
          </a:ln>
        </p:spPr>
      </p:pic>
      <p:sp>
        <p:nvSpPr>
          <p:cNvPr id="208" name="Oval 5"/>
          <p:cNvSpPr/>
          <p:nvPr/>
        </p:nvSpPr>
        <p:spPr>
          <a:xfrm>
            <a:off x="2556000" y="4869000"/>
            <a:ext cx="1800000" cy="129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4356000" y="551664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3419640" y="3573360"/>
            <a:ext cx="1800000" cy="129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4284720" y="1341360"/>
            <a:ext cx="86364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5148360" y="4149720"/>
            <a:ext cx="1008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5148360" y="1700280"/>
            <a:ext cx="93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372360" y="1052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6516720" y="5084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6443640" y="350028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ironcurtain"/>
          <p:cNvPicPr/>
          <p:nvPr/>
        </p:nvPicPr>
        <p:blipFill>
          <a:blip r:embed="rId1"/>
          <a:stretch/>
        </p:blipFill>
        <p:spPr>
          <a:xfrm>
            <a:off x="250920" y="1341360"/>
            <a:ext cx="4924440" cy="5391360"/>
          </a:xfrm>
          <a:prstGeom prst="rect">
            <a:avLst/>
          </a:prstGeom>
          <a:ln w="0">
            <a:noFill/>
          </a:ln>
        </p:spPr>
      </p:pic>
      <p:sp>
        <p:nvSpPr>
          <p:cNvPr id="219" name="Oval 5"/>
          <p:cNvSpPr/>
          <p:nvPr/>
        </p:nvSpPr>
        <p:spPr>
          <a:xfrm>
            <a:off x="2556000" y="4869000"/>
            <a:ext cx="1800000" cy="129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4356000" y="551664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3419640" y="3573360"/>
            <a:ext cx="1800000" cy="129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4284720" y="1341360"/>
            <a:ext cx="86364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5148360" y="4149720"/>
            <a:ext cx="1008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5148360" y="1700280"/>
            <a:ext cx="93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6300720" y="1484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mmun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6300720" y="3933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Jozef Sta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6300720" y="530064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nston Church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9" descr="churchill-1-300x403"/>
          <p:cNvPicPr/>
          <p:nvPr/>
        </p:nvPicPr>
        <p:blipFill>
          <a:blip r:embed="rId2"/>
          <a:stretch/>
        </p:blipFill>
        <p:spPr>
          <a:xfrm>
            <a:off x="7596360" y="5013360"/>
            <a:ext cx="1141200" cy="1533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stalin"/>
          <p:cNvPicPr/>
          <p:nvPr/>
        </p:nvPicPr>
        <p:blipFill>
          <a:blip r:embed="rId3"/>
          <a:stretch/>
        </p:blipFill>
        <p:spPr>
          <a:xfrm>
            <a:off x="7596360" y="3746520"/>
            <a:ext cx="117468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oldWarEUAlliance"/>
          <p:cNvPicPr/>
          <p:nvPr/>
        </p:nvPicPr>
        <p:blipFill>
          <a:blip r:embed="rId1"/>
          <a:stretch/>
        </p:blipFill>
        <p:spPr>
          <a:xfrm>
            <a:off x="179280" y="1341360"/>
            <a:ext cx="4195800" cy="4321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2484360" y="5950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64000" y="2133720"/>
            <a:ext cx="3780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er S.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Eenpartij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Alle prodktiemiddelen van de 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Iedereen verdient evenv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Vijfjarenpla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22903"/>
          <p:cNvPicPr/>
          <p:nvPr/>
        </p:nvPicPr>
        <p:blipFill>
          <a:blip r:embed="rId2"/>
          <a:stretch/>
        </p:blipFill>
        <p:spPr>
          <a:xfrm>
            <a:off x="6443640" y="4653000"/>
            <a:ext cx="781200" cy="8017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0"/>
          <p:cNvSpPr/>
          <p:nvPr/>
        </p:nvSpPr>
        <p:spPr>
          <a:xfrm>
            <a:off x="2843280" y="2852640"/>
            <a:ext cx="2378160" cy="1584360"/>
          </a:xfrm>
          <a:prstGeom prst="leftArrow">
            <a:avLst>
              <a:gd name="adj1" fmla="val 46694"/>
              <a:gd name="adj2" fmla="val 3771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oldWarEUAlliance"/>
          <p:cNvPicPr/>
          <p:nvPr/>
        </p:nvPicPr>
        <p:blipFill>
          <a:blip r:embed="rId1"/>
          <a:stretch/>
        </p:blipFill>
        <p:spPr>
          <a:xfrm>
            <a:off x="4643280" y="1341360"/>
            <a:ext cx="419580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2484360" y="5950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0" y="2060640"/>
            <a:ext cx="45720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er U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Kapit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Democra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roduktiemiddelen van particu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Inkomenen afhankelijk van opleiding, geluk, in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Vrijemarkteconomie met vraag en aan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4140360" y="2852640"/>
            <a:ext cx="1655640" cy="1513080"/>
          </a:xfrm>
          <a:prstGeom prst="rightArrow">
            <a:avLst>
              <a:gd name="adj1" fmla="val 48583"/>
              <a:gd name="adj2" fmla="val 424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the-faces-of-capitalism1"/>
          <p:cNvPicPr/>
          <p:nvPr/>
        </p:nvPicPr>
        <p:blipFill>
          <a:blip r:embed="rId2"/>
          <a:stretch/>
        </p:blipFill>
        <p:spPr>
          <a:xfrm>
            <a:off x="1403280" y="4797360"/>
            <a:ext cx="137340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oldWarEUAlliance"/>
          <p:cNvPicPr/>
          <p:nvPr/>
        </p:nvPicPr>
        <p:blipFill>
          <a:blip r:embed="rId1"/>
          <a:stretch/>
        </p:blipFill>
        <p:spPr>
          <a:xfrm>
            <a:off x="2484360" y="0"/>
            <a:ext cx="665964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UncleSam_2"/>
          <p:cNvPicPr/>
          <p:nvPr/>
        </p:nvPicPr>
        <p:blipFill>
          <a:blip r:embed="rId2"/>
          <a:stretch/>
        </p:blipFill>
        <p:spPr>
          <a:xfrm>
            <a:off x="3635280" y="3860640"/>
            <a:ext cx="1386000" cy="1560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22903"/>
          <p:cNvPicPr/>
          <p:nvPr/>
        </p:nvPicPr>
        <p:blipFill>
          <a:blip r:embed="rId3"/>
          <a:stretch/>
        </p:blipFill>
        <p:spPr>
          <a:xfrm>
            <a:off x="6372360" y="3284640"/>
            <a:ext cx="1333440" cy="1368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484360" y="5950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5724360" y="2924280"/>
            <a:ext cx="1224000" cy="1152360"/>
          </a:xfrm>
          <a:prstGeom prst="rightArrow">
            <a:avLst>
              <a:gd name="adj1" fmla="val 50000"/>
              <a:gd name="adj2" fmla="val 26554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093080" y="328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5724360" y="2924280"/>
            <a:ext cx="1224000" cy="1152360"/>
          </a:xfrm>
          <a:prstGeom prst="rightArrow">
            <a:avLst>
              <a:gd name="adj1" fmla="val 50000"/>
              <a:gd name="adj2" fmla="val 26554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093080" y="328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 rot="19966800">
            <a:off x="1630080" y="3117600"/>
            <a:ext cx="1871640" cy="718920"/>
          </a:xfrm>
          <a:prstGeom prst="leftArrow">
            <a:avLst>
              <a:gd name="adj1" fmla="val 50000"/>
              <a:gd name="adj2" fmla="val 65085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 rot="903000">
            <a:off x="1618920" y="4005360"/>
            <a:ext cx="2519280" cy="718920"/>
          </a:xfrm>
          <a:prstGeom prst="leftArrow">
            <a:avLst>
              <a:gd name="adj1" fmla="val 50000"/>
              <a:gd name="adj2" fmla="val 87606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 rot="2364000">
            <a:off x="1503360" y="4255560"/>
            <a:ext cx="1541520" cy="719280"/>
          </a:xfrm>
          <a:prstGeom prst="leftArrow">
            <a:avLst>
              <a:gd name="adj1" fmla="val 50000"/>
              <a:gd name="adj2" fmla="val 53579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179280" y="378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pit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rying-baby"/>
          <p:cNvPicPr/>
          <p:nvPr/>
        </p:nvPicPr>
        <p:blipFill>
          <a:blip r:embed="rId2"/>
          <a:stretch/>
        </p:blipFill>
        <p:spPr>
          <a:xfrm>
            <a:off x="6948360" y="2133720"/>
            <a:ext cx="1743120" cy="20890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"/>
          <p:cNvSpPr/>
          <p:nvPr/>
        </p:nvSpPr>
        <p:spPr>
          <a:xfrm>
            <a:off x="5796000" y="2924280"/>
            <a:ext cx="1224000" cy="288720"/>
          </a:xfrm>
          <a:prstGeom prst="rightArrow">
            <a:avLst>
              <a:gd name="adj1" fmla="val 50000"/>
              <a:gd name="adj2" fmla="val 1059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5651640" y="1125360"/>
            <a:ext cx="1800000" cy="1440000"/>
          </a:xfrm>
          <a:prstGeom prst="wedgeRoundRectCallout">
            <a:avLst>
              <a:gd name="adj1" fmla="val 74337"/>
              <a:gd name="adj2" fmla="val 7767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796000" y="126828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èè, niet eerlijk, jullie de hoofdstad en wij niet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659640" y="42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rl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2:02:06Z</dcterms:created>
  <dc:creator>Simon Kennedie</dc:creator>
  <dc:description/>
  <dc:language>en-US</dc:language>
  <cp:lastModifiedBy>Ole de Vos</cp:lastModifiedBy>
  <dcterms:modified xsi:type="dcterms:W3CDTF">2015-01-21T11:56:39Z</dcterms:modified>
  <cp:revision>15</cp:revision>
  <dc:subject/>
  <dc:title>Dia 1</dc:title>
</cp:coreProperties>
</file>