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F6C-BB54-4D2B-95A1-171540F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EC3-5C3D-474F-85D5-9077408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BEF-6497-4182-9F1C-5B131FA0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18B-9F7C-4A9D-BE93-1F90E17D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05D-AD9D-4DD1-A11D-F0D48EA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9B1-E817-4D5F-B01E-11C63635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C03-90AE-4E76-B52B-8D6C183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A36-9B07-4F62-AA29-AB4C908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9DB-3F10-4474-9749-038C72E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689-6FF6-48A2-B553-161ECC3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17A-E9B4-4A76-ACA3-D9D8AD2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6F0-8B46-407A-96F3-DBC54CE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229-9930-4AB6-B70E-B0DA2C332990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Historisch overzicht </a:t>
            </a:r>
            <a:br>
              <a:rPr sz="4500"/>
            </a:b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paragraaf 4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forumdemocratie.nl/files/Image/gorbaciov.jpg"/>
          <p:cNvPicPr/>
          <p:nvPr/>
        </p:nvPicPr>
        <p:blipFill>
          <a:blip r:embed="rId2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demorgen.be/static/FOTO/pe/1/12/11/art_large_736061.jpg"/>
          <p:cNvPicPr/>
          <p:nvPr/>
        </p:nvPicPr>
        <p:blipFill>
          <a:blip r:embed="rId3"/>
          <a:stretch/>
        </p:blipFill>
        <p:spPr>
          <a:xfrm>
            <a:off x="285840" y="428760"/>
            <a:ext cx="1774800" cy="26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4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429080" y="2143080"/>
            <a:ext cx="4429080" cy="445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2214720"/>
            <a:ext cx="29289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Tsjechoslowakije: vrije verkiezingen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ulgarije.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c 1989: vrije verkiezingen na revolut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www.blikopdewereld.nl/Ontwikkeling/images/stories/dicttotdemocr/hfst4/decemb89%20roemeense%20revolutie%20deel%204%20dicta%20tot%20democra.jpg"/>
          <p:cNvPicPr/>
          <p:nvPr/>
        </p:nvPicPr>
        <p:blipFill>
          <a:blip r:embed="rId1"/>
          <a:stretch/>
        </p:blipFill>
        <p:spPr>
          <a:xfrm>
            <a:off x="250920" y="2492280"/>
            <a:ext cx="47577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nederland.ro/files/Images%20Vraagbaak/revolutie.jpg"/>
          <p:cNvPicPr/>
          <p:nvPr/>
        </p:nvPicPr>
        <p:blipFill>
          <a:blip r:embed="rId2"/>
          <a:stretch/>
        </p:blipFill>
        <p:spPr>
          <a:xfrm>
            <a:off x="5292720" y="2565360"/>
            <a:ext cx="331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de val van de muur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zenden mensen vertrokken van Oost naar West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 was luxe en mooie winke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Oosten; veel armer, staat bepaalde lo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val van de muur: 2000 ossies vertrokken per dag naar We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t was een ramp voor Oost-Duitsland: liep lee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plossing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Duitsland bondkanselier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lossing: 2 landen weer samenvoe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oosten moest eerst democratisch worden me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regering most dan stemmen over herenig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e eenwor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voorwaarde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el Duitsland zou lid blijven van NA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edereen akkoor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1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ertrekken naar We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 raakte arbeiders kwij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stonden sti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moesten overschakelen van planeconomie naar markteconomie. (leidde tot veel ontslage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ssen reden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: slechter milie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Duitsland: economische ramp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kwamen binn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k nodig, huis nodig, voedse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al deze problemen op te lossen: belastingverhoging, want ze hadden miljarden nodi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nrus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stingverhoging leidde tot onrust in westkant van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komst neonazi’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ftermathnews.files.wordpress.com/2007/02/parramore_nazis_feb06.jpg"/>
          <p:cNvPicPr/>
          <p:nvPr/>
        </p:nvPicPr>
        <p:blipFill>
          <a:blip r:embed="rId1"/>
          <a:stretch/>
        </p:blipFill>
        <p:spPr>
          <a:xfrm>
            <a:off x="5643720" y="2071800"/>
            <a:ext cx="3124080" cy="404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msnbcmedia.msn.com/j/msnbc/Components/Photos/070205/070205_neonazi_hmed_3p.hmedium.jpg"/>
          <p:cNvPicPr/>
          <p:nvPr/>
        </p:nvPicPr>
        <p:blipFill>
          <a:blip r:embed="rId2"/>
          <a:stretch/>
        </p:blipFill>
        <p:spPr>
          <a:xfrm>
            <a:off x="1071720" y="3500280"/>
            <a:ext cx="39049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blo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was nu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el nog problemen: volken wilden zich afsplits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sjechoslowakije: in 2: Tsjechië en Slowakij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oegoslavië: Kroatië, Slovenië en Bosnië-Herzegovin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rven wilden 1 land: leidde tot burger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filavaria.nl/images/joegoslavie1991versie2.jpg"/>
          <p:cNvPicPr/>
          <p:nvPr/>
        </p:nvPicPr>
        <p:blipFill>
          <a:blip r:embed="rId2"/>
          <a:stretch/>
        </p:blipFill>
        <p:spPr>
          <a:xfrm>
            <a:off x="642960" y="357120"/>
            <a:ext cx="6500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oedselprijzen ste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ntevreden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1: sommige deelrepublieken (provincies) willen los kom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verklaarden zich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sident van de SU was overbodi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 verdwij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president van Rusland: Jeltsi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 bestaat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gfx.aftonbladet-cdn.se/multimedia/archive/00244/NYHETER-26s02-boris_244856w.jpg"/>
          <p:cNvPicPr/>
          <p:nvPr/>
        </p:nvPicPr>
        <p:blipFill>
          <a:blip r:embed="rId1"/>
          <a:stretch/>
        </p:blipFill>
        <p:spPr>
          <a:xfrm>
            <a:off x="6500880" y="3286080"/>
            <a:ext cx="237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agteresweb.nl/digiatlas/Voormalige%20Sovjetunie_bestanden/image019.gif"/>
          <p:cNvPicPr/>
          <p:nvPr/>
        </p:nvPicPr>
        <p:blipFill>
          <a:blip r:embed="rId2"/>
          <a:stretch/>
        </p:blipFill>
        <p:spPr>
          <a:xfrm>
            <a:off x="142920" y="357120"/>
            <a:ext cx="8974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Hoe nu verder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0: einde communisme in S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Europa was nu vri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den nu democra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heeft Koude Oorlog gewon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enige supermacht nog ov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ommunisme bleef bestaan in China, Noord-Korea, Noord-Vietnam en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chten dat communisme wel zou verdwij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mocratie, kapitalisme en vrijheid zijn de basis voor “the American way of life”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toch nieuwe problem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rika en Midden-Oost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islamitische 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eerden zich tegen de westerse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images.volkskrant.com/weblog/www/pub/mm/2007/10/1193655262.46751.jpg"/>
          <p:cNvPicPr/>
          <p:nvPr/>
        </p:nvPicPr>
        <p:blipFill>
          <a:blip r:embed="rId1"/>
          <a:stretch/>
        </p:blipFill>
        <p:spPr>
          <a:xfrm>
            <a:off x="6858000" y="3214800"/>
            <a:ext cx="228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jaren ‘80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rrorisme wordt een bedreigin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1 september 2001: WTC aanval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ders: Al-Qaida, moslim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zijn tegen westerse invloed op islami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is nu alleen maar bezig met strijden tegen fundamentalisten, en niet tegen commun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rjudywood.com/articles/why/whypics/18_wtc1heli.jpg"/>
          <p:cNvPicPr/>
          <p:nvPr/>
        </p:nvPicPr>
        <p:blipFill>
          <a:blip r:embed="rId2"/>
          <a:stretch/>
        </p:blipFill>
        <p:spPr>
          <a:xfrm>
            <a:off x="6715080" y="142920"/>
            <a:ext cx="1822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dra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bestaat nog, Warschaupact is opgehev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as niet meer echt nodig, maar heeft nu andere taa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N helpen met militaire steu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chten tegen terror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ordt groter: nieuwe led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785960" y="4214880"/>
            <a:ext cx="680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: Gorbatsjov komt aan de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in Sovjetunie was slech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apenwedloop was niet meer te betal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 kort aan landbouw- en industrieproduc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ijfjarenplannen waren misluk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t iedereen had gelijke re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forumdemocratie.nl/files/Image/gorbaciov.jpg"/>
          <p:cNvPicPr/>
          <p:nvPr/>
        </p:nvPicPr>
        <p:blipFill>
          <a:blip r:embed="rId1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ande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komt met veranderin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erestrojk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olitieke en economische verander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tatic.marktplaza.be/images/1/3/1464003.jpg"/>
          <p:cNvPicPr/>
          <p:nvPr/>
        </p:nvPicPr>
        <p:blipFill>
          <a:blip r:embed="rId1"/>
          <a:stretch/>
        </p:blipFill>
        <p:spPr>
          <a:xfrm>
            <a:off x="6429240" y="2928960"/>
            <a:ext cx="2000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conomisch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voeren van markteconomi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t van vraag en aanbod bepaalt de prijs van een produ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ine privébedrijven mochten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lf prijzen bepalen; concurren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èl vijfjarenplan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olitiek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grondw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rkiez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penheid van bestuur: </a:t>
            </a: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meningsu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feldmangallery.com/media/perestroika/glasnost-01.jpg"/>
          <p:cNvPicPr/>
          <p:nvPr/>
        </p:nvPicPr>
        <p:blipFill>
          <a:blip r:embed="rId1"/>
          <a:stretch/>
        </p:blipFill>
        <p:spPr>
          <a:xfrm>
            <a:off x="4788000" y="2997360"/>
            <a:ext cx="3097080" cy="372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ekijk de afbeelding op ware grootte"/>
          <p:cNvPicPr/>
          <p:nvPr/>
        </p:nvPicPr>
        <p:blipFill>
          <a:blip r:embed="rId2"/>
          <a:stretch/>
        </p:blipFill>
        <p:spPr>
          <a:xfrm>
            <a:off x="1042920" y="4005360"/>
            <a:ext cx="2952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uitenlandse politie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n militairen in het buitenland niet meer betal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k soldaten terug uit Afghanistan 1988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ntwapening: SU ging onderhandelen met VS om bepaalde kernraketten af te schaff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Reagan en Gorbatsjov"/>
          <p:cNvPicPr/>
          <p:nvPr/>
        </p:nvPicPr>
        <p:blipFill>
          <a:blip r:embed="rId1"/>
          <a:stretch/>
        </p:blipFill>
        <p:spPr>
          <a:xfrm>
            <a:off x="2916360" y="3429000"/>
            <a:ext cx="496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ude oorlog is voorbij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at nu met Oost-Europa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ot 1989: bij problemen kwam SU helpen met leg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anaf 1989: SU zegt: je moet zelf voor je communistische regering zorgen. SU kan niet help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to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in Oost-Europa wilden onafhankelijk zij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uni 1989: Polen: vrije verkiezingen. Communisme verli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pt 1989: Hongarije: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evolking Oost-Duitsland wil van muur af. Massale demonstratie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0:05Z</dcterms:created>
  <dc:creator>Mevr. Liefting</dc:creator>
  <dc:description/>
  <dc:language>en-US</dc:language>
  <cp:lastModifiedBy>Ole de Vos</cp:lastModifiedBy>
  <dcterms:modified xsi:type="dcterms:W3CDTF">2016-06-07T13:18:20Z</dcterms:modified>
  <cp:revision>17</cp:revision>
  <dc:subject/>
  <dc:title>Dia 1</dc:title>
</cp:coreProperties>
</file>