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639-87B7-4D44-8BD8-31CAA3F8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E52-ED75-424D-9293-0CFAC82B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21A-1B3C-4A5A-9ECE-CEC6B4F6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81A-898D-4167-A4B9-8B76E1DA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691-0FD7-4C0F-A9B6-3151155C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9F8-B35A-4C8C-ADC2-C465DF77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C15-C401-40BA-899D-0AB307F8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34D-7B0F-48F5-BE88-501D1C1A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D93-83D8-4E34-8B0E-5CF504C9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00D-83EB-41A0-9CA3-6C2B827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B9C-3F2E-4ADB-BA23-34FF524F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DF3-0E41-468B-876D-ADDD71D1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727A2-3F40-4F15-A9C9-60092EBBB36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7DB6B-07F7-4358-B3FF-34D25B2B381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jaren zest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3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3175200" cy="461016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4" descr=""/>
          <p:cNvPicPr/>
          <p:nvPr/>
        </p:nvPicPr>
        <p:blipFill>
          <a:blip r:embed="rId2"/>
          <a:stretch/>
        </p:blipFill>
        <p:spPr>
          <a:xfrm>
            <a:off x="3800520" y="1417680"/>
            <a:ext cx="5089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vo’s: proberen zich af te zetten tegen de mensen met macht (politie, regering, ker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zxYXLcy6WP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b2YSAVH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Afbeelding 3" descr=""/>
          <p:cNvPicPr/>
          <p:nvPr/>
        </p:nvPicPr>
        <p:blipFill>
          <a:blip r:embed="rId1"/>
          <a:stretch/>
        </p:blipFill>
        <p:spPr>
          <a:xfrm>
            <a:off x="0" y="274680"/>
            <a:ext cx="4397400" cy="43974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4" descr=""/>
          <p:cNvPicPr/>
          <p:nvPr/>
        </p:nvPicPr>
        <p:blipFill>
          <a:blip r:embed="rId2"/>
          <a:stretch/>
        </p:blipFill>
        <p:spPr>
          <a:xfrm>
            <a:off x="3619440" y="2927520"/>
            <a:ext cx="55245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ppie’s: lange haren, wijde kleding, veel bloemen, vrije gedachten over sex en drugs, willen niet trouwen maar samenwo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100240" y="3068640"/>
            <a:ext cx="2754360" cy="18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144360" y="441000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176720" y="468648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6654960" y="3227400"/>
            <a:ext cx="2295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"/>
          <p:cNvPicPr/>
          <p:nvPr/>
        </p:nvPicPr>
        <p:blipFill>
          <a:blip r:embed="rId1"/>
          <a:stretch/>
        </p:blipFill>
        <p:spPr>
          <a:xfrm>
            <a:off x="262080" y="1001880"/>
            <a:ext cx="3781440" cy="4290840"/>
          </a:xfrm>
          <a:prstGeom prst="rect">
            <a:avLst/>
          </a:prstGeom>
          <a:ln w="0">
            <a:noFill/>
          </a:ln>
        </p:spPr>
      </p:pic>
      <p:pic>
        <p:nvPicPr>
          <p:cNvPr id="83" name="Afbeelding 4" descr=""/>
          <p:cNvPicPr/>
          <p:nvPr/>
        </p:nvPicPr>
        <p:blipFill>
          <a:blip r:embed="rId2"/>
          <a:stretch/>
        </p:blipFill>
        <p:spPr>
          <a:xfrm>
            <a:off x="3619440" y="1001880"/>
            <a:ext cx="53816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eministen: willen meer zijn dan huisvrouw, kiezen of zij wel of geen kinderen willen krijgen. Dolle Mina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43160" y="3471840"/>
            <a:ext cx="61783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5079960" cy="38480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4" descr=""/>
          <p:cNvPicPr/>
          <p:nvPr/>
        </p:nvPicPr>
        <p:blipFill>
          <a:blip r:embed="rId2"/>
          <a:stretch/>
        </p:blipFill>
        <p:spPr>
          <a:xfrm>
            <a:off x="4446720" y="3267000"/>
            <a:ext cx="44337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Kleinere wer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de TV, auto, internet is alle binnen handberei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96880" y="3589200"/>
            <a:ext cx="2076480" cy="221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133800" y="3089160"/>
            <a:ext cx="2876400" cy="159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6427800" y="4094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Iedereen een a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ederlanders zijn in de jaren zestig rijk geworden, maar hoe is d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uk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Afbeelding 3" descr=""/>
          <p:cNvPicPr/>
          <p:nvPr/>
        </p:nvPicPr>
        <p:blipFill>
          <a:blip r:embed="rId1"/>
          <a:stretch/>
        </p:blipFill>
        <p:spPr>
          <a:xfrm>
            <a:off x="5448240" y="2424240"/>
            <a:ext cx="30164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schade herst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s er in Europa geen geld om de oorlogsschade te herstell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rshallhulp: VS leent geld uit aan Europese landen om te beginnen met de wederopbou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om geeft VS Marshallhulp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ster Marshal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4000680" y="828720"/>
            <a:ext cx="41558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Afbeelding 4" descr=""/>
          <p:cNvPicPr/>
          <p:nvPr/>
        </p:nvPicPr>
        <p:blipFill>
          <a:blip r:embed="rId1"/>
          <a:stretch/>
        </p:blipFill>
        <p:spPr>
          <a:xfrm>
            <a:off x="3516480" y="2509920"/>
            <a:ext cx="5627520" cy="3616200"/>
          </a:xfrm>
          <a:prstGeom prst="rect">
            <a:avLst/>
          </a:prstGeom>
          <a:ln w="0">
            <a:noFill/>
          </a:ln>
        </p:spPr>
      </p:pic>
      <p:pic>
        <p:nvPicPr>
          <p:cNvPr id="54" name="Afbeelding 5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489096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Een zekere toekom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herstel van de economie stond na WOII voorop. De regering bepaalde hoe hoog de lonen mochten zijn en wat de prijzen van de producten wa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wamen uitkeringen voor mensen die niet konden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orgingsst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ren zeventig: andere landen konden goedkoper produceren, meer mensen op kant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af de jaren negentig computer, internet en e-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Jeugdcult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de oorlog: kinderen gingen na de lagere school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ren er meer mensen nodig met een opleiding, ouders hadden meer geld dus kinderen mochten hun verdiende geld zelf hou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ugdcultu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Nieuwe ideeë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zems: jaren 50, brommers, leren jasjes, spijkerbro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tpzV_0l5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PoNH4gidL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4:18:59Z</dcterms:created>
  <dc:creator>Lara Ras</dc:creator>
  <dc:description/>
  <dc:language>en-US</dc:language>
  <cp:lastModifiedBy>Ole de Vos</cp:lastModifiedBy>
  <dcterms:modified xsi:type="dcterms:W3CDTF">2016-06-07T13:06:21Z</dcterms:modified>
  <cp:revision>5</cp:revision>
  <dc:subject/>
  <dc:title>6.3: De jaren zestig</dc:title>
</cp:coreProperties>
</file>