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3.png" ContentType="image/png"/>
  <Override PartName="/ppt/media/image26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79C-60CE-4002-BBC8-31FB725E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A8A-CF60-4AB9-B50B-7C918FCE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6B9-729C-4A44-8ED6-2E975BE2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4FD-646C-43DB-B67C-08E7E231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DF4-C196-4E21-AAAA-C5A183D1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104-1FC4-4978-B0CC-D7FAAD7F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4F8-B976-4ED0-9B21-7C746374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B88-AA57-4EE0-9042-D297E647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930-A53E-4BB1-9741-28F1C573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6E8-065E-4771-A018-0124705E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2E7-0786-41ED-A07F-C4ECB741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2B9-F170-4ECD-A87B-82F8CA91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5CDE-BFE8-499F-8EEE-67DBC8DADE06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upload.wikimedia.org/wikipedia/commons/8/87/Cold_war_europe_military_alliances_map.pn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hyperlink" Target="http://kunststad.nl/wordpress/wp-content/uploads/03_07_berlinermauer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84360" y="234900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4500" spc="-1" strike="noStrike">
                <a:solidFill>
                  <a:srgbClr val="000000"/>
                </a:solidFill>
                <a:latin typeface="Calibri Light"/>
              </a:rPr>
              <a:t>Koude Oorlog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516708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945-198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educatie-en-school.infonu.nl/artikel-foto-upload/samenvattingen/36854-de-koude-oorlog.jpg"/>
          <p:cNvPicPr/>
          <p:nvPr/>
        </p:nvPicPr>
        <p:blipFill>
          <a:blip r:embed="rId1"/>
          <a:stretch/>
        </p:blipFill>
        <p:spPr>
          <a:xfrm>
            <a:off x="900000" y="189000"/>
            <a:ext cx="3214800" cy="321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blikopdewereld.nl/Ontwikkeling/images/stories/fenoverh10/vrdeling%20duisland%20na%20woii%20feniks%20hfst%2010.gif"/>
          <p:cNvPicPr/>
          <p:nvPr/>
        </p:nvPicPr>
        <p:blipFill>
          <a:blip r:embed="rId2"/>
          <a:stretch/>
        </p:blipFill>
        <p:spPr>
          <a:xfrm>
            <a:off x="4716360" y="333360"/>
            <a:ext cx="39625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West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-Europa ging meer samenwerken met V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Blokvorming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blok: West-Europa met V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: SU met ingepikte landen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55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 Duitslan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: Bonds Republiek Duitsland (BR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: Duitse Democratische Republiek (DDR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trouw.nl/multimedia/archive/00239/OostenWestDuitsland_239038a.jpg"/>
          <p:cNvPicPr/>
          <p:nvPr/>
        </p:nvPicPr>
        <p:blipFill>
          <a:blip r:embed="rId1"/>
          <a:stretch/>
        </p:blipFill>
        <p:spPr>
          <a:xfrm>
            <a:off x="3786120" y="2637000"/>
            <a:ext cx="30290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Koude Oorlo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ie 2 blokken kregen steeds meer ruz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ad een oorlog kunnen wor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arom naam: Koude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uropa is gesplitst in 2: door groot hekwer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IJzeren Gordij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michaelbrochstein.com/photo/images/czech03/cz03023a.jpg"/>
          <p:cNvPicPr/>
          <p:nvPr/>
        </p:nvPicPr>
        <p:blipFill>
          <a:blip r:embed="rId2"/>
          <a:stretch/>
        </p:blipFill>
        <p:spPr>
          <a:xfrm>
            <a:off x="642960" y="285840"/>
            <a:ext cx="5037120" cy="335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freewebs.com/pbbduitsland/muur.jpg"/>
          <p:cNvPicPr/>
          <p:nvPr/>
        </p:nvPicPr>
        <p:blipFill>
          <a:blip r:embed="rId3"/>
          <a:stretch/>
        </p:blipFill>
        <p:spPr>
          <a:xfrm>
            <a:off x="4572000" y="3857760"/>
            <a:ext cx="40752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www.hongarijevandaag.nl/portal2/images/stories/img2009/ironcurtain_29311s.jpg"/>
          <p:cNvPicPr/>
          <p:nvPr/>
        </p:nvPicPr>
        <p:blipFill>
          <a:blip r:embed="rId2"/>
          <a:stretch/>
        </p:blipFill>
        <p:spPr>
          <a:xfrm>
            <a:off x="428760" y="357120"/>
            <a:ext cx="7953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arshallplan</a:t>
            </a: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41264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merika ging Europa geld aanbieden om hun land op te bouw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landen mochten er (van de SU!) geen gebruik van mak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kregen een communistische economi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m Marshallplan te kunnen invoeren: West-Duitsland kreeg een nieuwe munt: Duitse Mark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lin was het hier niet blij mee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lokkade van berlij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lin was zo boos, dat zijn leger alle wegen naar West-Berlijn blokkeerd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, GB en Fr moesten Berlijn maar verlat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 gaven niet op: voedsel werd gebracht via luchtbru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 9 maanden gaf Stalin op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aeropedia.nl/birds/max/berlinairlift.jpg"/>
          <p:cNvPicPr/>
          <p:nvPr/>
        </p:nvPicPr>
        <p:blipFill>
          <a:blip r:embed="rId1"/>
          <a:stretch/>
        </p:blipFill>
        <p:spPr>
          <a:xfrm>
            <a:off x="4859280" y="4459320"/>
            <a:ext cx="35704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static.rnw.nl/migratie/www.wereldomroep.nl/images/assets/13737091"/>
          <p:cNvPicPr/>
          <p:nvPr/>
        </p:nvPicPr>
        <p:blipFill>
          <a:blip r:embed="rId2"/>
          <a:stretch/>
        </p:blipFill>
        <p:spPr>
          <a:xfrm>
            <a:off x="755640" y="4494240"/>
            <a:ext cx="3384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Duidelijk 2 blokk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ugustus 1949: Stalin deed eerste atoombom-tes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wilde West-Europa bescherm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rt NAVO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V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3357720"/>
            <a:ext cx="822960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Leden: West-Europa, VS en Canad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VS beschermden ons met atoombommen tegen de Sovjet-Un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www.edu-kw1c.nl/460/internationalisering/_derived/reader_navo.htm_txt_Map_of_NATO_countries.gif"/>
          <p:cNvPicPr/>
          <p:nvPr/>
        </p:nvPicPr>
        <p:blipFill>
          <a:blip r:embed="rId1"/>
          <a:stretch/>
        </p:blipFill>
        <p:spPr>
          <a:xfrm>
            <a:off x="1042920" y="549360"/>
            <a:ext cx="7871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Warschaupac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5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 start eigen militaire pact in Oost-Europ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Landen werden verplicht li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www.strijdbewijs.nl/berlijn/point05.jpg"/>
          <p:cNvPicPr/>
          <p:nvPr/>
        </p:nvPicPr>
        <p:blipFill>
          <a:blip r:embed="rId2"/>
          <a:stretch/>
        </p:blipFill>
        <p:spPr>
          <a:xfrm>
            <a:off x="5135400" y="214200"/>
            <a:ext cx="363240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anno.nl/gfx/content/koude-oorlog-kaart.jpg"/>
          <p:cNvPicPr/>
          <p:nvPr/>
        </p:nvPicPr>
        <p:blipFill>
          <a:blip r:embed="rId3"/>
          <a:stretch/>
        </p:blipFill>
        <p:spPr>
          <a:xfrm>
            <a:off x="428760" y="3071880"/>
            <a:ext cx="73562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Bestand:Cold war europe military alliances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357120"/>
            <a:ext cx="61437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contain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landen communistisch: China, Noord-Vietnam, Noord-Korea, Cub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Amerikanen wilden communisme tegenhou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Containmentpolitiek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Ruzies tussen 2 kanten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ide landen wilden meer kernwapens dan vijand hebb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Bewapeningswedloop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 wie had de meeste atoombommen?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 1961 werd het gevaarlij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egering van Oost-Duitsland gaat een muur door Berlijn bouw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erlijnse Muu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23880"/>
            <a:ext cx="3827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vluchtten van Oost-Duitsland naar West-Duitsland via Berlij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 miljoen in 16 jaa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www.trouw.nl/multimedia/archive/00239/OostenWestDuitsland_239038a.jpg"/>
          <p:cNvPicPr/>
          <p:nvPr/>
        </p:nvPicPr>
        <p:blipFill>
          <a:blip r:embed="rId1"/>
          <a:stretch/>
        </p:blipFill>
        <p:spPr>
          <a:xfrm>
            <a:off x="4427640" y="476280"/>
            <a:ext cx="442908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Tijdelijke aanduiding voor inhoud 3" descr="BERLIJN.png"/>
          <p:cNvPicPr/>
          <p:nvPr/>
        </p:nvPicPr>
        <p:blipFill>
          <a:blip r:embed="rId1"/>
          <a:stretch/>
        </p:blipFill>
        <p:spPr>
          <a:xfrm>
            <a:off x="714240" y="357120"/>
            <a:ext cx="76438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obsdetimp.nl/uploads/html/groep8/geschiedenis/een-verdeelde-wereld/berlijnse%20muur.jpg"/>
          <p:cNvPicPr/>
          <p:nvPr/>
        </p:nvPicPr>
        <p:blipFill>
          <a:blip r:embed="rId2"/>
          <a:stretch/>
        </p:blipFill>
        <p:spPr>
          <a:xfrm>
            <a:off x="714240" y="2858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digischool.nl/kleioscoop/camerascoop/koude%20oorlog/de-muurf.jpg"/>
          <p:cNvPicPr/>
          <p:nvPr/>
        </p:nvPicPr>
        <p:blipFill>
          <a:blip r:embed="rId3"/>
          <a:stretch/>
        </p:blipFill>
        <p:spPr>
          <a:xfrm>
            <a:off x="3786120" y="3000240"/>
            <a:ext cx="47865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kunststad.nl/wordpress/wp-content/uploads/kaartje-van-berlijn.jpg"/>
          <p:cNvPicPr/>
          <p:nvPr/>
        </p:nvPicPr>
        <p:blipFill>
          <a:blip r:embed="rId2"/>
          <a:stretch/>
        </p:blipFill>
        <p:spPr>
          <a:xfrm>
            <a:off x="3214800" y="2500200"/>
            <a:ext cx="5742000" cy="414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istorische foto tijdens de bouw van de muu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285840"/>
            <a:ext cx="3990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62 ( jaar later): Toch Oorlog?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kwam erachter dat er Russische raketten op eiland Cuba la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was laaiend: wat een lef van de SU!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ennedy blokkeerde Cub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t marineschepen, e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ste dat SU de raket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g zou hal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esjtsjov gaf to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ttp://www.ufo1.com/wp-content/uploads/2009/05/john_f__kennedy_white_house_color_photo_portrait.jpg"/>
          <p:cNvPicPr/>
          <p:nvPr/>
        </p:nvPicPr>
        <p:blipFill>
          <a:blip r:embed="rId1"/>
          <a:stretch/>
        </p:blipFill>
        <p:spPr>
          <a:xfrm>
            <a:off x="4788000" y="4581360"/>
            <a:ext cx="1728720" cy="2067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www.christenhistorici.nl/photoshow.php?id=472&amp;type=thumb"/>
          <p:cNvPicPr/>
          <p:nvPr/>
        </p:nvPicPr>
        <p:blipFill>
          <a:blip r:embed="rId2"/>
          <a:stretch/>
        </p:blipFill>
        <p:spPr>
          <a:xfrm>
            <a:off x="6804000" y="3141720"/>
            <a:ext cx="18716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www.jfklibrary.org/NR/rdonlyres/77247A3D-DCEB-4E4B-913D-D6EE591033A8/40233/77247A3DDCEB4E4B913DD6EE591033A8.jpg"/>
          <p:cNvPicPr/>
          <p:nvPr/>
        </p:nvPicPr>
        <p:blipFill>
          <a:blip r:embed="rId2"/>
          <a:stretch/>
        </p:blipFill>
        <p:spPr>
          <a:xfrm>
            <a:off x="250920" y="333360"/>
            <a:ext cx="74167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2560" y="1523880"/>
            <a:ext cx="3714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ubacrisis duurde 10 dagen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eld was doodbang voor atoomoorlo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alexanderdenton.net/images/cmc_map_missile_range.jpg"/>
          <p:cNvPicPr/>
          <p:nvPr/>
        </p:nvPicPr>
        <p:blipFill>
          <a:blip r:embed="rId1"/>
          <a:stretch/>
        </p:blipFill>
        <p:spPr>
          <a:xfrm>
            <a:off x="3929040" y="214200"/>
            <a:ext cx="48783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ebsite-software.nl/images/stories/internet_situatie_analyse/geschiedenis_internet_koude_oorlog.jpg"/>
          <p:cNvPicPr/>
          <p:nvPr/>
        </p:nvPicPr>
        <p:blipFill>
          <a:blip r:embed="rId2"/>
          <a:stretch/>
        </p:blipFill>
        <p:spPr>
          <a:xfrm>
            <a:off x="285840" y="214200"/>
            <a:ext cx="3467160" cy="312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educatie-en-school.infonu.nl/artikel-foto-upload/samenvattingen/36854-de-koude-oorlog.jpg"/>
          <p:cNvPicPr/>
          <p:nvPr/>
        </p:nvPicPr>
        <p:blipFill>
          <a:blip r:embed="rId3"/>
          <a:stretch/>
        </p:blipFill>
        <p:spPr>
          <a:xfrm>
            <a:off x="1357200" y="3357720"/>
            <a:ext cx="3214800" cy="321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blikopdewereld.nl/Ontwikkeling/images/stories/fenoverh10/vrdeling%20duisland%20na%20woii%20feniks%20hfst%2010.gif"/>
          <p:cNvPicPr/>
          <p:nvPr/>
        </p:nvPicPr>
        <p:blipFill>
          <a:blip r:embed="rId4"/>
          <a:stretch/>
        </p:blipFill>
        <p:spPr>
          <a:xfrm>
            <a:off x="4786200" y="714240"/>
            <a:ext cx="39625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sfinx-online.nl/assets/sfinx/Koude%20Oorlog%2005%20copy.gif"/>
          <p:cNvPicPr/>
          <p:nvPr/>
        </p:nvPicPr>
        <p:blipFill>
          <a:blip r:embed="rId2"/>
          <a:stretch/>
        </p:blipFill>
        <p:spPr>
          <a:xfrm>
            <a:off x="285840" y="428760"/>
            <a:ext cx="828684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 Cubacris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ide partijen waren geschrokken van mogelijk oorlo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 wilden wapens verminder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urde in totaal 30 jaa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langrijkste leider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Reagan 1981-198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: Gorbatsjov 1985-199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http://www.s9.com/images/portraits/25091_Reagan-Ronald-Wilson.jpg"/>
          <p:cNvPicPr/>
          <p:nvPr/>
        </p:nvPicPr>
        <p:blipFill>
          <a:blip r:embed="rId1"/>
          <a:stretch/>
        </p:blipFill>
        <p:spPr>
          <a:xfrm>
            <a:off x="6875640" y="206064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duurzameenergiethuis.nl/wp-content/uploads/2009/10/gorbatsjov.jpg"/>
          <p:cNvPicPr/>
          <p:nvPr/>
        </p:nvPicPr>
        <p:blipFill>
          <a:blip r:embed="rId2"/>
          <a:stretch/>
        </p:blipFill>
        <p:spPr>
          <a:xfrm>
            <a:off x="6372360" y="4648320"/>
            <a:ext cx="2381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Reaga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ilde bewapeningswedloop winnen met ruimteschil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www.kennislink.nl/upload/123806_276_1101374857379-raketaanval_tekst.jpg"/>
          <p:cNvPicPr/>
          <p:nvPr/>
        </p:nvPicPr>
        <p:blipFill>
          <a:blip r:embed="rId1"/>
          <a:stretch/>
        </p:blipFill>
        <p:spPr>
          <a:xfrm>
            <a:off x="179280" y="2852640"/>
            <a:ext cx="8669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U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conomie was erg slecht in S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moest gaan praten over ontwapenin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moest ook eigen land veranderen; communisme werkte niet zo g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Glasnost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 vrije mening geven,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ufo.be/rubrieken/geschiedenis/rapporten/High-Tech/aimge/SDI/t25479.jpg"/>
          <p:cNvPicPr/>
          <p:nvPr/>
        </p:nvPicPr>
        <p:blipFill>
          <a:blip r:embed="rId1"/>
          <a:stretch/>
        </p:blipFill>
        <p:spPr>
          <a:xfrm>
            <a:off x="6948360" y="260280"/>
            <a:ext cx="18576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volg van verandering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standen in bezette landen in Oostblok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wilden ook vrije verkiez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veral verloren communistische partijen hun mach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9 november 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68280"/>
            <a:ext cx="86868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Koude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ommunisme in Oost-Duits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rlijnse muur werd gesloopt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harryvanbommel.sp.nl/weblog/files/2007/11/berlijnse_muur.jpg"/>
          <p:cNvPicPr/>
          <p:nvPr/>
        </p:nvPicPr>
        <p:blipFill>
          <a:blip r:embed="rId1"/>
          <a:stretch/>
        </p:blipFill>
        <p:spPr>
          <a:xfrm>
            <a:off x="4788000" y="3068640"/>
            <a:ext cx="3744720" cy="3763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www.demorgen.be/static/FOTO/pe/1/12/11/art_large_736061.jpg"/>
          <p:cNvPicPr/>
          <p:nvPr/>
        </p:nvPicPr>
        <p:blipFill>
          <a:blip r:embed="rId2"/>
          <a:stretch/>
        </p:blipFill>
        <p:spPr>
          <a:xfrm>
            <a:off x="1071720" y="3071880"/>
            <a:ext cx="23716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57760" y="1523880"/>
            <a:ext cx="482904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land werd weer 1 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http://europa.eu/abc/12lessons/images/content_berlin_wall.jpg"/>
          <p:cNvPicPr/>
          <p:nvPr/>
        </p:nvPicPr>
        <p:blipFill>
          <a:blip r:embed="rId1"/>
          <a:stretch/>
        </p:blipFill>
        <p:spPr>
          <a:xfrm>
            <a:off x="214200" y="214200"/>
            <a:ext cx="3489480" cy="2643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volkskrant.nl/multimedia/archive/00151/muur_151130b.jpg"/>
          <p:cNvPicPr/>
          <p:nvPr/>
        </p:nvPicPr>
        <p:blipFill>
          <a:blip r:embed="rId2"/>
          <a:stretch/>
        </p:blipFill>
        <p:spPr>
          <a:xfrm>
            <a:off x="3071880" y="2786040"/>
            <a:ext cx="5810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9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ommunisme in Sovjet-Un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 bestond niet mee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-Unie valt uit elkaar: heet nu weer Ru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Tijdens WO II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, GB en SU vochten tegen de nazi´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r. en GB waren niet enige grootmachten in de wereld meer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aakten kolonies kwijt, dus macht en grondstoff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 en VS waren nieuwe grootmach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 Light"/>
              </a:rPr>
              <a:t>Plannen met Europa na WO II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f9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100" spc="-1" strike="noStrike" u="sng">
                <a:solidFill>
                  <a:srgbClr val="bf9000"/>
                </a:solidFill>
                <a:uFillTx/>
                <a:latin typeface="Calibri"/>
              </a:rPr>
              <a:t>SU (Ruslan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usland mocht nooit meer aangevallen worden.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 moest een buffer tussen SU en West-Europa kom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uffer van bevriende land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f9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100" spc="-1" strike="noStrike" u="sng">
                <a:solidFill>
                  <a:srgbClr val="bf9000"/>
                </a:solidFill>
                <a:uFillTx/>
                <a:latin typeface="Calibri"/>
              </a:rPr>
              <a:t>VS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uropa moest vrij zij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rije volken die in vrijheid leefden, democratie, en zelfgekozen reger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oblemen SU en VS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23880"/>
            <a:ext cx="84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democratisch, kapitalistisch, vrij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: dictatuur, communistisch, gelijkheid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t botst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ebruari 1945: vergadering bij Jal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spraak: Duitsland en Berlijn zouden na de oorlog verdeeld worden in bezettingszon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geallieerden zouden in 1 zone invloed krijg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= Invloedssfer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ww.blikopdewereld.nl/Ontwikkeling/images/stories/fenoverh10/vrdeling%20duisland%20na%20woii%20feniks%20hfst%2010.gif"/>
          <p:cNvPicPr/>
          <p:nvPr/>
        </p:nvPicPr>
        <p:blipFill>
          <a:blip r:embed="rId2"/>
          <a:stretch/>
        </p:blipFill>
        <p:spPr>
          <a:xfrm>
            <a:off x="1143000" y="214200"/>
            <a:ext cx="585792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upload.wikimedia.org/wikipedia/commons/thumb/b/bb/Deutschland_Besatzungszonen_1945.png/240px-Deutschland_Besatzungszonen_1945.png"/>
          <p:cNvPicPr/>
          <p:nvPr/>
        </p:nvPicPr>
        <p:blipFill>
          <a:blip r:embed="rId2"/>
          <a:stretch/>
        </p:blipFill>
        <p:spPr>
          <a:xfrm>
            <a:off x="1214280" y="357120"/>
            <a:ext cx="4756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ovjetuni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landen die de SU had bevrijd, werden nu communistisch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ijdelijke aanduiding voor inhoud 3" descr="IJzeren_Gordijn.png"/>
          <p:cNvPicPr/>
          <p:nvPr/>
        </p:nvPicPr>
        <p:blipFill>
          <a:blip r:embed="rId1"/>
          <a:stretch/>
        </p:blipFill>
        <p:spPr>
          <a:xfrm>
            <a:off x="4500720" y="2786040"/>
            <a:ext cx="4005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4:56:13Z</dcterms:created>
  <dc:creator>Mevr. Liefting</dc:creator>
  <dc:description/>
  <dc:language>en-US</dc:language>
  <cp:lastModifiedBy>Ole de Vos</cp:lastModifiedBy>
  <dcterms:modified xsi:type="dcterms:W3CDTF">2016-06-07T12:52:17Z</dcterms:modified>
  <cp:revision>30</cp:revision>
  <dc:subject/>
  <dc:title>Dia 1</dc:title>
</cp:coreProperties>
</file>