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B9E-5984-41F3-9DBF-F3724976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F7E-8985-4957-9780-784FCB39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8B4-7460-4562-8959-9CA3EA8F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0CE-AC9B-4733-BC2F-9E82610F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8755-1994-438A-91E0-0813F6AC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E447-8812-4F0D-83F4-51E8EF9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7334-50F8-47E0-BD3D-FFBD3382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38DD-D176-454E-A8F0-F12835B0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4735-B2FA-4712-987A-994B2D9A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0DBB-1E65-4380-9285-AADE6571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EC7C-CB98-4A58-B08D-BA27093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0A4-48C2-4993-A563-48BA3DB1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0FFA-DC13-48AD-AB33-0916BA32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8816-C0CF-4940-8A5C-D8C3EA74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8358-98DB-4EA3-B4FD-C86232D7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36A6-EC00-49EC-A5E9-E7601134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8C81-1BC7-488D-B742-C303A215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49106-8BB4-41A6-BD78-D7EB8BFC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32BB-C55E-4D6B-A8B3-32B30218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72A7-5E2E-4DDA-817E-6A50401A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F340-F6F6-47A8-8CD9-16C4ED66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8DC0-4EF8-4F58-B1D0-69843992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049-00CD-42FF-8274-08BA6C2E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ACE3-7631-47EF-AA9A-62AFC2B3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7484-C76D-4C8B-9451-C72928B2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562B-1C7C-4B18-A94B-FEEBA80B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30A9-9A2B-432E-B4EC-6CFA1FF0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AB09-2FAE-437B-BE08-030781F3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4719-84A8-4349-BA0C-E09CC008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F19E-B419-4897-955C-11356D0F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14A-3703-446D-ACFA-06E604A7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AD5-1252-4AEB-B365-0407DF62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2EB-4B86-450A-AE6A-E1B8D140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A24-1D9F-47AC-97D3-0F069B2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698-40C5-4D35-9EFF-F1C11511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41F-D00C-4139-AD3B-C8500B22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CF94-C0D4-4156-8AA8-DC5EB3EF28BA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38D1-B2D2-4A2D-9C06-F4F6EAD8A2F5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A34C-2CF9-41A0-80AE-400254525DB2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i184.photobucket.com/albums/x27/jipiyanuar/Album%2520Covers/IrSoekarno.jpg&amp;imgrefurl=http://profiles.friendster.com/59519733&amp;usg=__hVj18A0N0QS6nHTTrTuk2BHDAYg=&amp;h=1000&amp;w=700&amp;sz=62&amp;hl=nl&amp;start=5&amp;um=1&amp;tbnid=E0z-OoSDB8JvNM:&amp;tbnh=149&amp;tbnw=104&amp;prev=/images%3Fq%3DSoekarno%26hl%3Dnl%26um%3D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33ff.com/flags/XL_flags/Indonesia_flag.gif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ost-Ind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ederlands-Ind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dones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Werk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lke boer moest een vijfde deel van zijn grond gebruiken voor gewassen voor de Europese markt (=culture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Peper, suiker, koffie, thee en taba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 producten werden tegen een laag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‘plantloon’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verkocht aan de NH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NHM vervoerde de producten naar Europa, om ze daar te verkop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t de winst werden er in Nederland spoorwegen en kanalen aangeleg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560" y="1356840"/>
            <a:ext cx="4429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stu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eine groep Nederlandse bestuurde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j gaven opdrachten en controleerden de uitvo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lke gewassen waar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bouwd moest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groep Indonesische bestuurde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ren de Indonesische adel (sultans tot dorpsad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ieten dorpeling onbetaal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voorbeeld weg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leggen en fabriek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uwen (herendiens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3" descr="memo hfst 6 afb 6"/>
          <p:cNvPicPr/>
          <p:nvPr/>
        </p:nvPicPr>
        <p:blipFill>
          <a:blip r:embed="rId1"/>
          <a:stretch/>
        </p:blipFill>
        <p:spPr>
          <a:xfrm>
            <a:off x="4716360" y="1916280"/>
            <a:ext cx="40388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ninklijk Nederlandsch-Indisch Le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ielpen het bestuur bij het handhaven van de or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alleen Nederlanders in dienst (Moluk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knil"/>
          <p:cNvPicPr/>
          <p:nvPr/>
        </p:nvPicPr>
        <p:blipFill>
          <a:blip r:embed="rId1"/>
          <a:stretch/>
        </p:blipFill>
        <p:spPr>
          <a:xfrm>
            <a:off x="5651640" y="1484280"/>
            <a:ext cx="3019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478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bestuurders, zowel de Nederlandse als de Indonesische, profiteerden het meest van het cultuurstels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bestuurders werden beloond met een premie (=cultuurprocente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een grotere productie ontvingen ze meer prem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Indonesisch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stuurders lieten hu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oeren dan ook zoveel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ogelijk verplicht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wassen produc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7" descr="http://www.schooltv.nl/eigenwijzer/mmbase/images/1176754"/>
          <p:cNvPicPr/>
          <p:nvPr/>
        </p:nvPicPr>
        <p:blipFill>
          <a:blip r:embed="rId1"/>
          <a:stretch/>
        </p:blipFill>
        <p:spPr>
          <a:xfrm>
            <a:off x="4838760" y="2494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285560"/>
            <a:ext cx="8858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Gevolgen Cultuurstelsel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ustrialisering met name suikerfabrie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boeren verplicht suikerriet te verbouw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frastructuur verbeterd door aanleg (spoor)weg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werd  vaak onbetaald aangelegd door de Indonesische bevol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d kwam in omloop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groter verschil in kleine groep rijken en grote groep arm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werkdruk van de Indonesische boeren nam to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door het verbouwen van de verplichte gewassen hadden de boeren minder tijd voor hun eigen voedselproduct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Hongersnod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998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1870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ultuurstels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t parlement was voor een vrije econom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en overheidsbemoeien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articulieren gaan naar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dië en beginnen daar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un plantages en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ijnbouwondernem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inheemse bevolking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orden </a:t>
            </a: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contractarbeider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(=zij hebben een contract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tekend voor een aantal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aar en worden vooruit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taald)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http://www.digischool.nl/kleioscoop/caleidoscoop/nederlands%20indie/indie-56-koeliearbeid-op-pl.jpg"/>
          <p:cNvPicPr/>
          <p:nvPr/>
        </p:nvPicPr>
        <p:blipFill>
          <a:blip r:embed="rId1"/>
          <a:stretch/>
        </p:blipFill>
        <p:spPr>
          <a:xfrm>
            <a:off x="4676760" y="2475000"/>
            <a:ext cx="3981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Atjeh oorlog (1873-190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Expansie gebiedsuitbreiding op Sumat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otiev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Modern Imperialis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Piraterij ophe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Concurrentie voorkom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Frankrijk, Italië, V.S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Aard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5053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n Heutsz: held of beu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 de Islamitische Indonesiërs werd het als een Heilige oorlog gezien (Jih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rde oorlog guerrilla (Indonesische kant) en terreur (Nederlandse kant)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bloedige oor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Uiteindelijk weinig daadwerkelijke controle over Atjeh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9" descr="Staatsieportret"/>
          <p:cNvPicPr/>
          <p:nvPr/>
        </p:nvPicPr>
        <p:blipFill>
          <a:blip r:embed="rId1"/>
          <a:stretch/>
        </p:blipFill>
        <p:spPr>
          <a:xfrm>
            <a:off x="6516720" y="1700280"/>
            <a:ext cx="2301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oonrede koningin Wilhelmina (1901)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Nederland heeft tegenover de bevolking dezer gewesten (=Ned.-Indië) een </a:t>
            </a: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zedelijke roeping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 te vervullen”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8" descr="2337775"/>
          <p:cNvPicPr/>
          <p:nvPr/>
        </p:nvPicPr>
        <p:blipFill>
          <a:blip r:embed="rId1"/>
          <a:stretch/>
        </p:blipFill>
        <p:spPr>
          <a:xfrm>
            <a:off x="5867280" y="1989000"/>
            <a:ext cx="2990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thische politiek (rond19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latie moeder en kind (moederland en kolon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vaart en welzijn lokale bevolking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twikkeling van landbouw, zorg en onderwij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0" descr="Desaschool op Java"/>
          <p:cNvPicPr/>
          <p:nvPr/>
        </p:nvPicPr>
        <p:blipFill>
          <a:blip r:embed="rId1"/>
          <a:stretch/>
        </p:blipFill>
        <p:spPr>
          <a:xfrm>
            <a:off x="4643280" y="2349360"/>
            <a:ext cx="4321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6" name="Picture 6" descr="indonesie"/>
          <p:cNvPicPr/>
          <p:nvPr/>
        </p:nvPicPr>
        <p:blipFill>
          <a:blip r:embed="rId1"/>
          <a:stretch/>
        </p:blipFill>
        <p:spPr>
          <a:xfrm>
            <a:off x="4572000" y="1628640"/>
            <a:ext cx="4254480" cy="236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95280" y="4365360"/>
            <a:ext cx="8507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13.000 eilanden en vijftig keer zo groot als Neder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le volkeren en t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ijk aan voedingsstoffen, grondstoffen en miner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Rijst, maïs, suiker, hout, rubber, tabak, koffie, thee, aardolie en 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7" descr="Indische%20archipel"/>
          <p:cNvPicPr/>
          <p:nvPr/>
        </p:nvPicPr>
        <p:blipFill>
          <a:blip r:embed="rId2"/>
          <a:stretch/>
        </p:blipFill>
        <p:spPr>
          <a:xfrm>
            <a:off x="395280" y="1628640"/>
            <a:ext cx="39592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928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Landbouw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landbouwkredieten, irrigatiewerken, betere gewassen (rijstsoorten)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Zor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bouw ziekenhuizen, vaccinatieprogramma’s, nieuwe geneesmiddelen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Onderwijs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bouw scholen, oprichting volksscholen, beter lesmateriaal, beter opgeleide leerkrachten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9280" y="159984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volg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oedseloverscho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Daling kindersterf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Stijging levensverwachtin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evolkingsgroei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Afname analfabetisme (minimaa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erspreiding westerse ideeën         - democratie              - communisme          - nationalism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Toenemend zelfbewustzij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900" spc="-1" strike="noStrike" u="sng">
                <a:solidFill>
                  <a:srgbClr val="000000"/>
                </a:solidFill>
                <a:uFillTx/>
                <a:latin typeface="Calibri"/>
              </a:rPr>
              <a:t>Ontstaan nationale bewegingen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 &gt;&gt;&gt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tionale be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oedi Oetomo (1908) “Het schone streve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Uitbreiding van het onderwij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Meer invloed op het bes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Indonesische eenheidsgedachte: één land, één vol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arekat Islam (1911) “Islamitische Verenig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Verbeteren economische positie van de l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Politieke verenig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In 1919 ontbonden op beschuldiging van het plann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n een opstand tegen het koloniale gez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1196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Politieke organisat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Partai Komunis Indonesia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1914) “Communistische Partij Indonesië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Strijd tegen het imperialism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=kapitalisme vergroot uitbuiting koloni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Werd door leden uit Sarekat Islam opgeric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Organiseert sta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1926 sein tot (gewelddadige) opst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oel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Communistische revolutie in Indonesië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Orde werd hersteld door de KNIL, de leiders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den opgepakt en de partij verbo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Partai Nasional Indonesia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(192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ationalistische Partij Indonesië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Indonesië als nationale een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Doel: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Stichten van een nationale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staat Indonesië dat het hele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gebied van Nederlands-Indië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oest omva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Leiders: Soekarn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at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4" descr="IrSoekarn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986120"/>
            <a:ext cx="990720" cy="141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g16148_u13125_foto_mutiara_hatta"/>
          <p:cNvPicPr/>
          <p:nvPr/>
        </p:nvPicPr>
        <p:blipFill>
          <a:blip r:embed="rId3"/>
          <a:stretch/>
        </p:blipFill>
        <p:spPr>
          <a:xfrm>
            <a:off x="5815080" y="3941640"/>
            <a:ext cx="1704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lksraad (19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gericht door koloniaal bestuur als antwoord op de roep om meer politieke inspraak voor de lokale bevol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0 leden (30 Ind., 25 Ned., 5 Chin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den werd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- deels gekozen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beperkt kiesrecht)           - deels aangest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erkte macht vooral een adviserende 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Gebouw van de Volksraad"/>
          <p:cNvPicPr/>
          <p:nvPr/>
        </p:nvPicPr>
        <p:blipFill>
          <a:blip r:embed="rId1"/>
          <a:stretch/>
        </p:blipFill>
        <p:spPr>
          <a:xfrm>
            <a:off x="4648320" y="1774800"/>
            <a:ext cx="40384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1936 diende Soetardjo, lid van de Volksraad, een petitie in waarin hij opriep tot een conferentie waar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...op den voet van gelijkgerechtigdheid een plan zal hebben op te stellen, ten einde aan Nederlandsch-Indië langs den weg van geleidelijken hervorming (...) een staat van zelfstandigheid toe te kennen.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petitie werd door de Nederlandse overheid afgewez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Afbeelding van de vergadering van de Volksra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2276640"/>
            <a:ext cx="33112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75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ereldoorlog 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val op Pearl Harbor (7-12-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merikaanse marine in Grote Oceaan uitgeschak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ed.-Indië doelwit voor Japanse le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pitulatie Ned.-Indië (8-3-194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meeste Nederlanders verdwijnen in kampen (Jappenkamp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nde Nederlandse heerschappi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Pacific550"/>
          <p:cNvPicPr/>
          <p:nvPr/>
        </p:nvPicPr>
        <p:blipFill>
          <a:blip r:embed="rId1"/>
          <a:stretch/>
        </p:blipFill>
        <p:spPr>
          <a:xfrm>
            <a:off x="4648320" y="1963800"/>
            <a:ext cx="403848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nafhankelijkhe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en deel van de bevolking haalt de Japanners met veel gejuich binn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el Indonesiërs waren verbaasd over de snelle nederlaag van de Nederlanders (versterkt zelfbewustzijn en nationalism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Japan beloofde (om het aan grondstoffenrijke Indonesië aan hun kant te krijgen) onafhankelijkheid onder Japanse bescher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ekarno en Hatta werken nauw samen met de Japanners (“landverrader”?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954f72"/>
                </a:solidFill>
                <a:latin typeface="Calibri"/>
              </a:rPr>
              <a:t>	</a:t>
            </a:r>
            <a:r>
              <a:rPr b="1" lang="nl-NL" sz="2400" spc="-1" strike="noStrike">
                <a:solidFill>
                  <a:srgbClr val="954f72"/>
                </a:solidFill>
                <a:latin typeface="Calibri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onafhankelijkhe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onesisch leger wordt opgericht en getraind door Japann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donesia Merdeka (17-08-45) “Indonesië vrij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pitulatie Japan (15-08-1945) als gevolg van de atoombommen op Hiroshima en Nagasa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tta en Soekarno roepen onder druk van fanatieke jongerenbewegingen de onafhankelijke Republiek Indonesië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reageert Nederlan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Tijdelijke aanduiding voor inhoud 8" descr="proklamatie.jpg"/>
          <p:cNvPicPr/>
          <p:nvPr/>
        </p:nvPicPr>
        <p:blipFill>
          <a:blip r:embed="rId1"/>
          <a:stretch/>
        </p:blipFill>
        <p:spPr>
          <a:xfrm>
            <a:off x="5786280" y="1571760"/>
            <a:ext cx="284328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1177456"/>
          <p:cNvPicPr/>
          <p:nvPr/>
        </p:nvPicPr>
        <p:blipFill>
          <a:blip r:embed="rId2"/>
          <a:stretch/>
        </p:blipFill>
        <p:spPr>
          <a:xfrm>
            <a:off x="5715000" y="4000680"/>
            <a:ext cx="30099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de 16</a:t>
            </a:r>
            <a:r>
              <a:rPr b="0" lang="nl-NL" sz="2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eeuw komen de eerste Europeanen (Portugese handelaren) aan in Oost-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oe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ndel drijven met de Indonesische vors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o kreeg Portugal rechtstreeks de specerijen in handen en verliep het niet langer langs de arabie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rijs van de specerijen zou dalen voor d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rtugezen en zij zouden ze voor veel winst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unnen verkopen in Europ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28556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ederland accepteerde de Indonesische onafhankelijkheid nie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ederland vond dat Nederland en Indonesië elkaar nodig had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Nederland was overtuigd dat de wederopbouw niet zou slagen zonder de inkomsten uit Indonesië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ekarno werd niet door het hele volk gesteun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De onafhankelijkheid was uitgeroepen door een klein groepje nationalisten)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Indonesiërs konden in de ogen van de Nederlanders hun land nog niet zelf bestur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Nederland wilde in een periode van 25 jaar stap voor stap de macht aan Indonesië over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99840"/>
            <a:ext cx="4572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600" spc="-1" strike="noStrike">
                <a:solidFill>
                  <a:srgbClr val="f5f5f5"/>
                </a:solidFill>
                <a:latin typeface="Calibri"/>
              </a:rPr>
              <a:t>Veel onduidelijkheid in Indonesië na de Japanse capitulati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Britse soldaten uit India zorgden voor orde en rust in Indonesië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Japanse soldaten  beschermden de Nederlanders in de kampen tegen Indonesische jong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Tijdelijke aanduiding voor inhoud 4" descr="Jap. soldaten beschermen ned.jpg"/>
          <p:cNvPicPr/>
          <p:nvPr/>
        </p:nvPicPr>
        <p:blipFill>
          <a:blip r:embed="rId1"/>
          <a:stretch/>
        </p:blipFill>
        <p:spPr>
          <a:xfrm>
            <a:off x="4629240" y="2738520"/>
            <a:ext cx="3886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 waren van 1945 tot en met 1949 twee Indonesische lan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Nederlands-Indië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Neder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Republiek Indonesië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donesi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Tijdelijke aanduiding voor inhoud 7" descr="vlag indonesië.jpg"/>
          <p:cNvPicPr/>
          <p:nvPr/>
        </p:nvPicPr>
        <p:blipFill>
          <a:blip r:embed="rId1"/>
          <a:stretch/>
        </p:blipFill>
        <p:spPr>
          <a:xfrm>
            <a:off x="5365800" y="3193920"/>
            <a:ext cx="2413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weg naar de Indonesische onafhankelijkheid bestaat uit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Onderhandele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Tijdelijke aanduiding voor inhoud 11" descr="1946-Oorlogsvrijwilligers.jpg"/>
          <p:cNvPicPr/>
          <p:nvPr/>
        </p:nvPicPr>
        <p:blipFill>
          <a:blip r:embed="rId1"/>
          <a:stretch/>
        </p:blipFill>
        <p:spPr>
          <a:xfrm>
            <a:off x="3357720" y="3214800"/>
            <a:ext cx="49291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4471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5 nov.) 194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Linggadjati-akkoor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spraken over het langzaam onafhankelijk laten worden van Indonesië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Erkenning Republiek op Java, Madoera en Sumatra als onderdeel van de Verenigde staten van Indonesië binnen de Nederlands-Indonesische U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Tijdelijke aanduiding voor inhoud 4" descr="Linggadjati.jpg"/>
          <p:cNvPicPr/>
          <p:nvPr/>
        </p:nvPicPr>
        <p:blipFill>
          <a:blip r:embed="rId1"/>
          <a:stretch/>
        </p:blipFill>
        <p:spPr>
          <a:xfrm>
            <a:off x="5072040" y="2286000"/>
            <a:ext cx="3776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21 juli) 194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Eerste politionele act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nnenlandse “politie-aktie” om de orde en rust te herstel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 werkelijkheid militair ingrijpen door de Nederlandse overheid!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66ff66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66ff66"/>
                </a:solidFill>
                <a:latin typeface="Calibri"/>
              </a:rPr>
              <a:t>Beide landen hielden zich niet aan de gemaakte  afsprak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Tijdelijke aanduiding voor inhoud 6" descr="1e politionele actie.jpg"/>
          <p:cNvPicPr/>
          <p:nvPr/>
        </p:nvPicPr>
        <p:blipFill>
          <a:blip r:embed="rId1"/>
          <a:stretch/>
        </p:blipFill>
        <p:spPr>
          <a:xfrm>
            <a:off x="4672080" y="2602080"/>
            <a:ext cx="38005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599840"/>
            <a:ext cx="4257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7 jan.) 194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Renville-akkoor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 het oorlogsschip de Renville kwamen Nederland en Indonesië met elkaar pra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eurde onder dwang van de V.S. en de V.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islukking. Beide partijen deden niet hun best om tot een vreedzame oplossing te ko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Tijdelijke aanduiding voor inhoud 4" descr="Renville overeenkomst.jpg"/>
          <p:cNvPicPr/>
          <p:nvPr/>
        </p:nvPicPr>
        <p:blipFill>
          <a:blip r:embed="rId1"/>
          <a:stretch/>
        </p:blipFill>
        <p:spPr>
          <a:xfrm>
            <a:off x="4786200" y="2500200"/>
            <a:ext cx="40388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4400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8 dec.) 194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f5f5f5"/>
                </a:solidFill>
                <a:latin typeface="Calibri"/>
              </a:rPr>
              <a:t>Tweede Politionele acti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rlogsmisdaden aan beide kant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ekarno en Hatta gevangen genom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Tijdelijke aanduiding voor inhoud 6" descr="soekarno gevangen.jpg"/>
          <p:cNvPicPr/>
          <p:nvPr/>
        </p:nvPicPr>
        <p:blipFill>
          <a:blip r:embed="rId1"/>
          <a:stretch/>
        </p:blipFill>
        <p:spPr>
          <a:xfrm>
            <a:off x="5000760" y="1928880"/>
            <a:ext cx="3759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599840"/>
            <a:ext cx="554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27 (dec.) 194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f5f5f5"/>
                </a:solidFill>
                <a:latin typeface="Calibri"/>
              </a:rPr>
              <a:t>Onderhandelingen in Den-Haa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der druk van de V.S. die dreigden de Marshall-hulp (= financiële hulp aan Nederland) stop te zet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.N. keurt de oorlog in Indonesië 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ekarno en Hatta vrijgela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derland aanvaardt de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onesische onafhankelijkhe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Tijdelijke aanduiding voor inhoud 4" descr="1949-souvereiniteitsoverdracht.jpg"/>
          <p:cNvPicPr/>
          <p:nvPr/>
        </p:nvPicPr>
        <p:blipFill>
          <a:blip r:embed="rId1"/>
          <a:stretch/>
        </p:blipFill>
        <p:spPr>
          <a:xfrm>
            <a:off x="4908600" y="1825560"/>
            <a:ext cx="3327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8920" y="1557000"/>
            <a:ext cx="8796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159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se expeditie bereikt Oost-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le Nederlandse expedities van verschillende compagnieën vol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markt wordt overspoeld met producten uit 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or de concurrenti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Dalen de prijzen van de specerijen in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Neder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Stijgen de inkoopprijzen van de specerijen in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Oost-Indi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winsten da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16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Republiek der Zeven Verenigde Nederlanden grijpt 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verschillende compagnieën worden één compag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VOC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Verenigde Oost-Indische Compagni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7" descr="voc-vlag2"/>
          <p:cNvPicPr/>
          <p:nvPr/>
        </p:nvPicPr>
        <p:blipFill>
          <a:blip r:embed="rId1"/>
          <a:stretch/>
        </p:blipFill>
        <p:spPr>
          <a:xfrm>
            <a:off x="4859280" y="2349360"/>
            <a:ext cx="3997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392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ken VO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ndel drijven met Oost-Indië.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met de inheemse vorst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 Europese handelaren verdrijven uit Oost-Indië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leine handelsposten stichtten aan de kus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reven naar een monopolie   (alleenhandel) in specerij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plomatie (verdragen sluiten) en Geweld (oorlog voere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voc3"/>
          <p:cNvPicPr/>
          <p:nvPr/>
        </p:nvPicPr>
        <p:blipFill>
          <a:blip r:embed="rId1"/>
          <a:stretch/>
        </p:blipFill>
        <p:spPr>
          <a:xfrm>
            <a:off x="4572000" y="2060640"/>
            <a:ext cx="4378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 ee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O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stuurt een groot deel van Java en de Molukk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ndel en scheepvaartroutes stonden onder controle van leger en oorlogsvlo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nodig met geweld werd de inheemse bevolking onder de duim gehou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6" descr="cat"/>
          <p:cNvPicPr/>
          <p:nvPr/>
        </p:nvPicPr>
        <p:blipFill>
          <a:blip r:embed="rId1"/>
          <a:stretch/>
        </p:blipFill>
        <p:spPr>
          <a:xfrm>
            <a:off x="4648320" y="2401920"/>
            <a:ext cx="403848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17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OC werd opgehe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entrale gezag vanuit Batavia faal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groot gebied &gt; onbestuurba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rruptie (tegenstrijdige belan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ek aan geld (1796 al failli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oenemende concurrentie van met name Engel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ranse tijd: Nederland onderdeel van Franse keizerrijk. (Engeland houdt toezicht in Oost-Indië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dergang van de VOC! Hoe nu verder in Indië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1830-1870 Cultuurstelsel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Zoveel mogelijk winst maken voor Nederla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derlandse Handelsmaatschappij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(NH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it staatsbedrijf had de taak het Cultuurstelsel in goede banen te leiden en hadden het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onopolie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p het vervoeren en handelen van goederen uit Nederlands-Indië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21:09Z</dcterms:created>
  <dc:creator>mmpc.vanbeers</dc:creator>
  <dc:description/>
  <dc:language>en-US</dc:language>
  <cp:lastModifiedBy>Ole de Vos</cp:lastModifiedBy>
  <dcterms:modified xsi:type="dcterms:W3CDTF">2016-06-07T12:49:29Z</dcterms:modified>
  <cp:revision>74</cp:revision>
  <dc:subject/>
  <dc:title>Indonesië</dc:title>
</cp:coreProperties>
</file>