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3C8-C807-49C4-8E10-16A3B803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E9C-E43E-4F30-98FC-C37BE987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CA7-9043-4988-A7F2-B10AB1B8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A47-B8D8-4F41-9C91-3DF31D30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53D-E9D2-4110-895C-4CE460D6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F14-A7D2-4EF8-A36D-1796F891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F05-4193-4EC5-9988-EAEB4D12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ADC-C1B7-4011-905A-6476B22D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538-E9FF-4AA6-80FB-CC9DFA7B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C53-1531-493A-9E78-38D95026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4D0-AB94-4AF7-A045-D3A7CDB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F94-DFA4-4558-B455-512726E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D3280-F599-433F-8D06-601CE2EFBB4E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52BED-0258-40C9-8A5C-77D6A29D9E9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De jaren zest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3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3175200" cy="461016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4" descr=""/>
          <p:cNvPicPr/>
          <p:nvPr/>
        </p:nvPicPr>
        <p:blipFill>
          <a:blip r:embed="rId2"/>
          <a:stretch/>
        </p:blipFill>
        <p:spPr>
          <a:xfrm>
            <a:off x="3800520" y="1417680"/>
            <a:ext cx="50893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vo’s: proberen zich af te zetten tegen de mensen met macht (politie, regering, ker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zxYXLcy6WP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hb2YSAVH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Afbeelding 3" descr=""/>
          <p:cNvPicPr/>
          <p:nvPr/>
        </p:nvPicPr>
        <p:blipFill>
          <a:blip r:embed="rId1"/>
          <a:stretch/>
        </p:blipFill>
        <p:spPr>
          <a:xfrm>
            <a:off x="0" y="274680"/>
            <a:ext cx="4397400" cy="43974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4" descr=""/>
          <p:cNvPicPr/>
          <p:nvPr/>
        </p:nvPicPr>
        <p:blipFill>
          <a:blip r:embed="rId2"/>
          <a:stretch/>
        </p:blipFill>
        <p:spPr>
          <a:xfrm>
            <a:off x="3619440" y="2927520"/>
            <a:ext cx="55245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ppie’s: lange haren, wijde kleding, veel bloemen, vrije gedachten over sex en drugs, willen niet trouwen maar samenwo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100240" y="3068640"/>
            <a:ext cx="2754360" cy="18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144360" y="4410000"/>
            <a:ext cx="2305080" cy="199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176720" y="468648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6654960" y="3227400"/>
            <a:ext cx="2295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"/>
          <p:cNvPicPr/>
          <p:nvPr/>
        </p:nvPicPr>
        <p:blipFill>
          <a:blip r:embed="rId1"/>
          <a:stretch/>
        </p:blipFill>
        <p:spPr>
          <a:xfrm>
            <a:off x="262080" y="1001880"/>
            <a:ext cx="3781440" cy="4290840"/>
          </a:xfrm>
          <a:prstGeom prst="rect">
            <a:avLst/>
          </a:prstGeom>
          <a:ln w="0">
            <a:noFill/>
          </a:ln>
        </p:spPr>
      </p:pic>
      <p:pic>
        <p:nvPicPr>
          <p:cNvPr id="83" name="Afbeelding 4" descr=""/>
          <p:cNvPicPr/>
          <p:nvPr/>
        </p:nvPicPr>
        <p:blipFill>
          <a:blip r:embed="rId2"/>
          <a:stretch/>
        </p:blipFill>
        <p:spPr>
          <a:xfrm>
            <a:off x="3619440" y="1001880"/>
            <a:ext cx="53816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eministen: willen meer zijn dan huisvrouw, kiezen of zij wel of geen kinderen willen krijgen. Dolle Mina’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43160" y="3471840"/>
            <a:ext cx="61783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5079960" cy="38480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4" descr=""/>
          <p:cNvPicPr/>
          <p:nvPr/>
        </p:nvPicPr>
        <p:blipFill>
          <a:blip r:embed="rId2"/>
          <a:stretch/>
        </p:blipFill>
        <p:spPr>
          <a:xfrm>
            <a:off x="4446720" y="3267000"/>
            <a:ext cx="443376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Kleinere wer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de TV, auto, internet is alle binnen handberei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96880" y="3589200"/>
            <a:ext cx="2076480" cy="2210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133800" y="3089160"/>
            <a:ext cx="2876400" cy="159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6427800" y="4094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Iedereen een au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ederlanders zijn in de jaren zestig rijk geworden, maar hoe is d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uk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Afbeelding 3" descr=""/>
          <p:cNvPicPr/>
          <p:nvPr/>
        </p:nvPicPr>
        <p:blipFill>
          <a:blip r:embed="rId1"/>
          <a:stretch/>
        </p:blipFill>
        <p:spPr>
          <a:xfrm>
            <a:off x="5448240" y="2424240"/>
            <a:ext cx="30164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De schade herstel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WOII was er in Europa geen geld om de oorlogsschade te herstell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rshallhulp: VS leent geld uit aan Europese landen om te beginnen met de wederopbou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om geeft VS Marshallhulp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ster Marshal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4" descr=""/>
          <p:cNvPicPr/>
          <p:nvPr/>
        </p:nvPicPr>
        <p:blipFill>
          <a:blip r:embed="rId1"/>
          <a:stretch/>
        </p:blipFill>
        <p:spPr>
          <a:xfrm>
            <a:off x="4000680" y="828720"/>
            <a:ext cx="41558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Afbeelding 4" descr=""/>
          <p:cNvPicPr/>
          <p:nvPr/>
        </p:nvPicPr>
        <p:blipFill>
          <a:blip r:embed="rId1"/>
          <a:stretch/>
        </p:blipFill>
        <p:spPr>
          <a:xfrm>
            <a:off x="3516480" y="2509920"/>
            <a:ext cx="5627520" cy="3616200"/>
          </a:xfrm>
          <a:prstGeom prst="rect">
            <a:avLst/>
          </a:prstGeom>
          <a:ln w="0">
            <a:noFill/>
          </a:ln>
        </p:spPr>
      </p:pic>
      <p:pic>
        <p:nvPicPr>
          <p:cNvPr id="54" name="Afbeelding 5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489096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Een zekere toekom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herstel van de economie stond na WOII voorop. De regering bepaalde hoe hoog de lonen mochten zijn en wat de prijzen van de producten wa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kwamen uitkeringen voor mensen die niet konden werk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orgingssta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ren zeventig: andere landen konden goedkoper produceren, meer mensen op kanto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af de jaren negentig computer, internet en e-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Jeugdcult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de oorlog: kinderen gingen na de lagere school werk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WOII waren er meer mensen nodig met een opleiding, ouders hadden meer geld dus kinderen mochten hun verdiende geld zelf hou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ugdcultu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Nieuwe ideeë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zems: jaren 50, brommers, leren jasjes, spijkerbro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tpzV_0l5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HPoNH4gidL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4:18:59Z</dcterms:created>
  <dc:creator>Lara Ras</dc:creator>
  <dc:description/>
  <dc:language>en-US</dc:language>
  <cp:lastModifiedBy>Ole de Vos</cp:lastModifiedBy>
  <dcterms:modified xsi:type="dcterms:W3CDTF">2016-06-07T13:06:21Z</dcterms:modified>
  <cp:revision>5</cp:revision>
  <dc:subject/>
  <dc:title>6.3: De jaren zestig</dc:title>
</cp:coreProperties>
</file>