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2D99-6921-40DD-99B4-1ACAEECF4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093B-2E4A-48A5-9F05-8195AD15F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8F4F-835F-420A-98E8-972628069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4325-4576-41BF-B323-88B476BF8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ED82-9A6E-4A49-96A3-423EC1EB1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9FDC-474B-439C-B25F-471D6F8C3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3D8F-747B-43B7-B2A4-DCDB9BA93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366B-AC80-458B-9339-B7E964C69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20B5-6777-40E8-A2D2-5F5D17170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E2E2-15EA-4AF5-A311-F406C0959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3730-C8B1-4D96-9E46-4FBA42482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CA1C-F1D7-4CBB-AC85-543187BB1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1704A-687B-4217-8626-A52801336661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Present simple vs Present continuous</a:t>
            </a: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50920" y="1700280"/>
          <a:ext cx="7416720" cy="4851360"/>
        </p:xfrm>
        <a:graphic>
          <a:graphicData uri="http://schemas.openxmlformats.org/drawingml/2006/table">
            <a:tbl>
              <a:tblPr/>
              <a:tblGrid>
                <a:gridCol w="2471760"/>
                <a:gridCol w="2473200"/>
                <a:gridCol w="2471760"/>
              </a:tblGrid>
              <a:tr h="49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sent si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sent continuo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104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m(formul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/she/it =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rb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r>
                        <a:rPr b="1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/you/we/they =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r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/is/are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r>
                        <a:rPr b="1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verb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he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te</a:t>
                      </a:r>
                      <a:r>
                        <a:rPr b="1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s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school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ke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the smell of gr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 I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 </a:t>
                      </a:r>
                      <a:r>
                        <a:rPr b="1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listen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g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the teacher right now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64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bits &amp; facts, in the pres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 THE MOMENT, in the present. (right now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elling exce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=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sh/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lent ‘e’ remov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am gambling (to gambl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 comm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’s the present tens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f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y parents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v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in Washington but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'm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just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siting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3" name="Wolkvormige toelichting 4"/>
          <p:cNvSpPr/>
          <p:nvPr/>
        </p:nvSpPr>
        <p:spPr>
          <a:xfrm>
            <a:off x="7272360" y="981000"/>
            <a:ext cx="1871640" cy="1440000"/>
          </a:xfrm>
          <a:prstGeom prst="cloudCallout">
            <a:avLst>
              <a:gd name="adj1" fmla="val -22851"/>
              <a:gd name="adj2" fmla="val 8203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alibri"/>
              </a:rPr>
              <a:t>Verb = w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alibri"/>
              </a:rPr>
              <a:t>Ww=werkwo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1T18:08:16Z</dcterms:created>
  <dc:creator>Gebruiker</dc:creator>
  <dc:description/>
  <dc:language>en-US</dc:language>
  <cp:lastModifiedBy>Gebruiker</cp:lastModifiedBy>
  <dcterms:modified xsi:type="dcterms:W3CDTF">2013-08-25T08:52:56Z</dcterms:modified>
  <cp:revision>9</cp:revision>
  <dc:subject/>
  <dc:title>Dia 1</dc:title>
</cp:coreProperties>
</file>