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ED4-951B-4974-8113-EDE595BC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EE4-9DB5-44DF-A7AA-679D41FB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A91-9288-4D61-AAB0-1CEB4204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9CE-6762-40DC-B904-3351E8F6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CD2-64DE-4020-A6D1-8505D132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E517-5576-4961-93A7-DB2BE5D7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F01-4D7C-4DC2-9895-1A1339D1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F641-E61C-45C6-B880-6C0E980F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06F-32AF-47AE-8B6A-616728E9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6F8-3EE4-4FBD-A997-C6BEEEDD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EA3-AFC7-4473-A609-8E5351AF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0DE-8E48-45AB-BAE4-671014E3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B904-20F5-4BA1-A535-E85F7D227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Simpl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use  the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Present Sim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lways true, or are true for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He goes to work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 habit. (They are true sometimes, always, usually etc…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I usually have dinner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he sometimes drinks 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Negativ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11280" y="1600200"/>
          <a:ext cx="4105440" cy="419904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4"/>
          <p:cNvSpPr/>
          <p:nvPr/>
        </p:nvSpPr>
        <p:spPr>
          <a:xfrm>
            <a:off x="2195640" y="1844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’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m  not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255600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he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isn’t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463840" y="4241880"/>
            <a:ext cx="41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aren’t work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to work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8893080" cy="4525920"/>
        </p:xfrm>
        <a:graphic>
          <a:graphicData uri="http://schemas.openxmlformats.org/drawingml/2006/table">
            <a:tbl>
              <a:tblPr/>
              <a:tblGrid>
                <a:gridCol w="2913120"/>
                <a:gridCol w="3147840"/>
                <a:gridCol w="28321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 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n’t wor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1600200"/>
          <a:ext cx="5975280" cy="4592520"/>
        </p:xfrm>
        <a:graphic>
          <a:graphicData uri="http://schemas.openxmlformats.org/drawingml/2006/table">
            <a:tbl>
              <a:tblPr/>
              <a:tblGrid>
                <a:gridCol w="597528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I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It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w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you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they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br>
              <a:rPr sz="2800"/>
            </a:br>
            <a:r>
              <a:rPr b="1" lang="en-GB" sz="3200" spc="-1" strike="noStrike">
                <a:solidFill>
                  <a:srgbClr val="3366ff"/>
                </a:solidFill>
                <a:latin typeface="Arial"/>
              </a:rPr>
              <a:t>?  </a:t>
            </a:r>
            <a:r>
              <a:rPr b="1" lang="en-GB" sz="24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27280" y="1600200"/>
          <a:ext cx="3529080" cy="47401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 </a:t>
            </a:r>
            <a:r>
              <a:rPr b="1" lang="en-GB" sz="4400" spc="-1" strike="noStrike">
                <a:solidFill>
                  <a:srgbClr val="00cc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600200"/>
          <a:ext cx="7056720" cy="459252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am</a:t>
                      </a:r>
                      <a:r>
                        <a:rPr b="1" lang="en-GB" sz="28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’m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                               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           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                          we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                            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13000"/>
          <a:ext cx="8291520" cy="462744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4480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n’t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n’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Continu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resent Continu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appening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t’s rain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in the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ear fu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’m going home at 9o’c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London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week he’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__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home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59280" y="2708280"/>
            <a:ext cx="14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492360" y="38606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s wor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/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usually wear trousers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 ……………..a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5640" y="2708280"/>
            <a:ext cx="27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I’m wearing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 or Presen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o rain’</a:t>
            </a:r>
            <a:br>
              <a:rPr sz="3200"/>
            </a:b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often ______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__________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340000" y="32130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00" y="43657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t’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spea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_______ goo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_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47640" y="2708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386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_______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2000" y="270828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700360" y="38815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sitive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11280" y="1600200"/>
          <a:ext cx="4032360" cy="4606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25"/>
          <p:cNvSpPr/>
          <p:nvPr/>
        </p:nvSpPr>
        <p:spPr>
          <a:xfrm>
            <a:off x="3704760" y="321300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142160" y="50133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3366ff"/>
                </a:solidFill>
                <a:latin typeface="Arial"/>
              </a:rPr>
              <a:t>Ques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600200"/>
          <a:ext cx="4319640" cy="42703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work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8"/>
          <p:cNvSpPr/>
          <p:nvPr/>
        </p:nvSpPr>
        <p:spPr>
          <a:xfrm>
            <a:off x="262728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i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she  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627280" y="4365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are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22:43:26Z</dcterms:created>
  <dc:creator>Carola Lubberding</dc:creator>
  <dc:description/>
  <dc:language>en-US</dc:language>
  <cp:lastModifiedBy>lbd</cp:lastModifiedBy>
  <dcterms:modified xsi:type="dcterms:W3CDTF">2013-08-27T07:03:25Z</dcterms:modified>
  <cp:revision>26</cp:revision>
  <dc:subject/>
  <dc:title>EFL Resource</dc:title>
</cp:coreProperties>
</file>