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2BA-F4C7-4AEB-B82B-FED08D7F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37B-58C9-4C60-9DD0-2A0ED430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A9F-98C1-4AE8-951D-CEA45151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F979-8B71-4253-85B3-706E58C3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EB1-D2C1-41AC-B433-2DC1DCDC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A87-31C5-4B8B-AC31-4A1531B4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577-5C9B-490A-A026-86F2885A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739-1521-4377-9B6F-3E7FFA41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D96-C1CE-4BDF-8133-681767A0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A51-E112-49F6-898F-A47AB60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F75-CF2A-406C-9145-F8AC137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7A8-6D71-4174-836B-0B3A73A6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6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6991-A3ED-443E-B96C-7C3B7620A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Simpl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use  the </a:t>
            </a: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Present Simp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lways true, or are true for a long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He goes to work by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a habit. (They are true sometimes, always, usually etc……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I usually have dinner at 6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Arial"/>
              </a:rPr>
              <a:t>She sometimes drinks coff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Negativ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11280" y="1600200"/>
          <a:ext cx="4105440" cy="4199040"/>
        </p:xfrm>
        <a:graphic>
          <a:graphicData uri="http://schemas.openxmlformats.org/drawingml/2006/table">
            <a:tbl>
              <a:tblPr/>
              <a:tblGrid>
                <a:gridCol w="410544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24"/>
          <p:cNvSpPr/>
          <p:nvPr/>
        </p:nvSpPr>
        <p:spPr>
          <a:xfrm>
            <a:off x="2195640" y="184464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’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m  not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255600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he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isn’t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2463840" y="4241880"/>
            <a:ext cx="41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 </a:t>
            </a:r>
            <a:r>
              <a:rPr b="1" lang="en-GB" sz="3200" spc="-1" strike="noStrike">
                <a:solidFill>
                  <a:srgbClr val="009999"/>
                </a:solidFill>
                <a:latin typeface="Times New Roman"/>
              </a:rPr>
              <a:t>aren’t working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‘to work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50920" y="1600200"/>
          <a:ext cx="8893080" cy="4525920"/>
        </p:xfrm>
        <a:graphic>
          <a:graphicData uri="http://schemas.openxmlformats.org/drawingml/2006/table">
            <a:tbl>
              <a:tblPr/>
              <a:tblGrid>
                <a:gridCol w="2913120"/>
                <a:gridCol w="3147840"/>
                <a:gridCol w="283212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m 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n’t wor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ork</a:t>
                      </a:r>
                      <a:r>
                        <a:rPr b="1" lang="en-GB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ositive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76360" y="1600200"/>
          <a:ext cx="5975280" cy="4592520"/>
        </p:xfrm>
        <a:graphic>
          <a:graphicData uri="http://schemas.openxmlformats.org/drawingml/2006/table">
            <a:tbl>
              <a:tblPr/>
              <a:tblGrid>
                <a:gridCol w="597528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I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     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Sh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It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we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you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they’</a:t>
                      </a:r>
                      <a:r>
                        <a:rPr b="1" lang="en-GB" sz="2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 </a:t>
            </a:r>
            <a:br>
              <a:rPr sz="2800"/>
            </a:br>
            <a:r>
              <a:rPr b="1" lang="en-GB" sz="3200" spc="-1" strike="noStrike">
                <a:solidFill>
                  <a:srgbClr val="3366ff"/>
                </a:solidFill>
                <a:latin typeface="Arial"/>
              </a:rPr>
              <a:t>?  </a:t>
            </a:r>
            <a:r>
              <a:rPr b="1" lang="en-GB" sz="24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627280" y="1600200"/>
          <a:ext cx="3529080" cy="47401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5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s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re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r>
                        <a:rPr b="1" lang="en-GB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gative  </a:t>
            </a:r>
            <a:r>
              <a:rPr b="1" lang="en-GB" sz="4400" spc="-1" strike="noStrike">
                <a:solidFill>
                  <a:srgbClr val="00cc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187280" y="1600200"/>
          <a:ext cx="7056720" cy="4592520"/>
        </p:xfrm>
        <a:graphic>
          <a:graphicData uri="http://schemas.openxmlformats.org/drawingml/2006/table">
            <a:tbl>
              <a:tblPr/>
              <a:tblGrid>
                <a:gridCol w="7056720"/>
              </a:tblGrid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 am</a:t>
                      </a:r>
                      <a:r>
                        <a:rPr b="1" lang="en-GB" sz="2800" spc="-1" strike="noStrike">
                          <a:solidFill>
                            <a:srgbClr val="00ff99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’m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                               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s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                                  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                               we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 no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aren’t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8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ing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                            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413000"/>
          <a:ext cx="8291520" cy="462744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448000"/>
              </a:tblGrid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m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not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sn’t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aren’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resent Continuo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use the 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Present Continuou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ings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happening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t’s raining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 in the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near fu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I’m going home at 9o’clo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London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week he’ 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________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home.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059280" y="2708280"/>
            <a:ext cx="14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492360" y="3860640"/>
            <a:ext cx="23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s wor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/Presen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 usually wear trousers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 ……………..a 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95640" y="2708280"/>
            <a:ext cx="27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Times New Roman"/>
              </a:rPr>
              <a:t>I’m wearing</a:t>
            </a:r>
            <a:r>
              <a:rPr b="1" lang="en-GB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Simple or Present Continu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to rain’</a:t>
            </a:r>
            <a:br>
              <a:rPr sz="3200"/>
            </a:b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often ______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___________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340000" y="32130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116000" y="43657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t’s 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spea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_______ good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_ Ger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70828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pea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700360" y="3860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esent Continuous or Present Si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200" spc="-1" strike="noStrike">
                <a:solidFill>
                  <a:srgbClr val="ff0066"/>
                </a:solidFill>
                <a:latin typeface="Arial"/>
              </a:rPr>
              <a:t>to work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 usually _______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oday, he ____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132000" y="270828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700360" y="38815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ff0066"/>
                </a:solidFill>
                <a:latin typeface="Arial"/>
              </a:rPr>
              <a:t>Positive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411280" y="1600200"/>
          <a:ext cx="4032360" cy="460692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r>
                        <a:rPr b="1" lang="en-GB" sz="3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25"/>
          <p:cNvSpPr/>
          <p:nvPr/>
        </p:nvSpPr>
        <p:spPr>
          <a:xfrm>
            <a:off x="3704760" y="321300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s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142160" y="501336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r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1" lang="en-GB" sz="3600" spc="-1" strike="noStrike">
                <a:solidFill>
                  <a:srgbClr val="ff0066"/>
                </a:solidFill>
                <a:latin typeface="Times New Roman"/>
              </a:rPr>
              <a:t>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esent Continuous</a:t>
            </a:r>
            <a:br>
              <a:rPr sz="4000"/>
            </a:br>
            <a:r>
              <a:rPr b="1" lang="en-GB" sz="4000" spc="-1" strike="noStrike">
                <a:solidFill>
                  <a:srgbClr val="3366ff"/>
                </a:solidFill>
                <a:latin typeface="Arial"/>
              </a:rPr>
              <a:t>Questi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484360" y="1600200"/>
          <a:ext cx="4319640" cy="42703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am   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  work</a:t>
                      </a:r>
                      <a:r>
                        <a:rPr b="1" lang="en-GB" sz="32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ing?</a:t>
                      </a: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8"/>
          <p:cNvSpPr/>
          <p:nvPr/>
        </p:nvSpPr>
        <p:spPr>
          <a:xfrm>
            <a:off x="2627280" y="2781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i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she  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627280" y="436572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are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Times New Roman"/>
              </a:rPr>
              <a:t>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22:43:26Z</dcterms:created>
  <dc:creator>Carola Lubberding</dc:creator>
  <dc:description/>
  <dc:language>en-US</dc:language>
  <cp:lastModifiedBy>lbd</cp:lastModifiedBy>
  <dcterms:modified xsi:type="dcterms:W3CDTF">2013-08-27T07:03:25Z</dcterms:modified>
  <cp:revision>26</cp:revision>
  <dc:subject/>
  <dc:title>EFL Resource</dc:title>
</cp:coreProperties>
</file>