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519-BC5B-4A9F-88B3-28774921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344-208A-438C-ADFF-FDE13910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FDB9-36CE-4FEF-A7CB-FF83A5F8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2CA4-BFF0-4791-82A2-92E05EF6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C97-9D25-4929-A1CF-8924B40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3D5-FF00-4702-B4EC-60DD74E4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EAD-9D48-42FB-8925-6316E67D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F69-FF3F-4C95-84DE-992B1493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F5A-1234-453E-BD85-815D15F8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1C0-0516-4118-B3BF-D45DCE3A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FF5-8E02-450E-84AA-FCC47BA9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417-6ED3-4E4D-9C12-F6B17976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5EE4-BF22-40FF-A235-A0FF4D8C81A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413000"/>
          <a:ext cx="8461080" cy="5110200"/>
        </p:xfrm>
        <a:graphic>
          <a:graphicData uri="http://schemas.openxmlformats.org/drawingml/2006/table">
            <a:tbl>
              <a:tblPr/>
              <a:tblGrid>
                <a:gridCol w="1677960"/>
                <a:gridCol w="3962160"/>
                <a:gridCol w="282096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e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-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erb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la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isten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o classical musi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want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o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home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all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 back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these 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enj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can’t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(don’t) m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h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de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of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prom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 u="sng">
                          <a:solidFill>
                            <a:srgbClr val="984807"/>
                          </a:solidFill>
                          <a:uFillTx/>
                          <a:latin typeface="Calibri"/>
                        </a:rPr>
                        <a:t>lear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</a:t>
                      </a:r>
                      <a:r>
                        <a:rPr b="1" lang="nl-NL" sz="2000" spc="-1" strike="noStrike" u="sng">
                          <a:solidFill>
                            <a:srgbClr val="ff0000"/>
                          </a:solidFill>
                          <a:uFillTx/>
                          <a:latin typeface="Calibri"/>
                        </a:rPr>
                        <a:t>hate</a:t>
                      </a:r>
                      <a:r>
                        <a:rPr b="1" lang="nl-NL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tudy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ut I </a:t>
                      </a:r>
                      <a:r>
                        <a:rPr b="1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hope</a:t>
                      </a:r>
                      <a:r>
                        <a:rPr b="0" lang="nl-NL" sz="2000" spc="-1" strike="noStrike">
                          <a:solidFill>
                            <a:srgbClr val="984807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o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b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 lawyer someda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Tekstvak 2"/>
          <p:cNvSpPr/>
          <p:nvPr/>
        </p:nvSpPr>
        <p:spPr>
          <a:xfrm>
            <a:off x="250920" y="476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rund versus the to-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18:01:51Z</dcterms:created>
  <dc:creator>Gebruiker</dc:creator>
  <dc:description/>
  <dc:language>en-US</dc:language>
  <cp:lastModifiedBy>Gebruiker</cp:lastModifiedBy>
  <dcterms:modified xsi:type="dcterms:W3CDTF">2013-09-01T19:11:41Z</dcterms:modified>
  <cp:revision>4</cp:revision>
  <dc:subject/>
  <dc:title>Dia 1</dc:title>
</cp:coreProperties>
</file>