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9C6-642E-48ED-B181-1B14430E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7EA-E9F2-4BA1-942C-942C460B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740-A865-4574-AD8E-7F368503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80A-3A28-4AE9-9526-C114F4F5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B83-17CB-4ED7-81B8-4F86A971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94CB-7B7C-42B6-89B0-B6C232FF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F85-A5FC-4D11-9CB6-B1273070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C76-137A-453E-9CCB-85E59ADA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12C-7D5B-41C6-83A8-BD771527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C23-34A8-45BF-ACD4-1019C46B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528-8AA1-479D-9CA0-3235FD05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8480-C29B-465F-AB46-5FDAA004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555D-B2ED-447D-B2ED-9829372EA2A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resent simple vs Present continuous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1700280"/>
          <a:ext cx="7416720" cy="4851360"/>
        </p:xfrm>
        <a:graphic>
          <a:graphicData uri="http://schemas.openxmlformats.org/drawingml/2006/table">
            <a:tbl>
              <a:tblPr/>
              <a:tblGrid>
                <a:gridCol w="2471760"/>
                <a:gridCol w="2473200"/>
                <a:gridCol w="24717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si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 contin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(formul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/she/it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/you/we/they =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/is/ar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b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e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choo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k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the smell of gr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I 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</a:t>
                      </a:r>
                      <a:r>
                        <a:rPr b="1" lang="nl-NL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listen</a:t>
                      </a: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the teacher right now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ts &amp; facts, in the 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THE MOMENT, in the present. (right no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 exce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sh/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ent ‘e’ rem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am gambling (to gam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’s the present ten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parent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in Washington bu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'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us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" name="Wolkvormige toelichting 4"/>
          <p:cNvSpPr/>
          <p:nvPr/>
        </p:nvSpPr>
        <p:spPr>
          <a:xfrm>
            <a:off x="7272360" y="981000"/>
            <a:ext cx="1871640" cy="1440000"/>
          </a:xfrm>
          <a:prstGeom prst="cloudCallout">
            <a:avLst>
              <a:gd name="adj1" fmla="val -22851"/>
              <a:gd name="adj2" fmla="val 820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Verb = w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alibri"/>
              </a:rPr>
              <a:t>Ww=werkwo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8:08:16Z</dcterms:created>
  <dc:creator>Gebruiker</dc:creator>
  <dc:description/>
  <dc:language>en-US</dc:language>
  <cp:lastModifiedBy>Gebruiker</cp:lastModifiedBy>
  <dcterms:modified xsi:type="dcterms:W3CDTF">2013-08-25T08:52:56Z</dcterms:modified>
  <cp:revision>9</cp:revision>
  <dc:subject/>
  <dc:title>Dia 1</dc:title>
</cp:coreProperties>
</file>