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DDD-F10D-4B03-89E0-B8AA65AD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DC9-C59D-4FFB-BC5C-5DEC9333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12CB-197F-4A0F-B96A-E0FD96D6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603-E156-47AA-A791-B6881992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C4E4-EDB7-427E-869F-80E2F4E2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E8B5-178D-49E9-B016-29C924F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BDDC-93D8-418D-A899-6F2B663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901F-3AD3-4A0D-A6B2-23D1C2E4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D95F-1858-4300-A2D8-01FDBB18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737B-4C7E-4045-9A2C-A6FBD7E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ACB-8C03-4FD9-973C-801C41C4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BDF-B4E1-46DC-BF20-E7CBFDD8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75C4-777B-4A28-BC34-505C277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FB3D-6630-4F7B-86C6-D16BD588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0E00-008C-4336-9366-607FFC08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0213-F659-4EBB-9A6C-075FDF31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71C0-5B30-450E-9C4D-0924A50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C96-DC72-434E-A99B-35BF30A1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3C17-810E-4BF3-A421-D508552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57A-F17B-4CE2-BC1A-0B60A1FA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FD2-5016-4BDB-80D0-A2F518D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6A1-94FD-47CF-B66E-021B4E41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4FC-5FDE-4AD0-A723-0A154FD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2BF-ACF4-4EFF-915E-BD4F82E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A4A2-9BF2-4108-A4F7-0F37F6AD9B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5027-F6BA-4472-9F02-EEDAFBC617C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geling door 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Hormonen zijn chemische boodschapperstoffen. Zij worden gevormd op een bepaalde plaats en hebben hun eigen doelwitcell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ijn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rticosteroide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schorshormon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ldosteron (Na – K balan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Cortisol (Stress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drenaline ( Vlucht-vecht hormoo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307040" y="3200400"/>
            <a:ext cx="4532040" cy="1812960"/>
          </a:xfrm>
          <a:prstGeom prst="rect">
            <a:avLst/>
          </a:prstGeom>
          <a:ln w="0">
            <a:noFill/>
          </a:ln>
        </p:spPr>
      </p:pic>
      <p:pic>
        <p:nvPicPr>
          <p:cNvPr id="12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ilandjes van Langerhan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1% van de Alvleeskli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aken twee hormon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sul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e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glucag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ze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loedsuikerspiegel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32080"/>
            <a:ext cx="3809880" cy="326052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Gonad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eslachtsklier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duceren geslachtshormonen onder invloed van de hypofys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estroge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ge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stoster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508720" y="2073240"/>
            <a:ext cx="2246040" cy="4494240"/>
          </a:xfrm>
          <a:prstGeom prst="rect">
            <a:avLst/>
          </a:prstGeom>
          <a:ln w="0">
            <a:noFill/>
          </a:ln>
        </p:spPr>
      </p:pic>
      <p:pic>
        <p:nvPicPr>
          <p:cNvPr id="13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eefsel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nkele op een rijtj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PO (erytropoëtin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istamine (beschadigd weefsel kan dit afgev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tagladines ( uitdrijving foetus, ontstekingsmediator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133720"/>
            <a:ext cx="4192560" cy="302400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39" name="Afbeelding 1" descr=""/>
          <p:cNvPicPr/>
          <p:nvPr/>
        </p:nvPicPr>
        <p:blipFill>
          <a:blip r:embed="rId2"/>
          <a:stretch/>
        </p:blipFill>
        <p:spPr>
          <a:xfrm>
            <a:off x="1801800" y="1484280"/>
            <a:ext cx="680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ijf verschillen tussen het zenuw- en hormoonstels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475160" cy="19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Zenuw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impulse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elektr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snel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Kortduren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zenuw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092480" y="1628640"/>
            <a:ext cx="453708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Arial"/>
                <a:ea typeface="Arial"/>
              </a:rPr>
              <a:t>Hormoonstelse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Door hormo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Chemische berichtj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za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Langduri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Arial"/>
                <a:ea typeface="Arial"/>
              </a:rPr>
              <a:t>Via het blo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Picture 7" descr="zenuwstelsel"/>
          <p:cNvPicPr/>
          <p:nvPr/>
        </p:nvPicPr>
        <p:blipFill>
          <a:blip r:embed="rId1"/>
          <a:stretch/>
        </p:blipFill>
        <p:spPr>
          <a:xfrm>
            <a:off x="2701800" y="3422520"/>
            <a:ext cx="1292400" cy="336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80px-Illu_endocrine_system"/>
          <p:cNvPicPr/>
          <p:nvPr/>
        </p:nvPicPr>
        <p:blipFill>
          <a:blip r:embed="rId2"/>
          <a:stretch/>
        </p:blipFill>
        <p:spPr>
          <a:xfrm>
            <a:off x="6908760" y="2435400"/>
            <a:ext cx="22352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nen: stoffen die in je lichaam langdurige processen regel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Samenwerk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Autonome zenuwstelsel: snel en ko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Hormoonstelsel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: langzaam en langduri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419640" y="4403880"/>
            <a:ext cx="107928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Picture 4" descr="hormoonklieren"/>
          <p:cNvPicPr/>
          <p:nvPr/>
        </p:nvPicPr>
        <p:blipFill>
          <a:blip r:embed="rId1"/>
          <a:stretch/>
        </p:blipFill>
        <p:spPr>
          <a:xfrm>
            <a:off x="108000" y="1844640"/>
            <a:ext cx="4549680" cy="439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ypofyse"/>
          <p:cNvPicPr/>
          <p:nvPr/>
        </p:nvPicPr>
        <p:blipFill>
          <a:blip r:embed="rId2"/>
          <a:stretch/>
        </p:blipFill>
        <p:spPr>
          <a:xfrm>
            <a:off x="4851360" y="1528920"/>
            <a:ext cx="4206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ormoonklier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ste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ijnappel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ypofy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hildkl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ijni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landjes van Langerha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Eierestokk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elball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436840"/>
            <a:ext cx="3809880" cy="30510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ijnappel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pify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Zorgt voor aanmaak van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melatonine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elangrijk bij dag- en nachtritme men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ubers hebben een lage melatonine   producti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773440"/>
            <a:ext cx="380988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ypofys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rsenaanhangsel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nze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‘mastergland’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ordt aangestuurd door de hypothalamu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ypofyse maakt de meeste en belangrijkste horm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09920"/>
            <a:ext cx="3809880" cy="290520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childkl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hebben invloed op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lle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ichaamcell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childklierhormonen regelen de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elstofwisseling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bijschildklieren maken hormonen voor kalkinbouw(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vitamine 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357280"/>
            <a:ext cx="3809880" cy="3210120"/>
          </a:xfrm>
          <a:prstGeom prst="rect">
            <a:avLst/>
          </a:prstGeom>
          <a:ln w="0">
            <a:noFill/>
          </a:ln>
        </p:spPr>
      </p:pic>
      <p:pic>
        <p:nvPicPr>
          <p:cNvPr id="11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7:04Z</dcterms:modified>
  <cp:revision>2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