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845B-B379-4964-B72E-73EC5177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CD7-E77C-436D-8F05-BE635136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BF85B-1234-42D5-9D57-76232669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6887B-CFC5-4611-BAD9-5613271C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0AD4E-BF06-4C91-9792-E7FD809B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1BAAC-DB1B-41DA-AAC2-0F06C8F4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17B6F-8879-46FF-A006-75EA982E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0DC8E-E026-4BA5-AC69-ECE9D3C8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8012B-860B-40CA-902D-6C2CFB02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1B33D-2854-4977-8826-3647BD56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62C76-CF4E-4305-ABD6-568D47C0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61B4F-56EB-44F6-9C15-3D59B449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F04-D0EA-41E8-9B7B-70C68CDC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42B4D-2E1C-4120-9134-1FB2F47C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4BAE8-DD3C-492D-AB0B-64A96A70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56448-067C-4165-BA2F-0C844C18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F80C8-96A4-4DBE-8D81-52037971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CB80E-7EC1-4A96-AC02-812AF90B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B99DD-4776-4288-BD2C-95C6F767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A1088-6E33-48F6-A866-AC39FB08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179A5-EAEC-4A78-A5A9-F8E4C453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3B622-A91C-4C53-982F-7FD00E2B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351DA-EF42-463E-9FBA-938C4F52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F39-BAFC-40B8-8B4B-723B2B48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E1F25-B9D7-4985-8245-CFFB0A08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7492-E91E-4EAC-AFFC-D3A7397D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8459-E392-486F-9DDF-F35ADCBD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6D74-D259-4053-9197-6DD1ADA2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9887-08A3-4766-B349-DF2B868E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93DB-FF44-4DD8-A396-E8D618FE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0E17-CD30-4B4A-8F72-0CF03137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82D5-68AB-4B1A-A6AA-37F7F1D7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F54-5F30-4E3E-ABFC-30742245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A794-5B3B-427F-8AA8-C29CF882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997F-06C8-4C07-A649-58071CEB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82A0-9A3E-406B-96D5-963570E0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994A-4F65-461D-8326-BB954D20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F086-696F-4A91-8131-7E3B0CCE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D223D-458F-4F3D-8BC3-ADF69306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B6C77-C00F-41A0-A519-ADD777D1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96F1C-A8E7-4081-BB04-B7E5BE0B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9F39B-07AF-4A1D-99F0-7365472B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72DAA-A549-4F6A-9A51-A14FE0A6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75D-5EE1-4DAD-B332-744A1872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36D4D-C6F1-4103-BB6A-86B1FF42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75826-843C-4BC2-A387-A48E4D97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9E3A-7B1B-472E-A918-E526B2B0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088F9-B521-4897-8A6D-3E6DC172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2075E-A168-40B2-9B53-232BEFE0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C65E-71E1-449B-A726-D07EB614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E9797-D548-4D29-9E8F-A33A28D6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0CD08-2765-4CA6-A712-89698120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BE8CB-5CB7-46A8-B699-FF13F55C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478CA-2060-48F4-AD1E-5EB3C4E1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B8D-97EC-4160-A6EE-5C736750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48951-B217-4F81-ABBC-C750C59B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5D035-89D6-4CC1-BD90-F8259EDF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63220-E258-4046-A622-6D8B5969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4A009-E72C-4174-B518-922CBBD8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0CBED-04A9-4006-96B0-939BC296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4429C-D187-4FB2-9F2D-55946527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FCCD6-132F-4E56-882B-22BC40E0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93BB4-979D-4D4C-BBFA-A51CB7B3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D46C7-EBE7-4D57-9C5D-9B9A251E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3F593-4293-4128-957E-74D63E7C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66C-FFCB-416D-9607-33D1D5FE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656A3-4896-4EA6-93EF-4F2C3F47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0A1BD-35E0-4257-9371-3C6848C3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51E80-E80C-4BD9-8D03-FDAFD117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CDA98-EC64-4F3B-839C-6ED97517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AF148-8238-4F2D-8435-2B01AD71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292E3-9643-4EDE-BEB3-874D0427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A9AE9-DF1B-4D33-9FB2-7B36DB74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19F05-99E0-405D-A091-5E12F95D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284F1-DBB1-46EC-A665-B16CC52B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F9550-D5FE-447A-9CF8-DBE0AEE4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D34-99F2-4EF7-8C1A-C8FD01FF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B0E76-2213-4859-9CE0-B1090BF7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5DB72-46AC-4740-B8C2-21685362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D3A8E-7B4C-405D-B475-56E1D640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83ABD-8407-4B66-89AC-B387A30F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FE89F-01CC-45C5-A4BF-4F5BEDE4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3A1A8-9B5A-4F75-A2E1-4AB53625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21754-2C08-422E-80B6-EA4AB4E1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26D74-0162-4BF2-A82E-4019F69E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74975-E960-4074-9B5D-985C196D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F1189-EFC2-4DCA-8E72-25AD1CC9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E52-BE09-44F6-95E1-7114DA7B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66266-426A-4D62-881B-54188742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11E97-B0DB-4197-874B-D5E0AAB6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DF053-AE28-4497-A683-5EF53115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BD74F-85FE-4CBD-B8DA-4026CD32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7FE89-446D-417D-9777-4169AB2B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1DB38-2411-4AC4-B769-09FB17D5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02243-099D-4AE2-A273-37C313BE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85157-15B6-45FE-AAFA-AE2D13B2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A5AC6-3261-4771-B103-CFBDC5F5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1486D-B059-40C4-B032-A1214A56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92C-A199-4E0C-A86B-826DE65E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DEBC7-418E-41E9-B5E6-17646A46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57D98-6F4F-4100-8F28-E77BBBBC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D1EC0-88BE-4C99-88CD-0BDBF217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1C960-98FE-48B0-9FFD-BE762F14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7B9A7-6D6B-4C8E-95A5-69FB01CD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A7F03-838C-4479-A76B-16AC543B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530C1-2402-43CE-8C5C-AF5CDCC1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AA2F1-5C2A-4A08-B328-02A1E490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C72CB-D765-411A-B677-23E78705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05221-CE6C-463B-89B5-F04F20E9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63A-DC9E-4030-BD65-0ED7C5A8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2E9F0-E689-462D-99D7-3440280A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9BCB5-114D-4E8C-86C5-C3BD1A3E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8AAB1-C5EA-4E7B-A7D5-8046F290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25B73-EBAE-4764-A8FE-A52E1352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FF2E3-A146-431C-880F-0156E993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815BE-4514-4B67-BF7A-93F0E17E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F24AC-1B06-4C92-B778-9D75B954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1B8C2-E501-4B1D-8B5C-FDB81A7E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80E2E-42A0-44E2-B5D9-6D3D180C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18277-D73A-4E59-AAEA-0863815C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E271-FA19-47AD-A38F-69350B3C84F8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40F4-A3A6-4E5F-8FF9-7712836E731C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B489-D99B-4B0E-9DC6-F5BCCCCEC64D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EF5D-70E9-4B8A-B82C-C9712EC5C86F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C4CD-ECD7-43B8-92FA-03D5738AA257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BF3E-2D5E-45D5-9BB2-359115EC296C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D9DB-6F79-4A83-9938-44E36A1C51DA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185F-C73B-45BD-86CB-E2EEA504B20D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E12D-AC6D-40F0-A22C-1B292AD1F313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74B7-3C33-48D2-B770-DCE68EE3ADE1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00"/>
                </a:solidFill>
                <a:latin typeface="Palatino Linotype"/>
              </a:rPr>
              <a:t>De Hersenen.(Cerebrum)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2060"/>
                </a:solidFill>
                <a:latin typeface="Century Gothic"/>
              </a:rPr>
              <a:t>Door: Roel van der Hoek</a:t>
            </a:r>
            <a:endParaRPr b="0" lang="en-US" sz="1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Emoti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8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3492360" y="1628640"/>
            <a:ext cx="5786640" cy="32101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250560" y="1600200"/>
            <a:ext cx="33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Het limbische systee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Onder invloed hiervan ontstaan gevoelens van harmonie, plezier, agressie, sexuele gevoelens, schuld, beloning en straf.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Verbinding tussen grote hersenen en tussenhersenen.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8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Tussenhersenen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8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802040" cy="26654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394920" y="162864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Bevinden zich tussen de 2 hemisferen/helfte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Hier liggen veel hersen-gedeeltes en klieren die hele belangrijke en basale functies besture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1. Pijnappelklier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2. Thalamu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3. Hypothalamu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Regulatie van hypofyse, temperatuur, zoutconcentratie, glucose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8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sp>
        <p:nvSpPr>
          <p:cNvPr id="487" name="Tekstvak 1"/>
          <p:cNvSpPr/>
          <p:nvPr/>
        </p:nvSpPr>
        <p:spPr>
          <a:xfrm>
            <a:off x="4643280" y="4941720"/>
            <a:ext cx="36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4. Hypof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5. Amygd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Arial"/>
              </a:rPr>
              <a:t>enzovoor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Hersenstam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89" name="Tijdelijke aanduiding voor inhoud 7" descr=""/>
          <p:cNvPicPr/>
          <p:nvPr/>
        </p:nvPicPr>
        <p:blipFill>
          <a:blip r:embed="rId1"/>
          <a:stretch/>
        </p:blipFill>
        <p:spPr>
          <a:xfrm>
            <a:off x="5400720" y="2462040"/>
            <a:ext cx="2533680" cy="28004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Hier worden nog basalere functies geregeld, zoals: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Adem, hartregulatie en temperatuurcentrum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Onderbewuste. Wakker, sluimeren, slapen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91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Kleine hersenen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93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648320" y="2714760"/>
            <a:ext cx="4038480" cy="22968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De kleine hersenen hebben een belangrijke functie bij de lichaamshouding en de lichaamsbeweging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Info via: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Grote hersenen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Stand ledematen en spierspanning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evenwichtsorgaan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9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Ruggenmerg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97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648320" y="2324160"/>
            <a:ext cx="4038480" cy="3078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Medulla spinali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Dient als geleidingsweg voor motorische impulsen vanuit de hersenen en alle sensorische naar de hersene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99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Hersenvliezen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50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648320" y="2255760"/>
            <a:ext cx="4038480" cy="32148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Van buiten naar binnen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Harde vli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Vast aan schedel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Spinnenwebvli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Hol, bevat vocht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Zachte vli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Volgt elke wending van de hersenen, bevat bloedvaten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03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Uitwendige bouw(1)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4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2232000" cy="20095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716360" y="1196640"/>
            <a:ext cx="4122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2 helften= hemisfere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7f7f7f"/>
                </a:solidFill>
                <a:latin typeface="Century Gothic"/>
              </a:rPr>
              <a:t>(rechts crea/links orde)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1. De buitenkant (hersenschors of cortex) is  ‘grijze stof’. Dit zijn de cellichamen van de neuronen 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2. Binnenkant is ‘witte stof’, de uitlopers van de neurone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2060"/>
                </a:solidFill>
                <a:latin typeface="Century Gothic"/>
              </a:rPr>
              <a:t>(NB: in het ruggemerg liggen witte en grijze stof andersom!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5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9"/>
          <p:cNvSpPr/>
          <p:nvPr/>
        </p:nvSpPr>
        <p:spPr>
          <a:xfrm>
            <a:off x="30168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Afbeelding 3" descr=""/>
          <p:cNvPicPr/>
          <p:nvPr/>
        </p:nvPicPr>
        <p:blipFill>
          <a:blip r:embed="rId3"/>
          <a:stretch/>
        </p:blipFill>
        <p:spPr>
          <a:xfrm>
            <a:off x="606600" y="3233880"/>
            <a:ext cx="357948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Uitwendige bouw(2)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5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619280" y="4581360"/>
            <a:ext cx="2381400" cy="21718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Per hersenhelft zijn er 4 kwabben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Voorhoofdskwab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Wandbeenkwab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Slaapbeenkwab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Achterhoofdkwab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7f7f7f"/>
                </a:solidFill>
                <a:latin typeface="Century Gothic"/>
              </a:rPr>
              <a:t>Op elke kwab liggen specifieke sensorische gebieden.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5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czs_overzicht"/>
          <p:cNvPicPr/>
          <p:nvPr/>
        </p:nvPicPr>
        <p:blipFill>
          <a:blip r:embed="rId3"/>
          <a:stretch/>
        </p:blipFill>
        <p:spPr>
          <a:xfrm>
            <a:off x="6084720" y="1576440"/>
            <a:ext cx="295452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Grote hersenen, de functies(1)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Gebieden voor motoriek (bewuste bewegingen) en sensoriek (bewuste waarneming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‘</a:t>
            </a: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Motorisch mannetje’ de homunculus. Alles heeft een eigen plek op de hersenschor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61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462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44038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Grote Hersenen, de functies(2)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6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648320" y="2368440"/>
            <a:ext cx="4038480" cy="29894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Gewaarwording via zintuigen gaat naar specifieke gebiede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Visuele schor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Auditieve schor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Smaakcentru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Reukschors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Secundaire en Associatieve gebieden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466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De frontaalkwab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68" name="Tijdelijke aanduiding voor inhoud 4" descr="zijaanzicht hersenen.gif"/>
          <p:cNvPicPr/>
          <p:nvPr/>
        </p:nvPicPr>
        <p:blipFill>
          <a:blip r:embed="rId1"/>
          <a:stretch/>
        </p:blipFill>
        <p:spPr>
          <a:xfrm>
            <a:off x="130320" y="2000160"/>
            <a:ext cx="3665520" cy="29098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000320" y="999720"/>
            <a:ext cx="46861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7f7f7f"/>
                </a:solidFill>
                <a:latin typeface="Century Gothic"/>
              </a:rPr>
              <a:t>Frontaalkwab (</a:t>
            </a:r>
            <a:r>
              <a:rPr b="1" lang="nl-NL" sz="2200" spc="-1" strike="noStrike">
                <a:solidFill>
                  <a:srgbClr val="00b0f0"/>
                </a:solidFill>
                <a:latin typeface="Century Gothic"/>
              </a:rPr>
              <a:t>blauw</a:t>
            </a:r>
            <a:r>
              <a:rPr b="1" lang="nl-NL" sz="2200" spc="-1" strike="noStrike">
                <a:solidFill>
                  <a:srgbClr val="7f7f7f"/>
                </a:solidFill>
                <a:latin typeface="Century Gothic"/>
              </a:rPr>
              <a:t>)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Ook voorhoofdskwab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genoemd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Dit is de grootste van de vier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hersenkwabben en neemt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een derde deel van de totale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hersenschors in beslag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Het helpt controle te houden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over geleerde spierbewegingen,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stemming, plannen maken voor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de toekomst, doelen en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7f7f7f"/>
                </a:solidFill>
                <a:latin typeface="Century Gothic"/>
              </a:rPr>
              <a:t>prioriteiten stellen</a:t>
            </a:r>
            <a:br>
              <a:rPr sz="2200"/>
            </a:b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Pariëtaalkwab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71" name="Tijdelijke aanduiding voor inhoud 4" descr="zijaanzicht hersenen.gif"/>
          <p:cNvPicPr/>
          <p:nvPr/>
        </p:nvPicPr>
        <p:blipFill>
          <a:blip r:embed="rId2"/>
          <a:stretch/>
        </p:blipFill>
        <p:spPr>
          <a:xfrm>
            <a:off x="311040" y="2143080"/>
            <a:ext cx="3484800" cy="27669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4142880" y="1499760"/>
            <a:ext cx="4543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7f7f7f"/>
                </a:solidFill>
                <a:latin typeface="Century Gothic"/>
              </a:rPr>
              <a:t>Pariëtaalkwab (</a:t>
            </a:r>
            <a:r>
              <a:rPr b="1" lang="nl-NL" sz="2000" spc="-1" strike="noStrike">
                <a:solidFill>
                  <a:srgbClr val="00b050"/>
                </a:solidFill>
                <a:latin typeface="Century Gothic"/>
              </a:rPr>
              <a:t>groen</a:t>
            </a:r>
            <a:r>
              <a:rPr b="1" lang="nl-NL" sz="20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Ook wandbeenkwab genoemd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Van opzij gezien: het aan de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achter/bovenzijde gelegen deel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van de hersenschors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Het ontvangt en verwerkt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informatie betreffende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temperatuur, tast, gevoel en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beweging die vanuit de rest van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het lichaam afkomstig is. In dit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gebied worden tevens het lezen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7f7f7f"/>
                </a:solidFill>
                <a:latin typeface="Century Gothic"/>
              </a:rPr>
              <a:t>en rekenen verwerkt</a:t>
            </a:r>
            <a:br>
              <a:rPr sz="2000"/>
            </a:b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a388"/>
            </a:gs>
            <a:gs pos="100000">
              <a:srgbClr val="e9e0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De temporale kwab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74" name="Tijdelijke aanduiding voor inhoud 4" descr="hersenkwabben in kleur.gif"/>
          <p:cNvPicPr/>
          <p:nvPr/>
        </p:nvPicPr>
        <p:blipFill>
          <a:blip r:embed="rId1"/>
          <a:stretch/>
        </p:blipFill>
        <p:spPr>
          <a:xfrm>
            <a:off x="130320" y="2000160"/>
            <a:ext cx="3665520" cy="29098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716000" y="148428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7f7f7f"/>
                </a:solidFill>
                <a:latin typeface="Century Gothic"/>
              </a:rPr>
              <a:t>Temporaalkwab</a:t>
            </a: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 (</a:t>
            </a:r>
            <a:r>
              <a:rPr b="0" lang="nl-NL" sz="2400" spc="-1" strike="noStrike">
                <a:solidFill>
                  <a:srgbClr val="7030a0"/>
                </a:solidFill>
                <a:latin typeface="Century Gothic"/>
              </a:rPr>
              <a:t>paars</a:t>
            </a: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Ook slaapkwab genoemd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Ligt aan de zijkant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Het verwerkt het gehoor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geheugen en taalfuncties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cfaa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f5897"/>
                </a:solidFill>
                <a:latin typeface="Palatino Linotype"/>
              </a:rPr>
              <a:t>De occipitale kwab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477" name="Tijdelijke aanduiding voor inhoud 4" descr="hersenkwabben in kleur.gif"/>
          <p:cNvPicPr/>
          <p:nvPr/>
        </p:nvPicPr>
        <p:blipFill>
          <a:blip r:embed="rId1"/>
          <a:stretch/>
        </p:blipFill>
        <p:spPr>
          <a:xfrm>
            <a:off x="220680" y="2071800"/>
            <a:ext cx="3575160" cy="28382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4284360" y="148428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7f7f7f"/>
                </a:solidFill>
                <a:latin typeface="Century Gothic"/>
              </a:rPr>
              <a:t>Occipitaal kwab </a:t>
            </a: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(</a:t>
            </a:r>
            <a:r>
              <a:rPr b="0" lang="nl-NL" sz="2400" spc="-1" strike="noStrike">
                <a:solidFill>
                  <a:srgbClr val="ffcc00"/>
                </a:solidFill>
                <a:latin typeface="Century Gothic"/>
              </a:rPr>
              <a:t>geel</a:t>
            </a: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Ook achterhoofdskwab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genoemd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Ligt aan achterzijde en is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de kleinste van de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kwabben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Het helpt bij het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verwerken van visuele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informatie. (datgene wat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entury Gothic"/>
              </a:rPr>
              <a:t>via de ogen binnenkomt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5:27:26Z</dcterms:created>
  <dc:creator>ROEL</dc:creator>
  <dc:description/>
  <dc:language>en-US</dc:language>
  <cp:lastModifiedBy>Bakker,C.M.</cp:lastModifiedBy>
  <dcterms:modified xsi:type="dcterms:W3CDTF">2016-06-05T22:26:53Z</dcterms:modified>
  <cp:revision>22</cp:revision>
  <dc:subject/>
  <dc:title>De hersenen.</dc:title>
</cp:coreProperties>
</file>