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26.png" ContentType="image/png"/>
  <Override PartName="/ppt/media/image22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CBE3-9F2E-4B9E-91E8-F265C307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23B7-3073-42B3-94B9-E50B9701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958BE-1DF1-45EC-8301-1EC04227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1F203-E383-455D-A661-081C221B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A6831-069E-4142-A42B-46BD612E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B98BE-1BD3-479F-8B77-E2BE4979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84285-5E07-4644-86CE-5748D785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E66D3-25AA-4125-AFC8-A60A1B20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8D3B4-8473-4B76-B9C4-4A81E205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2A0176-E933-4A7B-9BE0-8A7BB836A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DE45D-FA27-471F-9B02-30E0B8AC3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C37926-3D1A-4609-B489-3006D48AB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E0FA-7A72-466C-9819-E450C0605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D8EA04-2CE0-4AB1-AB6F-2C769CF2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E0682-64A6-489E-87CB-5F9EC134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785C3-57C2-40EE-B6C1-B985A4E6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66217A-8315-4126-9595-429081F4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F4745-1126-4BF6-804A-FB2142A1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23356-96A0-44E7-9304-92794768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3036CD-DD3A-416B-81F1-1CCFEFB5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292CB-CDBD-4ED4-A47A-1B029785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DC9A87-50ED-4A4C-A044-38621B17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86B4B-8507-43D7-B449-B3347C22D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EAAB-A439-430A-BEB1-5058B6C56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6FD5C-4090-419B-8593-573AC86C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9FF11-FAAB-47D3-AB62-9587B5247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2ED20-AFD4-4E84-ACF5-34902788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777DE-8CAE-4594-8114-AD21DC78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14366-BBA5-4718-99FA-AB97244F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A3FFD-F1D3-467F-AF8E-2662026A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6806E-84E7-4FD2-A3BF-EE503BCD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F1FD1-FD3E-45B6-8ED2-3811C29B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62678-FB90-4BE7-A3C1-261A3926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210C9-FA03-4600-9562-98A330F3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2EC9-3A91-4442-9F32-243A036CF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0673A-9FAA-44D3-895D-44969D64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22B58-5802-4294-BF74-7651E0FB5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325AA-AA9E-49AC-AC95-1EB87065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796C9F-148E-41FA-843B-573599AAE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F66D3-335F-46CF-839C-745B0042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9265DD-09E2-40F8-95F0-5D134133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AF00E4-1895-4EF5-9A17-9BB23618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B84A78-A965-46EF-87A2-8913554B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792CA-8379-41BD-AC70-DF8CF2E2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3048CA-9E52-4CAE-870C-BD668B60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49D8-0BB5-4D90-9E5D-D9E990F4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C03D00-23D1-45B0-A88C-08626141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885073-F908-40AC-A389-40D9DCF4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D45011-F517-4774-AB6E-D4D5145E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957D6-3691-4E22-BB16-3A1E6BB8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AE5835-8F9D-4D89-86D9-D1508E531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6ACD11-817E-440B-908A-701C502E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3352F7-7759-47FE-B457-237E88EE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F9B9BA-E626-404F-B98D-6D0A0785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6E78DC-F93D-4C2A-8C87-EDC35896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762D26-17FF-4EC4-808A-5BE87836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8BC9-EC76-4003-81AC-0E3FAEF0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94D031-B7F5-4265-8A11-599CCF60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7A4D1E-5382-46AB-A7F8-E450F58F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67A19D-3E27-41B4-9E07-0509FC8C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54E4BF-1A1D-4C30-A2EA-FBF8CA46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B03DE7-1A31-4DEC-B599-EA47B3E0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6D7950-45FB-4383-87AE-A9B6F808B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33417B-EECF-4010-9342-66AC1234A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30C6A3-33CE-419C-B0EE-C20C4196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089DF3-8DB3-40D6-A39D-801976E3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1627E4-0912-4BD8-B734-58266A5E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A832-A4A4-489F-BF2F-23E2170F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FCC4C5-1B5F-4661-B13D-9766AC1B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FC80D8-6F74-4ACD-9C7C-894F4B41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6E955A-5676-45A1-B832-D1BF21A6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F12F6A-0D53-4E82-9A23-F40E24C0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4DE751-509C-4FC8-A49D-0273426D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84F026-3730-41DA-9CC5-E7C984EF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456D50-E758-4EA1-BA2D-35F229CB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CC97EC-3335-4C14-A542-50B747659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36274B-D06C-4007-992B-E21D176E9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79C43C-762F-4C03-958E-C2B207C5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0FB6-E126-460A-8C86-CEA35880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418CD3-DFEA-4674-B2E3-2543E7B7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732786-6B14-42AA-83C3-26289B7B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BA610E-F2E7-41B1-9EFE-0DFFF021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06613B-0F6A-441F-9CBE-B85232E3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1D9209-584A-4C7D-BB9F-AF7D5151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D8EB45-84EC-4770-AA66-BC4A56EB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058216-7405-4112-A2F0-06B7A09D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1CFE96-5DD5-42F2-BF5E-4F6DE078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359BB6-5712-4F53-93BC-EA364B1C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AC71DB-1F12-4737-8383-17E6106C1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03D1-F4B2-4025-AAF6-4D307179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C75731-270D-46A2-8438-58F6BCDC2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B6B4B3-D125-4D4B-8325-36D84CBE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54F097-6F8A-4F8F-8486-94626523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F35A57-663D-4012-B982-4797A480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E5309B-702F-4AA7-B79E-F1C3B9C4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7C32C3-7699-423A-9691-48C8A876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F31C77-079D-457F-A115-F7AA3339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853884-5094-4FDB-84E3-94240631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9DC77A-83EE-4B33-825A-C08646A0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C5AF8A-1BDE-4756-858D-5484B8D7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1D66-58A3-4F38-A690-1C57FB3B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839EB9-18B2-42DC-A86E-8CF5BCA8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5C2AAA-2577-4AFB-AB41-CE9FE1B4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DB3423-11F3-48BF-A9D8-15E08977E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DD4C6A-FF5C-47DA-BDDA-EA719A983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7FC7BB-169C-4779-950B-22B83445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9A25BA-EEA4-4DFF-83F1-6253682A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68F981-FCD1-4AEC-936E-2702B116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41C9C2-CC90-4970-ACB2-00C4164C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0424DF-A0A2-470F-B1C2-5671A94E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651E62-5C1A-4A01-B29B-9DF8DB29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E3BB-2A89-4F34-A5D7-71B31AC1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09F3-A023-42A9-AF0B-3CB42EB8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DA7D30-12B6-47BF-A41A-5F9CBA4B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5432C8-281B-40AF-9583-FA878E76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792149-FE53-475A-8896-00B5434E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EBC1B7-7D0E-4BA8-AF25-A7EEBF1F1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557E1A-4254-425F-B232-37727A19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C0D224-63BB-48C8-9948-2F311DD9D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1F01FB-EF15-4974-A573-C29CD305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D49634-A7B3-41AF-BE42-0D44A90F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AEEB32-2E2F-4F0F-80E2-27C1957C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795217-8625-459B-BB82-687EA0E9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44D2-502C-4CC6-AB97-90D141FD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CBE005-472E-49F9-B05C-BBC67605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ED42A7-57C0-4126-B39A-A19D3566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704278-05CB-41F7-BF5E-6D598A37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AD3B66-1DB4-41E2-80E7-4EC49350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F385A9-8AE4-433D-BBA8-DAD84E0D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C206EC-3245-431A-A461-C48673B32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CDF371-46D9-4E62-BF3B-AE6A61CF1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98F286-2737-4B7C-89B6-33C36A945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BA1D7F-0D2E-4BEB-B575-14BE7889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C20D23-81CA-4937-ACFF-7B1F7302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1C00-487E-4ABF-AF37-D82DA322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F63D2A-B90A-4E7A-A9FA-DBFD1014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323F34-E2C6-4981-ABA1-AF96A8B0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D5CC7C-722F-4856-8F26-7E0EB08D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35CC70-CD61-4B20-892D-FE6D41F1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EE4A86-6233-41E7-AA6D-335A82DD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0B9EFA-588C-448E-BBC7-847D8495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C0F1F6-8CBC-44B2-9F64-19221EB4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ED1F17-5240-4DFA-A5E8-50551A535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983CF4-CEC6-4755-B578-C86DA7B92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951180-3F32-4C76-B8BF-39FF488B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48B4-709A-4BFE-8FB9-9BFA70C7E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C47009-326C-4860-A57D-4602A67D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2D271E-AB86-4ECA-9DD8-407BA7E4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7BA277-043C-4557-BC4E-0A6FF8F5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5BD161-620F-43C2-9315-B8236FEC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47863C-8116-4EA9-AF03-8FC9E72B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05BC8F-9376-40C3-B8B9-8FA93434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C74B9D-3A7C-4570-B899-2524D78E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F7987E-A85C-4911-8895-50003591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70A138-2D4D-4D71-BA34-B52B58F2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9CB614-9E25-4379-B200-272C5C39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E689-B1B9-4CC2-9922-E21DC1031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716CEC-3DB5-4A6F-90BB-A6FF749C1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E81CD-E1CC-44A2-AC36-7579D56FE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929F4-D5E7-4D37-85D2-BB5FC748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DFB30-FB0B-48DE-A6B3-A703919E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AE58C-06A8-4CD9-ABB3-D898877D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492C7-3C2B-49FC-B3E0-19376330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EAC3-E7D1-43E8-AE23-FE2529C4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90504-F588-40FD-8897-ED9AE618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D171B-9763-47F2-A2CB-5F52E684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C7A2E-24F9-4488-84D2-B414F59E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8AE9F-CC66-444B-BD3B-56D6E2D0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DDF8D-8B2D-4E5A-8973-BD5CCA41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EC40D-9DB4-4CF8-B5D5-D6E981EA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8825F-E5D9-4417-A3B6-5F792903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92714-755A-4F7C-A395-7FF4D3E34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1934E-0DED-4727-ADE9-081DEBE8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44650-AFBB-41EA-9809-878B3516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1389-0991-4628-BFB8-14237A90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DA424-BF19-42E6-8E5E-11808874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A2326-0308-4B59-A523-33FC06E1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D1D69-A75B-4DFB-93BF-D357936A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31BBA-A28D-4F26-BAD4-05B337D6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9EDC5-6EB8-4B10-8554-14C4FA35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6A3DB-C3A2-4068-AE8A-8B28BDE1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509B9-0213-4ECB-A431-CFE52F04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51D74-66C6-48CB-8079-C8CBE3735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70A5A-9BCB-40FD-82B0-750B42BA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E97D2-69AE-4C63-9649-A0145DDF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E3BD-CA41-431B-B207-3A4733D7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3503B-A6E9-47F5-865A-C6829232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018D7-E54E-4E6B-9750-2CD0B0F5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54873-B3CD-4D68-B55A-0EDC5AE4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C00E2-6464-4A3A-B2C1-2774236E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71C79-24E8-4212-9F0B-C097A4BF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71C46-B754-4BDC-B9F9-5D77DCED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2DAB6-86E7-42F6-84A0-C8A53369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B3D9E-EDC7-4109-ABE1-6FE755A3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DF8B2-CF53-442C-A1AB-C6C8CF51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AB1BF-84F8-4594-AB30-03A82FE63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C18A-D8FF-486A-A723-AFCE2F02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D556E-399F-4086-8128-553B80203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B7FE4-89FC-4741-8000-6A74056F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0416A-7300-4483-9058-969890C9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C5867-A879-429C-9ADF-0B87F418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9F9C7-0B77-4CEB-8C00-EB184672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F63D6-B8BA-4504-A7BF-6222825F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52F03-C452-4763-B8F1-09FE2A67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0D6AB-72FA-4367-950A-D05322D1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548D9-3E76-4879-A85A-758475A1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C2854-2CD4-485A-BEB7-D86E8257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922D-45BB-4442-B2C1-BB0E42E4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4281E-364C-4F25-B959-D9BB11B7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0623A-1A6A-4625-B37B-61054061E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C3579-7530-4232-8B2A-55F94D0A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07E4F-0FB2-4755-A17C-FCF698679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2A413-1A07-468F-8080-B27D5CA3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08475-600B-4D85-8542-232B8638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03D6C-E0B3-452A-8699-F8488896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BFE25-DC61-4FA5-A1F6-FD6BC134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1D543-DC52-47FB-8BC3-5DE46812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94D1E-24E6-4FED-85AA-D6CF146A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0636-8CE4-4AE3-9725-641FAD0C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FB6E7-F1D6-40E6-A5B4-E269BACF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2A322-698B-47F4-981F-8D3DFBFC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13CB9-50A9-4FF4-A136-1191C44F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A443A-84EB-49CF-81FB-4329F9217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1BE04-F367-4849-AE4D-084FCD30A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F23C7-82F8-4B03-8737-AAC96B934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34D47-17EF-427E-8120-50B40F5B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FE24A-02E1-414A-B294-9AF72835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5C0C6-DB09-4F36-99A8-4E7F2449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B5A6C-9E99-4DDB-A0D3-5772E7D4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64E8-A510-4D9C-BFF2-B5C2F707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E8148-3BE7-40AD-870A-04ED6CEE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9EC9C-C7E7-4BED-BAB4-586B86CF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B6175-8368-4265-87E3-CA003B3A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DBB41-E437-470D-9740-127DC227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0CE01-BC7A-4EB0-B193-3B198492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1A997-063D-4DA8-BCDB-19C82B82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9A214-D521-45C9-8474-D9536B4D4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1DDAC-FF93-48EB-BA82-4AB60C11B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D1721-FE06-4A72-8206-90B5C8B7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AFD3B-6E97-46C2-85CB-D8C8A015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2DC8-69EE-4B05-9D27-E174C352668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385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9646-FF15-4DEB-8EE1-687AA787EB20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429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87E6-8AC8-4AAB-AD4C-EFD5D9CCFA8C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473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C02C-0B0C-4FEC-A46F-14943F83B56B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7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8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9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0CFE-0250-4E2C-81E5-97A509DB726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40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41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42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EC8F-76C7-481A-979F-FC14633BD84F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43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44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45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D5B1-8F3E-4E86-909D-AC0E98C655DC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dt" idx="46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47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 type="sldNum" idx="48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FA63-F80C-4721-B573-7B1FED126411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49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50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5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23AB-8E4B-4C7A-98FD-9D9DEAB8D262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52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53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54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677E-6B65-4C29-A9D8-45057DB4D40E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55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6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7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CD37-26FA-485A-99D3-2CEF10BB2BEA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B607-206D-4AEE-82B6-2BA2C920940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dt" idx="58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ftr" idx="59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 type="sldNum" idx="60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BF63-DBC5-464F-A1CF-0B3E6E807447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B88F-38A2-4043-BC6A-5F61CEC19E6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DCE7-EA50-4693-BA58-33D78429EBA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a2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302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7302a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B2F3-FAF3-451F-AC38-E5BBE168B96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209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FC0F-9AA1-4B45-9573-6A809EF4FD1B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253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A081-B726-45BB-AB2E-CC448E44A76A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297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4E51-04F5-4D96-8A68-4381156F7D72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341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3894-01BC-4E12-8A73-1D7FC410F5C4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jpeg"/><Relationship Id="rId3" Type="http://schemas.openxmlformats.org/officeDocument/2006/relationships/hyperlink" Target="http://www.google.nl/url?sa=i&amp;rct=j&amp;q=&amp;esrc=s&amp;frm=1&amp;source=images&amp;cd=&amp;cad=rja&amp;docid=rxKz-6T10T5oIM&amp;tbnid=JZT6dESyNI2u3M:&amp;ved=0CAUQjRw&amp;url=http%3A%2F%2Fwww.biologiesite.nl%2Fth3kl2.htm&amp;ei=og8oUvjeIIOc0QXLhYGYBQ&amp;bvm=bv.51773540,d.d2k&amp;psig=AFQjCNFJQGtDg8TFx1phyff0AcHJfGzdLA&amp;ust=1378443480477337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Les 3: Orgaanstelsels  a</a:t>
            </a:r>
            <a:br>
              <a:rPr sz="4400"/>
            </a:b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- Hart en bloedvate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Text Box 2"/>
          <p:cNvSpPr/>
          <p:nvPr/>
        </p:nvSpPr>
        <p:spPr>
          <a:xfrm>
            <a:off x="0" y="380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fr-FR" sz="2800" spc="-1" strike="noStrike">
                <a:solidFill>
                  <a:srgbClr val="ff0000"/>
                </a:solidFill>
                <a:latin typeface="Times New Roman"/>
              </a:rPr>
              <a:t>Kleppen en klepvliezen </a:t>
            </a:r>
            <a:r>
              <a:rPr b="1" i="1" lang="fr-F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 éénrichtingsverkeer in het har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57" name="Picture 4" descr="msotw9_temp0"/>
          <p:cNvPicPr/>
          <p:nvPr/>
        </p:nvPicPr>
        <p:blipFill>
          <a:blip r:embed="rId1"/>
          <a:stretch/>
        </p:blipFill>
        <p:spPr>
          <a:xfrm>
            <a:off x="304920" y="1371600"/>
            <a:ext cx="4419360" cy="4952880"/>
          </a:xfrm>
          <a:prstGeom prst="rect">
            <a:avLst/>
          </a:prstGeom>
          <a:ln w="0">
            <a:noFill/>
          </a:ln>
        </p:spPr>
      </p:pic>
      <p:sp>
        <p:nvSpPr>
          <p:cNvPr id="958" name="Rectangle 7"/>
          <p:cNvSpPr/>
          <p:nvPr/>
        </p:nvSpPr>
        <p:spPr>
          <a:xfrm>
            <a:off x="2895480" y="33526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9" name="Text Box 8"/>
          <p:cNvSpPr/>
          <p:nvPr/>
        </p:nvSpPr>
        <p:spPr>
          <a:xfrm>
            <a:off x="2895480" y="3505320"/>
            <a:ext cx="609840" cy="771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0" name="Line 9"/>
          <p:cNvSpPr/>
          <p:nvPr/>
        </p:nvSpPr>
        <p:spPr>
          <a:xfrm>
            <a:off x="3505320" y="3581280"/>
            <a:ext cx="198108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1" name="Text Box 10"/>
          <p:cNvSpPr/>
          <p:nvPr/>
        </p:nvSpPr>
        <p:spPr>
          <a:xfrm>
            <a:off x="5867280" y="33526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0000"/>
                </a:solidFill>
                <a:latin typeface="Times New Roman"/>
              </a:rPr>
              <a:t>Klepvliezen: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2" name="Text Box 11"/>
          <p:cNvSpPr/>
          <p:nvPr/>
        </p:nvSpPr>
        <p:spPr>
          <a:xfrm>
            <a:off x="5867280" y="380988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0000"/>
                </a:solidFill>
                <a:latin typeface="Times New Roman"/>
              </a:rPr>
              <a:t>tussen boezem en kame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3" name="Text Box 13"/>
          <p:cNvSpPr/>
          <p:nvPr/>
        </p:nvSpPr>
        <p:spPr>
          <a:xfrm>
            <a:off x="2133720" y="2819520"/>
            <a:ext cx="609480" cy="771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4" name="Line 14"/>
          <p:cNvSpPr/>
          <p:nvPr/>
        </p:nvSpPr>
        <p:spPr>
          <a:xfrm flipV="1">
            <a:off x="2743200" y="1905120"/>
            <a:ext cx="2895480" cy="1218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5" name="Text Box 15"/>
          <p:cNvSpPr/>
          <p:nvPr/>
        </p:nvSpPr>
        <p:spPr>
          <a:xfrm>
            <a:off x="5791320" y="16002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0000"/>
                </a:solidFill>
                <a:latin typeface="Times New Roman"/>
              </a:rPr>
              <a:t>Halfmaanvormige kleppe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6" name="Text Box 16"/>
          <p:cNvSpPr/>
          <p:nvPr/>
        </p:nvSpPr>
        <p:spPr>
          <a:xfrm>
            <a:off x="5943600" y="22860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0000"/>
                </a:solidFill>
                <a:latin typeface="Times New Roman"/>
              </a:rPr>
              <a:t>ingang slagade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7" name="Line 17"/>
          <p:cNvSpPr/>
          <p:nvPr/>
        </p:nvSpPr>
        <p:spPr>
          <a:xfrm>
            <a:off x="3200400" y="37339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8" name="Line 18"/>
          <p:cNvSpPr/>
          <p:nvPr/>
        </p:nvSpPr>
        <p:spPr>
          <a:xfrm flipH="1" flipV="1">
            <a:off x="2514240" y="3200040"/>
            <a:ext cx="15228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ubbele Bloedsomloop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e grote en kleine bloedsomloop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Groot: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hart </a:t>
            </a:r>
            <a:r>
              <a:rPr b="0" lang="en-US" sz="2800" spc="-1" strike="noStrike">
                <a:solidFill>
                  <a:srgbClr val="cce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alle delen van lichaam </a:t>
            </a:r>
            <a:r>
              <a:rPr b="0" lang="en-US" sz="2800" spc="-1" strike="noStrike">
                <a:solidFill>
                  <a:srgbClr val="cce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hart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(lichaamscirculatie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Klein: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hart </a:t>
            </a:r>
            <a:r>
              <a:rPr b="0" lang="en-US" sz="2800" spc="-1" strike="noStrike">
                <a:solidFill>
                  <a:srgbClr val="cce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longen </a:t>
            </a:r>
            <a:r>
              <a:rPr b="0" lang="en-US" sz="2800" spc="-1" strike="noStrike">
                <a:solidFill>
                  <a:srgbClr val="cce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hart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(longcirculatie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e mens heeft dus een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dubbele bloedsomloop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71" name="" descr=""/>
          <p:cNvPicPr/>
          <p:nvPr/>
        </p:nvPicPr>
        <p:blipFill>
          <a:blip r:embed="rId1"/>
          <a:stretch/>
        </p:blipFill>
        <p:spPr>
          <a:xfrm>
            <a:off x="5028840" y="19051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972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4" descr="https://encrypted-tbn0.gstatic.com/images?q=tbn:ANd9GcRYt9pwPDUIdwgl89Sn-TwgS-l2dletQYZB9ezK63YK2j_iZY3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1557360"/>
            <a:ext cx="410544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oorbloeding hartspier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e hartcirculatie begint bij de aorta, twee kransslagaders (ateriae coronaria) splitsen zich af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Het bloed komt via de kransaders (venae coronaria) in de sinus coronarius in de RB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76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932360" y="1844640"/>
            <a:ext cx="3809880" cy="2465280"/>
          </a:xfrm>
          <a:prstGeom prst="rect">
            <a:avLst/>
          </a:prstGeom>
          <a:ln w="0">
            <a:noFill/>
          </a:ln>
        </p:spPr>
      </p:pic>
      <p:pic>
        <p:nvPicPr>
          <p:cNvPr id="977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978" name="Afbeelding 5" descr=""/>
          <p:cNvPicPr/>
          <p:nvPr/>
        </p:nvPicPr>
        <p:blipFill>
          <a:blip r:embed="rId3"/>
          <a:stretch/>
        </p:blipFill>
        <p:spPr>
          <a:xfrm>
            <a:off x="4932360" y="4292640"/>
            <a:ext cx="38163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302a"/>
                </a:solidFill>
                <a:latin typeface="Times New Roman"/>
              </a:rPr>
              <a:t>Hartritme &amp; Bloeddruk</a:t>
            </a:r>
            <a:endParaRPr b="0" lang="en-US" sz="4400" spc="-1" strike="noStrike">
              <a:solidFill>
                <a:srgbClr val="37302a"/>
              </a:solidFill>
              <a:latin typeface="Times New Roman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468360" y="1557360"/>
            <a:ext cx="446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3222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2223"/>
                </a:solidFill>
                <a:latin typeface="Times New Roman"/>
              </a:rPr>
              <a:t>In rust: 75 x minu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3222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2223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232223"/>
                </a:solidFill>
                <a:latin typeface="Times New Roman"/>
              </a:rPr>
              <a:t>Kloppen’ is de actiefase: </a:t>
            </a:r>
            <a:r>
              <a:rPr b="1" lang="en-US" sz="2800" spc="-1" strike="noStrike">
                <a:solidFill>
                  <a:srgbClr val="232223"/>
                </a:solidFill>
                <a:latin typeface="Times New Roman"/>
              </a:rPr>
              <a:t>syst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3222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2223"/>
                </a:solidFill>
                <a:latin typeface="Times New Roman"/>
              </a:rPr>
              <a:t>De daaropvolgde ‘rustfase’: </a:t>
            </a:r>
            <a:r>
              <a:rPr b="1" lang="en-US" sz="2800" spc="-1" strike="noStrike">
                <a:solidFill>
                  <a:srgbClr val="232223"/>
                </a:solidFill>
                <a:latin typeface="Times New Roman"/>
              </a:rPr>
              <a:t>diast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3222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2223"/>
                </a:solidFill>
                <a:latin typeface="Times New Roman"/>
              </a:rPr>
              <a:t>Systole en diastole</a:t>
            </a:r>
            <a:r>
              <a:rPr b="0" lang="en-US" sz="2800" spc="-1" strike="noStrike">
                <a:solidFill>
                  <a:srgbClr val="232223"/>
                </a:solidFill>
                <a:latin typeface="Times New Roman"/>
              </a:rPr>
              <a:t> samen duren ongeveer 0.8 s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3222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2223"/>
                </a:solidFill>
                <a:latin typeface="Times New Roman"/>
              </a:rPr>
              <a:t>Bloeddruk = </a:t>
            </a:r>
            <a:r>
              <a:rPr b="1" lang="en-US" sz="2800" spc="-1" strike="noStrike">
                <a:solidFill>
                  <a:srgbClr val="232223"/>
                </a:solidFill>
                <a:latin typeface="Times New Roman"/>
              </a:rPr>
              <a:t>tens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3222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2223"/>
                </a:solidFill>
                <a:latin typeface="Times New Roman"/>
              </a:rPr>
              <a:t>Gemeten in mm kwikdruk (mmH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23222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1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2" descr=""/>
          <p:cNvPicPr/>
          <p:nvPr/>
        </p:nvPicPr>
        <p:blipFill>
          <a:blip r:embed="rId2"/>
          <a:stretch/>
        </p:blipFill>
        <p:spPr>
          <a:xfrm>
            <a:off x="5097600" y="1557360"/>
            <a:ext cx="365112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Text Box 2"/>
          <p:cNvSpPr/>
          <p:nvPr/>
        </p:nvSpPr>
        <p:spPr>
          <a:xfrm>
            <a:off x="304920" y="3808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fr-FR" sz="3200" spc="-1" strike="noStrike">
                <a:solidFill>
                  <a:srgbClr val="ff0000"/>
                </a:solidFill>
                <a:latin typeface="Times New Roman"/>
              </a:rPr>
              <a:t>Vergelijking slagaders – aders - haarvate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84" name="Picture 4" descr="msotw9_temp0"/>
          <p:cNvPicPr/>
          <p:nvPr/>
        </p:nvPicPr>
        <p:blipFill>
          <a:blip r:embed="rId1"/>
          <a:srcRect l="0" t="0" r="4852" b="0"/>
          <a:stretch/>
        </p:blipFill>
        <p:spPr>
          <a:xfrm>
            <a:off x="533520" y="1143000"/>
            <a:ext cx="8001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Bloed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Een vloeibaar steunweefs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87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Volume en samenstelling(1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1066320" y="1904760"/>
            <a:ext cx="4442040" cy="37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1006a"/>
                </a:solidFill>
                <a:latin typeface="Times New Roman"/>
              </a:rPr>
              <a:t>7,5% lichaamsgewicht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1006a"/>
                </a:solidFill>
                <a:latin typeface="Times New Roman"/>
              </a:rPr>
              <a:t>5-6 liter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1006a"/>
                </a:solidFill>
                <a:latin typeface="Times New Roman"/>
              </a:rPr>
              <a:t>55% is bloedplasma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1006a"/>
                </a:solidFill>
                <a:latin typeface="Times New Roman"/>
              </a:rPr>
              <a:t>45% is cellen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1006a"/>
                </a:solidFill>
                <a:latin typeface="Times New Roman"/>
              </a:rPr>
              <a:t>Rode blc </a:t>
            </a:r>
            <a:r>
              <a:rPr b="0" lang="en-US" sz="2200" spc="-1" strike="noStrike">
                <a:solidFill>
                  <a:srgbClr val="11006a"/>
                </a:solidFill>
                <a:latin typeface="Wingdings"/>
                <a:ea typeface="Wingdings"/>
              </a:rPr>
              <a:t></a:t>
            </a:r>
            <a:r>
              <a:rPr b="0" lang="en-US" sz="2200" spc="-1" strike="noStrike">
                <a:solidFill>
                  <a:srgbClr val="11006a"/>
                </a:solidFill>
                <a:latin typeface="Times New Roman"/>
              </a:rPr>
              <a:t> Erytrocyten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1006a"/>
                </a:solidFill>
                <a:latin typeface="Times New Roman"/>
              </a:rPr>
              <a:t>Witte blc </a:t>
            </a:r>
            <a:r>
              <a:rPr b="0" lang="en-US" sz="2200" spc="-1" strike="noStrike">
                <a:solidFill>
                  <a:srgbClr val="11006a"/>
                </a:solidFill>
                <a:latin typeface="Wingdings"/>
                <a:ea typeface="Wingdings"/>
              </a:rPr>
              <a:t></a:t>
            </a:r>
            <a:r>
              <a:rPr b="0" lang="en-US" sz="2200" spc="-1" strike="noStrike">
                <a:solidFill>
                  <a:srgbClr val="11006a"/>
                </a:solidFill>
                <a:latin typeface="Times New Roman"/>
              </a:rPr>
              <a:t>Leukocyten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1006a"/>
                </a:solidFill>
                <a:latin typeface="Times New Roman"/>
              </a:rPr>
              <a:t>Bloedplaatjes </a:t>
            </a:r>
            <a:r>
              <a:rPr b="0" lang="en-US" sz="2200" spc="-1" strike="noStrike">
                <a:solidFill>
                  <a:srgbClr val="11006a"/>
                </a:solidFill>
                <a:latin typeface="Wingdings"/>
                <a:ea typeface="Wingdings"/>
              </a:rPr>
              <a:t></a:t>
            </a:r>
            <a:r>
              <a:rPr b="0" lang="en-US" sz="2200" spc="-1" strike="noStrike">
                <a:solidFill>
                  <a:srgbClr val="11006a"/>
                </a:solidFill>
                <a:latin typeface="Times New Roman"/>
              </a:rPr>
              <a:t>Trombocyten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90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991" name="Afbeelding 1" descr=""/>
          <p:cNvPicPr/>
          <p:nvPr/>
        </p:nvPicPr>
        <p:blipFill>
          <a:blip r:embed="rId2"/>
          <a:stretch/>
        </p:blipFill>
        <p:spPr>
          <a:xfrm>
            <a:off x="5724360" y="1484280"/>
            <a:ext cx="3095640" cy="4129200"/>
          </a:xfrm>
          <a:prstGeom prst="rect">
            <a:avLst/>
          </a:prstGeom>
          <a:ln w="0">
            <a:noFill/>
          </a:ln>
        </p:spPr>
      </p:pic>
      <p:pic>
        <p:nvPicPr>
          <p:cNvPr id="992" name="" descr=""/>
          <p:cNvPicPr/>
          <p:nvPr/>
        </p:nvPicPr>
        <p:blipFill>
          <a:blip r:embed="rId3"/>
          <a:stretch/>
        </p:blipFill>
        <p:spPr>
          <a:xfrm>
            <a:off x="5437080" y="1268280"/>
            <a:ext cx="3810240" cy="4114800"/>
          </a:xfrm>
          <a:prstGeom prst="rect">
            <a:avLst/>
          </a:prstGeom>
          <a:ln w="0">
            <a:noFill/>
          </a:ln>
        </p:spPr>
      </p:pic>
      <p:sp>
        <p:nvSpPr>
          <p:cNvPr id="993" name="Rechthoek 4"/>
          <p:cNvSpPr/>
          <p:nvPr/>
        </p:nvSpPr>
        <p:spPr>
          <a:xfrm>
            <a:off x="2158920" y="5565600"/>
            <a:ext cx="712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006a"/>
                </a:solidFill>
                <a:latin typeface="Times New Roman"/>
              </a:rPr>
              <a:t>Plasma: water, zouten (Na, K, Cl, Ca), plasma-eiwitten, bloedgassen (O2, CO2),  en tijdelijke stoffen (Hormonen, vitaminen, afvalstoffen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ode bloedcell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 </a:t>
            </a:r>
            <a:r>
              <a:rPr b="0" lang="nl-NL" sz="2800" spc="-1" strike="noStrike">
                <a:solidFill>
                  <a:srgbClr val="11006a"/>
                </a:solidFill>
                <a:latin typeface="Times New Roman"/>
              </a:rPr>
              <a:t>5,4 miljoen rode bloedcellen  per mm3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006a"/>
                </a:solidFill>
                <a:latin typeface="Times New Roman"/>
              </a:rPr>
              <a:t>Opgebouwd rond Hb-kern (hemoglobine, ‘rode bloedkleurstof’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24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006a"/>
                </a:solidFill>
                <a:latin typeface="Times New Roman"/>
              </a:rPr>
              <a:t>Transport O</a:t>
            </a:r>
            <a:r>
              <a:rPr b="0" lang="en-US" sz="1000" spc="-1" strike="noStrike">
                <a:solidFill>
                  <a:srgbClr val="11006a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11006a"/>
                </a:solidFill>
                <a:latin typeface="Times New Roman"/>
              </a:rPr>
              <a:t> en deel van CO</a:t>
            </a:r>
            <a:r>
              <a:rPr b="0" lang="en-US" sz="1000" spc="-1" strike="noStrike">
                <a:solidFill>
                  <a:srgbClr val="11006a"/>
                </a:solidFill>
                <a:latin typeface="Times New Roman"/>
              </a:rPr>
              <a:t>2 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006a"/>
                </a:solidFill>
                <a:latin typeface="Times New Roman"/>
              </a:rPr>
              <a:t>Geen celkern, gaat maar 120 dagen mee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96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29200" y="2533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997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Witte bloedcell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684360" y="1700280"/>
            <a:ext cx="4263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006a"/>
                </a:solidFill>
                <a:latin typeface="Times New Roman"/>
              </a:rPr>
              <a:t>Leucocyten, 5.000 – 10.000/ mm³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006a"/>
                </a:solidFill>
                <a:latin typeface="Times New Roman"/>
              </a:rPr>
              <a:t>3 typen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006a"/>
                </a:solidFill>
                <a:latin typeface="Times New Roman"/>
              </a:rPr>
              <a:t>Granulocyten (fagocyteren=opslokken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006a"/>
                </a:solidFill>
                <a:latin typeface="Times New Roman"/>
              </a:rPr>
              <a:t>Monocyten (leven buiten de bloedbaan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006a"/>
                </a:solidFill>
                <a:latin typeface="Times New Roman"/>
              </a:rPr>
              <a:t>Lymfocyten (immuniteit door antistoffen maken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00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354640" y="692280"/>
            <a:ext cx="3755880" cy="4114800"/>
          </a:xfrm>
          <a:prstGeom prst="rect">
            <a:avLst/>
          </a:prstGeom>
          <a:ln w="0">
            <a:noFill/>
          </a:ln>
        </p:spPr>
      </p:pic>
      <p:pic>
        <p:nvPicPr>
          <p:cNvPr id="1001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1002" name="Afbeelding 1" descr=""/>
          <p:cNvPicPr/>
          <p:nvPr/>
        </p:nvPicPr>
        <p:blipFill>
          <a:blip r:embed="rId3"/>
          <a:stretch/>
        </p:blipFill>
        <p:spPr>
          <a:xfrm>
            <a:off x="4356000" y="1844640"/>
            <a:ext cx="2295720" cy="173376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2" descr="MWBC000E"/>
          <p:cNvPicPr/>
          <p:nvPr/>
        </p:nvPicPr>
        <p:blipFill>
          <a:blip r:embed="rId4"/>
          <a:srcRect l="0" t="33851" r="0" b="0"/>
          <a:stretch/>
        </p:blipFill>
        <p:spPr>
          <a:xfrm>
            <a:off x="5003640" y="3578400"/>
            <a:ext cx="2756160" cy="18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Bloedplaatj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Trombocyten,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300.000 per mm3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tukjes van cell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peelt een belangrijke rol in de bloedstoll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ij een wond maken ze een draden-net die de wond-einden naar elkaar toe trekk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06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003640" y="620640"/>
            <a:ext cx="3938760" cy="3332160"/>
          </a:xfrm>
          <a:prstGeom prst="rect">
            <a:avLst/>
          </a:prstGeom>
          <a:ln w="0">
            <a:noFill/>
          </a:ln>
        </p:spPr>
      </p:pic>
      <p:pic>
        <p:nvPicPr>
          <p:cNvPr id="1007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1008" name="Afbeelding 1" descr=""/>
          <p:cNvPicPr/>
          <p:nvPr/>
        </p:nvPicPr>
        <p:blipFill>
          <a:blip r:embed="rId3"/>
          <a:stretch/>
        </p:blipFill>
        <p:spPr>
          <a:xfrm>
            <a:off x="5003640" y="3430440"/>
            <a:ext cx="460872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ven ter info: Water(H</a:t>
            </a:r>
            <a:r>
              <a:rPr b="0" lang="en-US" sz="44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O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ecff"/>
                </a:solidFill>
                <a:latin typeface="Times New Roman"/>
              </a:rPr>
              <a:t>Mens is 60% water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ecff"/>
                </a:solidFill>
                <a:latin typeface="Times New Roman"/>
              </a:rPr>
              <a:t>± 42 liter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ecff"/>
                </a:solidFill>
                <a:latin typeface="Times New Roman"/>
              </a:rPr>
              <a:t>Bloed: 5 – 6 liter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ecff"/>
                </a:solidFill>
                <a:latin typeface="Times New Roman"/>
              </a:rPr>
              <a:t>Water is oplosmiddel, transportmiddel, vangt temperatuur-schommelingen op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56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859280" y="2060640"/>
            <a:ext cx="4284720" cy="3313080"/>
          </a:xfrm>
          <a:prstGeom prst="rect">
            <a:avLst/>
          </a:prstGeom>
          <a:ln w="0">
            <a:noFill/>
          </a:ln>
        </p:spPr>
      </p:pic>
      <p:pic>
        <p:nvPicPr>
          <p:cNvPr id="857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Bloedstolling(1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1066320" y="1905120"/>
            <a:ext cx="4442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ij een verwonding treden de volgende processen op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laatselijke bloedvatvernauw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ropvorming in bloedva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Bloedstoll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Weefselherstel door o.a. fibrinedraden tussen cellen en weefse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11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705640" y="1905120"/>
            <a:ext cx="2457360" cy="4114800"/>
          </a:xfrm>
          <a:prstGeom prst="rect">
            <a:avLst/>
          </a:prstGeom>
          <a:ln w="0">
            <a:noFill/>
          </a:ln>
        </p:spPr>
      </p:pic>
      <p:pic>
        <p:nvPicPr>
          <p:cNvPr id="1012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Functie witte bloedcellen bij wond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14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7493040" cy="4390920"/>
          </a:xfrm>
          <a:prstGeom prst="rect">
            <a:avLst/>
          </a:prstGeom>
          <a:ln w="0">
            <a:noFill/>
          </a:ln>
        </p:spPr>
      </p:pic>
      <p:pic>
        <p:nvPicPr>
          <p:cNvPr id="1015" name="" descr=""/>
          <p:cNvPicPr/>
          <p:nvPr/>
        </p:nvPicPr>
        <p:blipFill>
          <a:blip r:embed="rId2"/>
          <a:stretch/>
        </p:blipFill>
        <p:spPr>
          <a:xfrm>
            <a:off x="502884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587640" y="609120"/>
            <a:ext cx="2251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ecff"/>
                </a:solidFill>
                <a:latin typeface="Times New Roman"/>
              </a:rPr>
              <a:t>Huidgenez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17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34920" y="455760"/>
            <a:ext cx="6551640" cy="64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Orgaanstelsels kor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Bloedsomloo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oeding en verter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itscheid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Ademhal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Hui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egetatieve funct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Hormon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Animale funct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50288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Waarnem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erstand en bewustzij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tevigheid en beweg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Voortplan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e totale me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61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Plaatsaanduidingen </a:t>
            </a:r>
            <a:br>
              <a:rPr sz="4400"/>
            </a:br>
            <a:r>
              <a:rPr b="0" lang="en-US" sz="2000" spc="-1" strike="noStrike">
                <a:solidFill>
                  <a:srgbClr val="eaeaea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om aan te geven waar iets mis is met een orgaa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394920" y="1844280"/>
            <a:ext cx="4297320" cy="44974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Ventraal: aan de buikzijde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Dorsaal: aan de rugzijde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Anterior: aan de voorkant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Posterior: aan de achterkant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Centraal: in het midden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Perifeer: aan de uiteinden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Superior: hoger, boven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Inferior: lager, onder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5029200" y="1904760"/>
            <a:ext cx="4006800" cy="4437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Lateraal: aan de zijkant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Mediaal: naar ‘t midden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Proximaal: dichtbij de romp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Distaal: ver van de romp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Sinister: links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Dexter: rechts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Internus: inwendig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Times New Roman"/>
              </a:rPr>
              <a:t>Externus: uitwendig</a:t>
            </a:r>
            <a:endParaRPr b="0" lang="en-US" sz="27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65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ndeling hoofd, romp en ledemat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1066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Hoofd: is de observatiepos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omp: bevat de orgaanstelsel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edematen: onderste extremiteiten en bovenste extremiteit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Hoofd en romp samen heet tors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68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4788000" y="1989000"/>
            <a:ext cx="4016160" cy="2659320"/>
          </a:xfrm>
          <a:prstGeom prst="rect">
            <a:avLst/>
          </a:prstGeom>
          <a:ln w="0">
            <a:noFill/>
          </a:ln>
        </p:spPr>
      </p:pic>
      <p:pic>
        <p:nvPicPr>
          <p:cNvPr id="869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716292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Hart en bloedsomloop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ubTitle"/>
          </p:nvPr>
        </p:nvSpPr>
        <p:spPr>
          <a:xfrm>
            <a:off x="2743200" y="162864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7200 liter in 24 uur!!!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72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2" descr=""/>
          <p:cNvPicPr/>
          <p:nvPr/>
        </p:nvPicPr>
        <p:blipFill>
          <a:blip r:embed="rId2"/>
          <a:stretch/>
        </p:blipFill>
        <p:spPr>
          <a:xfrm>
            <a:off x="1798560" y="2211480"/>
            <a:ext cx="608508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Text Box 2"/>
          <p:cNvSpPr/>
          <p:nvPr/>
        </p:nvSpPr>
        <p:spPr>
          <a:xfrm>
            <a:off x="685800" y="42228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fr-FR" sz="4000" spc="-1" strike="noStrike">
                <a:solidFill>
                  <a:srgbClr val="002060"/>
                </a:solidFill>
                <a:latin typeface="Times New Roman"/>
              </a:rPr>
              <a:t>Uitwendige bouw van het hart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5" name="Text Box 3"/>
          <p:cNvSpPr/>
          <p:nvPr/>
        </p:nvSpPr>
        <p:spPr>
          <a:xfrm>
            <a:off x="533520" y="19051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76" name="Picture 5" descr="msotw9_temp0"/>
          <p:cNvPicPr/>
          <p:nvPr/>
        </p:nvPicPr>
        <p:blipFill>
          <a:blip r:embed="rId1"/>
          <a:srcRect l="4281" t="6860" r="2140" b="0"/>
          <a:stretch/>
        </p:blipFill>
        <p:spPr>
          <a:xfrm>
            <a:off x="304920" y="2057400"/>
            <a:ext cx="2438280" cy="336564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7" descr="msotw9_temp0"/>
          <p:cNvPicPr/>
          <p:nvPr/>
        </p:nvPicPr>
        <p:blipFill>
          <a:blip r:embed="rId2"/>
          <a:srcRect l="4273" t="4204" r="2136" b="2803"/>
          <a:stretch/>
        </p:blipFill>
        <p:spPr>
          <a:xfrm>
            <a:off x="6091200" y="2133720"/>
            <a:ext cx="2671920" cy="3352680"/>
          </a:xfrm>
          <a:prstGeom prst="rect">
            <a:avLst/>
          </a:prstGeom>
          <a:ln w="0">
            <a:noFill/>
          </a:ln>
        </p:spPr>
      </p:pic>
      <p:sp>
        <p:nvSpPr>
          <p:cNvPr id="878" name="Line 8"/>
          <p:cNvSpPr/>
          <p:nvPr/>
        </p:nvSpPr>
        <p:spPr>
          <a:xfrm flipV="1">
            <a:off x="1600200" y="2971440"/>
            <a:ext cx="1981080" cy="1219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9" name="Line 9"/>
          <p:cNvSpPr/>
          <p:nvPr/>
        </p:nvSpPr>
        <p:spPr>
          <a:xfrm flipH="1" flipV="1">
            <a:off x="4495320" y="3048120"/>
            <a:ext cx="3124440" cy="1676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0" name="Text Box 10"/>
          <p:cNvSpPr/>
          <p:nvPr/>
        </p:nvSpPr>
        <p:spPr>
          <a:xfrm>
            <a:off x="3505320" y="24382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2060"/>
                </a:solidFill>
                <a:latin typeface="Times New Roman"/>
              </a:rPr>
              <a:t>kransslagade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1" name="Text Box 11"/>
          <p:cNvSpPr/>
          <p:nvPr/>
        </p:nvSpPr>
        <p:spPr>
          <a:xfrm>
            <a:off x="609480" y="3224160"/>
            <a:ext cx="609840" cy="764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2" name="Text Box 12"/>
          <p:cNvSpPr/>
          <p:nvPr/>
        </p:nvSpPr>
        <p:spPr>
          <a:xfrm>
            <a:off x="1906560" y="4191120"/>
            <a:ext cx="52200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3" name="Text Box 13"/>
          <p:cNvSpPr/>
          <p:nvPr/>
        </p:nvSpPr>
        <p:spPr>
          <a:xfrm>
            <a:off x="990720" y="5562720"/>
            <a:ext cx="761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3333cc"/>
                </a:solidFill>
                <a:latin typeface="Times New Roman"/>
              </a:rPr>
              <a:t>Blauw = zuurstofarm blo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0000"/>
                </a:solidFill>
                <a:latin typeface="Times New Roman"/>
              </a:rPr>
              <a:t>Rood   = zuurstofrijk bloed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Text Box 2"/>
          <p:cNvSpPr/>
          <p:nvPr/>
        </p:nvSpPr>
        <p:spPr>
          <a:xfrm>
            <a:off x="5410080" y="228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0000"/>
                </a:solidFill>
                <a:latin typeface="Times New Roman"/>
              </a:rPr>
              <a:t>De  bloedsomloo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5" name="Text Box 4"/>
          <p:cNvSpPr/>
          <p:nvPr/>
        </p:nvSpPr>
        <p:spPr>
          <a:xfrm>
            <a:off x="533520" y="2971800"/>
            <a:ext cx="3809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86" name="Picture 7" descr="msotw9_temp0"/>
          <p:cNvPicPr/>
          <p:nvPr/>
        </p:nvPicPr>
        <p:blipFill>
          <a:blip r:embed="rId1"/>
          <a:stretch/>
        </p:blipFill>
        <p:spPr>
          <a:xfrm>
            <a:off x="152280" y="304920"/>
            <a:ext cx="5207040" cy="6362640"/>
          </a:xfrm>
          <a:prstGeom prst="rect">
            <a:avLst/>
          </a:prstGeom>
          <a:ln w="0">
            <a:noFill/>
          </a:ln>
        </p:spPr>
      </p:pic>
      <p:sp>
        <p:nvSpPr>
          <p:cNvPr id="887" name="Line 9"/>
          <p:cNvSpPr/>
          <p:nvPr/>
        </p:nvSpPr>
        <p:spPr>
          <a:xfrm>
            <a:off x="2743200" y="1981080"/>
            <a:ext cx="7632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8" name="Line 11"/>
          <p:cNvSpPr/>
          <p:nvPr/>
        </p:nvSpPr>
        <p:spPr>
          <a:xfrm>
            <a:off x="3048120" y="236232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9" name="Line 16"/>
          <p:cNvSpPr/>
          <p:nvPr/>
        </p:nvSpPr>
        <p:spPr>
          <a:xfrm flipV="1">
            <a:off x="3962520" y="16002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0" name="Line 17"/>
          <p:cNvSpPr/>
          <p:nvPr/>
        </p:nvSpPr>
        <p:spPr>
          <a:xfrm>
            <a:off x="3886200" y="2590920"/>
            <a:ext cx="76320" cy="76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1" name="Line 18"/>
          <p:cNvSpPr/>
          <p:nvPr/>
        </p:nvSpPr>
        <p:spPr>
          <a:xfrm flipH="1" flipV="1">
            <a:off x="3428640" y="838080"/>
            <a:ext cx="3049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2" name="Line 19"/>
          <p:cNvSpPr/>
          <p:nvPr/>
        </p:nvSpPr>
        <p:spPr>
          <a:xfrm flipH="1">
            <a:off x="3200040" y="3581280"/>
            <a:ext cx="3049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3" name="Line 20"/>
          <p:cNvSpPr/>
          <p:nvPr/>
        </p:nvSpPr>
        <p:spPr>
          <a:xfrm flipH="1">
            <a:off x="3276720" y="4495680"/>
            <a:ext cx="30456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4" name="Line 21"/>
          <p:cNvSpPr/>
          <p:nvPr/>
        </p:nvSpPr>
        <p:spPr>
          <a:xfrm flipH="1">
            <a:off x="3048120" y="4876920"/>
            <a:ext cx="45720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5" name="Line 22"/>
          <p:cNvSpPr/>
          <p:nvPr/>
        </p:nvSpPr>
        <p:spPr>
          <a:xfrm flipH="1">
            <a:off x="3123720" y="5638680"/>
            <a:ext cx="30492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6" name="Line 23"/>
          <p:cNvSpPr/>
          <p:nvPr/>
        </p:nvSpPr>
        <p:spPr>
          <a:xfrm flipH="1">
            <a:off x="1982880" y="838080"/>
            <a:ext cx="380880" cy="1508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7" name="Line 24"/>
          <p:cNvSpPr/>
          <p:nvPr/>
        </p:nvSpPr>
        <p:spPr>
          <a:xfrm>
            <a:off x="1600200" y="1905120"/>
            <a:ext cx="380880" cy="457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8" name="Line 25"/>
          <p:cNvSpPr/>
          <p:nvPr/>
        </p:nvSpPr>
        <p:spPr>
          <a:xfrm flipH="1" flipV="1">
            <a:off x="1676520" y="5866920"/>
            <a:ext cx="380880" cy="3812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9" name="Line 26"/>
          <p:cNvSpPr/>
          <p:nvPr/>
        </p:nvSpPr>
        <p:spPr>
          <a:xfrm flipH="1" flipV="1">
            <a:off x="1980720" y="5028840"/>
            <a:ext cx="228600" cy="152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0" name="Line 27"/>
          <p:cNvSpPr/>
          <p:nvPr/>
        </p:nvSpPr>
        <p:spPr>
          <a:xfrm flipH="1" flipV="1">
            <a:off x="2361960" y="4343040"/>
            <a:ext cx="152280" cy="152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1" name="Line 28"/>
          <p:cNvSpPr/>
          <p:nvPr/>
        </p:nvSpPr>
        <p:spPr>
          <a:xfrm flipH="1" flipV="1">
            <a:off x="2057040" y="3504960"/>
            <a:ext cx="152280" cy="759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2" name="Line 29"/>
          <p:cNvSpPr/>
          <p:nvPr/>
        </p:nvSpPr>
        <p:spPr>
          <a:xfrm flipV="1">
            <a:off x="1600200" y="3885840"/>
            <a:ext cx="76320" cy="685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3" name="Line 30"/>
          <p:cNvSpPr/>
          <p:nvPr/>
        </p:nvSpPr>
        <p:spPr>
          <a:xfrm flipV="1">
            <a:off x="1752480" y="2590560"/>
            <a:ext cx="304920" cy="228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4" name="Line 31"/>
          <p:cNvSpPr/>
          <p:nvPr/>
        </p:nvSpPr>
        <p:spPr>
          <a:xfrm flipV="1">
            <a:off x="2438280" y="1981080"/>
            <a:ext cx="0" cy="457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5" name="Text Box 32"/>
          <p:cNvSpPr/>
          <p:nvPr/>
        </p:nvSpPr>
        <p:spPr>
          <a:xfrm>
            <a:off x="2971800" y="2438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800" spc="-1" strike="noStrike">
                <a:solidFill>
                  <a:srgbClr val="ff0000"/>
                </a:solidFill>
                <a:latin typeface="Times New Roman"/>
              </a:rPr>
              <a:t>LB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6" name="Text Box 33"/>
          <p:cNvSpPr/>
          <p:nvPr/>
        </p:nvSpPr>
        <p:spPr>
          <a:xfrm>
            <a:off x="3048120" y="266688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800" spc="-1" strike="noStrike">
                <a:solidFill>
                  <a:srgbClr val="ff0000"/>
                </a:solidFill>
                <a:latin typeface="Times New Roman"/>
              </a:rPr>
              <a:t>LK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7" name="Text Box 34"/>
          <p:cNvSpPr/>
          <p:nvPr/>
        </p:nvSpPr>
        <p:spPr>
          <a:xfrm>
            <a:off x="2133720" y="281160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800" spc="-1" strike="noStrike">
                <a:solidFill>
                  <a:srgbClr val="3333cc"/>
                </a:solidFill>
                <a:latin typeface="Times New Roman"/>
              </a:rPr>
              <a:t>RB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8" name="Text Box 35"/>
          <p:cNvSpPr/>
          <p:nvPr/>
        </p:nvSpPr>
        <p:spPr>
          <a:xfrm>
            <a:off x="2286000" y="297180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800" spc="-1" strike="noStrike">
                <a:solidFill>
                  <a:srgbClr val="3333cc"/>
                </a:solidFill>
                <a:latin typeface="Times New Roman"/>
              </a:rPr>
              <a:t>RK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9" name="Text Box 36"/>
          <p:cNvSpPr/>
          <p:nvPr/>
        </p:nvSpPr>
        <p:spPr>
          <a:xfrm>
            <a:off x="5562720" y="9907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1. Bovenste holle ade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0" name="Text Box 37"/>
          <p:cNvSpPr/>
          <p:nvPr/>
        </p:nvSpPr>
        <p:spPr>
          <a:xfrm>
            <a:off x="5562720" y="14479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2. Hersene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1" name="Text Box 38"/>
          <p:cNvSpPr/>
          <p:nvPr/>
        </p:nvSpPr>
        <p:spPr>
          <a:xfrm>
            <a:off x="5562720" y="19051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3. Longslagade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2" name="Text Box 39"/>
          <p:cNvSpPr/>
          <p:nvPr/>
        </p:nvSpPr>
        <p:spPr>
          <a:xfrm>
            <a:off x="5562720" y="22860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4. Longe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3" name="Text Box 40"/>
          <p:cNvSpPr/>
          <p:nvPr/>
        </p:nvSpPr>
        <p:spPr>
          <a:xfrm>
            <a:off x="5562720" y="27432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5. Onderste holle ade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4" name="Text Box 41"/>
          <p:cNvSpPr/>
          <p:nvPr/>
        </p:nvSpPr>
        <p:spPr>
          <a:xfrm>
            <a:off x="5562720" y="31240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6. Longade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5" name="Text Box 42"/>
          <p:cNvSpPr/>
          <p:nvPr/>
        </p:nvSpPr>
        <p:spPr>
          <a:xfrm>
            <a:off x="5562720" y="35053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7. Leve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6" name="Text Box 43"/>
          <p:cNvSpPr/>
          <p:nvPr/>
        </p:nvSpPr>
        <p:spPr>
          <a:xfrm>
            <a:off x="5562720" y="39625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8. Aorta of lichaamsslagade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7" name="Text Box 44"/>
          <p:cNvSpPr/>
          <p:nvPr/>
        </p:nvSpPr>
        <p:spPr>
          <a:xfrm>
            <a:off x="5562720" y="44197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9. Niere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8" name="Text Box 45"/>
          <p:cNvSpPr/>
          <p:nvPr/>
        </p:nvSpPr>
        <p:spPr>
          <a:xfrm>
            <a:off x="5486400" y="48006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10. Har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9" name="Text Box 46"/>
          <p:cNvSpPr/>
          <p:nvPr/>
        </p:nvSpPr>
        <p:spPr>
          <a:xfrm>
            <a:off x="5486400" y="51814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11. Onderlichaam (dij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0" name="Text Box 47"/>
          <p:cNvSpPr/>
          <p:nvPr/>
        </p:nvSpPr>
        <p:spPr>
          <a:xfrm>
            <a:off x="5486400" y="56386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12. Maag - darmkanaa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1" name="Line 48"/>
          <p:cNvSpPr/>
          <p:nvPr/>
        </p:nvSpPr>
        <p:spPr>
          <a:xfrm flipV="1">
            <a:off x="2666880" y="419076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2" name="Text Box 49"/>
          <p:cNvSpPr/>
          <p:nvPr/>
        </p:nvSpPr>
        <p:spPr>
          <a:xfrm>
            <a:off x="2895480" y="403848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800" spc="-1" strike="noStrike">
                <a:solidFill>
                  <a:srgbClr val="000000"/>
                </a:solidFill>
                <a:latin typeface="Times New Roman"/>
              </a:rPr>
              <a:t>poortader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Picture 2" descr="msotw9_temp0"/>
          <p:cNvPicPr/>
          <p:nvPr/>
        </p:nvPicPr>
        <p:blipFill>
          <a:blip r:embed="rId1"/>
          <a:stretch/>
        </p:blipFill>
        <p:spPr>
          <a:xfrm>
            <a:off x="1905120" y="914400"/>
            <a:ext cx="5562360" cy="5486400"/>
          </a:xfrm>
          <a:prstGeom prst="rect">
            <a:avLst/>
          </a:prstGeom>
          <a:ln w="0">
            <a:noFill/>
          </a:ln>
        </p:spPr>
      </p:pic>
      <p:sp>
        <p:nvSpPr>
          <p:cNvPr id="924" name="Text Box 3"/>
          <p:cNvSpPr/>
          <p:nvPr/>
        </p:nvSpPr>
        <p:spPr>
          <a:xfrm>
            <a:off x="1295280" y="0"/>
            <a:ext cx="6782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fr-FR" sz="3200" spc="-1" strike="noStrike">
                <a:solidFill>
                  <a:srgbClr val="ff0000"/>
                </a:solidFill>
                <a:latin typeface="Times New Roman"/>
              </a:rPr>
              <a:t>Inwendige bouw van het har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5" name="Line 5"/>
          <p:cNvSpPr/>
          <p:nvPr/>
        </p:nvSpPr>
        <p:spPr>
          <a:xfrm flipH="1">
            <a:off x="6019560" y="2057400"/>
            <a:ext cx="15228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6" name="Line 6"/>
          <p:cNvSpPr/>
          <p:nvPr/>
        </p:nvSpPr>
        <p:spPr>
          <a:xfrm flipH="1">
            <a:off x="6095520" y="2286000"/>
            <a:ext cx="22860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7" name="Text Box 7"/>
          <p:cNvSpPr/>
          <p:nvPr/>
        </p:nvSpPr>
        <p:spPr>
          <a:xfrm>
            <a:off x="6553080" y="16002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0000"/>
                </a:solidFill>
                <a:latin typeface="Times New Roman"/>
              </a:rPr>
              <a:t>longade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8" name="Line 8"/>
          <p:cNvSpPr/>
          <p:nvPr/>
        </p:nvSpPr>
        <p:spPr>
          <a:xfrm>
            <a:off x="6019920" y="2666880"/>
            <a:ext cx="10666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9" name="Text Box 9"/>
          <p:cNvSpPr/>
          <p:nvPr/>
        </p:nvSpPr>
        <p:spPr>
          <a:xfrm>
            <a:off x="7238880" y="274320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0000"/>
                </a:solidFill>
                <a:latin typeface="Times New Roman"/>
              </a:rPr>
              <a:t>linkerboeze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0000"/>
                </a:solidFill>
                <a:latin typeface="Times New Roman"/>
              </a:rPr>
              <a:t>of voorkame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0" name="Line 10"/>
          <p:cNvSpPr/>
          <p:nvPr/>
        </p:nvSpPr>
        <p:spPr>
          <a:xfrm flipV="1">
            <a:off x="5943600" y="4419360"/>
            <a:ext cx="990720" cy="75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1" name="Text Box 11"/>
          <p:cNvSpPr/>
          <p:nvPr/>
        </p:nvSpPr>
        <p:spPr>
          <a:xfrm>
            <a:off x="7162920" y="42670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0000"/>
                </a:solidFill>
                <a:latin typeface="Times New Roman"/>
              </a:rPr>
              <a:t>linkerkame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2" name="Line 12"/>
          <p:cNvSpPr/>
          <p:nvPr/>
        </p:nvSpPr>
        <p:spPr>
          <a:xfrm flipH="1">
            <a:off x="1980720" y="3352680"/>
            <a:ext cx="1143000" cy="1371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3" name="Text Box 13"/>
          <p:cNvSpPr/>
          <p:nvPr/>
        </p:nvSpPr>
        <p:spPr>
          <a:xfrm>
            <a:off x="0" y="46483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cc"/>
                </a:solidFill>
                <a:latin typeface="Times New Roman"/>
              </a:rPr>
              <a:t>rechterboeze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4" name="Text Box 15"/>
          <p:cNvSpPr/>
          <p:nvPr/>
        </p:nvSpPr>
        <p:spPr>
          <a:xfrm>
            <a:off x="0" y="540216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cc"/>
                </a:solidFill>
                <a:latin typeface="Times New Roman"/>
              </a:rPr>
              <a:t>rechterkame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5" name="Line 16"/>
          <p:cNvSpPr/>
          <p:nvPr/>
        </p:nvSpPr>
        <p:spPr>
          <a:xfrm flipH="1">
            <a:off x="1752120" y="4648320"/>
            <a:ext cx="2057400" cy="99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6" name="Line 22"/>
          <p:cNvSpPr/>
          <p:nvPr/>
        </p:nvSpPr>
        <p:spPr>
          <a:xfrm>
            <a:off x="5562720" y="3581280"/>
            <a:ext cx="15228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7" name="Line 23"/>
          <p:cNvSpPr/>
          <p:nvPr/>
        </p:nvSpPr>
        <p:spPr>
          <a:xfrm flipH="1" flipV="1">
            <a:off x="4571640" y="2514240"/>
            <a:ext cx="15228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8" name="Line 24"/>
          <p:cNvSpPr/>
          <p:nvPr/>
        </p:nvSpPr>
        <p:spPr>
          <a:xfrm flipH="1" flipV="1">
            <a:off x="4724280" y="990720"/>
            <a:ext cx="15264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9" name="Line 25"/>
          <p:cNvSpPr/>
          <p:nvPr/>
        </p:nvSpPr>
        <p:spPr>
          <a:xfrm flipV="1">
            <a:off x="5181480" y="914400"/>
            <a:ext cx="7632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0" name="Line 26"/>
          <p:cNvSpPr/>
          <p:nvPr/>
        </p:nvSpPr>
        <p:spPr>
          <a:xfrm>
            <a:off x="5943600" y="5867280"/>
            <a:ext cx="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1" name="Text Box 27"/>
          <p:cNvSpPr/>
          <p:nvPr/>
        </p:nvSpPr>
        <p:spPr>
          <a:xfrm>
            <a:off x="6095880" y="6400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0000"/>
                </a:solidFill>
                <a:latin typeface="Times New Roman"/>
              </a:rPr>
              <a:t>lichaa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2" name="Line 28"/>
          <p:cNvSpPr/>
          <p:nvPr/>
        </p:nvSpPr>
        <p:spPr>
          <a:xfrm flipV="1">
            <a:off x="5638680" y="1066680"/>
            <a:ext cx="175284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3" name="Text Box 30"/>
          <p:cNvSpPr/>
          <p:nvPr/>
        </p:nvSpPr>
        <p:spPr>
          <a:xfrm>
            <a:off x="7543800" y="8380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0000"/>
                </a:solidFill>
                <a:latin typeface="Times New Roman"/>
              </a:rPr>
              <a:t>aort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4" name="Text Box 31"/>
          <p:cNvSpPr/>
          <p:nvPr/>
        </p:nvSpPr>
        <p:spPr>
          <a:xfrm>
            <a:off x="4648320" y="609480"/>
            <a:ext cx="914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5" name="Text Box 32"/>
          <p:cNvSpPr/>
          <p:nvPr/>
        </p:nvSpPr>
        <p:spPr>
          <a:xfrm>
            <a:off x="4572360" y="53352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0000"/>
                </a:solidFill>
                <a:latin typeface="Times New Roman"/>
              </a:rPr>
              <a:t>hersene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6" name="Line 33"/>
          <p:cNvSpPr/>
          <p:nvPr/>
        </p:nvSpPr>
        <p:spPr>
          <a:xfrm flipV="1">
            <a:off x="2133720" y="3960360"/>
            <a:ext cx="153720" cy="30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7" name="Line 34"/>
          <p:cNvSpPr/>
          <p:nvPr/>
        </p:nvSpPr>
        <p:spPr>
          <a:xfrm>
            <a:off x="2209680" y="2057400"/>
            <a:ext cx="150840" cy="3808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8" name="Text Box 35"/>
          <p:cNvSpPr/>
          <p:nvPr/>
        </p:nvSpPr>
        <p:spPr>
          <a:xfrm>
            <a:off x="380880" y="2209680"/>
            <a:ext cx="12193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cc"/>
                </a:solidFill>
                <a:latin typeface="Times New Roman"/>
              </a:rPr>
              <a:t>ondertse en bovenste holle ade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9" name="Line 36"/>
          <p:cNvSpPr/>
          <p:nvPr/>
        </p:nvSpPr>
        <p:spPr>
          <a:xfrm>
            <a:off x="3733920" y="403848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0" name="Line 37"/>
          <p:cNvSpPr/>
          <p:nvPr/>
        </p:nvSpPr>
        <p:spPr>
          <a:xfrm flipH="1" flipV="1">
            <a:off x="4114440" y="2742840"/>
            <a:ext cx="152280" cy="6094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1" name="Line 38"/>
          <p:cNvSpPr/>
          <p:nvPr/>
        </p:nvSpPr>
        <p:spPr>
          <a:xfrm flipV="1">
            <a:off x="3733920" y="1295280"/>
            <a:ext cx="152280" cy="457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2" name="Line 39"/>
          <p:cNvSpPr/>
          <p:nvPr/>
        </p:nvSpPr>
        <p:spPr>
          <a:xfrm flipH="1" flipV="1">
            <a:off x="2971440" y="1752120"/>
            <a:ext cx="304920" cy="3812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3" name="Text Box 40"/>
          <p:cNvSpPr/>
          <p:nvPr/>
        </p:nvSpPr>
        <p:spPr>
          <a:xfrm>
            <a:off x="2590920" y="9144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cc"/>
                </a:solidFill>
                <a:latin typeface="Times New Roman"/>
              </a:rPr>
              <a:t>longe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4" name="Line 41"/>
          <p:cNvSpPr/>
          <p:nvPr/>
        </p:nvSpPr>
        <p:spPr>
          <a:xfrm flipH="1" flipV="1">
            <a:off x="1371600" y="1371600"/>
            <a:ext cx="1828800" cy="9144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5" name="Text Box 42"/>
          <p:cNvSpPr/>
          <p:nvPr/>
        </p:nvSpPr>
        <p:spPr>
          <a:xfrm>
            <a:off x="0" y="9907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cc"/>
                </a:solidFill>
                <a:latin typeface="Times New Roman"/>
              </a:rPr>
              <a:t>longslagader(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8:50:37Z</dcterms:created>
  <dc:creator>Onderwijs</dc:creator>
  <dc:description/>
  <dc:language>en-US</dc:language>
  <cp:lastModifiedBy>Bakker,C.M.</cp:lastModifiedBy>
  <dcterms:modified xsi:type="dcterms:W3CDTF">2016-05-22T19:15:57Z</dcterms:modified>
  <cp:revision>44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31043</vt:lpwstr>
  </property>
</Properties>
</file>