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FAA-597B-4AD9-9312-E63A0F48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494-EFD1-4ED6-B023-DBB49852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2A8-52E1-4D3E-B75D-FE4EFF6B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453-77D4-4D62-A6C7-645CC2D8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B9D6-6689-4D64-BA51-5C973447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64D8-4380-41A1-B853-FFAD2426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11B9-AF38-458B-BADD-40D7EB62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49DE-0D74-4AF6-B569-C9A9A5F4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2A08-64A1-4DEA-85DF-03F5116D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D1D6-3E73-4691-A994-B602548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9F7D-1EB3-439F-A80F-E08D52C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2EF-17AB-4431-ABF3-25177C7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E82D-D841-4C0F-83F3-75F8F644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28EB-D344-463D-AAC9-616F8BD7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1BDD-6A92-4E05-823D-8AD46BFD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F673-C84A-4AB5-B6FC-76103557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8BED-61A0-4C4F-B910-4212CE1C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A5366-1EDB-482A-8046-05E151AB56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4AE95-319D-43D1-BA89-5ED0C535B8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DFCBC-1EE6-4F1D-93C3-0D11079571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B677D-8643-4C04-A597-80063D696C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D9F43-185D-4F99-8A57-6B425D9EB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EAF-5054-4205-AB11-71008000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CC7B9-95AA-4E88-98D3-79C99B5B8E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8C814-0953-4636-A31C-E84371B9C5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BFDAB-2C41-472B-A03B-EC2169B59E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CFA78-3F31-4F48-B737-E5FC039CC9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DF4AB-86C0-4A8D-B31A-7572FFF034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779B1-5F09-42EE-9320-14F9B3F673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6B50C-2BD5-4DE3-8A54-57AE85FC45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33B3A-8A10-4AA3-BEDF-BDCF547A62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393A4-A624-4525-A0F1-5259067AE3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08E39-2EE8-4E21-B55B-BFAA0584F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960-02F2-44D7-98C4-8A0E7393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09D09-C75F-4DE0-8475-575EFE0246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1B374-90DA-47AC-AD78-EC7839466A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90255-8E73-42CD-93E6-0C659A499E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980797-E7CC-4F48-B740-C1FA6882BC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F02E7-0193-46EC-B7AE-2BA0237C06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6A5F4-1840-4924-83E3-08C4E5C9A1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077D6-3030-4A7B-A9E2-910D426FA6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C5FFC-FB1E-451F-AB3C-4423D18F4A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5DABB7-0790-4136-B6EE-2240E325E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3A6-7A02-4D57-A2C2-B353CDB9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7E5-7622-400A-BA60-B5F7A25C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A1B-1800-418A-A35D-DA73375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7FC-F606-4F70-92FC-CEEE8B60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57B2-E1A4-49D5-B6E1-0BF25FFB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35AB-D67D-4853-B055-0EC0F64AC7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7283-BB7A-4792-A53F-F53FB705C69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8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179280" y="6589440"/>
            <a:ext cx="6840720" cy="26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8764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7E8F-92F9-4A10-B535-8049809C2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30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9"/>
          </p:nvPr>
        </p:nvSpPr>
        <p:spPr>
          <a:xfrm>
            <a:off x="179280" y="6589440"/>
            <a:ext cx="6840720" cy="26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0"/>
          </p:nvPr>
        </p:nvSpPr>
        <p:spPr>
          <a:xfrm>
            <a:off x="6587640" y="659736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DB8A-F607-4D5B-8853-CED82039D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et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Zorgt voor de coördinatie van activiteiten in weefsels en organen, vegetatieve en animale functies, de buitenwereld en onze gevoelen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4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058160" cy="4114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2"/>
          <a:stretch/>
        </p:blipFill>
        <p:spPr>
          <a:xfrm>
            <a:off x="1835280" y="3408480"/>
            <a:ext cx="54133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aeaea"/>
                </a:solidFill>
                <a:latin typeface="Times New Roman"/>
              </a:rPr>
              <a:t>Bouw van een neuron (= zenuwcel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Impuls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een elektrisch signaal langs een uitloper (axon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xon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= uitloper die een impuls v/h cellichaam </a:t>
            </a: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nl-NL" sz="2000" spc="-1" strike="noStrike">
                <a:solidFill>
                  <a:srgbClr val="9edbff"/>
                </a:solidFill>
                <a:latin typeface="Times New Roman"/>
              </a:rPr>
              <a:t>f </a:t>
            </a:r>
            <a:r>
              <a:rPr b="0" lang="nl-NL" sz="2000" spc="-1" strike="noStrike">
                <a:solidFill>
                  <a:srgbClr val="9edbff"/>
                </a:solidFill>
                <a:latin typeface="Times New Roman"/>
              </a:rPr>
              <a:t>geleid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Dendriet</a:t>
            </a: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= uitloper die een impuls naar het cellichaam to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nl-NL" sz="2000" spc="-1" strike="noStrike">
                <a:solidFill>
                  <a:srgbClr val="ccecff"/>
                </a:solidFill>
                <a:latin typeface="Times New Roman"/>
              </a:rPr>
              <a:t>geleid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Picture 5" descr="133383_962_1119533591320-Zenuwcel_klein"/>
          <p:cNvPicPr/>
          <p:nvPr/>
        </p:nvPicPr>
        <p:blipFill>
          <a:blip r:embed="rId1"/>
          <a:stretch/>
        </p:blipFill>
        <p:spPr>
          <a:xfrm>
            <a:off x="2843280" y="2279520"/>
            <a:ext cx="6408720" cy="3846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334120" y="59436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mergsched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638680" y="49528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axo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851280" y="3357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dendriet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733920" y="3809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cellichaa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886200" y="42670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celker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7315200" y="4876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synap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 rot="1107600">
            <a:off x="3995280" y="50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oorten neur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1. Motorisch neuron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mpulsen worden geleid van de hersens/ruggegraat richting de spier (motoriek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2. Sensorisch neuron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Impulsen worden geleid van een zintuigcel richting ruggegraat/hersens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3. Schakelneuron: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Geeft signalen door tussen twee anderen neuron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voettekst 3"/>
          <p:cNvSpPr/>
          <p:nvPr/>
        </p:nvSpPr>
        <p:spPr>
          <a:xfrm>
            <a:off x="179280" y="6589800"/>
            <a:ext cx="6840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Tijdelijke aanduiding voor dianummer 4"/>
          <p:cNvSpPr/>
          <p:nvPr/>
        </p:nvSpPr>
        <p:spPr>
          <a:xfrm>
            <a:off x="658800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BAA1-3551-4693-8028-97D2728016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Soorten neuron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23" descr="soortneuron1"/>
          <p:cNvPicPr/>
          <p:nvPr/>
        </p:nvPicPr>
        <p:blipFill>
          <a:blip r:embed="rId1"/>
          <a:stretch/>
        </p:blipFill>
        <p:spPr>
          <a:xfrm>
            <a:off x="0" y="113976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ignaalverwerking en Reflex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Zintuig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sensorische neuron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(schakelneuron)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hersens</a:t>
            </a:r>
            <a:br>
              <a:rPr sz="2400"/>
            </a:b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(schakelneuron)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motorische neuron </a:t>
            </a:r>
            <a:r>
              <a:rPr b="1" lang="nl-NL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 Spier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Later zullen we zien dat dit erg schematisch is en er ook hormonen en andere functies van het zenuwstelsel meespel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it kan ook!   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REFLEXEN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it is als sensorische informatie uit het ruggenmerg direct wordt overgebracht op motorische zenuwcellen. Veel korter en sneller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Tegelijkertijd wordt de informatie ook naar de hersenen doorgegeven en daar verwerkt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332160" y="189000"/>
            <a:ext cx="19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  <a:ea typeface="Arial"/>
              </a:rPr>
              <a:t>Synap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3" name="Picture 3" descr="impuls9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527040" y="890640"/>
            <a:ext cx="8604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= contactplaats van zenuwcellen, waar impulsen </a:t>
            </a:r>
            <a:r>
              <a:rPr b="0" lang="nl-NL" sz="24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chemisch</a:t>
            </a: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 worden doorgegeven. Zodra de informatie chemisch is doorgegeven gaat de impuls in de volgende neuron weer als stroomstroot verder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Neurotransmitte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583160" cy="3240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cecff"/>
                </a:solidFill>
                <a:latin typeface="Times New Roman"/>
              </a:rPr>
              <a:t>2 typen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Times New Roman"/>
              </a:rPr>
              <a:t>Stimulerend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Zorgen voor doorgeven van signaal naar volgende zenuwc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Times New Roman"/>
              </a:rPr>
              <a:t>Remmend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Onderbreken de impuls, er wordt geen impuls overgedra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403236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Neurotransmitte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Stimulerend en remmen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Drugs en veel pijnstillers werken op dit systeem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Remmend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orfine, alcohol, cannab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Stimulerend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icotine, cocaine, XT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Leidt soms tot gewenning of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erslav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2" name="Picture 5" descr="drugsfotoverkleind"/>
          <p:cNvPicPr/>
          <p:nvPr/>
        </p:nvPicPr>
        <p:blipFill>
          <a:blip r:embed="rId1"/>
          <a:stretch/>
        </p:blipFill>
        <p:spPr>
          <a:xfrm>
            <a:off x="5076720" y="2781360"/>
            <a:ext cx="35607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Terug naar de FUNCTI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We weten nu HOE signalen verplaatst worden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Nu kijken we naar WAAROM in de ene situatie het ene gebeurt en in een andere situatie het ander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2 indelingen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Times New Roman"/>
              </a:rPr>
              <a:t>Op basis van bouw/ligging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Centrale zenuwstelsel (hersenen + ruggenmerg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Perifere zenuwstelsel (alle zenuwen in rest lichaam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00"/>
                </a:solidFill>
                <a:latin typeface="Times New Roman"/>
              </a:rPr>
              <a:t>Op basis van functi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Animale zenuwstelsel (bewust + reflex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Deze hebben we al behandel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Vegetatieve /autonome zenuwstelsel (onbewust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Tijdelijke aanduiding voor dianummer 4"/>
          <p:cNvSpPr/>
          <p:nvPr/>
        </p:nvSpPr>
        <p:spPr>
          <a:xfrm>
            <a:off x="3505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6286-7799-4BED-81F2-8CE4470A2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Zenuwstelsel: functi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gistrer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Verwerk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Opwekken van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ageren op prikke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Psychische activiteiten (denken/voelen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Coördineren van funct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Regulatie van weefsels en organ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187280" y="7650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Vegetatieve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84400" y="2362320"/>
            <a:ext cx="574488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ecff"/>
                </a:solidFill>
                <a:uFillTx/>
                <a:latin typeface="Calibri"/>
                <a:ea typeface="Times New Roman"/>
              </a:rPr>
              <a:t>Bestaat uit:</a:t>
            </a:r>
            <a:r>
              <a:rPr b="0" lang="en-US" sz="3200" spc="-1" strike="noStrike" u="sng">
                <a:solidFill>
                  <a:srgbClr val="ccecff"/>
                </a:solidFill>
                <a:uFillTx/>
                <a:latin typeface="Calibri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1) </a:t>
            </a:r>
            <a:r>
              <a:rPr b="1" lang="nl-NL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sympatisch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deel </a:t>
            </a:r>
            <a:br>
              <a:rPr sz="2400"/>
            </a:b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2) </a:t>
            </a:r>
            <a:r>
              <a:rPr b="1" lang="nl-NL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parasympatisch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de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N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aar ieder orgaan (doelwitorgaan) gaat een sympatische zenuw en een parasympatische zenuw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D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eze hebben een tegengestelde werking</a:t>
            </a:r>
            <a:r>
              <a:rPr b="0" lang="nl-NL" sz="2400" spc="-1" strike="noStrike">
                <a:solidFill>
                  <a:srgbClr val="ccec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9" name="Picture 8" descr="http://www2.fcsconline.org/staff/gradyt/nervous.jpg"/>
          <p:cNvPicPr/>
          <p:nvPr/>
        </p:nvPicPr>
        <p:blipFill>
          <a:blip r:embed="rId1"/>
          <a:stretch/>
        </p:blipFill>
        <p:spPr>
          <a:xfrm>
            <a:off x="6929280" y="285840"/>
            <a:ext cx="1963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835280" y="2057400"/>
            <a:ext cx="5703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ecff"/>
                </a:solidFill>
                <a:uFillTx/>
                <a:latin typeface="Calibri"/>
                <a:ea typeface="Arial"/>
              </a:rPr>
              <a:t>Stimuleert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 organen die met </a:t>
            </a:r>
            <a:r>
              <a:rPr b="1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activiteit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Arial"/>
              </a:rPr>
              <a:t> te maken hebb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snelling ademhaling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snelling hartslag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Arial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verhoging dissimilatie (verbranding om </a:t>
            </a:r>
            <a:r>
              <a:rPr b="1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energie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Arial"/>
              </a:rPr>
              <a:t> vrij te maken)</a:t>
            </a:r>
            <a:r>
              <a:rPr b="0" lang="nl-NL" sz="2400" spc="-1" strike="noStrike">
                <a:solidFill>
                  <a:srgbClr val="008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  <a:ea typeface="Arial"/>
              </a:rPr>
              <a:t>- </a:t>
            </a:r>
            <a:r>
              <a:rPr b="0" lang="nl-NL" sz="2400" spc="-1" strike="noStrike">
                <a:solidFill>
                  <a:srgbClr val="cc0000"/>
                </a:solidFill>
                <a:latin typeface="Calibri"/>
                <a:ea typeface="Arial"/>
              </a:rPr>
              <a:t>remt (vertraagt) spijsvertering</a:t>
            </a:r>
            <a:r>
              <a:rPr b="0" lang="nl-NL" sz="2400" spc="-1" strike="noStrike">
                <a:solidFill>
                  <a:srgbClr val="cc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11600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Sympatisch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278080" y="2057400"/>
            <a:ext cx="56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Remt organen af die met activiteit te maken hebben en zorgt dat er rust is voor vertering e.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+ 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stimuleert spijsverteringsorgane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+ bevordert </a:t>
            </a:r>
            <a:r>
              <a:rPr b="0" lang="nl-NL" sz="2400" spc="-1" strike="noStrike" u="sng">
                <a:solidFill>
                  <a:srgbClr val="008000"/>
                </a:solidFill>
                <a:uFillTx/>
                <a:latin typeface="Calibri"/>
                <a:ea typeface="Times New Roman"/>
              </a:rPr>
              <a:t>as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similatie (vormen organische stoffen voor opbouw lichaam) </a:t>
            </a:r>
            <a:r>
              <a:rPr b="0" lang="nl-NL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8000"/>
                </a:solidFill>
                <a:latin typeface="Calibri"/>
                <a:ea typeface="Times New Roman"/>
              </a:rPr>
              <a:t> voor rust en herstel lijf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- </a:t>
            </a:r>
            <a:r>
              <a:rPr b="0" lang="nl-NL" sz="2400" spc="-1" strike="noStrike">
                <a:solidFill>
                  <a:srgbClr val="cc0000"/>
                </a:solidFill>
                <a:latin typeface="Calibri"/>
                <a:ea typeface="Times New Roman"/>
              </a:rPr>
              <a:t>remt (vertraagt) hartslag en ademhaling</a:t>
            </a:r>
            <a:r>
              <a:rPr b="0" lang="nl-NL" sz="24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332000" y="947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Par</a:t>
            </a:r>
            <a:r>
              <a:rPr b="0" lang="en-US" sz="4000" spc="-1" strike="noStrike" u="sng">
                <a:solidFill>
                  <a:srgbClr val="cccc00"/>
                </a:solidFill>
                <a:uFillTx/>
                <a:latin typeface="Tahoma"/>
                <a:ea typeface="Arial"/>
              </a:rPr>
              <a:t>as</a:t>
            </a:r>
            <a:r>
              <a:rPr b="0" lang="en-US" sz="4000" spc="-1" strike="noStrike">
                <a:solidFill>
                  <a:srgbClr val="cccc00"/>
                </a:solidFill>
                <a:latin typeface="Tahoma"/>
                <a:ea typeface="Arial"/>
              </a:rPr>
              <a:t>ympatisch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900000" y="0"/>
            <a:ext cx="781704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2 indelingen 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p basis van bouw/ligging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Centrale zenuwstelsel (hersenen + ruggenmerg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Perifere zenuwstelsel (alle zenuwen in rest lichaam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p basis van functi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nimale zenuwstelsel (bewust + reflexen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Autonome zenuwstelsel (onbewust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9280" y="6480"/>
            <a:ext cx="88218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Zenuwstelse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60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cc00"/>
                </a:solidFill>
                <a:latin typeface="Times New Roman"/>
              </a:rPr>
              <a:t>Centrale zenuwstelsel (CZ)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Grote herse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Kleine herse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Hersenst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Ruggenmer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cc00"/>
                </a:solidFill>
                <a:latin typeface="Times New Roman"/>
              </a:rPr>
              <a:t>Perifere zenuwstelsel: ( </a:t>
            </a:r>
            <a:r>
              <a:rPr b="1" lang="nl-NL" sz="2000" spc="-1" strike="noStrike">
                <a:solidFill>
                  <a:srgbClr val="cccc00"/>
                </a:solidFill>
                <a:latin typeface="Times New Roman"/>
              </a:rPr>
              <a:t>Perifeer = er omheen liggend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Zenuwcellen = neuronen (bewegings- en gevoelneuro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Bewegingszenuwcellen= motorische neuro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Times New Roman"/>
              </a:rPr>
              <a:t>Gevoelszenuwcellen = sensorische neuron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338720" y="260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ecff"/>
                </a:solidFill>
                <a:latin typeface="Arial"/>
                <a:ea typeface="Arial"/>
              </a:rPr>
              <a:t>Indeling op basis van ligging</a:t>
            </a:r>
            <a:r>
              <a:rPr b="0" lang="nl-NL" sz="1800" spc="-1" strike="noStrike">
                <a:solidFill>
                  <a:srgbClr val="ccecff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6" name="Afbeelding 1" descr=""/>
          <p:cNvPicPr/>
          <p:nvPr/>
        </p:nvPicPr>
        <p:blipFill>
          <a:blip r:embed="rId1"/>
          <a:stretch/>
        </p:blipFill>
        <p:spPr>
          <a:xfrm>
            <a:off x="5796000" y="981000"/>
            <a:ext cx="2989080" cy="2513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rcRect l="43791" t="0" r="0" b="0"/>
          <a:stretch/>
        </p:blipFill>
        <p:spPr>
          <a:xfrm>
            <a:off x="7270920" y="5022720"/>
            <a:ext cx="1387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voettekst 4"/>
          <p:cNvSpPr/>
          <p:nvPr/>
        </p:nvSpPr>
        <p:spPr>
          <a:xfrm>
            <a:off x="179280" y="6589800"/>
            <a:ext cx="6840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FHV2009 / Cxx56 1+2 / Anatomie &amp; Fysiologie - Zenuwstelsel 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6588000" y="6597720"/>
            <a:ext cx="21337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7E5A-FE47-4B12-B898-01840AE9F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4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eaeaea"/>
                </a:solidFill>
                <a:latin typeface="Times New Roman"/>
              </a:rPr>
              <a:t>Centraal zenuwstelsel: overzicht</a:t>
            </a:r>
            <a:r>
              <a:rPr b="0" lang="nl-NL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02920" y="1467000"/>
            <a:ext cx="5651640" cy="52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grote 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kleine 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hersenstam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middenhersen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p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verlengde mer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(ruggenmer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niet zichtbaar: diëncephalon (tussenhersenen 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2" name="Picture 6" descr="czs_overzicht"/>
          <p:cNvPicPr/>
          <p:nvPr/>
        </p:nvPicPr>
        <p:blipFill>
          <a:blip r:embed="rId1"/>
          <a:stretch/>
        </p:blipFill>
        <p:spPr>
          <a:xfrm>
            <a:off x="5713560" y="563400"/>
            <a:ext cx="34304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258920" y="692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cc00"/>
                </a:solidFill>
                <a:latin typeface="Tahoma"/>
                <a:ea typeface="Arial"/>
              </a:rPr>
              <a:t>Het zenuwstelsel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971640" y="1393920"/>
            <a:ext cx="6913440" cy="39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cecff"/>
                </a:solidFill>
                <a:latin typeface="Calibri"/>
                <a:ea typeface="Times New Roman"/>
              </a:rPr>
              <a:t>Indeling op grond van werking/functi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Animale zenuwstelsel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taat onder invloed van de wil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verzorgt bewuste reacties en reflexe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centra liggen voornamelijk in grote hersenen 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ec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Autonome zenuwstelsel</a:t>
            </a:r>
            <a:r>
              <a:rPr b="0" lang="nl-NL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(= vegetatief zenuwstelsel)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taat niet onder invloed van de wil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voor onbewuste functies van organen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regelt allerlei lichaamsfuncties</a:t>
            </a: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o.a. hartslag,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spijsvertering, ademhaling, nieren etc  </a:t>
            </a:r>
            <a:r>
              <a:rPr b="0" lang="nl-NL" sz="20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HOMEOSTASE</a:t>
            </a:r>
            <a:br>
              <a:rPr sz="2000"/>
            </a:br>
            <a:r>
              <a:rPr b="0" lang="en-US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   -   </a:t>
            </a:r>
            <a:r>
              <a:rPr b="0" lang="nl-NL" sz="2000" spc="-1" strike="noStrike">
                <a:solidFill>
                  <a:srgbClr val="ccecff"/>
                </a:solidFill>
                <a:latin typeface="Calibri"/>
                <a:ea typeface="Times New Roman"/>
              </a:rPr>
              <a:t>centra in hersenstam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Line 4"/>
          <p:cNvSpPr/>
          <p:nvPr/>
        </p:nvSpPr>
        <p:spPr>
          <a:xfrm flipV="1">
            <a:off x="684360" y="4562640"/>
            <a:ext cx="811080" cy="1449360"/>
          </a:xfrm>
          <a:prstGeom prst="line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559800" y="6093000"/>
            <a:ext cx="4845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2060"/>
                </a:solidFill>
                <a:latin typeface="Calibri"/>
                <a:ea typeface="Arial"/>
              </a:rPr>
              <a:t>Hormoonstelsel veel invloed 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9" name="Picture 2" descr="http://msjensen.cehd.umn.edu/webanatomy/nervous/nerv_anatomyTV-head-nerves.jpg"/>
          <p:cNvPicPr/>
          <p:nvPr/>
        </p:nvPicPr>
        <p:blipFill>
          <a:blip r:embed="rId1"/>
          <a:stretch/>
        </p:blipFill>
        <p:spPr>
          <a:xfrm>
            <a:off x="6875640" y="14292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kstvak 1"/>
          <p:cNvSpPr/>
          <p:nvPr/>
        </p:nvSpPr>
        <p:spPr>
          <a:xfrm>
            <a:off x="1908000" y="692280"/>
            <a:ext cx="6336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Later meer over de functie van het zenuwstelsel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Eerst terug naar de BOUW. 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Times New Roman"/>
              </a:rPr>
              <a:t>Welke cellen vinden we in het zenuwstelsel?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In het Centrale Zenuwstelsel en in het Perifere zenuwstelsel  worden signalen doorgegeven dmv </a:t>
            </a:r>
            <a:r>
              <a:rPr b="1" lang="nl-NL" sz="2000" spc="-1" strike="noStrike">
                <a:solidFill>
                  <a:srgbClr val="ffff00"/>
                </a:solidFill>
                <a:latin typeface="Times New Roman"/>
              </a:rPr>
              <a:t>zenuwcellen = neuronen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Times New Roman"/>
              </a:rPr>
              <a:t>Hoe worden signalen (voortkomend uit prikkels) doorgegeven?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De signalen worden als stroomstootjes doorgegeven aan andere neuronen. Tussen 2 verschillende neuronen ligt een ruimte die een SYNAPS heet. Signalen gaan niet als stroom door deze synaps, maar als chemische stoffen. (neurotransmitto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Hierover later meer.  Eerst de verschillende NEURONEN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6-05T22:26:39Z</dcterms:modified>
  <cp:revision>51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