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32.xml" ContentType="application/vnd.openxmlformats-officedocument.theme+xml"/>
  <Override PartName="/ppt/theme/theme44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2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</p:sldMasterIdLst>
  <p:sldIdLst>
    <p:sldId id="256" r:id="rId46"/>
    <p:sldId id="257" r:id="rId47"/>
    <p:sldId id="258" r:id="rId48"/>
    <p:sldId id="259" r:id="rId49"/>
    <p:sldId id="260" r:id="rId50"/>
    <p:sldId id="261" r:id="rId51"/>
    <p:sldId id="262" r:id="rId52"/>
    <p:sldId id="263" r:id="rId53"/>
    <p:sldId id="264" r:id="rId54"/>
    <p:sldId id="265" r:id="rId55"/>
    <p:sldId id="266" r:id="rId56"/>
    <p:sldId id="267" r:id="rId57"/>
    <p:sldId id="268" r:id="rId58"/>
    <p:sldId id="269" r:id="rId59"/>
    <p:sldId id="270" r:id="rId60"/>
    <p:sldId id="271" r:id="rId61"/>
    <p:sldId id="272" r:id="rId62"/>
    <p:sldId id="273" r:id="rId63"/>
    <p:sldId id="274" r:id="rId64"/>
    <p:sldId id="275" r:id="rId65"/>
    <p:sldId id="276" r:id="rId66"/>
    <p:sldId id="277" r:id="rId67"/>
    <p:sldId id="278" r:id="rId68"/>
    <p:sldId id="279" r:id="rId69"/>
    <p:sldId id="280" r:id="rId70"/>
    <p:sldId id="281" r:id="rId71"/>
    <p:sldId id="282" r:id="rId72"/>
    <p:sldId id="283" r:id="rId73"/>
    <p:sldId id="28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" Target="slides/slide1.xml"/><Relationship Id="rId47" Type="http://schemas.openxmlformats.org/officeDocument/2006/relationships/slide" Target="slides/slide2.xml"/><Relationship Id="rId48" Type="http://schemas.openxmlformats.org/officeDocument/2006/relationships/slide" Target="slides/slide3.xml"/><Relationship Id="rId49" Type="http://schemas.openxmlformats.org/officeDocument/2006/relationships/slide" Target="slides/slide4.xml"/><Relationship Id="rId50" Type="http://schemas.openxmlformats.org/officeDocument/2006/relationships/slide" Target="slides/slide5.xml"/><Relationship Id="rId51" Type="http://schemas.openxmlformats.org/officeDocument/2006/relationships/slide" Target="slides/slide6.xml"/><Relationship Id="rId52" Type="http://schemas.openxmlformats.org/officeDocument/2006/relationships/slide" Target="slides/slide7.xml"/><Relationship Id="rId53" Type="http://schemas.openxmlformats.org/officeDocument/2006/relationships/slide" Target="slides/slide8.xml"/><Relationship Id="rId54" Type="http://schemas.openxmlformats.org/officeDocument/2006/relationships/slide" Target="slides/slide9.xml"/><Relationship Id="rId55" Type="http://schemas.openxmlformats.org/officeDocument/2006/relationships/slide" Target="slides/slide10.xml"/><Relationship Id="rId56" Type="http://schemas.openxmlformats.org/officeDocument/2006/relationships/slide" Target="slides/slide11.xml"/><Relationship Id="rId57" Type="http://schemas.openxmlformats.org/officeDocument/2006/relationships/slide" Target="slides/slide12.xml"/><Relationship Id="rId58" Type="http://schemas.openxmlformats.org/officeDocument/2006/relationships/slide" Target="slides/slide13.xml"/><Relationship Id="rId59" Type="http://schemas.openxmlformats.org/officeDocument/2006/relationships/slide" Target="slides/slide14.xml"/><Relationship Id="rId60" Type="http://schemas.openxmlformats.org/officeDocument/2006/relationships/slide" Target="slides/slide15.xml"/><Relationship Id="rId61" Type="http://schemas.openxmlformats.org/officeDocument/2006/relationships/slide" Target="slides/slide16.xml"/><Relationship Id="rId62" Type="http://schemas.openxmlformats.org/officeDocument/2006/relationships/slide" Target="slides/slide17.xml"/><Relationship Id="rId63" Type="http://schemas.openxmlformats.org/officeDocument/2006/relationships/slide" Target="slides/slide18.xml"/><Relationship Id="rId64" Type="http://schemas.openxmlformats.org/officeDocument/2006/relationships/slide" Target="slides/slide19.xml"/><Relationship Id="rId65" Type="http://schemas.openxmlformats.org/officeDocument/2006/relationships/slide" Target="slides/slide20.xml"/><Relationship Id="rId66" Type="http://schemas.openxmlformats.org/officeDocument/2006/relationships/slide" Target="slides/slide21.xml"/><Relationship Id="rId67" Type="http://schemas.openxmlformats.org/officeDocument/2006/relationships/slide" Target="slides/slide22.xml"/><Relationship Id="rId68" Type="http://schemas.openxmlformats.org/officeDocument/2006/relationships/slide" Target="slides/slide23.xml"/><Relationship Id="rId69" Type="http://schemas.openxmlformats.org/officeDocument/2006/relationships/slide" Target="slides/slide24.xml"/><Relationship Id="rId70" Type="http://schemas.openxmlformats.org/officeDocument/2006/relationships/slide" Target="slides/slide25.xml"/><Relationship Id="rId71" Type="http://schemas.openxmlformats.org/officeDocument/2006/relationships/slide" Target="slides/slide26.xml"/><Relationship Id="rId72" Type="http://schemas.openxmlformats.org/officeDocument/2006/relationships/slide" Target="slides/slide27.xml"/><Relationship Id="rId73" Type="http://schemas.openxmlformats.org/officeDocument/2006/relationships/slide" Target="slides/slide28.xml"/><Relationship Id="rId74" Type="http://schemas.openxmlformats.org/officeDocument/2006/relationships/slide" Target="slides/slide2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A67E-326B-46BC-82EE-2519F113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55D4-F10A-4FA8-B5E3-A91E8643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D9597-CFB0-4143-8DF8-4FAAEE68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DB127-C240-4E16-A05D-F70CE86A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2139D-BD6D-4054-94D8-E842CDC5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476F0-768D-4550-A2F4-4A940852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3C137-4FCC-43F9-A3F4-EC673D63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58C02-F199-4C60-A096-DB675D5D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80E30-3B8E-4F66-9F40-8355C0D2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4232B-915D-47F0-A306-5308AADC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BFDBB-8B4E-4AFF-B0DE-83C49B81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0FB79-1B89-4896-A435-DB4BB526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1531-20FA-4535-85E8-8EA41D34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477F9-5518-4137-9514-D874CD37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E146A-3403-4E9D-80BC-FD387729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E646C-9AFE-4811-8EDD-716ABEC0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5D5A5-8B7C-425A-BA2F-3DEDA734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D5ECF-F88E-4208-AE04-7321104A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A95B7-7AA9-4916-9911-55DF916D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7DDEB-3475-43D2-B563-C18C9E60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BA191-831F-4B65-AA36-122B0850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12CEB-F187-4979-A27C-106E5339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15EBD-4F38-4C1E-8AC8-5E70ECC1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55FC-AF30-4EDE-AD7D-B2111DDF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8D798-7266-4E56-9EAF-10B6A315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1E6F1-2B7A-41E0-B2E0-2CEAA925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F6A1B-3A07-4D06-B06D-D2BC3BC2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41739-8696-48DB-83E2-FA58CC59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33256-1452-4827-B9F5-D7B1C346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B02FE-D994-4AAD-8A54-F37B762E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C1E00-28A7-40E6-9860-4B63A435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61A9C-EA14-452D-B2EF-8ADAAFB4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0569B-F730-4668-8CB0-090A8E49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398E3-9C8C-481F-83A2-D22376EA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1331-73F9-4219-9BD4-24B3F960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0CEE9-D7C9-4017-AF02-4D6D8BDF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7C5E7-117A-4AB3-99CB-80213CB4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CF77B-FEDC-4C44-B920-A8554E10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A0EEE-4C50-4116-B919-B75B00BB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F02FB-2659-48CF-81B6-D9017679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6D710-4988-49DC-84A6-82B3411B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95EC6-F61D-4AB5-9E6C-FE04CCA7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50708-5205-4523-A5D4-01B51FFE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9F94C-9228-43A0-B24D-F12223EF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9232D-ADD9-4E35-877F-A93C93B0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F8B1-07FD-4652-B533-65198ED6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93A1F-70F2-4BCC-8224-4C3C1548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D060E-50E5-4957-AFEB-F577B17C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0CFE7-22A1-4ED7-9578-3A6610B3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BF82D-4DEE-45C5-AD8A-FDC4DA3E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FB530-6DA8-46C0-BF41-D8C830CA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C75B3F-75DB-485B-B5B7-69DCE9B4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4AE464-A20A-419C-9F13-67FBED92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D0D886-A693-465B-B844-8D18BC7C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364564-D692-4CF2-A498-6DF4F2EF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EA6D5-BAA2-4323-8163-2A0E6AC6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8238-0A4E-4D3A-932A-2F007810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21D146-6D8F-4663-BA6F-DF891325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85D92-A48C-47E8-9709-243335EA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F13C9B-B0ED-48B2-A66E-96E689DA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B5748-A5D1-46FB-A553-3179AAB4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A8CA2-65ED-4820-AD63-62365FCB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BD725B-4A34-4950-8BBA-BDEAB8B3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AE0313-3AC5-4B18-8607-E03886FD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2742DA-8DB6-4E0D-B074-47F26D9C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F9BADF-8788-4B59-857E-C4AE96F0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F8771B-E151-4A83-A28D-FA460DF5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990A-37A3-4ED8-91EA-56BF4C71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752701-BC25-4F4E-BFB6-5D558F14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DB6936-B48E-4B05-B87B-2D340062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E317E8-DFBF-4186-A6E8-ECFFC5AE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4B2007-205B-43E9-8D64-30F5E057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9301D0-E303-4FF6-A024-42336803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28D9EB-45E2-4949-9987-D405D86B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E892AB-BE5C-4858-8947-0EFD75BE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DEAD70-C213-431C-8B23-6A8B3E11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DFB406-8CF1-470D-890D-8E3D3672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8F7ED3-38FE-41C4-BA53-F4818188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7793-D01F-4625-A8D4-16045BC1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417766-B93B-42BB-8399-144FF1A5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491BB3-C306-489D-AEB8-F5FB2C54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75DD2E-0BA1-46E7-B732-C0CA1EB5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830330-BF15-42D2-AD20-5D593ECF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5EEB69-0D20-4E66-B4A7-118E80FE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7267A9-F1E8-4FBC-8017-4CAA6053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EFA947-4CB5-4FF0-98C3-E628C21C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26A66B-3541-4045-A102-29305CAC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17ABA9-32B5-4E1E-B2B5-21EE959B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85EF13-CC70-488A-B260-CDB147BA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61A0-5EED-4131-8288-A5CF4CA2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982B29-06BE-4C2F-845C-E30AB612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EF0618-1773-429C-8F94-A9A7231F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D49BAF-65FB-4260-A7A2-C5BD0D91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C198B3-79E4-4E19-9011-79D0F64B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52F650-537F-4C49-A72F-B8DF565A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05DF6D-DED0-4594-A005-50F4BF8D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849745-6C28-4212-9DAB-B6BFF3BB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A852EF-D6DF-4712-9505-CB7D881A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FB14A4-6AA1-4CBD-9DB6-AD6FD45C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1722D6-1CF0-46F6-90CC-2114762B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1F77-1BAE-4EA4-8762-D9CBA76E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3D1EDC-9D37-4350-BF44-C0C4C9BF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18394D-C9AA-4014-A343-7B7F043A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C79211-3B43-480B-878E-F520927E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4A7E4D-3ACB-4D5B-936C-E4327AEF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37443C-66D6-4564-B7EC-3BF67980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884FF6-5796-44B0-BF89-FEF75647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0B2BA9-82A9-49DD-8EF3-1E8B5F52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8E42FC-F8FC-41BB-94FB-C19E5789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AAB26A-67D5-40FF-8274-F06F01CD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74D1D8-298A-4E59-839A-26874BDA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1057-B390-4F43-9500-478A6652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2336-B4D5-497D-9D28-CF68272A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1386CF-76EE-427A-9018-22732101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98F2BF-4BAE-4705-B3B4-552DC00B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288B58-708F-4CE6-A72C-3AE8C647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5E71D7-1EA1-4155-95FD-A7AB59AA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53BCB5-A962-4ABD-93DE-4908444E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402746-0883-4028-85EC-E16A70B6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AA40BB-F038-481F-985D-08D90E7A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15A6D9-29A6-4E77-88EB-40050C5C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65D594-99D6-4D4D-9BBD-58DFC8F8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C3EE18-2912-43DC-8429-5BEC617F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6730-7B1D-487D-AFEB-704C68C0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75BB50-EDF4-4298-9A13-C856AB1C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38F53D-FDB8-4C2E-99A9-48A3584D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873338-B414-4504-8170-6CA4F9BE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E2AC4E-EBEE-4B09-816D-044A92F6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C32357-F909-48A6-B459-727F7226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B6BD70-1AE4-4888-AA13-1664AF09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2CEB59-8198-4638-AAB9-951C04E4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10B9A0-67A3-42F4-99FA-4613D82B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4A8487-1496-43BF-A050-72C88158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5F6297-80CD-4196-B2A9-253E6901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36E4-9CA8-41D3-9CC4-6E04098D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831F59-9B75-4426-A07F-562FDA96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75BBF2-820E-4B14-8FB7-FEBDB886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FD5654-D809-4AE1-9BA1-8E78588A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8FA546-F503-4780-BDB2-B6659B0E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097222-746A-42BD-812C-62F5CD82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6207FB-CD3F-4462-9B74-C0A34377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DCE337-2AF8-45E8-9128-8D3E26DF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B5F734-BABB-4E91-8DBE-51EDF4FB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63247C-A6E6-44CC-A7D7-0F506D79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8943DC-7369-496D-BCD2-65E5A8EA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0AD1-2A19-42C7-A68D-5ED74192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BFEDEC-1FB8-4518-9B5B-549A1EA2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1F393B-941D-4177-8C05-BEC9FCDB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C91CB2-6B13-4D1D-B942-84F870D2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DE9338-0041-4FB6-A26A-6CCBA439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94B8CC-CB6D-4BA1-8EBF-B12AA88C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9FFA7D-38D0-446E-9FA9-5E930644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22DA68-47F2-4093-BAE7-0A158CBC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9BD4CF-BA08-4CAE-B622-EE73C3D6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14D5A3-4E38-4435-A69A-9A4DCBC1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AEA315-933A-4C87-A729-78C4C8B4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BD57-A154-4A1A-8095-6FF41E6A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D1091F-9763-450B-9507-3F3242DF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505044-E03A-4B45-964B-5E137920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4FDE9F-B56E-4151-AEFD-87CBE230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97F4B7-160A-4081-977B-F193A99A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C8DDE0-06B0-4E8B-A874-10076B0E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E7BF80-32BF-402D-989D-6A6EB407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215326-81CA-4526-8F38-70D3B8D6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DC3652-4F89-4474-B859-75168F00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68DE01-13E7-4CE8-9447-D8B949C0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1BD550-A260-4CC5-8283-CFF4B03D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50FFB-338A-48F6-8196-039B2FFD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D80F68-B715-404D-BC39-6AC7A752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572623-C4F0-4F30-B870-D987FFB2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E754A3-CB6D-46BC-B966-106C61E2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087C1D-8F0C-450E-94AA-A4655C7D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43937E-CE5B-4121-844B-B17FFCBC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0F1CCB-326F-4392-8297-C975CDE7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7FC641-EF00-48FE-A121-A55ABAC9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538ADB-54D3-4BE7-90C3-35CEC1D7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4DB4CD-4CB2-4B5C-ADCE-2B8247F0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68823E-49DE-49A0-827C-6BE0D836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5AA7F-92D0-44D1-A7E8-BAF283BE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065723-A753-4C36-88A4-B9B962F6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95D961-E61F-4702-AF35-9605252E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3D54D5-A63B-4A5C-8744-90BB80AF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22C24D-51F8-4350-B1D7-16772338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984DF2-99B6-483E-AC08-A2DD7905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E67DE2-9736-4250-B7D4-6F35164D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C858B8-6BB7-4AE8-9BF0-5057E105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77F6E1-EB63-4174-A02C-D49ECE07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D261C1-4B7D-4F63-A2E6-F37F880A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2727FE-419F-4209-B049-23B5541D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8D36C-A984-457C-8DE1-3F523FB8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461888-CA32-479C-9C66-3BE8C8CD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5A5A9A-4055-4CDF-845F-CC2D5C70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1073D4-52BD-49C5-8D1D-CFD04E9E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A00A53-CC42-43F0-BDB3-B8552104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6E2509-B7AE-4A25-8021-B6AA891C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6487B1-6B76-4A5B-937D-009BA65E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410C69-FA34-4FA4-A90C-95A376A7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24E248-2E49-439A-9E29-03A5ECFE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182759-B109-4076-8F9D-95E03B68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9F6E6E-C3F4-4EC1-B380-CD3D6661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30EA4-3A0F-41E3-A2A9-4B1175C3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DF1DE8-4935-4FF0-A935-7F6062E7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CFF3C1-E9AB-4CA5-A287-AF96F405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1AF8E7-BB0C-4D5C-A836-C906D08F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51487E-2E12-4CE6-99A8-2E5FAEDD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55AE81-1DA4-495B-A0FF-B6B076F8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7F063B-7096-423B-9A70-D06FADB2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09D5AD-64F6-429A-AFED-D6BD925B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8C6697-13DD-41E4-B8FF-00E248DB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F4BD7D-D4A4-4586-94E2-164519F4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481569-3850-49B4-89C1-46415D79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2F548-F6A1-493E-AA4A-9DBFC916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A7F2B4-DAF8-47F4-93EB-05661220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63EBE8-0DDD-4253-B6F1-CB31ACD9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B6C0AC-EC23-4657-92F1-64857E12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EAF705-B61F-4DAB-AFA3-9235910A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35B386-7CFA-4FDD-A0FD-190C2441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7F2AFD-FA35-4050-87A2-AB42638B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7B7BE4-9927-406C-BBF8-F8326B37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1B7059-1B1A-44BF-BF50-FCADF151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3E7278-471A-4B32-93D1-45CC75C3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F759CE-A966-41A1-B644-27B74B8B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83FE-FA5D-483C-9549-72649355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E905B-0D72-4C71-A37D-905A8355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F24AC0-A06D-4121-A28D-F82413B5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102B34-C2DF-4EEC-AC59-2C76DE15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32BC93-A169-45A7-B73D-57B731AD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060CF2-8781-4718-BC85-6D054F01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0098D3-EBCB-4AED-B082-81BB17C9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978AB4-AC04-4B1D-BC18-E35D9E13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6D9C9D-FD22-4A08-9794-D52D2B36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12747F-2B73-4F03-9F66-0C273079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7FA8A7-A465-4547-9614-8A372BB7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B4B153-919B-4167-B498-AD1FAF03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D069A-D8A1-495D-ACD5-25830662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E787BC-8FFC-479F-9C73-E3543850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778118-689B-4751-AD9F-59A92ACF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CA590B-3117-4D18-8C19-2CA36831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D20FB0-EF98-4F75-8534-3016EA93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69A490-39F5-448F-B9BE-F0BF986F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777494-6324-4391-996C-C4FDE85F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4E5AAE-F599-4CBA-A12F-F132E985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F17C54-176C-4A18-9D80-648D8DDC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D7AD6C-1C93-4DDB-83CE-42452A61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1F510D-AF46-4E9A-AA54-1296B6FB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DE25F-306A-4D58-B624-399C23ED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D608A0-8C1D-4179-BC42-A7DE6ADF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D56F09-5DDB-451D-AAA6-871F8304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DD1D92-D37E-487E-AA1D-C36DCDEF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1C49D9-1A21-441A-8C8F-DF895BE3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9BC55B-F81F-4CE0-9084-2D8A780B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8EED7D-8177-44D3-AC36-8CD0FB54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9FC903-45D1-45F0-8B56-26F65E73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C92805-27FF-4F59-88AD-3632BB0A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D912CA-F17C-415C-9668-5EB12A1A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BC024E-7FCB-4E0E-B237-EC882CBD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08478-0BB6-412B-AED3-48D6BD9E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2A6774-F6E7-4D98-9005-36F6B2D6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8F8723-084D-4793-AE39-A17ECFDE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C7D04F-899B-4CA5-8139-EFF593ED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03ACB5-C0B7-4C5F-8744-E8333DEA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50C8D9-729C-45DB-A326-BFC11B1D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873A9D-9A5B-4CDC-9982-5FDF68FD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8D7011-9043-4941-AE3B-B6453448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E233AA-8EA7-4132-97EE-9CAECB83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C36B32-6385-415F-A5F6-D0CA85F9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C126EB-13FC-40C1-BC02-1D906B95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E931F-98F6-4430-9DD6-F49977A6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E0F72D-41EC-4A44-BAC7-1896B7C2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943FA8-910C-46BB-87D1-13C02725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B99006-0FFE-4D6A-87BC-9B63A6F9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E23501D-F99B-4067-9D83-37E154CF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B3AC88-0153-4B20-B724-34FBE452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928025-E43A-444F-AFC2-5DF93D4B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D01B83-73A2-4B50-9787-51063344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1B2F49-9166-44D5-A741-0A501412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AD7D80-C9D4-443B-9C6F-13E3C8A8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A1B8C9-2D49-4DAF-8FF2-E846C471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04E5F-DA1D-4E00-875C-36825283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0ACAB3-62F0-48C1-A0D9-BFD77999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CE0D70-2059-42BB-9390-9237FF02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9278EF-82B5-4889-A72E-415841D5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3243E3-5474-4430-8B88-B37565BA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2FA026-950A-43FB-9931-7D8A8A5D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B212BC-D1E0-40A2-9E7B-480A68AC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2CFF1DE-6A43-40FD-97E8-FE4AE4DA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D6EAFB-7A32-42D1-B95D-A5C60DFC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F6C11D-3DCC-4C5A-B9E7-2F3C33D0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5EA52EC-3ED5-4D99-9600-D4796B22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07557-E199-4806-B8AE-EF073354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EF8DBE-A9E7-46B0-A68E-2AA79440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05061B-CE6B-4EF5-B375-2EFA411F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A47984-416C-40C5-A7C8-61B941B2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E6F42D-315A-40BE-B968-810C291D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ABAF5E-DE43-4605-8AFD-B9D8D02E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91AFF9-F0FE-4535-A713-D802B4C8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D75F57-2393-4573-9581-6419B99A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959F5E-8E0C-4FB5-8611-6E466930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406377-8522-4FBF-B902-9E8B5C56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0B0FEE-3EE5-495A-934C-A4916FC7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A9474-76B4-44AA-B65F-AB0D2CB9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C9A562-F11E-4DAE-AC40-2B582152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D186CB-C4BB-4193-9A5C-F13E72B9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A5CDC8-1645-4050-9D8F-68885178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E357BC5-1DFD-4BA9-B718-0CDB74D3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E4B0B6-2BF5-44D1-9FF5-7C2227A8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A1A222-D548-4883-BAB2-8C1822ED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4140BDB-5D59-4692-88A3-3E90AEC3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FC3C3DB-FBE6-44EF-9412-04349110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40CA1D8-C5B8-42AE-9911-6BD7C770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0FF205-7AB1-484B-8A8B-026DBA9D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C8507-DABD-46E6-A289-8C7CDF42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2D2B47-D866-469A-8304-DE86219A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7DFCD0C-9455-4BFD-93EE-32CA29C1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700A06A-1076-454C-B325-458329A4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9744336-CCD0-479D-B081-E7380D61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DADC7D5-C689-4853-89E2-98CF2FF4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2FB7093-16AB-4A4A-8BA1-774E2C06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79BCE5-EE42-488C-A960-8AC50043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1F9E776-D740-4AF6-877D-DD16061A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D14DDE9-A34D-472B-83D4-C035788C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C3CBD91-F4C8-4DF0-B6C4-B52B935A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7DC94-5BFA-4C53-BB05-D96DAADD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61BE2C8-7B8E-497A-B13A-1A3C2822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15B70C-C24B-4529-8E75-F96CA2B8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402F5B-3B60-4DF1-BCAA-0D8277CA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DA3A48-FE10-49E5-95F9-31B1445E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FB3FD9B-2FB8-4ADF-9F6B-55353976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12C3BB1-8C6D-4F07-9548-232420D8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C86B749-B02F-4481-A64E-E793FA5F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FD5C8FD-AE9A-4A72-8D17-E2525CA8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DF012F2-3E50-42E2-A343-17C471D3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5D54B7-7DCB-4CF3-B799-D3EE9C9B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ABE-0741-4863-8905-11801CF0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988D5-18CF-47D8-A608-2351EFA5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9027731-C996-4FE7-B658-71DD4A91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8643A2C-9E48-45BB-B52E-B547F9DF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43C643-E6F6-4197-9F39-51043B4C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88FFF4-D3D3-46C6-A5A7-0731CA4F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4C06F6-BACE-4565-BEA6-56CF9EAB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3412038-79DF-41C1-866D-F1C6F19C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5F3E2EC-B3F2-4240-ACAA-2B689A44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84234E1-6968-4DBD-98B2-02CA9CCB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063CE1-D2FD-4B87-BE85-4A0B41DA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873E68C-3198-4826-8D64-1FC8E7F1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44F8D-A5F8-4F72-9707-94601F8B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E54BD82-6FEF-43DE-8BF7-44DCDF81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3278978-8119-4ACE-AEFA-FD19EECA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FA83397-B0FE-439B-A8EA-5EE9BCFD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1EB23DD-6191-451C-824F-D0112D16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76B59B1-F0D1-43A0-A231-1E3BD6DD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BD60317-FCCD-4BCD-84AB-0F487585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BFD648E-8296-416A-AF1E-0A9E518C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1A573E9-5307-4A2B-8938-2FA1E1FA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726F8A2-2132-42C8-9A48-251D995C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F9390B3-C56E-46C3-8ABB-AF2FAF6C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920A6-4221-4E6F-9E90-98CDE434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0F1272-8BC1-4946-B0DB-36BD5876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F55D10-C6A9-465E-93B5-7B9BD228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DD86A64-6F17-49E4-BBFA-F45F98CB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B164271-046A-41FE-9338-9722280B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1E1AC4E-D011-49F7-8161-8536769C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CB55661-B4F7-4FA5-B30E-BE6C4C39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C8C843-C9F5-4448-8DE0-DDB5A591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17FA37A-48C1-4426-9215-22630E2F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8EF2F25-B527-4ED3-84AE-B2871415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0ACEBA1-3F09-4A2F-A690-BC238665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32945-0ABD-4616-8A75-F57EEF7E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6F219C1-F8BB-47D0-8FD6-B6E6D9D1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ACF1CA7-4A51-4716-A3C9-31A86C72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6E62336-D086-449C-BD7F-6CFF9CB7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EE84D26-2A06-41D8-AB0A-9F87CB40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926D4B9-5DAF-4C15-A0F8-11CCD2D4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664CB18-B912-4E73-8593-A95F75BC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0F42F13-2ACD-4F1E-99D6-CB85A913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C6BA372-382D-4FE5-AEBD-91D27B5E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836C0EB-71EE-4E83-AA35-786F2420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74981AB-4BA4-48A0-83D6-10815262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C0644-9D3C-4D23-97B2-99386D77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F608216-C7D1-41AA-B1E7-5B2603DF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1386E66-9FFA-465F-AE3A-F7A59A5A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009C44-F868-49AF-BE0A-934EEF3D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923A1B8-DA3C-404A-BD08-A89B3992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27C367C-6F0B-421F-A4DC-645E57C8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F87296D-C9F9-4542-A72C-E76BE5EF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6A5018A-39EC-426C-B1CF-9B37040E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88B1ED3-A001-4605-9016-15A879E1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650F2E3-3EFD-4FAC-AB77-D4A6B061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E62B303-4190-4C54-866F-AA17B7F3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6C0AA-C902-4640-A23E-8F6C33E9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5AD4B86-7EFA-4153-A4EE-AB6C1648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F991CB1-5513-42F6-93D8-69AD188A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BD35E43-9B78-4CAD-8BD8-F0CC24FE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D44A0C5-2D50-4591-B9A8-94C4948B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AE36AC4-3610-49A3-8E26-28E72A62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0FB95A1-EFD0-455C-A25D-F70FD100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5EE2DD6-B338-47CB-8233-AB4EED94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44ACCE6-F849-4E61-A55D-EA820B79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39F4C11-B094-4088-BD96-A0A750E4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4D9860D-4A7A-40C8-878B-8D091028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D4284-7450-4852-ADD3-6FF5168B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79B1FE3-711F-4E00-A83B-97B7C8F5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ABDD55E-0E15-4578-8AA3-6B57AFFF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6365A61-CAD4-4B6D-9CB5-33BFDBCC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079FDD9-8F7C-46C0-B953-F9F11371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5098CC9-C161-438C-8E59-FCE8D758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E3717C1-B15A-4465-82F1-B5F434B6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284C6EC-E051-4206-8C8B-4007C01F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D47D6E3-B724-4517-9F77-7F80F3FB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0569A7C-0473-490C-A8B9-71652B8B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DBC1DE4-C818-4B01-972C-625AFDCB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85DBA-0D6B-4948-BD72-8964367B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1BB0C63-6521-4C21-BD23-D52D9285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9E35938-AF14-4D78-B587-7BE9CB43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8565331-6BEF-4212-868A-436A1927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B73C914-1D7B-4FFA-99F9-D87D4623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022BE1E-48F8-47AB-BBC6-37332A63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3FF5ABF-F6E5-4D87-99B2-C5D67C82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A8865BD-5145-45C9-A96C-149A10B1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2D74B8F-AB1F-43EB-93E1-8B0DB509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2F221BA-A97E-4040-BF9D-E1B84D6D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D783997-A0F2-4BCC-A228-96E23117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ED1BE-A5E3-4938-AA65-335B33D7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178E712-224C-407E-BDE4-E2E965AE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4EFB323-FE2B-4B2D-AF4E-97EC813F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91E1596-C9D3-481B-9928-7DA7D13A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21330E1-DAFC-4702-9984-2CBAA1DF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9105D86-E1A3-4B72-A373-CCE5F425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0B80453-C511-4CC8-B824-6445C371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3ABBD3B-D511-42DE-884B-C776D326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C73ADAF-44A4-4D5B-A31D-FC8994FC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8CCF74A-0BC9-4733-8DB2-31431E73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98BF4CB-8139-4A38-A45E-737D2B3C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C46B7-C4CF-4038-8E22-5C549F27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95E2658-4020-43BF-A443-8F4850B8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FB83E26-4B7E-40CE-9FF7-A229C9A6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F72F418-C870-4A62-8461-9A48259F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91824A3-05E5-4ADB-BFBA-9377654C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255B0AC-E3B2-408E-ABD0-6CDE914A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D70A339-BF45-406F-A116-02BBCA0B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5414A03-9890-4095-866D-21BE52C4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F5CD07E-52F7-45A4-B1A5-CF811797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9E0EEFC-60EF-43F2-8983-03480E39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6A3BEE8-D125-48A1-A298-25957310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D626-AEE9-4DF5-A309-476919C7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4AA86-4B90-41B5-8667-89CE1D69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DBB86F1-1BAB-40F2-8DE4-BE06AFB2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9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9E91FF3-F58C-40AD-817C-BD42C258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D531D5A-CC91-49F1-A2E2-2FE31EA6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00991EE-E6CB-41DD-AC3C-0B001846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7A04B8A-0A43-4D46-BD22-E150CCC7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00E7412-7BF1-406D-8444-CECB0A33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77B1361-0311-4F93-9522-1D36D647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C9CD5E2-6ABE-47DA-91B4-3C86AE99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7F7CA02-6D39-42CA-87E3-B27F1679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F7247A5-F3C7-4769-B837-02EA2786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FE99C-97EF-4159-9443-0B1DB83C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43625CB-CF4F-4CE2-8ED6-6801FA44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E49A330-D8E1-40A6-8C76-E3251524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B019E11-45A2-4BC3-BDB1-BB1AE00F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DAA4492-AAB4-4507-BD60-780D563D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9281427-692C-4038-911B-E19E138B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B743551-24E8-4931-B7B2-804BE9BB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211AF41-F9CB-4D05-BDBC-4F32ABB8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4649492-E170-4587-9602-0BC5B2BB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118098A-C454-4693-9155-0F308424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8E61E5B-EEC9-4AB4-A227-B876E5EE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1804D-7E81-4D8D-AD93-48FDEA58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1E27B64-C83D-49FA-A301-C315B027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E5E1EF6-16FB-4BF8-8604-DD34EA55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8036F89-97BC-4BDD-B356-3DFB8D5B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6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D774655-136C-473C-9AA6-13BD0C67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69C7DA0-BB7C-4D9C-AD9E-BC4916F6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E66638B-E74A-4CE7-A48F-F2B08955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A6CEFA0-AA2D-4816-878E-E0169479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0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1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2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AA4A5C1-D64F-4926-B1F5-B6D7F85A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8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9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D0195DB-A18C-46DA-883B-2E019215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8B1C0-5947-4D3E-A756-C7A78E40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0B478-7AD7-40A5-99FB-33ABCB46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EBFBB-F444-4962-80B2-49AE73C6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F2963-BD58-4AD0-8107-B249175D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96370-B2D1-4744-A1AF-7D1F4BF3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60D46-E53C-458A-85EF-601F8E3D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6AF87-1310-43BC-8482-F3CEC157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942E-9885-4330-8B91-FD2E266F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1B99E-75DE-4AE5-BFCD-A0DD2E72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90A13-0A90-4943-9F5D-95B4F019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DE713-1911-46EC-83A4-48DC118D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F5C02-1CB7-416D-8B9E-456D0E7C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49841-446D-4AAA-8D11-3456723C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8B773-DE6A-48DB-BD4B-47535381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60A63-8649-48BA-A97A-3BD0F234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9EE79-3703-46D6-ABC2-A57039E8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AD0A5-A1A3-4D89-B155-AD152F29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3F94F-8A78-428F-B968-C6F704BC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95D1-90C9-4917-BFE1-0E03F7AE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6D13F-2871-4207-B968-2CE18111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90681-575B-4DD2-995C-00937E48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8A76A-D7EA-4ACD-993A-7CE2464E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B08CD-275E-4BA1-829B-F2B79D66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CD76A-B902-4D36-BDB2-4008BF90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21068-885E-4E69-AE84-51E40DED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B710F-83E9-4A48-9E6B-3100C4BB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51F5D-EC59-4536-9F8F-853AB138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E1853-4CB5-4478-A951-985E8A87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5FACB-D84E-44A9-A896-22B539F2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7C21-8A5E-44FC-B8DA-B0EA51ED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D846C-373B-4C87-A8E3-737F5989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B589D-D9D6-42C0-8B14-FC0BA235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BB97C-31C1-4E3B-BE85-A8645DDE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813D2-9BD7-4075-871B-D1FC4C8D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9C474-DA1B-4442-8D51-9B5F19DE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59284-1C69-4F2C-BC81-29B1F7DA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8358F-00AF-4623-82A0-D6AD1F96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4689C-FBBE-41AA-9A41-C06E7D38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8068A-A4B8-435F-924A-194A0D00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C24AD-A54F-4BFF-B7A2-0D2041DC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DFD-951B-4A99-BC7D-84F7532A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8646A-4CAF-4442-B7F3-BE286721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12EC8-C2AC-41CA-A516-58AAE17A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9E682-7046-4AFA-8E76-0AB958FF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6331D-40EE-4A4C-AD76-B9DDD1EA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2D5E3-4826-4EA9-860C-82B234D7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510F5-EA0E-4239-B8E2-7D042F61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EF946-C551-43B8-8C81-DF4EA312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3DF89-2001-404D-AC69-5AA4A0E1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7992A-2EC7-423A-ACCD-CCD37E16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6C6E6-DD1D-421D-9546-01D24985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EF59-A471-4907-B823-7EF8DBC19CC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52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52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53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53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8441-44D3-4506-B7E5-7F3BAD206C4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58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58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8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8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8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59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59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01F5-693C-4091-929C-36C1F0535E8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64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64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4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4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4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5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65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5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5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5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5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65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5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6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6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6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4BBD-4A91-424A-B4D8-EBDB65FC17B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70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70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0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0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0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1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71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1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1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1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1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71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1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2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2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2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225B-7C0D-4D68-95CB-CFAE8D807E9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76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76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6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6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6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7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77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7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7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7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7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77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7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8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8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8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AC77-3190-40BA-B917-94A1620D6E7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82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82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2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2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2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3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3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3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3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3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3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83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3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4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4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4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3698-C06A-498F-BEB7-CC125534FDA3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88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88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8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8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8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9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9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9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9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9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9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89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89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0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0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0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714F-BA4F-47B2-8502-2467A52FE3A3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94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94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4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4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4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5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95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5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5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5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5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95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5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6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6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96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4D04-2F56-44AB-83A1-F2CF530A94B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005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5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ftr" idx="53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sldNum" idx="5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7EE2-2337-44EC-8F75-48A8A5509B58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049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0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 type="dt" idx="5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 type="ftr" idx="56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 type="sldNum" idx="5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5034-E25A-40FA-8EC0-A291C2533E11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4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5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5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E9B8-63A7-46CC-B5B2-02C3B8310A0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093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dt" idx="5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ftr" idx="59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 type="sldNum" idx="60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4911-18DB-4820-9725-31F2B0313631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137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dt" idx="6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ftr" idx="6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 type="sldNum" idx="6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10F4-1EC2-473F-A546-243CC5D6FFF2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18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 type="dt" idx="6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 type="ftr" idx="6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 type="sldNum" idx="6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1A5A-A5C3-4DA5-B7C7-9529C361D3C0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 type="dt" idx="67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 type="ftr" idx="68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 type="sldNum" idx="69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BD55-8A81-4F63-85F9-D8187D0F3C6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6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267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268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269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4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275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281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6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7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8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CCEF-08F9-45A8-B0E2-96868F549D77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0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331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332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333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8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339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4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345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0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51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52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DCFE-0BFC-45E4-80EE-ABADBA4F62C8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4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395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396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397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2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403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8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409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4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5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6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EA49-4FD3-4D6A-A8D1-69EBE10745D8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8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459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460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461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6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467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2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473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78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79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80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E462-E15D-4531-A3E6-B512218A369B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2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523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524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525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0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531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6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537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2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43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44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CB56-4B27-4472-A538-75DD0CC6848A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6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587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588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589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4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595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0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601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06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7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8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4B0C-DC37-4D8F-8F05-74B90F37EBAE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0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10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0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0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0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11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1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4E33-E3E8-420B-9BE9-4077F1837E2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0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651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652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653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8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659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4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665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0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1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2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E4F9-2E11-4DEB-ADCB-446B3ED5022B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4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715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716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717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2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723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8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729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34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5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6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1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F40F-396A-4231-8680-7AD15122C965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8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779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780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781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6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787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2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793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98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9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0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0E7F-AC22-4381-AFFE-963A04CFC55B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2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843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844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845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851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6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857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2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3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4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9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0379-668E-4BB8-82D5-A03AF38F524B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6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907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908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909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4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915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0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921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26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7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8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3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6E30-8431-451C-A1BC-C6B12D5B54C3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0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1971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1972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1973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8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1979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4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1985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0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1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2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D612-286C-4EBB-86CA-C5C630492A9E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4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2035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2036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2037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2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2043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8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2049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54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5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6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7D95-8244-4458-A730-A5DB82229871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8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2099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2100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2101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6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2107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2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2113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18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9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0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E2E6-4C0B-45B5-99D2-A3E182E9E459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2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2163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2164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2165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0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2171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6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2177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82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3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4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 type="dt" idx="1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9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773C-289B-4C57-B0B3-FD0207B7D8ED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6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2227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2228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2229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Oval 5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Oval 7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4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2235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0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2241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Oval 17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Oval 19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46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7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8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 type="dt" idx="1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2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3" name="PlaceHolder 5"/>
          <p:cNvSpPr>
            <a:spLocks noGrp="1"/>
          </p:cNvSpPr>
          <p:nvPr>
            <p:ph type="sldNum" idx="1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1978-8619-473D-822A-3F6F1E26A6AF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6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16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6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6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6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17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7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8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8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8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FA77-437F-4762-9582-D387C836871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 type="dt" idx="118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 type="ftr" idx="119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5" name="PlaceHolder 5"/>
          <p:cNvSpPr>
            <a:spLocks noGrp="1"/>
          </p:cNvSpPr>
          <p:nvPr>
            <p:ph type="sldNum" idx="120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057C-12AB-417D-A369-02CFECE8A369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 type="dt" idx="121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 type="ftr" idx="122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 type="sldNum" idx="12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99BC-4CF7-4C1F-81C9-D45FFD0E53D6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dt" idx="12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 type="ftr" idx="12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 type="sldNum" idx="12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348A-8B0E-404F-AFFA-A5C0DC52AEAC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 type="dt" idx="127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0" name="PlaceHolder 4"/>
          <p:cNvSpPr>
            <a:spLocks noGrp="1"/>
          </p:cNvSpPr>
          <p:nvPr>
            <p:ph type="ftr" idx="128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1" name="PlaceHolder 5"/>
          <p:cNvSpPr>
            <a:spLocks noGrp="1"/>
          </p:cNvSpPr>
          <p:nvPr>
            <p:ph type="sldNum" idx="129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1389-B980-4A1F-BBE0-982D18C7624B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 type="dt" idx="130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 type="ftr" idx="131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3" name="PlaceHolder 5"/>
          <p:cNvSpPr>
            <a:spLocks noGrp="1"/>
          </p:cNvSpPr>
          <p:nvPr>
            <p:ph type="sldNum" idx="13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A223-7B3B-4229-9524-00CA4848DD1B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22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2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2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2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2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3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23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3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3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3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3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23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3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4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4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4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62CA-5690-4B5C-8356-D8B28A08EC7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28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8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8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8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8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9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29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9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9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9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9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29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9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0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0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0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ECED-3B0C-4E5C-912F-E04739728F5F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34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34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4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4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4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5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35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5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5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5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5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35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5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C771-7436-4EA6-806D-2984A9925765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40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40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41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41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A164-377F-4393-9AB2-39018D8D8C85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46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46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7" name="Oval 8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9" name="Oval 10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47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47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9" name="Oval 21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1" name="Oval 23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B142-3C1D-4853-B3F2-F5D7F233D20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9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8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4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1766520" y="-316080"/>
            <a:ext cx="7162920" cy="22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Waarnemin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 type="subTitle"/>
          </p:nvPr>
        </p:nvSpPr>
        <p:spPr>
          <a:xfrm>
            <a:off x="2050920" y="1267920"/>
            <a:ext cx="6400800" cy="533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= Veranderingen in de omgeving kunnen ervaren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We leren vandaag hoe zintuigcellen in je zintuigen de </a:t>
            </a:r>
            <a:r>
              <a:rPr b="1" lang="nl-NL" sz="3200" spc="-1" strike="noStrike" u="sng">
                <a:solidFill>
                  <a:srgbClr val="ccecff"/>
                </a:solidFill>
                <a:uFillTx/>
                <a:latin typeface="Times New Roman"/>
              </a:rPr>
              <a:t>prikkels</a:t>
            </a:r>
            <a:r>
              <a:rPr b="1" lang="nl-NL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nl-NL" sz="1800" spc="-1" strike="noStrike">
                <a:solidFill>
                  <a:srgbClr val="ccecff"/>
                </a:solidFill>
                <a:latin typeface="Times New Roman"/>
              </a:rPr>
              <a:t>(veranderingen in de omgeving)</a:t>
            </a:r>
            <a:r>
              <a:rPr b="0" lang="nl-NL" sz="3200" spc="-1" strike="noStrike">
                <a:solidFill>
                  <a:srgbClr val="ccecff"/>
                </a:solidFill>
                <a:latin typeface="Times New Roman"/>
              </a:rPr>
              <a:t> omzetten in </a:t>
            </a:r>
            <a:r>
              <a:rPr b="1" lang="nl-NL" sz="3200" spc="-1" strike="noStrike" u="sng">
                <a:solidFill>
                  <a:srgbClr val="ccecff"/>
                </a:solidFill>
                <a:uFillTx/>
                <a:latin typeface="Times New Roman"/>
              </a:rPr>
              <a:t>impulsen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04075"/>
                </a:solidFill>
                <a:latin typeface="Times New Roman"/>
              </a:rPr>
              <a:t>Ter vergelijking: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04075"/>
                </a:solidFill>
                <a:latin typeface="Times New Roman"/>
              </a:rPr>
              <a:t>Geluid van je stem wordt omgezet in data/bits/(0011001) omdat jouw telefoon/kabel/satelliet/computer/mp3 alleen maar bits kunnen lezen en verzenden.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04075"/>
                </a:solidFill>
                <a:latin typeface="Times New Roman"/>
              </a:rPr>
              <a:t>Zo moet geluid/licht enz. omgezet worden in iets dat jouw zenuwen/hersenen kunnen “lezen”/verwerken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04075"/>
                </a:solidFill>
                <a:latin typeface="Times New Roman"/>
              </a:rPr>
              <a:t>Geluid/licht (=prikkel)  kan niet door een zenuw verplaatst worden. Maar een soort stroomstoot (=impuls) WEL!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04075"/>
                </a:solidFill>
                <a:latin typeface="Times New Roman"/>
              </a:rPr>
              <a:t>Zenuwencellen communiceren door middel van deze “stroomstootjes” = impulsen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02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Vervolg werking van het geho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In het binnenoor ligt het slakkenhuis met ca. 16.000 cellen met piepkleine trilhaartj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De trilhaartjes sturen de geluidssignalen naar de hersen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Als haartjes kapot gaan, is d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persoon voor die tonen/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frequenties doof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2" name="AutoShape 5"/>
          <p:cNvSpPr/>
          <p:nvPr/>
        </p:nvSpPr>
        <p:spPr>
          <a:xfrm>
            <a:off x="76320" y="-4222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23" name="Picture 6" descr=""/>
          <p:cNvPicPr/>
          <p:nvPr/>
        </p:nvPicPr>
        <p:blipFill>
          <a:blip r:embed="rId1"/>
          <a:stretch/>
        </p:blipFill>
        <p:spPr>
          <a:xfrm>
            <a:off x="5200560" y="3657600"/>
            <a:ext cx="3943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0" dur="1" fill="hold"/>
                                  <p:tgtEl>
                                    <p:spTgt spid="25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4284360" y="0"/>
            <a:ext cx="4608360" cy="32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Slakkenhuis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binnenoor)  </a:t>
            </a:r>
            <a:br>
              <a:rPr sz="1800"/>
            </a:br>
            <a:r>
              <a:rPr b="0" lang="nl-NL" sz="2400" spc="-1" strike="noStrike">
                <a:solidFill>
                  <a:srgbClr val="eaeaea"/>
                </a:solidFill>
                <a:latin typeface="Times New Roman"/>
              </a:rPr>
              <a:t>&amp; </a:t>
            </a:r>
            <a:br>
              <a:rPr sz="2400"/>
            </a:b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trilharen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=zintuigcellen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25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2526" name="Tijdelijke aanduiding voor inhoud 4" descr=""/>
          <p:cNvPicPr/>
          <p:nvPr/>
        </p:nvPicPr>
        <p:blipFill>
          <a:blip r:embed="rId2"/>
          <a:stretch/>
        </p:blipFill>
        <p:spPr>
          <a:xfrm>
            <a:off x="1770120" y="4076640"/>
            <a:ext cx="7342200" cy="2360520"/>
          </a:xfrm>
          <a:prstGeom prst="rect">
            <a:avLst/>
          </a:prstGeom>
          <a:ln w="0">
            <a:noFill/>
          </a:ln>
        </p:spPr>
      </p:pic>
      <p:pic>
        <p:nvPicPr>
          <p:cNvPr id="2527" name="Tijdelijke aanduiding voor inhoud 3" descr=""/>
          <p:cNvPicPr/>
          <p:nvPr/>
        </p:nvPicPr>
        <p:blipFill>
          <a:blip r:embed="rId3"/>
          <a:stretch/>
        </p:blipFill>
        <p:spPr>
          <a:xfrm>
            <a:off x="114480" y="333360"/>
            <a:ext cx="33750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Zien: ter inf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In het spectrum van zichtbaar licht kunnen we 8 miljoen tinten onderscheid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In Nederland is ca. 1 op de 12 mannen en 1 op de 200 vrouwen kleurenblin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1 op de 33.000 mensen zijn geheel kleurenblind. Zij zien alles grij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30" name="Afbeelding 5" descr="Ogen.jpg"/>
          <p:cNvPicPr/>
          <p:nvPr/>
        </p:nvPicPr>
        <p:blipFill>
          <a:blip r:embed="rId1"/>
          <a:stretch/>
        </p:blipFill>
        <p:spPr>
          <a:xfrm>
            <a:off x="5857920" y="5324400"/>
            <a:ext cx="328608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25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Zien: meer inf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Ons netvlies bevat 126 miljoen lichtgevoelige cell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80 % van de zintuiglijke prikkels komt binnen via de og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De ogen worden het meest bewust gebruik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33" name="Afbeelding 5" descr="Ogen.jpg"/>
          <p:cNvPicPr/>
          <p:nvPr/>
        </p:nvPicPr>
        <p:blipFill>
          <a:blip r:embed="rId1"/>
          <a:stretch/>
        </p:blipFill>
        <p:spPr>
          <a:xfrm>
            <a:off x="0" y="5124600"/>
            <a:ext cx="37148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4" dur="1" fill="hold"/>
                                  <p:tgtEl>
                                    <p:spTgt spid="25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De werking van het zicht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316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eaeaea"/>
                </a:solidFill>
                <a:latin typeface="Times New Roman"/>
              </a:rPr>
              <a:t>Hoornvlies</a:t>
            </a: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bescherming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eaeaea"/>
                </a:solidFill>
                <a:latin typeface="Times New Roman"/>
              </a:rPr>
              <a:t>Lens</a:t>
            </a: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Concentreert lichtstralen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eaeaea"/>
                </a:solidFill>
                <a:latin typeface="Times New Roman"/>
              </a:rPr>
              <a:t>Iris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regelt hoeveel licht in lens valt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Glasachtig lichaa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eaeaea"/>
                </a:solidFill>
                <a:latin typeface="Times New Roman"/>
              </a:rPr>
              <a:t>Netvlies</a:t>
            </a: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hier liggen de uiteinden van de zintuigcellen. Deze cellen zetten licht om in </a:t>
            </a:r>
            <a:r>
              <a:rPr b="0" lang="nl-NL" sz="1800" spc="-1" strike="noStrike" u="sng">
                <a:solidFill>
                  <a:srgbClr val="eaeaea"/>
                </a:solidFill>
                <a:uFillTx/>
                <a:latin typeface="Times New Roman"/>
              </a:rPr>
              <a:t>impulsen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 die via de oogzenuw naar de hersens gaan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20960" y="1125360"/>
            <a:ext cx="452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eaeaea"/>
                </a:solidFill>
                <a:latin typeface="Times New Roman"/>
              </a:rPr>
              <a:t>Harde oogvlies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bescherming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eaeaea"/>
                </a:solidFill>
                <a:latin typeface="Times New Roman"/>
              </a:rPr>
              <a:t>Gele vlek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hier liggen de uiteinden van de meeste zintuigcellen en is dus de lichtgevoeligste/belangrijkste! plek!!!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eaeaea"/>
                </a:solidFill>
                <a:latin typeface="Times New Roman"/>
              </a:rPr>
              <a:t>Blinde vlek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hier buigen de zintuigcellen om, dus alleen de zijkant van die zintuigcellen liggen bloot en die ‘doen’ niets. Alleen de uiteinden doen wat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eaeaea"/>
                </a:solidFill>
                <a:latin typeface="Times New Roman"/>
              </a:rPr>
              <a:t>Oogzenuw</a:t>
            </a: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(bundel van alle 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Times New Roman"/>
              </a:rPr>
              <a:t>                                      zintuigcellen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Bindvli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37" name="Afbeelding 6" descr="anatomieoog2.gif"/>
          <p:cNvPicPr/>
          <p:nvPr/>
        </p:nvPicPr>
        <p:blipFill>
          <a:blip r:embed="rId1"/>
          <a:stretch/>
        </p:blipFill>
        <p:spPr>
          <a:xfrm>
            <a:off x="2195640" y="4622760"/>
            <a:ext cx="48765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8" dur="1" fill="hold"/>
                                  <p:tgtEl>
                                    <p:spTgt spid="253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Oo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3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971640" y="33480"/>
            <a:ext cx="7259400" cy="6491160"/>
          </a:xfrm>
          <a:prstGeom prst="rect">
            <a:avLst/>
          </a:prstGeom>
          <a:ln w="0">
            <a:noFill/>
          </a:ln>
        </p:spPr>
      </p:pic>
      <p:pic>
        <p:nvPicPr>
          <p:cNvPr id="2540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AutoShape 2"/>
          <p:cNvSpPr/>
          <p:nvPr/>
        </p:nvSpPr>
        <p:spPr>
          <a:xfrm>
            <a:off x="76320" y="-4222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42" name="Picture 4" descr=""/>
          <p:cNvPicPr/>
          <p:nvPr/>
        </p:nvPicPr>
        <p:blipFill>
          <a:blip r:embed="rId1"/>
          <a:stretch/>
        </p:blipFill>
        <p:spPr>
          <a:xfrm>
            <a:off x="76320" y="404640"/>
            <a:ext cx="8985240" cy="60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Vervolg werking van het zic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Via de pupil komt licht ons oog binnen en worden de stralen gebroken door het hoornvlies en de lens. Hierna wordt een ‘beeld’  geprojecteerd op het netvl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De zintuigcellen op het netvlies – staafjes en kegeltjes- zetten lichtprikkels om in impulsen die via de oogzenuw worden doorgegeven aan de hersene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45" name="Picture 5" descr=""/>
          <p:cNvPicPr/>
          <p:nvPr/>
        </p:nvPicPr>
        <p:blipFill>
          <a:blip r:embed="rId1"/>
          <a:stretch/>
        </p:blipFill>
        <p:spPr>
          <a:xfrm>
            <a:off x="6443640" y="4941720"/>
            <a:ext cx="25210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2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2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2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2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25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Ruike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1398600" y="1623960"/>
            <a:ext cx="7772400" cy="52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Onze neus signaleert niet alleen </a:t>
            </a:r>
            <a:br>
              <a:rPr sz="3200"/>
            </a:b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                   etensgeuren maar ook gevaren, </a:t>
            </a:r>
            <a:br>
              <a:rPr sz="3200"/>
            </a:b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                   zoals brand, gas en bedorven </a:t>
            </a:r>
            <a:br>
              <a:rPr sz="3200"/>
            </a:b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                    voedse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Het reukorgaan is volgens sommige wetenschappers 10.000 keer gevoeliger dan het smaakzintui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Geuren roepen herinneringen op! Heel direct, zonder dat het eerst ‘bedacht’ kan worden. Heel belangrijk bij ouderen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48" name="Afbeelding 5" descr="neus.jpg"/>
          <p:cNvPicPr/>
          <p:nvPr/>
        </p:nvPicPr>
        <p:blipFill>
          <a:blip r:embed="rId1"/>
          <a:stretch/>
        </p:blipFill>
        <p:spPr>
          <a:xfrm>
            <a:off x="7796160" y="0"/>
            <a:ext cx="1347840" cy="1368360"/>
          </a:xfrm>
          <a:prstGeom prst="rect">
            <a:avLst/>
          </a:prstGeom>
          <a:ln w="0">
            <a:noFill/>
          </a:ln>
        </p:spPr>
      </p:pic>
      <p:pic>
        <p:nvPicPr>
          <p:cNvPr id="2549" name="Afbeelding 6" descr="neus.jpg"/>
          <p:cNvPicPr/>
          <p:nvPr/>
        </p:nvPicPr>
        <p:blipFill>
          <a:blip r:embed="rId2"/>
          <a:stretch/>
        </p:blipFill>
        <p:spPr>
          <a:xfrm>
            <a:off x="0" y="0"/>
            <a:ext cx="1347840" cy="1368360"/>
          </a:xfrm>
          <a:prstGeom prst="rect">
            <a:avLst/>
          </a:prstGeom>
          <a:ln w="0">
            <a:noFill/>
          </a:ln>
        </p:spPr>
      </p:pic>
      <p:pic>
        <p:nvPicPr>
          <p:cNvPr id="2550" name="Afbeelding 7" descr="neus.jpg"/>
          <p:cNvPicPr/>
          <p:nvPr/>
        </p:nvPicPr>
        <p:blipFill>
          <a:blip r:embed="rId3"/>
          <a:stretch/>
        </p:blipFill>
        <p:spPr>
          <a:xfrm>
            <a:off x="0" y="5489640"/>
            <a:ext cx="1347840" cy="1368360"/>
          </a:xfrm>
          <a:prstGeom prst="rect">
            <a:avLst/>
          </a:prstGeom>
          <a:ln w="0">
            <a:noFill/>
          </a:ln>
        </p:spPr>
      </p:pic>
      <p:pic>
        <p:nvPicPr>
          <p:cNvPr id="2551" name="Tijdelijke aanduiding voor inhoud 4" descr=""/>
          <p:cNvPicPr/>
          <p:nvPr/>
        </p:nvPicPr>
        <p:blipFill>
          <a:blip r:embed="rId4"/>
          <a:stretch/>
        </p:blipFill>
        <p:spPr>
          <a:xfrm>
            <a:off x="0" y="0"/>
            <a:ext cx="38098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8" dur="1" fill="hold"/>
                                  <p:tgtEl>
                                    <p:spTgt spid="25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De werking van het ruike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* Boven in de neusholte ligt het “reukepitheel”: dit is gevoelig slijmvlies, waarin de reuk-zintuigcellen zich bevind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* Geurstofmoleculen worden met de luchtstroom meegenomen naar dit slijmvlies en komen in aanraking met de uiteinden van de zintuigcell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* De zintuigcellen zetten de geurprikkels  vervolgens om in impulsen/signalen en die gaan via de neuszenuwen naar de hersen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54" name="Afbeelding 5" descr="neus1.jpg"/>
          <p:cNvPicPr/>
          <p:nvPr/>
        </p:nvPicPr>
        <p:blipFill>
          <a:blip r:embed="rId1"/>
          <a:stretch/>
        </p:blipFill>
        <p:spPr>
          <a:xfrm>
            <a:off x="7643880" y="53578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555" name="Afbeelding 6" descr="neus1.jpg"/>
          <p:cNvPicPr/>
          <p:nvPr/>
        </p:nvPicPr>
        <p:blipFill>
          <a:blip r:embed="rId2"/>
          <a:stretch/>
        </p:blipFill>
        <p:spPr>
          <a:xfrm>
            <a:off x="7643880" y="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556" name="Afbeelding 8" descr="neus1.jpg"/>
          <p:cNvPicPr/>
          <p:nvPr/>
        </p:nvPicPr>
        <p:blipFill>
          <a:blip r:embed="rId3"/>
          <a:stretch/>
        </p:blipFill>
        <p:spPr>
          <a:xfrm>
            <a:off x="0" y="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3" dur="1" fill="hold"/>
                                  <p:tgtEl>
                                    <p:spTgt spid="25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"/>
          <p:cNvSpPr txBox="1"/>
          <p:nvPr/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Een </a:t>
            </a:r>
            <a:r>
              <a:rPr b="1" lang="nl-NL" sz="3200" spc="-1" strike="noStrike" u="sng">
                <a:solidFill>
                  <a:srgbClr val="eaeaea"/>
                </a:solidFill>
                <a:uFillTx/>
                <a:latin typeface="Times New Roman"/>
              </a:rPr>
              <a:t>prikkel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is een verandering in de uitwendige of inwendige omgeving waarop een organisme reageert. Deze reactie wordt ook wel een respons genoemd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Veel organismen bezitten speciale organen die gevoelig zijn voor een prikkel: de zintuigen. Deze zintuigen zetten de prikkel om in </a:t>
            </a:r>
            <a:r>
              <a:rPr b="1" lang="nl-NL" sz="3200" spc="-1" strike="noStrike" u="sng">
                <a:solidFill>
                  <a:srgbClr val="eaeaea"/>
                </a:solidFill>
                <a:uFillTx/>
                <a:latin typeface="Times New Roman"/>
              </a:rPr>
              <a:t>elektrische impulsen/signalen 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die naar een regelend orgaan (hersenen) gestuurd word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Dan kan er gereageerd worden = </a:t>
            </a:r>
            <a:r>
              <a:rPr b="1" lang="nl-NL" sz="3200" spc="-1" strike="noStrike" u="sng">
                <a:solidFill>
                  <a:srgbClr val="eaeaea"/>
                </a:solidFill>
                <a:uFillTx/>
                <a:latin typeface="Times New Roman"/>
              </a:rPr>
              <a:t>resp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aeaea"/>
                </a:solidFill>
                <a:latin typeface="Times New Roman"/>
              </a:rPr>
              <a:t>Smaak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5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2692080" cy="3921120"/>
          </a:xfrm>
          <a:prstGeom prst="rect">
            <a:avLst/>
          </a:prstGeom>
          <a:ln w="0">
            <a:noFill/>
          </a:ln>
        </p:spPr>
      </p:pic>
      <p:sp>
        <p:nvSpPr>
          <p:cNvPr id="2559" name=""/>
          <p:cNvSpPr txBox="1"/>
          <p:nvPr/>
        </p:nvSpPr>
        <p:spPr>
          <a:xfrm>
            <a:off x="3419280" y="333000"/>
            <a:ext cx="5616360" cy="572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maakknopjes (</a:t>
            </a: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papillen</a:t>
            </a: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) liggen op de tong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De 10.000 smaakknopjes liggen in het epitheel (=slijmvlies-huid) van de tong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4 </a:t>
            </a: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soorten zintuigcellen in deze papillen,  voor 4 primaire smake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5</a:t>
            </a:r>
            <a:r>
              <a:rPr b="0" lang="nl-NL" sz="2800" spc="-1" strike="noStrike" baseline="30000">
                <a:solidFill>
                  <a:srgbClr val="ccecff"/>
                </a:solidFill>
                <a:latin typeface="Times New Roman"/>
              </a:rPr>
              <a:t>de?</a:t>
            </a: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: =unami ( japans voor ‘mondgevoel’). Lekker hartig, vol. (Ketjap, oude kaas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75"/>
                </a:solidFill>
                <a:latin typeface="Times New Roman"/>
              </a:rPr>
              <a:t>MAAR: </a:t>
            </a:r>
            <a:r>
              <a:rPr b="0" lang="nl-NL" sz="2800" spc="-1" strike="noStrike">
                <a:solidFill>
                  <a:srgbClr val="404075"/>
                </a:solidFill>
                <a:latin typeface="Wingdings"/>
                <a:ea typeface="Wingdings"/>
              </a:rPr>
              <a:t></a:t>
            </a:r>
            <a:r>
              <a:rPr b="0" lang="nl-NL" sz="2800" spc="-1" strike="noStrike">
                <a:solidFill>
                  <a:srgbClr val="404075"/>
                </a:solidFill>
                <a:latin typeface="Times New Roman"/>
              </a:rPr>
              <a:t>We proeven toch meer dan 4 smaken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4075"/>
                </a:solidFill>
                <a:latin typeface="Times New Roman"/>
              </a:rPr>
              <a:t>Nee! Die ‘ruiken’ we!!!!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60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De werking van het proeve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De tong is bekleed met een dik slijmvlies. Hierin bevinden zich zo'n 3000 smaakpapillen die via 3 zenuwbundels prikkels doorsturen naar de smaakwaarnemingscentra in de hersen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Zonder reuk en zien maar 4 smaken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MET reuk wel duizenden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63" name="Afbeelding 5" descr="tongplaatje.jpg"/>
          <p:cNvPicPr/>
          <p:nvPr/>
        </p:nvPicPr>
        <p:blipFill>
          <a:blip r:embed="rId1"/>
          <a:stretch/>
        </p:blipFill>
        <p:spPr>
          <a:xfrm>
            <a:off x="7358040" y="4829040"/>
            <a:ext cx="17859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25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Proev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De smaakpapillen worden elke 10 dagen vervang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De punt van de tong is het meest gevoelig voor zoe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Het achterste gedeelte van de tong voor bitte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De zijranden van de tong voor zuu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Een smal strookje langs de gehele tongrand voor zou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66" name="Afbeelding 5" descr="tongplaatje.jpg"/>
          <p:cNvPicPr/>
          <p:nvPr/>
        </p:nvPicPr>
        <p:blipFill>
          <a:blip r:embed="rId1"/>
          <a:stretch/>
        </p:blipFill>
        <p:spPr>
          <a:xfrm>
            <a:off x="7358040" y="0"/>
            <a:ext cx="1785960" cy="2028960"/>
          </a:xfrm>
          <a:prstGeom prst="rect">
            <a:avLst/>
          </a:prstGeom>
          <a:ln w="0">
            <a:noFill/>
          </a:ln>
        </p:spPr>
      </p:pic>
      <p:pic>
        <p:nvPicPr>
          <p:cNvPr id="2567" name="Afbeelding 6" descr="tongplaatje.jpg"/>
          <p:cNvPicPr/>
          <p:nvPr/>
        </p:nvPicPr>
        <p:blipFill>
          <a:blip r:embed="rId2"/>
          <a:stretch/>
        </p:blipFill>
        <p:spPr>
          <a:xfrm>
            <a:off x="0" y="0"/>
            <a:ext cx="17859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25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aarnemingsfunctie v.d. huid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9" name=""/>
          <p:cNvSpPr txBox="1"/>
          <p:nvPr/>
        </p:nvSpPr>
        <p:spPr>
          <a:xfrm>
            <a:off x="1246320" y="1052640"/>
            <a:ext cx="789768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Huid is 5</a:t>
            </a:r>
            <a:r>
              <a:rPr b="1" lang="nl-NL" sz="2800" spc="-1" strike="noStrike" baseline="30000">
                <a:solidFill>
                  <a:srgbClr val="ccecff"/>
                </a:solidFill>
                <a:latin typeface="Times New Roman"/>
              </a:rPr>
              <a:t>e</a:t>
            </a: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 zintuig van deze serie.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Ook in de huid zitten zintuigcellen. De uiteinden van deze zintuigcellen zetten verschillende soorten prikkels om in impulsen/signalen, die via de zenuwen naar de hersenen gaan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ecff"/>
                </a:solidFill>
                <a:latin typeface="Times New Roman"/>
              </a:rPr>
              <a:t>Maar de huid heeft meer functies!!!!!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70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48360" y="4869000"/>
            <a:ext cx="3809880" cy="1733400"/>
          </a:xfrm>
          <a:prstGeom prst="rect">
            <a:avLst/>
          </a:prstGeom>
          <a:ln w="0">
            <a:noFill/>
          </a:ln>
        </p:spPr>
      </p:pic>
      <p:pic>
        <p:nvPicPr>
          <p:cNvPr id="2571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Functies van de huid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3" name=""/>
          <p:cNvSpPr txBox="1"/>
          <p:nvPr/>
        </p:nvSpPr>
        <p:spPr>
          <a:xfrm>
            <a:off x="1246320" y="1052640"/>
            <a:ext cx="789768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Vijf belangrijke functies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Bescherming</a:t>
            </a:r>
            <a:r>
              <a:rPr b="0" lang="en-US" sz="2400" spc="-1" strike="noStrike" u="sng">
                <a:solidFill>
                  <a:srgbClr val="ccec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egen uitdrogen, ziektekiemen, uv-stra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elpt ons </a:t>
            </a:r>
            <a:r>
              <a:rPr b="1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lichaamstemperatuur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te regele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Uitscheiding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van bijvoorbeeld afvalstoff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Waarneming,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door wat we voelen met onze hui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anmaken van </a:t>
            </a:r>
            <a:r>
              <a:rPr b="1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vitamine 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7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48360" y="4869000"/>
            <a:ext cx="3809880" cy="1733400"/>
          </a:xfrm>
          <a:prstGeom prst="rect">
            <a:avLst/>
          </a:prstGeom>
          <a:ln w="0">
            <a:noFill/>
          </a:ln>
        </p:spPr>
      </p:pic>
      <p:pic>
        <p:nvPicPr>
          <p:cNvPr id="2575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68360" y="-459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 bouw van de huid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7" name=""/>
          <p:cNvSpPr txBox="1"/>
          <p:nvPr/>
        </p:nvSpPr>
        <p:spPr>
          <a:xfrm>
            <a:off x="539280" y="1483920"/>
            <a:ext cx="8363160" cy="45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3 belangrijkste lagen: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1. Opperhuid=epidermi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                                   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2. Lederhuid = dermi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                                    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3. Onderhuids 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                                         bindweefsel = subcuti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78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2579" name="Afbeelding 1" descr=""/>
          <p:cNvPicPr/>
          <p:nvPr/>
        </p:nvPicPr>
        <p:blipFill>
          <a:blip r:embed="rId2"/>
          <a:stretch/>
        </p:blipFill>
        <p:spPr>
          <a:xfrm>
            <a:off x="1332000" y="765000"/>
            <a:ext cx="586584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72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 bouw van de opperhuid/dermi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1" name=""/>
          <p:cNvSpPr txBox="1"/>
          <p:nvPr/>
        </p:nvSpPr>
        <p:spPr>
          <a:xfrm>
            <a:off x="395280" y="1125360"/>
            <a:ext cx="7129440" cy="489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e opperhuid bestaat uit vijf lagen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Hoornlaag </a:t>
            </a: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(deze beschermt vooral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Kiemlaag 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(deze laag, en dus onze hele huid,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ordt elke 4-8 weken </a:t>
            </a:r>
            <a:r>
              <a:rPr b="1" lang="en-US" sz="1400" spc="-1" strike="noStrike">
                <a:solidFill>
                  <a:srgbClr val="ccecff"/>
                </a:solidFill>
                <a:latin typeface="Times New Roman"/>
              </a:rPr>
              <a:t>vernieuwd! Nieuwe cellen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ccecff"/>
                </a:solidFill>
                <a:latin typeface="Times New Roman"/>
              </a:rPr>
              <a:t>worden omhoog geduwd. Dode hoorncellen slijten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ccecff"/>
                </a:solidFill>
                <a:latin typeface="Times New Roman"/>
              </a:rPr>
              <a:t>af of worden afgewassen/afgeschuurd.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Stekelcellaa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Korrellaa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eldere laa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8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278320" y="2133720"/>
            <a:ext cx="3865680" cy="2695320"/>
          </a:xfrm>
          <a:prstGeom prst="rect">
            <a:avLst/>
          </a:prstGeom>
          <a:ln w="0">
            <a:noFill/>
          </a:ln>
        </p:spPr>
      </p:pic>
      <p:pic>
        <p:nvPicPr>
          <p:cNvPr id="2583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sp>
        <p:nvSpPr>
          <p:cNvPr id="2584" name="Tekstvak 5"/>
          <p:cNvSpPr/>
          <p:nvPr/>
        </p:nvSpPr>
        <p:spPr>
          <a:xfrm>
            <a:off x="5003640" y="4829040"/>
            <a:ext cx="374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75"/>
                </a:solidFill>
                <a:latin typeface="Times New Roman"/>
              </a:rPr>
              <a:t>Huidskleur wordt bepaald door de hoeveelheid melanine, gemaakt door pigmentcellen in de kiemlaag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75"/>
                </a:solidFill>
                <a:latin typeface="Times New Roman"/>
              </a:rPr>
              <a:t>Bv: Tepelhof, moedervlekken, sproeten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723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Feitjes Hoornlaa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6" name=""/>
          <p:cNvSpPr txBox="1"/>
          <p:nvPr/>
        </p:nvSpPr>
        <p:spPr>
          <a:xfrm>
            <a:off x="395280" y="1125360"/>
            <a:ext cx="7129440" cy="489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Hoornlaag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Beschermt tegen ziektekiemen,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uitdroging, uv-stralen 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   ‘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diepere  shade”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Eelt is een verdikking van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de hoornlaag. Hoe mee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schuring, hoe meer eelt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cc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Cellen in de hoornlaag zijn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dood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cc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Haren en nagels zijn ook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gemaakt van hoorncellen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87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2588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4602240" y="1341360"/>
            <a:ext cx="43988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468000" y="-1620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Lederhuid en onderhuids bindweefsel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90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2591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1187280" y="907920"/>
            <a:ext cx="6363000" cy="3232440"/>
          </a:xfrm>
          <a:prstGeom prst="rect">
            <a:avLst/>
          </a:prstGeom>
          <a:ln w="0">
            <a:noFill/>
          </a:ln>
        </p:spPr>
      </p:pic>
      <p:sp>
        <p:nvSpPr>
          <p:cNvPr id="2592" name="Tekstvak 4"/>
          <p:cNvSpPr/>
          <p:nvPr/>
        </p:nvSpPr>
        <p:spPr>
          <a:xfrm>
            <a:off x="1150920" y="4292640"/>
            <a:ext cx="7993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ccecff"/>
                </a:solidFill>
                <a:latin typeface="Times New Roman"/>
              </a:rPr>
              <a:t>Hier liggen belangrijke structuren voor </a:t>
            </a:r>
            <a:r>
              <a:rPr b="1" lang="nl-NL" sz="2800" spc="-1" strike="noStrike" u="sng">
                <a:solidFill>
                  <a:srgbClr val="ccecff"/>
                </a:solidFill>
                <a:uFillTx/>
                <a:latin typeface="Times New Roman"/>
              </a:rPr>
              <a:t>temperatuur-regeling</a:t>
            </a:r>
            <a:r>
              <a:rPr b="1" lang="nl-NL" sz="2000" spc="-1" strike="noStrike">
                <a:solidFill>
                  <a:srgbClr val="ccecff"/>
                </a:solidFill>
                <a:latin typeface="Times New Roman"/>
              </a:rPr>
              <a:t> (bloedvaten die uit kunnen zetten, zweetklieren die verkoelend zweet kunnen produceren, haren die overeind kunnen staan en een vetlaag). En voor </a:t>
            </a:r>
            <a:r>
              <a:rPr b="1" lang="nl-NL" sz="2800" spc="-1" strike="noStrike" u="sng">
                <a:solidFill>
                  <a:srgbClr val="ccecff"/>
                </a:solidFill>
                <a:uFillTx/>
                <a:latin typeface="Times New Roman"/>
              </a:rPr>
              <a:t>waarneming</a:t>
            </a:r>
            <a:r>
              <a:rPr b="1" lang="nl-NL" sz="2000" spc="-1" strike="noStrike">
                <a:solidFill>
                  <a:srgbClr val="ccecff"/>
                </a:solidFill>
                <a:latin typeface="Times New Roman"/>
              </a:rPr>
              <a:t> (4 verschillende zintuigcellen voor tast, pijn, druk en  </a:t>
            </a:r>
            <a:r>
              <a:rPr b="1" lang="nl-NL" sz="2000" spc="-1" strike="noStrike">
                <a:solidFill>
                  <a:srgbClr val="eaeaea"/>
                </a:solidFill>
                <a:latin typeface="Times New Roman"/>
              </a:rPr>
              <a:t>warmte/kou)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395280" y="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Huid </a:t>
            </a:r>
            <a:r>
              <a:rPr b="0" lang="nl-NL" sz="4400" spc="-1" strike="noStrike">
                <a:solidFill>
                  <a:srgbClr val="eaeaea"/>
                </a:solidFill>
                <a:latin typeface="Wingdings"/>
                <a:ea typeface="Wingdings"/>
              </a:rPr>
              <a:t></a:t>
            </a: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 Gevoel/Tas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94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  <p:pic>
        <p:nvPicPr>
          <p:cNvPr id="2595" name="Tijdelijke aanduiding voor inhoud 2" descr=""/>
          <p:cNvPicPr/>
          <p:nvPr/>
        </p:nvPicPr>
        <p:blipFill>
          <a:blip r:embed="rId2"/>
          <a:stretch/>
        </p:blipFill>
        <p:spPr>
          <a:xfrm>
            <a:off x="1547640" y="981000"/>
            <a:ext cx="551844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762120" y="836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imes New Roman"/>
              </a:rPr>
              <a:t>Onze zintuigen vangen prikkels op die in onze hersenen worden omgezet in informatie. </a:t>
            </a:r>
            <a:br>
              <a:rPr sz="3600"/>
            </a:br>
            <a:br>
              <a:rPr sz="3600"/>
            </a:b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ze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ikkel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(wordt in de zintuigcellen omgezet in)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impuls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/signaal </a:t>
            </a: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(die komen bij de hersens aan en die maken hiervan: )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informatie. 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 informatie kan ons waarschuwen voor gevaar, maar ook een prettig gevoel gev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25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Feiten over zintuigcelle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6" name=""/>
          <p:cNvSpPr txBox="1"/>
          <p:nvPr/>
        </p:nvSpPr>
        <p:spPr>
          <a:xfrm>
            <a:off x="2123640" y="1915920"/>
            <a:ext cx="4915080" cy="42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Elke zintuig(cel) heeft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zijn eigen prikkel </a:t>
            </a: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(oor=geluid, enz/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zijn eigen drempel </a:t>
            </a: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(hoeveel geluid is nodig om de zintuigcel te triggeren)</a:t>
            </a: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zijn eigen sensorisch deel op de hersenen </a:t>
            </a:r>
            <a:r>
              <a:rPr b="0" lang="nl-NL" sz="1800" spc="-1" strike="noStrike">
                <a:solidFill>
                  <a:srgbClr val="ccecff"/>
                </a:solidFill>
                <a:latin typeface="Times New Roman"/>
              </a:rPr>
              <a:t>(te zien op een scan…wat licht op?)</a:t>
            </a:r>
            <a:r>
              <a:rPr b="0" lang="nl-NL" sz="28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07" name="Afbeelding 1" descr=""/>
          <p:cNvPicPr/>
          <p:nvPr/>
        </p:nvPicPr>
        <p:blipFill>
          <a:blip r:embed="rId1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De Zintui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 type="subTitle"/>
          </p:nvPr>
        </p:nvSpPr>
        <p:spPr>
          <a:xfrm>
            <a:off x="323640" y="2420640"/>
            <a:ext cx="835164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Hor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or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nl-NL" sz="2000" spc="-1" strike="noStrike">
                <a:solidFill>
                  <a:srgbClr val="eaeaea"/>
                </a:solidFill>
                <a:latin typeface="Times New Roman"/>
              </a:rPr>
              <a:t>trilhaartjes in binnenoor zijn de zintuigcell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Zi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og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nl-NL" sz="2000" spc="-1" strike="noStrike">
                <a:solidFill>
                  <a:srgbClr val="eaeaea"/>
                </a:solidFill>
                <a:latin typeface="Times New Roman"/>
              </a:rPr>
              <a:t>staafjes&amp;kegeltjes in netvlies zijn de zintuigcell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Voelen/tast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 (</a:t>
            </a: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huid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nl-NL" sz="2000" spc="-1" strike="noStrike">
                <a:solidFill>
                  <a:srgbClr val="eaeaea"/>
                </a:solidFill>
                <a:latin typeface="Times New Roman"/>
              </a:rPr>
              <a:t>zenuwuiteinden in dermis zijn zintuigcell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Proev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 (</a:t>
            </a: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tong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nl-NL" sz="2000" spc="-1" strike="noStrike">
                <a:solidFill>
                  <a:srgbClr val="eaeaea"/>
                </a:solidFill>
                <a:latin typeface="Times New Roman"/>
              </a:rPr>
              <a:t>zintuigcellen zitten in papillen in/op je tong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Ruiken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lang="nl-NL" sz="3200" spc="-1" strike="noStrike">
                <a:solidFill>
                  <a:srgbClr val="eaeaea"/>
                </a:solidFill>
                <a:latin typeface="Times New Roman"/>
              </a:rPr>
              <a:t>neus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nl-NL" sz="2000" spc="-1" strike="noStrike">
                <a:solidFill>
                  <a:srgbClr val="eaeaea"/>
                </a:solidFill>
                <a:latin typeface="Times New Roman"/>
              </a:rPr>
              <a:t>zintuigcellen in slijmvlies van je neus</a:t>
            </a: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" dur="1" fill="hold"/>
                                  <p:tgtEl>
                                    <p:spTgt spid="25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Horen: ter inf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Anderhalf miljoen mensen zijn slechthoren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Waarvan 450.000 mensen een hoortoestel drag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Van de rest –ruim 1 miljoen- zou vermoedelijk de helft beter kunnen communiceren met behulp van een gehoorapparaa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Veel mensen zijn onvoldoende op de hoogte van de mogelijkheden of weten zelf niet dat hun gehoor minder i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2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2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2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2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2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2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2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2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" dur="1" fill="hold"/>
                                  <p:tgtEl>
                                    <p:spTgt spid="25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Werking van het geho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Het gehoororgaan bestaat ui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Het uitwendige o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Het middeno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Times New Roman"/>
              </a:rPr>
              <a:t>Het binneno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14" name="Picture 5" descr=""/>
          <p:cNvPicPr/>
          <p:nvPr/>
        </p:nvPicPr>
        <p:blipFill>
          <a:blip r:embed="rId1"/>
          <a:stretch/>
        </p:blipFill>
        <p:spPr>
          <a:xfrm>
            <a:off x="4356000" y="3357720"/>
            <a:ext cx="4540320" cy="32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1" dur="1" fill="hold"/>
                                  <p:tgtEl>
                                    <p:spTgt spid="25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aeaea"/>
                </a:solidFill>
                <a:latin typeface="Times New Roman"/>
              </a:rPr>
              <a:t>Oo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16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79280" y="641520"/>
            <a:ext cx="8785440" cy="5680080"/>
          </a:xfrm>
          <a:prstGeom prst="rect">
            <a:avLst/>
          </a:prstGeom>
          <a:ln w="0">
            <a:noFill/>
          </a:ln>
        </p:spPr>
      </p:pic>
      <p:pic>
        <p:nvPicPr>
          <p:cNvPr id="2517" name="Afbeelding 1" descr=""/>
          <p:cNvPicPr/>
          <p:nvPr/>
        </p:nvPicPr>
        <p:blipFill>
          <a:blip r:embed="rId2"/>
          <a:stretch/>
        </p:blipFill>
        <p:spPr>
          <a:xfrm>
            <a:off x="0" y="6342120"/>
            <a:ext cx="1801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De werking van het o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Het oor kan tot 20.000 trillingen per seconde verwerken. Hoe meer trillingen per seconde, hoe hoger het waargenomen geluid (de frequentie) i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Times New Roman"/>
              </a:rPr>
              <a:t>Hoe harder het geluid, hoe ‘heftiger’ de trillinge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8:50:37Z</dcterms:created>
  <dc:creator>Onderwijs</dc:creator>
  <dc:description/>
  <dc:language>en-US</dc:language>
  <cp:lastModifiedBy>Bakker,C.M.</cp:lastModifiedBy>
  <dcterms:modified xsi:type="dcterms:W3CDTF">2016-05-08T18:14:26Z</dcterms:modified>
  <cp:revision>40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31043</vt:lpwstr>
  </property>
</Properties>
</file>