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467F-E7A2-479A-AE4F-F349D1866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4359-39F4-4B33-979D-D137429FB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96E0-BB9E-44F2-A8E1-6BB14CEB4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667D-2D6D-4B93-8C6E-E37C3451E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032D4-E843-4B3E-AA39-83FFB7DDF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7DC79-96B2-4E60-8FBB-01ACF7080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6C66D-2867-4D72-B9CF-29F3C87B4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868D5-50F8-48B4-9AEC-E50DA183D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F3450-9A5E-4CED-952F-AD1CBAFEF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5FCEF-AC3B-416C-AEB0-AE979A890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CD3FD-875F-443C-B955-7481A121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1EFA-5E43-40D2-A937-DAE26CC30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F5F87-488F-4DAB-B2D8-3479F026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D6B28-D998-4833-BBDC-38092682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6DD3F-1EA9-403D-9598-6A4613910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E6AB9-CCCE-44AA-9457-6A63628A1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A4022-C24F-4A0A-B739-1F6BA3A95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223D-E7D0-4114-935F-239443070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0A73-681C-434C-94DD-75A0A5924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7D3F-D0ED-4829-9F8A-5BB2B0E73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A712-55A4-4DEF-A6DF-C26931410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69DF-6D71-4F91-85F4-509DAD7F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34BD-73E7-4917-9A89-099F8448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EE56-AD01-40E3-B6F3-3FF98C10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03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3"/>
            <p:cNvSpPr/>
            <p:nvPr/>
          </p:nvSpPr>
          <p:spPr>
            <a:xfrm>
              <a:off x="914400" y="1828800"/>
              <a:ext cx="8001000" cy="4343400"/>
            </a:xfrm>
            <a:prstGeom prst="rect">
              <a:avLst/>
            </a:prstGeom>
            <a:solidFill>
              <a:srgbClr val="00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2B98B-3EDF-43EE-9EC0-D6593902320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80324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828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962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03116-4D00-43AE-B41F-285909A15943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28440" y="1523880"/>
            <a:ext cx="71629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Seksualiteit en voortplanting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Times New Roman"/>
              </a:rPr>
              <a:t>Al meer dan 100.000 jaar op deze planeet dankzij de voortplanting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8" name="Afbeelding 1" descr=""/>
          <p:cNvPicPr/>
          <p:nvPr/>
        </p:nvPicPr>
        <p:blipFill>
          <a:blip r:embed="rId1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Seksualiteit en oudere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2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1066680" y="2546280"/>
            <a:ext cx="3810240" cy="28321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50288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Sociale factoren die een rol spelen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ecff"/>
                </a:solidFill>
                <a:latin typeface="Times New Roman"/>
              </a:rPr>
              <a:t>Partner valt we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ecff"/>
                </a:solidFill>
                <a:latin typeface="Times New Roman"/>
              </a:rPr>
              <a:t>Meer vrouwen dan mannen (2.25 x meer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ecff"/>
                </a:solidFill>
                <a:latin typeface="Times New Roman"/>
              </a:rPr>
              <a:t>Sociale controle in zorg- en verpleeghuizen beïnvloed seksueel functioneren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24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Misverstande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Dementerenden en gezonde partners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Wordt vaak gesproken over ‘ontremde’gedrag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Slechte beeldvorming ‘seks en ouderen’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27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103720" y="1905120"/>
            <a:ext cx="3660840" cy="4114800"/>
          </a:xfrm>
          <a:prstGeom prst="rect">
            <a:avLst/>
          </a:prstGeom>
          <a:ln w="0">
            <a:noFill/>
          </a:ln>
        </p:spPr>
      </p:pic>
      <p:pic>
        <p:nvPicPr>
          <p:cNvPr id="128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Misverstande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0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1600200" y="2057400"/>
            <a:ext cx="2743200" cy="38098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50288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ccecff"/>
                </a:solidFill>
                <a:latin typeface="Times New Roman"/>
              </a:rPr>
              <a:t>Het veel genoemde ‘ontremde gedrag’ komt niet vaak voor. 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ccecff"/>
                </a:solidFill>
                <a:latin typeface="Times New Roman"/>
              </a:rPr>
              <a:t>Groter probleem is de afvlakking van emoties en negeren van intimiteit.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ccecff"/>
                </a:solidFill>
                <a:latin typeface="Times New Roman"/>
              </a:rPr>
              <a:t>Draagkracht en draaglast van gezonde partner onder hoge druk.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32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Hulpverlening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Hulpverlening praat niet over intimiteit en seksualiteit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Seksualiteitsbeleving en veranderingen bij ziekte en ouder worden onderbelicht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Leren herkennen van signalen in gesprekke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35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159520" y="2781360"/>
            <a:ext cx="3678120" cy="2448000"/>
          </a:xfrm>
          <a:prstGeom prst="rect">
            <a:avLst/>
          </a:prstGeom>
          <a:ln w="0">
            <a:noFill/>
          </a:ln>
        </p:spPr>
      </p:pic>
      <p:pic>
        <p:nvPicPr>
          <p:cNvPr id="136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Voortplanting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0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1066680" y="2244600"/>
            <a:ext cx="3810240" cy="34354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0288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Primaire geslachtskenmerke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Secundaire geslachtskenmerke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Kind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Puber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Volwassen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Oudere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2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Seksualiteit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Seksualiteit en voortplanting kun je tegenwoordig los van elkaar zien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Seksualiteit is de sociale kant van de geslachtsgemeenschap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5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403960" y="2432160"/>
            <a:ext cx="3060720" cy="3060720"/>
          </a:xfrm>
          <a:prstGeom prst="rect">
            <a:avLst/>
          </a:prstGeom>
          <a:ln w="0">
            <a:noFill/>
          </a:ln>
        </p:spPr>
      </p:pic>
      <p:pic>
        <p:nvPicPr>
          <p:cNvPr id="96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Maatschappelijke ontwikkelinge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8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998640" y="1989000"/>
            <a:ext cx="3960720" cy="39610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50288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Aan seksualiteit worden grenzen gesteld. Door de maatschappij, religies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Tussen landen en culturen bestaan zeer grote verschillen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Homoseksualiteit vs doodstraf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0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Seksualiteitsbeleving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Tot de jaren ‘60 van de vorige eeuw: kerken hadden grote invloed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Veranderende moraal t.a.v. man en vrouw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Gelijkheid man – vrouw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Sexuele revolutie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3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508720" y="1955880"/>
            <a:ext cx="2990880" cy="4209840"/>
          </a:xfrm>
          <a:prstGeom prst="rect">
            <a:avLst/>
          </a:prstGeom>
          <a:ln w="0">
            <a:noFill/>
          </a:ln>
        </p:spPr>
      </p:pic>
      <p:pic>
        <p:nvPicPr>
          <p:cNvPr id="104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Seksualiteit en oudere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6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1143000" y="2736720"/>
            <a:ext cx="3657600" cy="24512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50288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Een taboe onderwerp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Hulpverlening ‘durft’ het onderwerp niet aan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Weinig onderzoek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Leeftijdsgrens vaak tot 50 jaar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8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Seksualiteit en oudere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Fysiologische veranderingen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Man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ecff"/>
                </a:solidFill>
                <a:latin typeface="Times New Roman"/>
              </a:rPr>
              <a:t>Tragere erecti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ecff"/>
                </a:solidFill>
                <a:latin typeface="Times New Roman"/>
              </a:rPr>
              <a:t>Lagere spermadruk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ecff"/>
                </a:solidFill>
                <a:latin typeface="Times New Roman"/>
              </a:rPr>
              <a:t>Langer herstel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Vrouw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ecff"/>
                </a:solidFill>
                <a:latin typeface="Times New Roman"/>
              </a:rPr>
              <a:t>Minder vaginaalvoch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ecff"/>
                </a:solidFill>
                <a:latin typeface="Times New Roman"/>
              </a:rPr>
              <a:t>Vaginawand dunner en minder elastisch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1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029200" y="2340000"/>
            <a:ext cx="3809880" cy="3244680"/>
          </a:xfrm>
          <a:prstGeom prst="rect">
            <a:avLst/>
          </a:prstGeom>
          <a:ln w="0">
            <a:noFill/>
          </a:ln>
        </p:spPr>
      </p:pic>
      <p:pic>
        <p:nvPicPr>
          <p:cNvPr id="112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Seksualiteit en oudere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4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1406520" y="1905120"/>
            <a:ext cx="3130560" cy="4114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50288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Invloed ziekte en medicijngebruik (in)direct negatieve effecten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Suikerziekte: erectieproblemen, pij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Artrose/ reuma: beperkte lichamelijke activiteit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6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Seksualiteit en oudere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TIA/CVA, hartinfarct levert angst voor herhaling op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Medicatie tegen hoge bloeddruk heeft een negatieve invloed op de seksualiteitsbeleving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9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003640" y="2637000"/>
            <a:ext cx="3843360" cy="2736720"/>
          </a:xfrm>
          <a:prstGeom prst="rect">
            <a:avLst/>
          </a:prstGeom>
          <a:ln w="0">
            <a:noFill/>
          </a:ln>
        </p:spPr>
      </p:pic>
      <p:pic>
        <p:nvPicPr>
          <p:cNvPr id="120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08:50:37Z</dcterms:created>
  <dc:creator>Onderwijs</dc:creator>
  <dc:description/>
  <dc:language>en-US</dc:language>
  <cp:lastModifiedBy>Bakker,C.M.</cp:lastModifiedBy>
  <cp:lastPrinted>2016-01-14T09:10:04Z</cp:lastPrinted>
  <dcterms:modified xsi:type="dcterms:W3CDTF">2016-06-05T23:26:54Z</dcterms:modified>
  <cp:revision>26</cp:revision>
  <dc:subject/>
  <dc:title>Di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531043</vt:lpwstr>
  </property>
</Properties>
</file>