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DB8-C10C-4A0A-8896-AB64F396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E8E-0D93-4968-9F7F-2C25C428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E74-9C4A-4DA5-9215-6A63B46E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38C-4626-4CF1-A28F-7B21A999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1B47-B500-4030-B4C2-19C9338C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F046-C6DB-462A-8613-0673B264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AB1A-15F3-4C97-A50B-049328F1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8D8B-81AF-4D7C-BB43-F3869445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30B8-58FD-4207-99B4-0A15E30D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0F7D-74C4-4247-9364-29C3DD9E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72F9-C0A1-4AA1-A994-5C60069A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29B-365C-4E0E-A8A3-850C3842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798B-4660-4601-A476-2C18B0F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C66E-F1B2-4D95-AC5B-5EB9DC99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9C03-ECC3-4AF9-A5F8-CAB711A0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7468-FBBC-4BBD-95DA-85351141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C36A-0F60-448D-899E-C352884E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6C0-0B92-4133-8747-5DB92B2E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571-2689-42DB-939E-F224C0AA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A14-3D30-4C77-9C1A-B6205554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0028-319F-4D6A-A845-67F96C03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6C7-5107-4D5B-AF68-DCFD4C6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E09-3E14-4F8A-A3CD-4891D7F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294-E7E5-4D1C-880F-D3F1DF8F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CB5A-261F-4BFE-8890-043E205243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0F47-2E9D-489C-B0C4-B98524DB4CAE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it stelsel speelt een rol in het afweer-syste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il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e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uncti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ilteren van blo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pvangen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vangen verouderde en dode bloed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reservoi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31928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73000" y="141300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atisch systeem net als bloedvaten in alle orga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ymfevaten starten’blind’. Weefselvocht gaat vanuit de cellen daarnaartoe en wordt lymf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t wordt langs de lymfeknopen gevoer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498680"/>
            <a:ext cx="3456000" cy="5306760"/>
          </a:xfrm>
          <a:prstGeom prst="rect">
            <a:avLst/>
          </a:prstGeom>
          <a:ln w="0">
            <a:noFill/>
          </a:ln>
        </p:spPr>
      </p:pic>
      <p:pic>
        <p:nvPicPr>
          <p:cNvPr id="9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vaten(2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ia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orstbu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chter lymfestam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komt het lymfe weer in de bloedb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 de lymfevaten zitten kleppen en stroming wordt opgewekt door: adem-, hart-, spier- en atriële pom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843200"/>
            <a:ext cx="4346640" cy="36687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 heeft bijna dezelfde samenstelling als weefselvo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iv. witte bloed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ijdelijke 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nti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getaste en dode lichaamscel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48280" y="1947960"/>
            <a:ext cx="3771720" cy="402912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eknoop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 groot als een pinktop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s een filt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uimen dode cellen, bacterië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en actief bij mogelijke ziekteverwekk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llen dan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27600" y="2276640"/>
            <a:ext cx="4230720" cy="3384360"/>
          </a:xfrm>
          <a:prstGeom prst="rect">
            <a:avLst/>
          </a:prstGeom>
          <a:ln w="0">
            <a:noFill/>
          </a:ln>
        </p:spPr>
      </p:pic>
      <p:pic>
        <p:nvPicPr>
          <p:cNvPr id="10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ymfoïde orga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eknop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ing van Waldeyer-Hartz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aques van Pe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wezeri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il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96000" y="1924200"/>
            <a:ext cx="2165400" cy="4662360"/>
          </a:xfrm>
          <a:prstGeom prst="rect">
            <a:avLst/>
          </a:prstGeom>
          <a:ln w="0">
            <a:noFill/>
          </a:ln>
        </p:spPr>
      </p:pic>
      <p:pic>
        <p:nvPicPr>
          <p:cNvPr id="10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ing van Waldeyer-Hartz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ymfatisch weefsel dat ligt rond de keel- en neusholt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Keel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eusamand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ongamandel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19640" y="1793880"/>
            <a:ext cx="3694320" cy="4548240"/>
          </a:xfrm>
          <a:prstGeom prst="rect">
            <a:avLst/>
          </a:prstGeom>
          <a:ln w="0">
            <a:noFill/>
          </a:ln>
        </p:spPr>
      </p:pic>
      <p:pic>
        <p:nvPicPr>
          <p:cNvPr id="11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ques van Pey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ebiedjes van lymfatisch weefsel die in de Dunne Darm lig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en ervoor dat vanuit de darmholte (milieu exterieur) geen schadelijke bacteriën de bloedbaan binnend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4007160" cy="2664000"/>
          </a:xfrm>
          <a:prstGeom prst="rect">
            <a:avLst/>
          </a:prstGeom>
          <a:ln w="0">
            <a:noFill/>
          </a:ln>
        </p:spPr>
      </p:pic>
      <p:pic>
        <p:nvPicPr>
          <p:cNvPr id="11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Zwezerik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Thymu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en lymfatisch orgaan dat tot de puberteit een rol speel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chrompeld tot een klein vetkwabj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gt op het hart, achter het borstbe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vat thymocy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978520" y="1905120"/>
            <a:ext cx="191124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6-12T21:30:38Z</dcterms:modified>
  <cp:revision>24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