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DEE1-D6D6-4618-AEC2-8E8701F2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E443-8A05-4578-8552-17C4712E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7CFDD-4965-4D2A-AEAB-71EC596C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32952-6879-40B0-899E-37A1B5A4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9AD69-6E16-4DC7-AACE-C73CACCE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246A7-9F10-4EC4-9E94-D82ACDAB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6D66E-BB64-44FF-9794-CD6CC793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D2A92-9368-41BA-8DA9-19FCBC86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5629B-94A4-4733-8839-38DEB889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C2C41-E261-4F9E-9F22-C00A9DF5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15A3A-872E-45AE-82BC-EEF48F98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470F5-EE99-4561-A9CC-9282A331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1E6-FA2E-4100-9A23-C6619515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1D6AF-1EFB-4D58-BAA8-DEEFFE2B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B8FB3-40DC-4664-80E6-88520DDD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D0366-CECA-4151-8B19-1C8C43D9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EB20C-F1E7-40C3-987E-BA1977A3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4A039-94BC-4095-8C38-5C2D5D5D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C5E6B-2580-4DF8-9D66-5F1E2957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77924-6E6D-40E7-A22D-E89438FA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87511-3194-4BF9-8427-A54E33F1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4EB21-439E-4B0E-A467-CE872FC0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4D3F0-84DB-4092-980E-87ABD5A7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289-94D5-4E6E-9E38-8A0F9E31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373AF-BF5B-4F95-A370-FF3C64EF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F7BD-7E09-4DF9-BA50-BE2AA353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A303-22BB-4029-A87A-20327011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61BE-4D8A-4CBD-8C8C-E9DDAC00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C883-A250-4865-B2BD-2C4689AF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095A-4B9C-4E77-A8C6-BC75D5D3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EC0A-762A-4522-AA16-F409543C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25D0-2208-4826-B4E3-A96BC182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4153-9882-4286-B1EA-1C82C1E8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DC8E-FE83-4FED-A20E-0CD16B4F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7E6F-992D-421E-A328-9DCA44FA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A134-7557-40F0-A184-39ECA402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2EC4-1387-49DF-AAF5-6FCBB3C6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A56C-8311-488F-8553-2C9BDD75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9F94F-CFF7-4A9B-899F-8780E8B8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669D1-C680-4227-BB81-9247FB77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37364-B687-45D3-BB77-46609696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D8A10-816A-4DE8-A2E0-01F985F0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DAF13-9CCA-4AB8-BA7E-30C7ADBB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003B-A1B4-43A7-BC8C-1184FCB0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E7C09-8723-46D5-BA2E-A598F045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AD423-6AB6-42AB-BCD5-35525177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4B5AE-7CDA-4283-B5C1-A24B3C92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95EED-E669-4EBE-BEC0-E0BA8802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5F49-A1C1-4F8F-B4D6-2BDA520D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EA627-BFD8-4D95-8380-EF1A398D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1571D-1F9F-4DE3-A8AB-7BDDB17B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48E99-1642-4A89-AAE2-DD7B93E6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5DC88-EAD4-45AF-93DE-E9E3E70A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53B0D-B878-498C-AFDC-A3418D6E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F4A-932D-479D-B98A-B5071AF8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B2521-EC75-4503-883B-A6EF7720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684AA-7EC1-4F48-BEE9-72F5EBCF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41FBF-C6EA-4F0C-A310-9ACFDB1B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EF6CC-16F4-4E92-9DF8-2D7280E7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805A1-359E-4B0C-A717-D4314E9B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DDE02-C2A3-40CE-89D4-7192C89B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66F36-E74A-4BC1-BAD0-0774BB3F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FDB44-7BB6-47F6-B535-F9217D1C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90A63-B863-4A48-B4C8-81ADF41C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90BE7-07B9-4EF9-B651-90CB16A2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ED4-B964-441C-A116-FB2BA4FC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CF5FC-428C-4EAF-AFCF-2C7153E0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FFCF4-EEFC-4D26-AC5F-CD425391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D037E-AD01-4316-985B-92011D13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0434C-D44D-4135-ABAB-E31773DF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E5D73-4B73-4BE5-9DA3-CD3A8324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3D9D8-6B46-478A-9AB7-A11B1E40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8440F-D2EF-469A-B976-552DB448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9335E-385B-408B-A36E-6C6E21D7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B0DDA-ACDB-4C2A-BAC2-4D567435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11C24-EFDE-4E5C-9D6F-6EBAE086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06B4-C419-4675-9361-5DDEDF6F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EE8D8-39A3-414C-9B94-428028F3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1B849-959A-4ED0-BDB8-277ECB3B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96A84-3CAC-4841-A83E-A99A4323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0170E-B1B6-40C4-AB9E-84B832FB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0763A-F76D-42FA-B9DE-265F3498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A2CD2-DDC4-4517-880D-A2622472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89084-136E-4125-BFE8-B87B06EF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C6AEE-6EB0-40EE-B924-259D7477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8B8F2-CDDD-469D-994A-3BCA04E1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95736-F527-4DF5-928A-094D9A4F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8432-388D-4F18-95B6-25CCA225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C52F5-69CA-45E1-BDD7-5D4169A1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FC71E-E5A3-4318-BF52-2DDDE153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E19A1-26BA-46E9-8070-65B2A347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A4A28-4091-4E73-92D2-5ED882A0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33260-F14F-4877-B1CA-7F4569A0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0B887-4802-4252-80EC-BAB7E6C3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31C45-4F87-49EC-9CD5-21A040B7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D3587-5AB8-4866-8985-F67DF02A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28526-C202-41D8-B52C-2447FA3C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186E2-7FE1-46B5-A2E5-5B8774D4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D0F-52E6-4D4C-938F-30C50CEB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5D43C-7A3F-4AA4-B0BC-0FF30E86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E3682-6101-4D39-9C9D-574E8721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78365-A405-4DDE-8557-AEC348E2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43D7A-B181-471B-B5FD-BE81AFFE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8E54E-2439-4B37-A855-DCB69FEE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D9EFD-0D82-49EF-8288-BB752790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34348-5158-4873-B52C-FF306314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CD07A-AB64-4E26-818B-C6E1C379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D7FA1-6CB0-4104-9C4E-67280F42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BBABA-D934-46E0-8911-86813499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11D7-C914-46CA-A5B0-B23A397D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71E8F-E73B-4782-B46B-6D2F9527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7D9B4-8FA7-4FD1-A07A-9691FBB8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CDBF6-9FAF-4D3E-829C-D1C4C5C8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AA28E-59A3-45A3-B885-142E801C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6836B-A3D1-4491-BF92-CBD53A44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1C121-AC4D-497B-9041-6280E6E6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CD021-BCC9-4736-8F9F-0B740056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E12DA-4D92-4999-8B3D-12B78FF1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9DBCB-773B-48A7-92E5-94EC7EBD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AF8DB-4237-49EB-8AE3-A428B2FA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FB70-BCD4-47E3-9A3E-7B3EAC1FFB31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FBD9-AA03-4161-AD05-F37427AB9FDF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9D36-6F32-4AE4-A764-280B9DF31AB7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1832-DB12-4351-B8AF-4A3B05D7441B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7847-C75F-4D2E-8C63-009D96BC378C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37F2-53FF-40CD-9412-8F5DCAC463F9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D459-D731-4598-9FE2-79C358E225F2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271E-4021-4BC9-8E36-72CFB7A03E5F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9AE6-7060-454C-B46A-83A6A87B6F67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219E-89F0-44EF-B591-8700490F8478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00"/>
                </a:solidFill>
                <a:latin typeface="Palatino Linotype"/>
              </a:rPr>
              <a:t>De Hersenen.(Cerebrum)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2060"/>
                </a:solidFill>
                <a:latin typeface="Century Gothic"/>
              </a:rPr>
              <a:t>Door: Roel van der Hoek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Emoti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8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3492360" y="1628640"/>
            <a:ext cx="5786640" cy="32101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250560" y="1600200"/>
            <a:ext cx="331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Het limbische systeem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Onder invloed hiervan ontstaan gevoelens van harmonie, plezier, agressie, sexuele gevoelens, schuld, beloning en straf.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Verbinding tussen grote hersenen en tussenhersenen.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8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Tussenhersenen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8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4802040" cy="26654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394920" y="162864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Bevinden zich tussen de 2 hemisferen/helften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Hier liggen veel hersen-gedeeltes en klieren die hele belangrijke en basale functies besturen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1. Pijnappelklier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2. Thalamu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3. Hypothalamu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Regulatie van hypofyse, temperatuur, zoutconcentratie, glucose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86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sp>
        <p:nvSpPr>
          <p:cNvPr id="487" name="Tekstvak 1"/>
          <p:cNvSpPr/>
          <p:nvPr/>
        </p:nvSpPr>
        <p:spPr>
          <a:xfrm>
            <a:off x="4643280" y="4941720"/>
            <a:ext cx="36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4. Hypof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5. Amygd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Arial"/>
              </a:rPr>
              <a:t>enzovoor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Hersenstam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89" name="Tijdelijke aanduiding voor inhoud 7" descr=""/>
          <p:cNvPicPr/>
          <p:nvPr/>
        </p:nvPicPr>
        <p:blipFill>
          <a:blip r:embed="rId1"/>
          <a:stretch/>
        </p:blipFill>
        <p:spPr>
          <a:xfrm>
            <a:off x="5400720" y="2462040"/>
            <a:ext cx="2533680" cy="28004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Hier worden nog basalere functies geregeld, zoals: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Adem, hartregulatie en temperatuurcentrum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Onderbewuste. Wakker, sluimeren, slapen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91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Kleine hersenen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93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648320" y="2714760"/>
            <a:ext cx="4038480" cy="229680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De kleine hersenen hebben een belangrijke functie bij de lichaamshouding en de lichaamsbeweging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Info via: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Grote hersenen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Stand ledematen en spierspanning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evenwichtsorgaan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95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Ruggenmerg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97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648320" y="2324160"/>
            <a:ext cx="4038480" cy="30780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Medulla spinal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Dient als geleidingsweg voor motorische impulsen vanuit de hersenen en alle sensorische naar de hersenen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99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Hersenvliezen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50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648320" y="2255760"/>
            <a:ext cx="4038480" cy="32148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Van buiten naar binnen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Harde vli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Vast aan schedel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Spinnenwebvli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Hol, bevat vocht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Zachte vli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Volgt elke wending van de hersenen, bevat bloedvaten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03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Uitwendige bouw(1)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4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2232000" cy="20095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716360" y="1196640"/>
            <a:ext cx="41227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2 helften= hemisfere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7f7f7f"/>
                </a:solidFill>
                <a:latin typeface="Century Gothic"/>
              </a:rPr>
              <a:t>(rechts crea/links orde)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1. De buitenkant (hersenschors of cortex) is  ‘grijze stof’. Dit zijn de cellichamen van de neuronen 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2. Binnenkant is ‘witte stof’, de uitlopers van de neurone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2060"/>
                </a:solidFill>
                <a:latin typeface="Century Gothic"/>
              </a:rPr>
              <a:t>(NB: in het ruggemerg liggen witte en grijze stof andersom!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50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9"/>
          <p:cNvSpPr/>
          <p:nvPr/>
        </p:nvSpPr>
        <p:spPr>
          <a:xfrm>
            <a:off x="30168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Afbeelding 3" descr=""/>
          <p:cNvPicPr/>
          <p:nvPr/>
        </p:nvPicPr>
        <p:blipFill>
          <a:blip r:embed="rId3"/>
          <a:stretch/>
        </p:blipFill>
        <p:spPr>
          <a:xfrm>
            <a:off x="606600" y="3233880"/>
            <a:ext cx="357948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Uitwendige bouw(2)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5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619280" y="4581360"/>
            <a:ext cx="2381400" cy="21718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Per hersenhelft zijn er 4 kwabben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Voorhoofdskwab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Wandbeenkwab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Slaapbeenkwab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Achterhoofdkwab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Op elke kwab liggen specifieke sensorische gebieden.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5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czs_overzicht"/>
          <p:cNvPicPr/>
          <p:nvPr/>
        </p:nvPicPr>
        <p:blipFill>
          <a:blip r:embed="rId3"/>
          <a:stretch/>
        </p:blipFill>
        <p:spPr>
          <a:xfrm>
            <a:off x="6084720" y="1576440"/>
            <a:ext cx="295452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Grote hersenen, de functies(1)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Gebieden voor motoriek (bewuste bewegingen) en sensoriek (bewuste waarneming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‘</a:t>
            </a: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Motorisch mannetje’ de homunculus. Alles heeft een eigen plek op de hersenschors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61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462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4211640" y="1628640"/>
            <a:ext cx="44038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Grote Hersenen, de functies(2)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6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648320" y="2368440"/>
            <a:ext cx="4038480" cy="29894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Gewaarwording via zintuigen gaat naar specifieke gebieden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Visuele schor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Auditieve schor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Smaakcentrum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Reukschors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Secundaire en Associatieve gebiede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66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De frontaalkwab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68" name="Tijdelijke aanduiding voor inhoud 4" descr="zijaanzicht hersenen.gif"/>
          <p:cNvPicPr/>
          <p:nvPr/>
        </p:nvPicPr>
        <p:blipFill>
          <a:blip r:embed="rId1"/>
          <a:stretch/>
        </p:blipFill>
        <p:spPr>
          <a:xfrm>
            <a:off x="130320" y="2000160"/>
            <a:ext cx="3665520" cy="29098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000320" y="999720"/>
            <a:ext cx="46861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7f7f7f"/>
                </a:solidFill>
                <a:latin typeface="Century Gothic"/>
              </a:rPr>
              <a:t>Frontaalkwab (</a:t>
            </a:r>
            <a:r>
              <a:rPr b="1" lang="nl-NL" sz="2200" spc="-1" strike="noStrike">
                <a:solidFill>
                  <a:srgbClr val="00b0f0"/>
                </a:solidFill>
                <a:latin typeface="Century Gothic"/>
              </a:rPr>
              <a:t>blauw</a:t>
            </a:r>
            <a:r>
              <a:rPr b="1" lang="nl-NL" sz="2200" spc="-1" strike="noStrike">
                <a:solidFill>
                  <a:srgbClr val="7f7f7f"/>
                </a:solidFill>
                <a:latin typeface="Century Gothic"/>
              </a:rPr>
              <a:t>)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Ook voorhoofdskwab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genoemd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Dit is de grootste van de vier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hersenkwabben en neemt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een derde deel van de totale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hersenschors in beslag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Het helpt controle te houden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over geleerde spierbewegingen,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stemming, plannen maken voor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de toekomst, doelen en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prioriteiten stellen</a:t>
            </a:r>
            <a:br>
              <a:rPr sz="2200"/>
            </a:b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Pariëtaalkwab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71" name="Tijdelijke aanduiding voor inhoud 4" descr="zijaanzicht hersenen.gif"/>
          <p:cNvPicPr/>
          <p:nvPr/>
        </p:nvPicPr>
        <p:blipFill>
          <a:blip r:embed="rId2"/>
          <a:stretch/>
        </p:blipFill>
        <p:spPr>
          <a:xfrm>
            <a:off x="311040" y="2143080"/>
            <a:ext cx="3484800" cy="27669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4142880" y="1499760"/>
            <a:ext cx="4543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7f7f7f"/>
                </a:solidFill>
                <a:latin typeface="Century Gothic"/>
              </a:rPr>
              <a:t>Pariëtaalkwab (</a:t>
            </a:r>
            <a:r>
              <a:rPr b="1" lang="nl-NL" sz="2000" spc="-1" strike="noStrike">
                <a:solidFill>
                  <a:srgbClr val="00b050"/>
                </a:solidFill>
                <a:latin typeface="Century Gothic"/>
              </a:rPr>
              <a:t>groen</a:t>
            </a:r>
            <a:r>
              <a:rPr b="1" lang="nl-NL" sz="2000" spc="-1" strike="noStrike">
                <a:solidFill>
                  <a:srgbClr val="7f7f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Ook wandbeenkwab genoemd.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Van opzij gezien: het aan de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achter/bovenzijde gelegen deel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van de hersenschors.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Het ontvangt en verwerkt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informatie betreffende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temperatuur, tast, gevoel en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beweging die vanuit de rest van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het lichaam afkomstig is. In dit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gebied worden tevens het lezen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en rekenen verwerkt</a:t>
            </a:r>
            <a:br>
              <a:rPr sz="2000"/>
            </a:b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a388"/>
            </a:gs>
            <a:gs pos="100000">
              <a:srgbClr val="e9e0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De temporale kwab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74" name="Tijdelijke aanduiding voor inhoud 4" descr="hersenkwabben in kleur.gif"/>
          <p:cNvPicPr/>
          <p:nvPr/>
        </p:nvPicPr>
        <p:blipFill>
          <a:blip r:embed="rId1"/>
          <a:stretch/>
        </p:blipFill>
        <p:spPr>
          <a:xfrm>
            <a:off x="130320" y="2000160"/>
            <a:ext cx="3665520" cy="29098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4716000" y="148428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7f7f7f"/>
                </a:solidFill>
                <a:latin typeface="Century Gothic"/>
              </a:rPr>
              <a:t>Temporaalkwab</a:t>
            </a: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 (</a:t>
            </a:r>
            <a:r>
              <a:rPr b="0" lang="nl-NL" sz="2400" spc="-1" strike="noStrike">
                <a:solidFill>
                  <a:srgbClr val="7030a0"/>
                </a:solidFill>
                <a:latin typeface="Century Gothic"/>
              </a:rPr>
              <a:t>paars</a:t>
            </a: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Ook slaapkwab genoemd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Ligt aan de zijkant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Het verwerkt het gehoor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geheugen en taalfuncties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ecfa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De occipitale kwab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77" name="Tijdelijke aanduiding voor inhoud 4" descr="hersenkwabben in kleur.gif"/>
          <p:cNvPicPr/>
          <p:nvPr/>
        </p:nvPicPr>
        <p:blipFill>
          <a:blip r:embed="rId1"/>
          <a:stretch/>
        </p:blipFill>
        <p:spPr>
          <a:xfrm>
            <a:off x="220680" y="2071800"/>
            <a:ext cx="3575160" cy="28382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4284360" y="148428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7f7f7f"/>
                </a:solidFill>
                <a:latin typeface="Century Gothic"/>
              </a:rPr>
              <a:t>Occipitaal kwab </a:t>
            </a: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(</a:t>
            </a:r>
            <a:r>
              <a:rPr b="0" lang="nl-NL" sz="2400" spc="-1" strike="noStrike">
                <a:solidFill>
                  <a:srgbClr val="ffcc00"/>
                </a:solidFill>
                <a:latin typeface="Century Gothic"/>
              </a:rPr>
              <a:t>geel</a:t>
            </a: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Ook achterhoofdskwab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genoemd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Ligt aan achterzijde en is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de kleinste van de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kwabben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Het helpt bij het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verwerken van visuele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informatie. (datgene wat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via de ogen binnenkomt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5:27:26Z</dcterms:created>
  <dc:creator>ROEL</dc:creator>
  <dc:description/>
  <dc:language>en-US</dc:language>
  <cp:lastModifiedBy>Bakker,C.M.</cp:lastModifiedBy>
  <dcterms:modified xsi:type="dcterms:W3CDTF">2016-06-05T22:26:53Z</dcterms:modified>
  <cp:revision>22</cp:revision>
  <dc:subject/>
  <dc:title>De hersenen.</dc:title>
</cp:coreProperties>
</file>