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D60-C00B-4D1D-8DB1-2F47215B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C3D-CF2A-492F-AB89-3A3C45EA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D66-84AC-4969-9D19-79C70DF0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565-F396-4609-ADE7-D3142198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9D20-E3A4-4843-9743-B643B048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4756-5462-4830-8DF8-ED3895BF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D8AA-CE26-43FC-A0C2-E3C243CF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3553-FC73-4F3E-864E-D42F0460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7947-88E2-4BC0-A9EE-9A2B529A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4742-0F4A-4CDD-B6C6-9E2FE174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61E8-F96A-4E73-9A17-631B5EC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9D4-E914-43CE-A166-F439053C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5A02-CC27-462D-B7C5-F2C1D48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CB15-598E-439A-9D85-8B21DF5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F3BB-5EA1-4B10-A1E8-C3076ACF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9ECB-0DBA-46AE-8E3B-5FAE4625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8615-3331-44F5-97B8-F2FB2D59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62B-04E2-40EE-AE34-1FA0E6A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1B8-AF77-4EDA-BE37-3381D886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D37-9672-4893-8776-E02D2DD2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495-F889-4C38-8943-C4C4760B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DA7-7705-4001-8AD5-F0FD901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11F-B73B-4DE2-A142-EF6B6A6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62A-61E3-42CD-B231-7FAEEDD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C017-34C4-46F5-BCB7-47DD8CDD4D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9C3B-3AF6-455E-B9BF-5229B69EA57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geling door 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ormonen zijn chemische boodschapperstoffen. Zij worden gevormd op een bepaalde plaats en hebben hun eigen doelwitcelle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ijni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oduceren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rticosteroiden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schorshormonen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langrijkst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dosteron (Na – K balan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rtisol (Stress hormoo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drenaline ( Vlucht-vecht hormoo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307040" y="3200400"/>
            <a:ext cx="4532040" cy="1812960"/>
          </a:xfrm>
          <a:prstGeom prst="rect">
            <a:avLst/>
          </a:prstGeom>
          <a:ln w="0">
            <a:noFill/>
          </a:ln>
        </p:spPr>
      </p:pic>
      <p:pic>
        <p:nvPicPr>
          <p:cNvPr id="123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ilandjes van Langerha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1% van de Alvleeskli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aken twee hormonen: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sulin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glucag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ze regel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loedsuikerspiegel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332080"/>
            <a:ext cx="3809880" cy="326052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onad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geslachtsklier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oduceren geslachtshormonen onder invloed van de hypofys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estrog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geste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estoste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508720" y="2073240"/>
            <a:ext cx="2246040" cy="4494240"/>
          </a:xfrm>
          <a:prstGeom prst="rect">
            <a:avLst/>
          </a:prstGeom>
          <a:ln w="0">
            <a:noFill/>
          </a:ln>
        </p:spPr>
      </p:pic>
      <p:pic>
        <p:nvPicPr>
          <p:cNvPr id="13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eefsel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nkele op een rijtj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PO (erytropoëtin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istamine (beschadigd weefsel kan dit afgev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tagladines ( uitdrijving foetus, ontstekingsmediato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4192560" cy="3024000"/>
          </a:xfrm>
          <a:prstGeom prst="rect">
            <a:avLst/>
          </a:prstGeom>
          <a:ln w="0">
            <a:noFill/>
          </a:ln>
        </p:spPr>
      </p:pic>
      <p:pic>
        <p:nvPicPr>
          <p:cNvPr id="13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1" descr=""/>
          <p:cNvPicPr/>
          <p:nvPr/>
        </p:nvPicPr>
        <p:blipFill>
          <a:blip r:embed="rId2"/>
          <a:stretch/>
        </p:blipFill>
        <p:spPr>
          <a:xfrm>
            <a:off x="1801800" y="1484280"/>
            <a:ext cx="680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Vijf verschillen tussen het zenuw- en hormoonstels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4475160" cy="197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     </a:t>
            </a:r>
            <a:r>
              <a:rPr b="1" lang="nl-NL" sz="2000" spc="-1" strike="noStrike">
                <a:solidFill>
                  <a:srgbClr val="cccc00"/>
                </a:solidFill>
                <a:latin typeface="Arial"/>
                <a:ea typeface="Arial"/>
              </a:rPr>
              <a:t>Zenuwstels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Door impulse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elektrische berichtje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snel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Kortduren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Via zenuw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092480" y="1628640"/>
            <a:ext cx="453708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Arial"/>
                <a:ea typeface="Arial"/>
              </a:rPr>
              <a:t>Hormoonstels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Door hormon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Chemische berichtje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langzaam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Langduri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Via het blo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Picture 7" descr="zenuwstelsel"/>
          <p:cNvPicPr/>
          <p:nvPr/>
        </p:nvPicPr>
        <p:blipFill>
          <a:blip r:embed="rId1"/>
          <a:stretch/>
        </p:blipFill>
        <p:spPr>
          <a:xfrm>
            <a:off x="2701800" y="3422520"/>
            <a:ext cx="1292400" cy="336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180px-Illu_endocrine_system"/>
          <p:cNvPicPr/>
          <p:nvPr/>
        </p:nvPicPr>
        <p:blipFill>
          <a:blip r:embed="rId2"/>
          <a:stretch/>
        </p:blipFill>
        <p:spPr>
          <a:xfrm>
            <a:off x="6908760" y="2435400"/>
            <a:ext cx="22352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Hormonen: stoffen die in je lichaam langdurige processen regel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Samenwerking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       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Autonome zenuwstelsel: snel en kor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Hormoonstelsel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: langzaam en langduri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419640" y="4403880"/>
            <a:ext cx="107928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00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ormoonkli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Picture 4" descr="hormoonklieren"/>
          <p:cNvPicPr/>
          <p:nvPr/>
        </p:nvPicPr>
        <p:blipFill>
          <a:blip r:embed="rId1"/>
          <a:stretch/>
        </p:blipFill>
        <p:spPr>
          <a:xfrm>
            <a:off x="108000" y="1844640"/>
            <a:ext cx="4549680" cy="439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ypofyse"/>
          <p:cNvPicPr/>
          <p:nvPr/>
        </p:nvPicPr>
        <p:blipFill>
          <a:blip r:embed="rId2"/>
          <a:stretch/>
        </p:blipFill>
        <p:spPr>
          <a:xfrm>
            <a:off x="4851360" y="1528920"/>
            <a:ext cx="42069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ormoonkli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langrijkst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ijnappelkli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ofy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hildkli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ijni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ilandjes van Langerha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ierestokk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eelballe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436840"/>
            <a:ext cx="3809880" cy="30510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ijnappelkli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pify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t voor aanmaak van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melatonin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langrijk bij dag- en nachtritme men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bers hebben een lage melatonine   producti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773440"/>
            <a:ext cx="3809880" cy="237816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ypofy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rsenaanhangsel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nz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‘mastergland’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t aangestuurd door de hypothalamu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hypofyse maakt de meeste en belangrijkste hormon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509920"/>
            <a:ext cx="3809880" cy="290520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childkli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childklierhormonen hebben invloed op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alle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chaamcell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childklierhormonen regel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elstofwisseling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bijschildklieren maken hormonen voor kalkinbouw(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vitamine 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357280"/>
            <a:ext cx="3809880" cy="3210120"/>
          </a:xfrm>
          <a:prstGeom prst="rect">
            <a:avLst/>
          </a:prstGeom>
          <a:ln w="0">
            <a:noFill/>
          </a:ln>
        </p:spPr>
      </p:pic>
      <p:pic>
        <p:nvPicPr>
          <p:cNvPr id="119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6-05T22:27:04Z</dcterms:modified>
  <cp:revision>24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