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486E-D281-49C5-B738-F2F61001F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7E39-AF82-42C9-AE9B-D3BE7E36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9BFC-AA76-4B78-B53B-0FCA039B3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7DC8-53B0-437C-BEAB-0207E1326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593A-8FE2-4A59-B44B-BE3D0AFD4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A7C0-0E58-4DB4-9012-A63DE49C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39B5-F5C5-428E-B5A6-3108F352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BFED-AC7F-4E2F-A72E-5B078816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ABE7-AC56-4C8A-B914-716781AC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B34E-B06D-47FA-B532-CDBFAC4A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ED6A-945E-4540-B10E-8CF7E76D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9CCC-EBB2-4753-9424-6DD807F6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26B0-1595-431F-A521-42964AFC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773B-DF61-435F-831C-145B5854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3024-6B73-4D23-947D-3AC98D79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BAD6-D12B-461F-8C66-6A6001915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927F3-A693-44EF-A6B8-577696F5A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93A3-9F8F-483D-9449-140BCB12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F7A7-02BD-49B1-B580-1208E6E0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A6A0-04EC-4488-9364-DBBBA999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3404-EEB0-4A25-8AC0-D8C9F3FB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239F-18BE-46C8-A010-97ABB5D6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578C-68D3-4F8A-9727-A3E210E4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94C6-312E-489A-BC1A-654FE028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FC26-DF34-4DE7-B917-90FE71E2AC7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6120-5242-48C9-98CE-FA10DD121C96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8440" y="1523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Seksualiteit en voortplanting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Al meer dan 100.000 jaar op deze planeet dankzij de voortplanting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8" name="Afbeelding 1" descr=""/>
          <p:cNvPicPr/>
          <p:nvPr/>
        </p:nvPicPr>
        <p:blipFill>
          <a:blip r:embed="rId1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Seksualiteit en ouder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2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1066680" y="2546280"/>
            <a:ext cx="3810240" cy="28321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50288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Sociale factoren die een rol spelen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Partner valt we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Meer vrouwen dan mannen (2.25 x meer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Sociale controle in zorg- en verpleeghuizen beïnvloed seksueel functioneren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4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Misverstand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Dementerenden en gezonde partners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Wordt vaak gesproken over ‘ontremde’gedrag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Slechte beeldvorming ‘seks en ouderen’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7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103720" y="1905120"/>
            <a:ext cx="3660840" cy="4114800"/>
          </a:xfrm>
          <a:prstGeom prst="rect">
            <a:avLst/>
          </a:prstGeom>
          <a:ln w="0">
            <a:noFill/>
          </a:ln>
        </p:spPr>
      </p:pic>
      <p:pic>
        <p:nvPicPr>
          <p:cNvPr id="128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Misverstand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0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2743200" cy="3809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50288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ccecff"/>
                </a:solidFill>
                <a:latin typeface="Times New Roman"/>
              </a:rPr>
              <a:t>Het veel genoemde ‘ontremde gedrag’ komt niet vaak voor. 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ccecff"/>
                </a:solidFill>
                <a:latin typeface="Times New Roman"/>
              </a:rPr>
              <a:t>Groter probleem is de afvlakking van emoties en negeren van intimiteit.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ccecff"/>
                </a:solidFill>
                <a:latin typeface="Times New Roman"/>
              </a:rPr>
              <a:t>Draagkracht en draaglast van gezonde partner onder hoge druk.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2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Hulpverlening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Hulpverlening praat niet over intimiteit en seksualiteit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Seksualiteitsbeleving en veranderingen bij ziekte en ouder worden onderbelicht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Leren herkennen van signalen in gesprekke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5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159520" y="2781360"/>
            <a:ext cx="3678120" cy="2448000"/>
          </a:xfrm>
          <a:prstGeom prst="rect">
            <a:avLst/>
          </a:prstGeom>
          <a:ln w="0">
            <a:noFill/>
          </a:ln>
        </p:spPr>
      </p:pic>
      <p:pic>
        <p:nvPicPr>
          <p:cNvPr id="136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Voortplanting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0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1066680" y="2244600"/>
            <a:ext cx="3810240" cy="34354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0288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Primaire geslachtskenmerke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Secundaire geslachtskenmerke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Kind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Pub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Volwassen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Oudere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2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Seksualiteit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Seksualiteit en voortplanting kun je tegenwoordig los van elkaar zi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Seksualiteit is de sociale kant van de geslachtsgemeenschap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5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403960" y="2432160"/>
            <a:ext cx="3060720" cy="3060720"/>
          </a:xfrm>
          <a:prstGeom prst="rect">
            <a:avLst/>
          </a:prstGeom>
          <a:ln w="0">
            <a:noFill/>
          </a:ln>
        </p:spPr>
      </p:pic>
      <p:pic>
        <p:nvPicPr>
          <p:cNvPr id="96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Maatschappelijke ontwikkeling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8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998640" y="1989000"/>
            <a:ext cx="3960720" cy="39610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50288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Aan seksualiteit worden grenzen gesteld. Door de maatschappij, religies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Tussen landen en culturen bestaan zeer grote verschill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Homoseksualiteit vs doodstraf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0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Seksualiteitsbeleving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Tot de jaren ‘60 van de vorige eeuw: kerken hadden grote invloed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Veranderende moraal t.a.v. man en vrouw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Gelijkheid man – vrouw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Sexuele revolutie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3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508720" y="1955880"/>
            <a:ext cx="2990880" cy="4209840"/>
          </a:xfrm>
          <a:prstGeom prst="rect">
            <a:avLst/>
          </a:prstGeom>
          <a:ln w="0">
            <a:noFill/>
          </a:ln>
        </p:spPr>
      </p:pic>
      <p:pic>
        <p:nvPicPr>
          <p:cNvPr id="104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Seksualiteit en ouder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6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1143000" y="2736720"/>
            <a:ext cx="3657600" cy="2451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50288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Een taboe onderwerp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Hulpverlening ‘durft’ het onderwerp niet aa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Weinig onderzoek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Leeftijdsgrens vaak tot 50 jaar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8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Seksualiteit en ouder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Fysiologische verandering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Man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Tragere erecti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Lagere spermadru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Langer herste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Vrouw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Minder vaginaalvoch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Vaginawand dunner en minder elastisch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1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029200" y="2340000"/>
            <a:ext cx="3809880" cy="3244680"/>
          </a:xfrm>
          <a:prstGeom prst="rect">
            <a:avLst/>
          </a:prstGeom>
          <a:ln w="0">
            <a:noFill/>
          </a:ln>
        </p:spPr>
      </p:pic>
      <p:pic>
        <p:nvPicPr>
          <p:cNvPr id="112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Seksualiteit en ouder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4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1406520" y="1905120"/>
            <a:ext cx="3130560" cy="4114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50288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Invloed ziekte en medicijngebruik (in)direct negatieve effect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Suikerziekte: erectieproblemen, pij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Artrose/ reuma: beperkte lichamelijke activiteit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6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Seksualiteit en ouder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TIA/CVA, hartinfarct levert angst voor herhaling op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Medicatie tegen hoge bloeddruk heeft een negatieve invloed op de seksualiteitsbeleving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9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003640" y="2637000"/>
            <a:ext cx="3843360" cy="2736720"/>
          </a:xfrm>
          <a:prstGeom prst="rect">
            <a:avLst/>
          </a:prstGeom>
          <a:ln w="0">
            <a:noFill/>
          </a:ln>
        </p:spPr>
      </p:pic>
      <p:pic>
        <p:nvPicPr>
          <p:cNvPr id="120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08:50:37Z</dcterms:created>
  <dc:creator>Onderwijs</dc:creator>
  <dc:description/>
  <dc:language>en-US</dc:language>
  <cp:lastModifiedBy>Bakker,C.M.</cp:lastModifiedBy>
  <cp:lastPrinted>2016-01-14T09:10:04Z</cp:lastPrinted>
  <dcterms:modified xsi:type="dcterms:W3CDTF">2016-06-05T23:26:54Z</dcterms:modified>
  <cp:revision>26</cp:revision>
  <dc:subject/>
  <dc:title>Di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31043</vt:lpwstr>
  </property>
</Properties>
</file>