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3D0-0E8F-4FD8-BEEA-C923F17A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7DB-B094-4543-A505-E473A197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113-3E0F-41A2-8016-DD962A24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C5D-FA7A-4C10-8654-A882CB1A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02FC-6E6D-4D01-905D-4CCE7B7F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0F5E-2C2E-44E0-B7F2-D844AF1C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3F72-DD07-4EAC-92B4-E33BF7E4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5CA2-C519-414C-894D-0FFFDA03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AC90-422E-4C34-A3D5-1A673D96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75E6-2889-462E-9067-A309047C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3EC5-9E92-499D-AAFF-F4A1623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176-1B6E-4A16-8441-EB55D96C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E18B-24DA-452F-95CE-2B29CCA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3A42-1DA2-4C85-936E-DC0320A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DD7D-7964-4788-A9AB-62E6A9BF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D37C-8DC7-47CC-9291-5CD6F718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4E3D-71D5-4562-BC1A-1365008E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82E-48A3-4E79-8BA5-43B805EA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92A-1DA9-43A0-AA86-C475EA90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0FE-2585-4F03-9272-ECAD541F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0E1-6FCE-4280-9DAF-74458EB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FB5-2B75-4860-97FB-557EAEE9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ADB-2885-4D6D-AE4E-A9F04E8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919-E479-44AA-8155-75ADC7B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0CEE-8116-4028-A5F4-0ADC344B31A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64F3-E7B2-4634-9BA4-FDC3FC566B40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  <p:pic>
        <p:nvPicPr>
          <p:cNvPr id="9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  <p:pic>
        <p:nvPicPr>
          <p:cNvPr id="10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  <p:pic>
        <p:nvPicPr>
          <p:cNvPr id="10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  <p:pic>
        <p:nvPicPr>
          <p:cNvPr id="11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  <p:pic>
        <p:nvPicPr>
          <p:cNvPr id="11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6-12T21:30:38Z</dcterms:modified>
  <cp:revision>24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