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714-EEFF-438E-A890-AD22088E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F7C-7CD8-470F-AE36-F74FB959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E7F29-DD77-4C07-8515-DDDE23C9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8FA2A-703D-49CF-8F6C-EB69176A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A1D5B-2F38-4E07-9F0C-554F8A8D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94EBB-765E-4167-8CF4-B3AB3DB7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B24E9-2EAD-4859-8ECD-007487D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736ED-BED8-4264-9089-C6117583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927F0-6D00-4490-BBF7-5611F4C7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8AC1B-D67C-4926-9EFB-C9342857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45569-7184-4213-9C9C-32D6D8DB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1AAB6-BFC4-4055-8E4D-30988BAA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9C4-4DB3-4375-8A0F-14C6B75C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25A29-62EC-4197-B92B-3D06077D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82D96-C6B5-45A3-8DD3-9E6BF7D7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725E3-549F-4009-A2B3-4FAE7741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828D0-EFE1-40B4-A649-956B9DD3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B1A9A-DF57-42F5-9B7F-F6C6D118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1F249-805A-4835-A381-A5421479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5FB69-B7E8-40E5-8344-4DEE5017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69DA8-39E8-48BF-BDDD-A07EAD2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EB11A-E9A1-4B62-A395-A6CF6707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FF53B-E5A3-4237-81A6-E0C0CA37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BB6-0047-433A-8F09-99D02F43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ED6D5-FF98-46DA-A4FF-2C965A8E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DC95A-F39A-43EE-AF4E-691AA7E3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D24CE-68A2-4E1C-8716-0A681606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607A3-219B-41CB-AE26-0BAEE366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0EA3F-28C2-4972-9167-7C26A614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1F223-7BB9-4CC3-81F5-37CEF08F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44AEE-EF41-40FF-9CE3-01539387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3C3B9-449D-465E-9AFA-694DCE46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B834C-468F-49D0-94A2-4B14F5C3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DE53E-B51F-47BE-859E-3FF4B7C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7D81-50C6-449E-8A88-EF122A29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5AE54-2A86-4D97-BBFB-99BD7A58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13AE2-A8F4-43A2-9D62-A4DD7E56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3AC80-97DD-40D2-92AF-6EF97785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CA583-ACCD-4EFC-A108-610D0F9F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3E483-6C45-42E7-90A9-5C6830C4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79745-1805-42FC-B8AD-87BE5227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730BA-3679-4766-8EC4-DD38F7D4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DD013-37E7-4E68-A4CC-E9A019ED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D0035-4E78-4861-9A13-8DD00EE1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678F7-E5CA-4CCE-BD3D-739057A7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B722-0A67-4B98-AC63-B6229513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AC4CD-43F0-4F3D-9AA3-AA9A0B1C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6C237-7984-418D-8A76-E442116F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5BE1E-200F-4CEC-A3D2-6536A8FE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81C8F-EE79-4486-89E7-B57320D7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3C7D8-5DAD-4D33-BEF8-343C5F9E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8FB3D-7B41-4FF8-BF70-55ADF172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3189F-7DEA-45DE-885A-D6004E89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A08AB-1316-46FF-8F12-10A4EC4C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DF3D0-7057-4708-921B-9DCD01E1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F19F3-626A-42CC-8B2D-45D1AC84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ABBB-53F5-4455-927E-6E9057BE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DD75F-8861-4507-BFAF-AA3A0EB7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FB558-EB3B-4691-A033-DB91118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FCBD1-9709-4107-9317-0F95D6E9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5F539-BC9D-4F2D-BB28-7C8A4579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78B60-4E89-42DE-838F-FB8FD037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68BDF-7752-4B9D-8FBA-E89497BA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C09B3-ECFB-4197-B7F9-CC0B7046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7E77E-EBC7-4A34-9AC9-46248224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075AD-366E-492E-B502-C8444950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A4FED-AEA9-4632-AADC-120D2A99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74F7-4AA7-4356-BBFC-B4CDEECF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3ACD7-805C-4C89-8DA5-ED17CA71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44697-7697-4CDD-92BC-12A0D6C4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16486-C9F6-4E99-8765-157E5A14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F8673-EADE-4BEE-8409-ACAFA11B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0CE1F8-6D59-426A-A493-8A99B053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D1BA3-FFB8-4D0F-A1F7-74872FE8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FA634-AC7C-418C-95C0-6670C91B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D0D8B-64AB-4FE8-82FE-7FC71F93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1E571-4631-4FEB-AFAC-965120BF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FE3F3-90A9-4B40-AEA4-2C7DE874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FDDB-D9CF-4E63-A3F6-553C801A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70C853-89C5-45ED-9EE0-397DE990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A33E6D-6C21-4186-9358-C282CE04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319D9-6E47-4E00-BF61-88D02998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52429-8675-4379-AE8B-24B0F36B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C23A5-1E91-404C-9783-E1C5E1E5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E9D57-8130-422B-9CC3-F3759B50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A1F94-FE0A-461A-9A44-BA5AD137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15D705-FC9E-4618-9E7D-DA127BF2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02666-C5F0-4527-B7A5-F1A4BE0F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0527C-56B1-4CD3-9BEF-629FFBEF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8F40-BF5A-423C-9CBE-E12AF818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907A8-B22B-40A1-95A0-EE93AA0A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2CFAB-5994-4F7A-923F-1CFB282B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45911-C903-493B-A0EF-38E50E15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BA249-10A4-4E25-995E-3E42E267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6A44F-9CF8-4A51-AE93-8655CCF0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534F1-6D25-4AE1-BB55-C32BD878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E4E51-B1FC-4A10-8F60-AD631289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D32D1-FD50-49AF-858F-FBF6C76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D571B-5F83-446B-9C8E-FF430E9C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F38460-B70B-4DAB-B11D-0E4D24C2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2808-53A4-4653-8127-92C7D67E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E82E48-8A61-4BAE-B90D-C25863D6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5D496-E7AD-4C68-829E-6A8FD5C1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AF1C3-D01E-4A57-AEEB-C2D0E769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DC352-1FDC-4A53-8DBD-344990A9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0FA87D-4AAC-4A84-BC92-03F3A5CE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CF944-70CE-4171-BF10-D89D8FD3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F20CA-D679-4945-98F0-AF87FA6B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8A07F-667F-4E6E-9934-06941BBB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954B4-D7F5-471A-B138-3B546B75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0B4A8-BAA7-466E-99D9-EE346F92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DA5-07DE-411A-B3B6-42702AB6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CC3C-B20D-46A9-B2A8-B68CEE4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41CE0-ADF3-4E09-915F-C19C735F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EF4353-698E-4C95-8E94-BDD21F5D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68A836-2C52-4CD9-AEA2-F11E6733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BD726-1319-47DD-9FB8-07AB7E03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F0FEF-F0F1-4EE2-81B1-9AD7513C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C5288C-6A3D-4F55-8229-6509F2ED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8734B-686C-47C6-8C2E-D046C6D6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48F025-889B-4EBD-BD16-22BF1877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D4EC5D-F9B1-4824-BE79-DB468097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7237E4-9E4A-450E-A4A2-590A975A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1986-6C9A-4A57-BF39-F3E60A8E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322AD-940C-4B4A-ACA8-6F698697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EDAFA-141C-4EBB-A91D-21AFEE6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722CAD-550E-4685-997E-C50D1200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5A2F31-03E9-4434-A97B-EE8580B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B0512-8C22-4FA3-8B9A-5ADEE549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9060C-5E03-4988-88C5-5406114F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8A5A3-95AB-463C-B29D-08390EEF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F2C2B5-E79A-4C1B-A68A-2101CF63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4EA4C-75F7-4353-99AB-B5AC9421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857206-9365-47FF-85E1-9C96637C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783F-5DFA-4CC7-9F8F-BDAC825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87F1F-B2F0-45F8-8B9A-A2A1E0AB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110411-30AA-4C76-809D-E98A0329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A2A062-E37C-4B2E-A412-23D95508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0067C-9A14-4A32-BEA9-C30C40ED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CF9A9A-05A7-4A65-9E59-B35DBA4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D1D68B-D5BF-4059-B07D-1249166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98CF61-486B-4430-816B-D761222A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B33E5-A820-4356-99E5-07FD08D7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74C0E2-8874-465C-BE96-9CA7C245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0E17C-6790-4A0D-9450-E28CAA8E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9978-F63A-4A25-A5B8-0A1220DD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6881DD-7001-4EBB-945D-3D299097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8E392A-42E1-497E-A693-4FF2C478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2BC1E-2340-4F5C-A552-D5CDDDFE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D5305-C501-4999-A7F1-71719BD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7BF20A-4A00-4BA9-8171-1B1CFD88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9879BF-7B95-4716-AE9C-75C0C4C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68707-736D-45E7-A635-28CDD067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FC17E-EA3A-4AA2-9148-CFC51DD7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E0C4D-7A12-47AE-8C31-2A2870AF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633B9C-5A70-4A7D-90D5-B2E993F0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2EDE-44A5-4DBA-B1AA-92251ED9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BABBF9-A68A-4CA2-932D-3D90E88E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9BCAE-562B-4151-B0C8-D72BDF9C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0B40-0CE3-47DB-A34A-E2E397BC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B084-199B-4243-9B99-F0E5E198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42363-6D21-4FC8-AEA2-720F7491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C3A6-A6DD-4B42-89FF-833B206F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714-FACF-4607-B524-C994ABBF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BAF7-2718-4A1F-98F1-5D69F04A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769E-2CD2-4361-9277-795A1A16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5DC3-28FB-4E94-9829-F4374619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086F-A481-4891-AA79-814EA6D4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35D0F-0F46-4BAE-92A0-82152DF3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76C7-6D65-4F25-9995-16D713E8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0D17-9C49-44E4-B51C-94DD804F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450C9-F204-4293-82B9-CC0171AC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0BAC4-5EBE-4CB3-A6C9-FF62750E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C506E-621E-461C-B517-DD1978CD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484-E2DB-4630-934B-917DE1C7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7DFE-AAF5-4F6A-9E36-E7445BE4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CE83-876C-4CF3-91FB-AC93F5D7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9F7C-DE48-4348-B5D7-479E0F37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9145-E9E0-4337-81A9-6C622163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96BFE-F0A3-4D29-A13D-5507C03A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DF594-5E95-4A2F-9CEA-2C907A8C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4C166-FFCA-40FC-BAA0-A1B7A686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8918E-073D-4D2C-ACA3-DC4EE767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FD8A2-32F6-4342-A396-839CE3DE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EED72-BC42-4239-9771-74620236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0F1-DFB3-40EA-88C3-3A5994FA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83DBE-12D5-4A75-A86A-A290E746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0738-6C7D-4696-AF5B-CB3B1D6B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852BC-37E7-49E9-B283-9FECC5AD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C221-89E2-438D-B3FF-FA67A693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0961E-7BA8-4CB5-8286-CD54DA75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91CCC-8F34-4B6D-8857-52E2C97C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C9891-C0D1-4E9A-A7F0-82A82C8D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78D96-47D2-4A7D-8434-CC74C3FE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C402B-FB96-432E-9547-A804A05B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5B3DD-D401-4988-A984-7CD49DF2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85C-2DF1-4196-B1C1-E7557994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6824D-E769-4507-A4DB-3B58C230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33ACF-2F38-4B56-BEB7-F72B47D8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2B404-2EE8-4736-ADD7-9B8155ED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A818-E70B-4AD4-ABF3-01A4C99B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37906-0BCC-49F9-81C9-301A9B6E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05135-1E75-417C-97E7-26734608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89B95-C807-4B21-BC00-645CB92A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E13A0-DE8F-4F5D-B47C-9DB2B2FF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3E10D-4627-4DAB-96FA-A972E61F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0E0E1-AA0E-46EF-A242-339D13A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69C-A2D5-433D-8895-FDA101BB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30F1A-3404-435C-AD94-F8051308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2FD4E-474E-4E44-B7E6-AC45CC75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78719-8167-4121-AC84-AB545C49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83017-7D8F-46A5-87F8-D38FAB63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70C0C-7495-40C5-9643-7500E70B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74A84-545E-465F-8844-CF195FFA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E68B4-C6C3-45B0-AAB0-FCC7B1D2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D6642-D02C-4F31-912B-91CDF0F2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E79FB-4EF5-4747-A2C5-88156BDF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A869E-49D6-4471-A107-B05C754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BE3-8592-4A31-B430-E270F133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D86E5-DC54-44FC-91A7-56DF8352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1BB15-69B4-45B0-AE0F-89B7FAC3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87495-9963-4720-B06F-D49B28EC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8DAEA-6064-4574-9E84-735B8C69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E576F-4821-4684-BA03-088E6CC8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C9D8E-9739-47D3-A511-47789737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5CC04-73B0-457F-9A10-3A27F1AD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AE0CA-27EC-4808-AA16-3A04E0C6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E9EBE-7A05-4D4B-AE3C-139704BA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C3826-5DF3-46E0-9846-400E4120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455-8396-4F99-8B99-E23C6B4A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A5182-A44B-4CDF-A4A2-5D12F132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E8B43-0702-4345-8BA0-71850033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77AF6-C357-40F4-B0D3-E65817FC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386DB-5018-44C6-96F1-F391E1E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060D3-30E5-4578-B741-2919B929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6F6E4-06CD-468E-8045-D4C51C76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8B155-2BC2-479E-8F81-D8B254EB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5DCF9-264D-4054-BF10-B1EC3FB6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D3871-0C2C-4BA0-BE06-E7A616CA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A6886-2E42-453C-B1E4-0E0873A6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B14F-2D1E-4DC8-9BE4-A5F907AE76D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385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7329-4B52-46F7-A160-5538DF123456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429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28B2-B90D-46E9-B910-A1B1FA819507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47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231E-3497-46A1-87CB-0564FC6B7AF4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B4E8-D835-443F-9BFD-8AAEEB4D5E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8C57-B298-4C62-A4D4-9C2A8F6A1587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D6B9-7C6F-402C-BD11-A6DE5FECCCB6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6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7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8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775D-5B68-4B20-9F76-D1A255AB11E3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9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50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5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07E3-932E-4691-AA93-3B39E7C20C03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52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3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4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4691-597E-4598-B637-7CBB0E736551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5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6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D349-DD3A-47DF-A423-006F8BF8D151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EE90-4E70-4CCC-B6BB-EF1F4B3822D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8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9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60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5E17-D375-4660-92C2-0154CE5B622F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1048-E0D9-4749-B84C-C1823AE8AD8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178C-1439-4BF0-9AE7-244D412AE95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a2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7302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7529-58C8-4439-9E57-D0BE41F2D1B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09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ABD5-156A-4151-874F-1DDBB144352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5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0296-586E-4FE8-8630-8D42F99372B8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9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29CC-FB7E-4DAF-9407-9DE4C5CFA307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34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91E1-28F7-482B-86C5-A3C25FA1EC5B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rxKz-6T10T5oIM&amp;tbnid=JZT6dESyNI2u3M:&amp;ved=0CAUQjRw&amp;url=http%3A%2F%2Fwww.biologiesite.nl%2Fth3kl2.htm&amp;ei=og8oUvjeIIOc0QXLhYGYBQ&amp;bvm=bv.51773540,d.d2k&amp;psig=AFQjCNFJQGtDg8TFx1phyff0AcHJfGzdLA&amp;ust=1378443480477337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Les 3: Orgaanstelsels  a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- Hart en bloedvat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2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fr-FR" sz="2800" spc="-1" strike="noStrike">
                <a:solidFill>
                  <a:srgbClr val="ff0000"/>
                </a:solidFill>
                <a:latin typeface="Times New Roman"/>
              </a:rPr>
              <a:t>Kleppen en klepvliezen </a:t>
            </a:r>
            <a:r>
              <a:rPr b="1" i="1" lang="fr-F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éénrichtingsverkeer in het har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7" name="Picture 4" descr="msotw9_temp0"/>
          <p:cNvPicPr/>
          <p:nvPr/>
        </p:nvPicPr>
        <p:blipFill>
          <a:blip r:embed="rId1"/>
          <a:stretch/>
        </p:blipFill>
        <p:spPr>
          <a:xfrm>
            <a:off x="304920" y="1371600"/>
            <a:ext cx="4419360" cy="4952880"/>
          </a:xfrm>
          <a:prstGeom prst="rect">
            <a:avLst/>
          </a:prstGeom>
          <a:ln w="0">
            <a:noFill/>
          </a:ln>
        </p:spPr>
      </p:pic>
      <p:sp>
        <p:nvSpPr>
          <p:cNvPr id="958" name="Rectangle 7"/>
          <p:cNvSpPr/>
          <p:nvPr/>
        </p:nvSpPr>
        <p:spPr>
          <a:xfrm>
            <a:off x="2895480" y="33526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9" name="Text Box 8"/>
          <p:cNvSpPr/>
          <p:nvPr/>
        </p:nvSpPr>
        <p:spPr>
          <a:xfrm>
            <a:off x="2895480" y="3505320"/>
            <a:ext cx="609840" cy="771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0" name="Line 9"/>
          <p:cNvSpPr/>
          <p:nvPr/>
        </p:nvSpPr>
        <p:spPr>
          <a:xfrm>
            <a:off x="3505320" y="3581280"/>
            <a:ext cx="198108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5867280" y="33526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Klepvliezen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2" name="Text Box 11"/>
          <p:cNvSpPr/>
          <p:nvPr/>
        </p:nvSpPr>
        <p:spPr>
          <a:xfrm>
            <a:off x="5867280" y="38098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tussen boezem en 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3" name="Text Box 13"/>
          <p:cNvSpPr/>
          <p:nvPr/>
        </p:nvSpPr>
        <p:spPr>
          <a:xfrm>
            <a:off x="2133720" y="2819520"/>
            <a:ext cx="609480" cy="771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4" name="Line 14"/>
          <p:cNvSpPr/>
          <p:nvPr/>
        </p:nvSpPr>
        <p:spPr>
          <a:xfrm flipV="1">
            <a:off x="2743200" y="1905120"/>
            <a:ext cx="289548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5" name="Text Box 15"/>
          <p:cNvSpPr/>
          <p:nvPr/>
        </p:nvSpPr>
        <p:spPr>
          <a:xfrm>
            <a:off x="5791320" y="1600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Halfmaanvormige klepp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6" name="Text Box 16"/>
          <p:cNvSpPr/>
          <p:nvPr/>
        </p:nvSpPr>
        <p:spPr>
          <a:xfrm>
            <a:off x="5943600" y="2286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ingang sla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7" name="Line 17"/>
          <p:cNvSpPr/>
          <p:nvPr/>
        </p:nvSpPr>
        <p:spPr>
          <a:xfrm>
            <a:off x="320040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8" name="Line 18"/>
          <p:cNvSpPr/>
          <p:nvPr/>
        </p:nvSpPr>
        <p:spPr>
          <a:xfrm flipH="1" flipV="1">
            <a:off x="2514240" y="3200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ubbele Bloedsomloo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grote en kleine bloedsomloo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Groot: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art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alle delen van lichaam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hart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lichaamscirculati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Klein: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art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longen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hart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longcirculati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 mens heeft dus een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dubbele bloedsomloo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502884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7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https://encrypted-tbn0.gstatic.com/images?q=tbn:ANd9GcRYt9pwPDUIdwgl89Sn-TwgS-l2dletQYZB9ezK63YK2j_iZY3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557360"/>
            <a:ext cx="41054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oorbloeding hartspi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hartcirculatie begint bij de aorta, twee kransslagaders (ateriae coronaria) splitsen zich af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t bloed komt via de kransaders (venae coronaria) in de sinus coronarius in de RB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809880" cy="2465280"/>
          </a:xfrm>
          <a:prstGeom prst="rect">
            <a:avLst/>
          </a:prstGeom>
          <a:ln w="0">
            <a:noFill/>
          </a:ln>
        </p:spPr>
      </p:pic>
      <p:pic>
        <p:nvPicPr>
          <p:cNvPr id="97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78" name="Afbeelding 5" descr=""/>
          <p:cNvPicPr/>
          <p:nvPr/>
        </p:nvPicPr>
        <p:blipFill>
          <a:blip r:embed="rId3"/>
          <a:stretch/>
        </p:blipFill>
        <p:spPr>
          <a:xfrm>
            <a:off x="4932360" y="4292640"/>
            <a:ext cx="381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Times New Roman"/>
              </a:rPr>
              <a:t>Hartritme &amp; Bloeddruk</a:t>
            </a:r>
            <a:endParaRPr b="0" lang="en-US" sz="4400" spc="-1" strike="noStrike">
              <a:solidFill>
                <a:srgbClr val="37302a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68360" y="1557360"/>
            <a:ext cx="446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In rust: 75 x minu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Kloppen’ is de actiefase: </a:t>
            </a: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syst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De daaropvolgde ‘rustfase’: </a:t>
            </a: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diast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Systole en diastole</a:t>
            </a: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 samen duren ongeveer 0.8 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Bloeddruk = </a:t>
            </a: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ten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Gemeten in mm kwikdruk (mmH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2" descr=""/>
          <p:cNvPicPr/>
          <p:nvPr/>
        </p:nvPicPr>
        <p:blipFill>
          <a:blip r:embed="rId2"/>
          <a:stretch/>
        </p:blipFill>
        <p:spPr>
          <a:xfrm>
            <a:off x="5097600" y="1557360"/>
            <a:ext cx="36511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2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fr-FR" sz="3200" spc="-1" strike="noStrike">
                <a:solidFill>
                  <a:srgbClr val="ff0000"/>
                </a:solidFill>
                <a:latin typeface="Times New Roman"/>
              </a:rPr>
              <a:t>Vergelijking slagaders – aders - haarvat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84" name="Picture 4" descr="msotw9_temp0"/>
          <p:cNvPicPr/>
          <p:nvPr/>
        </p:nvPicPr>
        <p:blipFill>
          <a:blip r:embed="rId1"/>
          <a:srcRect l="0" t="0" r="4852" b="0"/>
          <a:stretch/>
        </p:blipFill>
        <p:spPr>
          <a:xfrm>
            <a:off x="533520" y="11430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loed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en vloeibaar steunweefs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87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olume en samenstelling(1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066320" y="1904760"/>
            <a:ext cx="4442040" cy="37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7,5% lichaamsgewicht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5-6 liter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55% is bloedplasm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45% is cellen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Rode blc </a:t>
            </a:r>
            <a:r>
              <a:rPr b="0" lang="en-US" sz="2200" spc="-1" strike="noStrike">
                <a:solidFill>
                  <a:srgbClr val="11006a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 Erytrocyten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Witte blc </a:t>
            </a:r>
            <a:r>
              <a:rPr b="0" lang="en-US" sz="2200" spc="-1" strike="noStrike">
                <a:solidFill>
                  <a:srgbClr val="11006a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Leukocyten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Bloedplaatjes </a:t>
            </a:r>
            <a:r>
              <a:rPr b="0" lang="en-US" sz="2200" spc="-1" strike="noStrike">
                <a:solidFill>
                  <a:srgbClr val="11006a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Trombocyten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0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91" name="Afbeelding 1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3095640" cy="4129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5437080" y="12682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993" name="Rechthoek 4"/>
          <p:cNvSpPr/>
          <p:nvPr/>
        </p:nvSpPr>
        <p:spPr>
          <a:xfrm>
            <a:off x="2158920" y="5565600"/>
            <a:ext cx="712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006a"/>
                </a:solidFill>
                <a:latin typeface="Times New Roman"/>
              </a:rPr>
              <a:t>Plasma: water, zouten (Na, K, Cl, Ca), plasma-eiwitten, bloedgassen (O2, CO2),  en tijdelijke stoffen (Hormonen, vitaminen, afvalstoffen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de bloedcell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 </a:t>
            </a:r>
            <a:r>
              <a:rPr b="0" lang="nl-NL" sz="2800" spc="-1" strike="noStrike">
                <a:solidFill>
                  <a:srgbClr val="11006a"/>
                </a:solidFill>
                <a:latin typeface="Times New Roman"/>
              </a:rPr>
              <a:t>5,4 miljoen rode bloedcellen  per mm3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Opgebouwd rond Hb-kern (hemoglobine, ‘rode bloedkleurstof’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2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Transport O</a:t>
            </a:r>
            <a:r>
              <a:rPr b="0" lang="en-US" sz="1000" spc="-1" strike="noStrike">
                <a:solidFill>
                  <a:srgbClr val="11006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 en deel van CO</a:t>
            </a:r>
            <a:r>
              <a:rPr b="0" lang="en-US" sz="1000" spc="-1" strike="noStrike">
                <a:solidFill>
                  <a:srgbClr val="11006a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Geen celkern, gaat maar 120 dagen me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533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9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itte bloedcell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84360" y="1700280"/>
            <a:ext cx="426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Leucocyten, 5.000 – 10.000/ mm³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3 type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006a"/>
                </a:solidFill>
                <a:latin typeface="Times New Roman"/>
              </a:rPr>
              <a:t>Granulocyten (fagocyteren=opslokk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006a"/>
                </a:solidFill>
                <a:latin typeface="Times New Roman"/>
              </a:rPr>
              <a:t>Monocyten (leven buiten de bloedbaa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006a"/>
                </a:solidFill>
                <a:latin typeface="Times New Roman"/>
              </a:rPr>
              <a:t>Lymfocyten (immuniteit door antistoffen mak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354640" y="692280"/>
            <a:ext cx="3755880" cy="4114800"/>
          </a:xfrm>
          <a:prstGeom prst="rect">
            <a:avLst/>
          </a:prstGeom>
          <a:ln w="0">
            <a:noFill/>
          </a:ln>
        </p:spPr>
      </p:pic>
      <p:pic>
        <p:nvPicPr>
          <p:cNvPr id="100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1002" name="Afbeelding 1" descr=""/>
          <p:cNvPicPr/>
          <p:nvPr/>
        </p:nvPicPr>
        <p:blipFill>
          <a:blip r:embed="rId3"/>
          <a:stretch/>
        </p:blipFill>
        <p:spPr>
          <a:xfrm>
            <a:off x="4356000" y="1844640"/>
            <a:ext cx="2295720" cy="173376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MWBC000E"/>
          <p:cNvPicPr/>
          <p:nvPr/>
        </p:nvPicPr>
        <p:blipFill>
          <a:blip r:embed="rId4"/>
          <a:srcRect l="0" t="33851" r="0" b="0"/>
          <a:stretch/>
        </p:blipFill>
        <p:spPr>
          <a:xfrm>
            <a:off x="5003640" y="3578400"/>
            <a:ext cx="2756160" cy="18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loedplaatj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Trombocyten,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300.000 per mm3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tukjes van 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peelt een belangrijke rol in de bloedstoll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ij een wond maken ze een draden-net die de wond-einden naar elkaar toe trek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620640"/>
            <a:ext cx="3938760" cy="3332160"/>
          </a:xfrm>
          <a:prstGeom prst="rect">
            <a:avLst/>
          </a:prstGeom>
          <a:ln w="0">
            <a:noFill/>
          </a:ln>
        </p:spPr>
      </p:pic>
      <p:pic>
        <p:nvPicPr>
          <p:cNvPr id="100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1008" name="Afbeelding 1" descr=""/>
          <p:cNvPicPr/>
          <p:nvPr/>
        </p:nvPicPr>
        <p:blipFill>
          <a:blip r:embed="rId3"/>
          <a:stretch/>
        </p:blipFill>
        <p:spPr>
          <a:xfrm>
            <a:off x="5003640" y="3430440"/>
            <a:ext cx="4608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ven ter info: Water(H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ecff"/>
                </a:solidFill>
                <a:latin typeface="Times New Roman"/>
              </a:rPr>
              <a:t>Mens is 60% wat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ecff"/>
                </a:solidFill>
                <a:latin typeface="Times New Roman"/>
              </a:rPr>
              <a:t>± 42 lit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ecff"/>
                </a:solidFill>
                <a:latin typeface="Times New Roman"/>
              </a:rPr>
              <a:t>Bloed: 5 – 6 lit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ecff"/>
                </a:solidFill>
                <a:latin typeface="Times New Roman"/>
              </a:rPr>
              <a:t>Water is oplosmiddel, transportmiddel, vangt temperatuur-schommelingen op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4284720" cy="3313080"/>
          </a:xfrm>
          <a:prstGeom prst="rect">
            <a:avLst/>
          </a:prstGeom>
          <a:ln w="0">
            <a:noFill/>
          </a:ln>
        </p:spPr>
      </p:pic>
      <p:pic>
        <p:nvPicPr>
          <p:cNvPr id="85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loedstolling(1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066320" y="1905120"/>
            <a:ext cx="444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ij een verwonding treden de volgende processen op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laatselijke bloedvatvernauw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pvorming in bloedva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loedstoll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eefselherstel door o.a. fibrinedraden tussen cellen en weefs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05640" y="1905120"/>
            <a:ext cx="2457360" cy="4114800"/>
          </a:xfrm>
          <a:prstGeom prst="rect">
            <a:avLst/>
          </a:prstGeom>
          <a:ln w="0">
            <a:noFill/>
          </a:ln>
        </p:spPr>
      </p:pic>
      <p:pic>
        <p:nvPicPr>
          <p:cNvPr id="101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Functie witte bloedcellen bij won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493040" cy="43909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2"/>
          <a:stretch/>
        </p:blipFill>
        <p:spPr>
          <a:xfrm>
            <a:off x="502884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87640" y="609120"/>
            <a:ext cx="225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ecff"/>
                </a:solidFill>
                <a:latin typeface="Times New Roman"/>
              </a:rPr>
              <a:t>Huidgenez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34920" y="455760"/>
            <a:ext cx="65516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rgaanstelsels kor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somlo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eding en verter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itscheid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demhal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ui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getatieve func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ormon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nimale func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aarnem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tand en bewustzij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tevigheid en beweg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ortplan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totale me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1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atsaanduidingen </a:t>
            </a:r>
            <a:br>
              <a:rPr sz="4400"/>
            </a:br>
            <a:r>
              <a:rPr b="0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om aan te geven waar iets mis is met een orga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94920" y="1844280"/>
            <a:ext cx="4297320" cy="449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Ventraal: aan de buikzijde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Dorsaal: aan de rugzijde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Anterior: aan de voorkant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Posterior: aan de achterkant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Centraal: in het midd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Perifeer: aan de uiteind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Superior: hoger, bov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Inferior: lager, ond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5029200" y="1904760"/>
            <a:ext cx="4006800" cy="4437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Lateraal: aan de zijkant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Mediaal: naar ‘t midd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Proximaal: dichtbij de romp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Distaal: ver van de romp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Sinister: links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Dexter: rechts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Internus: inwendig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Externus: uitwendig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5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deling hoofd, romp en ledem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oofd: is de observatiepos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omp: bevat de orgaanstelsel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edematen: onderste extremiteiten en bovenste extremiteit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oofd en romp samen heet tors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016160" cy="2659320"/>
          </a:xfrm>
          <a:prstGeom prst="rect">
            <a:avLst/>
          </a:prstGeom>
          <a:ln w="0">
            <a:noFill/>
          </a:ln>
        </p:spPr>
      </p:pic>
      <p:pic>
        <p:nvPicPr>
          <p:cNvPr id="869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71629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art en bloedsomloo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2743200" y="162864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7200 liter in 24 uur!!!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2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" descr=""/>
          <p:cNvPicPr/>
          <p:nvPr/>
        </p:nvPicPr>
        <p:blipFill>
          <a:blip r:embed="rId2"/>
          <a:stretch/>
        </p:blipFill>
        <p:spPr>
          <a:xfrm>
            <a:off x="1798560" y="2211480"/>
            <a:ext cx="60850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2"/>
          <p:cNvSpPr/>
          <p:nvPr/>
        </p:nvSpPr>
        <p:spPr>
          <a:xfrm>
            <a:off x="685800" y="4222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fr-FR" sz="4000" spc="-1" strike="noStrike">
                <a:solidFill>
                  <a:srgbClr val="002060"/>
                </a:solidFill>
                <a:latin typeface="Times New Roman"/>
              </a:rPr>
              <a:t>Uitwendige bouw van het har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533520" y="19051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6" name="Picture 5" descr="msotw9_temp0"/>
          <p:cNvPicPr/>
          <p:nvPr/>
        </p:nvPicPr>
        <p:blipFill>
          <a:blip r:embed="rId1"/>
          <a:srcRect l="4281" t="6860" r="2140" b="0"/>
          <a:stretch/>
        </p:blipFill>
        <p:spPr>
          <a:xfrm>
            <a:off x="304920" y="2057400"/>
            <a:ext cx="2438280" cy="336564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7" descr="msotw9_temp0"/>
          <p:cNvPicPr/>
          <p:nvPr/>
        </p:nvPicPr>
        <p:blipFill>
          <a:blip r:embed="rId2"/>
          <a:srcRect l="4273" t="4204" r="2136" b="2803"/>
          <a:stretch/>
        </p:blipFill>
        <p:spPr>
          <a:xfrm>
            <a:off x="6091200" y="2133720"/>
            <a:ext cx="2671920" cy="3352680"/>
          </a:xfrm>
          <a:prstGeom prst="rect">
            <a:avLst/>
          </a:prstGeom>
          <a:ln w="0">
            <a:noFill/>
          </a:ln>
        </p:spPr>
      </p:pic>
      <p:sp>
        <p:nvSpPr>
          <p:cNvPr id="878" name="Line 8"/>
          <p:cNvSpPr/>
          <p:nvPr/>
        </p:nvSpPr>
        <p:spPr>
          <a:xfrm flipV="1">
            <a:off x="1600200" y="2971440"/>
            <a:ext cx="198108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9" name="Line 9"/>
          <p:cNvSpPr/>
          <p:nvPr/>
        </p:nvSpPr>
        <p:spPr>
          <a:xfrm flipH="1" flipV="1">
            <a:off x="4495320" y="3048120"/>
            <a:ext cx="312444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0" name="Text Box 10"/>
          <p:cNvSpPr/>
          <p:nvPr/>
        </p:nvSpPr>
        <p:spPr>
          <a:xfrm>
            <a:off x="3505320" y="2438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2060"/>
                </a:solidFill>
                <a:latin typeface="Times New Roman"/>
              </a:rPr>
              <a:t>kranssla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1" name="Text Box 11"/>
          <p:cNvSpPr/>
          <p:nvPr/>
        </p:nvSpPr>
        <p:spPr>
          <a:xfrm>
            <a:off x="609480" y="3224160"/>
            <a:ext cx="60984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2" name="Text Box 12"/>
          <p:cNvSpPr/>
          <p:nvPr/>
        </p:nvSpPr>
        <p:spPr>
          <a:xfrm>
            <a:off x="1906560" y="4191120"/>
            <a:ext cx="5220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3" name="Text Box 13"/>
          <p:cNvSpPr/>
          <p:nvPr/>
        </p:nvSpPr>
        <p:spPr>
          <a:xfrm>
            <a:off x="990720" y="55627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Blauw = zuurstofarm blo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Rood   = zuurstofrijk bloed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2"/>
          <p:cNvSpPr/>
          <p:nvPr/>
        </p:nvSpPr>
        <p:spPr>
          <a:xfrm>
            <a:off x="5410080" y="228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Times New Roman"/>
              </a:rPr>
              <a:t>De  bloedsomlo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5" name="Text Box 4"/>
          <p:cNvSpPr/>
          <p:nvPr/>
        </p:nvSpPr>
        <p:spPr>
          <a:xfrm>
            <a:off x="533520" y="297180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6" name="Picture 7" descr="msotw9_temp0"/>
          <p:cNvPicPr/>
          <p:nvPr/>
        </p:nvPicPr>
        <p:blipFill>
          <a:blip r:embed="rId1"/>
          <a:stretch/>
        </p:blipFill>
        <p:spPr>
          <a:xfrm>
            <a:off x="152280" y="304920"/>
            <a:ext cx="5207040" cy="6362640"/>
          </a:xfrm>
          <a:prstGeom prst="rect">
            <a:avLst/>
          </a:prstGeom>
          <a:ln w="0">
            <a:noFill/>
          </a:ln>
        </p:spPr>
      </p:pic>
      <p:sp>
        <p:nvSpPr>
          <p:cNvPr id="887" name="Line 9"/>
          <p:cNvSpPr/>
          <p:nvPr/>
        </p:nvSpPr>
        <p:spPr>
          <a:xfrm>
            <a:off x="2743200" y="198108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8" name="Line 11"/>
          <p:cNvSpPr/>
          <p:nvPr/>
        </p:nvSpPr>
        <p:spPr>
          <a:xfrm>
            <a:off x="3048120" y="23623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9" name="Line 16"/>
          <p:cNvSpPr/>
          <p:nvPr/>
        </p:nvSpPr>
        <p:spPr>
          <a:xfrm flipV="1">
            <a:off x="3962520" y="16002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0" name="Line 17"/>
          <p:cNvSpPr/>
          <p:nvPr/>
        </p:nvSpPr>
        <p:spPr>
          <a:xfrm>
            <a:off x="3886200" y="2590920"/>
            <a:ext cx="763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1" name="Line 18"/>
          <p:cNvSpPr/>
          <p:nvPr/>
        </p:nvSpPr>
        <p:spPr>
          <a:xfrm flipH="1" flipV="1">
            <a:off x="3428640" y="838080"/>
            <a:ext cx="3049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2" name="Line 19"/>
          <p:cNvSpPr/>
          <p:nvPr/>
        </p:nvSpPr>
        <p:spPr>
          <a:xfrm flipH="1">
            <a:off x="3200040" y="3581280"/>
            <a:ext cx="3049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3" name="Line 20"/>
          <p:cNvSpPr/>
          <p:nvPr/>
        </p:nvSpPr>
        <p:spPr>
          <a:xfrm flipH="1">
            <a:off x="3276720" y="4495680"/>
            <a:ext cx="30456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4" name="Line 21"/>
          <p:cNvSpPr/>
          <p:nvPr/>
        </p:nvSpPr>
        <p:spPr>
          <a:xfrm flipH="1">
            <a:off x="3048120" y="4876920"/>
            <a:ext cx="4572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5" name="Line 22"/>
          <p:cNvSpPr/>
          <p:nvPr/>
        </p:nvSpPr>
        <p:spPr>
          <a:xfrm flipH="1">
            <a:off x="3123720" y="563868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6" name="Line 23"/>
          <p:cNvSpPr/>
          <p:nvPr/>
        </p:nvSpPr>
        <p:spPr>
          <a:xfrm flipH="1">
            <a:off x="1982880" y="838080"/>
            <a:ext cx="380880" cy="150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7" name="Line 24"/>
          <p:cNvSpPr/>
          <p:nvPr/>
        </p:nvSpPr>
        <p:spPr>
          <a:xfrm>
            <a:off x="1600200" y="1905120"/>
            <a:ext cx="38088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8" name="Line 25"/>
          <p:cNvSpPr/>
          <p:nvPr/>
        </p:nvSpPr>
        <p:spPr>
          <a:xfrm flipH="1" flipV="1">
            <a:off x="1676520" y="5866920"/>
            <a:ext cx="38088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9" name="Line 26"/>
          <p:cNvSpPr/>
          <p:nvPr/>
        </p:nvSpPr>
        <p:spPr>
          <a:xfrm flipH="1" flipV="1">
            <a:off x="1980720" y="5028840"/>
            <a:ext cx="22860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0" name="Line 27"/>
          <p:cNvSpPr/>
          <p:nvPr/>
        </p:nvSpPr>
        <p:spPr>
          <a:xfrm flipH="1" flipV="1">
            <a:off x="2361960" y="4343040"/>
            <a:ext cx="15228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1" name="Line 28"/>
          <p:cNvSpPr/>
          <p:nvPr/>
        </p:nvSpPr>
        <p:spPr>
          <a:xfrm flipH="1" flipV="1">
            <a:off x="2057040" y="3504960"/>
            <a:ext cx="15228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2" name="Line 29"/>
          <p:cNvSpPr/>
          <p:nvPr/>
        </p:nvSpPr>
        <p:spPr>
          <a:xfrm flipV="1">
            <a:off x="1600200" y="3885840"/>
            <a:ext cx="7632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3" name="Line 30"/>
          <p:cNvSpPr/>
          <p:nvPr/>
        </p:nvSpPr>
        <p:spPr>
          <a:xfrm flipV="1">
            <a:off x="1752480" y="2590560"/>
            <a:ext cx="30492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4" name="Line 31"/>
          <p:cNvSpPr/>
          <p:nvPr/>
        </p:nvSpPr>
        <p:spPr>
          <a:xfrm flipV="1">
            <a:off x="2438280" y="198108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5" name="Text Box 32"/>
          <p:cNvSpPr/>
          <p:nvPr/>
        </p:nvSpPr>
        <p:spPr>
          <a:xfrm>
            <a:off x="2971800" y="2438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ff0000"/>
                </a:solidFill>
                <a:latin typeface="Times New Roman"/>
              </a:rPr>
              <a:t>LB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6" name="Text Box 33"/>
          <p:cNvSpPr/>
          <p:nvPr/>
        </p:nvSpPr>
        <p:spPr>
          <a:xfrm>
            <a:off x="3048120" y="26668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ff0000"/>
                </a:solidFill>
                <a:latin typeface="Times New Roman"/>
              </a:rPr>
              <a:t>LK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7" name="Text Box 34"/>
          <p:cNvSpPr/>
          <p:nvPr/>
        </p:nvSpPr>
        <p:spPr>
          <a:xfrm>
            <a:off x="2133720" y="28116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3333cc"/>
                </a:solidFill>
                <a:latin typeface="Times New Roman"/>
              </a:rPr>
              <a:t>RB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8" name="Text Box 35"/>
          <p:cNvSpPr/>
          <p:nvPr/>
        </p:nvSpPr>
        <p:spPr>
          <a:xfrm>
            <a:off x="2286000" y="2971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3333cc"/>
                </a:solidFill>
                <a:latin typeface="Times New Roman"/>
              </a:rPr>
              <a:t>RK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9" name="Text Box 36"/>
          <p:cNvSpPr/>
          <p:nvPr/>
        </p:nvSpPr>
        <p:spPr>
          <a:xfrm>
            <a:off x="5562720" y="990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. Bovenste holle 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0" name="Text Box 37"/>
          <p:cNvSpPr/>
          <p:nvPr/>
        </p:nvSpPr>
        <p:spPr>
          <a:xfrm>
            <a:off x="5562720" y="1447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2. Hersen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1" name="Text Box 38"/>
          <p:cNvSpPr/>
          <p:nvPr/>
        </p:nvSpPr>
        <p:spPr>
          <a:xfrm>
            <a:off x="556272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3. Longslag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2" name="Text Box 39"/>
          <p:cNvSpPr/>
          <p:nvPr/>
        </p:nvSpPr>
        <p:spPr>
          <a:xfrm>
            <a:off x="5562720" y="2286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4. Long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3" name="Text Box 40"/>
          <p:cNvSpPr/>
          <p:nvPr/>
        </p:nvSpPr>
        <p:spPr>
          <a:xfrm>
            <a:off x="5562720" y="2743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5. Onderste holle 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4" name="Text Box 41"/>
          <p:cNvSpPr/>
          <p:nvPr/>
        </p:nvSpPr>
        <p:spPr>
          <a:xfrm>
            <a:off x="5562720" y="31240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6. Lon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5" name="Text Box 42"/>
          <p:cNvSpPr/>
          <p:nvPr/>
        </p:nvSpPr>
        <p:spPr>
          <a:xfrm>
            <a:off x="5562720" y="3505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7. Lev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6" name="Text Box 43"/>
          <p:cNvSpPr/>
          <p:nvPr/>
        </p:nvSpPr>
        <p:spPr>
          <a:xfrm>
            <a:off x="5562720" y="3962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8. Aorta of lichaamsslag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7" name="Text Box 44"/>
          <p:cNvSpPr/>
          <p:nvPr/>
        </p:nvSpPr>
        <p:spPr>
          <a:xfrm>
            <a:off x="5562720" y="4419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9. Nier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8" name="Text Box 45"/>
          <p:cNvSpPr/>
          <p:nvPr/>
        </p:nvSpPr>
        <p:spPr>
          <a:xfrm>
            <a:off x="5486400" y="4800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0. Har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9" name="Text Box 46"/>
          <p:cNvSpPr/>
          <p:nvPr/>
        </p:nvSpPr>
        <p:spPr>
          <a:xfrm>
            <a:off x="5486400" y="51814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1. Onderlichaam (dij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0" name="Text Box 47"/>
          <p:cNvSpPr/>
          <p:nvPr/>
        </p:nvSpPr>
        <p:spPr>
          <a:xfrm>
            <a:off x="5486400" y="5638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2. Maag - darmkana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1" name="Line 48"/>
          <p:cNvSpPr/>
          <p:nvPr/>
        </p:nvSpPr>
        <p:spPr>
          <a:xfrm flipV="1">
            <a:off x="2666880" y="4190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2" name="Text Box 49"/>
          <p:cNvSpPr/>
          <p:nvPr/>
        </p:nvSpPr>
        <p:spPr>
          <a:xfrm>
            <a:off x="2895480" y="4038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000000"/>
                </a:solidFill>
                <a:latin typeface="Times New Roman"/>
              </a:rPr>
              <a:t>poortader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2" descr="msotw9_temp0"/>
          <p:cNvPicPr/>
          <p:nvPr/>
        </p:nvPicPr>
        <p:blipFill>
          <a:blip r:embed="rId1"/>
          <a:stretch/>
        </p:blipFill>
        <p:spPr>
          <a:xfrm>
            <a:off x="1905120" y="914400"/>
            <a:ext cx="5562360" cy="5486400"/>
          </a:xfrm>
          <a:prstGeom prst="rect">
            <a:avLst/>
          </a:prstGeom>
          <a:ln w="0">
            <a:noFill/>
          </a:ln>
        </p:spPr>
      </p:pic>
      <p:sp>
        <p:nvSpPr>
          <p:cNvPr id="924" name="Text Box 3"/>
          <p:cNvSpPr/>
          <p:nvPr/>
        </p:nvSpPr>
        <p:spPr>
          <a:xfrm>
            <a:off x="1295280" y="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fr-FR" sz="3200" spc="-1" strike="noStrike">
                <a:solidFill>
                  <a:srgbClr val="ff0000"/>
                </a:solidFill>
                <a:latin typeface="Times New Roman"/>
              </a:rPr>
              <a:t>Inwendige bouw van het har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5" name="Line 5"/>
          <p:cNvSpPr/>
          <p:nvPr/>
        </p:nvSpPr>
        <p:spPr>
          <a:xfrm flipH="1">
            <a:off x="6019560" y="205740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6" name="Line 6"/>
          <p:cNvSpPr/>
          <p:nvPr/>
        </p:nvSpPr>
        <p:spPr>
          <a:xfrm flipH="1">
            <a:off x="6095520" y="2286000"/>
            <a:ext cx="2286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6553080" y="16002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on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8" name="Line 8"/>
          <p:cNvSpPr/>
          <p:nvPr/>
        </p:nvSpPr>
        <p:spPr>
          <a:xfrm>
            <a:off x="6019920" y="266688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7238880" y="2743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inkerboeze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of voor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0" name="Line 10"/>
          <p:cNvSpPr/>
          <p:nvPr/>
        </p:nvSpPr>
        <p:spPr>
          <a:xfrm flipV="1">
            <a:off x="5943600" y="4419360"/>
            <a:ext cx="9907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7162920" y="4267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inker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2" name="Line 12"/>
          <p:cNvSpPr/>
          <p:nvPr/>
        </p:nvSpPr>
        <p:spPr>
          <a:xfrm flipH="1">
            <a:off x="1980720" y="3352680"/>
            <a:ext cx="1143000" cy="1371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3" name="Text Box 13"/>
          <p:cNvSpPr/>
          <p:nvPr/>
        </p:nvSpPr>
        <p:spPr>
          <a:xfrm>
            <a:off x="0" y="46483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rechterboeze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4" name="Text Box 15"/>
          <p:cNvSpPr/>
          <p:nvPr/>
        </p:nvSpPr>
        <p:spPr>
          <a:xfrm>
            <a:off x="0" y="54021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rechter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5" name="Line 16"/>
          <p:cNvSpPr/>
          <p:nvPr/>
        </p:nvSpPr>
        <p:spPr>
          <a:xfrm flipH="1">
            <a:off x="1752120" y="4648320"/>
            <a:ext cx="2057400" cy="99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6" name="Line 22"/>
          <p:cNvSpPr/>
          <p:nvPr/>
        </p:nvSpPr>
        <p:spPr>
          <a:xfrm>
            <a:off x="5562720" y="3581280"/>
            <a:ext cx="152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7" name="Line 23"/>
          <p:cNvSpPr/>
          <p:nvPr/>
        </p:nvSpPr>
        <p:spPr>
          <a:xfrm flipH="1" flipV="1">
            <a:off x="4571640" y="2514240"/>
            <a:ext cx="152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8" name="Line 24"/>
          <p:cNvSpPr/>
          <p:nvPr/>
        </p:nvSpPr>
        <p:spPr>
          <a:xfrm flipH="1" flipV="1">
            <a:off x="4724280" y="990720"/>
            <a:ext cx="15264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9" name="Line 25"/>
          <p:cNvSpPr/>
          <p:nvPr/>
        </p:nvSpPr>
        <p:spPr>
          <a:xfrm flipV="1">
            <a:off x="5181480" y="91440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0" name="Line 26"/>
          <p:cNvSpPr/>
          <p:nvPr/>
        </p:nvSpPr>
        <p:spPr>
          <a:xfrm>
            <a:off x="5943600" y="58672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1" name="Text Box 27"/>
          <p:cNvSpPr/>
          <p:nvPr/>
        </p:nvSpPr>
        <p:spPr>
          <a:xfrm>
            <a:off x="6095880" y="6400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ichaa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2" name="Line 28"/>
          <p:cNvSpPr/>
          <p:nvPr/>
        </p:nvSpPr>
        <p:spPr>
          <a:xfrm flipV="1">
            <a:off x="5638680" y="1066680"/>
            <a:ext cx="17528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3" name="Text Box 30"/>
          <p:cNvSpPr/>
          <p:nvPr/>
        </p:nvSpPr>
        <p:spPr>
          <a:xfrm>
            <a:off x="7543800" y="838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aort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4" name="Text Box 31"/>
          <p:cNvSpPr/>
          <p:nvPr/>
        </p:nvSpPr>
        <p:spPr>
          <a:xfrm>
            <a:off x="4648320" y="609480"/>
            <a:ext cx="914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5" name="Text Box 32"/>
          <p:cNvSpPr/>
          <p:nvPr/>
        </p:nvSpPr>
        <p:spPr>
          <a:xfrm>
            <a:off x="4572360" y="5335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hersen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6" name="Line 33"/>
          <p:cNvSpPr/>
          <p:nvPr/>
        </p:nvSpPr>
        <p:spPr>
          <a:xfrm flipV="1">
            <a:off x="2133720" y="3960360"/>
            <a:ext cx="153720" cy="30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7" name="Line 34"/>
          <p:cNvSpPr/>
          <p:nvPr/>
        </p:nvSpPr>
        <p:spPr>
          <a:xfrm>
            <a:off x="2209680" y="2057400"/>
            <a:ext cx="15084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8" name="Text Box 35"/>
          <p:cNvSpPr/>
          <p:nvPr/>
        </p:nvSpPr>
        <p:spPr>
          <a:xfrm>
            <a:off x="380880" y="2209680"/>
            <a:ext cx="12193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ondertse en bovenste holle 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9" name="Line 36"/>
          <p:cNvSpPr/>
          <p:nvPr/>
        </p:nvSpPr>
        <p:spPr>
          <a:xfrm>
            <a:off x="3733920" y="403848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0" name="Line 37"/>
          <p:cNvSpPr/>
          <p:nvPr/>
        </p:nvSpPr>
        <p:spPr>
          <a:xfrm flipH="1" flipV="1">
            <a:off x="4114440" y="2742840"/>
            <a:ext cx="15228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1" name="Line 38"/>
          <p:cNvSpPr/>
          <p:nvPr/>
        </p:nvSpPr>
        <p:spPr>
          <a:xfrm flipV="1">
            <a:off x="3733920" y="1295280"/>
            <a:ext cx="15228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2" name="Line 39"/>
          <p:cNvSpPr/>
          <p:nvPr/>
        </p:nvSpPr>
        <p:spPr>
          <a:xfrm flipH="1" flipV="1">
            <a:off x="2971440" y="1752120"/>
            <a:ext cx="30492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3" name="Text Box 40"/>
          <p:cNvSpPr/>
          <p:nvPr/>
        </p:nvSpPr>
        <p:spPr>
          <a:xfrm>
            <a:off x="2590920" y="914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long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4" name="Line 41"/>
          <p:cNvSpPr/>
          <p:nvPr/>
        </p:nvSpPr>
        <p:spPr>
          <a:xfrm flipH="1" flipV="1">
            <a:off x="1371600" y="1371600"/>
            <a:ext cx="182880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5" name="Text Box 42"/>
          <p:cNvSpPr/>
          <p:nvPr/>
        </p:nvSpPr>
        <p:spPr>
          <a:xfrm>
            <a:off x="0" y="990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longslagader(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5-22T19:15:57Z</dcterms:modified>
  <cp:revision>44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