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2FE-FD74-438B-920C-1BF79821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B1B-6F14-49AB-A54D-60F97DAA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538-5018-4F19-B4C7-FF2465B3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57B-A8FD-4BB5-B97A-738D8F59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BD25-B5A4-4E2E-B2BE-8FC7F38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34ED-698B-465A-962C-BE7CF72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C515-4602-4211-B8E7-2518E990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96CF-1104-43B8-8023-C35B700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929-8A08-4246-B1EA-214B1D10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F9E5-D68E-4E43-8AB0-92C638C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8839-27A9-4A08-BE01-0B1719F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569-2338-46D2-9C10-D980B8C8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E1AD-55BF-49C2-8628-E3CB2DF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036E-2DDE-4F85-947E-CF6F3F6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9CD-26E3-4623-9819-BBDE0F2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B02-12D9-425D-99A5-2D0A68D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0A1-8930-4C71-8162-FB8403D9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C525F-4BFF-4E74-9E7B-4FF17B7425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04A90-D1EF-4AA2-8D74-2400AE04F8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CC6A5-C306-4FC2-858B-47A4E76C08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FBE30-9030-43F5-9255-9C79EDBDAD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5B704-1ED5-477A-B4C2-34104939D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3FA-9D6F-4BFC-BDFE-FDA3BFB4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7D405-75C0-4F97-AED4-5978776759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C0518-4DA3-42F8-BBC3-EB2CC1DC07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11670-FF29-4C6B-97CD-417A7DD3CC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22196-4B61-42CD-8473-B24E11DA6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3D10F-9C48-45AF-99AA-9031AD8A29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DDF6B-5C93-4C8B-8291-0D159F1285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6433A-7479-407A-9EAA-B24D607CF2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827B5-C8F4-4C5E-8581-A6D8F86D46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0BBFA-2B73-469B-BCAE-AEB4FCCE65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314B1-A30B-4792-99B1-11E46B1C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F9-3F27-4EFE-8B9C-5B5DB83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4A87B-DA00-4FD5-B7CF-A637A491AA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5451F-307D-4031-8C1A-83EF34AF61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F3CE0-C269-4CCE-8671-6B970FCAE4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83D7A-58B1-4315-9F8E-C25C893748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A5F7DC-9E5E-41F3-96A2-DC9ADC5940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DDBDE-3E8E-4F43-A905-A0038F8701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D9057-BEF1-48E6-A173-EB78C48AD2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A11D0-CC0E-4BD4-9354-2C8960B8F5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6F059-72EB-41FF-9491-5D026D2EC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1B2-24E3-4AD9-BCAF-32FBB7A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D66-0B48-4339-A690-BBF423E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546-A62D-4700-8CA6-51A95CC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196-644F-4317-9B1A-1F40BCB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F03-D824-4477-8555-8740F37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927-6AD9-4D67-97B4-40C8EBA52E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7367-A879-4967-9746-AC8947A133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D08-90A9-44E4-BFA2-75C78979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3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9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0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D26-599B-489F-BF77-0A909EA67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et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Zorgt voor de coördinatie van activiteiten in weefsels en organen, vegetatieve en animale functies, de buitenwereld en onze gevoelen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58160" cy="4114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1835280" y="3408480"/>
            <a:ext cx="5413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Bouw van een neuron (= zenuwcel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Impuls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een elektrisch signaal langs een uitloper (axo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xon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v/h cellichaam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9edbff"/>
                </a:solidFill>
                <a:latin typeface="Times New Roman"/>
              </a:rPr>
              <a:t>f </a:t>
            </a:r>
            <a:r>
              <a:rPr b="0" lang="nl-NL" sz="2000" spc="-1" strike="noStrike">
                <a:solidFill>
                  <a:srgbClr val="9edb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Dendriet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naar het cellichaam to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133383_962_1119533591320-Zenuwcel_klein"/>
          <p:cNvPicPr/>
          <p:nvPr/>
        </p:nvPicPr>
        <p:blipFill>
          <a:blip r:embed="rId1"/>
          <a:stretch/>
        </p:blipFill>
        <p:spPr>
          <a:xfrm>
            <a:off x="2843280" y="2279520"/>
            <a:ext cx="6408720" cy="384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334120" y="59436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mergsched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638680" y="4952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ax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851280" y="335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dendriet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733920" y="3809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lichaa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886200" y="4267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ker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315200" y="4876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synap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 rot="1107600">
            <a:off x="3995280" y="50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1. Mot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de hersens/ruggegraat richting de spier (motoriek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2. Sens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een zintuigcel richting ruggegraat/hersens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3. Schakelneuron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eft signalen door tussen twee anderen neur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voettekst 3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Tijdelijke aanduiding voor dianummer 4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1445-B032-4BA2-A38F-28B77DEE0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23" descr="soortneuron1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ignaalverwerking en Reflex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Zintuig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ens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hersens</a:t>
            </a:r>
            <a:br>
              <a:rPr sz="2400"/>
            </a:b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mot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pier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ter zullen we zien dat dit erg schematisch is en er ook hormonen en andere functies van het zenuwstelsel meespel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kan ook!   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REFLEXEN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is als sensorische informatie uit het ruggenmerg direct wordt overgebracht op motorische zenuwcellen. Veel korter en sneller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gelijkertijd wordt de informatie ook naar de hersenen doorgegeven en daar verwerk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332160" y="189000"/>
            <a:ext cx="19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  <a:ea typeface="Arial"/>
              </a:rPr>
              <a:t>Synap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3" name="Picture 3" descr="impuls9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527040" y="890640"/>
            <a:ext cx="860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= contactplaats van zenuwcellen, waar impulsen </a:t>
            </a:r>
            <a:r>
              <a:rPr b="0" lang="nl-NL" sz="24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chemisch</a:t>
            </a: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 worden doorgegeven. Zodra de informatie chemisch is doorgegeven gaat de impuls in de volgende neuron weer als stroomstroot verder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58316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cecff"/>
                </a:solidFill>
                <a:latin typeface="Times New Roman"/>
              </a:rPr>
              <a:t>2 typen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Stimuler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orgen voor doorgeven van signaal naar volgende zenuwc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Remm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Onderbreken de impuls, er wordt geen impuls overgedra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4032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timulerend en remme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rugs en veel pijnstillers werken op dit systeem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Remm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orfine, alcohol, cannab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Stimuler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cotine, cocaine, XT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idt soms tot gewenning o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slav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2" name="Picture 5" descr="drugsfotoverkleind"/>
          <p:cNvPicPr/>
          <p:nvPr/>
        </p:nvPicPr>
        <p:blipFill>
          <a:blip r:embed="rId1"/>
          <a:stretch/>
        </p:blipFill>
        <p:spPr>
          <a:xfrm>
            <a:off x="5076720" y="2781360"/>
            <a:ext cx="35607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erug naar de FUNCTI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weten nu HOE signalen verplaatst worden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Nu kijken we naar WAAROM in de ene situatie het ene gebeurt en in een andere situatie het ander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Deze hebben we al behandel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Vegetatieve /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Tijdelijke aanduiding voor dianummer 4"/>
          <p:cNvSpPr/>
          <p:nvPr/>
        </p:nvSpPr>
        <p:spPr>
          <a:xfrm>
            <a:off x="3505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B328-544A-4168-AA5A-E1544D40D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Zenuwstelsel: functi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istrer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Verwer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Opwek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ageren op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Psychische activiteiten (denken/voele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Coördineren van funct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ulatie van weefsels en organ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87280" y="765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Vegetatieve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84400" y="2362320"/>
            <a:ext cx="574488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Bestaat uit: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1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 </a:t>
            </a:r>
            <a:br>
              <a:rPr sz="2400"/>
            </a:b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2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para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N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aar ieder orgaan (doelwitorgaan) gaat een sympatische zenuw en een parasympatische zenuw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D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eze hebben een tegengestelde werking</a:t>
            </a:r>
            <a:r>
              <a:rPr b="0" lang="nl-NL" sz="24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9" name="Picture 8" descr="http://www2.fcsconline.org/staff/gradyt/nervous.jpg"/>
          <p:cNvPicPr/>
          <p:nvPr/>
        </p:nvPicPr>
        <p:blipFill>
          <a:blip r:embed="rId1"/>
          <a:stretch/>
        </p:blipFill>
        <p:spPr>
          <a:xfrm>
            <a:off x="6929280" y="285840"/>
            <a:ext cx="1963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835280" y="2057400"/>
            <a:ext cx="5703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ecff"/>
                </a:solidFill>
                <a:uFillTx/>
                <a:latin typeface="Calibri"/>
                <a:ea typeface="Arial"/>
              </a:rPr>
              <a:t>Stimuleer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organen die met 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activitei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te maken hebb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ademhalin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hartsla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hoging dissimilatie (verbranding om </a:t>
            </a:r>
            <a:r>
              <a:rPr b="1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energie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 vrij te maken)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Arial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Arial"/>
              </a:rPr>
              <a:t>remt (vertraagt) spijsvertering</a:t>
            </a:r>
            <a:r>
              <a:rPr b="0" lang="nl-NL" sz="2400" spc="-1" strike="noStrike">
                <a:solidFill>
                  <a:srgbClr val="cc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1600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S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278080" y="2057400"/>
            <a:ext cx="56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Remt organen af die met activiteit te maken hebben en zorgt dat er rust is voor vertering e.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timuleert spijsverteringsorgan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bevordert </a:t>
            </a:r>
            <a:r>
              <a:rPr b="0" lang="nl-NL" sz="2400" spc="-1" strike="noStrike" u="sng">
                <a:solidFill>
                  <a:srgbClr val="008000"/>
                </a:solidFill>
                <a:uFillTx/>
                <a:latin typeface="Calibri"/>
                <a:ea typeface="Times New Roman"/>
              </a:rPr>
              <a:t>as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imilatie (vormen organische stoffen voor opbouw lichaam) </a:t>
            </a:r>
            <a:r>
              <a:rPr b="0" lang="nl-NL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 voor rust en herstel lij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remt (vertraagt) hartslag en ademhaling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32000" y="947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Par</a:t>
            </a:r>
            <a:r>
              <a:rPr b="0" lang="en-US" sz="4000" spc="-1" strike="noStrike" u="sng">
                <a:solidFill>
                  <a:srgbClr val="cccc00"/>
                </a:solidFill>
                <a:uFillTx/>
                <a:latin typeface="Tahoma"/>
                <a:ea typeface="Arial"/>
              </a:rPr>
              <a:t>as</a:t>
            </a: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81704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480"/>
            <a:ext cx="88218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60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Centrale zenuwstelsel (CZ)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rot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Klein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Hersenst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Ruggenme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Perifere zenuwstelsel: ( 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Perifeer = er omheen liggend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enuwcellen = neuronen (bewegings- en gevoelneuro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Bewegingszenuwcellen= mot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evoelszenuwcellen = sens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338720" y="260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Indeling op basis van ligging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Afbeelding 1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2989080" cy="251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3791" t="0" r="0" b="0"/>
          <a:stretch/>
        </p:blipFill>
        <p:spPr>
          <a:xfrm>
            <a:off x="7270920" y="5022720"/>
            <a:ext cx="1387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voettekst 4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D90F-955D-455F-8AB0-D97E6B6ED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eaeaea"/>
                </a:solidFill>
                <a:latin typeface="Times New Roman"/>
              </a:rPr>
              <a:t>Centraal zenuwstelsel: overzicht</a:t>
            </a: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2920" y="1467000"/>
            <a:ext cx="5651640" cy="52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grot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klein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hersenstam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midden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p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verlengde 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ruggen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niet zichtbaar: diëncephalon (tussenhersenen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2" name="Picture 6" descr="czs_overzicht"/>
          <p:cNvPicPr/>
          <p:nvPr/>
        </p:nvPicPr>
        <p:blipFill>
          <a:blip r:embed="rId1"/>
          <a:stretch/>
        </p:blipFill>
        <p:spPr>
          <a:xfrm>
            <a:off x="5713560" y="563400"/>
            <a:ext cx="34304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258920" y="692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cc00"/>
                </a:solidFill>
                <a:latin typeface="Tahoma"/>
                <a:ea typeface="Arial"/>
              </a:rPr>
              <a:t>Het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71640" y="1393920"/>
            <a:ext cx="69134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ecff"/>
                </a:solidFill>
                <a:latin typeface="Calibri"/>
                <a:ea typeface="Times New Roman"/>
              </a:rPr>
              <a:t>Indeling op grond van werking/functi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nimale zenuwstelse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onder invloed van de wil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erzorgt bewuste reacties en reflex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liggen voornamelijk in grote hersenen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utonome zenuwstelsel</a:t>
            </a:r>
            <a:r>
              <a:rPr b="0" lang="nl-NL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(= vegetatief zenuwstelsel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niet onder invloed van de wi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oor onbewuste functies van organ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regelt allerlei lichaamsfuncties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o.a. hartslag,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pijsvertering, ademhaling, nieren etc  </a:t>
            </a:r>
            <a:r>
              <a:rPr b="0" lang="nl-NL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HOMEOSTAS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in hersenst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Line 4"/>
          <p:cNvSpPr/>
          <p:nvPr/>
        </p:nvSpPr>
        <p:spPr>
          <a:xfrm flipV="1">
            <a:off x="684360" y="4562640"/>
            <a:ext cx="811080" cy="14493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59800" y="6093000"/>
            <a:ext cx="4845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2060"/>
                </a:solidFill>
                <a:latin typeface="Calibri"/>
                <a:ea typeface="Arial"/>
              </a:rPr>
              <a:t>Hormoonstelsel veel invloed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9" name="Picture 2" descr="http://msjensen.cehd.umn.edu/webanatomy/nervous/nerv_anatomyTV-head-nerves.jpg"/>
          <p:cNvPicPr/>
          <p:nvPr/>
        </p:nvPicPr>
        <p:blipFill>
          <a:blip r:embed="rId1"/>
          <a:stretch/>
        </p:blipFill>
        <p:spPr>
          <a:xfrm>
            <a:off x="6875640" y="142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kstvak 1"/>
          <p:cNvSpPr/>
          <p:nvPr/>
        </p:nvSpPr>
        <p:spPr>
          <a:xfrm>
            <a:off x="1908000" y="692280"/>
            <a:ext cx="633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Later meer over de functie van het zenuwstelsel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Eerst terug naar de BOUW.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Welke cellen vinden we in het zenuwstelsel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In het Centrale Zenuwstelsel en in het Perifere zenuwstelsel  worden signalen doorgegeven dmv 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zenuwcellen = neuronen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Hoe worden signalen (voortkomend uit prikkels) doorgegeven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De signalen worden als stroomstootjes doorgegeven aan andere neuronen. Tussen 2 verschillende neuronen ligt een ruimte die een SYNAPS heet. Signalen gaan niet als stroom door deze synaps, maar als chemische stoffen. (neurotransmitto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Hierover later meer.  Eerst de verschillende NEURON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6:39Z</dcterms:modified>
  <cp:revision>5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