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66F-8F05-4547-8ADB-13824D43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2FD-E1D7-4A18-8858-FF85597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149-E9B8-4BB1-96F7-8031215C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030-50F5-45A3-A7A6-9D156B58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AD2-C3DB-44B9-B9C6-F8D28368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BD3E-74B0-4997-BB09-F6AAE1F1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2478-2F8B-4B18-BFA2-EA0EBED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A47-7991-4DFD-B13D-BE8662C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E4EF-88ED-4422-A224-D02607E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FD70-2DC9-4CCC-928F-2BF5AD7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9FD-55F2-4A85-8554-0A17F1D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00F-90B2-428E-89BE-CF94062C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CB8D-BB16-490D-8CC2-7F58F75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EF6-70CE-4944-9A8A-A78133F0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8AD5-F35A-407F-87D9-5AA292E5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7EE-C155-4F59-861B-F96EFCD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F7BF-8B1A-4974-B17B-F0AFAEEE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747-B8B4-4142-8203-F800830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74A-683B-4AC1-B97C-059C2764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513-922F-4AFA-9AF8-0040B26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D31-9187-4592-91A7-A8EF325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D0A-B6EC-423B-82A4-47E86C2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CAA-9983-4A14-84D2-909F07A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83A-9152-4A7A-B1D3-9CE2E29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9BB-6DAE-41D1-873B-4618ACBB62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B20-F6F1-4715-8D1F-0F692D56F7D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geling door 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ormonen zijn chemische boodschapperstoffen. Zij worden gevormd op een bepaalde plaats en hebben hun eigen doelwitcell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ijn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rticosteroide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schorshormon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dosteron (Na – K balan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rtisol (Stress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drenaline ( Vlucht-vecht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307040" y="3200400"/>
            <a:ext cx="4532040" cy="181296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ilandjes van Langerha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% van de Alvleeskli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ken twee hormon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sul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ze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loedsuikerspiegel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32080"/>
            <a:ext cx="3809880" cy="326052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ona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eslachtsklier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geslachtshormonen onder invloed van de hypofys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estrog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ge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sto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2073240"/>
            <a:ext cx="2246040" cy="449424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eefsel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nkele op een rijtj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PO (erytropoëti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istamine (beschadigd weefsel kan dit afgev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gladines ( uitdrijving foetus, ontstekingsmediato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4192560" cy="302400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1" descr=""/>
          <p:cNvPicPr/>
          <p:nvPr/>
        </p:nvPicPr>
        <p:blipFill>
          <a:blip r:embed="rId2"/>
          <a:stretch/>
        </p:blipFill>
        <p:spPr>
          <a:xfrm>
            <a:off x="1801800" y="1484280"/>
            <a:ext cx="680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ijf verschillen tussen het zenuw- en hormoonstels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475160" cy="19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Zenuw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impulse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elektr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snel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Kortdure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zenuw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092480" y="1628640"/>
            <a:ext cx="453708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Hormoon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hormo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Chem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za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duri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het blo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Picture 7" descr="zenuwstelsel"/>
          <p:cNvPicPr/>
          <p:nvPr/>
        </p:nvPicPr>
        <p:blipFill>
          <a:blip r:embed="rId1"/>
          <a:stretch/>
        </p:blipFill>
        <p:spPr>
          <a:xfrm>
            <a:off x="2701800" y="3422520"/>
            <a:ext cx="1292400" cy="336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80px-Illu_endocrine_system"/>
          <p:cNvPicPr/>
          <p:nvPr/>
        </p:nvPicPr>
        <p:blipFill>
          <a:blip r:embed="rId2"/>
          <a:stretch/>
        </p:blipFill>
        <p:spPr>
          <a:xfrm>
            <a:off x="6908760" y="2435400"/>
            <a:ext cx="22352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nen: stoffen die in je lichaam langdurige processen regel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Samenwerk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utonome zenuwstelsel: snel en ko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onstelsel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: langzaam en langduri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419640" y="4403880"/>
            <a:ext cx="107928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Picture 4" descr="hormoonklieren"/>
          <p:cNvPicPr/>
          <p:nvPr/>
        </p:nvPicPr>
        <p:blipFill>
          <a:blip r:embed="rId1"/>
          <a:stretch/>
        </p:blipFill>
        <p:spPr>
          <a:xfrm>
            <a:off x="108000" y="1844640"/>
            <a:ext cx="454968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ypofyse"/>
          <p:cNvPicPr/>
          <p:nvPr/>
        </p:nvPicPr>
        <p:blipFill>
          <a:blip r:embed="rId2"/>
          <a:stretch/>
        </p:blipFill>
        <p:spPr>
          <a:xfrm>
            <a:off x="4851360" y="1528920"/>
            <a:ext cx="4206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ijnappel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fy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hild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ijn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landjes van Langerha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erestokk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elball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436840"/>
            <a:ext cx="3809880" cy="30510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ijnappel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pify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t voor aanmaak va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elaton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 bij dag- en nachtritme men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bers hebben een lage melatonine   product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773440"/>
            <a:ext cx="380988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ypofy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rsenaanhangsel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nz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‘mastergland’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t aangestuurd door de hypothalamu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ypofyse maakt de meeste en belangrijkste horm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09920"/>
            <a:ext cx="3809880" cy="290520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child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hebben invloed op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lle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chaamce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elstofwisseling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bijschildklieren maken hormonen voor kalkinbouw(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vitamine 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57280"/>
            <a:ext cx="3809880" cy="3210120"/>
          </a:xfrm>
          <a:prstGeom prst="rect">
            <a:avLst/>
          </a:prstGeom>
          <a:ln w="0">
            <a:noFill/>
          </a:ln>
        </p:spPr>
      </p:pic>
      <p:pic>
        <p:nvPicPr>
          <p:cNvPr id="11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7:04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