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</p:sld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  <p:sldId id="278" r:id="rId68"/>
    <p:sldId id="279" r:id="rId69"/>
    <p:sldId id="280" r:id="rId70"/>
    <p:sldId id="281" r:id="rId71"/>
    <p:sldId id="282" r:id="rId72"/>
    <p:sldId id="283" r:id="rId73"/>
    <p:sldId id="28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slide" Target="slides/slide23.xml"/><Relationship Id="rId69" Type="http://schemas.openxmlformats.org/officeDocument/2006/relationships/slide" Target="slides/slide24.xml"/><Relationship Id="rId70" Type="http://schemas.openxmlformats.org/officeDocument/2006/relationships/slide" Target="slides/slide25.xml"/><Relationship Id="rId71" Type="http://schemas.openxmlformats.org/officeDocument/2006/relationships/slide" Target="slides/slide26.xml"/><Relationship Id="rId72" Type="http://schemas.openxmlformats.org/officeDocument/2006/relationships/slide" Target="slides/slide27.xml"/><Relationship Id="rId73" Type="http://schemas.openxmlformats.org/officeDocument/2006/relationships/slide" Target="slides/slide28.xml"/><Relationship Id="rId74" Type="http://schemas.openxmlformats.org/officeDocument/2006/relationships/slide" Target="slides/slide2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EEA-01E7-40B5-B558-1291AEF1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342-4F2D-4E9A-94AF-D4D33B86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B439D-D1CC-40E9-96BD-D30BE21F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36F03-EC4B-412A-AD78-4C7DF846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BE57B-5823-4EE9-BB96-E184672D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F90A4-EFD2-4206-AA96-E1F067C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ED587-7EF1-47DD-A91D-A981D53D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A3343-8C0B-42F8-90E5-F1B3AF7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35D2F-EE66-446C-AD3A-5A814758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4C4FB-BB3F-4BC9-8BBD-FA07EABB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F2DCF-C778-40FF-809B-28C35165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6AC95-AF5E-4079-B49B-0C99E719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6C6-12EF-47E3-AE4C-DB03E684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67547-A9AE-4C92-806D-1108BDC3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7944D-A5AA-46BD-90FE-1D8974B3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FD99C-1AA4-44F5-BC5F-FE872337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EB391-B722-4B7C-A5C3-4151A41E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A62BD-AB54-4E2B-80C5-04C3FD93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DE984-BA51-4467-91F8-26573445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E53BF-9278-4FC9-8942-75BB191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3CE3A-7F1F-47EF-B896-3C78F6E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753A6-C627-46AA-9D52-F3D69423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C936E-BF85-4C76-9BC0-2FC4F2CD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8EC-9F18-4D3A-B5A5-F7258DD6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AD43D-B6B2-4ED8-A640-A7A23ABA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71338-8063-4775-99AC-49C05FE0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E8873-2E09-4434-B91B-6CBA3252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48382-042E-468E-AC0D-C6F75966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88937-E527-4839-94C3-2374E6F8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7D901-AC6D-4BCE-8958-7E6DBAAB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03E2-6BFD-4E6D-83AC-ADDEF82C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4EBCD-D297-4693-BE4E-D609AF1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AAB98-02C4-41AF-90F7-8999190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EE2B5-6CB6-4DCD-AED2-69FBAA44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F14D-408C-4A0B-8E9B-382199A9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34EF8-74FE-496D-9BC2-0712DAB9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A378B-8938-4816-9464-0EC9B22B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AB5AA-274B-4073-9B70-F26BEDBA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D9052-04AE-4FEB-8AB8-566FA5BA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0AF17-368A-4EBB-A83D-862A3A81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A613B-FB99-4F95-9714-C0040AFC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7FCC1-D3B7-487A-B1FB-FC74428E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2EA46-931C-4DD2-83E5-B7D544A0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350D2-DA45-45D1-B7CE-7211F3E8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66A61-E67D-4C4D-8086-FE023FD0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5D37-F37B-486D-B117-15339258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17E82-21AC-4BFA-9798-1EDFA212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18994-0D86-45D7-89A8-8FD92F2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020D2-4912-42E1-9F41-EAC918F3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7F786-2F26-4FF2-AC55-94602737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1BA28-1574-40E1-867A-BBE85EA6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B7E34-FAF2-4050-98E1-2B705A15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F229E-812A-4128-AFAD-FEDA90D4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AE774-B892-4CD2-8BFD-4A76E249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E7DC8-462D-4298-BDD5-9D2F34A6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DC07F-930A-472F-963E-948A73C2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F9D7-F7B8-4EB5-8E7D-D4F3107C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3A2DD-B696-43B9-8C5F-5DDE55CF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73A77-8D78-4152-8E63-F3BE905E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D5D14-A050-48EC-A4BC-9F8EC90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2BA3D-82B7-4138-B48B-6E0F763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9F60D-7F55-4CA7-913F-BFBB9AD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0E374-6DA8-4494-8321-F97A7B09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97FD7-971A-41BD-B0BC-0A793A59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9CAFF-9E93-4BC8-A59B-99C1E037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0801C-C895-4F41-8B5A-FD3D81BF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C6A5F-81B7-4E68-8B2C-00C026F9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00F2-9C88-45C8-A279-3536ECEB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900A5-B7B6-41F9-9274-9CC08608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380D0-1776-441B-87E4-66C021C2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61BBC-D1A3-40BF-B594-644A7FC4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776D6-CBDA-4245-84B8-CE4BE314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4F98D-42CC-45D6-97A7-EC74B195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F59F3-34E9-454A-A214-E59D2B9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9A854-8F37-44A1-891A-4D823357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56C86-5CD3-4218-8D51-C5F65752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2B4B7-7C9D-427A-A7AF-E2B027EA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74F81-4F26-4953-8F2A-FA0E6CB2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BE4C-62C0-4F56-900F-2FA41480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40F71-3502-4851-A73E-3BBD664E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75F38-C449-4294-AF31-7405EF1F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8769C-5686-4606-88AB-511D1BBA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7CF1E-07EF-49D9-BD44-8870D95A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81CD5-6338-4A8A-8D81-52BA9340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49975-7A30-40C1-85A8-843C236F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C9A48-7042-4A7D-9D9D-1652CEBE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BB2E2-0DD7-46F3-8AF8-49BAF6EF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4784B-4EEF-4B46-941D-46235639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19241-0B3C-4C96-9BE1-06F25438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7DA3-E700-46AB-91DA-5516396E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478A9-2757-4B77-A02F-A9A1BE0E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DE6DD-9027-44ED-9628-900BB9BA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C9726-8BEF-4AAA-A3EC-67AAF7AA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B7ABE-961B-4D62-A431-2ED4CE9D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83426-133A-420E-A88A-219947C1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0171D-B73D-4BFE-9B92-DD56C35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BA3E6-7102-4A8E-8BC9-43DBFF8E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D7BD8-7567-43CF-B1E8-7E3F84E4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B5CAC-2C56-4CA4-80F8-FB2B636B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FFB92-BE6B-4A35-B8F4-6EC3E512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0820-A25E-4FF8-BDAC-95968A12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2CD41-050D-480D-91E9-7E363B4F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91E69-1A7A-4D3C-8B2F-DB8EDB6B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07D5A-3F32-4795-A342-7B2DCD2B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27F1C-5390-4DA9-BBC9-5A6B62C6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FA03F-7F06-422F-8C87-22240E24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B7B9AB-AC5A-4390-8819-78A6CB42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87588-6717-4957-8393-B61F8C19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F6D14-E8F7-43BB-A70A-729201BC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85424-49F2-465D-9D93-A276258D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1B2F67-0388-4BEF-A2DD-476813F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4C3-B9B5-4B6C-BA64-22AC1C35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44E-3F64-4491-8116-A9624857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840E6-A7EB-40AA-A160-4129C432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C855E-977E-40C3-A99C-2B5853E6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2D801-88A1-4AFE-AE1F-F94B15FF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5CDA7E-5A01-4267-8459-29BA4AF6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8CE7D-F5F4-46A3-AB70-42823ACC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6BDC8-92B6-4CAE-8D45-672186B4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6B0F4-A0BF-497C-82C9-71776EAA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03413-96C2-4B32-89AE-504996FC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527BD-FFCD-4C19-BC9E-4E8A840A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CA5EB-C37D-4D05-8150-324DF26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FBB8-B33A-4958-B21E-0BD95E80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D98F43-0B51-4A94-83CF-4EA2B8E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F43D8-EAF0-462B-B26C-4862FCF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FA8AC2-23AA-48E3-A37E-2EE26648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46D59-76CF-4E8C-86DB-4CF69F4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2A8D4-1ED9-48F9-91C3-7E58D583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8B87F-1C8B-4204-AE0D-87AD7911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69423-9008-404B-8BE7-D4BDD664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CC4D7-835C-49BF-B157-A5E7EE48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950D45-7724-4458-A513-54885EF1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86001-DEBE-455E-A21B-52F955A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BFB7-A7ED-458B-BC6A-DAB907C7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E42AE-5755-42DC-9FCE-C4D69592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05C0D-902F-4760-A57A-1FDC8CFE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5D9D2-205C-4F98-A87A-E4C6371E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A73E9-0A51-44A5-A44C-789B6B3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483CA-C505-47E3-AA2E-C3C6E327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D1C4F7-2C94-4CC4-8897-8A28640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53857-57A0-4071-A39D-316E96F0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AD343-95E7-4865-9C0A-621D3AA4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9952EE-1A3F-4F3B-8594-3305BF71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16C3F-1B67-45C6-8DCA-C0A35E96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CCF7-1EF0-4EFE-A0D8-A1E50CFD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67337-7423-4D02-9B56-DF573A91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35911-8297-4D19-942B-1CEEDC9D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0BC79-E140-4363-8D45-7FE60368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DA65B-45AC-4E21-9CD2-C70FCE1F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8D8F95-3C74-4187-A83E-6C7141D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0DB3F-A39A-4825-8627-6F9EEBDB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CDFB8E-7ADE-4703-873F-5754B36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BE39A6-CBD4-433D-9A8C-0287FA11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269B19-4CA2-4774-9532-E27DF321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65020-CCEE-4A7B-AFA7-A09107E6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3849-928B-43E9-9E42-37DC7A0D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D8A56-6314-4DD7-91BD-0AC8F0F6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6F432-8AF9-4BA7-87EC-36FDC2BF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EDEC1-DA8A-438C-BF17-9558EAFA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E54BD-D95E-4A42-B6D4-BEBEF68D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966BB-6E91-461C-8F49-3E2BDED5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E474D7-6D98-4A2D-819D-8E207DD5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C0161-C65F-4B08-8A90-6B718F5E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F16CE6-B293-4574-A470-14D00240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043C2B-2B33-414F-B188-19CF6B79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724C75-E5CD-4EE2-80E7-3F04F5BD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73F9-9361-4163-BC48-29CE53D8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B5108-7BB4-4583-91C0-F1D905A7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0CEC9-1843-4E9C-878E-50053C05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A8162-0D90-4E69-AC94-E2296452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B0F493-6D34-411B-A1EC-D2057EF9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EE94F8-023C-4159-BD56-63BEE098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B07B04-1448-4E35-87A7-4DDE693C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C99EA7-128D-42BD-BDEF-79060C09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566EF6-7CCC-45A5-92EE-A8FC46C0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CF4AEC-7B36-4658-BA8D-4112CCE9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073823-8679-4D3F-A197-ED0DD8AE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E9CE-6FF0-41CC-9A48-29B8F15D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6D0191-6FCC-46DC-B9C3-E2FB8583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5D91FE-E6A4-462B-BDE4-061083D7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36C00A-E17C-4710-A5C7-FBD8941B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B74C6-CC79-42B3-B1E4-AB7BFF82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88A0B-8419-46E5-8205-9055ABC3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90FD0D-6740-464A-883B-FC9A34D3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8DD667-D56C-44F4-A01C-E2386ECA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9A13DA-F178-4A70-BEA5-14DB23B2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21DE98-8981-4B9D-B4E2-5562BD62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2185B0-E45C-4428-BBB7-E2C2E65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3231-8EE0-4D84-9802-A26CE0DE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DF1C43-14AC-48B6-B916-24FB9B59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BECA1-93CA-4231-BD6E-C14A3383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E64762-9B66-4CE6-B3F2-B32E976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C5E489-25C1-4597-A786-C823526F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F5B552-3B1F-4B43-A489-48838A1D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F8FCE1-AD9C-4751-AEBF-1EFC1516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202FF9-CC4B-4D84-B21E-9FCD8AE3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E4A0B8-733B-4A89-AB40-B7042B6C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81FD24-A6DD-4277-9FFF-EEC67809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77EE0F-0D4B-4F53-88D7-794F39DB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9D2A-9343-42A1-A6E0-BB122960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ACF83F-826C-4FA7-B69E-D3DCFC48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1B7A81-A200-4A39-ABF7-C90E16DE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BAE929-51BB-432C-A969-A66CCE4F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772A14-F9DC-4E2B-A980-47773747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5537CC-8086-4AD3-A5DF-392B8B06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56C3B5-EEE1-4A82-9DB6-DA17659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6F2150-16CA-48AC-B4BB-3D5DCBA5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29A9E2-6CEE-4746-961B-AEFC543A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A313B5-6ED4-4CE7-A2E0-C3055461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4211F8-18F4-4AD9-A622-CF7B06B5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D171-539C-4254-83DF-33D393A4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9499FA-AE7E-42B4-AEC1-648B3890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A4637C-E836-441D-B769-88A55CB1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7DAC66-E025-4501-8979-73DECA1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4287DD-24D2-47CF-B53E-144A7466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319F2C-0CC8-4387-AEC7-7C3E7BE3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0BABDE-A57E-4640-957B-A10E573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FC6C3E-FB39-49FB-A08E-3D51BD7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AC5297-2AA1-47EB-A4DA-A4F26C6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2C0A49-8567-4E18-827D-DC25FFC2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4D0251-CB25-47CC-A9AB-52EF32A3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34C-9EA6-42B7-BF07-6D1ED74B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7A35-FEBD-4669-9735-7E6B970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F74485-6B1E-4006-88CC-786E7916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940E3F-1569-4EC0-AF9A-E5A2EFAC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6E0C0C-0082-45C2-8D35-B95CC9B1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DD3E8F-4C66-4FEB-96CE-76D1C319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900CB5-13A0-4073-BF8E-3F9983A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38B466-29CF-4338-BC23-13D5EA91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9BC173-C90B-4A3A-BB18-FB53019C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E2B480-D468-4FDF-B541-8128533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1DD4C4-CFBE-4A04-A11E-E4BD00E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7A688E-335C-40FA-9911-E5A9AE0B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0AEC-A7F3-4F4C-850B-13FFF0CE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6F1501-7356-425D-ABC3-75220C1E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9E0C38-C9F7-4898-8590-57D0CA78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628541-E64A-4D52-944E-2F954C8B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F6AB51-B2C9-4647-919D-39C8DAE6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98B4B1-81B8-4FD0-A6F9-ED4711A5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4DAA15-8F8F-4D76-BE02-2911A9FD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201354-8A98-43C9-B1DD-C9F63040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E1D3B0-41D7-41E4-8AFF-70B2D224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81AA64-8CEF-4D05-B2F0-02C0E9F9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D9A1E2-2419-48B9-9373-B441AEBF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C0D0-7F19-4C74-AA2D-881A996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610E6E-D6EF-4234-AEC5-BC73DAC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514092-988A-41A5-83EA-27A846B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51B773-9D94-44BF-A01F-367ED868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313F33-373F-4D85-A17D-A4CBC261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2001AB-319F-4512-AEB9-9E56B468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7B7567-D865-441D-B266-23B747A2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1F3F3D-3C9F-43AD-94A5-BB272470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7D74A6-F2D4-43BA-A0B0-DB222DB4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5349B2-2617-4E90-9789-348115C4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689A7E-352F-4CCA-A3CF-4F7A1B98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6E81-9771-4E82-AB2E-C0E84C3B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952F63-77FD-4234-829E-4BB0CF39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BDBF14-3EC8-41DC-81BF-A8034191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835D2A-570E-4A53-AF45-D5C8DFD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F84FB1-FF89-4B11-A806-C3CD6C2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4130B2-87E9-473E-8ABC-2CB6A24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6C262B-F54F-4B51-A285-88E48348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D151E6-E530-4423-B1B0-1A5CA084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37B985-0C24-47E1-A091-A54576AA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F277DB-30A4-4CCC-816C-869DADEC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A0F873-3F0E-4833-BE1F-22661A91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CA4D-6B9B-458C-97A8-4D044C87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5F8FB1-2DA5-4CDF-962B-39C57DBF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311884-F0AB-42B5-B575-0891AC34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BA40D1-724E-44D5-8803-1B1578CF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306683-733B-471B-BBB3-8DFD26C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17BC7C-7C75-4D7F-81AB-86A3FA4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AE4036-CBF5-47B6-BD38-C7995E1B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C4EF2B-876C-4F0D-9132-1E1A2BF2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750322-59C5-4666-845D-EDB0C7D2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7D54AE-27CA-4E86-BBC5-08473EB3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A74427-017A-4321-B18A-1F3D58ED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E064-67D4-4824-833F-A2A12A9E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85F4F1-8F47-4FD5-AD2C-41984F4E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4C9317-E730-49EA-BDFA-D3746300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0E4E22-4D5E-42D3-AEFC-65A15CFD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8D59FD-C32C-46F1-9318-3723FE86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515429-1ED5-41A8-AE3F-959B01B8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AF0CBE-3A46-4021-A3C4-7C2443F8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6F6106-BD9F-4EE1-965C-7E1962B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1C4884-D7B8-4A4A-B0E6-D000DC7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722B8E-037D-452E-9085-EBA0898E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855FAD-BC6D-4E69-A305-F38B631A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7C8E-401B-433F-B99E-17C95B5B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313141-6286-45CA-A3C2-DFE0B02E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28BA19-1E49-4E52-896F-A4E3395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16CAED-3AB2-4F12-B26D-CA3B7F98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DB790B-23E4-417C-BF5C-462D13BF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425C6D-7DC7-4E87-9E55-6AAB30E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C2C5CA-5ADD-4DC4-ADE5-5BFBB4B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0EEBEB-9112-424B-896F-9C719351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EF2A47-803B-4E3A-94DF-F70048FE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3C574B-8510-41FF-91B7-4A43A49E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5044D6-0AFD-46CC-91A1-2832D2F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5C68-D468-4F4C-9105-914ACA34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BE9B3A-2DC3-4798-9F61-2B1BDB8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ED1364-30F9-4D2C-8D0B-4E49CB92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EA5D02-AAAE-4536-BD55-FADE3465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29755F-F886-44BA-9001-2778E8FD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FCF1D7-614F-449B-92FD-60CC012D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753F7C-5DF4-4BFC-AD17-6E6FB37C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794FE4-78F1-4907-8825-0A8B9E62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8FE1EC-5C99-46BC-81DA-47737001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370DFC-AAA7-478B-AC98-DD3E3217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E0276D-77D8-4B54-9464-250E0680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AEC6-0D61-4762-B40E-A8E9F43E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56DF1C-1311-4D80-BFA2-AA7BD92D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B0541C-CBFB-4636-A2EF-E48F9E8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295FBC-6B43-4AAD-8D60-2D396FCE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F5154D-3D9F-48E3-8887-9996371F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548236-C590-4CCE-BFA8-2710EFA3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904814-88E6-42E9-B6FF-C57880BC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6612DD-356C-41C0-AB7F-D1FCB5AD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B6D845-A0B1-4A8D-B843-7EF38FD5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6B8D21-D53E-4D67-8E10-03BBF746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F63898-4C54-434C-968A-9598C454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B2423-D4D6-4B2C-90E4-2DC154F8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63A2F6-93FE-4B39-951A-51E8C4C8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8D521D-FF66-440C-98BC-69ECAB4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FC3B1B-FD10-4C89-BE5B-C42FC122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FF0460-007D-4CD8-9BE9-B1EE930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F9C23E-42A9-44C6-9CF0-ABA1A785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931D5E-2454-4115-BCEF-5538CA33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88ED31-B4D2-4E53-9723-166E059D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B2006A-E51C-4685-972F-A64AEEB0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A82CA7-1503-4A53-8E58-2CD08020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EE2FFE-76E0-41B7-91D0-7495D991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D30-8231-4F34-AA5F-83EFD79E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2D6B-8DEB-4A62-838D-5E88CC70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5CDF12-A112-437F-A1C6-258F038E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CF9450-B784-4759-9418-4C5BE153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95FD7C-9364-49A8-BE60-2DCABA59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54477B-D506-468A-B305-8A494B3F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2C5A68-F7C6-41F5-8B37-592B9356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9EE6F6-B133-4CBD-AB74-8FC0F61B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656C84-1CE0-4FF6-A626-02451DA0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E04D82-EE4D-4C74-A448-E9A5DBC8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66F25F-1341-438F-B0DC-127A9D36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AE3F71-86A6-4CB0-AA6C-53925B8D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5EA9-A71E-4A4B-A80C-1E700CF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134B5C-CE04-4500-A3FB-FF2032A1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553FBB-5F3B-4A3E-AEE8-DE9F594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02375D-A230-4BA4-8E70-BC26E1D7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30DE55-618B-4CB9-872F-20179127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41712D-358E-49CC-A76C-C51764A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F2E95E-AF92-4B00-88D2-E3F74D22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791855-9AA8-4D90-8BD4-69D2D592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2CB7FC-D2F3-4C51-B246-8DF6167C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56CBE7-A82D-47C4-A2CC-C31716F3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793905-74D6-432A-AF0D-3AB5E564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CEC2A-FAA6-47E7-89C6-8814F38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6F7C15-96F6-4FC1-9B79-FA4AD12E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A1244A-D3D3-432D-9C93-9256C1AB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D8F5A7-72F4-4D68-8AFC-62D49743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DBB8C8-6416-41C8-8F2D-895B585C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78160E-624D-43D5-B380-18023792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C9D3F8-6847-488B-8934-4038CCA8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22BCB4-2C28-4728-AD97-03FA0420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A1E473-60C4-4933-8B08-7B1C58DB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CC9534-11C8-46AC-B5DC-A6B76CC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E497D9-1E6D-474C-9F8B-A51CE6A2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1391-6017-4A18-AFAC-F0C38211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951C60-1185-4BF1-AFF5-80E34DD9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E394F3-D944-4C23-810F-74969501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75031D-AAB4-43DE-8DF6-7B3927D0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822C04-4F81-43A1-A47D-193C2BF8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FD97C8-431F-455D-B855-B407B4F6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C3D59C-E0A0-4702-9B0C-3B434996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5BC073-D426-4C97-8184-778D50EA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A14B9F-7EAA-44CF-AE45-567C473D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666F83-1CEC-42B1-9F74-B0848CA8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5A65CE-1E2D-45A1-98A7-D1E98504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A363B-1DB8-48D4-B945-91C1B471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2E438D-6082-4B70-B298-209DDEF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D79DF0-1C7B-408A-B7BD-2E8F0FDC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7F23B2-14BE-4735-8339-4E15E76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0E595B-16E4-4611-98B2-A0209260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5DE4A1-0252-4067-A664-776BCB2D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93395D-CA5E-418B-8601-A93E285B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D00C26-2AAE-4340-8C31-365CC09E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2C8C00-CDFD-4224-8319-790092AC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A7641A-ABF9-4B4A-A81E-96CC0458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2C8597-D3A5-4793-8311-6C35FBD1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365D-9D40-45EC-88C1-26A626C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4759BC-3688-43A1-AF8B-3BDF55D2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A3D8FA-30B3-4C69-8F76-261DE472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10156D-770B-4B7E-9904-8E2472C0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BB99FCA-8956-42D8-9FFA-51623D24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6959A1-E2D7-47C8-93B2-1F76EFB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040F55-6C9A-4AE6-9DD6-0DE18420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BED59D-75FC-45C4-A4CD-2737787B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CA7E46-5A58-4B09-98C0-68BEACD9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3EEB19-B7C6-4109-AD6B-8B4AA8CF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092DF8-E395-4AA8-ABDC-8644267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6347-ABA8-4B4A-A14B-E118D58D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6F8FF3-D41A-4B5C-96E8-B511BA05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64F566-898F-485D-8DA2-0F3C9ED5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AA3BAD-4EAD-4F94-832A-50396034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7B9730-A167-4AB8-A9FE-CC082894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E97302-0469-4527-A502-1403B76A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CF5710-3201-4876-848D-659671B3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26AF68-21A7-43F0-8D52-0C6FEAEB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25E81F-DA17-4B5F-8A7B-57F5BA96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D74F3A-CF63-44F1-A2E5-84467208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CDCA30-282D-4402-9E63-CA4CDE30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0DBC-44BD-4E70-9A9E-AD022863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E2DB41-CD70-4C1B-93CA-F1D5C338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9B5EF7-90B4-413E-9482-2F4BB3F5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B8DA8D-8FD9-4B34-93CA-4BB7547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741F5B-6C67-4AD5-BB8C-A6DE690E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FCA433-3D60-4AFF-8F03-184D802D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F23A02-368F-4C1C-B47E-F5207B94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F55C54-D9A0-4790-A156-BEA7B03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3D67B7-D2F5-4899-B716-1AC785F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2A529C-76B2-4DC4-9FF4-32561BF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6E8E7F-E336-499E-9998-5A27C709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924A-F14A-47C9-BF41-4FF52339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5F694C-D697-46C3-9811-21C43FAF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7833E3-4F4D-450E-B6E1-AF81AC25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DD4FA3-6AA1-4437-99DB-5B41B1F2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711D27-9211-4CDB-8626-194A52B9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2AF02D-067C-49AB-B854-D4908430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8905BF-5990-4A9E-8C09-6EE895EA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9DED73-82F8-4C06-A2DF-807F1CFC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371A6B-DBA2-424D-BFBA-C035034B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6540D2-9EFA-47C0-92F2-50790DF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D0F8173-0AE3-41AC-9DE7-EECAB82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1726-0FBC-4C0A-98A2-3229A67B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18935C-985F-4132-B6C8-4B975E65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F36AD6-D081-45B5-8021-24EB9B0A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779EC0-749B-4853-8949-3196AF14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7B08D9-A806-4D57-9F6B-9463EDA7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E98485D-C648-4528-A2AB-4F251C79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405585-2B05-4458-8488-04442497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B2B9D5-C740-44E9-A29B-37E7CD6E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2078A2-2563-4D83-AFE6-B748BD10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044AEA5-D23B-4E63-BDDC-FCE4BD42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2526F2-AF1D-4347-B651-93E48262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E71-2EC9-4080-8ABB-2999F162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58D0-3926-4167-B693-4DE8AA68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140AE0-42AA-4305-8BB6-0B7F39F1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6D15CF-DAE0-4E1D-9687-363F911D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716114-4DAF-4B1D-BCBF-18617686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6614C3-C6A0-4F43-81DA-F26E3A1D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363913-19E5-4A3E-8003-912CB7F8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9652D00-E28A-49B3-9F85-3BE26EDA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19B5F00-006E-46CE-9479-FCECDB76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2CFA87-EFEE-4621-A441-F60F094C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62EA61-E2BA-4425-A032-172DD5B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525843-3064-4724-9E93-BC5C8C6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D4535-E95D-49F5-98DF-88D7379C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C4118CB-6023-4BAF-B38A-AEAA5E15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3F053C1-54CE-478A-A7D5-BADF9632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9FCD9C-5ED2-4C7E-8361-75ADFDC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5EF081-F723-4140-AD18-BD76FA20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B6F4573-DAB8-47F1-8EFB-4CC16292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093FA8-F48E-40FF-AC33-5738A956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CA7CA3D-EFFB-42DE-BDA8-5A7256EC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DE8CA5-47F3-481E-963A-70E3A7CB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02390C-8BCC-4DFF-842C-185F1B68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042CF3-9C42-47B8-BFB7-8CC25649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FFF2-EF8A-474A-B6DD-9D95ACF8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69A04A-380A-4172-BC7C-A3CCAFEC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7FBC2B2-4EB7-423C-8E31-68A492E6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E82F38-0D4B-4EF7-9137-BB9A8D03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7061FD0-BB57-4B28-BA44-F5784BD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53E0942-015D-4AE7-9D7D-8919B52F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BE919D-E52B-4C1C-95E8-4F809F90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F53B159-FF78-4702-AA9D-E8B66DAA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4C5AD5C-215A-46B6-BFA9-6869B87E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3DF5FFD-F31E-404E-B4A1-F2785AE7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F36E6-F02A-4376-8600-68332989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4DAE-FDED-43B2-96F1-2687133B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4A8D8-8C58-411E-A0F5-AE902D6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D1ED1-02AA-4CE6-BFAA-9BC38A03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270C-C022-43A2-80BC-D3123A7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1FE5-FFB6-4331-A888-130891FF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0B3BE-13EF-424B-867F-D82524E0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28F-3161-4523-A189-ED7CEA9E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070AD-883B-4749-8F24-42755765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EF14-2A36-411F-B595-51FE345F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8F9C5-496F-4C19-9067-32BE3015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96B63-F151-4F23-B0AA-4A317D6B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02925-663E-4D0E-8C17-8608F765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1A8F2-11D5-4C8F-9AC8-68D9088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2505-9DEC-4813-8321-F907E02F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9B6C-FC72-4035-8DD8-D1CC637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4D97C-E3DA-4AD5-9EBC-60E1E3F2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E0BC4-EACF-449A-B380-DEEDE9A4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EDD-7790-43B6-96C4-B4144AF0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3380F-0A82-4044-9787-9D62AD06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720F6-3F65-434E-85D7-049F1065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A1A5D-09B6-4687-8321-95ECCBAB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C4E4E-C828-4309-B0C1-5D85406C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5CCB-11A2-45BF-A3F4-F17E2492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D4415-8F42-42F5-8BA9-E50B311E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594D2-13FC-4AE2-A9B7-71FED9EF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28A5A-F08F-437E-A006-C2BE6E7E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91BBF-96A0-4EC7-9708-18493F0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CA05-A1AC-47D5-AD23-87F1753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7C8-ACC8-43F4-BF00-556C8890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0CCED-1971-4C8B-A517-90706DF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2D293-1A56-48EB-B93B-91BCAF6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D47B1-06DD-4DE7-B337-E4ED4F22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28708-1CB3-419D-B25D-D107F1F2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9A40-12CE-4729-8562-D05D142A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5B059-FA42-4BB1-BEAD-C2A7D896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FBD04-4A8E-49BB-AF52-213FE3E3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061B4-2BD4-4E9F-8E12-D6175185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4E9F7-3CAF-45A8-B5DC-98D14C58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31E19-6C0C-4EF6-AA1C-B01708ED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487-BC01-4BB5-8541-C67BEE5A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29845-3B92-46A1-9706-F299658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6B68A-97E3-4753-B280-9828400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524EE-2727-4F47-B894-99A57E2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9D639-DD55-4516-B850-A021B9F1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75E97-8563-40BF-9AF0-F907AB67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E469B-1DE3-49ED-ABAB-43E109C6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7D562-8A82-4C28-A0AE-5D041D60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49554-0C87-435A-9F3C-BEE86464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060F4-2ABF-47CC-907F-69E9F33A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11D9-66F8-441A-8FC6-6D19EF8B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8F99-875A-4143-AFC3-0B39EADD279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5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5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6121-23D5-4973-BDE8-9F42B0D066B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5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5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74AC-B794-4992-91A3-F693C64A232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6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6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6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6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3128-BD7A-44DC-BE7A-092D6975355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7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7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0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0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7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7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2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B81-BB62-4339-988D-E40D9E4E3FE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7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7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7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7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8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740B-A2CF-406C-BB12-03D35B2F82C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8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8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2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2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8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4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D1A7-D73B-4D25-A89F-C1BB174961C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8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8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8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0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89BE-DFD1-4B55-A9FB-DCD3AFA8A30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9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9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9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9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CE57-4CCB-4285-920E-643E099E21B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05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5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53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BD0D-B460-44C0-9CEF-336BD30D098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49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5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56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41F6-1960-407A-8A2D-1606544D8203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9614-FB20-492E-A024-1458D6B89E7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9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59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6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0000-EA47-441A-94AF-6B13B60DDB53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6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6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6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726-2CE9-4082-AE34-CE2F1A3CAEB8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8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6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6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6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39D4-5A02-43F4-A9AA-8FD500B2343D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67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68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6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488A-42CF-4BFA-91AD-CF5A8D3CFD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26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26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26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27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28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C4C0-853A-4800-A8A7-34FDFA111C9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33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33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33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33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34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00B8-C209-40C0-8414-A610EA2608BC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395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396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397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403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409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4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5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6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F8BF-47BE-467C-9DE6-8375A0C8B6D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8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459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460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461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467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473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8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9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0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5518-B515-4E1B-A21B-CC873CFBDED6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2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523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524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525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531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537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2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3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4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6E43-C7BA-434B-81D6-D289910A4DA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58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58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58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59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60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ED0F-8AC1-4D1B-B570-B0A05EBD506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D85C-9CD2-4433-978C-15B7F05AD0F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65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65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65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65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66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42CC-463F-4F36-8A55-335D63E14F8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715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716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717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723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729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4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5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6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7DA5-5C02-4035-8E6B-FB5598CF5E1C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8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779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780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781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787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793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8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9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0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9847-2454-4E60-A7AD-183ADE83E6E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2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843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844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845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851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6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857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2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3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4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258E-F9B4-4C24-839C-73F7D6414F0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90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90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90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91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92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9762-27B8-4892-8F25-6E056F4A332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97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97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97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97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98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7F42-71A5-4DD1-8A18-7DF1BBD1D87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4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035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036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037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2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043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8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049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4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5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6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EB3A-722B-433F-AEF3-E410B17CEBD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8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099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100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101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6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107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2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113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8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9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0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28E2-04B1-444F-9CBC-D72CB737BF2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163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164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165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0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171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6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177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2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3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4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952-461E-4A6F-872D-256614A880B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22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22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22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23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24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8648-B4DB-4B8C-9A84-F79DEFFFF385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E652-1BBC-47FB-AB1C-B83C6CC65D5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 type="dt" idx="118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 type="ftr" idx="119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 type="sldNum" idx="120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EB54-28B1-4006-BF39-736E2E8BE9D1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 type="dt" idx="121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 type="ftr" idx="122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 type="sldNum" idx="12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56F5-28AE-48EE-8F38-EC20D8E32DC9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dt" idx="12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 type="ftr" idx="12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 type="sldNum" idx="12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7598-60B0-4FEE-9484-1994F6BE2A63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 type="dt" idx="127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 type="ftr" idx="128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1" name="PlaceHolder 5"/>
          <p:cNvSpPr>
            <a:spLocks noGrp="1"/>
          </p:cNvSpPr>
          <p:nvPr>
            <p:ph type="sldNum" idx="12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9D0C-BCAB-4DED-B931-52321134AC20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dt" idx="130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ftr" idx="131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 type="sldNum" idx="13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D539-45E8-4F56-82D0-0377749AE63B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2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2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2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2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BEF0-F7BD-46FF-8019-107D0F69C44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2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8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8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2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2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7E8F-2521-42B7-9A8F-0EC194186DC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3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3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3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3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747F-1246-4036-9245-7010E15809D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9367-8621-4BFC-96F1-51E006AAD34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D8CB-714D-4F67-82A6-BE2F6EA0C3A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1766520" y="-316080"/>
            <a:ext cx="7162920" cy="22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Waarnem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 type="subTitle"/>
          </p:nvPr>
        </p:nvSpPr>
        <p:spPr>
          <a:xfrm>
            <a:off x="2050920" y="1267920"/>
            <a:ext cx="6400800" cy="53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= Veranderingen in de omgeving kunnen ervare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We leren vandaag hoe zintuigcellen in je zintuigen de </a:t>
            </a:r>
            <a:r>
              <a:rPr b="1" lang="nl-NL" sz="3200" spc="-1" strike="noStrike" u="sng">
                <a:solidFill>
                  <a:srgbClr val="ccecff"/>
                </a:solidFill>
                <a:uFillTx/>
                <a:latin typeface="Times New Roman"/>
              </a:rPr>
              <a:t>prikkels</a:t>
            </a:r>
            <a:r>
              <a:rPr b="1" lang="nl-NL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nl-NL" sz="1800" spc="-1" strike="noStrike">
                <a:solidFill>
                  <a:srgbClr val="ccecff"/>
                </a:solidFill>
                <a:latin typeface="Times New Roman"/>
              </a:rPr>
              <a:t>(veranderingen in de omgeving)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 omzetten in </a:t>
            </a:r>
            <a:r>
              <a:rPr b="1" lang="nl-NL" sz="3200" spc="-1" strike="noStrike" u="sng">
                <a:solidFill>
                  <a:srgbClr val="ccecff"/>
                </a:solidFill>
                <a:uFillTx/>
                <a:latin typeface="Times New Roman"/>
              </a:rPr>
              <a:t>impulse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Ter vergelijking: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Geluid van je stem wordt omgezet in data/bits/(0011001) omdat jouw telefoon/kabel/satelliet/computer/mp3 alleen maar bits kunnen lezen en verzenden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Zo moet geluid/licht enz. omgezet worden in iets dat jouw zenuwen/hersenen kunnen “lezen”/verwerke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Geluid/licht (=prikkel)  kan niet door een zenuw verplaatst worden. Maar een soort stroomstoot (=impuls) WEL!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Zenuwencellen communiceren door middel van deze “stroomstootjes” = impulse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02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Vervolg werking van het geho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In het binnenoor ligt het slakkenhuis met ca. 16.000 cellen met piepkleine trilhaartj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trilhaartjes sturen de geluidssignalen naar de hersen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Als haartjes kapot gaan, is d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persoon voor die tonen/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frequenties doof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2" name="AutoShape 5"/>
          <p:cNvSpPr/>
          <p:nvPr/>
        </p:nvSpPr>
        <p:spPr>
          <a:xfrm>
            <a:off x="76320" y="-422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23" name="Picture 6" descr=""/>
          <p:cNvPicPr/>
          <p:nvPr/>
        </p:nvPicPr>
        <p:blipFill>
          <a:blip r:embed="rId1"/>
          <a:stretch/>
        </p:blipFill>
        <p:spPr>
          <a:xfrm>
            <a:off x="5200560" y="3657600"/>
            <a:ext cx="3943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25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284360" y="0"/>
            <a:ext cx="4608360" cy="32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lakkenhuis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innenoor)  </a:t>
            </a:r>
            <a:br>
              <a:rPr sz="1800"/>
            </a:br>
            <a:r>
              <a:rPr b="0" lang="nl-NL" sz="2400" spc="-1" strike="noStrike">
                <a:solidFill>
                  <a:srgbClr val="eaeaea"/>
                </a:solidFill>
                <a:latin typeface="Times New Roman"/>
              </a:rPr>
              <a:t>&amp; </a:t>
            </a:r>
            <a:br>
              <a:rPr sz="2400"/>
            </a:b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trilharen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=zintuigcelle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25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26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1770120" y="4076640"/>
            <a:ext cx="7342200" cy="2360520"/>
          </a:xfrm>
          <a:prstGeom prst="rect">
            <a:avLst/>
          </a:prstGeom>
          <a:ln w="0">
            <a:noFill/>
          </a:ln>
        </p:spPr>
      </p:pic>
      <p:pic>
        <p:nvPicPr>
          <p:cNvPr id="2527" name="Tijdelijke aanduiding voor inhoud 3" descr=""/>
          <p:cNvPicPr/>
          <p:nvPr/>
        </p:nvPicPr>
        <p:blipFill>
          <a:blip r:embed="rId3"/>
          <a:stretch/>
        </p:blipFill>
        <p:spPr>
          <a:xfrm>
            <a:off x="114480" y="333360"/>
            <a:ext cx="3375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Zien: ter inf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In het spectrum van zichtbaar licht kunnen we 8 miljoen tinten onderschei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In Nederland is ca. 1 op de 12 mannen en 1 op de 200 vrouwen kleurenblin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1 op de 33.000 mensen zijn geheel kleurenblind. Zij zien alles grij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0" name="Afbeelding 5" descr="Ogen.jpg"/>
          <p:cNvPicPr/>
          <p:nvPr/>
        </p:nvPicPr>
        <p:blipFill>
          <a:blip r:embed="rId1"/>
          <a:stretch/>
        </p:blipFill>
        <p:spPr>
          <a:xfrm>
            <a:off x="5857920" y="5324400"/>
            <a:ext cx="32860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2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Zien: meer inf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Ons netvlies bevat 126 miljoen lichtgevoelige cell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80 % van de zintuiglijke prikkels komt binnen via de og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e ogen worden het meest bewust gebruik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3" name="Afbeelding 5" descr="Ogen.jpg"/>
          <p:cNvPicPr/>
          <p:nvPr/>
        </p:nvPicPr>
        <p:blipFill>
          <a:blip r:embed="rId1"/>
          <a:stretch/>
        </p:blipFill>
        <p:spPr>
          <a:xfrm>
            <a:off x="0" y="5124600"/>
            <a:ext cx="37148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" dur="1" fill="hold"/>
                                  <p:tgtEl>
                                    <p:spTgt spid="2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zicht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Hoornvlies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escherming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Lens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Concentreert lichtstrale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Iris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regelt hoeveel licht in lens valt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Glasachtig licha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Netvlies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hier liggen de uiteinden van de zintuigcellen. Deze cellen zetten licht om in </a:t>
            </a:r>
            <a:r>
              <a:rPr b="0" lang="nl-NL" sz="1800" spc="-1" strike="noStrike" u="sng">
                <a:solidFill>
                  <a:srgbClr val="eaeaea"/>
                </a:solidFill>
                <a:uFillTx/>
                <a:latin typeface="Times New Roman"/>
              </a:rPr>
              <a:t>impulsen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 die via de oogzenuw naar de hersens gaa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20960" y="1125360"/>
            <a:ext cx="45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Harde oogvlies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escherming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Gele vlek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hier liggen de uiteinden van de meeste zintuigcellen en is dus de lichtgevoeligste/belangrijkste! plek!!!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Blinde vlek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hier buigen de zintuigcellen om, dus alleen de zijkant van die zintuigcellen liggen bloot en die ‘doen’ niets. Alleen de uiteinden doen wat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Oogzenuw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undel van alle 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                                      zintuigcelle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Bindvl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7" name="Afbeelding 6" descr="anatomieoog2.gif"/>
          <p:cNvPicPr/>
          <p:nvPr/>
        </p:nvPicPr>
        <p:blipFill>
          <a:blip r:embed="rId1"/>
          <a:stretch/>
        </p:blipFill>
        <p:spPr>
          <a:xfrm>
            <a:off x="2195640" y="4622760"/>
            <a:ext cx="4876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25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Oo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971640" y="33480"/>
            <a:ext cx="7259400" cy="6491160"/>
          </a:xfrm>
          <a:prstGeom prst="rect">
            <a:avLst/>
          </a:prstGeom>
          <a:ln w="0">
            <a:noFill/>
          </a:ln>
        </p:spPr>
      </p:pic>
      <p:pic>
        <p:nvPicPr>
          <p:cNvPr id="254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AutoShape 2"/>
          <p:cNvSpPr/>
          <p:nvPr/>
        </p:nvSpPr>
        <p:spPr>
          <a:xfrm>
            <a:off x="76320" y="-422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42" name="Picture 4" descr=""/>
          <p:cNvPicPr/>
          <p:nvPr/>
        </p:nvPicPr>
        <p:blipFill>
          <a:blip r:embed="rId1"/>
          <a:stretch/>
        </p:blipFill>
        <p:spPr>
          <a:xfrm>
            <a:off x="76320" y="404640"/>
            <a:ext cx="898524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Vervolg werking van het zic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Via de pupil komt licht ons oog binnen en worden de stralen gebroken door het hoornvlies en de lens. Hierna wordt een ‘beeld’  geprojecteerd op het netvl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e zintuigcellen op het netvlies – staafjes en kegeltjes- zetten lichtprikkels om in impulsen die via de oogzenuw worden doorgegeven aan de hersen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5" name="Picture 5" descr=""/>
          <p:cNvPicPr/>
          <p:nvPr/>
        </p:nvPicPr>
        <p:blipFill>
          <a:blip r:embed="rId1"/>
          <a:stretch/>
        </p:blipFill>
        <p:spPr>
          <a:xfrm>
            <a:off x="6443640" y="4941720"/>
            <a:ext cx="2521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2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2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25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Ruike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1398600" y="1623960"/>
            <a:ext cx="777240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Onze neus signaleert niet alleen </a:t>
            </a:r>
            <a:br>
              <a:rPr sz="3200"/>
            </a:b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etensgeuren maar ook gevaren, </a:t>
            </a:r>
            <a:br>
              <a:rPr sz="3200"/>
            </a:b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zoals brand, gas en bedorven </a:t>
            </a:r>
            <a:br>
              <a:rPr sz="3200"/>
            </a:b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 voedse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reukorgaan is volgens sommige wetenschappers 10.000 keer gevoeliger dan het smaakzintui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Geuren roepen herinneringen op! Heel direct, zonder dat het eerst ‘bedacht’ kan worden. Heel belangrijk bij ouder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8" name="Afbeelding 5" descr="neus.jpg"/>
          <p:cNvPicPr/>
          <p:nvPr/>
        </p:nvPicPr>
        <p:blipFill>
          <a:blip r:embed="rId1"/>
          <a:stretch/>
        </p:blipFill>
        <p:spPr>
          <a:xfrm>
            <a:off x="7796160" y="0"/>
            <a:ext cx="1347840" cy="1368360"/>
          </a:xfrm>
          <a:prstGeom prst="rect">
            <a:avLst/>
          </a:prstGeom>
          <a:ln w="0">
            <a:noFill/>
          </a:ln>
        </p:spPr>
      </p:pic>
      <p:pic>
        <p:nvPicPr>
          <p:cNvPr id="2549" name="Afbeelding 6" descr="neus.jpg"/>
          <p:cNvPicPr/>
          <p:nvPr/>
        </p:nvPicPr>
        <p:blipFill>
          <a:blip r:embed="rId2"/>
          <a:stretch/>
        </p:blipFill>
        <p:spPr>
          <a:xfrm>
            <a:off x="0" y="0"/>
            <a:ext cx="1347840" cy="1368360"/>
          </a:xfrm>
          <a:prstGeom prst="rect">
            <a:avLst/>
          </a:prstGeom>
          <a:ln w="0">
            <a:noFill/>
          </a:ln>
        </p:spPr>
      </p:pic>
      <p:pic>
        <p:nvPicPr>
          <p:cNvPr id="2550" name="Afbeelding 7" descr="neus.jpg"/>
          <p:cNvPicPr/>
          <p:nvPr/>
        </p:nvPicPr>
        <p:blipFill>
          <a:blip r:embed="rId3"/>
          <a:stretch/>
        </p:blipFill>
        <p:spPr>
          <a:xfrm>
            <a:off x="0" y="5489640"/>
            <a:ext cx="1347840" cy="1368360"/>
          </a:xfrm>
          <a:prstGeom prst="rect">
            <a:avLst/>
          </a:prstGeom>
          <a:ln w="0">
            <a:noFill/>
          </a:ln>
        </p:spPr>
      </p:pic>
      <p:pic>
        <p:nvPicPr>
          <p:cNvPr id="2551" name="Tijdelijke aanduiding voor inhoud 4" descr=""/>
          <p:cNvPicPr/>
          <p:nvPr/>
        </p:nvPicPr>
        <p:blipFill>
          <a:blip r:embed="rId4"/>
          <a:stretch/>
        </p:blipFill>
        <p:spPr>
          <a:xfrm>
            <a:off x="0" y="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25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ruike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* Boven in de neusholte ligt het “reukepitheel”: dit is gevoelig slijmvlies, waarin de reuk-zintuigcellen zich bevind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* Geurstofmoleculen worden met de luchtstroom meegenomen naar dit slijmvlies en komen in aanraking met de uiteinden van de zintuigcell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* De zintuigcellen zetten de geurprikkels  vervolgens om in impulsen/signalen en die gaan via de neuszenuwen naar de hersen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54" name="Afbeelding 5" descr="neus1.jpg"/>
          <p:cNvPicPr/>
          <p:nvPr/>
        </p:nvPicPr>
        <p:blipFill>
          <a:blip r:embed="rId1"/>
          <a:stretch/>
        </p:blipFill>
        <p:spPr>
          <a:xfrm>
            <a:off x="7643880" y="5357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555" name="Afbeelding 6" descr="neus1.jpg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556" name="Afbeelding 8" descr="neus1.jpg"/>
          <p:cNvPicPr/>
          <p:nvPr/>
        </p:nvPicPr>
        <p:blipFill>
          <a:blip r:embed="rId3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25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 txBox="1"/>
          <p:nvPr/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Een </a:t>
            </a:r>
            <a:r>
              <a:rPr b="1" lang="nl-NL" sz="3200" spc="-1" strike="noStrike" u="sng">
                <a:solidFill>
                  <a:srgbClr val="eaeaea"/>
                </a:solidFill>
                <a:uFillTx/>
                <a:latin typeface="Times New Roman"/>
              </a:rPr>
              <a:t>prikkel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is een verandering in de uitwendige of inwendige omgeving waarop een organisme reageert. Deze reactie wordt ook wel een respons genoem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Veel organismen bezitten speciale organen die gevoelig zijn voor een prikkel: de zintuigen. Deze zintuigen zetten de prikkel om in </a:t>
            </a:r>
            <a:r>
              <a:rPr b="1" lang="nl-NL" sz="3200" spc="-1" strike="noStrike" u="sng">
                <a:solidFill>
                  <a:srgbClr val="eaeaea"/>
                </a:solidFill>
                <a:uFillTx/>
                <a:latin typeface="Times New Roman"/>
              </a:rPr>
              <a:t>elektrische impulsen/signalen 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ie naar een regelend orgaan (hersenen) gestuurd wor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an kan er gereageerd worden = </a:t>
            </a:r>
            <a:r>
              <a:rPr b="1" lang="nl-NL" sz="3200" spc="-1" strike="noStrike" u="sng">
                <a:solidFill>
                  <a:srgbClr val="eaeaea"/>
                </a:solidFill>
                <a:uFillTx/>
                <a:latin typeface="Times New Roman"/>
              </a:rPr>
              <a:t>resp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imes New Roman"/>
              </a:rPr>
              <a:t>Smaak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5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92080" cy="3921120"/>
          </a:xfrm>
          <a:prstGeom prst="rect">
            <a:avLst/>
          </a:prstGeom>
          <a:ln w="0">
            <a:noFill/>
          </a:ln>
        </p:spPr>
      </p:pic>
      <p:sp>
        <p:nvSpPr>
          <p:cNvPr id="2559" name=""/>
          <p:cNvSpPr txBox="1"/>
          <p:nvPr/>
        </p:nvSpPr>
        <p:spPr>
          <a:xfrm>
            <a:off x="3419280" y="333000"/>
            <a:ext cx="561636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maakknopjes (</a:t>
            </a: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papillen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) liggen op de to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De 10.000 smaakknopjes liggen in het epitheel (=slijmvlies-huid) van de to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4 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oorten zintuigcellen in deze papillen,  voor 4 primaire smak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5</a:t>
            </a:r>
            <a:r>
              <a:rPr b="0" lang="nl-NL" sz="2800" spc="-1" strike="noStrike" baseline="30000">
                <a:solidFill>
                  <a:srgbClr val="ccecff"/>
                </a:solidFill>
                <a:latin typeface="Times New Roman"/>
              </a:rPr>
              <a:t>de?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: =unami ( japans voor ‘mondgevoel’). Lekker hartig, vol. (Ketjap, oude kaas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75"/>
                </a:solidFill>
                <a:latin typeface="Times New Roman"/>
              </a:rPr>
              <a:t>MAAR: </a:t>
            </a:r>
            <a:r>
              <a:rPr b="0" lang="nl-NL" sz="2800" spc="-1" strike="noStrike">
                <a:solidFill>
                  <a:srgbClr val="404075"/>
                </a:solidFill>
                <a:latin typeface="Wingdings"/>
                <a:ea typeface="Wingdings"/>
              </a:rPr>
              <a:t></a:t>
            </a:r>
            <a:r>
              <a:rPr b="0" lang="nl-NL" sz="2800" spc="-1" strike="noStrike">
                <a:solidFill>
                  <a:srgbClr val="404075"/>
                </a:solidFill>
                <a:latin typeface="Times New Roman"/>
              </a:rPr>
              <a:t>We proeven toch meer dan 4 smake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75"/>
                </a:solidFill>
                <a:latin typeface="Times New Roman"/>
              </a:rPr>
              <a:t>Nee! Die ‘ruiken’ we!!!!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6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proeve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e tong is bekleed met een dik slijmvlies. Hierin bevinden zich zo'n 3000 smaakpapillen die via 3 zenuwbundels prikkels doorsturen naar de smaakwaarnemingscentra in de hersen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Zonder reuk en zien maar 4 smak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MET reuk wel duizend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63" name="Afbeelding 5" descr="tongplaatje.jpg"/>
          <p:cNvPicPr/>
          <p:nvPr/>
        </p:nvPicPr>
        <p:blipFill>
          <a:blip r:embed="rId1"/>
          <a:stretch/>
        </p:blipFill>
        <p:spPr>
          <a:xfrm>
            <a:off x="7358040" y="4829040"/>
            <a:ext cx="1785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25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oev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smaakpapillen worden elke 10 dagen vervan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punt van de tong is het meest gevoelig voor zo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Het achterste gedeelte van de tong voor bitt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zijranden van de tong voor zuu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Een smal strookje langs de gehele tongrand voor zou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66" name="Afbeelding 5" descr="tongplaatje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2028960"/>
          </a:xfrm>
          <a:prstGeom prst="rect">
            <a:avLst/>
          </a:prstGeom>
          <a:ln w="0">
            <a:noFill/>
          </a:ln>
        </p:spPr>
      </p:pic>
      <p:pic>
        <p:nvPicPr>
          <p:cNvPr id="2567" name="Afbeelding 6" descr="tongplaatje.jpg"/>
          <p:cNvPicPr/>
          <p:nvPr/>
        </p:nvPicPr>
        <p:blipFill>
          <a:blip r:embed="rId2"/>
          <a:stretch/>
        </p:blipFill>
        <p:spPr>
          <a:xfrm>
            <a:off x="0" y="0"/>
            <a:ext cx="1785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25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aarnemingsfunctie v.d. hui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9" name=""/>
          <p:cNvSpPr txBox="1"/>
          <p:nvPr/>
        </p:nvSpPr>
        <p:spPr>
          <a:xfrm>
            <a:off x="1246320" y="1052640"/>
            <a:ext cx="789768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Huid is 5</a:t>
            </a:r>
            <a:r>
              <a:rPr b="1" lang="nl-NL" sz="2800" spc="-1" strike="noStrike" baseline="30000">
                <a:solidFill>
                  <a:srgbClr val="ccecff"/>
                </a:solidFill>
                <a:latin typeface="Times New Roman"/>
              </a:rPr>
              <a:t>e</a:t>
            </a: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 zintuig van deze serie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Ook in de huid zitten zintuigcellen. De uiteinden van deze zintuigcellen zetten verschillende soorten prikkels om in impulsen/signalen, die via de zenuwen naar de hersenen g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Maar de huid heeft meer functies!!!!!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4869000"/>
            <a:ext cx="3809880" cy="1733400"/>
          </a:xfrm>
          <a:prstGeom prst="rect">
            <a:avLst/>
          </a:prstGeom>
          <a:ln w="0">
            <a:noFill/>
          </a:ln>
        </p:spPr>
      </p:pic>
      <p:pic>
        <p:nvPicPr>
          <p:cNvPr id="257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Functies van de hui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3" name=""/>
          <p:cNvSpPr txBox="1"/>
          <p:nvPr/>
        </p:nvSpPr>
        <p:spPr>
          <a:xfrm>
            <a:off x="1246320" y="1052640"/>
            <a:ext cx="789768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Vijf belangrijke functies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Bescherming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egen uitdrogen, ziektekiemen, uv-stra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lpt ons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lichaamstemperatuur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te rege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Uitscheiding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an bijvoorbeeld afval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Waarneming,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oor wat we voelen met onze hui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maken van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vitamine 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4869000"/>
            <a:ext cx="3809880" cy="1733400"/>
          </a:xfrm>
          <a:prstGeom prst="rect">
            <a:avLst/>
          </a:prstGeom>
          <a:ln w="0">
            <a:noFill/>
          </a:ln>
        </p:spPr>
      </p:pic>
      <p:pic>
        <p:nvPicPr>
          <p:cNvPr id="257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 bouw van de hui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7" name=""/>
          <p:cNvSpPr txBox="1"/>
          <p:nvPr/>
        </p:nvSpPr>
        <p:spPr>
          <a:xfrm>
            <a:off x="539280" y="1483920"/>
            <a:ext cx="836316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3 belangrijkste lagen: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1. Opperhuid=epiderm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. Lederhuid = derm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3. Onderhuids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                bindweefsel = subcut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79" name="Afbeelding 1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5865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 bouw van de opperhuid/derm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1" name=""/>
          <p:cNvSpPr txBox="1"/>
          <p:nvPr/>
        </p:nvSpPr>
        <p:spPr>
          <a:xfrm>
            <a:off x="395280" y="1125360"/>
            <a:ext cx="712944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opperhuid bestaat uit vijf lage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ornlaag 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deze beschermt vooral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Kiemlaag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(deze laag, en dus onze hele huid,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ordt elke 4-8 weken 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vernieuwd! Nieuwe cellen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worden omhoog geduwd. Dode hoorncellen slijte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af of worden afgewassen/afgeschuurd.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tekelcellaa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Korrellaa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eldere laa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8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78320" y="2133720"/>
            <a:ext cx="3865680" cy="2695320"/>
          </a:xfrm>
          <a:prstGeom prst="rect">
            <a:avLst/>
          </a:prstGeom>
          <a:ln w="0">
            <a:noFill/>
          </a:ln>
        </p:spPr>
      </p:pic>
      <p:pic>
        <p:nvPicPr>
          <p:cNvPr id="2583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sp>
        <p:nvSpPr>
          <p:cNvPr id="2584" name="Tekstvak 5"/>
          <p:cNvSpPr/>
          <p:nvPr/>
        </p:nvSpPr>
        <p:spPr>
          <a:xfrm>
            <a:off x="5003640" y="482904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imes New Roman"/>
              </a:rPr>
              <a:t>Huidskleur wordt bepaald door de hoeveelheid melanine, gemaakt door pigmentcellen in de kiemlaag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imes New Roman"/>
              </a:rPr>
              <a:t>Bv: Tepelhof, moedervlekken, sproeten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Feitjes Hoornlaa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6" name=""/>
          <p:cNvSpPr txBox="1"/>
          <p:nvPr/>
        </p:nvSpPr>
        <p:spPr>
          <a:xfrm>
            <a:off x="395280" y="1125360"/>
            <a:ext cx="712944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Hoornlaag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Beschermt tegen ziektekiemen,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uitdroging, uv-stralen 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‘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iepere  shade”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Eelt is een verdikking va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e hoornlaag. Hoe me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churing, hoe meer eel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ellen in de hoornlaag zij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oo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aren en nagels zijn ook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gemaakt van hoorncelle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87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88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4602240" y="1341360"/>
            <a:ext cx="4398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68000" y="-1620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Lederhuid en onderhuids bindweefsel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0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91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6363000" cy="3232440"/>
          </a:xfrm>
          <a:prstGeom prst="rect">
            <a:avLst/>
          </a:prstGeom>
          <a:ln w="0">
            <a:noFill/>
          </a:ln>
        </p:spPr>
      </p:pic>
      <p:sp>
        <p:nvSpPr>
          <p:cNvPr id="2592" name="Tekstvak 4"/>
          <p:cNvSpPr/>
          <p:nvPr/>
        </p:nvSpPr>
        <p:spPr>
          <a:xfrm>
            <a:off x="1150920" y="4292640"/>
            <a:ext cx="7993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Hier liggen belangrijke structuren voor </a:t>
            </a:r>
            <a:r>
              <a:rPr b="1" lang="nl-NL" sz="2800" spc="-1" strike="noStrike" u="sng">
                <a:solidFill>
                  <a:srgbClr val="ccecff"/>
                </a:solidFill>
                <a:uFillTx/>
                <a:latin typeface="Times New Roman"/>
              </a:rPr>
              <a:t>temperatuur-regeling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 (bloedvaten die uit kunnen zetten, zweetklieren die verkoelend zweet kunnen produceren, haren die overeind kunnen staan en een vetlaag). En voor </a:t>
            </a:r>
            <a:r>
              <a:rPr b="1" lang="nl-NL" sz="2800" spc="-1" strike="noStrike" u="sng">
                <a:solidFill>
                  <a:srgbClr val="ccecff"/>
                </a:solidFill>
                <a:uFillTx/>
                <a:latin typeface="Times New Roman"/>
              </a:rPr>
              <a:t>waarneming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 (4 verschillende zintuigcellen voor tast, pijn, druk en  </a:t>
            </a:r>
            <a:r>
              <a:rPr b="1" lang="nl-NL" sz="2000" spc="-1" strike="noStrike">
                <a:solidFill>
                  <a:srgbClr val="eaeaea"/>
                </a:solidFill>
                <a:latin typeface="Times New Roman"/>
              </a:rPr>
              <a:t>warmte/kou)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395280" y="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uid </a:t>
            </a:r>
            <a:r>
              <a:rPr b="0" lang="nl-NL" sz="44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Gevoel/Tas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4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95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1547640" y="981000"/>
            <a:ext cx="55184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762120" y="836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Onze zintuigen vangen prikkels op die in onze hersenen worden omgezet in informatie. </a:t>
            </a: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ze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kkel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(wordt in de zintuigcellen omgezet in)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impuls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/signaal </a:t>
            </a: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(die komen bij de hersens aan en die maken hiervan: )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informatie. 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informatie kan ons waarschuwen voor gevaar, maar ook een prettig gevoel gev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2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Feiten over zintuigcell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2123640" y="1915920"/>
            <a:ext cx="491508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Elke zintuig(cel) heeft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zijn eigen prikkel 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oor=geluid, enz/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zijn eigen drempel 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hoeveel geluid is nodig om de zintuigcel te triggeren)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zijn eigen sensorisch deel op de hersenen 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te zien op een scan…wat licht op?)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07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Zintui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ubTitle"/>
          </p:nvPr>
        </p:nvSpPr>
        <p:spPr>
          <a:xfrm>
            <a:off x="323640" y="2420640"/>
            <a:ext cx="83516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Hor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or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trilhaartjes in binnenoor zijn de zintuigcell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Zi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og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staafjes&amp;kegeltjes in netvlies zijn de zintuigcell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Voelen/tast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huid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zenuwuiteinden in dermis zijn zintuigcell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Proev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tong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zintuigcellen zitten in papillen in/op je tong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Ruik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neus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zintuigcellen in slijmvlies van je neus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25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Horen: ter inf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Anderhalf miljoen mensen zijn slechthore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Waarvan 450.000 mensen een hoortoestel dra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Van de rest –ruim 1 miljoen- zou vermoedelijk de helft beter kunnen communiceren met behulp van een gehoorapparaa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Veel mensen zijn onvoldoende op de hoogte van de mogelijkheden of weten zelf niet dat hun gehoor minder 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2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25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Werking van het geho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gehoororgaan bestaat ui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uitwendige o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middeno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binneno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4" name="Picture 5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4540320" cy="32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2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Oo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79280" y="641520"/>
            <a:ext cx="8785440" cy="5680080"/>
          </a:xfrm>
          <a:prstGeom prst="rect">
            <a:avLst/>
          </a:prstGeom>
          <a:ln w="0">
            <a:noFill/>
          </a:ln>
        </p:spPr>
      </p:pic>
      <p:pic>
        <p:nvPicPr>
          <p:cNvPr id="251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o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Het oor kan tot 20.000 trillingen per seconde verwerken. Hoe meer trillingen per seconde, hoe hoger het waargenomen geluid (de frequentie) 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Hoe harder het geluid, hoe ‘heftiger’ de trillin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5-08T18:14:26Z</dcterms:modified>
  <cp:revision>40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