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3A33-985F-48D5-AAF4-5BDDCDEFC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6D6D-0DEE-4B3C-9AD0-57C7224F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89D3-55D0-4D19-8E8E-1EC075031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80AA-A6AA-48FD-A4C3-E1B44700C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465E-2F1B-4C8E-85AB-FB96ADB13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0289-595B-474E-BE8B-38FBB22C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CE7E-D8E6-40B0-BB3E-97D55ADB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A122-37C1-4AD7-A997-39C51F6B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F5E2-8BE6-43BB-AAEA-6CA56EFC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B1E1-53E0-426C-954F-0D639F92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6493-28E1-42F9-B495-1C9C979B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BD56-9569-42D5-B5F5-BA647EE4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D59C-12E9-49EA-9761-20D93007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C2DA-8D6E-4AD6-9F7C-A9EB5EE8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9E0F-7595-494D-AD75-4FB9C6A6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ADEF-DA18-42C2-8BF4-00421C22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1ACA-96D3-4B34-8FAB-E9068A7C3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AD39-BB48-428E-B1EE-86934468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052D-557E-4381-BDC4-4CAFD5EC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D594-FAE9-4C46-95F9-CEBF0176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CDC5-CAD8-4467-8B1C-4E391260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6C12-3750-4D76-9B64-AE844D5C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AA1B-531B-42FF-8FA9-80AEBB15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03EF-6A5A-4BF1-A57C-36D02777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EB66-2E0F-4D27-8B31-2213A509FD2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4161-4C76-4655-89FE-9673282190E9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Seksualiteit en voortplanting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Al meer dan 100.000 jaar op deze planeet dankzij de voortplanting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8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Seksualiteit en ouder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2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1066680" y="2546280"/>
            <a:ext cx="3810240" cy="2832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50288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Sociale factoren die een rol spelen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Partner valt we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Meer vrouwen dan mannen (2.25 x meer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Sociale controle in zorg- en verpleeghuizen beïnvloed seksueel functioneren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4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Misverstand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Dementerenden en gezonde partners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Wordt vaak gesproken over ‘ontremde’gedrag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Slechte beeldvorming ‘seks en ouderen’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7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103720" y="1905120"/>
            <a:ext cx="3660840" cy="4114800"/>
          </a:xfrm>
          <a:prstGeom prst="rect">
            <a:avLst/>
          </a:prstGeom>
          <a:ln w="0">
            <a:noFill/>
          </a:ln>
        </p:spPr>
      </p:pic>
      <p:pic>
        <p:nvPicPr>
          <p:cNvPr id="128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Misverstand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0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2743200" cy="3809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50288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ccecff"/>
                </a:solidFill>
                <a:latin typeface="Times New Roman"/>
              </a:rPr>
              <a:t>Het veel genoemde ‘ontremde gedrag’ komt niet vaak voor.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ccecff"/>
                </a:solidFill>
                <a:latin typeface="Times New Roman"/>
              </a:rPr>
              <a:t>Groter probleem is de afvlakking van emoties en negeren van intimiteit.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ccecff"/>
                </a:solidFill>
                <a:latin typeface="Times New Roman"/>
              </a:rPr>
              <a:t>Draagkracht en draaglast van gezonde partner onder hoge druk.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2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Hulpverlening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Hulpverlening praat niet over intimiteit en seksualiteit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Seksualiteitsbeleving en veranderingen bij ziekte en ouder worden onderbelicht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Leren herkennen van signalen in gesprekk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5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159520" y="2781360"/>
            <a:ext cx="3678120" cy="2448000"/>
          </a:xfrm>
          <a:prstGeom prst="rect">
            <a:avLst/>
          </a:prstGeom>
          <a:ln w="0">
            <a:noFill/>
          </a:ln>
        </p:spPr>
      </p:pic>
      <p:pic>
        <p:nvPicPr>
          <p:cNvPr id="136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Voortplanting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0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1066680" y="2244600"/>
            <a:ext cx="3810240" cy="3435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0288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Primaire geslachtskenmerk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Secundaire geslachtskenmerk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Kin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Pub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Volwassen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Ouder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2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Seksualiteit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Seksualiteit en voortplanting kun je tegenwoordig los van elkaar zi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Seksualiteit is de sociale kant van de geslachtsgemeenscha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5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403960" y="2432160"/>
            <a:ext cx="3060720" cy="3060720"/>
          </a:xfrm>
          <a:prstGeom prst="rect">
            <a:avLst/>
          </a:prstGeom>
          <a:ln w="0">
            <a:noFill/>
          </a:ln>
        </p:spPr>
      </p:pic>
      <p:pic>
        <p:nvPicPr>
          <p:cNvPr id="96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Maatschappelijke ontwikkeling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8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998640" y="1989000"/>
            <a:ext cx="3960720" cy="3961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0288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Aan seksualiteit worden grenzen gesteld. Door de maatschappij, religies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Tussen landen en culturen bestaan zeer grote verschill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Homoseksualiteit vs doodstraf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0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Seksualiteitsbeleving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Tot de jaren ‘60 van de vorige eeuw: kerken hadden grote invloed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Veranderende moraal t.a.v. man en vrouw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Gelijkheid man – vrouw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Sexuele revolutie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3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508720" y="1955880"/>
            <a:ext cx="2990880" cy="4209840"/>
          </a:xfrm>
          <a:prstGeom prst="rect">
            <a:avLst/>
          </a:prstGeom>
          <a:ln w="0">
            <a:noFill/>
          </a:ln>
        </p:spPr>
      </p:pic>
      <p:pic>
        <p:nvPicPr>
          <p:cNvPr id="104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Seksualiteit en ouder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6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1143000" y="2736720"/>
            <a:ext cx="3657600" cy="2451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50288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Een taboe onderwerp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Hulpverlening ‘durft’ het onderwerp niet aa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Weinig onderzoek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Leeftijdsgrens vaak tot 50 jaar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8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Seksualiteit en ouder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Fysiologische verandering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Man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Tragere erecti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Lagere spermadru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Langer herste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Vrouw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Minder vaginaalvoch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Vaginawand dunner en minder elastisch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1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029200" y="2340000"/>
            <a:ext cx="3809880" cy="3244680"/>
          </a:xfrm>
          <a:prstGeom prst="rect">
            <a:avLst/>
          </a:prstGeom>
          <a:ln w="0">
            <a:noFill/>
          </a:ln>
        </p:spPr>
      </p:pic>
      <p:pic>
        <p:nvPicPr>
          <p:cNvPr id="112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Seksualiteit en ouder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1406520" y="1905120"/>
            <a:ext cx="3130560" cy="4114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50288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Invloed ziekte en medicijngebruik (in)direct negatieve effect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Suikerziekte: erectieproblemen, pij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Artrose/ reuma: beperkte lichamelijke activiteit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6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Seksualiteit en ouder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TIA/CVA, hartinfarct levert angst voor herhaling op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Medicatie tegen hoge bloeddruk heeft een negatieve invloed op de seksualiteitsbeleving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9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003640" y="2637000"/>
            <a:ext cx="3843360" cy="2736720"/>
          </a:xfrm>
          <a:prstGeom prst="rect">
            <a:avLst/>
          </a:prstGeom>
          <a:ln w="0">
            <a:noFill/>
          </a:ln>
        </p:spPr>
      </p:pic>
      <p:pic>
        <p:nvPicPr>
          <p:cNvPr id="120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8:50:37Z</dcterms:created>
  <dc:creator>Onderwijs</dc:creator>
  <dc:description/>
  <dc:language>en-US</dc:language>
  <cp:lastModifiedBy>Bakker,C.M.</cp:lastModifiedBy>
  <cp:lastPrinted>2016-01-14T09:10:04Z</cp:lastPrinted>
  <dcterms:modified xsi:type="dcterms:W3CDTF">2016-06-05T23:26:54Z</dcterms:modified>
  <cp:revision>26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31043</vt:lpwstr>
  </property>
</Properties>
</file>