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16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4878-3E43-4539-9E6B-9CB29C9C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DE1D-3B39-4E7C-AFBA-745363FC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7AF3A-A2D7-4684-88A9-7996EBE7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910C4-5A64-402D-8C1F-6670687D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6DDA8-CD88-4833-83BB-7EC01B5F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22E65-4C74-4DA7-9B48-F6E2ABDD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4E296-53CD-49B3-8D3F-AD8D9A7C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008B1-118D-4157-B76C-3B834E77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601C18-86DA-4AA1-9488-4C4D77A6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3839D-D55C-4816-AAF1-911DAE6BC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FF794-4103-4B8D-8E10-3D804A097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20618-C4F2-4A93-AED2-54E56BABE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187C-FA2C-4CC2-9B36-68C1C289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6C5A2-4390-49EF-9B59-EF1B7CCC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8DBAA-7BFB-428B-8081-4A32068A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2A4AC-897E-477E-A4BA-8141262A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2A3C1-159C-41AA-B713-6008B959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D8605-2494-4548-B713-E6C8017E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A8BE3-B147-4D9A-B1FF-0882332B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63833-5E08-4EC4-810E-B795C35C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C4A9C-46B4-4B1B-B0C6-85E9A306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6C332-75B5-466B-A406-58206FF1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62792D-C3D8-4E51-96B7-07E9FD4A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52B2-2BEC-435D-B147-E6EEE979E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AD45D-6BE5-4774-85C0-01F2D13CB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7604D-79FE-4188-8140-22BAE5140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7359-6C98-4174-8EEC-2C777D40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335A-D431-40F2-AD57-5B3398B8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EC36-D466-4BB0-982B-DB999384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4766-3795-469A-9BC7-29E051A5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A2C6-FB4C-44B6-90B0-F9BD7E51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447A-621F-4419-B65B-D53BD317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C345-119B-4FA3-8354-9A5D0EB0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6FDE-CDDE-4403-B468-1CFD48B9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2313-0457-4115-ACBE-94BE98C7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71A7-B525-4995-ACA1-7585F2AA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E7D1-1158-4A39-94D7-167863F18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AAA4-7172-46B9-9B23-8413E969C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183F1-B2C1-495A-9D8B-72D1F610A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E52DD-EAE0-4A10-82F9-9473052E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36AA8-142A-448F-87DA-3F6BA63E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4B296-7851-4AA9-A02A-6DE87EA7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B75A5-318B-4F90-AC13-BFC10D09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D12B-3450-45A7-87B5-0990A1F9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1DE95-B4C7-4A40-88A6-2C50E60C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A3B3B-1B42-4661-8433-78F27687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B8B00-B76A-43AC-BBC1-9584D7F3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9A151-E530-490C-B0C4-59C5FFEE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8D6A0-C668-41EA-9E5A-F5E60948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24B78-7BD9-4D5F-8726-4E87D6793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0A337-DC87-443E-83A5-AB32B91E2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122D0-1CD9-4B4E-9CF5-02242D5C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B63AF-F18C-493E-9DD3-6FE3DAB3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E04EE-4AC6-43A7-A6A5-7429D303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B5F2-9FBB-48C8-99C9-69660872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FC323-1B58-45CD-B79C-DC42D521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2FE37-4F5E-4024-BF0A-CC9104E3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1561B-8DED-47C3-990F-27E62614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EE697-4860-4B8A-BBBF-D869FD8F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480EC-67BF-4993-91A2-3B6C621E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43186-BA26-438A-A201-ED1061BC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A4F32-F70D-49D6-9D6F-F1D22CE4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7F080-817F-4460-9314-8E50782DB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4D28E-BE21-467D-82E2-1F01EFDB7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DD8C4-AACB-4556-8054-D0073BA00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5B45-D444-480D-8206-20D2B025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EBE3F-3371-41C9-B4AC-D5A7FB67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E993F-485A-4731-832B-81AE14B5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3A77D-92C4-4F7B-987B-A13215B4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35893-A0A6-4958-9FC9-E825FF25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393E8-4831-4034-A7C2-DDC96E08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2B247-9E82-4D62-8112-4A0151E8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3E8BD-98B7-4A2C-97DA-245AFB7A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1F175-B10E-45F2-A170-ED2162B3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A4D45-586D-4981-855B-8887094F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89DD6-9DB3-4A68-B38F-7614A8B08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0C4D-0552-4798-A6AF-8731D2F9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E61D4-1414-448C-AD0F-983F5F167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7183C-C42D-42E1-92EE-E9E5D87C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AEC76-4D39-417D-9B83-33B2BFF4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0552E-AFC8-48B8-B6F9-B9E8A838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09A82-ACA8-4A81-A675-59DE8947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2F862-C0EC-4A5B-8B1B-70E33510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65E72-5170-4BEF-9457-345C41CB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A68E5-4AC7-4CDC-9518-E092704E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44608-F4A8-48DB-B83F-CF117F0E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C6C56-2A76-4925-A197-C02D1395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C8AE-1DD7-4028-ABA4-EFF6D38E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679E2-9079-4367-A903-65B09806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40102-463D-4D99-A424-F37716785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1208E-0BBF-4A85-A799-1FAFA0E5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5CD0E-8128-4CB0-B4D1-9B5B1E752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B7465-5334-4035-A4EF-2CBF3805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E72BE-A390-4A7B-A1C2-9655B66B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DFC76-504E-4E62-9691-559F234A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A61CB-FDCA-4C81-8001-A3CBABC9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6320F-8B3C-4F1B-9403-BB835EF7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B385A-2D3E-43D3-ABCD-71F9F6ED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741F-8839-4445-9B9B-1B11DA0C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C18F5-6C6E-462B-B581-FFF2B4D3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6EF12-D62F-4E8B-99D2-34F52AE4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3FBF9-674B-4619-84D9-879690CD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18082-7E75-441B-8831-6D65F37F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5CB73-36DF-4DCE-B28A-410B98CA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C3830-1FD9-4189-9E48-6A2C0B6D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3C8E7-EDA1-4FCD-A631-E442AEBE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B3B52-04AE-495F-8FBD-611CDFB4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DCB6D-F0C7-4742-A410-BD9963E4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64D8E-6479-4825-B181-0103AA27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B6A5-85EB-48BA-A1B5-6EE3B821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1B35E-E187-4985-87B7-03A62E83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1229C-E6B5-478F-8EEB-B0A315D0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0FC99-5392-4398-800E-4BAA9788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504F5-F234-4E43-A664-3311C1E9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4D566-2D70-4F54-9DD8-8A9E3DAD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F6F0F-9F35-41EA-A286-79A347625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34BB5-1258-48E2-B3F5-9CD5A46CB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1393C-2E26-4CFE-99DD-2AE696BA9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A6D96-23DF-42BB-8E56-1EFC6777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237F9-5814-40FE-81E1-A03196BA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437B-3023-401C-BC58-A3DE9D94E6D6}" type="slidenum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1D46-39A8-410F-AF14-DAA1C9FA8267}" type="slidenum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83CC-5178-429F-9F5D-5CE79795E4E6}" type="slidenum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E2A2-5DAC-47EE-B45A-452A52E75972}" type="slidenum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B577-48B5-43D4-80EE-2A49760D0A8D}" type="slidenum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68FE-0855-44BC-AF04-24AACB863E4A}" type="slidenum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DD8B-8B5E-4999-9207-AF7B94F51511}" type="slidenum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EE22-43B2-4C5B-899F-8EAEABBA642A}" type="slidenum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3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4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5035-176C-4BC7-9C86-25B6B0467E42}" type="slidenum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48D7-F64E-46D1-8514-7EA378722463}" type="slidenum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00"/>
                </a:solidFill>
                <a:latin typeface="Palatino Linotype"/>
              </a:rPr>
              <a:t>De Hersenen.(Cerebrum)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2060"/>
                </a:solidFill>
                <a:latin typeface="Century Gothic"/>
              </a:rPr>
              <a:t>Door: Roel van der Hoek</a:t>
            </a: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f5897"/>
                </a:solidFill>
                <a:latin typeface="Palatino Linotype"/>
              </a:rPr>
              <a:t>Emoti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480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3492360" y="1628640"/>
            <a:ext cx="5786640" cy="321012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 txBox="1"/>
          <p:nvPr/>
        </p:nvSpPr>
        <p:spPr>
          <a:xfrm>
            <a:off x="250560" y="1600200"/>
            <a:ext cx="331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Het limbische systeem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7f7f7f"/>
                </a:solidFill>
                <a:latin typeface="Century Gothic"/>
              </a:rPr>
              <a:t>Onder invloed hiervan ontstaan gevoelens van harmonie, plezier, agressie, sexuele gevoelens, schuld, beloning en straf.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7f7f7f"/>
                </a:solidFill>
                <a:latin typeface="Century Gothic"/>
              </a:rPr>
              <a:t>Verbinding tussen grote hersenen en tussenhersenen.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482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f5897"/>
                </a:solidFill>
                <a:latin typeface="Palatino Linotype"/>
              </a:rPr>
              <a:t>Tussenhersenen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484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140360" y="1700280"/>
            <a:ext cx="4802040" cy="266544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 txBox="1"/>
          <p:nvPr/>
        </p:nvSpPr>
        <p:spPr>
          <a:xfrm>
            <a:off x="394920" y="162864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Bevinden zich tussen de 2 hemisferen/helften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Hier liggen veel hersen-gedeeltes en klieren die hele belangrijke en basale functies besturen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1. Pijnappelklier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2. Thalamu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3. Hypothalamu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7f7f7f"/>
                </a:solidFill>
                <a:latin typeface="Century Gothic"/>
              </a:rPr>
              <a:t>Regulatie van hypofyse, temperatuur, zoutconcentratie, glucose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486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sp>
        <p:nvSpPr>
          <p:cNvPr id="487" name="Tekstvak 1"/>
          <p:cNvSpPr/>
          <p:nvPr/>
        </p:nvSpPr>
        <p:spPr>
          <a:xfrm>
            <a:off x="4643280" y="4941720"/>
            <a:ext cx="367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4. Hypof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5. Amygd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7f7f7f"/>
                </a:solidFill>
                <a:latin typeface="Arial"/>
              </a:rPr>
              <a:t>enzovoor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f5897"/>
                </a:solidFill>
                <a:latin typeface="Palatino Linotype"/>
              </a:rPr>
              <a:t>Hersenstam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489" name="Tijdelijke aanduiding voor inhoud 7" descr=""/>
          <p:cNvPicPr/>
          <p:nvPr/>
        </p:nvPicPr>
        <p:blipFill>
          <a:blip r:embed="rId1"/>
          <a:stretch/>
        </p:blipFill>
        <p:spPr>
          <a:xfrm>
            <a:off x="5400720" y="2462040"/>
            <a:ext cx="2533680" cy="280044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Hier worden nog basalere functies geregeld, zoals: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Adem, hartregulatie en temperatuurcentrum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lvl="1" marL="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Onderbewuste. Wakker, sluimeren, slapen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491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f5897"/>
                </a:solidFill>
                <a:latin typeface="Palatino Linotype"/>
              </a:rPr>
              <a:t>Kleine hersenen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493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648320" y="2714760"/>
            <a:ext cx="4038480" cy="229680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De kleine hersenen hebben een belangrijke functie bij de lichaamshouding en de lichaamsbeweging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Info via: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Grote hersenen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Stand ledematen en spierspanning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evenwichtsorgaan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495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f5897"/>
                </a:solidFill>
                <a:latin typeface="Palatino Linotype"/>
              </a:rPr>
              <a:t>Ruggenmerg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497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648320" y="2324160"/>
            <a:ext cx="4038480" cy="30780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Medulla spinali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Dient als geleidingsweg voor motorische impulsen vanuit de hersenen en alle sensorische naar de hersenen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499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f5897"/>
                </a:solidFill>
                <a:latin typeface="Palatino Linotype"/>
              </a:rPr>
              <a:t>Hersenvliezen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501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648320" y="2255760"/>
            <a:ext cx="4038480" cy="321480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Van buiten naar binnen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Harde vlie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7f7f7f"/>
                </a:solidFill>
                <a:latin typeface="Century Gothic"/>
              </a:rPr>
              <a:t>Vast aan schedel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Spinnenwebvlie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7f7f7f"/>
                </a:solidFill>
                <a:latin typeface="Century Gothic"/>
              </a:rPr>
              <a:t>Hol, bevat vocht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Zachte vlie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7f7f7f"/>
                </a:solidFill>
                <a:latin typeface="Century Gothic"/>
              </a:rPr>
              <a:t>Volgt elke wending van de hersenen, bevat bloedvaten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503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68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f5897"/>
                </a:solidFill>
                <a:latin typeface="Palatino Linotype"/>
              </a:rPr>
              <a:t>Uitwendige bouw(1)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448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2232000" cy="200952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4716360" y="1196640"/>
            <a:ext cx="412272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2 helften= hemisfere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7f7f7f"/>
                </a:solidFill>
                <a:latin typeface="Century Gothic"/>
              </a:rPr>
              <a:t>(rechts crea/links orde)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1. De buitenkant (hersenschors of cortex) is  ‘grijze stof’. Dit zijn de cellichamen van de neuronen 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2. Binnenkant is ‘witte stof’, de uitlopers van de neurone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2060"/>
                </a:solidFill>
                <a:latin typeface="Century Gothic"/>
              </a:rPr>
              <a:t>(NB: in het ruggemerg liggen witte en grijze stof andersom!)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450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sp>
        <p:nvSpPr>
          <p:cNvPr id="451" name="AutoShape 7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9"/>
          <p:cNvSpPr/>
          <p:nvPr/>
        </p:nvSpPr>
        <p:spPr>
          <a:xfrm>
            <a:off x="30168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Afbeelding 3" descr=""/>
          <p:cNvPicPr/>
          <p:nvPr/>
        </p:nvPicPr>
        <p:blipFill>
          <a:blip r:embed="rId3"/>
          <a:stretch/>
        </p:blipFill>
        <p:spPr>
          <a:xfrm>
            <a:off x="606600" y="3233880"/>
            <a:ext cx="357948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f5897"/>
                </a:solidFill>
                <a:latin typeface="Palatino Linotype"/>
              </a:rPr>
              <a:t>Uitwendige bouw(2)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455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1619280" y="4581360"/>
            <a:ext cx="2381400" cy="21718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Per hersenhelft zijn er 4 kwabben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7f7f7f"/>
                </a:solidFill>
                <a:latin typeface="Century Gothic"/>
              </a:rPr>
              <a:t>Voorhoofdskwab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7f7f7f"/>
                </a:solidFill>
                <a:latin typeface="Century Gothic"/>
              </a:rPr>
              <a:t>Wandbeenkwab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7f7f7f"/>
                </a:solidFill>
                <a:latin typeface="Century Gothic"/>
              </a:rPr>
              <a:t>Slaapbeenkwab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7f7f7f"/>
                </a:solidFill>
                <a:latin typeface="Century Gothic"/>
              </a:rPr>
              <a:t>Achterhoofdkwab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7f7f7f"/>
                </a:solidFill>
                <a:latin typeface="Century Gothic"/>
              </a:rPr>
              <a:t>Op elke kwab liggen specifieke sensorische gebieden.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457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6" descr="czs_overzicht"/>
          <p:cNvPicPr/>
          <p:nvPr/>
        </p:nvPicPr>
        <p:blipFill>
          <a:blip r:embed="rId3"/>
          <a:stretch/>
        </p:blipFill>
        <p:spPr>
          <a:xfrm>
            <a:off x="6084720" y="1576440"/>
            <a:ext cx="295452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f5897"/>
                </a:solidFill>
                <a:latin typeface="Palatino Linotype"/>
              </a:rPr>
              <a:t>Grote hersenen, de functies(1)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Gebieden voor motoriek (bewuste bewegingen) en sensoriek (bewuste waarneming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‘</a:t>
            </a: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Motorisch mannetje’ de homunculus. Alles heeft een eigen plek op de hersenschors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461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462" name="Tijdelijke aanduiding voor inhoud 3" descr=""/>
          <p:cNvPicPr/>
          <p:nvPr/>
        </p:nvPicPr>
        <p:blipFill>
          <a:blip r:embed="rId2"/>
          <a:stretch/>
        </p:blipFill>
        <p:spPr>
          <a:xfrm>
            <a:off x="4211640" y="1628640"/>
            <a:ext cx="440388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f5897"/>
                </a:solidFill>
                <a:latin typeface="Palatino Linotype"/>
              </a:rPr>
              <a:t>Grote Hersenen, de functies(2)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464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648320" y="2368440"/>
            <a:ext cx="4038480" cy="298944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Gewaarwording via zintuigen gaat naar specifieke gebieden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Visuele schor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Auditieve schor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Smaakcentrum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Reukschors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Secundaire en Associatieve gebiede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466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f5897"/>
                </a:solidFill>
                <a:latin typeface="Palatino Linotype"/>
              </a:rPr>
              <a:t>De frontaalkwab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468" name="Tijdelijke aanduiding voor inhoud 4" descr="zijaanzicht hersenen.gif"/>
          <p:cNvPicPr/>
          <p:nvPr/>
        </p:nvPicPr>
        <p:blipFill>
          <a:blip r:embed="rId1"/>
          <a:stretch/>
        </p:blipFill>
        <p:spPr>
          <a:xfrm>
            <a:off x="130320" y="2000160"/>
            <a:ext cx="3665520" cy="29098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4000320" y="999720"/>
            <a:ext cx="46861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7f7f7f"/>
                </a:solidFill>
                <a:latin typeface="Century Gothic"/>
              </a:rPr>
              <a:t>Frontaalkwab (</a:t>
            </a:r>
            <a:r>
              <a:rPr b="1" lang="nl-NL" sz="2200" spc="-1" strike="noStrike">
                <a:solidFill>
                  <a:srgbClr val="00b0f0"/>
                </a:solidFill>
                <a:latin typeface="Century Gothic"/>
              </a:rPr>
              <a:t>blauw</a:t>
            </a:r>
            <a:r>
              <a:rPr b="1" lang="nl-NL" sz="2200" spc="-1" strike="noStrike">
                <a:solidFill>
                  <a:srgbClr val="7f7f7f"/>
                </a:solidFill>
                <a:latin typeface="Century Gothic"/>
              </a:rPr>
              <a:t>)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Ook voorhoofdskwab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genoemd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Dit is de grootste van de vier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hersenkwabben en neemt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een derde deel van de totale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hersenschors in beslag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Het helpt controle te houden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over geleerde spierbewegingen,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stemming, plannen maken voor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de toekomst, doelen en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prioriteiten stellen</a:t>
            </a:r>
            <a:br>
              <a:rPr sz="2200"/>
            </a:b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f5897"/>
                </a:solidFill>
                <a:latin typeface="Palatino Linotype"/>
              </a:rPr>
              <a:t>Pariëtaalkwab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471" name="Tijdelijke aanduiding voor inhoud 4" descr="zijaanzicht hersenen.gif"/>
          <p:cNvPicPr/>
          <p:nvPr/>
        </p:nvPicPr>
        <p:blipFill>
          <a:blip r:embed="rId2"/>
          <a:stretch/>
        </p:blipFill>
        <p:spPr>
          <a:xfrm>
            <a:off x="311040" y="2143080"/>
            <a:ext cx="3484800" cy="276696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 txBox="1"/>
          <p:nvPr/>
        </p:nvSpPr>
        <p:spPr>
          <a:xfrm>
            <a:off x="4142880" y="1499760"/>
            <a:ext cx="45435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7f7f7f"/>
                </a:solidFill>
                <a:latin typeface="Century Gothic"/>
              </a:rPr>
              <a:t>Pariëtaalkwab (</a:t>
            </a:r>
            <a:r>
              <a:rPr b="1" lang="nl-NL" sz="2000" spc="-1" strike="noStrike">
                <a:solidFill>
                  <a:srgbClr val="00b050"/>
                </a:solidFill>
                <a:latin typeface="Century Gothic"/>
              </a:rPr>
              <a:t>groen</a:t>
            </a:r>
            <a:r>
              <a:rPr b="1" lang="nl-NL" sz="2000" spc="-1" strike="noStrike">
                <a:solidFill>
                  <a:srgbClr val="7f7f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7f7f7f"/>
                </a:solidFill>
                <a:latin typeface="Century Gothic"/>
              </a:rPr>
              <a:t>Ook wandbeenkwab genoemd.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7f7f7f"/>
                </a:solidFill>
                <a:latin typeface="Century Gothic"/>
              </a:rPr>
              <a:t>Van opzij gezien: het aan de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7f7f7f"/>
                </a:solidFill>
                <a:latin typeface="Century Gothic"/>
              </a:rPr>
              <a:t>achter/bovenzijde gelegen deel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7f7f7f"/>
                </a:solidFill>
                <a:latin typeface="Century Gothic"/>
              </a:rPr>
              <a:t>van de hersenschors.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7f7f7f"/>
                </a:solidFill>
                <a:latin typeface="Century Gothic"/>
              </a:rPr>
              <a:t>Het ontvangt en verwerkt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7f7f7f"/>
                </a:solidFill>
                <a:latin typeface="Century Gothic"/>
              </a:rPr>
              <a:t>informatie betreffende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7f7f7f"/>
                </a:solidFill>
                <a:latin typeface="Century Gothic"/>
              </a:rPr>
              <a:t>temperatuur, tast, gevoel en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7f7f7f"/>
                </a:solidFill>
                <a:latin typeface="Century Gothic"/>
              </a:rPr>
              <a:t>beweging die vanuit de rest van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7f7f7f"/>
                </a:solidFill>
                <a:latin typeface="Century Gothic"/>
              </a:rPr>
              <a:t>het lichaam afkomstig is. In dit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7f7f7f"/>
                </a:solidFill>
                <a:latin typeface="Century Gothic"/>
              </a:rPr>
              <a:t>gebied worden tevens het lezen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7f7f7f"/>
                </a:solidFill>
                <a:latin typeface="Century Gothic"/>
              </a:rPr>
              <a:t>en rekenen verwerkt</a:t>
            </a:r>
            <a:br>
              <a:rPr sz="2000"/>
            </a:b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a388"/>
            </a:gs>
            <a:gs pos="100000">
              <a:srgbClr val="e9e0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f5897"/>
                </a:solidFill>
                <a:latin typeface="Palatino Linotype"/>
              </a:rPr>
              <a:t>De temporale kwab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474" name="Tijdelijke aanduiding voor inhoud 4" descr="hersenkwabben in kleur.gif"/>
          <p:cNvPicPr/>
          <p:nvPr/>
        </p:nvPicPr>
        <p:blipFill>
          <a:blip r:embed="rId1"/>
          <a:stretch/>
        </p:blipFill>
        <p:spPr>
          <a:xfrm>
            <a:off x="130320" y="2000160"/>
            <a:ext cx="3665520" cy="290988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 txBox="1"/>
          <p:nvPr/>
        </p:nvSpPr>
        <p:spPr>
          <a:xfrm>
            <a:off x="4716000" y="148428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7f7f7f"/>
                </a:solidFill>
                <a:latin typeface="Century Gothic"/>
              </a:rPr>
              <a:t>Temporaalkwab</a:t>
            </a: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 (</a:t>
            </a:r>
            <a:r>
              <a:rPr b="0" lang="nl-NL" sz="2400" spc="-1" strike="noStrike">
                <a:solidFill>
                  <a:srgbClr val="7030a0"/>
                </a:solidFill>
                <a:latin typeface="Century Gothic"/>
              </a:rPr>
              <a:t>paars</a:t>
            </a: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Ook slaapkwab genoemd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Ligt aan de zijkant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Het verwerkt het gehoor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geheugen en taalfuncties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ecfa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f5897"/>
                </a:solidFill>
                <a:latin typeface="Palatino Linotype"/>
              </a:rPr>
              <a:t>De occipitale kwab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477" name="Tijdelijke aanduiding voor inhoud 4" descr="hersenkwabben in kleur.gif"/>
          <p:cNvPicPr/>
          <p:nvPr/>
        </p:nvPicPr>
        <p:blipFill>
          <a:blip r:embed="rId1"/>
          <a:stretch/>
        </p:blipFill>
        <p:spPr>
          <a:xfrm>
            <a:off x="220680" y="2071800"/>
            <a:ext cx="3575160" cy="283824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 txBox="1"/>
          <p:nvPr/>
        </p:nvSpPr>
        <p:spPr>
          <a:xfrm>
            <a:off x="4284360" y="148428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7f7f7f"/>
                </a:solidFill>
                <a:latin typeface="Century Gothic"/>
              </a:rPr>
              <a:t>Occipitaal kwab </a:t>
            </a: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(</a:t>
            </a:r>
            <a:r>
              <a:rPr b="0" lang="nl-NL" sz="2400" spc="-1" strike="noStrike">
                <a:solidFill>
                  <a:srgbClr val="ffcc00"/>
                </a:solidFill>
                <a:latin typeface="Century Gothic"/>
              </a:rPr>
              <a:t>geel</a:t>
            </a: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Ook achterhoofdskwab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genoemd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Ligt aan achterzijde en is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de kleinste van de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kwabben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Het helpt bij het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verwerken van visuele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informatie. (datgene wat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via de ogen binnenkomt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5:27:26Z</dcterms:created>
  <dc:creator>ROEL</dc:creator>
  <dc:description/>
  <dc:language>en-US</dc:language>
  <cp:lastModifiedBy>Bakker,C.M.</cp:lastModifiedBy>
  <dcterms:modified xsi:type="dcterms:W3CDTF">2016-06-05T22:26:53Z</dcterms:modified>
  <cp:revision>22</cp:revision>
  <dc:subject/>
  <dc:title>De hersenen.</dc:title>
</cp:coreProperties>
</file>