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013-D80C-41BF-A9B3-9B812581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0B9-8476-4283-B6F5-28CC7FA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41D6-3333-4005-AAE9-E7E2E97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60F9-EE04-4049-AAC5-B6B8712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D61D9-0754-4A63-80F4-814FDA6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0098B-C759-4A2F-A1DD-E2FA755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891C5-2293-47C0-881A-93865F8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A6C0-3943-4ABC-8DDC-AB99178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9A5F6-7EFF-47AC-A8D1-A84B4C1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DDCC-C8CA-467A-8FE8-9AAC730A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451E8-C8AB-4CFC-9702-F6CB00DD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5F453-38D5-4009-BAC7-21A1B074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C24-476C-47B7-BAD8-390C7F1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9DD40-09C0-43BD-89C4-25186E8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1192B-0285-49AB-9C29-2B227D6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DA35A-6312-4792-B6CC-29B92A95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41038-B53B-47CC-927B-323342B0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DEDE-6BA4-431A-A3A8-6D2D812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0BD24-01D4-44CF-A927-984DBB8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D45B-926C-4518-9E3D-6D369D8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FE43-EADB-44F0-8C39-BD840C4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8024-F27A-4B0B-83F8-8AF4D9F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2DD8F-8CC6-474E-B616-6D86E39A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B3E-B015-4BBA-A562-AF9AF4AD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BFB1B-BCC8-4C2B-A7E3-45D88448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A13B1-2D41-4A3B-BCA8-4F80605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EC2A-0010-494E-95A4-D424E35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7AF3-C7BC-45BA-A4FA-93083EA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98E41-93E7-40B3-99E1-7B66C12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558C9-7FBA-4B85-9C2B-8F8414A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E468-FE93-439C-9272-6C8D721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2368B-072F-46C7-AD98-5556210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60D0-6DEC-4EF9-B58B-98100F1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DA3A-117F-4714-A448-6938664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BBA8-F224-4EB3-A2D1-CEA6299B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4A459-D4F6-4E88-8A03-441B7C9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980C1-71E8-4C08-81FD-6F962B30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54B5A-F203-4B29-B30A-2EE3CB9E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9654B-CEDB-4446-90BF-7022898F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6ED88-4F01-4682-AA05-D75DAC2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ADE0A-A160-4BF2-8C07-C7B954D2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80440-CCAE-4D0D-8EEC-07BC118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446C3-44AB-4951-B86F-44335150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C0EFE-34C2-4352-A4BB-6332777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2B616-3E50-424E-B15E-2981432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733-D417-459C-9E6C-42EDC61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B5456-3901-4C36-A4AC-B2986EA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B54D6-1E77-43EE-A9BA-1AEA0ECA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26883-1C3C-496C-B2D2-E9698D9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14270-E9ED-4FAC-80C3-8FF4255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62DE-6EE7-4CA5-B3C6-4544ACDF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27E22-9D05-4E3E-BC04-8478F735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5A07C-13E4-49F3-9512-AF8892F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7726D-CC94-4EA5-AC3E-93F2E78B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CFEE0-348B-43E9-88D7-0586CDE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E1DD6-4A03-4B9D-A372-65529024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726B-16D8-47AC-8D48-8338B73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8A701-D867-4753-A9B3-3AA32E9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8E95D-7519-4C02-91F4-F939383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9AA96-80F7-4528-9FC6-99D3CF8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E55E4-07C0-4DDA-84C4-34A0790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4ABB3-0510-4FA7-86E6-74044EC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689ED-861B-4FE3-B688-86A9D73D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1EF57-1F97-4AE5-9EDA-F34C58DD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59D83-DD55-44DF-AFC8-69B1D98E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9E065-592A-4F3D-A63D-60EF957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C1D6F-57BF-4911-9177-8764CF8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01D5-3E5D-4AA6-AF97-86E3DC6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7E928-F636-4A92-8AA6-6B7C9F1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73485-914B-49AE-9CDC-9B2FF6BF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4AF59-DE61-4CA0-A64B-0CEF0F1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7F25C-3088-4D3E-8581-8D12B430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16F0E-9991-49B2-9DA4-0FC411C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D8724-DB93-4491-A48A-09E7ECF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C736B-F639-4D64-BBA0-25E9B4D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3C910-ED5D-4955-9C9E-EF1FAA0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4F48D-3BE0-4381-A58F-D6545A63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A502A-7281-47BA-B767-811B6C2B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15B4-FEAA-4CB4-B4C5-41F59F3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F1A34-B62A-46A2-8146-933AD9BB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FE4C7-2BA5-4CB8-9956-11ED56AE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22A87-1ED6-4095-8C39-06D57B5C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BD0E0-4C06-4018-B793-DB6E347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8C98F-4C22-418B-A4B5-25FBADB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57A43-03DC-42F4-9CFD-EEB9FBD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FC05A-D01F-4167-B97E-FB87BCD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DA313-E5F1-42EC-A522-4C32FB4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4EA47-4D74-47A3-ACF0-DED9EAB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4E798-B63B-4D25-B818-FF9A0A78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7568-6F54-414B-A01B-8B8B791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6E63D-2DC9-4AFC-BA81-C68295A0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D937A-ED79-4438-AC06-DB9EEA78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47A3C-4BF2-42F3-8354-85F435C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D8223-0B58-45D8-84BC-9D9A0074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5609F-0B5B-40B2-BD3B-14B904C5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929BD-E277-48F8-BBB5-1AC1003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FA3FF-9D1D-4A3A-ADE7-2908DF05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75291-C794-4B41-9C62-87B15DD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4F786-01DA-46E0-8788-CE2F5F1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6206E-81CA-4D83-A635-0CF9033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96F-F5F9-4824-8D1C-77915A22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67885-2309-43B0-BD87-E4D4BDC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CCF11-6FAA-42AA-ABE1-C2E8C831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792FE-75A6-4BF2-B44A-50F367DD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9DFA6-EFE5-4C48-9F57-0E184715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DEA05-2593-487A-9EAC-1E5CBCFF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61ED5-DE25-4F3C-8974-2D9A18C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148CA-828F-41A7-9C49-2503B1DC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504D0-A3D3-4FD2-BEAA-76AADBD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C4794-16B3-454E-8C70-A1E4AC2C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337FF-E95C-4049-87EB-C758520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339-6AEE-4A93-BCB5-309D090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D83-8084-4159-B477-2870BC8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EB88B-6154-46F4-9359-E5279D6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DCD95-DB7E-46DE-B101-C6B6157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C88A9-7D48-4A77-BF93-4C42058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B0D08-254E-4D4C-99E2-DE0D3AC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E5FF9-3544-4BC1-93BA-086F9FB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290A8-1A88-4820-8439-AABA548E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52969-EE93-4157-851B-2F093A07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56663-269A-415F-9D6B-4514977F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C0A84-488B-489B-8253-A6AD762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B8C52-302E-464F-A572-A114BF2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7634-7F14-4439-B3D2-B7000B48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435F9-DBC3-4713-8FCB-B2DB9FC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831C4-0107-4C03-9E48-D5C22FB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CB296-4C1C-4387-B520-8A67F5D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121EE-FE47-4FE0-9C1C-3C0F03B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86E9A-127E-40C9-B7BD-C69FDF7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70BD0-3E9A-4C4C-8EE2-7930DD69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758CC-0EEA-476A-B2CA-F9F2AFCF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16DE7-D14F-49DF-92DB-89E36B6B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AD5DD-71AD-4EAE-A162-23C10D0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58B4A-F509-4BF4-AD2E-02861646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E7E4-AD8F-42F3-AE42-25A33A6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5E6E3-2DD0-4114-A4C1-D85A802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DC41D-AE30-4472-B864-8DFCE2F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895C8-F98E-4450-9BDA-0913DD0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D9AA5-870E-484A-B847-FC05ACC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B5520-9DAF-4ADB-AF96-62FFB2F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51780-92DD-4A1B-B95F-4E3691D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2D493-14C9-4242-B0A6-D2D98DCC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E3134-21CC-4C38-A841-52B18FA6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AEC02-AE32-4CF4-B829-7F8CBC8B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6DCFA-8DD6-4746-AC3F-718293B9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D62C-738D-4D3B-86B8-DC087384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6EA01-DDFD-4C74-B698-FC17131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DB67C-CA59-415D-A0CC-83E243BA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C5B75-F4CC-4F7C-97A5-8B4FC756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EFB71-7AD0-4E0F-8B78-DE5A42D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1560A-F5B8-49D8-806D-2E06801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7EE16-5A75-4AC8-954B-F8A903B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CB2F5-9A6B-4E43-9040-F83A4E6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C94C9-0D27-49C8-905E-76F9BC7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FD303-0094-4909-BF83-12E44D5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449FD-A5D4-42CA-9A4F-003A40D5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D6EA-C860-49B1-BFA3-ABA29359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501EE-9E30-4304-BACF-1E8917F1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C6B07-CB1A-4374-B516-A59A0D8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1A917-86D9-4C9C-B0EF-F302610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2D378-0D57-4507-AA67-7085178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94A22-3BC6-42A1-A795-254BEC1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8C036-8AB8-4F5F-90A1-136B39D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A0B6B-115C-48FE-BFCB-9659C31A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06B8A-A64B-4318-951B-98CAEBA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6D8F3-A0BB-4CC7-8CD1-939DFA3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DE1FB-88D3-48A6-ABE8-D3B3E78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C63B-09E7-4575-A655-AC68E0A6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B5AB3-9232-42C2-B9F3-DF2BBC80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7A9A2-4902-475C-A9A5-43BC0BFA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61ED2-1724-4ECF-BF03-1DA4B61D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7C9E2-B95A-45EE-BBC9-827BE01A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9E789-A0CF-499B-B3E4-01A0689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7D5C4-2A53-43EB-8411-5D5207C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D0F58-351B-4313-981C-668F619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43605E-B09C-4BAA-927A-2F8740C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7AB869-2B32-4C19-B33F-AE9CE41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43A187-D00A-4856-B218-2F5556C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CB14-6788-40CA-89A5-B83E3F31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2A7D1-7BEA-4D54-A847-747170A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411D9-4B9C-4ACB-BD25-40CF4D4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793CB-A516-4728-ADC7-63F15ED9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1A32E-2D3E-48D9-B2DB-BA961651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281CE7-C2AA-4BF3-B6D8-FF48A4AD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CF1E42-C5AB-488C-ADEF-88621C1A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9EAD0-B83C-4C20-A6F3-71E16EE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291755-7752-4294-A0D0-120AB46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889298-4CC8-4CD5-AAA8-A08BA47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FA7969-639D-45FE-9EF5-A2CFDBF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F672-1C05-4C3E-97CA-047BAC9F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67884F-3D3C-40B8-B300-2461D8F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359C25-61D6-4267-9AED-A3D56A1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7F3DD3-9215-4913-840D-DFDF72E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E1751-66AE-4B3E-A70D-098846A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C42A0-A9DA-4C5F-85EA-27DB3DC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D899D-ACEF-47EC-AB5B-8E513DF5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6F9F99-7B0D-49A9-85F5-0ACF0910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6C9A88-AF61-4F4E-A6CD-BE58A6E5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9769C-4B7C-4807-92F9-40C5D7C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E66CE-6F46-409C-814D-9B2C49C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84F5-6DD8-43F2-886F-2821DBE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6640F4-4124-4D9E-9445-11E672F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E81A47-0D71-4D0E-9B02-090F4A1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433E7-3CBD-4AC7-A06C-E900171B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7D00F-F703-4E63-8E1A-3FE53B0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1D2B41-7057-4928-BB02-A72E130F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254B6C-23D8-45D6-BA2A-C93A7CC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D199F5-4688-4333-9518-F2912543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0A70B-5889-4EE6-BE18-2D3A3A69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69A6F-9F28-43B5-9921-A8F21F61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5CB253-FFE5-416E-B9B7-7FC0D00D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FF0D-D27D-42C8-BBB1-3D92519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8B9946-0F36-4F27-9633-6239E2C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77BC30-6781-48D7-9A36-309B2698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DE77C6-5D9C-4C2A-9C87-20BBDC1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12153-CF6E-4219-B219-6EC7B54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CC220-919B-4348-8ECE-3F53785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B1D6FA-8685-4075-AAF8-512A2D8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D6DAE2-CA2F-4101-A516-C288216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A19DDC-7825-4705-B16E-25A0BA2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F006D-FAC1-4FA6-A867-2BCA821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CDF65-1E1B-47E9-AB32-B004E2E8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D86-4B10-4059-8838-FCF3136B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8FD0-19BA-4BF9-977C-DB39E839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0E24F8-D865-4A59-9C86-1C595EEF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E9726E-0888-4ECA-8568-97D23C9A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F7D0D-9AC1-41D0-B6C7-D48EDAD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9B5C2C-6E6A-4746-8A6E-DCD55170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FB1467-937B-41D5-8BA2-C9C433F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E90B4E-99B9-4091-A03A-A70D8CCB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1DD3D1-0F16-41A6-BA71-76F0D238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E930FC-BF22-40CD-92DC-3B6BDCD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6C459C-033A-46F0-AE61-7283075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9CFB4-58EB-4AFB-8817-2D3F1CB3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C3B6-4433-4DB9-ACAE-84AB1AF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955D27-31F7-4B6D-8392-2592B68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C656E4-EF48-496C-B190-AD43D4B5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B5F3CD-7E66-419D-9CAE-08AD2B57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63B162-A446-4841-9D8D-8D8028A7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29B060-1847-4204-BA14-3BF56E9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5B1145-2DD1-40FE-B978-A7A7C37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473069-E2FA-42D8-BC24-99882D2C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61469E-5A5D-4330-ACC5-4D4E4B7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B653B7-10E2-426F-9087-9E39F4DF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F4F6A-603E-4706-BE1F-2AC1FB7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8646-AB3E-4881-ABF2-6C35DD3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85A2F9-955D-4C94-B917-C57038F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60DA25-6130-4BE3-AEE9-4817335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A7DDE9-27B1-43C6-82F6-546C6EC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96746-7C75-40AF-87B2-39517384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5271D6-AC09-4E4F-A9D8-083F7F00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A7328-E3CF-4864-A03F-39F8A92B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CF9E31-38E0-48AB-8468-056B317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9ACC1A-FF74-4E39-A81D-D37B06A6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C1C60A-69E9-4E9E-A5AD-164CB8D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5D0C94-B22E-4370-BEF1-24C8E2A3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C207-E6CF-4E25-8578-9F011CF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63005E-EEC5-44E2-A9F5-A7A0241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6DE970-3D36-4AD1-9C28-CAD0A29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69BF89-B037-43E8-8382-B1915DF4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69AFD4-728E-4374-B717-D340333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22F371-7F43-4983-9483-37926E5B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CDC126-28AD-49BD-A485-5CFD502D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7D86BA-AB6A-4B6A-BC66-FCD55D6E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618DC-4435-430F-88D7-3B594390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B1256E-0A47-48AA-A95E-735584B4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102AC6-820B-4C48-9381-782164B4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437E-7B80-47C2-AF56-907FBDE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8C89E9-1543-4F5A-92D8-26FB4219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F18088-EEFE-4488-9C92-6E07DBA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EA4784-8ACA-41D6-9F3C-C148ED0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FE0905-F978-4B0D-B55A-ED5AAC3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9F6808-2476-40A3-A873-CC57C5E6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47B267-DC5D-4BB1-9025-406E776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049F39-D878-4AF6-BCBD-E70ED41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A9F74F-2BF3-4922-AFA3-A6B97944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213F42-29F0-4CE2-B385-0F06C158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F9047C-0F23-460E-8B34-60EBB1C9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FE33-E902-4677-BB74-9164EDED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A68A36-DEF4-42A5-92E1-2F828CA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A889D7-6B47-4D9E-8E94-3E6D927F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3FDB37-FA78-4522-9EA7-31519E4E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561FE7-5B2F-42AA-A83A-250E33AC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6C52AD-32F8-4031-BC3D-F71C113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09B297-E33A-4B81-84E8-A87E995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22494C-B3C7-42DC-A75C-33725820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7B2F54-9338-4AF8-A2F6-25166A4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F8FE5C-ACA5-43F4-A708-1F52CBA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D2C5E6-ED23-4FC4-A3B1-A4018389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7B16-70A1-4A23-95B6-ADE3A0B8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967B7F-FC07-460F-AAD0-EDA9A582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F08A5-69F3-49FE-8FB0-CB4A08EB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4371F0-323E-425B-8C55-F1DC247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8525C7-ADA8-429D-B3B7-47E3F95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2068C0-7B53-4F12-A199-FFD012B7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DAECB2-C121-489E-A308-26AAB0C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D49DCB-D74E-4244-9DE6-AD85E99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FE04F9-3124-4BA2-8458-C544ED9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F3E5B8-6791-4E43-A243-E946A31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F3B7BB-8F47-4557-8748-0D2299B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F165-4518-4835-B317-71F248B9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C303F1-D5D9-494A-93E2-C3DE4BE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28E3B1-83CC-43AA-B419-2384D2F4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69A7B0-7071-4C10-ADFE-49E0BE64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0C62D9-8F28-41FB-A629-EA3E223F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0942BE-4AE5-42C5-BC43-2C1E342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4F338-AEAB-43F2-8570-B325D5B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072737-06CF-43BD-9AC8-6811143E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3E4818-4499-4EA8-AD97-0F0077C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D2CE81-6606-4938-80A4-5DCE93E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C6315F-F774-4D30-8F08-7A98187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0E30-2D38-48F9-B2D8-A58BC89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66DC75-7AE9-401A-AF1C-CB02000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B88875-B2DA-40E1-A141-D263481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E6BCD4-C33F-4798-A805-FDBFD27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E596C9-BAF3-4F2B-8223-34DBA41D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FA99DF-B038-4E49-8610-3C6D105B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E6937A-E07E-4D38-8D8A-EA6C9980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44FB21-0D04-44D1-9BDF-A3E31C0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252884-A5E0-4887-857E-81781379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04A0AD-D453-4CE7-81A6-83750E70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9AC48F-4E81-4BE1-B743-577B8EA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E6C9-F646-4B72-BF7D-6BF26EC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919D0C-A971-402B-884E-717B5A1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7BEA73-2D60-4941-A5F1-323FCC4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CED5C3-059E-47B4-B397-117D6CF9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49FF1B-6DF4-4D81-A0B2-794641E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98E760-8F5D-44A9-90E8-8B2C5FF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DD056E-1AEE-4856-AD12-1B26CE41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6CD242-BDB2-4E5E-AE8D-3B2FC48C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651CEF-4A5B-4EA5-BCD7-67AD5222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7DD04F-62F3-4E7B-A54F-9B9E9C3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56FCE7-F3A2-4EBA-9AF7-C8D0A8F3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B96-5B8B-4462-9E85-92532AB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8924-15F0-4FD7-8400-2FF80D0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366654-9E97-4C8C-9692-D85D7719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24B493-0E8A-43A3-88A9-69F4774D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5B8DB1-F7B4-4669-A200-79105D4F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F5D106-998E-46B6-904C-DC2096D8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605507-A92E-4B8D-8C86-2B87796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D4E490-C2AF-44CA-847F-69A31E7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25EA1B-FC32-4E06-BA15-C075A76A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F9DC34-F3A3-4BC7-8CF4-9F9D8698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368826-A1A3-445B-85EB-FA0376F2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C6CA12-7836-4AEA-B2E7-2AA5177C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51A6-5DD2-4288-82AE-775AC1E0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8C8FCA-F74A-409A-AA44-7E155A55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E40FFF-8C0D-4146-A8D7-29C49D4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B77DF6-0124-4A9E-921F-74BE5DD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EBD54A-0498-44FE-846F-0FA8D42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844D9F-DEE1-4224-B036-B03DE1F7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AED7EC-A584-4EE5-B3D3-D59F051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206C4E-FF36-4203-9650-8362642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F1F014-A58B-43D9-89AB-F37E394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8489DE-3A6E-4DD2-B82B-7624AB9B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757EF8-6885-42E5-A7BB-CCE51F08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BD6C-690C-4E38-8E95-4BB2100A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403A82-87D0-43DA-9097-EF8C56DE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3F106F-0A13-4A76-A871-C05D876B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A0C6AA-8A59-41E3-A86C-A5729B9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852074-38EC-4F3B-8A89-0762BF3E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B6DA85-732F-4DBB-9F46-77158C5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9A25CB-60CC-4A0E-9497-C92813B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9E6A13-CFA1-478B-868A-90EAF6C7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0C28D7-E0F1-400B-A3CC-1F8DF79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2E0EF9-FE7F-4806-A178-CC3E2F8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9E4796-B09D-4EDA-AC44-1E7415E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5927-61EB-4D29-B764-8CB2A97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D00C21-62C4-4022-85EC-9F1B976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B77105-4A5F-42CE-A983-3A282C0A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2269CD-BADB-438E-98BD-042E619C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C5A7CE-739D-4F69-BC90-8BE63370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486FDE-6E23-4503-B8C5-4EA3011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E7A62D-0294-4477-9664-BD735B3D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E8D5F1-3740-4172-BC92-803FD08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145D05-E0D8-428C-87FD-D1A59D1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AABED7-862B-41BE-AD86-305E0C26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713413-323C-4F6A-96ED-82E6FC3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8B5C-92EA-40A1-AF2A-2FBD185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3B0F2D-99ED-4B8C-911C-439726D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30CEAD-9163-4F75-B5D8-133B2C3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6A4565-853B-4E0F-822F-4ADAEC7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2C62A6-0139-4CDB-B610-A7FB9B5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B32E1B-0DC4-473D-B2D7-40CCB9C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184437-1CCA-4879-8473-AA2D1709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EE771B-CE8C-479C-A6ED-7B4EF16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98B84D-18CD-4481-B3B6-11724F7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6D8DA6-5A20-4F80-8F24-543EC55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BAF980-2D48-491A-8E32-50561CF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54FB-FF18-4A4B-8E16-DBCED0D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53DDAA-7F2D-45DC-9BE8-40DF386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4213ED-1A8D-47F5-9028-4BD9534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A1F3B5-7BC2-4B90-9C2D-44F1759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EBD1BD-4A07-4064-964D-DB9C24D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DA2216-B2F0-4D9D-BA58-F23175DD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C588B3-D894-48D4-91DB-D3DE5609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94DD94-6224-4C2B-B0C9-9149C08B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B46566-6929-47F7-BAC2-4EDF00AE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9ADF9F-C380-4773-9FDA-FA23349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21A5F7-0E3E-40F6-BE07-4B42019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F46B-2CAB-4ED6-960F-FDBDB3AC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E5CB54-B8B7-4B4C-9B6A-70B3D2F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6C3246-5694-4E38-94BC-161ECF8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983239-4362-48A1-A052-C1570863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242823-DA7A-44BD-A5BC-638C6E3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573FB0-840E-4DD6-BB85-D4C841DC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D48DF7-39D8-4611-B9C1-F7F2DD1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9252EA-BA43-4CC2-B56E-EF7147C0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AE8F5B-66E9-4D64-B979-A25C4734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86FE96-26E3-4F04-840C-759A8EB1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C59A68-5871-45B0-A389-C2FDDC31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1FBA7-C5B9-4D8D-80C5-E3FE5983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15C43C-5813-458C-AA78-4038E37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EE57E2-41F3-4C7F-8405-13E6B07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890318-0CF5-4CE4-888D-55D2CEE2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FBB209-0865-44EF-A761-A579ED7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9B885B-2256-4032-A7C5-18AAA042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F91084-9FB3-4E9E-AB0E-9A1BAF7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730925-A7D8-4885-809C-21A4663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8E5241-0949-486F-9852-276D28B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066753-ECEA-4A35-A270-70B6D403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0BDBB0-83B8-4707-82EA-BB45AED5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1955-EE23-4162-B093-19F81E31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BE11BE-26E7-441F-8A14-DC5A631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1BE245-A00C-45DA-9115-BBA3F47F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358D01-CA88-4F8F-9A5B-E526012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E6D8C6-C913-4222-80AA-F2787CA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04795E-463C-4829-9D24-EBF97DB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5D76F5-5C74-418F-9D2B-A165940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48B4A3-E83F-4CCA-9FDC-B3730D0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9E97DD-AC0D-43BE-A671-85CF01B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03775C-94DA-4B11-A6C6-B8775DE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6E8DBE-0A09-4C13-BB7A-81DF6A1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A7BE-2B5B-4653-AED1-238231FD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B1F74F-BF61-4D6C-9718-D954257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A47E6A-44B8-417F-AE84-067745E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6A26B5-C78B-460D-9E13-D4D05265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E6B524-B6D6-4E00-B5CC-CE1042CD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67B946-3C5A-460B-B930-5B8A3808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5AEA6D-BB0B-46DC-B6B8-C16BC5D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5A1993-ED6C-41EC-A1B6-5C8023A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96AA59-5D85-4530-95E7-2A94BB2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F22490-3D14-4BF3-A2D6-8122D28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E9D192-4150-4EFE-92CD-FD13D7B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184-B59B-41B4-AF9C-C3CF6D4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DD9B-5E7F-48FA-8B3B-A98C2B1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2BBAE3-59C2-4C38-BE3C-8EA9B1C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C09E71-D945-43E2-81B9-952CF0E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205D36-D072-4B57-9BE7-7044A171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1B3345-CFBC-497A-8A9B-95D8F5C8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2C41D5-7E2D-46A9-9AE2-FF2FFB6C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77BD1B-8A9C-4C13-BBC6-0AF93557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F549D8-E021-44E0-8315-42856EB8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6AB776-1DF0-4909-A601-2B19ABF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BA9D82-5788-478E-BB98-67C1533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F73028-0AA0-4040-AEDA-439E7633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B4D9-7F8B-470E-9C9E-723925D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216B77-29A3-4823-B653-17DFBE8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E63AED9-576F-466D-AC1F-AD08827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69BB4A-B09C-4B6A-BC3B-DCC07E2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47A7B6-B039-400B-9CDC-597B1B2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5EB868-4076-46B7-ABC9-91F11FB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C16068-205A-4296-8D49-8E983C17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BE2940-18CF-4818-95DE-4CEC23D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1EF824-2206-46A3-9DC7-0B510B6B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476CB4-2D34-42D5-AF10-6E45BAB9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39A253-BC14-4213-8291-0AD2419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A9815-57B5-4794-BD6A-9339CBB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510C2B-B055-4C7E-8644-4FC2577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8920AA-8E27-4116-87C6-FDE84AB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9449E1-0DCD-4FFB-A0CD-D5E06652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58345A-18C2-494D-AD0A-FA47344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AAC8B9-BA6C-46CE-ACD0-753FB7A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53C7F3-F964-4A6D-B006-6EBC616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676C7B-4A85-43C1-903F-A40581D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B7A986-55CD-48F1-8D1B-9D967291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8CA27B-075F-408F-B9E1-66001769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A67A-438B-4A4D-8AED-4590EA28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91B0-749E-4C6F-AB0D-54B8BC7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46F7-E193-45EE-9D20-17EA1CF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8A43-5EFE-4618-A03C-66EB96B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BD9E-8BCC-47DD-8231-D338C569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8F46-F524-4459-8C71-7E339B35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1753-E7E9-4BBB-810E-B215D104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982-FE35-4D2B-97C9-E0C8987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5602-DC7D-4A6C-9009-613F9898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C415-9915-48EF-B8F6-C986FE5F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7382-DE38-4CE5-8059-2A884C3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549D-306B-4BE8-9AA2-D6B9C9D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1C33-4C76-46E5-ABC2-F0AB4DEE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DE70-B069-48D9-A88C-1C63B48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00A7-2AD0-4F46-8194-5F32E90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6311-1AAF-4509-A930-638EBE3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E21B-3F79-4336-B03A-393D4FA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3CAFA-7A86-4357-905D-C7691BFB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BAD-1776-4DC7-8C29-8BEC6E0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B193-5668-4A97-BBD0-0429F025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BD56-D1ED-4E67-8562-D26867CB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BF04-416B-4E6A-A581-B92B8473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0E36B-63C8-408A-BF4C-240848A2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DB0E-F038-4485-99FC-72E3CCC9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F453-7D79-4151-86F6-F3C0655F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8FFAE-1393-46B8-AF4F-60A2A04D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EC09-6876-40F6-B4E9-0BDC66C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F125-AA3B-4D48-8B79-4AD356A0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85990-4F34-4836-94F4-D008506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F83-B4CD-4085-914E-812F74E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7ECA-465A-40D4-8539-C44C3C2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9E75-BE9F-4A56-BA4A-42A148F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33B9-E588-4DBE-9E5B-29D09A3D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F17D1-FFF5-4419-B270-93F54105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19F5-C5DE-4B5B-80A3-1422A130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9AA6-F6AD-4C5B-97E6-AABC3A03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AA2E-27BB-4F5B-8618-7053C50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4062-D6DD-40F9-9DBD-286016FF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3FD5-83C6-4052-9382-FE87970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3999-AC84-416C-A212-24532850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C32-70AD-46B1-A49B-3D29087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C4A3-8A03-45BF-B40B-32A37A7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7A65-8DBB-4E4C-9F8A-050F331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B22F-8AD0-4881-8D2C-E597905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B15C-CBCE-455B-8F98-6253255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8F3E2-E664-4335-8E52-4F57466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5392-AE9B-479C-A3BE-4E9AF998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97E5-3A7C-4EC5-BBEC-432EE5C9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A7C55-9F83-4D95-8E1A-E28B95A2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F925-D5D5-48BC-82CA-BD26F878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E96A6-259B-4BBC-9350-7DCF7AC3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22F-1683-4FB6-8EFE-A4F0765B0B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B1F-8B05-4776-8E9B-FBDE9AA6084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233-D1BB-4F3B-BCBC-1904FB96374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A14A-D95E-4E7F-873B-E015847366A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200-C156-44F7-86C8-B49715E82A9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5BC-22EC-44E8-8126-CEB6B1A704A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8388-58A5-4590-B109-5B7F341D182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205-8B61-427E-A7B2-D189302D8B1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9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9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9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9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796-E185-4687-9021-3B5B2A12435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0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5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5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3DC-FF1C-40D3-8E11-EF8D8744033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4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5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5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E1C-D7D0-44CB-8A05-B0A7F102AF1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D42-2965-46AB-8B08-101802320F5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9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5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2D0-4785-49F0-B520-560E8BEA8E9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6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1B37-E59C-4D1B-A1BB-D79D682EE01E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8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6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6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238-63A4-4683-B15D-804AA1B4AB7E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6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6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6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4441-8BB1-4E42-916D-B398F8A3C5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26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26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26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27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28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F92-0CA1-470F-85A4-A3B23626FCE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3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3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3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33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34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AC0-8B1D-4997-842E-7402440DADC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9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9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9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0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0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131-DB5B-4714-9D98-574B2028C41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45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46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46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6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7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87A-0BB3-4503-9290-520620909E3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2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2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2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3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53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E2F-4736-4497-97EE-BA689360762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8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8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8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9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0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4F4B-8069-45E9-BEFB-7AFA0673BC3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E2E-8887-4159-AA5F-E12A2EBFD59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65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65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65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65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6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9D1-6A2E-42DA-895A-3D6DFF2012B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1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1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1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2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2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F2AC-B93F-4425-8C0B-6AD07ACBC2A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7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8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8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8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9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F4B-8802-4CDD-89F0-E07D84F3D66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84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84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84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85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85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9E6-EC76-41FA-8F4F-30F60F4C367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0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0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0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1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2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5E52-E656-4047-A9D4-CEFED06CD14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7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7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7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7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8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310-425A-4BF3-8B17-88A7B781D69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3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03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03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04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04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850-6C3C-41DC-BB43-EE1E6FD6C11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9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0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0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0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1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95C6-5BA6-459D-9572-9379B184ABF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16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6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6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7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7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936-E02E-42A4-A2FD-ADBC8172489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22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22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22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23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24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964-C727-4DAA-B760-E7DF47A01F1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5D4C-FAC1-4E74-9705-F76F4B70AB8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 type="dt" idx="11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 type="ftr" idx="11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 type="sldNum" idx="12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9A60-C312-4066-BE24-D4AB1787B83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21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22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2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317-ABFE-4603-B2BC-0A13ADD056C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12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12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12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BB7-4950-4B8C-BA77-6B9CDD86610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2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2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2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EE05-00A9-4461-A272-F9DB83B63EE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3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3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 type="sldNum" idx="13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ECA-9899-4D42-BD28-E123E7A655BD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46E-EB3F-42B7-ADC1-38C62F49333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50F-70DD-47BB-A1D4-20DFA7A5F7E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B5B1-83D7-46A8-B380-A390974C97C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0818-F128-4720-802D-C34CC3BB5A0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21C-FC9A-4C00-83B7-D17502C5141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766520" y="-316080"/>
            <a:ext cx="7162920" cy="22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Waarnem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 type="subTitle"/>
          </p:nvPr>
        </p:nvSpPr>
        <p:spPr>
          <a:xfrm>
            <a:off x="2050920" y="1267920"/>
            <a:ext cx="640080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= Veranderingen in de omgeving kunnen ervar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leren vandaag hoe zintuigcellen in je zintuigen de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prikkels</a:t>
            </a:r>
            <a:r>
              <a:rPr b="1" lang="nl-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nl-NL" sz="1800" spc="-1" strike="noStrike">
                <a:solidFill>
                  <a:srgbClr val="ccecff"/>
                </a:solidFill>
                <a:latin typeface="Times New Roman"/>
              </a:rPr>
              <a:t>(veranderingen in de omgeving)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omzetten in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impuls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Ter vergelijking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 van je stem wordt omgezet in data/bits/(0011001) omdat jouw telefoon/kabel/satelliet/computer/mp3 alleen maar bits kunnen lezen en verzenden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o moet geluid/licht enz. omgezet worden in iets dat jouw zenuwen/hersenen kunnen “lezen”/verwerk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/licht (=prikkel)  kan niet door een zenuw verplaatst worden. Maar een soort stroomstoot (=impuls) WEL!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enuwencellen communiceren door middel van deze “stroomstootjes” = impuls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Vervolg 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In het binnenoor ligt het slakkenhuis met ca. 16.000 cellen met piepkleine trilhaartj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trilhaartjes sturen de geluidssignal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ls haartjes kapot gaan, is 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persoon voor die tonen/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frequenties doof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2" name="AutoShape 5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23" name="Picture 6" descr=""/>
          <p:cNvPicPr/>
          <p:nvPr/>
        </p:nvPicPr>
        <p:blipFill>
          <a:blip r:embed="rId1"/>
          <a:stretch/>
        </p:blipFill>
        <p:spPr>
          <a:xfrm>
            <a:off x="5200560" y="3657600"/>
            <a:ext cx="3943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25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284360" y="0"/>
            <a:ext cx="460836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lakkenhu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innenoor)  </a:t>
            </a:r>
            <a:br>
              <a:rPr sz="1800"/>
            </a:br>
            <a:r>
              <a:rPr b="0" lang="nl-NL" sz="2400" spc="-1" strike="noStrike">
                <a:solidFill>
                  <a:srgbClr val="eaeaea"/>
                </a:solidFill>
                <a:latin typeface="Times New Roman"/>
              </a:rPr>
              <a:t>&amp; </a:t>
            </a:r>
            <a:br>
              <a:rPr sz="2400"/>
            </a:b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rilharen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=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26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1770120" y="4076640"/>
            <a:ext cx="7342200" cy="2360520"/>
          </a:xfrm>
          <a:prstGeom prst="rect">
            <a:avLst/>
          </a:prstGeom>
          <a:ln w="0">
            <a:noFill/>
          </a:ln>
        </p:spPr>
      </p:pic>
      <p:pic>
        <p:nvPicPr>
          <p:cNvPr id="2527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114480" y="333360"/>
            <a:ext cx="3375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het spectrum van zichtbaar licht kunnen we 8 miljoen tinten onderschei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Nederland is ca. 1 op de 12 mannen en 1 op de 200 vrouwen kleurenblin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1 op de 33.000 mensen zijn geheel kleurenblind. Zij zien alles grij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0" name="Afbeelding 5" descr="Ogen.jpg"/>
          <p:cNvPicPr/>
          <p:nvPr/>
        </p:nvPicPr>
        <p:blipFill>
          <a:blip r:embed="rId1"/>
          <a:stretch/>
        </p:blipFill>
        <p:spPr>
          <a:xfrm>
            <a:off x="5857920" y="5324400"/>
            <a:ext cx="3286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2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me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s netvlies bevat 126 miljoen lichtgevoelige cell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80 % van de zintuiglijke prikkels komt binnen via de og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ogen worden het meest bewust gebruik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3" name="Afbeelding 5" descr="Ogen.jpg"/>
          <p:cNvPicPr/>
          <p:nvPr/>
        </p:nvPicPr>
        <p:blipFill>
          <a:blip r:embed="rId1"/>
          <a:stretch/>
        </p:blipFill>
        <p:spPr>
          <a:xfrm>
            <a:off x="0" y="5124600"/>
            <a:ext cx="3714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2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zicht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oorn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Len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Concentreert lichtstra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Ir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regelt hoeveel licht in lens valt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Glasachtig licha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Net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zintuigcellen. Deze cellen zetten licht om in </a:t>
            </a:r>
            <a:r>
              <a:rPr b="0" lang="nl-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impulsen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die via de oogzenuw naar de hersens gaa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20960" y="1125360"/>
            <a:ext cx="45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arde oogvlie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Gel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meeste zintuigcellen en is dus de lichtgevoeligste/belangrijkste! plek!!!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Blind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buigen de zintuigcellen om, dus alleen de zijkant van die zintuigcellen liggen bloot en die ‘doen’ niets. Alleen de uiteinden doen wat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Oogzenuw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undel van alle 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                                     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Bindvl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7" name="Afbeelding 6" descr="anatomieoog2.gif"/>
          <p:cNvPicPr/>
          <p:nvPr/>
        </p:nvPicPr>
        <p:blipFill>
          <a:blip r:embed="rId1"/>
          <a:stretch/>
        </p:blipFill>
        <p:spPr>
          <a:xfrm>
            <a:off x="2195640" y="4622760"/>
            <a:ext cx="4876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25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59400" cy="6491160"/>
          </a:xfrm>
          <a:prstGeom prst="rect">
            <a:avLst/>
          </a:prstGeom>
          <a:ln w="0">
            <a:noFill/>
          </a:ln>
        </p:spPr>
      </p:pic>
      <p:pic>
        <p:nvPicPr>
          <p:cNvPr id="254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AutoShape 2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42" name="Picture 4" descr=""/>
          <p:cNvPicPr/>
          <p:nvPr/>
        </p:nvPicPr>
        <p:blipFill>
          <a:blip r:embed="rId1"/>
          <a:stretch/>
        </p:blipFill>
        <p:spPr>
          <a:xfrm>
            <a:off x="76320" y="404640"/>
            <a:ext cx="898524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Vervolg werking van het zic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ia de pupil komt licht ons oog binnen en worden de stralen gebroken door het hoornvlies en de lens. Hierna wordt een ‘beeld’  geprojecteerd op het netvl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zintuigcellen op het netvlies – staafjes en kegeltjes- zetten lichtprikkels om in impulsen die via de oogzenuw worden doorgegeven aan de hersen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5" name="Picture 5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52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2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1398600" y="1623960"/>
            <a:ext cx="777240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ze neus signaleert niet alle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etensgeuren maar ook gevaren,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zoals brand, gas en bedorv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 voeds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reukorgaan is volgens sommige wetenschappers 10.000 keer gevoeliger dan het smaakzintui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Geuren roepen herinneringen op! Heel direct, zonder dat het eerst ‘bedacht’ kan worden. Heel belangrijk bij ouder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8" name="Afbeelding 5" descr="neus.jpg"/>
          <p:cNvPicPr/>
          <p:nvPr/>
        </p:nvPicPr>
        <p:blipFill>
          <a:blip r:embed="rId1"/>
          <a:stretch/>
        </p:blipFill>
        <p:spPr>
          <a:xfrm>
            <a:off x="779616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49" name="Afbeelding 6" descr="neus.jpg"/>
          <p:cNvPicPr/>
          <p:nvPr/>
        </p:nvPicPr>
        <p:blipFill>
          <a:blip r:embed="rId2"/>
          <a:stretch/>
        </p:blipFill>
        <p:spPr>
          <a:xfrm>
            <a:off x="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0" name="Afbeelding 7" descr="neus.jpg"/>
          <p:cNvPicPr/>
          <p:nvPr/>
        </p:nvPicPr>
        <p:blipFill>
          <a:blip r:embed="rId3"/>
          <a:stretch/>
        </p:blipFill>
        <p:spPr>
          <a:xfrm>
            <a:off x="0" y="548964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1" name="Tijdelijke aanduiding voor inhoud 4" descr=""/>
          <p:cNvPicPr/>
          <p:nvPr/>
        </p:nvPicPr>
        <p:blipFill>
          <a:blip r:embed="rId4"/>
          <a:stretch/>
        </p:blipFill>
        <p:spPr>
          <a:xfrm>
            <a:off x="0" y="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25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Boven in de neusholte ligt het “reukepitheel”: dit is gevoelig slijmvlies, waarin de reuk-zintuigcellen zich bevind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Geurstofmoleculen worden met de luchtstroom meegenomen naar dit slijmvlies en komen in aanraking met de uiteinden van de zintuigcell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De zintuigcellen zetten de geurprikkels  vervolgens om in impulsen/signalen en die gaan via de neuszenuw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4" name="Afbeelding 5" descr="neus1.jpg"/>
          <p:cNvPicPr/>
          <p:nvPr/>
        </p:nvPicPr>
        <p:blipFill>
          <a:blip r:embed="rId1"/>
          <a:stretch/>
        </p:blipFill>
        <p:spPr>
          <a:xfrm>
            <a:off x="764388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5" name="Afbeelding 6" descr="neus1.jpg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6" name="Afbeelding 8" descr="neus1.jpg"/>
          <p:cNvPicPr/>
          <p:nvPr/>
        </p:nvPicPr>
        <p:blipFill>
          <a:blip r:embed="rId3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25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 txBox="1"/>
          <p:nvPr/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Ee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is een verandering in de uitwendige of inwendige omgeving waarop een organisme reageert. Deze reactie wordt ook wel een respons genoem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eel organismen bezitten speciale organen die gevoelig zijn voor een prikkel: de zintuigen. Deze zintuigen zetten de prikkel om i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elektrische impulsen/signalen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ie naar een regelend orgaan (hersenen) gestuurd wor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an kan er gereageerd worden =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resp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maa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92080" cy="392112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 txBox="1"/>
          <p:nvPr/>
        </p:nvSpPr>
        <p:spPr>
          <a:xfrm>
            <a:off x="3419280" y="33300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maakknopjes (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papillen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) liggen op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 10.000 smaakknopjes liggen in het epitheel (=slijmvlies-huid) van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4 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orten zintuigcellen in deze papillen,  voor 4 primaire smak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5</a:t>
            </a:r>
            <a:r>
              <a:rPr b="0" lang="nl-NL" sz="2800" spc="-1" strike="noStrike" baseline="30000">
                <a:solidFill>
                  <a:srgbClr val="ccecff"/>
                </a:solidFill>
                <a:latin typeface="Times New Roman"/>
              </a:rPr>
              <a:t>de?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: =unami ( japans voor ‘mondgevoel’). Lekker hartig, vol. (Ketjap, oude kaa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MAAR: </a:t>
            </a:r>
            <a:r>
              <a:rPr b="0" lang="nl-NL" sz="2800" spc="-1" strike="noStrike">
                <a:solidFill>
                  <a:srgbClr val="404075"/>
                </a:solidFill>
                <a:latin typeface="Wingdings"/>
                <a:ea typeface="Wingdings"/>
              </a:rPr>
              <a:t></a:t>
            </a: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We proeven toch meer dan 4 smake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Nee! Die ‘ruiken’ we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6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proev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tong is bekleed met een dik slijmvlies. Hierin bevinden zich zo'n 3000 smaakpapillen die via 3 zenuwbundels prikkels doorsturen naar de smaakwaarnemingscentra in de hersen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Zonder reuk en zien maar 4 smak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MET reuk wel duizend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3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482904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25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oev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smaakpapillen worden elke 10 dagen verva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punt van de tong is het meest gevoelig voor zo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achterste gedeelte van de tong voor bitt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zijranden van de tong voor zuu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Een smal strookje langs de gehele tongrand voor zou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6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2567" name="Afbeelding 6" descr="tongplaatje.jpg"/>
          <p:cNvPicPr/>
          <p:nvPr/>
        </p:nvPicPr>
        <p:blipFill>
          <a:blip r:embed="rId2"/>
          <a:stretch/>
        </p:blipFill>
        <p:spPr>
          <a:xfrm>
            <a:off x="0" y="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25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aarnemingsfunctie v.d.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9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Huid is 5</a:t>
            </a:r>
            <a:r>
              <a:rPr b="1" lang="nl-NL" sz="2800" spc="-1" strike="noStrike" baseline="30000">
                <a:solidFill>
                  <a:srgbClr val="ccecff"/>
                </a:solidFill>
                <a:latin typeface="Times New Roman"/>
              </a:rPr>
              <a:t>e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zintuig van deze serie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Ook in de huid zitten zintuigcellen. De uiteinden van deze zintuigcellen zetten verschillende soorten prikkels om in impulsen/signalen, die via de zenuwen naar de hersenen g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Maar de huid heeft meer functies!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uncties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jf belangrijke functie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Bescherming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gen uitdrogen, ziektekiemen, uv-stra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lpt ons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lichaamstemperatuur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e rege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Uitscheiding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an bijvoorbeeld afval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,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oor wat we voelen met onze hui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maken van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tamine 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539280" y="1483920"/>
            <a:ext cx="836316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 belangrijkste lag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. Opperhuid=epi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 Lederhuid = 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3. Onderhuids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    bindweefsel = subcut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79" name="Afbeelding 1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5865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opperhuid/derm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1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opperhuid bestaat uit vijf lag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deze beschermt vooral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Kiemlaag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(deze laag, en dus onze hele huid,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ordt elke 4-8 weken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vernieuwd! Nieuwe cellen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worden omhoog geduwd. Dode hoorncellen slijte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af of worden afgewassen/afgeschuurd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tekelc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Korr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eldere 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78320" y="2133720"/>
            <a:ext cx="3865680" cy="2695320"/>
          </a:xfrm>
          <a:prstGeom prst="rect">
            <a:avLst/>
          </a:prstGeom>
          <a:ln w="0">
            <a:noFill/>
          </a:ln>
        </p:spPr>
      </p:pic>
      <p:pic>
        <p:nvPicPr>
          <p:cNvPr id="258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2584" name="Tekstvak 5"/>
          <p:cNvSpPr/>
          <p:nvPr/>
        </p:nvSpPr>
        <p:spPr>
          <a:xfrm>
            <a:off x="5003640" y="48290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Huidskleur wordt bepaald door de hoeveelheid melanine, gemaakt door pigmentcellen in de kiemlaag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Bv: Tepelhof, moedervlekken, sproet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eitjes Hoornlaa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eschermt tegen ziektekiemen,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uitdroging, uv-stralen 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‘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iepere  shade”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elt is een verdikking va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 hoornlaag. Hoe me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churing, hoe meer eel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ellen in de hoornlaag zij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oo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aren en nagels zijn ook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gemaakt van hoorncell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88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602240" y="1341360"/>
            <a:ext cx="4398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68000" y="-162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Lederhuid en onderhuids bindweefse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6363000" cy="3232440"/>
          </a:xfrm>
          <a:prstGeom prst="rect">
            <a:avLst/>
          </a:prstGeom>
          <a:ln w="0">
            <a:noFill/>
          </a:ln>
        </p:spPr>
      </p:pic>
      <p:sp>
        <p:nvSpPr>
          <p:cNvPr id="2592" name="Tekstvak 4"/>
          <p:cNvSpPr/>
          <p:nvPr/>
        </p:nvSpPr>
        <p:spPr>
          <a:xfrm>
            <a:off x="1150920" y="4292640"/>
            <a:ext cx="79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Hier liggen belangrijke structur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temperatuur-regel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bloedvaten die uit kunnen zetten, zweetklieren die verkoelend zweet kunnen produceren, haren die overeind kunnen staan en een vetlaag). 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4 verschillende zintuigcellen voor tast, pijn, druk en  </a:t>
            </a:r>
            <a:r>
              <a:rPr b="1" lang="nl-NL" sz="2000" spc="-1" strike="noStrike">
                <a:solidFill>
                  <a:srgbClr val="eaeaea"/>
                </a:solidFill>
                <a:latin typeface="Times New Roman"/>
              </a:rPr>
              <a:t>warmte/kou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95280" y="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id </a:t>
            </a:r>
            <a:r>
              <a:rPr b="0" lang="nl-NL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Gevoel/T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5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5518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76212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Onze zintuigen vangen prikkels op die in onze hersenen worden omgezet in informatie. </a:t>
            </a: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ze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wordt in de zintuigcellen omgezet in)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uls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/signaal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die komen bij de hersens aan en die maken hiervan: )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informatie.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informatie kan ons waarschuwen voor gevaar, maar ook een prettig gevoel gev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2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eiten over zintuig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2123640" y="1915920"/>
            <a:ext cx="491508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lke zintuig(cel) heeft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prikk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oor=geluid, enz/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dremp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hoeveel geluid is nodig om de zintuigcel te triggeren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sensorisch deel op de hersenen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 zien op een scan…wat licht op?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Zintui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3516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trilhaartjes in binnenoor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Zi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g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staafjes&amp;kegeltjes in netvlies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Voelen/tast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uid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enuwuiteinden in dermis zijn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Proev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zitten in papillen in/op je 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Ruik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in slijmvlies van je 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25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Hor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nderhalf miljoen mensen zijn slechthore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Waarvan 450.000 mensen een hoortoestel dra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an de rest –ruim 1 miljoen- zou vermoedelijk de helft beter kunnen communiceren met behulp van een gehoorapparaa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eel mensen zijn onvoldoende op de hoogte van de mogelijkheden of weten zelf niet dat hun gehoor minder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25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gehoororgaan bestaat ui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uitwendige 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midd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binn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4" name="Picture 5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54032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2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79280" y="641520"/>
            <a:ext cx="8785440" cy="5680080"/>
          </a:xfrm>
          <a:prstGeom prst="rect">
            <a:avLst/>
          </a:prstGeom>
          <a:ln w="0">
            <a:noFill/>
          </a:ln>
        </p:spPr>
      </p:pic>
      <p:pic>
        <p:nvPicPr>
          <p:cNvPr id="251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oor kan tot 20.000 trillingen per seconde verwerken. Hoe meer trillingen per seconde, hoe hoger het waargenomen geluid (de frequentie)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oe harder het geluid, hoe ‘heftiger’ de trilli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08T18:14:26Z</dcterms:modified>
  <cp:revision>40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