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FCD-D4E8-410A-8E7C-6E4D1510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ABE-FB71-49AC-AD13-6AF4F98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DC5-8EEB-42E1-95E2-A8CFF4F8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95B-7247-4391-8717-2076A192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FA2D-8DE4-4D2A-9857-75F96365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6F21-29A7-4349-AAB5-2DD53A5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9CC-1E92-4EDE-81DC-9B3AB4E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A552-7ABD-4179-99A0-51A32A4D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B20C-FFF8-4AD5-AB68-B6890706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751F-8D09-4CDD-B5F9-42C5B28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932D-2404-4BF5-91DB-D12B856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B3A-7FC4-4E2D-9432-D0ADFB88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7412-2FC4-45E6-87C2-18DB615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16CA-662A-4A92-9B52-E8F0911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E5B1-3546-4CEF-92AF-63C3B519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417-64D7-4878-95B5-B53D4627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760C-6990-4E65-837F-EDDD7412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FDC10-B4C6-4CEA-8FFE-A1D9325AA3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1B164-EB53-4521-B7BC-357AFCDDFC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043B6-FF4D-4ED8-80AB-46B72585CE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9A79F-E5C1-420B-ABD9-B02CFEEF3E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6FD61-EDE5-4FA0-9EF4-B336D7ADC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14E-A5CE-425B-BF35-1D983D30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7C0F8-5367-4BE3-8725-528292DD7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A0F48-88D0-4219-A310-1F2CEFF203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B3BF6-7F93-4DAA-AADD-FF52A15C51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9C96E-0147-46CB-8EFA-46B6010EF3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3E3A2-4529-439B-B3B4-BAC54A41FB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3D59C-7C1C-4C66-A21E-D3E08600AF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8E234-89FB-48F7-8275-DEFC6E714D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63102-EAD3-40BA-8370-03355D33EB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D0522-64F4-475D-BE38-D376BDD921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00907-6FF4-4844-8FC3-903B0E5BA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69D-DF00-42F3-B5A0-E3EBCD99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5B1B2-E328-4F39-BDF6-13EC43EED3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1975C-09D9-4DC3-838B-62B8577716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9C600-BF58-4716-BB2D-DCD0644E21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12A1B-507A-41B6-9C34-D5C27A27E5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87F2D8-5965-47FC-9B9C-BAD1A76660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75580-5259-4162-8997-D6A2DF6964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9CB8F-C2BD-45D0-A625-651352D744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8D348-BF07-4D94-9922-CC6435498E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2F8D4-C554-4307-A73A-F75BBA914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403-F6B0-44C2-BCB2-42D7626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090-2FE0-4D3F-82AE-54E7CC35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11E-FB98-4032-9B38-08AEEC61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A25-D841-4553-8719-2D9F49D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4DD-95DC-403B-AFBE-97BFCC0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C459-2589-43B2-B295-E85BFB6616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718-5092-47B5-B90D-582D5115DFF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8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179280" y="6589440"/>
            <a:ext cx="6840720" cy="2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8764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6B3-2C0D-4822-B0C9-FD7A510CA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3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9"/>
          </p:nvPr>
        </p:nvSpPr>
        <p:spPr>
          <a:xfrm>
            <a:off x="179280" y="6589440"/>
            <a:ext cx="6840720" cy="2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0"/>
          </p:nvPr>
        </p:nvSpPr>
        <p:spPr>
          <a:xfrm>
            <a:off x="658764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016A-CC46-43F6-909B-9192D75F5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et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Zorgt voor de coördinatie van activiteiten in weefsels en organen, vegetatieve en animale functies, de buitenwereld en onze gevoelen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058160" cy="4114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1835280" y="3408480"/>
            <a:ext cx="5413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aeaea"/>
                </a:solidFill>
                <a:latin typeface="Times New Roman"/>
              </a:rPr>
              <a:t>Bouw van een neuron (= zenuwcel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Impuls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een elektrisch signaal langs een uitloper (axo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xon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= uitloper die een impuls v/h cellichaam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nl-NL" sz="2000" spc="-1" strike="noStrike">
                <a:solidFill>
                  <a:srgbClr val="9edbff"/>
                </a:solidFill>
                <a:latin typeface="Times New Roman"/>
              </a:rPr>
              <a:t>f </a:t>
            </a:r>
            <a:r>
              <a:rPr b="0" lang="nl-NL" sz="2000" spc="-1" strike="noStrike">
                <a:solidFill>
                  <a:srgbClr val="9edbff"/>
                </a:solidFill>
                <a:latin typeface="Times New Roman"/>
              </a:rPr>
              <a:t>geleid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Dendriet</a:t>
            </a: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= uitloper die een impuls naar het cellichaam to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geleid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133383_962_1119533591320-Zenuwcel_klein"/>
          <p:cNvPicPr/>
          <p:nvPr/>
        </p:nvPicPr>
        <p:blipFill>
          <a:blip r:embed="rId1"/>
          <a:stretch/>
        </p:blipFill>
        <p:spPr>
          <a:xfrm>
            <a:off x="2843280" y="2279520"/>
            <a:ext cx="6408720" cy="3846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334120" y="59436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mergsched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638680" y="4952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ax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851280" y="335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dendriet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733920" y="3809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cellichaa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886200" y="4267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celker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315200" y="4876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synap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 rot="1107600">
            <a:off x="3995280" y="50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oorten neur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1. Motorisch neuron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mpulsen worden geleid van de hersens/ruggegraat richting de spier (motoriek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2. Sensorisch neuron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mpulsen worden geleid van een zintuigcel richting ruggegraat/hersens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3. Schakelneuron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Geeft signalen door tussen twee anderen neuron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voettekst 3"/>
          <p:cNvSpPr/>
          <p:nvPr/>
        </p:nvSpPr>
        <p:spPr>
          <a:xfrm>
            <a:off x="179280" y="6589800"/>
            <a:ext cx="6840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Tijdelijke aanduiding voor dianummer 4"/>
          <p:cNvSpPr/>
          <p:nvPr/>
        </p:nvSpPr>
        <p:spPr>
          <a:xfrm>
            <a:off x="658800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FA9-5206-4FEF-87A1-974951538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Soorten neur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23" descr="soortneuron1"/>
          <p:cNvPicPr/>
          <p:nvPr/>
        </p:nvPicPr>
        <p:blipFill>
          <a:blip r:embed="rId1"/>
          <a:stretch/>
        </p:blipFill>
        <p:spPr>
          <a:xfrm>
            <a:off x="0" y="113976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ignaalverwerking en Reflex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Zintuig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sensorische neuron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(schakelneuron)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hersens</a:t>
            </a:r>
            <a:br>
              <a:rPr sz="2400"/>
            </a:b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(schakelneuron)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motorische neuron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Spier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ter zullen we zien dat dit erg schematisch is en er ook hormonen en andere functies van het zenuwstelsel meespel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it kan ook!   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REFLEXEN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it is als sensorische informatie uit het ruggenmerg direct wordt overgebracht op motorische zenuwcellen. Veel korter en sneller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Tegelijkertijd wordt de informatie ook naar de hersenen doorgegeven en daar verwerkt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332160" y="189000"/>
            <a:ext cx="19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  <a:ea typeface="Arial"/>
              </a:rPr>
              <a:t>Synap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3" name="Picture 3" descr="impuls9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527040" y="890640"/>
            <a:ext cx="8604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= contactplaats van zenuwcellen, waar impulsen </a:t>
            </a:r>
            <a:r>
              <a:rPr b="0" lang="nl-NL" sz="24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chemisch</a:t>
            </a: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 worden doorgegeven. Zodra de informatie chemisch is doorgegeven gaat de impuls in de volgende neuron weer als stroomstroot verder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Neurotransmitte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583160" cy="3240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cecff"/>
                </a:solidFill>
                <a:latin typeface="Times New Roman"/>
              </a:rPr>
              <a:t>2 typen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Stimulerend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Zorgen voor doorgeven van signaal naar volgende zenuwc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Remmend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Onderbreken de impuls, er wordt geen impuls overgedra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40323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Neurotransmitte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Stimulerend en remme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rugs en veel pijnstillers werken op dit systeem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Remmend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orfine, alcohol, cannab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Stimulerend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cotine, cocaine, XT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idt soms tot gewenning o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slav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2" name="Picture 5" descr="drugsfotoverkleind"/>
          <p:cNvPicPr/>
          <p:nvPr/>
        </p:nvPicPr>
        <p:blipFill>
          <a:blip r:embed="rId1"/>
          <a:stretch/>
        </p:blipFill>
        <p:spPr>
          <a:xfrm>
            <a:off x="5076720" y="2781360"/>
            <a:ext cx="35607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Terug naar de FUNCTI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We weten nu HOE signalen verplaatst worden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Nu kijken we naar WAAROM in de ene situatie het ene gebeurt en in een andere situatie het ander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2 indelingen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Times New Roman"/>
              </a:rPr>
              <a:t>Op basis van bouw/ligging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Centrale zenuwstelsel (hersenen + ruggenmerg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Perifere zenuwstelsel (alle zenuwen in rest lichaam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Times New Roman"/>
              </a:rPr>
              <a:t>Op basis van functi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Animale zenuwstelsel (bewust + reflex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Deze hebben we al behandel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Vegetatieve /autonome zenuwstelsel (onbewus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Tijdelijke aanduiding voor dianummer 4"/>
          <p:cNvSpPr/>
          <p:nvPr/>
        </p:nvSpPr>
        <p:spPr>
          <a:xfrm>
            <a:off x="3505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EF30-2FF0-4512-A23D-7345C1C50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Zenuwstelsel: functi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gistrer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Verwerk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Opwekk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ageren op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Psychische activiteiten (denken/voele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Coördineren van funct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gulatie van weefsels en organ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87280" y="765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Vegetatieve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84400" y="2362320"/>
            <a:ext cx="574488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ecff"/>
                </a:solidFill>
                <a:uFillTx/>
                <a:latin typeface="Calibri"/>
                <a:ea typeface="Times New Roman"/>
              </a:rPr>
              <a:t>Bestaat uit: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1) </a:t>
            </a:r>
            <a:r>
              <a:rPr b="1" lang="nl-NL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sympatisch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deel </a:t>
            </a:r>
            <a:br>
              <a:rPr sz="2400"/>
            </a:b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2) </a:t>
            </a:r>
            <a:r>
              <a:rPr b="1" lang="nl-NL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parasympatisch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de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N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aar ieder orgaan (doelwitorgaan) gaat een sympatische zenuw en een parasympatische zenuw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D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eze hebben een tegengestelde werking</a:t>
            </a:r>
            <a:r>
              <a:rPr b="0" lang="nl-NL" sz="2400" spc="-1" strike="noStrike">
                <a:solidFill>
                  <a:srgbClr val="ccec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9" name="Picture 8" descr="http://www2.fcsconline.org/staff/gradyt/nervous.jpg"/>
          <p:cNvPicPr/>
          <p:nvPr/>
        </p:nvPicPr>
        <p:blipFill>
          <a:blip r:embed="rId1"/>
          <a:stretch/>
        </p:blipFill>
        <p:spPr>
          <a:xfrm>
            <a:off x="6929280" y="285840"/>
            <a:ext cx="1963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835280" y="2057400"/>
            <a:ext cx="5703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ecff"/>
                </a:solidFill>
                <a:uFillTx/>
                <a:latin typeface="Calibri"/>
                <a:ea typeface="Arial"/>
              </a:rPr>
              <a:t>Stimuleert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 organen die met 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activiteit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 te maken hebb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snelling ademhaling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snelling hartslag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hoging dissimilatie (verbranding om </a:t>
            </a:r>
            <a:r>
              <a:rPr b="1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energie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 vrij te maken)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  <a:ea typeface="Arial"/>
              </a:rPr>
              <a:t>- </a:t>
            </a:r>
            <a:r>
              <a:rPr b="0" lang="nl-NL" sz="2400" spc="-1" strike="noStrike">
                <a:solidFill>
                  <a:srgbClr val="cc0000"/>
                </a:solidFill>
                <a:latin typeface="Calibri"/>
                <a:ea typeface="Arial"/>
              </a:rPr>
              <a:t>remt (vertraagt) spijsvertering</a:t>
            </a:r>
            <a:r>
              <a:rPr b="0" lang="nl-NL" sz="2400" spc="-1" strike="noStrike">
                <a:solidFill>
                  <a:srgbClr val="cc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1600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Sympatisch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278080" y="2057400"/>
            <a:ext cx="56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Remt organen af die met activiteit te maken hebben en zorgt dat er rust is voor vertering e.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stimuleert spijsverteringsorgane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+ bevordert </a:t>
            </a:r>
            <a:r>
              <a:rPr b="0" lang="nl-NL" sz="2400" spc="-1" strike="noStrike" u="sng">
                <a:solidFill>
                  <a:srgbClr val="008000"/>
                </a:solidFill>
                <a:uFillTx/>
                <a:latin typeface="Calibri"/>
                <a:ea typeface="Times New Roman"/>
              </a:rPr>
              <a:t>as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similatie (vormen organische stoffen voor opbouw lichaam) </a:t>
            </a:r>
            <a:r>
              <a:rPr b="0" lang="nl-NL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 voor rust en herstel lij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- </a:t>
            </a:r>
            <a:r>
              <a:rPr b="0" lang="nl-NL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remt (vertraagt) hartslag en ademhaling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32000" y="947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Par</a:t>
            </a:r>
            <a:r>
              <a:rPr b="0" lang="en-US" sz="4000" spc="-1" strike="noStrike" u="sng">
                <a:solidFill>
                  <a:srgbClr val="cccc00"/>
                </a:solidFill>
                <a:uFillTx/>
                <a:latin typeface="Tahoma"/>
                <a:ea typeface="Arial"/>
              </a:rPr>
              <a:t>as</a:t>
            </a: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ympatisch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81704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2 indelingen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p basis van bouw/ligging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Centrale zenuwstelsel (hersenen + ruggenmerg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erifere zenuwstelsel (alle zenuwen in rest lichaam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p basis van functi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nimale zenuwstelsel (bewust + reflex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utonome zenuwstelsel (onbewus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9280" y="6480"/>
            <a:ext cx="88218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60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cc00"/>
                </a:solidFill>
                <a:latin typeface="Times New Roman"/>
              </a:rPr>
              <a:t>Centrale zenuwstelsel (CZ)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Grote herse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Kleine herse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Hersenst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Ruggenme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cc00"/>
                </a:solidFill>
                <a:latin typeface="Times New Roman"/>
              </a:rPr>
              <a:t>Perifere zenuwstelsel: ( </a:t>
            </a: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Perifeer = er omheen liggend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Zenuwcellen = neuronen (bewegings- en gevoelneuro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Bewegingszenuwcellen= motorische neuro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Gevoelszenuwcellen = sensorische neuro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338720" y="260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Indeling op basis van ligging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Afbeelding 1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2989080" cy="2513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rcRect l="43791" t="0" r="0" b="0"/>
          <a:stretch/>
        </p:blipFill>
        <p:spPr>
          <a:xfrm>
            <a:off x="7270920" y="5022720"/>
            <a:ext cx="1387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voettekst 4"/>
          <p:cNvSpPr/>
          <p:nvPr/>
        </p:nvSpPr>
        <p:spPr>
          <a:xfrm>
            <a:off x="179280" y="6589800"/>
            <a:ext cx="6840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658800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684A-7BA7-4FC4-8225-A08B0BE16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4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eaeaea"/>
                </a:solidFill>
                <a:latin typeface="Times New Roman"/>
              </a:rPr>
              <a:t>Centraal zenuwstelsel: overzicht</a:t>
            </a:r>
            <a:r>
              <a:rPr b="0" lang="nl-NL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02920" y="1467000"/>
            <a:ext cx="5651640" cy="52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grote 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kleine 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hersenstam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midden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p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verlengde mer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ruggenmer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niet zichtbaar: diëncephalon (tussenhersenen 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2" name="Picture 6" descr="czs_overzicht"/>
          <p:cNvPicPr/>
          <p:nvPr/>
        </p:nvPicPr>
        <p:blipFill>
          <a:blip r:embed="rId1"/>
          <a:stretch/>
        </p:blipFill>
        <p:spPr>
          <a:xfrm>
            <a:off x="5713560" y="563400"/>
            <a:ext cx="34304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258920" y="692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cc00"/>
                </a:solidFill>
                <a:latin typeface="Tahoma"/>
                <a:ea typeface="Arial"/>
              </a:rPr>
              <a:t>Het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971640" y="1393920"/>
            <a:ext cx="69134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ecff"/>
                </a:solidFill>
                <a:latin typeface="Calibri"/>
                <a:ea typeface="Times New Roman"/>
              </a:rPr>
              <a:t>Indeling op grond van werking/functi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Animale zenuwstelsel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taat onder invloed van de wil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verzorgt bewuste reacties en reflex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centra liggen voornamelijk in grote hersenen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Autonome zenuwstelsel</a:t>
            </a:r>
            <a:r>
              <a:rPr b="0" lang="nl-NL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(= vegetatief zenuwstelsel)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taat niet onder invloed van de wil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voor onbewuste functies van organ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regelt allerlei lichaamsfuncties</a:t>
            </a: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o.a. hartslag,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pijsvertering, ademhaling, nieren etc  </a:t>
            </a:r>
            <a:r>
              <a:rPr b="0" lang="nl-NL" sz="20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HOMEOSTAS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centra in hersenstam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Line 4"/>
          <p:cNvSpPr/>
          <p:nvPr/>
        </p:nvSpPr>
        <p:spPr>
          <a:xfrm flipV="1">
            <a:off x="684360" y="4562640"/>
            <a:ext cx="811080" cy="144936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559800" y="6093000"/>
            <a:ext cx="4845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2060"/>
                </a:solidFill>
                <a:latin typeface="Calibri"/>
                <a:ea typeface="Arial"/>
              </a:rPr>
              <a:t>Hormoonstelsel veel invloed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9" name="Picture 2" descr="http://msjensen.cehd.umn.edu/webanatomy/nervous/nerv_anatomyTV-head-nerves.jpg"/>
          <p:cNvPicPr/>
          <p:nvPr/>
        </p:nvPicPr>
        <p:blipFill>
          <a:blip r:embed="rId1"/>
          <a:stretch/>
        </p:blipFill>
        <p:spPr>
          <a:xfrm>
            <a:off x="6875640" y="14292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kstvak 1"/>
          <p:cNvSpPr/>
          <p:nvPr/>
        </p:nvSpPr>
        <p:spPr>
          <a:xfrm>
            <a:off x="1908000" y="692280"/>
            <a:ext cx="6336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Later meer over de functie van het zenuwstelsel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Eerst terug naar de BOUW.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</a:rPr>
              <a:t>Welke cellen vinden we in het zenuwstelsel?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In het Centrale Zenuwstelsel en in het Perifere zenuwstelsel  worden signalen doorgegeven dmv 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zenuwcellen = neuronen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</a:rPr>
              <a:t>Hoe worden signalen (voortkomend uit prikkels) doorgegeven?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De signalen worden als stroomstootjes doorgegeven aan andere neuronen. Tussen 2 verschillende neuronen ligt een ruimte die een SYNAPS heet. Signalen gaan niet als stroom door deze synaps, maar als chemische stoffen. (neurotransmitto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Hierover later meer.  Eerst de verschillende NEURONEN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05T22:26:39Z</dcterms:modified>
  <cp:revision>51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