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A98-1576-4D30-9745-2AE3A6AF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5A7-4CDD-4FE0-B618-533D68D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C437B-25BC-46CA-BB5D-C30BA32B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F2DDE-5835-4F28-8D47-20B5AC9E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5BCA4-F225-488B-B863-F87738FB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B6A62-8C80-4786-9304-600A777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91381-EE2B-40CA-807D-27C7502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92360-5B4B-4680-A6AF-261B652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8569-CD69-4CF9-8EC2-DFD760B5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5BDF-B4E9-4452-8BE7-40396D76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FD2F1-FE36-4BC4-8985-A6628B9B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F78E2-2493-430E-BE30-2B477283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205-EAAE-42C8-A8E6-72F2441B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B5D6B-8639-42F4-BA65-099C4793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FEA1A-3AF7-41FA-8840-A1507860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1C476-6CD1-409C-AB53-1AB050DD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71BD2-152B-45B6-AC0C-FBE3303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724FB-56BE-4DB3-B733-EA920514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EC421-50E7-4303-9AE1-EE4D7F8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F2D5-AC4B-484E-AEBB-56BDE72B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4F327-DEDF-47BB-8640-F418D1C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D3D86-669C-40EC-9C21-4B36FFEB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47FB0-F2D1-4ADB-90B2-AC32A732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6EE-D8A3-4A60-B5B5-9E187E90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33502-5DE6-4A83-ABC5-99D89B03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9E25F-256D-427B-A349-ED4A8F75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BC766-D993-42ED-8A40-2F5AF57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045A2-B2F6-4CB5-99A1-827C80F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C81FB-25DB-4A66-BD3C-3C2B2D7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9BF8C-981A-4831-BE11-3FDF175D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86739-B510-4FD5-A8D5-BF1D9561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7F70-66F1-472F-BBAF-1E9576FA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1B2BF-FB14-453A-B44D-727C1DC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2763D-CA38-4C3F-8501-49CE7A2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599E-9B8F-4144-BFDC-2B8E3D56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512C7-4F39-4672-96C4-5585CFC9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28735-FC3F-4430-BE31-7CC1C0C4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C59F7-9A3C-49D7-8A5C-E709537E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AC5A9-4D03-4616-8629-522E95DC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D72D1-094A-45D1-9D22-7DEEA65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A7B37-9972-41E4-84FB-C8EE07BB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D17E9-4E4E-4A8F-BCC5-6D3B8DD3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3E2E6-D6BD-4366-A73C-382B037B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DE88C-6579-4F9D-88BC-18A01241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E0213-188D-4C61-B313-1DD0CCBB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0D38-42F8-4156-AA04-02FEA52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BA738-D9CE-4FF7-82A9-4F55DA08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2E779-B44B-4FC0-849F-8D0CC5E9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2665F-3049-44CE-A971-8C6511D7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BE385-6266-4268-9221-8CEC5184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F4893-559E-40B0-9144-25E53113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E26E7-B3C5-4B43-86DB-C082A8AD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A7D08-E0C7-44C8-A296-D5A5F2A9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679B0-FC03-4318-B76B-91B533DD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297C7-D345-4E5C-B954-9FFE1156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8D8D1-B2E7-47F5-B743-4F632FD0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AA92-D9C1-484C-8CC5-871117D1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D03EF-4189-4650-9488-DB592CBC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722A0-FAF9-41A7-8F44-23192A8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4DDD2-C868-42F4-9761-A75949F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6E250-2039-4CCB-8F2F-62ABFA1B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50296-2AD3-4B09-9F32-27C8C881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AF82D-79CD-4A18-9DBB-12485399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6E3DE-0A40-4C64-8D11-F16B101B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A20CC-5BC4-4C6A-8F8B-27675E85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741DA-4DF0-419C-B627-340F8445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ED05C-F8FB-4871-9614-58360D4D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7317-5D07-4832-BC11-D82A8CB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664F4-8A8E-4ED8-91F9-C1E31EA7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5E396-0484-4D51-BA97-A38EAC38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4675C-FD61-4BBE-8BE6-67C9F3F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CBA12-6580-4796-9DBC-D58A188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46802-D5D2-462D-BCE8-16AF5C12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8A872-D606-41DB-8FCD-3E8ADC11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0C3C7-5771-47EE-BCC0-F588D753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2ECD4-7FC0-4890-B3C7-6E37A38C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63DEE-80DF-40A6-89F6-2CB57AAA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FBB34-F421-426C-B096-A2C531C5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6DB4-C8A5-4EA8-98DE-5E5FF967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C2458-504B-418C-AC9B-2B01243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E20B7-23AE-4057-BB49-89EB99CD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D9B97-7DD7-4A78-92BD-3FDEA6EB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91387-D283-4305-A3FB-458AB694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5C39D-C80A-4651-AFEE-F56DEA5D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51013-6102-4589-BC70-3E22499F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681AA-2DB5-4A3A-A6F0-A799A2B1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9A0BD-C692-4AFA-BFCE-B8C06E6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4475E-8F6F-45C4-AC6E-F1EEBC7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E3603-CB95-45C1-AD21-F13A87BC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66AA-55AE-410D-AA9A-18B125E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FAA1C-38E4-4F47-8B87-E80629AE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368E4-2559-4A53-A918-7D21D248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4C9ED-7222-45F5-9E75-84FF8EDD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7A210-5CE3-48A7-BC60-3B78D3BE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FFD8C-A67F-4961-A55A-B01A89F7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CEB29-39F0-4663-8795-06F30EE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09DF0-7281-41C9-8C37-A0A511A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CFC27-B44C-40FA-89A2-ECB8776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3666A-1DA2-4D11-BD41-7DF6B36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B2DA91-22E1-439C-A7B8-ABF7261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659-D073-4D07-9C58-A6213A6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08CC7-7725-43CB-9CE6-51A3AD8D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3535B-136E-4580-80F0-DAF55D71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168FF-0EC9-467A-865B-FA884092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E6908-13DE-493F-B8A1-A67E1708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17CDC-970E-4ABF-BD51-F3706AB9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E6000-8828-4338-B113-B602F7ED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76AD2-D31D-444A-8E3E-E5D2A62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2C1EB-CB80-40A4-8A40-0EC4955E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1DD92-4812-4AB2-9863-0DF74F19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D78A4-C885-4FF8-98EA-6221F5DC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387-D8EE-4B13-9106-58732E63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37F2-31EF-4E3E-BA83-A31DBB9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E12F5-DCDC-4610-A0FD-6D4FE3D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D63A5-CD73-42F8-BD3F-65AA4C2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29030-04B3-4B65-A99E-F9C5FE5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6C4C0-41DF-40FA-9B4F-710F77D3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E6A1D-A1A2-4997-919D-9CA3C5ED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D463E-EEA6-4AFE-8F99-1B96A1ED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CD833-0450-4B30-ABD6-7EE697F2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4AD12-255F-4359-B109-3654FC4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7722E-2EB3-448E-8359-C03212C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87067-4FCA-4CCF-B8E7-6A682A05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92DE-A3BB-4D22-BBB5-E0F8921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B0428-C8FF-4309-8DBB-6F7E371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9A5A0-CD08-4F94-9EFC-2493588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62A0D6-0335-4F38-9B59-CA52ADAF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1B8F6-34FC-42DC-A246-877362C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0FCD9-D470-4405-8D7B-FDED4943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F7B21-EC5A-4431-804D-775671AB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A4DC1-487F-4032-B801-51BE052E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4E1DB-4D1E-43AC-9F49-45E38D0D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A4169-D3A2-4C4F-9360-E5F52DE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3FB73-D816-4272-AAD9-E04A136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BC7-FA09-4CDD-A700-71456DF3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02BEA-BF2D-4552-BC16-CF35BD2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EECA5-BBA3-42DE-B3D4-A8E88327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B2384-0390-434E-A8C4-89F47627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3B989-8BD9-491D-AD35-20F2B0D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E1388-CB7F-4034-9702-E1EED42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EA00E-7985-47E6-8A6F-77B6BFD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ECC5E-998A-4B44-B56D-650AEF28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864E7-911D-4801-97D8-9C859EB7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78B015-3F35-47B9-AED3-B0516781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AECC6-647A-47A6-AD0B-68FA5EE2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5EB3-B51A-4728-8689-CD6DEAFD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99D064-636D-44C2-97E5-3E88E62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F9FB3-9B98-464A-95B3-54B3B7CD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E513E-46D0-4398-822F-F350D996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3DB91F-BCCD-487F-9E9E-023C02D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66E08-533F-40AA-BE44-A6BC2A80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6BC13-3F3D-4BA6-9988-CAA12EFC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ECEBA-C67A-45F3-A436-033DF1F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43F23E-05ED-4DC9-B051-39AF1B5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102D7-C3A9-4A5A-B57A-D5D977F1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17595-59E2-4A5C-889D-D5D249FC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4DA2-A871-499A-9986-5D73ACCD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3D252-3DDA-4106-A3BE-6A471FC8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BF48-ED5A-4111-AD4E-F040D499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14A0-0052-4862-8882-24E65C84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BD84-939F-4B3F-BFC1-8D56FFA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70E9-1EEF-424B-A10A-4BF724A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689E-A30C-4DB7-AB22-D353811B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251-D509-4CD2-8295-949874A1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EFCD9-3E62-413B-A76F-2C8D8122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F06A-7FC3-4BC0-8636-4CE8B8E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6ABA-8986-4DE0-89BB-C02E997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9FBE-875F-4966-B38B-1B63C28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9B1E-EF57-48FD-B607-0266EE16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8F3A-23E0-4B61-9D8D-5BF57B70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B815-CD75-44E3-81E1-E2FA30E5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A55D-9C46-48E6-B8E4-EEBAAED2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9ACB-7988-4274-8F5C-4B4B5F1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A115F-85DD-4CD7-BD31-AF8EE3FF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E77-7729-4403-AE03-1F657840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06FF-790E-4778-B516-3ABA3E2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0248-9C23-4E29-8DFB-8DECBB9F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B4C2-1CCF-47F6-B1ED-B214EBD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8D42-009E-40E1-86BF-C43D680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112D-B45C-4EE7-97A9-36FBCBB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E73B-677C-4AC6-8AB5-2A7D7C8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49DF-2EE0-48DB-B96F-F2E39140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6178-90CD-4E0F-B208-50862450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69ED-26AF-4521-863C-42E0A4D3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5330E-5F79-4D65-96DD-216FCF61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594-3855-4F53-9CD2-91336D92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1671-D7C7-44DA-A8B6-96E6510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06090-B621-4238-84B0-09582B9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B287-B347-4229-8823-A9726917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39ADA-90C6-4CF7-8E90-C776A2DA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339B-25FE-4D3B-A641-8D943518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27C9-81A0-4DE7-B0C4-34306AD0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7A94C-92C0-40C6-8822-F7F6D1C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1D614-8F3A-4C11-8811-9B47699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F6E9-F3CB-4851-8EB3-2BAB88CC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58C2-1B30-450D-A00B-7E55E61E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AD1-539C-41B3-9C48-5B96CA63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CB5C-5527-4656-99D5-6C954F47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B2BF6-4F0E-4707-B293-B957129B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04C59-31F9-4AE6-88C3-61A7FA0F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7BEB-B90B-4413-8D6E-F649F9DC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D110-9098-40A7-B6B1-AA7BFED4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7DB75-6546-4170-BB4F-B6E5C250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54CE2-4B83-4037-8CEC-16B763BB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F549-CD7C-4821-BB3C-5DA6488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1FA11-90B6-4E65-8982-267BB28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4B50-A342-446F-82CA-954ECF34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692-969B-489F-ACD3-C0B7762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2478F-1EA5-4F31-884A-0362FD75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9B73-5F4B-4723-B531-09A01727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EF78-2AD7-47E0-9DCD-7BD7714C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FED6-5528-4D44-BED7-D3E7452A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EF393-223E-4ABC-9F6E-828F2257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94D5C-D9E4-4F51-835E-EA31B66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26A1B-7663-4450-A9C1-4FD8F3C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3990-2F1F-421D-BF2C-58063BC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A20B3-5D48-4F07-963A-8655F2F7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F3B5B-0304-4985-9A29-027E8B5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95C-41C4-4EE1-AC6A-9371E3F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179E-D6F5-4967-9422-3CA588B0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A7692-21B8-41A6-A23E-97BD46F8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C2600-3E93-459D-83FF-BAAD396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2726-C766-42BE-A153-EA6BA3C1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CF4B-5AD1-4AF4-9D13-C928F30C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B7E7-E3F0-43DE-81DC-35BE847F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F259E-E20B-479D-A576-B09D8068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CE295-B8D7-4A0C-9B80-0D37C97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810AD-427C-41F7-A818-9A1F3267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C4CF2-2190-4912-8889-160A44E8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DEC-68B0-4985-AC70-88C0317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D18B9-1B46-48BD-A30C-69B24206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9E785-8955-494E-B0B5-AE5FE1A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EF96E-8380-4EA5-A1F7-5755A44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8F00-D1F6-4B9D-9DA5-5CA623C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0B561-38D6-4A38-9997-302D4452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15A87-CF0D-4E5A-B3F5-5C687D5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52E83-2904-49AF-BF6E-4889DF82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F3AC4-F4FD-4B4B-9F8F-6A92535B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86FCC-A51B-4F6E-B543-E2A36987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ACF9D-A361-45D3-930F-28B28D2E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A84-9DB0-4696-A95F-AA78088465F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38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087-B080-43FD-A4ED-E6B7674F572F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2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4CB2-2F97-4727-AC75-B54353EAAA2F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7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0B72-B208-42A6-9110-22E4B7C21812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D18F-E7F0-4564-9BEE-5FEBA5AC69C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E8F0-1477-4FAB-8376-90C30ADA814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AAA6-CFD1-40BA-A592-2782905517A9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38E-BE02-4732-9623-4DCD79206D5E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9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50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5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E1F2-0BB7-4395-8AC4-7CB1C49E9E7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5A4C-433E-4E14-8911-23AA290F4DCF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428-930F-4FE1-9946-6BFF3E36519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B5E6-BCF3-433C-9CCC-691AB352E4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8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9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6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0433-55D8-47CC-8980-19BCB1141C2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95D4-C1FF-4E65-8EE0-8DEB1CB488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5CDE-9F45-4DA5-B280-07A8BDE428B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a2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7302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37E8-8AF0-4026-8B70-5D5B249DAE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0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6AD-3283-46E9-980D-E59E7DEBD2C5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5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0E23-7817-4931-81E6-BF30E3AEC285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9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F413-5963-40D9-A7CE-A4A5EDF6142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34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5D05-FFFD-4EE4-960F-B875252006C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rxKz-6T10T5oIM&amp;tbnid=JZT6dESyNI2u3M:&amp;ved=0CAUQjRw&amp;url=http%3A%2F%2Fwww.biologiesite.nl%2Fth3kl2.htm&amp;ei=og8oUvjeIIOc0QXLhYGYBQ&amp;bvm=bv.51773540,d.d2k&amp;psig=AFQjCNFJQGtDg8TFx1phyff0AcHJfGzdLA&amp;ust=1378443480477337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Les 3: Orgaanstelsels  a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- Hart en bloedvat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fr-FR" sz="2800" spc="-1" strike="noStrike">
                <a:solidFill>
                  <a:srgbClr val="ff0000"/>
                </a:solidFill>
                <a:latin typeface="Times New Roman"/>
              </a:rPr>
              <a:t>Kleppen en klepvliezen </a:t>
            </a:r>
            <a:r>
              <a:rPr b="1" i="1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éénrichtingsverkeer in het har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7" name="Picture 4" descr="msotw9_temp0"/>
          <p:cNvPicPr/>
          <p:nvPr/>
        </p:nvPicPr>
        <p:blipFill>
          <a:blip r:embed="rId1"/>
          <a:stretch/>
        </p:blipFill>
        <p:spPr>
          <a:xfrm>
            <a:off x="304920" y="1371600"/>
            <a:ext cx="4419360" cy="4952880"/>
          </a:xfrm>
          <a:prstGeom prst="rect">
            <a:avLst/>
          </a:prstGeom>
          <a:ln w="0">
            <a:noFill/>
          </a:ln>
        </p:spPr>
      </p:pic>
      <p:sp>
        <p:nvSpPr>
          <p:cNvPr id="958" name="Rectangle 7"/>
          <p:cNvSpPr/>
          <p:nvPr/>
        </p:nvSpPr>
        <p:spPr>
          <a:xfrm>
            <a:off x="2895480" y="33526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9" name="Text Box 8"/>
          <p:cNvSpPr/>
          <p:nvPr/>
        </p:nvSpPr>
        <p:spPr>
          <a:xfrm>
            <a:off x="2895480" y="3505320"/>
            <a:ext cx="609840" cy="77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0" name="Line 9"/>
          <p:cNvSpPr/>
          <p:nvPr/>
        </p:nvSpPr>
        <p:spPr>
          <a:xfrm>
            <a:off x="3505320" y="3581280"/>
            <a:ext cx="198108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5867280" y="3352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Klepvliezen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2" name="Text Box 11"/>
          <p:cNvSpPr/>
          <p:nvPr/>
        </p:nvSpPr>
        <p:spPr>
          <a:xfrm>
            <a:off x="5867280" y="3809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tussen boezem en 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33720" y="2819520"/>
            <a:ext cx="609480" cy="77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4" name="Line 14"/>
          <p:cNvSpPr/>
          <p:nvPr/>
        </p:nvSpPr>
        <p:spPr>
          <a:xfrm flipV="1">
            <a:off x="2743200" y="1905120"/>
            <a:ext cx="289548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5791320" y="1600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Halfmaanvormige klepp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6" name="Text Box 16"/>
          <p:cNvSpPr/>
          <p:nvPr/>
        </p:nvSpPr>
        <p:spPr>
          <a:xfrm>
            <a:off x="5943600" y="2286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ingang sla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7" name="Line 17"/>
          <p:cNvSpPr/>
          <p:nvPr/>
        </p:nvSpPr>
        <p:spPr>
          <a:xfrm>
            <a:off x="320040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8" name="Line 18"/>
          <p:cNvSpPr/>
          <p:nvPr/>
        </p:nvSpPr>
        <p:spPr>
          <a:xfrm flipH="1" flipV="1">
            <a:off x="2514240" y="3200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ubbele Bloedsomloo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grote en kleine bloedsomloo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Groot: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art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alle delen van lichaam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hart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lichaamscirculati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Klein: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art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longen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hart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longcirculati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 mens heeft dus een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ubbele bloedsomloo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502884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7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https://encrypted-tbn0.gstatic.com/images?q=tbn:ANd9GcRYt9pwPDUIdwgl89Sn-TwgS-l2dletQYZB9ezK63YK2j_iZY3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557360"/>
            <a:ext cx="4105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oorbloeding hartsp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hartcirculatie begint bij de aorta, twee kransslagaders (ateriae coronaria) splitsen zich af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t bloed komt via de kransaders (venae coronaria) in de sinus coronarius in de R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809880" cy="2465280"/>
          </a:xfrm>
          <a:prstGeom prst="rect">
            <a:avLst/>
          </a:prstGeom>
          <a:ln w="0">
            <a:noFill/>
          </a:ln>
        </p:spPr>
      </p:pic>
      <p:pic>
        <p:nvPicPr>
          <p:cNvPr id="97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78" name="Afbeelding 5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381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Times New Roman"/>
              </a:rPr>
              <a:t>Hartritme &amp; Bloeddruk</a:t>
            </a:r>
            <a:endParaRPr b="0" lang="en-US" sz="4400" spc="-1" strike="noStrike">
              <a:solidFill>
                <a:srgbClr val="37302a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68360" y="1557360"/>
            <a:ext cx="446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In rust: 75 x minu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Kloppen’ is de actiefase: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syst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De daaropvolgde ‘rustfase’: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diast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Systole en diastole</a:t>
            </a: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 samen duren ongeveer 0.8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Bloeddruk =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ten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Gemeten in mm kwikdruk (mmH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2" descr=""/>
          <p:cNvPicPr/>
          <p:nvPr/>
        </p:nvPicPr>
        <p:blipFill>
          <a:blip r:embed="rId2"/>
          <a:stretch/>
        </p:blipFill>
        <p:spPr>
          <a:xfrm>
            <a:off x="5097600" y="1557360"/>
            <a:ext cx="36511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2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Vergelijking slagaders – aders - haarvat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4" name="Picture 4" descr="msotw9_temp0"/>
          <p:cNvPicPr/>
          <p:nvPr/>
        </p:nvPicPr>
        <p:blipFill>
          <a:blip r:embed="rId1"/>
          <a:srcRect l="0" t="0" r="4852" b="0"/>
          <a:stretch/>
        </p:blipFill>
        <p:spPr>
          <a:xfrm>
            <a:off x="533520" y="11430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en vloeibaar steunweefs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olume en samenstelling(1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66320" y="1904760"/>
            <a:ext cx="4442040" cy="37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7,5% lichaamsgewicht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5-6 liter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55% is bloedplasm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45% is celle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Rode blc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 Erytrocyten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Witte blc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Leukocyten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Bloedplaatjes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Trombocyten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0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91" name="Afbeelding 1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095640" cy="412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5437080" y="12682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993" name="Rechthoek 4"/>
          <p:cNvSpPr/>
          <p:nvPr/>
        </p:nvSpPr>
        <p:spPr>
          <a:xfrm>
            <a:off x="2158920" y="556560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006a"/>
                </a:solidFill>
                <a:latin typeface="Times New Roman"/>
              </a:rPr>
              <a:t>Plasma: water, zouten (Na, K, Cl, Ca), plasma-eiwitten, bloedgassen (O2, CO2),  en tijdelijke stoffen (Hormonen, vitaminen, afvalstoffe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de bloed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 </a:t>
            </a:r>
            <a:r>
              <a:rPr b="0" lang="nl-NL" sz="2800" spc="-1" strike="noStrike">
                <a:solidFill>
                  <a:srgbClr val="11006a"/>
                </a:solidFill>
                <a:latin typeface="Times New Roman"/>
              </a:rPr>
              <a:t>5,4 miljoen rode bloedcellen  per mm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Opgebouwd rond Hb-kern (hemoglobine, ‘rode bloedkleurstof’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2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Transport O</a:t>
            </a:r>
            <a:r>
              <a:rPr b="0" lang="en-US" sz="1000" spc="-1" strike="noStrike">
                <a:solidFill>
                  <a:srgbClr val="11006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 en deel van CO</a:t>
            </a:r>
            <a:r>
              <a:rPr b="0" lang="en-US" sz="1000" spc="-1" strike="noStrike">
                <a:solidFill>
                  <a:srgbClr val="11006a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Geen celkern, gaat maar 120 dagen me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533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9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itte bloed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4360" y="1700280"/>
            <a:ext cx="426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Leucocyten, 5.000 – 10.000/ mm³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3 typ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Granulocyten (fagocyteren=opslokk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Monocyten (leven buiten de bloedbaa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Lymfocyten (immuniteit door antistoffen mak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354640" y="692280"/>
            <a:ext cx="3755880" cy="4114800"/>
          </a:xfrm>
          <a:prstGeom prst="rect">
            <a:avLst/>
          </a:prstGeom>
          <a:ln w="0">
            <a:noFill/>
          </a:ln>
        </p:spPr>
      </p:pic>
      <p:pic>
        <p:nvPicPr>
          <p:cNvPr id="100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002" name="Afbeelding 1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2295720" cy="17337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MWBC000E"/>
          <p:cNvPicPr/>
          <p:nvPr/>
        </p:nvPicPr>
        <p:blipFill>
          <a:blip r:embed="rId4"/>
          <a:srcRect l="0" t="33851" r="0" b="0"/>
          <a:stretch/>
        </p:blipFill>
        <p:spPr>
          <a:xfrm>
            <a:off x="5003640" y="3578400"/>
            <a:ext cx="2756160" cy="18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plaatj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rombocyten,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00.000 per mm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ukjes van 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peelt een belangrijke rol in de bloedstoll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ij een wond maken ze een draden-net die de wond-einden naar elkaar toe trek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938760" cy="3332160"/>
          </a:xfrm>
          <a:prstGeom prst="rect">
            <a:avLst/>
          </a:prstGeom>
          <a:ln w="0">
            <a:noFill/>
          </a:ln>
        </p:spPr>
      </p:pic>
      <p:pic>
        <p:nvPicPr>
          <p:cNvPr id="100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008" name="Afbeelding 1" descr=""/>
          <p:cNvPicPr/>
          <p:nvPr/>
        </p:nvPicPr>
        <p:blipFill>
          <a:blip r:embed="rId3"/>
          <a:stretch/>
        </p:blipFill>
        <p:spPr>
          <a:xfrm>
            <a:off x="5003640" y="3430440"/>
            <a:ext cx="4608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ven ter info: Water(H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ecff"/>
                </a:solidFill>
                <a:latin typeface="Times New Roman"/>
              </a:rPr>
              <a:t>Mens is 60% wa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± 42 li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Bloed: 5 – 6 li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Water is oplosmiddel, transportmiddel, vangt temperatuur-schommelingen o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3313080"/>
          </a:xfrm>
          <a:prstGeom prst="rect">
            <a:avLst/>
          </a:prstGeom>
          <a:ln w="0">
            <a:noFill/>
          </a:ln>
        </p:spPr>
      </p:pic>
      <p:pic>
        <p:nvPicPr>
          <p:cNvPr id="85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stolling(1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066320" y="1905120"/>
            <a:ext cx="444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ij een verwonding treden de volgende processen op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laatselijke bloedvatvernauw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pvorming in bloedva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loedstoll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efselherstel door o.a. fibrinedraden tussen cellen en weefs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05640" y="1905120"/>
            <a:ext cx="2457360" cy="4114800"/>
          </a:xfrm>
          <a:prstGeom prst="rect">
            <a:avLst/>
          </a:prstGeom>
          <a:ln w="0">
            <a:noFill/>
          </a:ln>
        </p:spPr>
      </p:pic>
      <p:pic>
        <p:nvPicPr>
          <p:cNvPr id="10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Functie witte bloedcellen bij won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493040" cy="43909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502884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87640" y="60912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ecff"/>
                </a:solidFill>
                <a:latin typeface="Times New Roman"/>
              </a:rPr>
              <a:t>Huidgenez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4920" y="455760"/>
            <a:ext cx="65516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rgaanstelsels kor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somlo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eding en vert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itscheid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demhal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ui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getatieve func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rmon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nimale func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arnem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tand en bewustzij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evigheid en beweg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ortplan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totale m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atsaanduidingen </a:t>
            </a:r>
            <a:br>
              <a:rPr sz="4400"/>
            </a:b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om aan te geven waar iets mis is met een orga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94920" y="1844280"/>
            <a:ext cx="4297320" cy="449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Ventraal: aan de buikzijde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orsaal: aan de rugzijde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Anterior: aan de voor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osterior: aan de achter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Centraal: in het mid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erifeer: aan de uitein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Superior: hoger, bov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Inferior: lager, ond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5029200" y="1904760"/>
            <a:ext cx="4006800" cy="4437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Lateraal: aan de zij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Mediaal: naar ‘t mid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roximaal: dichtbij de rom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istaal: ver van de rom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Sinister: links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exter: rechts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Internus: inwendig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Externus: uitwendig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5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deling hoofd, romp en ledem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ofd: is de observatiepo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omp: bevat de orgaanstelsel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dematen: onderste extremiteiten en bovenste extremiteit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ofd en romp samen heet tors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016160" cy="2659320"/>
          </a:xfrm>
          <a:prstGeom prst="rect">
            <a:avLst/>
          </a:prstGeom>
          <a:ln w="0">
            <a:noFill/>
          </a:ln>
        </p:spPr>
      </p:pic>
      <p:pic>
        <p:nvPicPr>
          <p:cNvPr id="86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71629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art en bloedsomloo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2743200" y="1628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7200 liter in 24 uur!!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2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" descr=""/>
          <p:cNvPicPr/>
          <p:nvPr/>
        </p:nvPicPr>
        <p:blipFill>
          <a:blip r:embed="rId2"/>
          <a:stretch/>
        </p:blipFill>
        <p:spPr>
          <a:xfrm>
            <a:off x="1798560" y="2211480"/>
            <a:ext cx="6085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685800" y="4222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fr-FR" sz="4000" spc="-1" strike="noStrike">
                <a:solidFill>
                  <a:srgbClr val="002060"/>
                </a:solidFill>
                <a:latin typeface="Times New Roman"/>
              </a:rPr>
              <a:t>Uitwendige bouw van het har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533520" y="19051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6" name="Picture 5" descr="msotw9_temp0"/>
          <p:cNvPicPr/>
          <p:nvPr/>
        </p:nvPicPr>
        <p:blipFill>
          <a:blip r:embed="rId1"/>
          <a:srcRect l="4281" t="6860" r="2140" b="0"/>
          <a:stretch/>
        </p:blipFill>
        <p:spPr>
          <a:xfrm>
            <a:off x="304920" y="2057400"/>
            <a:ext cx="2438280" cy="336564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7" descr="msotw9_temp0"/>
          <p:cNvPicPr/>
          <p:nvPr/>
        </p:nvPicPr>
        <p:blipFill>
          <a:blip r:embed="rId2"/>
          <a:srcRect l="4273" t="4204" r="2136" b="2803"/>
          <a:stretch/>
        </p:blipFill>
        <p:spPr>
          <a:xfrm>
            <a:off x="6091200" y="2133720"/>
            <a:ext cx="2671920" cy="3352680"/>
          </a:xfrm>
          <a:prstGeom prst="rect">
            <a:avLst/>
          </a:prstGeom>
          <a:ln w="0">
            <a:noFill/>
          </a:ln>
        </p:spPr>
      </p:pic>
      <p:sp>
        <p:nvSpPr>
          <p:cNvPr id="878" name="Line 8"/>
          <p:cNvSpPr/>
          <p:nvPr/>
        </p:nvSpPr>
        <p:spPr>
          <a:xfrm flipV="1">
            <a:off x="1600200" y="2971440"/>
            <a:ext cx="198108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9" name="Line 9"/>
          <p:cNvSpPr/>
          <p:nvPr/>
        </p:nvSpPr>
        <p:spPr>
          <a:xfrm flipH="1" flipV="1">
            <a:off x="4495320" y="3048120"/>
            <a:ext cx="31244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0" name="Text Box 10"/>
          <p:cNvSpPr/>
          <p:nvPr/>
        </p:nvSpPr>
        <p:spPr>
          <a:xfrm>
            <a:off x="3505320" y="2438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2060"/>
                </a:solidFill>
                <a:latin typeface="Times New Roman"/>
              </a:rPr>
              <a:t>kranssla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609480" y="3224160"/>
            <a:ext cx="60984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2" name="Text Box 12"/>
          <p:cNvSpPr/>
          <p:nvPr/>
        </p:nvSpPr>
        <p:spPr>
          <a:xfrm>
            <a:off x="1906560" y="4191120"/>
            <a:ext cx="5220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990720" y="55627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Blauw = zuurstofarm blo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Rood   = zuurstofrijk bloed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2"/>
          <p:cNvSpPr/>
          <p:nvPr/>
        </p:nvSpPr>
        <p:spPr>
          <a:xfrm>
            <a:off x="5410080" y="228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Times New Roman"/>
              </a:rPr>
              <a:t>De  bloedsomlo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533520" y="29718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6" name="Picture 7" descr="msotw9_temp0"/>
          <p:cNvPicPr/>
          <p:nvPr/>
        </p:nvPicPr>
        <p:blipFill>
          <a:blip r:embed="rId1"/>
          <a:stretch/>
        </p:blipFill>
        <p:spPr>
          <a:xfrm>
            <a:off x="152280" y="304920"/>
            <a:ext cx="5207040" cy="6362640"/>
          </a:xfrm>
          <a:prstGeom prst="rect">
            <a:avLst/>
          </a:prstGeom>
          <a:ln w="0">
            <a:noFill/>
          </a:ln>
        </p:spPr>
      </p:pic>
      <p:sp>
        <p:nvSpPr>
          <p:cNvPr id="887" name="Line 9"/>
          <p:cNvSpPr/>
          <p:nvPr/>
        </p:nvSpPr>
        <p:spPr>
          <a:xfrm>
            <a:off x="2743200" y="198108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8" name="Line 11"/>
          <p:cNvSpPr/>
          <p:nvPr/>
        </p:nvSpPr>
        <p:spPr>
          <a:xfrm>
            <a:off x="3048120" y="23623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9" name="Line 16"/>
          <p:cNvSpPr/>
          <p:nvPr/>
        </p:nvSpPr>
        <p:spPr>
          <a:xfrm flipV="1">
            <a:off x="3962520" y="1600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0" name="Line 17"/>
          <p:cNvSpPr/>
          <p:nvPr/>
        </p:nvSpPr>
        <p:spPr>
          <a:xfrm>
            <a:off x="3886200" y="2590920"/>
            <a:ext cx="763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1" name="Line 18"/>
          <p:cNvSpPr/>
          <p:nvPr/>
        </p:nvSpPr>
        <p:spPr>
          <a:xfrm flipH="1" flipV="1">
            <a:off x="3428640" y="838080"/>
            <a:ext cx="3049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2" name="Line 19"/>
          <p:cNvSpPr/>
          <p:nvPr/>
        </p:nvSpPr>
        <p:spPr>
          <a:xfrm flipH="1">
            <a:off x="3200040" y="3581280"/>
            <a:ext cx="3049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3" name="Line 20"/>
          <p:cNvSpPr/>
          <p:nvPr/>
        </p:nvSpPr>
        <p:spPr>
          <a:xfrm flipH="1">
            <a:off x="3276720" y="4495680"/>
            <a:ext cx="30456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4" name="Line 21"/>
          <p:cNvSpPr/>
          <p:nvPr/>
        </p:nvSpPr>
        <p:spPr>
          <a:xfrm flipH="1">
            <a:off x="3048120" y="487692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5" name="Line 22"/>
          <p:cNvSpPr/>
          <p:nvPr/>
        </p:nvSpPr>
        <p:spPr>
          <a:xfrm flipH="1">
            <a:off x="3123720" y="563868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6" name="Line 23"/>
          <p:cNvSpPr/>
          <p:nvPr/>
        </p:nvSpPr>
        <p:spPr>
          <a:xfrm flipH="1">
            <a:off x="1982880" y="838080"/>
            <a:ext cx="380880" cy="150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7" name="Line 24"/>
          <p:cNvSpPr/>
          <p:nvPr/>
        </p:nvSpPr>
        <p:spPr>
          <a:xfrm>
            <a:off x="1600200" y="1905120"/>
            <a:ext cx="3808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8" name="Line 25"/>
          <p:cNvSpPr/>
          <p:nvPr/>
        </p:nvSpPr>
        <p:spPr>
          <a:xfrm flipH="1" flipV="1">
            <a:off x="1676520" y="5866920"/>
            <a:ext cx="38088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9" name="Line 26"/>
          <p:cNvSpPr/>
          <p:nvPr/>
        </p:nvSpPr>
        <p:spPr>
          <a:xfrm flipH="1" flipV="1">
            <a:off x="1980720" y="5028840"/>
            <a:ext cx="22860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0" name="Line 27"/>
          <p:cNvSpPr/>
          <p:nvPr/>
        </p:nvSpPr>
        <p:spPr>
          <a:xfrm flipH="1" flipV="1">
            <a:off x="2361960" y="434304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1" name="Line 28"/>
          <p:cNvSpPr/>
          <p:nvPr/>
        </p:nvSpPr>
        <p:spPr>
          <a:xfrm flipH="1" flipV="1">
            <a:off x="2057040" y="3504960"/>
            <a:ext cx="15228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2" name="Line 29"/>
          <p:cNvSpPr/>
          <p:nvPr/>
        </p:nvSpPr>
        <p:spPr>
          <a:xfrm flipV="1">
            <a:off x="1600200" y="3885840"/>
            <a:ext cx="7632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3" name="Line 30"/>
          <p:cNvSpPr/>
          <p:nvPr/>
        </p:nvSpPr>
        <p:spPr>
          <a:xfrm flipV="1">
            <a:off x="1752480" y="2590560"/>
            <a:ext cx="30492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4" name="Line 31"/>
          <p:cNvSpPr/>
          <p:nvPr/>
        </p:nvSpPr>
        <p:spPr>
          <a:xfrm flipV="1">
            <a:off x="2438280" y="198108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2971800" y="2438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ff0000"/>
                </a:solidFill>
                <a:latin typeface="Times New Roman"/>
              </a:rPr>
              <a:t>LB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3048120" y="26668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ff0000"/>
                </a:solidFill>
                <a:latin typeface="Times New Roman"/>
              </a:rPr>
              <a:t>LK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2133720" y="28116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3333cc"/>
                </a:solidFill>
                <a:latin typeface="Times New Roman"/>
              </a:rPr>
              <a:t>RB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2286000" y="2971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3333cc"/>
                </a:solidFill>
                <a:latin typeface="Times New Roman"/>
              </a:rPr>
              <a:t>RK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9" name="Text Box 36"/>
          <p:cNvSpPr/>
          <p:nvPr/>
        </p:nvSpPr>
        <p:spPr>
          <a:xfrm>
            <a:off x="5562720" y="990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. Bovenste holle 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0" name="Text Box 37"/>
          <p:cNvSpPr/>
          <p:nvPr/>
        </p:nvSpPr>
        <p:spPr>
          <a:xfrm>
            <a:off x="5562720" y="1447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2. Herse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1" name="Text Box 38"/>
          <p:cNvSpPr/>
          <p:nvPr/>
        </p:nvSpPr>
        <p:spPr>
          <a:xfrm>
            <a:off x="556272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3. Longslag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2" name="Text Box 39"/>
          <p:cNvSpPr/>
          <p:nvPr/>
        </p:nvSpPr>
        <p:spPr>
          <a:xfrm>
            <a:off x="5562720" y="2286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4. Long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3" name="Text Box 40"/>
          <p:cNvSpPr/>
          <p:nvPr/>
        </p:nvSpPr>
        <p:spPr>
          <a:xfrm>
            <a:off x="5562720" y="2743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5. Onderste holle 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4" name="Text Box 41"/>
          <p:cNvSpPr/>
          <p:nvPr/>
        </p:nvSpPr>
        <p:spPr>
          <a:xfrm>
            <a:off x="5562720" y="3124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6. Lon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5" name="Text Box 42"/>
          <p:cNvSpPr/>
          <p:nvPr/>
        </p:nvSpPr>
        <p:spPr>
          <a:xfrm>
            <a:off x="5562720" y="3505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7. Lev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6" name="Text Box 43"/>
          <p:cNvSpPr/>
          <p:nvPr/>
        </p:nvSpPr>
        <p:spPr>
          <a:xfrm>
            <a:off x="5562720" y="396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8. Aorta of lichaamsslag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7" name="Text Box 44"/>
          <p:cNvSpPr/>
          <p:nvPr/>
        </p:nvSpPr>
        <p:spPr>
          <a:xfrm>
            <a:off x="5562720" y="4419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9. Nier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8" name="Text Box 45"/>
          <p:cNvSpPr/>
          <p:nvPr/>
        </p:nvSpPr>
        <p:spPr>
          <a:xfrm>
            <a:off x="5486400" y="4800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0. Har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9" name="Text Box 46"/>
          <p:cNvSpPr/>
          <p:nvPr/>
        </p:nvSpPr>
        <p:spPr>
          <a:xfrm>
            <a:off x="5486400" y="51814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1. Onderlichaam (dij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0" name="Text Box 47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2. Maag - darmkana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1" name="Line 48"/>
          <p:cNvSpPr/>
          <p:nvPr/>
        </p:nvSpPr>
        <p:spPr>
          <a:xfrm flipV="1">
            <a:off x="2666880" y="4190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2" name="Text Box 49"/>
          <p:cNvSpPr/>
          <p:nvPr/>
        </p:nvSpPr>
        <p:spPr>
          <a:xfrm>
            <a:off x="2895480" y="4038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000000"/>
                </a:solidFill>
                <a:latin typeface="Times New Roman"/>
              </a:rPr>
              <a:t>poortader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2" descr="msotw9_temp0"/>
          <p:cNvPicPr/>
          <p:nvPr/>
        </p:nvPicPr>
        <p:blipFill>
          <a:blip r:embed="rId1"/>
          <a:stretch/>
        </p:blipFill>
        <p:spPr>
          <a:xfrm>
            <a:off x="1905120" y="9144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3"/>
          <p:cNvSpPr/>
          <p:nvPr/>
        </p:nvSpPr>
        <p:spPr>
          <a:xfrm>
            <a:off x="1295280" y="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Inwendige bouw van het har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5" name="Line 5"/>
          <p:cNvSpPr/>
          <p:nvPr/>
        </p:nvSpPr>
        <p:spPr>
          <a:xfrm flipH="1">
            <a:off x="6019560" y="205740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6" name="Line 6"/>
          <p:cNvSpPr/>
          <p:nvPr/>
        </p:nvSpPr>
        <p:spPr>
          <a:xfrm flipH="1">
            <a:off x="6095520" y="228600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6553080" y="1600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on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8" name="Line 8"/>
          <p:cNvSpPr/>
          <p:nvPr/>
        </p:nvSpPr>
        <p:spPr>
          <a:xfrm>
            <a:off x="6019920" y="266688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7238880" y="2743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nkerboeze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of voo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0" name="Line 10"/>
          <p:cNvSpPr/>
          <p:nvPr/>
        </p:nvSpPr>
        <p:spPr>
          <a:xfrm flipV="1">
            <a:off x="5943600" y="4419360"/>
            <a:ext cx="9907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716292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nke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2" name="Line 12"/>
          <p:cNvSpPr/>
          <p:nvPr/>
        </p:nvSpPr>
        <p:spPr>
          <a:xfrm flipH="1">
            <a:off x="1980720" y="3352680"/>
            <a:ext cx="114300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0" y="4648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rechterboeze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4" name="Text Box 15"/>
          <p:cNvSpPr/>
          <p:nvPr/>
        </p:nvSpPr>
        <p:spPr>
          <a:xfrm>
            <a:off x="0" y="54021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rechte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5" name="Line 16"/>
          <p:cNvSpPr/>
          <p:nvPr/>
        </p:nvSpPr>
        <p:spPr>
          <a:xfrm flipH="1">
            <a:off x="1752120" y="4648320"/>
            <a:ext cx="2057400" cy="99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Line 22"/>
          <p:cNvSpPr/>
          <p:nvPr/>
        </p:nvSpPr>
        <p:spPr>
          <a:xfrm>
            <a:off x="5562720" y="358128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7" name="Line 23"/>
          <p:cNvSpPr/>
          <p:nvPr/>
        </p:nvSpPr>
        <p:spPr>
          <a:xfrm flipH="1" flipV="1">
            <a:off x="4571640" y="251424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8" name="Line 24"/>
          <p:cNvSpPr/>
          <p:nvPr/>
        </p:nvSpPr>
        <p:spPr>
          <a:xfrm flipH="1" flipV="1">
            <a:off x="4724280" y="990720"/>
            <a:ext cx="1526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9" name="Line 25"/>
          <p:cNvSpPr/>
          <p:nvPr/>
        </p:nvSpPr>
        <p:spPr>
          <a:xfrm flipV="1">
            <a:off x="5181480" y="91440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0" name="Line 26"/>
          <p:cNvSpPr/>
          <p:nvPr/>
        </p:nvSpPr>
        <p:spPr>
          <a:xfrm>
            <a:off x="5943600" y="58672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1" name="Text Box 27"/>
          <p:cNvSpPr/>
          <p:nvPr/>
        </p:nvSpPr>
        <p:spPr>
          <a:xfrm>
            <a:off x="6095880" y="6400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cha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2" name="Line 28"/>
          <p:cNvSpPr/>
          <p:nvPr/>
        </p:nvSpPr>
        <p:spPr>
          <a:xfrm flipV="1">
            <a:off x="5638680" y="1066680"/>
            <a:ext cx="17528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3" name="Text Box 30"/>
          <p:cNvSpPr/>
          <p:nvPr/>
        </p:nvSpPr>
        <p:spPr>
          <a:xfrm>
            <a:off x="7543800" y="838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4" name="Text Box 31"/>
          <p:cNvSpPr/>
          <p:nvPr/>
        </p:nvSpPr>
        <p:spPr>
          <a:xfrm>
            <a:off x="4648320" y="609480"/>
            <a:ext cx="914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5" name="Text Box 32"/>
          <p:cNvSpPr/>
          <p:nvPr/>
        </p:nvSpPr>
        <p:spPr>
          <a:xfrm>
            <a:off x="4572360" y="5335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herse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6" name="Line 33"/>
          <p:cNvSpPr/>
          <p:nvPr/>
        </p:nvSpPr>
        <p:spPr>
          <a:xfrm flipV="1">
            <a:off x="2133720" y="3960360"/>
            <a:ext cx="153720" cy="30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7" name="Line 34"/>
          <p:cNvSpPr/>
          <p:nvPr/>
        </p:nvSpPr>
        <p:spPr>
          <a:xfrm>
            <a:off x="2209680" y="2057400"/>
            <a:ext cx="15084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8" name="Text Box 35"/>
          <p:cNvSpPr/>
          <p:nvPr/>
        </p:nvSpPr>
        <p:spPr>
          <a:xfrm>
            <a:off x="380880" y="2209680"/>
            <a:ext cx="1219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ondertse en bovenste holle 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9" name="Line 36"/>
          <p:cNvSpPr/>
          <p:nvPr/>
        </p:nvSpPr>
        <p:spPr>
          <a:xfrm>
            <a:off x="3733920" y="403848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0" name="Line 37"/>
          <p:cNvSpPr/>
          <p:nvPr/>
        </p:nvSpPr>
        <p:spPr>
          <a:xfrm flipH="1" flipV="1">
            <a:off x="4114440" y="2742840"/>
            <a:ext cx="1522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1" name="Line 38"/>
          <p:cNvSpPr/>
          <p:nvPr/>
        </p:nvSpPr>
        <p:spPr>
          <a:xfrm flipV="1">
            <a:off x="3733920" y="1295280"/>
            <a:ext cx="1522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2" name="Line 39"/>
          <p:cNvSpPr/>
          <p:nvPr/>
        </p:nvSpPr>
        <p:spPr>
          <a:xfrm flipH="1" flipV="1">
            <a:off x="2971440" y="1752120"/>
            <a:ext cx="30492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3" name="Text Box 40"/>
          <p:cNvSpPr/>
          <p:nvPr/>
        </p:nvSpPr>
        <p:spPr>
          <a:xfrm>
            <a:off x="2590920" y="914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long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4" name="Line 41"/>
          <p:cNvSpPr/>
          <p:nvPr/>
        </p:nvSpPr>
        <p:spPr>
          <a:xfrm flipH="1" flipV="1">
            <a:off x="1371600" y="1371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5" name="Text Box 42"/>
          <p:cNvSpPr/>
          <p:nvPr/>
        </p:nvSpPr>
        <p:spPr>
          <a:xfrm>
            <a:off x="0" y="990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longslagader(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5-22T19:15:57Z</dcterms:modified>
  <cp:revision>4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