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4A67-A4D8-41E7-9E4D-4001B5D3FF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29B-B45F-4433-9D29-0F87A8A94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143-93FC-4A5B-B63C-B81CB8CF6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B6E-BE82-460F-8A03-630D9AAC78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38B1-7637-4062-B2D0-54BABCF1F7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A3C3-2ADF-4D17-8B7C-741060F961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43D6-EFAB-4415-B1FA-8C64589DE0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CB8F-3D8E-4256-855B-36DECBE4A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B5C-7CFD-483E-B155-2027B0114F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C7F-3ECB-4097-A56B-88A3FF35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EC8-346C-4384-AD07-D7AFB31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836-6F2D-4C1C-B4C1-383B09CE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5E5-03E8-46F5-8417-4FE68B83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C43-DE72-4238-8B78-073BBCEE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515-980C-4DC2-AFE2-ACD3430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F60-A483-4B8C-823B-CD6F8D51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68A-4FEB-45DB-8BFF-2FD13C63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F8E-8477-454E-9547-0EB2667F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49E-E86B-4E11-A801-9EA1DB1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E88-0887-43DF-B2B5-E03B1AC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8D6-A28F-496C-B654-1E71ED8A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567E-4136-4DDC-959A-31A376331C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esters groenblijv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iburn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iburnum rhytidophy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sci.muni.cz/bot_zahr/fotografie/venkovni%20rostliny/Viburnum%20rhytidophyllum.jpg"/>
          <p:cNvPicPr/>
          <p:nvPr/>
        </p:nvPicPr>
        <p:blipFill>
          <a:blip r:embed="rId1"/>
          <a:stretch/>
        </p:blipFill>
        <p:spPr>
          <a:xfrm>
            <a:off x="0" y="2571840"/>
            <a:ext cx="2738520" cy="4108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lora.nhm-wien.ac.at/Bilder-P-Z/Viburnum-rhytidophyllum-2.jpg"/>
          <p:cNvPicPr/>
          <p:nvPr/>
        </p:nvPicPr>
        <p:blipFill>
          <a:blip r:embed="rId2"/>
          <a:stretch/>
        </p:blipFill>
        <p:spPr>
          <a:xfrm>
            <a:off x="2714760" y="2571840"/>
            <a:ext cx="36954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havlis.cz/img/61_1.jpeg"/>
          <p:cNvPicPr/>
          <p:nvPr/>
        </p:nvPicPr>
        <p:blipFill>
          <a:blip r:embed="rId3"/>
          <a:stretch/>
        </p:blipFill>
        <p:spPr>
          <a:xfrm>
            <a:off x="6357960" y="2571840"/>
            <a:ext cx="2786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ekelige olijfwil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laeagnus pu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upload.wikimedia.org/wikipedia/commons/d/da/Elaeagnus_pungens2.jpg"/>
          <p:cNvPicPr/>
          <p:nvPr/>
        </p:nvPicPr>
        <p:blipFill>
          <a:blip r:embed="rId1"/>
          <a:stretch/>
        </p:blipFill>
        <p:spPr>
          <a:xfrm>
            <a:off x="3500280" y="3143160"/>
            <a:ext cx="3714840" cy="338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http://www.cnr.vt.edu/dendro/dendrology/syllabus2/picts/elaeagnus_pungens_twig4.jpg"/>
          <p:cNvPicPr/>
          <p:nvPr/>
        </p:nvPicPr>
        <p:blipFill>
          <a:blip r:embed="rId2"/>
          <a:stretch/>
        </p:blipFill>
        <p:spPr>
          <a:xfrm>
            <a:off x="214200" y="3143160"/>
            <a:ext cx="1247760" cy="359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www.cnr.vt.edu/dendro/dendrology/syllabus2/picts/elaeagnus_pungens_fruit.jpg"/>
          <p:cNvPicPr/>
          <p:nvPr/>
        </p:nvPicPr>
        <p:blipFill>
          <a:blip r:embed="rId3"/>
          <a:stretch/>
        </p:blipFill>
        <p:spPr>
          <a:xfrm>
            <a:off x="7286760" y="2857680"/>
            <a:ext cx="1542960" cy="178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http://www.cnr.vt.edu/dendro/dendrology/syllabus2/picts/elaeagnus_pungens_leaf2.jpg"/>
          <p:cNvPicPr/>
          <p:nvPr/>
        </p:nvPicPr>
        <p:blipFill>
          <a:blip r:embed="rId4"/>
          <a:stretch/>
        </p:blipFill>
        <p:spPr>
          <a:xfrm>
            <a:off x="1643040" y="3143160"/>
            <a:ext cx="1643040" cy="360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ttp://www.cnr.vt.edu/dendro/dendrology/syllabus2/picts/elaeagnus_pungens_form.jpg"/>
          <p:cNvPicPr/>
          <p:nvPr/>
        </p:nvPicPr>
        <p:blipFill>
          <a:blip r:embed="rId5"/>
          <a:stretch/>
        </p:blipFill>
        <p:spPr>
          <a:xfrm>
            <a:off x="7286760" y="4714920"/>
            <a:ext cx="1542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kim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kimmia japo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jardineria.pro/wp-content/uploads/2008/01/skimmia.jpg"/>
          <p:cNvPicPr/>
          <p:nvPr/>
        </p:nvPicPr>
        <p:blipFill>
          <a:blip r:embed="rId1"/>
          <a:stretch/>
        </p:blipFill>
        <p:spPr>
          <a:xfrm>
            <a:off x="14292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ttp://www.tuin-aanleggen.be/skimmia.jpg"/>
          <p:cNvPicPr/>
          <p:nvPr/>
        </p:nvPicPr>
        <p:blipFill>
          <a:blip r:embed="rId2"/>
          <a:stretch/>
        </p:blipFill>
        <p:spPr>
          <a:xfrm>
            <a:off x="3643200" y="3643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ttp://www.tuinlinderveld.nl/photogallery/3%20november%2005%20skimmia.JPG"/>
          <p:cNvPicPr/>
          <p:nvPr/>
        </p:nvPicPr>
        <p:blipFill>
          <a:blip r:embed="rId3"/>
          <a:stretch/>
        </p:blipFill>
        <p:spPr>
          <a:xfrm>
            <a:off x="6705720" y="3255840"/>
            <a:ext cx="224316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ergth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http://www.srgc.org.uk/wisley/2007/241007/Gaultheria%20procumbens.jpg"/>
          <p:cNvPicPr/>
          <p:nvPr/>
        </p:nvPicPr>
        <p:blipFill>
          <a:blip r:embed="rId1"/>
          <a:stretch/>
        </p:blipFill>
        <p:spPr>
          <a:xfrm>
            <a:off x="2928960" y="364320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www.nps.gov/plants/pubs/chesapeake/img/Shrubs/Gaultheria-procumbens-1-RHW.jpg"/>
          <p:cNvPicPr/>
          <p:nvPr/>
        </p:nvPicPr>
        <p:blipFill>
          <a:blip r:embed="rId2"/>
          <a:stretch/>
        </p:blipFill>
        <p:spPr>
          <a:xfrm>
            <a:off x="142920" y="3643200"/>
            <a:ext cx="26287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Gaultheria procumbens"/>
          <p:cNvPicPr/>
          <p:nvPr/>
        </p:nvPicPr>
        <p:blipFill>
          <a:blip r:embed="rId3"/>
          <a:stretch/>
        </p:blipFill>
        <p:spPr>
          <a:xfrm>
            <a:off x="6357960" y="4000680"/>
            <a:ext cx="25002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http://images.google.com/url?q=http://upload.wikimedia.org/wikipedia/commons/3/3d/Erica_carnea_IMG_0919.JPG&amp;usg=AFQjCNGt1LHcdzFuwTxRehaSwri8Y5wO6w"/>
          <p:cNvPicPr/>
          <p:nvPr/>
        </p:nvPicPr>
        <p:blipFill>
          <a:blip r:embed="rId1"/>
          <a:stretch/>
        </p:blipFill>
        <p:spPr>
          <a:xfrm>
            <a:off x="5286240" y="4143240"/>
            <a:ext cx="3357720" cy="251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Winter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ica car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Erica carnea in Sorten - die Schneeheide, Winterheide"/>
          <p:cNvPicPr/>
          <p:nvPr/>
        </p:nvPicPr>
        <p:blipFill>
          <a:blip r:embed="rId2"/>
          <a:stretch/>
        </p:blipFill>
        <p:spPr>
          <a:xfrm>
            <a:off x="285840" y="25718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Erica carnea in Sorten - die Schneeheide, Winterheide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203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http://www.weekendgardener.net/perennial-flowers/pix/ericalg.jpg"/>
          <p:cNvPicPr/>
          <p:nvPr/>
        </p:nvPicPr>
        <p:blipFill>
          <a:blip r:embed="rId4"/>
          <a:stretch/>
        </p:blipFill>
        <p:spPr>
          <a:xfrm>
            <a:off x="6072120" y="2357280"/>
            <a:ext cx="271620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http://home.quicknet.nl/qn/prive/tj.de.graaf/_private/lente/hei-(erica).jpg"/>
          <p:cNvPicPr/>
          <p:nvPr/>
        </p:nvPicPr>
        <p:blipFill>
          <a:blip r:embed="rId5"/>
          <a:stretch/>
        </p:blipFill>
        <p:spPr>
          <a:xfrm>
            <a:off x="2286000" y="2928960"/>
            <a:ext cx="42148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http://www.heathersociety.org.uk/hhg/cvs/jpegs/C_vul_Dark_Star.jpg"/>
          <p:cNvPicPr/>
          <p:nvPr/>
        </p:nvPicPr>
        <p:blipFill>
          <a:blip r:embed="rId1"/>
          <a:stretch/>
        </p:blipFill>
        <p:spPr>
          <a:xfrm>
            <a:off x="0" y="3214800"/>
            <a:ext cx="425772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clarebiodiversity.ie/CountyClare/photos/Heatherjm.jpg"/>
          <p:cNvPicPr/>
          <p:nvPr/>
        </p:nvPicPr>
        <p:blipFill>
          <a:blip r:embed="rId2"/>
          <a:stretch/>
        </p:blipFill>
        <p:spPr>
          <a:xfrm>
            <a:off x="5624640" y="3214800"/>
            <a:ext cx="3519360" cy="2857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199980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Struikhe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alluna vulg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kuleuven-kortrijk.be/facult/wet/biologie/pb/kulakbiocampus/buiten-kulak/lage_planten/Calluna%20vulgaris%20-%20struikhei/calluna%20vulgaris-struikhei-05.jpg"/>
          <p:cNvPicPr/>
          <p:nvPr/>
        </p:nvPicPr>
        <p:blipFill>
          <a:blip r:embed="rId3"/>
          <a:stretch/>
        </p:blipFill>
        <p:spPr>
          <a:xfrm>
            <a:off x="2357280" y="3000240"/>
            <a:ext cx="4094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Rhododendr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el 1"/>
          <p:cNvSpPr/>
          <p:nvPr/>
        </p:nvSpPr>
        <p:spPr>
          <a:xfrm>
            <a:off x="795240" y="6523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hododendron cultiv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http://farm3.static.flickr.com/2287/2526206801_b3215b2bd0.jpg"/>
          <p:cNvPicPr/>
          <p:nvPr/>
        </p:nvPicPr>
        <p:blipFill>
          <a:blip r:embed="rId1"/>
          <a:stretch/>
        </p:blipFill>
        <p:spPr>
          <a:xfrm>
            <a:off x="214200" y="17859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marteau.be/images/Rhododendron1.jpg"/>
          <p:cNvPicPr/>
          <p:nvPr/>
        </p:nvPicPr>
        <p:blipFill>
          <a:blip r:embed="rId2"/>
          <a:stretch/>
        </p:blipFill>
        <p:spPr>
          <a:xfrm>
            <a:off x="642960" y="4000680"/>
            <a:ext cx="1857240" cy="259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ursel.nl/albums/vakantie/gladbeck08/gladbeck00146.jpg"/>
          <p:cNvPicPr/>
          <p:nvPr/>
        </p:nvPicPr>
        <p:blipFill>
          <a:blip r:embed="rId3"/>
          <a:stretch/>
        </p:blipFill>
        <p:spPr>
          <a:xfrm>
            <a:off x="5572080" y="4143240"/>
            <a:ext cx="3286080" cy="246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www.tuinclub.be/tuinartikels/rhodod4.jpg"/>
          <p:cNvPicPr/>
          <p:nvPr/>
        </p:nvPicPr>
        <p:blipFill>
          <a:blip r:embed="rId4"/>
          <a:stretch/>
        </p:blipFill>
        <p:spPr>
          <a:xfrm>
            <a:off x="2643120" y="4143240"/>
            <a:ext cx="2857680" cy="21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http://www.marechal.be/foto/rhodo2.jpg"/>
          <p:cNvPicPr/>
          <p:nvPr/>
        </p:nvPicPr>
        <p:blipFill>
          <a:blip r:embed="rId5"/>
          <a:stretch/>
        </p:blipFill>
        <p:spPr>
          <a:xfrm>
            <a:off x="6572160" y="2143080"/>
            <a:ext cx="214308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8:14:24Z</dcterms:created>
  <dc:creator>Henk</dc:creator>
  <dc:description/>
  <dc:language>en-US</dc:language>
  <cp:lastModifiedBy>Henk</cp:lastModifiedBy>
  <dcterms:modified xsi:type="dcterms:W3CDTF">2008-10-22T16:42:42Z</dcterms:modified>
  <cp:revision>22</cp:revision>
  <dc:subject/>
  <dc:title>Duindoorn</dc:title>
</cp:coreProperties>
</file>