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4D87-E4B6-4011-B764-4A0BD8B7AE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E0AA-AE25-463D-9A61-1D3368EFE1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0E96-E12B-48A1-B738-6CD053C2FF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E7F6-8D7C-49DA-8829-F62E9E32E7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44FC-2F9B-41B0-B88B-193814D176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45B8-859A-4A90-80DA-1DE4A6A0AA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8B63-2844-4573-83AE-219DEF3DED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6577-AB7F-4AED-9FF7-45E6C6F303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F5B8-BC59-4929-88B9-756EB9BDA4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F0B-A7F9-4FD5-8F45-AF5B2CA0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B84-AB75-4580-81F2-C753B84F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550-6A47-48FA-8F4D-04629663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751-7311-4120-98E0-C8877B41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470-4769-4175-8E8F-20C214DA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B4B-E465-40CE-AE14-99A7A007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7B6-E119-4AB5-A570-46310346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F27-3593-4357-BBF6-A4202BAE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61D-EA57-4519-80CC-217BBB68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27A-C65F-42BD-9923-82D59C4C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248-472B-4443-A7B8-85A7332F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9A3-30D4-44D6-8E33-9DD099A3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6FDF-179B-432D-A65D-12C814E33BC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esters groenblijv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iburn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iburnum rhytidophy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sci.muni.cz/bot_zahr/fotografie/venkovni%20rostliny/Viburnum%20rhytidophyllum.jpg"/>
          <p:cNvPicPr/>
          <p:nvPr/>
        </p:nvPicPr>
        <p:blipFill>
          <a:blip r:embed="rId1"/>
          <a:stretch/>
        </p:blipFill>
        <p:spPr>
          <a:xfrm>
            <a:off x="0" y="2571840"/>
            <a:ext cx="2738520" cy="410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lora.nhm-wien.ac.at/Bilder-P-Z/Viburnum-rhytidophyllum-2.jpg"/>
          <p:cNvPicPr/>
          <p:nvPr/>
        </p:nvPicPr>
        <p:blipFill>
          <a:blip r:embed="rId2"/>
          <a:stretch/>
        </p:blipFill>
        <p:spPr>
          <a:xfrm>
            <a:off x="2714760" y="2571840"/>
            <a:ext cx="36954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havlis.cz/img/61_1.jpeg"/>
          <p:cNvPicPr/>
          <p:nvPr/>
        </p:nvPicPr>
        <p:blipFill>
          <a:blip r:embed="rId3"/>
          <a:stretch/>
        </p:blipFill>
        <p:spPr>
          <a:xfrm>
            <a:off x="6357960" y="2571840"/>
            <a:ext cx="278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ekelige olijfwil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laeagnus pu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upload.wikimedia.org/wikipedia/commons/d/da/Elaeagnus_pungens2.jpg"/>
          <p:cNvPicPr/>
          <p:nvPr/>
        </p:nvPicPr>
        <p:blipFill>
          <a:blip r:embed="rId1"/>
          <a:stretch/>
        </p:blipFill>
        <p:spPr>
          <a:xfrm>
            <a:off x="3500280" y="3143160"/>
            <a:ext cx="3714840" cy="338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cnr.vt.edu/dendro/dendrology/syllabus2/picts/elaeagnus_pungens_twig4.jpg"/>
          <p:cNvPicPr/>
          <p:nvPr/>
        </p:nvPicPr>
        <p:blipFill>
          <a:blip r:embed="rId2"/>
          <a:stretch/>
        </p:blipFill>
        <p:spPr>
          <a:xfrm>
            <a:off x="214200" y="3143160"/>
            <a:ext cx="1247760" cy="359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cnr.vt.edu/dendro/dendrology/syllabus2/picts/elaeagnus_pungens_fruit.jpg"/>
          <p:cNvPicPr/>
          <p:nvPr/>
        </p:nvPicPr>
        <p:blipFill>
          <a:blip r:embed="rId3"/>
          <a:stretch/>
        </p:blipFill>
        <p:spPr>
          <a:xfrm>
            <a:off x="7286760" y="2857680"/>
            <a:ext cx="1542960" cy="17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http://www.cnr.vt.edu/dendro/dendrology/syllabus2/picts/elaeagnus_pungens_leaf2.jpg"/>
          <p:cNvPicPr/>
          <p:nvPr/>
        </p:nvPicPr>
        <p:blipFill>
          <a:blip r:embed="rId4"/>
          <a:stretch/>
        </p:blipFill>
        <p:spPr>
          <a:xfrm>
            <a:off x="1643040" y="3143160"/>
            <a:ext cx="1643040" cy="360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ttp://www.cnr.vt.edu/dendro/dendrology/syllabus2/picts/elaeagnus_pungens_form.jpg"/>
          <p:cNvPicPr/>
          <p:nvPr/>
        </p:nvPicPr>
        <p:blipFill>
          <a:blip r:embed="rId5"/>
          <a:stretch/>
        </p:blipFill>
        <p:spPr>
          <a:xfrm>
            <a:off x="7286760" y="4714920"/>
            <a:ext cx="1542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kim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kimmia japo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jardineria.pro/wp-content/uploads/2008/01/skimmia.jpg"/>
          <p:cNvPicPr/>
          <p:nvPr/>
        </p:nvPicPr>
        <p:blipFill>
          <a:blip r:embed="rId1"/>
          <a:stretch/>
        </p:blipFill>
        <p:spPr>
          <a:xfrm>
            <a:off x="14292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www.tuin-aanleggen.be/skimmia.jpg"/>
          <p:cNvPicPr/>
          <p:nvPr/>
        </p:nvPicPr>
        <p:blipFill>
          <a:blip r:embed="rId2"/>
          <a:stretch/>
        </p:blipFill>
        <p:spPr>
          <a:xfrm>
            <a:off x="3643200" y="3643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ttp://www.tuinlinderveld.nl/photogallery/3%20november%2005%20skimmia.JPG"/>
          <p:cNvPicPr/>
          <p:nvPr/>
        </p:nvPicPr>
        <p:blipFill>
          <a:blip r:embed="rId3"/>
          <a:stretch/>
        </p:blipFill>
        <p:spPr>
          <a:xfrm>
            <a:off x="6705720" y="3255840"/>
            <a:ext cx="22431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ergth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srgc.org.uk/wisley/2007/241007/Gaultheria%20procumbens.jpg"/>
          <p:cNvPicPr/>
          <p:nvPr/>
        </p:nvPicPr>
        <p:blipFill>
          <a:blip r:embed="rId1"/>
          <a:stretch/>
        </p:blipFill>
        <p:spPr>
          <a:xfrm>
            <a:off x="2928960" y="364320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ww.nps.gov/plants/pubs/chesapeake/img/Shrubs/Gaultheria-procumbens-1-RHW.jpg"/>
          <p:cNvPicPr/>
          <p:nvPr/>
        </p:nvPicPr>
        <p:blipFill>
          <a:blip r:embed="rId2"/>
          <a:stretch/>
        </p:blipFill>
        <p:spPr>
          <a:xfrm>
            <a:off x="142920" y="3643200"/>
            <a:ext cx="26287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Gaultheria procumbens"/>
          <p:cNvPicPr/>
          <p:nvPr/>
        </p:nvPicPr>
        <p:blipFill>
          <a:blip r:embed="rId3"/>
          <a:stretch/>
        </p:blipFill>
        <p:spPr>
          <a:xfrm>
            <a:off x="6357960" y="4000680"/>
            <a:ext cx="2500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http://images.google.com/url?q=http://upload.wikimedia.org/wikipedia/commons/3/3d/Erica_carnea_IMG_0919.JPG&amp;usg=AFQjCNGt1LHcdzFuwTxRehaSwri8Y5wO6w"/>
          <p:cNvPicPr/>
          <p:nvPr/>
        </p:nvPicPr>
        <p:blipFill>
          <a:blip r:embed="rId1"/>
          <a:stretch/>
        </p:blipFill>
        <p:spPr>
          <a:xfrm>
            <a:off x="5286240" y="4143240"/>
            <a:ext cx="3357720" cy="251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inter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ica car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rica carnea in Sorten - die Schneeheide, Winterheide"/>
          <p:cNvPicPr/>
          <p:nvPr/>
        </p:nvPicPr>
        <p:blipFill>
          <a:blip r:embed="rId2"/>
          <a:stretch/>
        </p:blipFill>
        <p:spPr>
          <a:xfrm>
            <a:off x="285840" y="2571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Erica carnea in Sorten - die Schneeheide, Winterheide"/>
          <p:cNvPicPr/>
          <p:nvPr/>
        </p:nvPicPr>
        <p:blipFill>
          <a:blip r:embed="rId3"/>
          <a:stretch/>
        </p:blipFill>
        <p:spPr>
          <a:xfrm>
            <a:off x="285840" y="464328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ttp://www.weekendgardener.net/perennial-flowers/pix/ericalg.jpg"/>
          <p:cNvPicPr/>
          <p:nvPr/>
        </p:nvPicPr>
        <p:blipFill>
          <a:blip r:embed="rId4"/>
          <a:stretch/>
        </p:blipFill>
        <p:spPr>
          <a:xfrm>
            <a:off x="6072120" y="2357280"/>
            <a:ext cx="271620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home.quicknet.nl/qn/prive/tj.de.graaf/_private/lente/hei-(erica).jpg"/>
          <p:cNvPicPr/>
          <p:nvPr/>
        </p:nvPicPr>
        <p:blipFill>
          <a:blip r:embed="rId5"/>
          <a:stretch/>
        </p:blipFill>
        <p:spPr>
          <a:xfrm>
            <a:off x="2286000" y="2928960"/>
            <a:ext cx="42148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http://www.heathersociety.org.uk/hhg/cvs/jpegs/C_vul_Dark_Star.jpg"/>
          <p:cNvPicPr/>
          <p:nvPr/>
        </p:nvPicPr>
        <p:blipFill>
          <a:blip r:embed="rId1"/>
          <a:stretch/>
        </p:blipFill>
        <p:spPr>
          <a:xfrm>
            <a:off x="0" y="3214800"/>
            <a:ext cx="42577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clarebiodiversity.ie/CountyClare/photos/Heatherjm.jpg"/>
          <p:cNvPicPr/>
          <p:nvPr/>
        </p:nvPicPr>
        <p:blipFill>
          <a:blip r:embed="rId2"/>
          <a:stretch/>
        </p:blipFill>
        <p:spPr>
          <a:xfrm>
            <a:off x="5624640" y="3214800"/>
            <a:ext cx="3519360" cy="2857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ruik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alluna vulg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www.kuleuven-kortrijk.be/facult/wet/biologie/pb/kulakbiocampus/buiten-kulak/lage_planten/Calluna%20vulgaris%20-%20struikhei/calluna%20vulgaris-struikhei-05.jpg"/>
          <p:cNvPicPr/>
          <p:nvPr/>
        </p:nvPicPr>
        <p:blipFill>
          <a:blip r:embed="rId3"/>
          <a:stretch/>
        </p:blipFill>
        <p:spPr>
          <a:xfrm>
            <a:off x="2357280" y="300024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hododendr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hododendron cultiv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farm3.static.flickr.com/2287/2526206801_b3215b2bd0.jpg"/>
          <p:cNvPicPr/>
          <p:nvPr/>
        </p:nvPicPr>
        <p:blipFill>
          <a:blip r:embed="rId1"/>
          <a:stretch/>
        </p:blipFill>
        <p:spPr>
          <a:xfrm>
            <a:off x="214200" y="17859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marteau.be/images/Rhododendron1.jpg"/>
          <p:cNvPicPr/>
          <p:nvPr/>
        </p:nvPicPr>
        <p:blipFill>
          <a:blip r:embed="rId2"/>
          <a:stretch/>
        </p:blipFill>
        <p:spPr>
          <a:xfrm>
            <a:off x="642960" y="4000680"/>
            <a:ext cx="1857240" cy="259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ursel.nl/albums/vakantie/gladbeck08/gladbeck00146.jpg"/>
          <p:cNvPicPr/>
          <p:nvPr/>
        </p:nvPicPr>
        <p:blipFill>
          <a:blip r:embed="rId3"/>
          <a:stretch/>
        </p:blipFill>
        <p:spPr>
          <a:xfrm>
            <a:off x="5572080" y="414324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www.tuinclub.be/tuinartikels/rhodod4.jpg"/>
          <p:cNvPicPr/>
          <p:nvPr/>
        </p:nvPicPr>
        <p:blipFill>
          <a:blip r:embed="rId4"/>
          <a:stretch/>
        </p:blipFill>
        <p:spPr>
          <a:xfrm>
            <a:off x="2643120" y="4143240"/>
            <a:ext cx="2857680" cy="21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www.marechal.be/foto/rhodo2.jpg"/>
          <p:cNvPicPr/>
          <p:nvPr/>
        </p:nvPicPr>
        <p:blipFill>
          <a:blip r:embed="rId5"/>
          <a:stretch/>
        </p:blipFill>
        <p:spPr>
          <a:xfrm>
            <a:off x="6572160" y="2143080"/>
            <a:ext cx="2143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8:14:24Z</dcterms:created>
  <dc:creator>Henk</dc:creator>
  <dc:description/>
  <dc:language>en-US</dc:language>
  <cp:lastModifiedBy>Henk</cp:lastModifiedBy>
  <dcterms:modified xsi:type="dcterms:W3CDTF">2008-10-22T16:42:42Z</dcterms:modified>
  <cp:revision>22</cp:revision>
  <dc:subject/>
  <dc:title>Duindoorn</dc:title>
</cp:coreProperties>
</file>