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924B-1673-472A-A0C4-B703203B2B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6FB8-C6C8-49B9-859A-98746AFAF7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8E61-8AE9-4D57-84F3-52C73DB897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BD81-90C3-4AE4-9EAF-5CF490B83C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C408-6D9E-452B-B2FC-FC43939F02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DC3D-5427-4D71-BBD4-E02A2EBB1A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6878-6D1A-4DEC-A18A-DFBEE002D2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1D3F-01B6-4510-A371-9EA7ABE688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59EF-DFB8-44BE-B0AF-53805B730E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7125-ADE2-473B-9425-93B335094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73C3-1FDD-46F7-A65B-5D11293E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5B13-1631-41BC-B048-A84EAEC25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D0B2-9BF2-4179-AC55-996EFBCC7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F172-2268-4112-83ED-97F22A2C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0BF6-6465-44D7-B67D-13989FEA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CEE1-F94B-46DE-9ECF-675FB3C1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CB80-952E-4BE4-9719-D9036EB2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2D7F-939B-44B7-87CC-DEFF739D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0487-BA02-45D9-8D86-C6EF7A92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EA49-55E0-466F-BD86-78748C24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A0B5-E3DC-4E01-B241-853D6099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D437-E49A-4943-9A9F-CAA750DF2743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esters groenblijve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Viburnu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iburnum rhytidophyl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http://www.sci.muni.cz/bot_zahr/fotografie/venkovni%20rostliny/Viburnum%20rhytidophyllum.jpg"/>
          <p:cNvPicPr/>
          <p:nvPr/>
        </p:nvPicPr>
        <p:blipFill>
          <a:blip r:embed="rId1"/>
          <a:stretch/>
        </p:blipFill>
        <p:spPr>
          <a:xfrm>
            <a:off x="0" y="2571840"/>
            <a:ext cx="2738520" cy="4108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http://flora.nhm-wien.ac.at/Bilder-P-Z/Viburnum-rhytidophyllum-2.jpg"/>
          <p:cNvPicPr/>
          <p:nvPr/>
        </p:nvPicPr>
        <p:blipFill>
          <a:blip r:embed="rId2"/>
          <a:stretch/>
        </p:blipFill>
        <p:spPr>
          <a:xfrm>
            <a:off x="2714760" y="2571840"/>
            <a:ext cx="3695400" cy="4071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http://www.havlis.cz/img/61_1.jpeg"/>
          <p:cNvPicPr/>
          <p:nvPr/>
        </p:nvPicPr>
        <p:blipFill>
          <a:blip r:embed="rId3"/>
          <a:stretch/>
        </p:blipFill>
        <p:spPr>
          <a:xfrm>
            <a:off x="6357960" y="2571840"/>
            <a:ext cx="27860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Stekelige olijfwil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laeagnus pun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http://upload.wikimedia.org/wikipedia/commons/d/da/Elaeagnus_pungens2.jpg"/>
          <p:cNvPicPr/>
          <p:nvPr/>
        </p:nvPicPr>
        <p:blipFill>
          <a:blip r:embed="rId1"/>
          <a:stretch/>
        </p:blipFill>
        <p:spPr>
          <a:xfrm>
            <a:off x="3500280" y="3143160"/>
            <a:ext cx="3714840" cy="3380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http://www.cnr.vt.edu/dendro/dendrology/syllabus2/picts/elaeagnus_pungens_twig4.jpg"/>
          <p:cNvPicPr/>
          <p:nvPr/>
        </p:nvPicPr>
        <p:blipFill>
          <a:blip r:embed="rId2"/>
          <a:stretch/>
        </p:blipFill>
        <p:spPr>
          <a:xfrm>
            <a:off x="214200" y="3143160"/>
            <a:ext cx="1247760" cy="3591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http://www.cnr.vt.edu/dendro/dendrology/syllabus2/picts/elaeagnus_pungens_fruit.jpg"/>
          <p:cNvPicPr/>
          <p:nvPr/>
        </p:nvPicPr>
        <p:blipFill>
          <a:blip r:embed="rId3"/>
          <a:stretch/>
        </p:blipFill>
        <p:spPr>
          <a:xfrm>
            <a:off x="7286760" y="2857680"/>
            <a:ext cx="1542960" cy="1780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http://www.cnr.vt.edu/dendro/dendrology/syllabus2/picts/elaeagnus_pungens_leaf2.jpg"/>
          <p:cNvPicPr/>
          <p:nvPr/>
        </p:nvPicPr>
        <p:blipFill>
          <a:blip r:embed="rId4"/>
          <a:stretch/>
        </p:blipFill>
        <p:spPr>
          <a:xfrm>
            <a:off x="1643040" y="3143160"/>
            <a:ext cx="1643040" cy="3602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http://www.cnr.vt.edu/dendro/dendrology/syllabus2/picts/elaeagnus_pungens_form.jpg"/>
          <p:cNvPicPr/>
          <p:nvPr/>
        </p:nvPicPr>
        <p:blipFill>
          <a:blip r:embed="rId5"/>
          <a:stretch/>
        </p:blipFill>
        <p:spPr>
          <a:xfrm>
            <a:off x="7286760" y="4714920"/>
            <a:ext cx="154296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Skimm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kimmia japo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http://www.jardineria.pro/wp-content/uploads/2008/01/skimmia.jpg"/>
          <p:cNvPicPr/>
          <p:nvPr/>
        </p:nvPicPr>
        <p:blipFill>
          <a:blip r:embed="rId1"/>
          <a:stretch/>
        </p:blipFill>
        <p:spPr>
          <a:xfrm>
            <a:off x="142920" y="36432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http://www.tuin-aanleggen.be/skimmia.jpg"/>
          <p:cNvPicPr/>
          <p:nvPr/>
        </p:nvPicPr>
        <p:blipFill>
          <a:blip r:embed="rId2"/>
          <a:stretch/>
        </p:blipFill>
        <p:spPr>
          <a:xfrm>
            <a:off x="3643200" y="36432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ttp://www.tuinlinderveld.nl/photogallery/3%20november%2005%20skimmia.JPG"/>
          <p:cNvPicPr/>
          <p:nvPr/>
        </p:nvPicPr>
        <p:blipFill>
          <a:blip r:embed="rId3"/>
          <a:stretch/>
        </p:blipFill>
        <p:spPr>
          <a:xfrm>
            <a:off x="6705720" y="3255840"/>
            <a:ext cx="224316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Bergthe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aultheria procumb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http://www.srgc.org.uk/wisley/2007/241007/Gaultheria%20procumbens.jpg"/>
          <p:cNvPicPr/>
          <p:nvPr/>
        </p:nvPicPr>
        <p:blipFill>
          <a:blip r:embed="rId1"/>
          <a:stretch/>
        </p:blipFill>
        <p:spPr>
          <a:xfrm>
            <a:off x="2928960" y="3643200"/>
            <a:ext cx="3786120" cy="2841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www.nps.gov/plants/pubs/chesapeake/img/Shrubs/Gaultheria-procumbens-1-RHW.jpg"/>
          <p:cNvPicPr/>
          <p:nvPr/>
        </p:nvPicPr>
        <p:blipFill>
          <a:blip r:embed="rId2"/>
          <a:stretch/>
        </p:blipFill>
        <p:spPr>
          <a:xfrm>
            <a:off x="142920" y="3643200"/>
            <a:ext cx="2628720" cy="2857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Gaultheria procumbens"/>
          <p:cNvPicPr/>
          <p:nvPr/>
        </p:nvPicPr>
        <p:blipFill>
          <a:blip r:embed="rId3"/>
          <a:stretch/>
        </p:blipFill>
        <p:spPr>
          <a:xfrm>
            <a:off x="6357960" y="4000680"/>
            <a:ext cx="250020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3" descr="http://images.google.com/url?q=http://upload.wikimedia.org/wikipedia/commons/3/3d/Erica_carnea_IMG_0919.JPG&amp;usg=AFQjCNGt1LHcdzFuwTxRehaSwri8Y5wO6w"/>
          <p:cNvPicPr/>
          <p:nvPr/>
        </p:nvPicPr>
        <p:blipFill>
          <a:blip r:embed="rId1"/>
          <a:stretch/>
        </p:blipFill>
        <p:spPr>
          <a:xfrm>
            <a:off x="5286240" y="4143240"/>
            <a:ext cx="3357720" cy="2519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Winterhe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rica carn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Erica carnea in Sorten - die Schneeheide, Winterheide"/>
          <p:cNvPicPr/>
          <p:nvPr/>
        </p:nvPicPr>
        <p:blipFill>
          <a:blip r:embed="rId2"/>
          <a:stretch/>
        </p:blipFill>
        <p:spPr>
          <a:xfrm>
            <a:off x="285840" y="257184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Erica carnea in Sorten - die Schneeheide, Winterheide"/>
          <p:cNvPicPr/>
          <p:nvPr/>
        </p:nvPicPr>
        <p:blipFill>
          <a:blip r:embed="rId3"/>
          <a:stretch/>
        </p:blipFill>
        <p:spPr>
          <a:xfrm>
            <a:off x="285840" y="4643280"/>
            <a:ext cx="2714400" cy="2036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" descr="http://www.weekendgardener.net/perennial-flowers/pix/ericalg.jpg"/>
          <p:cNvPicPr/>
          <p:nvPr/>
        </p:nvPicPr>
        <p:blipFill>
          <a:blip r:embed="rId4"/>
          <a:stretch/>
        </p:blipFill>
        <p:spPr>
          <a:xfrm>
            <a:off x="6072120" y="2357280"/>
            <a:ext cx="2716200" cy="2428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http://home.quicknet.nl/qn/prive/tj.de.graaf/_private/lente/hei-(erica).jpg"/>
          <p:cNvPicPr/>
          <p:nvPr/>
        </p:nvPicPr>
        <p:blipFill>
          <a:blip r:embed="rId5"/>
          <a:stretch/>
        </p:blipFill>
        <p:spPr>
          <a:xfrm>
            <a:off x="2286000" y="2928960"/>
            <a:ext cx="42148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4" descr="http://www.heathersociety.org.uk/hhg/cvs/jpegs/C_vul_Dark_Star.jpg"/>
          <p:cNvPicPr/>
          <p:nvPr/>
        </p:nvPicPr>
        <p:blipFill>
          <a:blip r:embed="rId1"/>
          <a:stretch/>
        </p:blipFill>
        <p:spPr>
          <a:xfrm>
            <a:off x="0" y="3214800"/>
            <a:ext cx="4257720" cy="2786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http://www.clarebiodiversity.ie/CountyClare/photos/Heatherjm.jpg"/>
          <p:cNvPicPr/>
          <p:nvPr/>
        </p:nvPicPr>
        <p:blipFill>
          <a:blip r:embed="rId2"/>
          <a:stretch/>
        </p:blipFill>
        <p:spPr>
          <a:xfrm>
            <a:off x="5624640" y="3214800"/>
            <a:ext cx="3519360" cy="28573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42960" y="199980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Struikhe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alluna vulga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http://www.kuleuven-kortrijk.be/facult/wet/biologie/pb/kulakbiocampus/buiten-kulak/lage_planten/Calluna%20vulgaris%20-%20struikhei/calluna%20vulgaris-struikhei-05.jpg"/>
          <p:cNvPicPr/>
          <p:nvPr/>
        </p:nvPicPr>
        <p:blipFill>
          <a:blip r:embed="rId3"/>
          <a:stretch/>
        </p:blipFill>
        <p:spPr>
          <a:xfrm>
            <a:off x="2357280" y="3000240"/>
            <a:ext cx="40942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Rhododendr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Rhododendron cultiv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http://farm3.static.flickr.com/2287/2526206801_b3215b2bd0.jpg"/>
          <p:cNvPicPr/>
          <p:nvPr/>
        </p:nvPicPr>
        <p:blipFill>
          <a:blip r:embed="rId1"/>
          <a:stretch/>
        </p:blipFill>
        <p:spPr>
          <a:xfrm>
            <a:off x="214200" y="178596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http://www.marteau.be/images/Rhododendron1.jpg"/>
          <p:cNvPicPr/>
          <p:nvPr/>
        </p:nvPicPr>
        <p:blipFill>
          <a:blip r:embed="rId2"/>
          <a:stretch/>
        </p:blipFill>
        <p:spPr>
          <a:xfrm>
            <a:off x="642960" y="4000680"/>
            <a:ext cx="1857240" cy="2593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http://www.ursel.nl/albums/vakantie/gladbeck08/gladbeck00146.jpg"/>
          <p:cNvPicPr/>
          <p:nvPr/>
        </p:nvPicPr>
        <p:blipFill>
          <a:blip r:embed="rId3"/>
          <a:stretch/>
        </p:blipFill>
        <p:spPr>
          <a:xfrm>
            <a:off x="5572080" y="4143240"/>
            <a:ext cx="3286080" cy="2465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http://www.tuinclub.be/tuinartikels/rhodod4.jpg"/>
          <p:cNvPicPr/>
          <p:nvPr/>
        </p:nvPicPr>
        <p:blipFill>
          <a:blip r:embed="rId4"/>
          <a:stretch/>
        </p:blipFill>
        <p:spPr>
          <a:xfrm>
            <a:off x="2643120" y="4143240"/>
            <a:ext cx="2857680" cy="2162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http://www.marechal.be/foto/rhodo2.jpg"/>
          <p:cNvPicPr/>
          <p:nvPr/>
        </p:nvPicPr>
        <p:blipFill>
          <a:blip r:embed="rId5"/>
          <a:stretch/>
        </p:blipFill>
        <p:spPr>
          <a:xfrm>
            <a:off x="6572160" y="2143080"/>
            <a:ext cx="214308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08:14:24Z</dcterms:created>
  <dc:creator>Henk</dc:creator>
  <dc:description/>
  <dc:language>en-US</dc:language>
  <cp:lastModifiedBy>Henk</cp:lastModifiedBy>
  <dcterms:modified xsi:type="dcterms:W3CDTF">2008-10-22T16:42:42Z</dcterms:modified>
  <cp:revision>22</cp:revision>
  <dc:subject/>
  <dc:title>Duindoorn</dc:title>
</cp:coreProperties>
</file>