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9C61C-CC0D-4AAA-AD77-04A35A1A3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0ABBB-7367-4C0F-8AAF-C0104133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7677B-D1BC-404F-8C79-E33798879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8F759-B796-4512-9851-FF5367A1B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D1DD0-337F-4318-BE4E-456717682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1419-A8E1-46CD-900F-889BB33D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BD70-3264-483D-A44C-D4BE43AB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B126-89FF-4EBF-B449-E5FDA9B4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ECD1-2161-4F55-B46A-3BBAE505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150DF-15B7-4FA1-82E8-41E4B6EC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8246-D451-410F-9FF3-8095547F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EE663-4203-42DE-BF20-BDBC6360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9A39-2158-492B-9574-82EA2F5B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B96F-90B7-410A-8CE0-3C6422B4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24EC1-57E0-4432-939C-34222B85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CB596-A904-49A5-8C0F-E66254DCA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EE5B-B6C9-4DCB-9330-F56CEFA8A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D4912-1F05-416B-B35E-ADDE209F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1F72C-BFCC-48FB-B69B-4571587C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AA30B-8F2B-4AAB-B7F3-93A2AF22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34957-7F7E-4E64-A990-D34375FC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C9B95-AA09-491E-91C2-F2077300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5A5EF-AA2B-475E-A2C3-DB337EB9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D37A4-ABB0-401A-8342-48A616B5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0B33-F493-41E8-A089-EA0D160A492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D708-2BE1-4DFC-A5F0-C7FA3C9004D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animalfreedom.org/slideshow/images/witte_scharrelkippen.jpg&amp;imgrefurl=http://www.animalfreedom.org/paginas/column/toekomstvegetarisme.html&amp;h=300&amp;w=399&amp;sz=34&amp;hl=nl&amp;start=3&amp;tbnid=uc5cdyEH5i4jkM:&amp;tbnh=93&amp;tbnw=124&amp;prev=/images%3Fq%3Dpikorde%26gbv%3D2%26svnum%3D10%26hl%3Dnl%26sa%3D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nl/imgres?imgurl=http://home.versatel.nl/helping2/images/jokes/penis-enlargement.jpg&amp;imgrefurl=http://epsstukjes.blogspot.com/2007/08/if-you-cant-beat-them-join-them.html&amp;h=384&amp;w=512&amp;sz=47&amp;hl=nl&amp;start=6&amp;tbnid=r_h2DFMJCIiDdM:&amp;tbnh=98&amp;tbnw=131&amp;prev=/images%3Fq%3Dpikorde%26gbv%3D2%26svnum%3D10%26hl%3Dnl%26sa%3DG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google.nl/imgres?imgurl=http://jan.moesen.nu/media/photos/2004/08/barbecue-bij-davy-en-jessica/20040815-haan-en-kippen.jpg&amp;imgrefurl=http://jan.moesen.nu/media/photos/2004/08/barbecue-bij-davy-en-jessica/&amp;h=600&amp;w=900&amp;sz=169&amp;hl=nl&amp;start=18&amp;tbnid=gGoNlGH27aUArM:&amp;tbnh=97&amp;tbnw=146&amp;prev=/images%3Fq%3Dkippen%26gbv%3D2%26svnum%3D10%26hl%3Dnl%26sa%3DG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images.google.com/imgres?imgurl=http://www.natuurleuk.nl/images/weblog/mrt07/bavianen.jpg&amp;imgrefurl=http://www.natuurleuk.nl/wordpress/%3Fm%3D200703&amp;h=112&amp;w=150&amp;sz=6&amp;hl=nl&amp;start=21&amp;um=1&amp;tbnid=Ldc62zjFfPFSOM:&amp;tbnh=72&amp;tbnw=96&amp;prev=/images%3Fq%3Dbavianen%26svnum%3D10%26um%3D1%26hl%3Dnl%26rlz%3D1T4SUNA_en___NL225%26sa%3DG" TargetMode="External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frikatour.nl/framerechts/termieten.jpg&amp;imgrefurl=http://www.afrikatour.nl/framerechts/afrikatour.htm&amp;h=325&amp;w=397&amp;sz=22&amp;hl=nl&amp;start=4&amp;um=1&amp;tbnid=oDe0p25zn9HkMM:&amp;tbnh=102&amp;tbnw=124&amp;prev=/images%3Fq%3Dtermieten%26svnum%3D10%26um%3D1%26hl%3Dnl%26rlz%3D1T4SUNA_en___NL225%26sa%3D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google.com/imgres?imgurl=http://www.webkwestie.nl/insecten/IMAGES/bunchoftermites.gif&amp;imgrefurl=http://www.webkwestie.nl/insecten/terplaatjes.htm&amp;h=467&amp;w=510&amp;sz=59&amp;hl=nl&amp;start=9&amp;um=1&amp;tbnid=wtQ1rqIpf_krqM:&amp;tbnh=120&amp;tbnw=131&amp;prev=/images%3Fq%3Dtermieten%26svnum%3D10%26um%3D1%26hl%3Dnl%26rlz%3D1T4SUNA_en___NL225%26sa%3DG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images.google.com/imgres?imgurl=http://blogimages.seniorennet.be/mick/308-5416c223b8b96c79484ea3c335113f4e.jpg&amp;imgrefurl=http://blog.seniorennet.be/mick/archief.php%3FID%3D309&amp;h=657&amp;w=750&amp;sz=116&amp;hl=nl&amp;start=5&amp;um=1&amp;tbnid=TZfkZtLwZB4eHM:&amp;tbnh=124&amp;tbnw=141&amp;prev=/images%3Fq%3Dmieren%26svnum%3D10%26um%3D1%26hl%3Dnl%26rlz%3D1T4SUNA_en___NL225%26sa%3DG" TargetMode="External"/><Relationship Id="rId6" Type="http://schemas.openxmlformats.org/officeDocument/2006/relationships/image" Target="../media/image18.jpeg"/><Relationship Id="rId7" Type="http://schemas.openxmlformats.org/officeDocument/2006/relationships/hyperlink" Target="http://images.google.com/imgres?imgurl=http://www.docukit.nl/inhoud/ic96-1.jpg&amp;imgrefurl=http://www.docukit.nl/inhoud/docukit.asp%3Ftree%3DIC96%26nummer%3DIC96&amp;h=240&amp;w=234&amp;sz=87&amp;hl=nl&amp;start=2&amp;um=1&amp;tbnid=FV3BIyj8bjqTuM:&amp;tbnh=110&amp;tbnw=107&amp;prev=/images%3Fq%3Dmieren%26svnum%3D10%26um%3D1%26hl%3Dnl%26rlz%3D1T4SUNA_en___NL225%26sa%3DG" TargetMode="External"/><Relationship Id="rId8" Type="http://schemas.openxmlformats.org/officeDocument/2006/relationships/image" Target="../media/image19.jpeg"/><Relationship Id="rId9" Type="http://schemas.openxmlformats.org/officeDocument/2006/relationships/hyperlink" Target="http://images.google.com/imgres?imgurl=http://www.docukit.nl/inhoud/ic96-3.jpg&amp;imgrefurl=http://www.docukit.nl/inhoud/docukit.asp%3Ftree%3DIC96%26nummer%3DIC96&amp;h=276&amp;w=400&amp;sz=83&amp;hl=nl&amp;start=3&amp;um=1&amp;tbnid=apvuYIvOQoNMtM:&amp;tbnh=86&amp;tbnw=124&amp;prev=/images%3Fq%3Dmieren%26svnum%3D10%26um%3D1%26hl%3Dnl%26rlz%3D1T4SUNA_en___NL225%26sa%3DG" TargetMode="External"/><Relationship Id="rId10" Type="http://schemas.openxmlformats.org/officeDocument/2006/relationships/image" Target="../media/image20.jpeg"/><Relationship Id="rId11" Type="http://schemas.openxmlformats.org/officeDocument/2006/relationships/hyperlink" Target="http://images.google.com/imgres?imgurl=http://www.museumgroep.nl/nwsbrf-30/05bijen.jpg&amp;imgrefurl=http://www.museumgroep.nl/nwsbrf-30/nwsbrf30-06.html&amp;h=450&amp;w=600&amp;sz=99&amp;hl=nl&amp;start=11&amp;um=1&amp;tbnid=4HXAUqxvAtWPnM:&amp;tbnh=101&amp;tbnw=135&amp;prev=/images%3Fq%3Dbijen%26svnum%3D10%26um%3D1%26hl%3Dnl%26rlz%3D1T4SUNA_en___NL225%26sa%3DG" TargetMode="External"/><Relationship Id="rId12" Type="http://schemas.openxmlformats.org/officeDocument/2006/relationships/image" Target="../media/image21.jpeg"/><Relationship Id="rId13" Type="http://schemas.openxmlformats.org/officeDocument/2006/relationships/image" Target="../media/image22.jpeg"/><Relationship Id="rId14" Type="http://schemas.openxmlformats.org/officeDocument/2006/relationships/image" Target="../media/image23.jpeg"/><Relationship Id="rId1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schooltv.nl/mmbase/images/126491&amp;imgrefurl=http://www.schooltv.nl/biobits/pagina.jsp%3Fnr%3D91864&amp;h=128&amp;w=170&amp;sz=6&amp;hl=nl&amp;start=15&amp;tbnid=eHGtIIZ_wy-RAM:&amp;tbnh=75&amp;tbnw=99&amp;prev=/images%3Fq%3Dsleutelprikkels%26gbv%3D2%26svnum%3D10%26hl%3Dnl%26sa%3D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nl/imgres?imgurl=http://home.scarlet.be/~jg992621/articles/vast_a49.jpg&amp;imgrefurl=http://home.scarlet.be/~jg992621/articles/vast_artikel.htm&amp;h=531&amp;w=784&amp;sz=48&amp;hl=nl&amp;start=9&amp;tbnid=jpuoDw-km0mzeM:&amp;tbnh=97&amp;tbnw=143&amp;prev=/images%3Fq%3Dsleutelprikkels%26gbv%3D2%26svnum%3D10%26hl%3Dnl%26sa%3D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nl/imgres?imgurl=http://www.schooltv.nl/eigenwijzer/mmbase/images/562605&amp;imgrefurl=http://www.schooltv.nl/eigenwijzer/infoblok.jsp%3Finfoblok%3D234841&amp;h=143&amp;w=190&amp;sz=7&amp;hl=nl&amp;start=5&amp;tbnid=N9hqkIenkH5LkM:&amp;tbnh=78&amp;tbnw=103&amp;prev=/images%3Fq%3Dsleutelprikkels%26gbv%3D2%26svnum%3D10%26hl%3Dnl%26sa%3DG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s.google.nl/imgres?imgurl=http://www.schooltv.nl/mmbase/images/127314&amp;imgrefurl=http://www.schooltv.nl/biobits/pagina.jsp%3Fnr%3D92064&amp;h=128&amp;w=170&amp;sz=8&amp;hl=nl&amp;start=38&amp;tbnid=S0wdAr1IlDd-MM:&amp;tbnh=75&amp;tbnw=99&amp;prev=/images%3Fq%3Dsleutelprikkels%26start%3D21%26gbv%3D2%26ndsp%3D21%26svnum%3D10%26hl%3Dnl%26sa%3DN" TargetMode="External"/><Relationship Id="rId8" Type="http://schemas.openxmlformats.org/officeDocument/2006/relationships/image" Target="../media/image6.jpeg"/><Relationship Id="rId9" Type="http://schemas.openxmlformats.org/officeDocument/2006/relationships/hyperlink" Target="http://images.google.nl/imgres?imgurl=http://www.schooltv.nl/mmbase/images/126487&amp;imgrefurl=http://www.schooltv.nl/biobits/pagina.jsp%3Fnr%3D91844&amp;h=128&amp;w=170&amp;sz=7&amp;hl=nl&amp;start=32&amp;tbnid=MzD-TfpDTDx6AM:&amp;tbnh=75&amp;tbnw=99&amp;prev=/images%3Fq%3Dsleutelprikkels%26start%3D21%26gbv%3D2%26ndsp%3D21%26svnum%3D10%26hl%3Dnl%26sa%3DN" TargetMode="External"/><Relationship Id="rId10" Type="http://schemas.openxmlformats.org/officeDocument/2006/relationships/image" Target="../media/image7.jpeg"/><Relationship Id="rId11" Type="http://schemas.openxmlformats.org/officeDocument/2006/relationships/hyperlink" Target="http://images.google.nl/imgres?imgurl=http://milieucentrum.rotterdam.nl/img_upload/thumbnail/11/eekhoorn.jpg&amp;imgrefurl=http://users.telenet.be/bioweb/bestanden/Gedrag.doc&amp;h=200&amp;w=200&amp;sz=8&amp;hl=nl&amp;start=22&amp;tbnid=0WCIjEMzKfoyJM:&amp;tbnh=104&amp;tbnw=104&amp;prev=/images%3Fq%3Dsleutelprikkels%26start%3D21%26gbv%3D2%26ndsp%3D21%26svnum%3D10%26hl%3Dnl%26sa%3DN" TargetMode="External"/><Relationship Id="rId12" Type="http://schemas.openxmlformats.org/officeDocument/2006/relationships/image" Target="../media/image8.jpeg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home.hccnet.nl/r.cristofoli/00eirollen.jpg&amp;imgrefurl=http://home.hccnet.nl/r.cristofoli/gedragcbox.htm&amp;h=151&amp;w=195&amp;sz=14&amp;hl=nl&amp;start=24&amp;tbnid=-HTgNuYFHX3iOM:&amp;tbnh=81&amp;tbnw=104&amp;prev=/images%3Fq%3Dsleutelprikkels%26start%3D21%26gbv%3D2%26ndsp%3D21%26svnum%3D10%26hl%3Dnl%26sa%3DN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nl/imgres?imgurl=http://www.actua-uitgeverij.nl/images/pauw.jpg&amp;imgrefurl=http://www.actua-uitgeverij.nl/producten/bioboek/supranormale%2520prikkel.php&amp;h=336&amp;w=368&amp;sz=55&amp;hl=nl&amp;start=1&amp;tbnid=TRx-QJRlSprsoM:&amp;tbnh=111&amp;tbnw=122&amp;prev=/images%3Fq%3Dsupranormale%2Bprikkels%26gbv%3D2%26svnum%3D10%26hl%3Dnl%26sa%3DG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images.google.nl/imgres?imgurl=http://www.actua-uitgeverij.nl/images/lippen.jpg&amp;imgrefurl=http://www.actua-uitgeverij.nl/producten/bioboek/supranormale%2520prikkel.php&amp;h=276&amp;w=146&amp;sz=7&amp;hl=nl&amp;start=2&amp;tbnid=bPW73HOKaoHPIM:&amp;tbnh=114&amp;tbnw=60&amp;prev=/images%3Fq%3Dsupranormale%2Bprikkels%26gbv%3D2%26svnum%3D10%26hl%3Dnl%26sa%3DG" TargetMode="External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edra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drag = alle waarneembare activiteiten van dier of me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wegingen, slapen, geluiden maken, van kleur veranderen, geurstoffen afscheiden et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ms door werking spieren (effector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ms door werking klieren (effector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actie op prikkels (= respon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en spitsen ho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ciaal gedra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ikorde bij kippen = rangor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eft te maken met aanwezigheid mannelijk geslachtshormoon = testoster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reiggedra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oneergedra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zoeningsgedra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deofragmenten vol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ikor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773360"/>
            <a:ext cx="1726920" cy="1584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6000" y="1773360"/>
            <a:ext cx="1800360" cy="1655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476360" y="38606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003640" y="3933720"/>
            <a:ext cx="17290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atenvormende insect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ermiet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i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ij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aakverdeling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1. koningi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2. werkste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3. dar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4. soldat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mmunicatie belangrijk !!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Videofragmenten volgen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ermieten/mieren/bij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700280"/>
            <a:ext cx="1584000" cy="1873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4360" y="3933720"/>
            <a:ext cx="1535040" cy="1511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76720" y="177336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059280" y="4149720"/>
            <a:ext cx="1019160" cy="10476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356000" y="4076640"/>
            <a:ext cx="1181160" cy="1224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300720" y="1844640"/>
            <a:ext cx="1584360" cy="1368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3"/>
          <a:stretch/>
        </p:blipFill>
        <p:spPr>
          <a:xfrm>
            <a:off x="6300720" y="3429000"/>
            <a:ext cx="1584360" cy="1079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4"/>
          <a:stretch/>
        </p:blipFill>
        <p:spPr>
          <a:xfrm>
            <a:off x="6372360" y="4797360"/>
            <a:ext cx="1512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edrag bij de me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vereenkomstig gedrag zoals bij di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rfelijke factoren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Zuiggedrag bij baby’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elaatsuitdrukkingen; vreugde, woede, angst, wenkbrauwgroet + glimlach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Voorbeeld; dove kinderen zelfde gedra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eerprocessen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pvoeding dus sociale ontwikkel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nsen: nadenken over hun gedrag + beoordelen gedrag + normen (gedragsregels) en waarden (uitgangspunten in je leven zoals eerlijkheid, respect voor anderen, rechtvaardigheid, vrijhei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ultuur is sterk bepalen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olgedrag en rolpatronen (zie afbeeldingen + uitleg in boek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thologisch onderzo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ak een ethogram van een diersoor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it het ethogram moet je een conclusie trekken over het gedrag van een di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Zie opdrachten in je boe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oordeling d.m.v. een punt 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itleg door je docent van gedrag bij zebra’s Beekse Bergen 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EDRAGSELEMENT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der woord daarvoor: handeling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udie gedrag: etholog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studeren gedrag: nauwkeurige beschrijving van elk type hande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schrijving moet objectief zij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en mening of interpretaties waarnem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jv. Hond is bli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us: ethogra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tocol: lijst van achtereenvolgens waargenomen handelingen van een di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ganisatie van gedra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Gedragssystemen: groep van samenhangende handelinge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Vaste volgord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Gedragskete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Voorbeeld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Stekelbaar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Videofragmenten stekelbaar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Nestbouw door mannetj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Baltsgedrag naar vrouwtj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Zigzagdan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Baltshouding vrouwtj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Mannetje zwemt naar nes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Siddere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Vrouwtje legt eieren in nes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Mannerje in nest en bevrucht eiere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Broedzorg mannetj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Waaieren, verversing water in nes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Bewaking jongen door mannetj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ekelbaarsj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3238560" cy="4951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427640" y="2492280"/>
            <a:ext cx="417672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edrag wordt veroorzaakt doo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wendige factore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nger, dorst, voortplantingsgedra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tiverende factor(e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invloeding door zenuw- + hormoonstels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itwendige factore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kkels uit de omgev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ien van een roofvogel bijv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leutel- en supranormale prikke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leutelprikkel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oorslaggevende r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ijv. Meeuwenjong pikt naar rode vlek op snavel moed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evolg: moeder braakt voedsel o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ideofragment: meeuw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ode vlek is sleutelprikk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ef: volledig rode snavel geeft sterker pikgedrag naar snavel moeder = supranormale prikk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clame maakt daar gebruik v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oorbeelden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leutelprikke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2276640"/>
            <a:ext cx="1513080" cy="1368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48000" y="2205000"/>
            <a:ext cx="1584360" cy="1368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84720" y="2276640"/>
            <a:ext cx="1368720" cy="1296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26920" y="4005360"/>
            <a:ext cx="1657440" cy="1511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419640" y="4076640"/>
            <a:ext cx="1512720" cy="1440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084720" y="4005360"/>
            <a:ext cx="1441440" cy="13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pranormale prikke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1773360"/>
            <a:ext cx="1512720" cy="1296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24360" y="1700280"/>
            <a:ext cx="2232360" cy="1873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59280" y="4076640"/>
            <a:ext cx="136836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e wordt gedrag bepaald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rfelijke facto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eerprocess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prenting in gevoelige period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ewenning = kans op reactie neemt af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nditionering (belonen en straffen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atuurlijke omstandigheden: proefondervindelijk (= trial and error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econditioneerde reflex (Pavlov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kinner-box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mitati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zicht (onbekende situatie en toch een oplossing vinden, kraaien verbuigen ijzerdraadje tot soort haak om voedsel uit cilinder te halen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himpansees (gebruik hulpmiddelen om ietrs te bereiken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Video-fragmenten volg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20:32:01Z</dcterms:created>
  <dc:creator>bertusherman</dc:creator>
  <dc:description/>
  <dc:language>en-US</dc:language>
  <cp:lastModifiedBy>bertusherman</cp:lastModifiedBy>
  <dcterms:modified xsi:type="dcterms:W3CDTF">2010-02-26T21:27:56Z</dcterms:modified>
  <cp:revision>2</cp:revision>
  <dc:subject/>
  <dc:title>Gedrag</dc:title>
</cp:coreProperties>
</file>