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C089D-54DF-4A94-8092-FD74B7A4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3F625-67A4-4257-B2C3-9FEFFA0A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6CF47-4130-42F4-B655-A95235A5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F19E5-69AC-4054-AAF5-16C95FE2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D7DE-E733-47C4-95FC-3818F990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0219-24C7-4B14-80E0-7DA91D1C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C36C-C630-461C-A21A-3ECEE2E8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C9D4-3FEB-4E29-9831-51DDECBC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14F1-8908-487A-935E-6309FC3A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8EBF-09D7-4289-8AFF-C04A405E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215C-C758-4061-9397-183F67E7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02B0A-C9BA-4E82-AEE1-6C1E4366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A2A7-77ED-4222-8DEE-77B004F4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32D8-FE6A-40FD-9EA7-D15CEF52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FE01-4F40-439E-B27C-12BAA6F9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08AA-34B1-4BB8-A25D-FA53C823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8757-05F5-4391-A019-75EA61BE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2489D-2C28-4A46-A566-C5E24601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3B006-9349-4A25-8828-9B90BEEA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7DA6F-8F88-407C-8619-07C10C3B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8B030-D847-4DCA-9762-BD0210EB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D46F3-B741-4D8C-8FEF-37FC1791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2384C-AC45-46D1-A705-B8977CD9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40D79-BC9C-4588-901C-1D8BC2FE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2CD1-25EA-44A7-A329-C0536338699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36B2-1784-48B1-B308-CF99A3C10C2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animalfreedom.org/slideshow/images/witte_scharrelkippen.jpg&amp;imgrefurl=http://www.animalfreedom.org/paginas/column/toekomstvegetarisme.html&amp;h=300&amp;w=399&amp;sz=34&amp;hl=nl&amp;start=3&amp;tbnid=uc5cdyEH5i4jkM:&amp;tbnh=93&amp;tbnw=124&amp;prev=/images%3Fq%3Dpikorde%26gbv%3D2%26svnum%3D10%26hl%3Dnl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home.versatel.nl/helping2/images/jokes/penis-enlargement.jpg&amp;imgrefurl=http://epsstukjes.blogspot.com/2007/08/if-you-cant-beat-them-join-them.html&amp;h=384&amp;w=512&amp;sz=47&amp;hl=nl&amp;start=6&amp;tbnid=r_h2DFMJCIiDdM:&amp;tbnh=98&amp;tbnw=131&amp;prev=/images%3Fq%3Dpikorde%26gbv%3D2%26svnum%3D10%26hl%3Dnl%26sa%3D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nl/imgres?imgurl=http://jan.moesen.nu/media/photos/2004/08/barbecue-bij-davy-en-jessica/20040815-haan-en-kippen.jpg&amp;imgrefurl=http://jan.moesen.nu/media/photos/2004/08/barbecue-bij-davy-en-jessica/&amp;h=600&amp;w=900&amp;sz=169&amp;hl=nl&amp;start=18&amp;tbnid=gGoNlGH27aUArM:&amp;tbnh=97&amp;tbnw=146&amp;prev=/images%3Fq%3Dkippen%26gbv%3D2%26svnum%3D10%26hl%3Dnl%26sa%3DG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com/imgres?imgurl=http://www.natuurleuk.nl/images/weblog/mrt07/bavianen.jpg&amp;imgrefurl=http://www.natuurleuk.nl/wordpress/%3Fm%3D200703&amp;h=112&amp;w=150&amp;sz=6&amp;hl=nl&amp;start=21&amp;um=1&amp;tbnid=Ldc62zjFfPFSOM:&amp;tbnh=72&amp;tbnw=96&amp;prev=/images%3Fq%3Dbavianen%26svnum%3D10%26um%3D1%26hl%3Dnl%26rlz%3D1T4SUNA_en___NL225%26sa%3DG" TargetMode="Externa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frikatour.nl/framerechts/termieten.jpg&amp;imgrefurl=http://www.afrikatour.nl/framerechts/afrikatour.htm&amp;h=325&amp;w=397&amp;sz=22&amp;hl=nl&amp;start=4&amp;um=1&amp;tbnid=oDe0p25zn9HkMM:&amp;tbnh=102&amp;tbnw=124&amp;prev=/images%3Fq%3Dtermieten%26svnum%3D10%26um%3D1%26hl%3Dnl%26rlz%3D1T4SUNA_en___NL225%26sa%3D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webkwestie.nl/insecten/IMAGES/bunchoftermites.gif&amp;imgrefurl=http://www.webkwestie.nl/insecten/terplaatjes.htm&amp;h=467&amp;w=510&amp;sz=59&amp;hl=nl&amp;start=9&amp;um=1&amp;tbnid=wtQ1rqIpf_krqM:&amp;tbnh=120&amp;tbnw=131&amp;prev=/images%3Fq%3Dtermieten%26svnum%3D10%26um%3D1%26hl%3Dnl%26rlz%3D1T4SUNA_en___NL225%26sa%3D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blogimages.seniorennet.be/mick/308-5416c223b8b96c79484ea3c335113f4e.jpg&amp;imgrefurl=http://blog.seniorennet.be/mick/archief.php%3FID%3D309&amp;h=657&amp;w=750&amp;sz=116&amp;hl=nl&amp;start=5&amp;um=1&amp;tbnid=TZfkZtLwZB4eHM:&amp;tbnh=124&amp;tbnw=141&amp;prev=/images%3Fq%3Dmieren%26svnum%3D10%26um%3D1%26hl%3Dnl%26rlz%3D1T4SUNA_en___NL225%26sa%3DG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www.docukit.nl/inhoud/ic96-1.jpg&amp;imgrefurl=http://www.docukit.nl/inhoud/docukit.asp%3Ftree%3DIC96%26nummer%3DIC96&amp;h=240&amp;w=234&amp;sz=87&amp;hl=nl&amp;start=2&amp;um=1&amp;tbnid=FV3BIyj8bjqTuM:&amp;tbnh=110&amp;tbnw=107&amp;prev=/images%3Fq%3Dmieren%26svnum%3D10%26um%3D1%26hl%3Dnl%26rlz%3D1T4SUNA_en___NL225%26sa%3DG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www.docukit.nl/inhoud/ic96-3.jpg&amp;imgrefurl=http://www.docukit.nl/inhoud/docukit.asp%3Ftree%3DIC96%26nummer%3DIC96&amp;h=276&amp;w=400&amp;sz=83&amp;hl=nl&amp;start=3&amp;um=1&amp;tbnid=apvuYIvOQoNMtM:&amp;tbnh=86&amp;tbnw=124&amp;prev=/images%3Fq%3Dmieren%26svnum%3D10%26um%3D1%26hl%3Dnl%26rlz%3D1T4SUNA_en___NL225%26sa%3D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images.google.com/imgres?imgurl=http://www.museumgroep.nl/nwsbrf-30/05bijen.jpg&amp;imgrefurl=http://www.museumgroep.nl/nwsbrf-30/nwsbrf30-06.html&amp;h=450&amp;w=600&amp;sz=99&amp;hl=nl&amp;start=11&amp;um=1&amp;tbnid=4HXAUqxvAtWPnM:&amp;tbnh=101&amp;tbnw=135&amp;prev=/images%3Fq%3Dbijen%26svnum%3D10%26um%3D1%26hl%3Dnl%26rlz%3D1T4SUNA_en___NL225%26sa%3DG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chooltv.nl/mmbase/images/126491&amp;imgrefurl=http://www.schooltv.nl/biobits/pagina.jsp%3Fnr%3D91864&amp;h=128&amp;w=170&amp;sz=6&amp;hl=nl&amp;start=15&amp;tbnid=eHGtIIZ_wy-RAM:&amp;tbnh=75&amp;tbnw=99&amp;prev=/images%3Fq%3Dsleutelprikkels%26gbv%3D2%26svnum%3D10%26hl%3Dnl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nl/imgres?imgurl=http://home.scarlet.be/~jg992621/articles/vast_a49.jpg&amp;imgrefurl=http://home.scarlet.be/~jg992621/articles/vast_artikel.htm&amp;h=531&amp;w=784&amp;sz=48&amp;hl=nl&amp;start=9&amp;tbnid=jpuoDw-km0mzeM:&amp;tbnh=97&amp;tbnw=143&amp;prev=/images%3Fq%3Dsleutelprikkels%26gbv%3D2%26svnum%3D10%26hl%3Dnl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nl/imgres?imgurl=http://www.schooltv.nl/eigenwijzer/mmbase/images/562605&amp;imgrefurl=http://www.schooltv.nl/eigenwijzer/infoblok.jsp%3Finfoblok%3D234841&amp;h=143&amp;w=190&amp;sz=7&amp;hl=nl&amp;start=5&amp;tbnid=N9hqkIenkH5LkM:&amp;tbnh=78&amp;tbnw=103&amp;prev=/images%3Fq%3Dsleutelprikkels%26gbv%3D2%26svnum%3D10%26hl%3Dnl%26sa%3D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nl/imgres?imgurl=http://www.schooltv.nl/mmbase/images/127314&amp;imgrefurl=http://www.schooltv.nl/biobits/pagina.jsp%3Fnr%3D92064&amp;h=128&amp;w=170&amp;sz=8&amp;hl=nl&amp;start=38&amp;tbnid=S0wdAr1IlDd-MM:&amp;tbnh=75&amp;tbnw=99&amp;prev=/images%3Fq%3Dsleutelprikkels%26start%3D21%26gbv%3D2%26ndsp%3D21%26svnum%3D10%26hl%3Dnl%26sa%3DN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nl/imgres?imgurl=http://www.schooltv.nl/mmbase/images/126487&amp;imgrefurl=http://www.schooltv.nl/biobits/pagina.jsp%3Fnr%3D91844&amp;h=128&amp;w=170&amp;sz=7&amp;hl=nl&amp;start=32&amp;tbnid=MzD-TfpDTDx6AM:&amp;tbnh=75&amp;tbnw=99&amp;prev=/images%3Fq%3Dsleutelprikkels%26start%3D21%26gbv%3D2%26ndsp%3D21%26svnum%3D10%26hl%3Dnl%26sa%3DN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s.google.nl/imgres?imgurl=http://milieucentrum.rotterdam.nl/img_upload/thumbnail/11/eekhoorn.jpg&amp;imgrefurl=http://users.telenet.be/bioweb/bestanden/Gedrag.doc&amp;h=200&amp;w=200&amp;sz=8&amp;hl=nl&amp;start=22&amp;tbnid=0WCIjEMzKfoyJM:&amp;tbnh=104&amp;tbnw=104&amp;prev=/images%3Fq%3Dsleutelprikkels%26start%3D21%26gbv%3D2%26ndsp%3D21%26svnum%3D10%26hl%3Dnl%26sa%3DN" TargetMode="External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home.hccnet.nl/r.cristofoli/00eirollen.jpg&amp;imgrefurl=http://home.hccnet.nl/r.cristofoli/gedragcbox.htm&amp;h=151&amp;w=195&amp;sz=14&amp;hl=nl&amp;start=24&amp;tbnid=-HTgNuYFHX3iOM:&amp;tbnh=81&amp;tbnw=104&amp;prev=/images%3Fq%3Dsleutelprikkels%26start%3D21%26gbv%3D2%26ndsp%3D21%26svnum%3D10%26hl%3Dnl%26sa%3D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nl/imgres?imgurl=http://www.actua-uitgeverij.nl/images/pauw.jpg&amp;imgrefurl=http://www.actua-uitgeverij.nl/producten/bioboek/supranormale%2520prikkel.php&amp;h=336&amp;w=368&amp;sz=55&amp;hl=nl&amp;start=1&amp;tbnid=TRx-QJRlSprsoM:&amp;tbnh=111&amp;tbnw=122&amp;prev=/images%3Fq%3Dsupranormale%2Bprikkels%26gbv%3D2%26svnum%3D10%26hl%3Dnl%26sa%3D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nl/imgres?imgurl=http://www.actua-uitgeverij.nl/images/lippen.jpg&amp;imgrefurl=http://www.actua-uitgeverij.nl/producten/bioboek/supranormale%2520prikkel.php&amp;h=276&amp;w=146&amp;sz=7&amp;hl=nl&amp;start=2&amp;tbnid=bPW73HOKaoHPIM:&amp;tbnh=114&amp;tbnw=60&amp;prev=/images%3Fq%3Dsupranormale%2Bprikkels%26gbv%3D2%26svnum%3D10%26hl%3Dnl%26sa%3D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drag = alle waarneembare activiteiten van dier of m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egingen, slapen, geluiden maken, van kleur veranderen, geurstoffen afscheiden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s door werking spieren (effec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s door werking klieren (effec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ctie op prikkels (= respo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en spitsen ho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ciaal 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korde bij kippen = rangor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eft te maken met aanwezigheid mannelijk geslachtshormoon = testoste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eig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oneer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zoenings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deofragmenten vol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ikor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73360"/>
            <a:ext cx="1726920" cy="1584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177336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76360" y="3860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03640" y="3933720"/>
            <a:ext cx="1729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tenvormende insect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rmiet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i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ij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akverdeling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. koning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. werkst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. dar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. soldat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municatie belangrijk !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deofragmenten volg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rmieten/mieren/bij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00280"/>
            <a:ext cx="1584000" cy="1873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3933720"/>
            <a:ext cx="1535040" cy="1511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1773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4149720"/>
            <a:ext cx="1019160" cy="1047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356000" y="4076640"/>
            <a:ext cx="1181160" cy="1224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00720" y="184464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>
            <a:off x="6300720" y="3429000"/>
            <a:ext cx="1584360" cy="1079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4"/>
          <a:stretch/>
        </p:blipFill>
        <p:spPr>
          <a:xfrm>
            <a:off x="6372360" y="4797360"/>
            <a:ext cx="1512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 bij de m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eenkomstig gedrag zoals bij di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felijke factore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Zuiggedrag bij baby’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laatsuitdrukkingen; vreugde, woede, angst, wenkbrauwgroet + glimla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oorbeeld; dove kinderen zelfde gedra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erprocesse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voeding dus sociale ontwikkel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nsen: nadenken over hun gedrag + beoordelen gedrag + normen (gedragsregels) en waarden (uitgangspunten in je leven zoals eerlijkheid, respect voor anderen, rechtvaardigheid, vrijhei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ultuur is sterk bepalen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olgedrag en rolpatronen (zie afbeeldingen + uitleg in boek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thologisch onderzo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ak een ethogram van een dierso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it het ethogram moet je een conclusie trekken over het gedrag van een di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ie opdrachten in je bo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oordeling d.m.v. een punt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itleg door je docent van gedrag bij zebra’s Beekse Bergen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SELEMENT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er woord daarvoor: handeling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ie gedrag: etholog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studeren gedrag: nauwkeurige beschrijving van elk type han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schrijving moet objectief zij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en mening of interpretaties waarne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jv. Hond is bl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s: eth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ocol: lijst van achtereenvolgens waargenomen handelingen van een d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satie van gedr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Gedragssystemen: groep van samenhangende handeling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aste volgord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Gedragsket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oorbeeld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tekelbaar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ideofragmenten stekelbaar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Nestbouw door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altsgedrag naar vrouw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Zigzagdan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altshouding vrouw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nnetje zwemt naar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idder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Vrouwtje legt eieren in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annerje in nest en bevrucht eiere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roedzorg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Waaieren, verversing water in ne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ewaking jongen door mannet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ekelbaarsj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238560" cy="4951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17672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drag wordt veroorzaakt do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wendige factor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nger, dorst, voortplantingsgedr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tiverende factor(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invloeding door zenuw- + hormoonstels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itwendige factor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kkels uit de omgev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ien van een roofvogel bij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eutel- en supranormale 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leutelprikkel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orslaggevende r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jv. Meeuwenjong pikt naar rode vlek op snavel moed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volg: moeder braakt voedsel o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deofragment: meeuw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de vlek is sleutelprikk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ef: volledig rode snavel geeft sterker pikgedrag naar snavel moeder = supranormale prikk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lame maakt daar gebruik v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orbeelde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leutel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27664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220500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84720" y="2276640"/>
            <a:ext cx="1368720" cy="1296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26920" y="4005360"/>
            <a:ext cx="165744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19640" y="4076640"/>
            <a:ext cx="1512720" cy="1440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84720" y="4005360"/>
            <a:ext cx="144144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pranormale prikk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773360"/>
            <a:ext cx="1512720" cy="1296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1700280"/>
            <a:ext cx="2232360" cy="1873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59280" y="4076640"/>
            <a:ext cx="1368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e wordt gedrag bepaal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felijke facto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erprocess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prenting in gevoelige perio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wenning = kans op reactie neemt a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ditionering (belonen en straff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atuurlijke omstandigheden: proefondervindelijk (= trial and erro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conditioneerde reflex (Pavlov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kinner-bo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itati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zicht (onbekende situatie en toch een oplossing vinden, kraaien verbuigen ijzerdraadje tot soort haak om voedsel uit cilinder te hal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impansees (gebruik hulpmiddelen om ietrs te bereike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deo-fragmenten volg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20:32:01Z</dcterms:created>
  <dc:creator>bertusherman</dc:creator>
  <dc:description/>
  <dc:language>en-US</dc:language>
  <cp:lastModifiedBy>bertusherman</cp:lastModifiedBy>
  <dcterms:modified xsi:type="dcterms:W3CDTF">2010-02-26T21:27:56Z</dcterms:modified>
  <cp:revision>2</cp:revision>
  <dc:subject/>
  <dc:title>Gedrag</dc:title>
</cp:coreProperties>
</file>