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2CF7-F739-4BE1-B9EA-588F16C28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EDE9-752C-4B0C-8C06-D82A785AA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1351-3CE0-4E6A-A1FE-6E800A8F0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913A-AA0E-4D97-8790-7D3ACDCEB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DE3E-8843-4A32-B127-F12290733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81C2-A24A-4FFA-A468-35FCB8065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5453-9876-42BB-9470-A916DDE47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C58D-7030-48A9-B1C3-E74156334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E6ED-EBDE-4AC1-9BFD-945C82313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81FF-557E-4F7A-97B5-51F7D5E11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12F0-F219-4443-A930-B9850E229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C46D-9E2A-4A1B-A060-723B37232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60762-2860-4177-8FE6-533EEDCDF3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4"/>
          <p:cNvSpPr/>
          <p:nvPr/>
        </p:nvSpPr>
        <p:spPr>
          <a:xfrm>
            <a:off x="2743200" y="380880"/>
            <a:ext cx="3733920" cy="6019920"/>
          </a:xfrm>
          <a:custGeom>
            <a:avLst/>
            <a:gdLst>
              <a:gd name="textAreaLeft" fmla="*/ 182160 w 3733920"/>
              <a:gd name="textAreaRight" fmla="*/ 3551760 w 3733920"/>
              <a:gd name="textAreaTop" fmla="*/ 182160 h 6019920"/>
              <a:gd name="textAreaBottom" fmla="*/ 5837760 h 6019920"/>
            </a:gdLst>
            <a:ahLst/>
            <a:rect l="textAreaLeft" t="textAreaTop" r="textAreaRight" b="textAreaBottom"/>
            <a:pathLst>
              <a:path w="21600" h="34823">
                <a:moveTo>
                  <a:pt x="3600" y="0"/>
                </a:moveTo>
                <a:arcTo wR="3600" hR="3600" stAng="16200000" swAng="-5400000"/>
                <a:lnTo>
                  <a:pt x="0" y="31223"/>
                </a:lnTo>
                <a:arcTo wR="3600" hR="3600" stAng="10800000" swAng="-5400000"/>
                <a:lnTo>
                  <a:pt x="18000" y="3482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1">
              <a:alphaModFix amt="47000"/>
            </a:blip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3124080" y="1219320"/>
            <a:ext cx="2971800" cy="4114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Group 19"/>
          <p:cNvGrpSpPr/>
          <p:nvPr/>
        </p:nvGrpSpPr>
        <p:grpSpPr>
          <a:xfrm>
            <a:off x="4114800" y="5486400"/>
            <a:ext cx="990720" cy="838080"/>
            <a:chOff x="4114800" y="5486400"/>
            <a:chExt cx="990720" cy="838080"/>
          </a:xfrm>
        </p:grpSpPr>
        <p:sp>
          <p:nvSpPr>
            <p:cNvPr id="44" name="AutoShape 7"/>
            <p:cNvSpPr/>
            <p:nvPr/>
          </p:nvSpPr>
          <p:spPr>
            <a:xfrm>
              <a:off x="4114800" y="5486400"/>
              <a:ext cx="990720" cy="838080"/>
            </a:xfrm>
            <a:prstGeom prst="plus">
              <a:avLst>
                <a:gd name="adj" fmla="val 25000"/>
              </a:avLst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AutoShape 13">
              <a:hlinkClick r:id="" action="ppaction://hlinkshowjump?jump=previousslide"/>
            </p:cNvPr>
            <p:cNvSpPr/>
            <p:nvPr/>
          </p:nvSpPr>
          <p:spPr>
            <a:xfrm rot="5400000">
              <a:off x="4419000" y="5638680"/>
              <a:ext cx="380880" cy="228600"/>
            </a:xfrm>
            <a:custGeom>
              <a:avLst/>
              <a:gdLst>
                <a:gd name="textAreaLeft" fmla="*/ 14760 w 380880"/>
                <a:gd name="textAreaRight" fmla="*/ 366120 w 380880"/>
                <a:gd name="textAreaTop" fmla="*/ 14760 h 228600"/>
                <a:gd name="textAreaBottom" fmla="*/ 213840 h 228600"/>
              </a:gdLst>
              <a:ahLst/>
              <a:rect l="textAreaLeft" t="textAreaTop" r="textAreaRight" b="textAreaBottom"/>
              <a:pathLst>
                <a:path w="35966" h="21600">
                  <a:moveTo>
                    <a:pt x="0" y="0"/>
                  </a:moveTo>
                  <a:lnTo>
                    <a:pt x="35966" y="0"/>
                  </a:lnTo>
                  <a:lnTo>
                    <a:pt x="35966" y="21600"/>
                  </a:lnTo>
                  <a:lnTo>
                    <a:pt x="0" y="21600"/>
                  </a:lnTo>
                  <a:close/>
                </a:path>
                <a:path fill="lightenLess" w="35966" h="21600">
                  <a:moveTo>
                    <a:pt x="0" y="0"/>
                  </a:moveTo>
                  <a:lnTo>
                    <a:pt x="35966" y="0"/>
                  </a:lnTo>
                  <a:lnTo>
                    <a:pt x="34566" y="1400"/>
                  </a:lnTo>
                  <a:lnTo>
                    <a:pt x="1400" y="1400"/>
                  </a:lnTo>
                  <a:close/>
                </a:path>
                <a:path fill="darken" w="35966" h="21600">
                  <a:moveTo>
                    <a:pt x="35966" y="0"/>
                  </a:moveTo>
                  <a:lnTo>
                    <a:pt x="35966" y="21600"/>
                  </a:lnTo>
                  <a:lnTo>
                    <a:pt x="34566" y="20200"/>
                  </a:lnTo>
                  <a:lnTo>
                    <a:pt x="34566" y="1400"/>
                  </a:lnTo>
                  <a:close/>
                </a:path>
                <a:path fill="darkenLess" w="35966" h="21600">
                  <a:moveTo>
                    <a:pt x="3596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4566" y="20200"/>
                  </a:lnTo>
                  <a:close/>
                </a:path>
                <a:path fill="lighten" w="3596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5966" h="21600">
                  <a:moveTo>
                    <a:pt x="10977" y="10800"/>
                  </a:moveTo>
                  <a:lnTo>
                    <a:pt x="24990" y="3794"/>
                  </a:lnTo>
                  <a:lnTo>
                    <a:pt x="24990" y="17806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AutoShape 14">
              <a:hlinkClick r:id="" action="ppaction://hlinkshowjump?jump=previousslide"/>
            </p:cNvPr>
            <p:cNvSpPr/>
            <p:nvPr/>
          </p:nvSpPr>
          <p:spPr>
            <a:xfrm rot="10800000">
              <a:off x="4723920" y="5790960"/>
              <a:ext cx="304920" cy="228600"/>
            </a:xfrm>
            <a:custGeom>
              <a:avLst/>
              <a:gdLst>
                <a:gd name="textAreaLeft" fmla="*/ 14760 w 304920"/>
                <a:gd name="textAreaRight" fmla="*/ 290160 w 304920"/>
                <a:gd name="textAreaTop" fmla="*/ 14760 h 228600"/>
                <a:gd name="textAreaBottom" fmla="*/ 213840 h 228600"/>
              </a:gdLst>
              <a:ahLst/>
              <a:rect l="textAreaLeft" t="textAreaTop" r="textAreaRight" b="textAreaBottom"/>
              <a:pathLst>
                <a:path w="28800" h="21600">
                  <a:moveTo>
                    <a:pt x="0" y="0"/>
                  </a:moveTo>
                  <a:lnTo>
                    <a:pt x="28800" y="0"/>
                  </a:lnTo>
                  <a:lnTo>
                    <a:pt x="28800" y="21600"/>
                  </a:lnTo>
                  <a:lnTo>
                    <a:pt x="0" y="21600"/>
                  </a:lnTo>
                  <a:close/>
                </a:path>
                <a:path fill="lightenLess" w="28800" h="21600">
                  <a:moveTo>
                    <a:pt x="0" y="0"/>
                  </a:moveTo>
                  <a:lnTo>
                    <a:pt x="28800" y="0"/>
                  </a:lnTo>
                  <a:lnTo>
                    <a:pt x="27400" y="1400"/>
                  </a:lnTo>
                  <a:lnTo>
                    <a:pt x="1400" y="1400"/>
                  </a:lnTo>
                  <a:close/>
                </a:path>
                <a:path fill="darken" w="28800" h="21600">
                  <a:moveTo>
                    <a:pt x="28800" y="0"/>
                  </a:moveTo>
                  <a:lnTo>
                    <a:pt x="28800" y="21600"/>
                  </a:lnTo>
                  <a:lnTo>
                    <a:pt x="27400" y="20200"/>
                  </a:lnTo>
                  <a:lnTo>
                    <a:pt x="27400" y="1400"/>
                  </a:lnTo>
                  <a:close/>
                </a:path>
                <a:path fill="darkenLess" w="28800" h="21600">
                  <a:moveTo>
                    <a:pt x="288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7400" y="20200"/>
                  </a:lnTo>
                  <a:close/>
                </a:path>
                <a:path fill="lighten" w="288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800" h="21600">
                  <a:moveTo>
                    <a:pt x="7394" y="10800"/>
                  </a:moveTo>
                  <a:lnTo>
                    <a:pt x="21406" y="3794"/>
                  </a:lnTo>
                  <a:lnTo>
                    <a:pt x="21406" y="17806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AutoShape 15">
              <a:hlinkClick r:id="" action="ppaction://hlinkshowjump?jump=previousslide"/>
            </p:cNvPr>
            <p:cNvSpPr/>
            <p:nvPr/>
          </p:nvSpPr>
          <p:spPr>
            <a:xfrm rot="16200000">
              <a:off x="4457520" y="5905080"/>
              <a:ext cx="304920" cy="228600"/>
            </a:xfrm>
            <a:custGeom>
              <a:avLst/>
              <a:gdLst>
                <a:gd name="textAreaLeft" fmla="*/ 14760 w 304920"/>
                <a:gd name="textAreaRight" fmla="*/ 290160 w 304920"/>
                <a:gd name="textAreaTop" fmla="*/ 14760 h 228600"/>
                <a:gd name="textAreaBottom" fmla="*/ 213840 h 228600"/>
              </a:gdLst>
              <a:ahLst/>
              <a:rect l="textAreaLeft" t="textAreaTop" r="textAreaRight" b="textAreaBottom"/>
              <a:pathLst>
                <a:path w="28800" h="21600">
                  <a:moveTo>
                    <a:pt x="0" y="0"/>
                  </a:moveTo>
                  <a:lnTo>
                    <a:pt x="28800" y="0"/>
                  </a:lnTo>
                  <a:lnTo>
                    <a:pt x="28800" y="21600"/>
                  </a:lnTo>
                  <a:lnTo>
                    <a:pt x="0" y="21600"/>
                  </a:lnTo>
                  <a:close/>
                </a:path>
                <a:path fill="lightenLess" w="28800" h="21600">
                  <a:moveTo>
                    <a:pt x="0" y="0"/>
                  </a:moveTo>
                  <a:lnTo>
                    <a:pt x="28800" y="0"/>
                  </a:lnTo>
                  <a:lnTo>
                    <a:pt x="27400" y="1400"/>
                  </a:lnTo>
                  <a:lnTo>
                    <a:pt x="1400" y="1400"/>
                  </a:lnTo>
                  <a:close/>
                </a:path>
                <a:path fill="darken" w="28800" h="21600">
                  <a:moveTo>
                    <a:pt x="28800" y="0"/>
                  </a:moveTo>
                  <a:lnTo>
                    <a:pt x="28800" y="21600"/>
                  </a:lnTo>
                  <a:lnTo>
                    <a:pt x="27400" y="20200"/>
                  </a:lnTo>
                  <a:lnTo>
                    <a:pt x="27400" y="1400"/>
                  </a:lnTo>
                  <a:close/>
                </a:path>
                <a:path fill="darkenLess" w="28800" h="21600">
                  <a:moveTo>
                    <a:pt x="288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7400" y="20200"/>
                  </a:lnTo>
                  <a:close/>
                </a:path>
                <a:path fill="lighten" w="288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800" h="21600">
                  <a:moveTo>
                    <a:pt x="7394" y="10800"/>
                  </a:moveTo>
                  <a:lnTo>
                    <a:pt x="21406" y="3794"/>
                  </a:lnTo>
                  <a:lnTo>
                    <a:pt x="21406" y="17806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16">
              <a:hlinkClick r:id="" action="ppaction://hlinkshowjump?jump=previousslide"/>
            </p:cNvPr>
            <p:cNvSpPr/>
            <p:nvPr/>
          </p:nvSpPr>
          <p:spPr>
            <a:xfrm>
              <a:off x="4191120" y="5791320"/>
              <a:ext cx="304560" cy="228600"/>
            </a:xfrm>
            <a:custGeom>
              <a:avLst/>
              <a:gdLst>
                <a:gd name="textAreaLeft" fmla="*/ 14760 w 304560"/>
                <a:gd name="textAreaRight" fmla="*/ 289800 w 304560"/>
                <a:gd name="textAreaTop" fmla="*/ 14760 h 228600"/>
                <a:gd name="textAreaBottom" fmla="*/ 213840 h 228600"/>
              </a:gdLst>
              <a:ahLst/>
              <a:rect l="textAreaLeft" t="textAreaTop" r="textAreaRight" b="textAreaBottom"/>
              <a:pathLst>
                <a:path w="28766" h="21600">
                  <a:moveTo>
                    <a:pt x="0" y="0"/>
                  </a:moveTo>
                  <a:lnTo>
                    <a:pt x="28766" y="0"/>
                  </a:lnTo>
                  <a:lnTo>
                    <a:pt x="28766" y="21600"/>
                  </a:lnTo>
                  <a:lnTo>
                    <a:pt x="0" y="21600"/>
                  </a:lnTo>
                  <a:close/>
                </a:path>
                <a:path fill="lightenLess" w="28766" h="21600">
                  <a:moveTo>
                    <a:pt x="0" y="0"/>
                  </a:moveTo>
                  <a:lnTo>
                    <a:pt x="28766" y="0"/>
                  </a:lnTo>
                  <a:lnTo>
                    <a:pt x="27366" y="1400"/>
                  </a:lnTo>
                  <a:lnTo>
                    <a:pt x="1400" y="1400"/>
                  </a:lnTo>
                  <a:close/>
                </a:path>
                <a:path fill="darken" w="28766" h="21600">
                  <a:moveTo>
                    <a:pt x="28766" y="0"/>
                  </a:moveTo>
                  <a:lnTo>
                    <a:pt x="28766" y="21600"/>
                  </a:lnTo>
                  <a:lnTo>
                    <a:pt x="27366" y="20200"/>
                  </a:lnTo>
                  <a:lnTo>
                    <a:pt x="27366" y="1400"/>
                  </a:lnTo>
                  <a:close/>
                </a:path>
                <a:path fill="darkenLess" w="28766" h="21600">
                  <a:moveTo>
                    <a:pt x="2876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7366" y="20200"/>
                  </a:lnTo>
                  <a:close/>
                </a:path>
                <a:path fill="lighten" w="2876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766" h="21600">
                  <a:moveTo>
                    <a:pt x="7377" y="10800"/>
                  </a:moveTo>
                  <a:lnTo>
                    <a:pt x="21390" y="3794"/>
                  </a:lnTo>
                  <a:lnTo>
                    <a:pt x="21390" y="17806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10:24:02Z</dcterms:created>
  <dc:creator>leijtens</dc:creator>
  <dc:description/>
  <dc:language>en-US</dc:language>
  <cp:lastModifiedBy>Rianne</cp:lastModifiedBy>
  <dcterms:modified xsi:type="dcterms:W3CDTF">2013-08-18T14:45:18Z</dcterms:modified>
  <cp:revision>5</cp:revision>
  <dc:subject/>
  <dc:title>Slide 1</dc:title>
</cp:coreProperties>
</file>