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761B-FC4F-44E7-9819-E0AFDA760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1765-C3E3-472D-AF2B-261DEEEFB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187D-5AD2-4359-919A-C722B01E2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C716-0ADE-42A6-8F84-E05E4FDBE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0D028-70E7-4A95-BE29-F0DE150C1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3D3FE-5943-487B-A568-F068F7805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5BDB7-5E41-46B8-B53E-169D4DE94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623BD-2784-4374-BC2A-9283E093C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8777C-6F62-4439-986A-9785E11D0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CA270-1FDA-4238-BD7C-A3231F3B2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D1370-C3CE-4305-9F13-B14137E23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811E-1BEB-4B14-9D57-E1AF02776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19853-A7F2-4D2E-B0EC-06914D1FB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EED8A-96D2-4B6F-B624-6E56F338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E4956-0A90-4589-B1C1-2BDB4B6DD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80BFA-232F-4C61-BA1F-FD3848569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C63DB-04B5-4CB0-9DFF-E2FB0503F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E007-4D10-4226-8DB7-3E6E5A5AD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49A4-196A-4FB9-B89C-C91BA0BBD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2003-B0FB-4A17-A3E9-A42D40386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8697-5094-42E2-901D-252B6B32D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BADE-5075-43B5-9002-B83BEF34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C7C3-00F0-47DD-A242-34ACFEEFA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E1A7-9E93-427B-BC59-57FF0CCA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E5787-5510-4BA6-8A9E-432D5DBD44A8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E2665-04CC-4CE6-96BE-C838BE16459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9F471-DCB0-4076-AA65-249AADF95A99}" type="datetime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7C6BD-C469-4391-97A1-4CA21998300A}" type="slidenum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213336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87" name="Picture 4" descr="Illustratie"/>
          <p:cNvPicPr/>
          <p:nvPr/>
        </p:nvPicPr>
        <p:blipFill>
          <a:blip r:embed="rId1"/>
          <a:stretch/>
        </p:blipFill>
        <p:spPr>
          <a:xfrm>
            <a:off x="4622760" y="228600"/>
            <a:ext cx="4521240" cy="62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Agnosie: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stoornis in het identificeren van voorwerpen, geluiden, geur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iemand ruikt wel goed (gas) maar herkent niet de geur van gas / gevaar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tandenborstel / kam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15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Symptomen van de tweede ord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4319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Stemmingswisseling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Gedragsveranderingen/gedragsstoorniss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karaktertrekk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Decorumverlies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Incontinenti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confabuler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03640" y="1916280"/>
            <a:ext cx="381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woede / agressie / angs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apathie / achterdoch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verzamelwoed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perseverer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19" name="Picture 5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Soorte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55 %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ziekte van Alzheimer 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10 %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Vasculaire Dementie (MID =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multi - infarct dementie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22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Ziekte van Alzheimer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1907: voor het eerst beschrev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langzaam en geleidelijk worden hersencellen vernietigt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oorzaak: kluwens van eiwitten in de hersen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25" name="Picture 4" descr="alzheimer"/>
          <p:cNvPicPr/>
          <p:nvPr/>
        </p:nvPicPr>
        <p:blipFill>
          <a:blip r:embed="rId1"/>
          <a:stretch/>
        </p:blipFill>
        <p:spPr>
          <a:xfrm>
            <a:off x="7315200" y="609480"/>
            <a:ext cx="1590840" cy="2781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alzheimer eiwit"/>
          <p:cNvPicPr/>
          <p:nvPr/>
        </p:nvPicPr>
        <p:blipFill>
          <a:blip r:embed="rId2"/>
          <a:stretch/>
        </p:blipFill>
        <p:spPr>
          <a:xfrm>
            <a:off x="6019920" y="4186080"/>
            <a:ext cx="3124080" cy="2671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woman1"/>
          <p:cNvPicPr/>
          <p:nvPr/>
        </p:nvPicPr>
        <p:blipFill>
          <a:blip r:embed="rId3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Andere vormen va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Corticale dementie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frontale kwabdementie (o.a. ziekte van Pick)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dementie van het Lewy Body typ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ziekte van Creutzfeldt - Jacob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30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Andere vormen va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subcorticale dementie (secundaire dementies)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ziekte van Parkinso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Multiple scleros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AIDS - dementi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33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Ziekte van Alzheimer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Kenmerk: stoornissen in recente geheug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lijkt eerst op verstrooidheid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geheugen neemt steeds meer af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autonoom handelen wordt onmogelijk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36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2362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Risico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factoren: hoe ouder hoe meer kans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Ziekte van Alzheimer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pic>
        <p:nvPicPr>
          <p:cNvPr id="139" name="Picture 6" descr="alz-prev"/>
          <p:cNvPicPr/>
          <p:nvPr/>
        </p:nvPicPr>
        <p:blipFill>
          <a:blip r:embed="rId1"/>
          <a:stretch/>
        </p:blipFill>
        <p:spPr>
          <a:xfrm>
            <a:off x="3048120" y="198108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woman1"/>
          <p:cNvPicPr/>
          <p:nvPr/>
        </p:nvPicPr>
        <p:blipFill>
          <a:blip r:embed="rId2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Vasculaire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Altijd: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Geheugenverlies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communicatiemoeilijkhed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stemmingswisseling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depressies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hallucinaties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43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Vasculaire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Kenmerkend: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plots begin van het dementiesyndroom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sprongsgewijze achteruitgang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  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onregelmatig verval van geestelijk vermogen: afhankelijk van de plaats van de infarct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46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DEMENTIE</a:t>
            </a: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Verzamelnaam voor een groep van ziekten met een vaste kern van verschijnselen.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Geheugenverlies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Verlies van oriëntati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Moeilijkheden met denken 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Verandering van gedrag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90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Vasculaire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Kan gevolg zijn van 1 of meerdere infarcten.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= plotselinge verstoring van doorbloeding van hersenweefsel, daardoor uitval van deel hersenwerking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49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Fasen i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Voorstadium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vergeetachtig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laat steken vall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camouflage - gedrag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ontkenning / rouw / verdriet /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irritatie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52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Fasen i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ccecff"/>
                </a:solidFill>
                <a:latin typeface="Comic Sans MS"/>
              </a:rPr>
              <a:t>Beginnende dementie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begeleiding nodig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confrontatie met andere wereld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angst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zoekt houvast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55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Fasen i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ccecff"/>
                </a:solidFill>
                <a:latin typeface="Comic Sans MS"/>
              </a:rPr>
              <a:t>Milde of matige dementie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opslaan of onthouden van info 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lukt niet meer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zorgvrager wordt apathisch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steeds meer zorg nodig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gaat verder terug in herinnering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heden / verleden loopt door 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elkaar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58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Fasen i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ccecff"/>
                </a:solidFill>
                <a:latin typeface="Comic Sans MS"/>
              </a:rPr>
              <a:t>Ernstige of diepe dementie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verpleging en verzorging: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behoeften vervullen: eten /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drinken / rust / geborgenheid /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warmte / veiligheid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communicatie via taal niet meer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mogelijk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61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alzheimer1"/>
          <p:cNvPicPr/>
          <p:nvPr/>
        </p:nvPicPr>
        <p:blipFill>
          <a:blip r:embed="rId2"/>
          <a:stretch/>
        </p:blipFill>
        <p:spPr>
          <a:xfrm>
            <a:off x="6568920" y="0"/>
            <a:ext cx="25750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Dementie</a:t>
            </a: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Afgeleid van het Latijnse   de-mens = zonder geest zijn, ontgeestelijk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niet alleen achteruitgang van geestelijke vermogens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ook lichamelijke gevolgen.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93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Stoornissen in het korte termijn geheug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recente gebeurteniss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nieuwe indrukk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raakt sneller “de draad kwijt”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96" name="Picture 4" descr="dementie"/>
          <p:cNvPicPr/>
          <p:nvPr/>
        </p:nvPicPr>
        <p:blipFill>
          <a:blip r:embed="rId1"/>
          <a:stretch/>
        </p:blipFill>
        <p:spPr>
          <a:xfrm>
            <a:off x="6453360" y="2819520"/>
            <a:ext cx="2690640" cy="27144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woman1"/>
          <p:cNvPicPr/>
          <p:nvPr/>
        </p:nvPicPr>
        <p:blipFill>
          <a:blip r:embed="rId2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Stoornissen in het lange termijn geheug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in latere fase van dementie verdwijnt geheugen verder: recent verleden verdwijn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bijv. oorlogsherinneringen / jeugdherinneringen blijven langer intac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00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828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Desoriëntatie in persoo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treedt op in latere fas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herkent voor hem bekende personen niet meer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soms ook eigen spiegelbeeld niet meer herken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03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Desoriëntatie in tijd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welke dag / jaar / seizo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ochtend / avond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nachtelijke onrus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Desoriëntatie in ruimte 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waar woon ik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waar ben ik nu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waar is het toile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2" marL="10972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Comic Sans MS"/>
            </a:endParaRPr>
          </a:p>
          <a:p>
            <a:pPr lvl="2" marL="10972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Comic Sans MS"/>
            </a:endParaRPr>
          </a:p>
          <a:p>
            <a:pPr lvl="2" marL="10972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06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Afasie: taalstoornis: wat hij ziet of hoort kan niet meer benoemd word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a. kan iets niet op de goede manier zegg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b. stroom van woorden zonder betekenis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c. gestoord taalbegrip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09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Apraxie: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verminderd vermogen om doelgericht handelingen uit te voer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vlees snijd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zich aankled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knopen dichtdo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schaar gebruik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12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1T16:57:32Z</dcterms:created>
  <dc:creator>Rita de vries</dc:creator>
  <dc:description/>
  <dc:language>en-US</dc:language>
  <cp:lastModifiedBy>A.R. Niemeijer</cp:lastModifiedBy>
  <dcterms:modified xsi:type="dcterms:W3CDTF">2016-05-08T08:16:39Z</dcterms:modified>
  <cp:revision>10</cp:revision>
  <dc:subject/>
  <dc:title>DEMENTIE</dc:title>
</cp:coreProperties>
</file>