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AAC-AC7C-4B4C-A5D2-0DB69331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D6D-CEFE-48E1-ACEA-9531197C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7C4-6B6D-4B17-8DDE-FBE41BDE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4EC-BCE7-4CCF-AD29-2C84F85B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8887-4688-4D76-BFAF-9D269228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46C1-0C73-48E1-9FCE-3A9DF864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3FA6-60D4-4F17-BA25-CED19BD4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1B41-629A-4350-8226-E406DDFF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C751-036A-47DA-A5C6-EF972EDE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9BA8-7D6B-4612-889D-8E6F6405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33A0-A35D-4FB3-A5E5-C4F74C72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AEE-1B10-4AF5-BB9B-D593CA9F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F84C-F519-48E3-8A2D-3E87F3F5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0C45-EEDB-412C-A01F-AAA43B94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AE33-82AB-4C1F-9679-045A1323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3E91-8447-4538-8E52-336B4FBD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73F2-A992-4FD1-805D-D546AA49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21FA-E184-4B65-B980-96BF62D3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3E29-5176-4568-89D7-7A310112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5FC95-D49F-47C9-AB36-04EE7C45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0E25-0AB1-4190-9117-CFF7F51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9843-EC6E-42D3-8D7C-B3BB4EC4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AE0-8D09-4F96-8AD8-C9B54CEA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BEDC-D397-41EE-9365-742EFC89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D01A-5D7A-4BDB-A3BE-5E112E76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AFBD-6F33-404E-BA7C-35466C6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D992-27BF-4EF0-9FC4-3509391A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B67C-2E07-443A-A4CE-8B40C2A7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7DD0-00AA-42BD-9A76-6DD74120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C87C-451C-4885-8815-A9308EDF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AEA1-0E43-45E8-8480-92941CBE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C80E-17C1-45A6-82B7-302991BD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F8EA-DB0D-4F1C-AEB4-9CB927AC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712-7D22-454B-84CF-A7F0F9A7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8B2B-B4B5-407F-BAC2-52162AE4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78D1-D425-439B-AD68-0BFD716C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A185-57CA-4C62-8474-85AD7D64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E88F-DE31-4CE2-A02F-D06ED99D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B2D23-45FE-4F9B-B21E-952065CE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0E38-B0A1-46DB-8EE8-2C9FD5D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E26D4-098F-41DB-AB2D-67DC0FDB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5517F-BF9B-4F22-9E39-C8F2F23F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1435E-4489-45D3-B064-3D159806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E1F34-5FD9-4719-A921-30399FB7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8DE-28CE-4DD0-83A3-57F3774F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407FC-44FB-47C3-BFD6-5CCA8776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40F3-3EED-4C56-B234-34242A7E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C512-49DC-474A-8E66-8993B7B0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7B77B-8BE9-4540-A6B5-A398F0C6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86B3F-99AC-47C9-8D6C-2F32A03E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F299-1203-45FB-94BF-81025403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79F52-8126-4283-BC8D-7B61CE1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416B6-7A97-4FED-9267-CEE7C778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FD260-A222-4E9A-83C1-1F95E850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DD55C-CBF2-4C45-9F0C-05B640D7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E89-6D52-499D-A18F-441964A2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6368E-7B57-4258-8645-A3D77786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732-E045-4F75-97CE-43E40D7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740-0295-47E7-BE8A-BD20CF1B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848-6F9E-470F-B15E-73ED9745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5E94-B580-494A-900F-5B537549390B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EE40-940E-4D72-9C8D-A959163A27C8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856F-2460-43E8-946A-719EF6C621A7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C78A-693A-4644-9D37-FA857C3DD8BA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D56A-CFAA-4A6D-86FE-5E4E9CB2F1B8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92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Tremoren:  spiertril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Akinesie: bewegingsarmoede&gt; free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Rigiditeit: stijfheid spi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Huidproblematie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bstipa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eekselvloed/ droge mo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ogklacht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ictie probl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aap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gnitieve 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sychische gevol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ir_William_Richard_Gowers_Parkinson_Disease_sketch_1886"/>
          <p:cNvPicPr/>
          <p:nvPr/>
        </p:nvPicPr>
        <p:blipFill>
          <a:blip r:embed="rId2"/>
          <a:stretch/>
        </p:blipFill>
        <p:spPr>
          <a:xfrm>
            <a:off x="2700360" y="1773360"/>
            <a:ext cx="3311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loog; klinisch beeld/ verloop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T scan om andere oorzaken uit te sluiten (computer tomografie) dwarsdoorsned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ctie op medicijnen bevestigd de diagn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edicatie: z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vodop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nticholinergica: meestal in begin van de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opamine antagonis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060412ali"/>
          <p:cNvPicPr/>
          <p:nvPr/>
        </p:nvPicPr>
        <p:blipFill>
          <a:blip r:embed="rId1"/>
          <a:stretch/>
        </p:blipFill>
        <p:spPr>
          <a:xfrm>
            <a:off x="2124000" y="90792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020510_paus"/>
          <p:cNvPicPr/>
          <p:nvPr/>
        </p:nvPicPr>
        <p:blipFill>
          <a:blip r:embed="rId1"/>
          <a:stretch/>
        </p:blipFill>
        <p:spPr>
          <a:xfrm>
            <a:off x="1332000" y="189000"/>
            <a:ext cx="705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claus_2"/>
          <p:cNvPicPr/>
          <p:nvPr/>
        </p:nvPicPr>
        <p:blipFill>
          <a:blip r:embed="rId1"/>
          <a:stretch/>
        </p:blipFill>
        <p:spPr>
          <a:xfrm>
            <a:off x="1692360" y="549360"/>
            <a:ext cx="597528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111480" y="1100160"/>
            <a:ext cx="294336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hthoek 1"/>
          <p:cNvSpPr/>
          <p:nvPr/>
        </p:nvSpPr>
        <p:spPr>
          <a:xfrm>
            <a:off x="826920" y="1557360"/>
            <a:ext cx="60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tweetallen de vra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ken op pagina 234: 1 t/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512640" y="244440"/>
            <a:ext cx="8631360" cy="1724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de ziekte van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ie was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het verloop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zijn de symptom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nderzoek en behandelin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pleegkundige zor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04200" cy="1395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55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ef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leidelijke progressieve aandoening van het CZ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stantia Nigra (zwarte substanti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transmitters: neuro : zenuw, transmitter : overbreng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parkinson4"/>
          <p:cNvPicPr/>
          <p:nvPr/>
        </p:nvPicPr>
        <p:blipFill>
          <a:blip r:embed="rId1"/>
          <a:stretch/>
        </p:blipFill>
        <p:spPr>
          <a:xfrm>
            <a:off x="900000" y="692280"/>
            <a:ext cx="734400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James Parkinson (Londen 1755 – Londen 1824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irurg en apothek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1817  schreef hij een artikel shaking pals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ter werd deze ziekte Parkinson genoemd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ziekte komt iets vaker voor bij mannen dan bij vrouw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gint meestal tussen 45jr – 64 ja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% van mensen boven de 60 jaar  lijdt aan de ziekte van Parkin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g steeds in onderzoek (misvormd eiwit?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rfelijke aanle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6 genen bekend die de ziekte van parkinson kunnen veroorzak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ngaanvergiftiging, mangaan wordt gebruikt in de staal industr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ttps://www.youtube.com/watch?v=ning29u3uj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teer welke verschijnselen worden verteld in de fil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dia van Hoehn en Yah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1.eenzijdige, lichte symtomen die weinig belemmeren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2.tweezijdige symtomen met nog maar een geringe motorische handicap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3.volledig ziektebeeld, problemen met houdingsstabiliteit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4.invaliderend ziektebeeld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5.Alleen met hulp kunnen lopen en staan, bed- en rolstoelgebonden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9:51:25Z</dcterms:created>
  <dc:creator>Joop</dc:creator>
  <dc:description/>
  <dc:language>en-US</dc:language>
  <cp:lastModifiedBy>A.R. Niemeijer</cp:lastModifiedBy>
  <dcterms:modified xsi:type="dcterms:W3CDTF">2016-06-07T15:55:14Z</dcterms:modified>
  <cp:revision>23</cp:revision>
  <dc:subject/>
  <dc:title>College ziektekunde</dc:title>
</cp:coreProperties>
</file>