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40B-77B0-423F-AA08-82F3C346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DF5-1DBF-4F36-8EAA-F9FFEDF6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CC2-0617-4562-9463-BBCDD777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8F7-F3C2-4B45-A589-CEEA2C52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52C5-BEBE-4E98-92AA-CA9A3E1D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C827-1FD3-4AE1-BC1F-28A5A908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4C00-07F6-49B7-80D7-4DBF5E0A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CE43-3F8A-4897-B68B-DBE7FB4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7994-3EA7-49BE-A41F-1E679995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811A-A830-43BC-AAD8-72E47CCC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2D5D-824B-4818-B0D4-80BA4C00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740-CB24-462F-80CE-A998C465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D426-C4E3-48B1-984E-A4026906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9CC8-F484-468C-8435-07B7856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D71F-D747-4750-8003-29471929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075E-2FDC-443A-B3BA-FBE3F83C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876D-7A44-4C2B-BC07-DBB9BF2F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1E2-9FC7-4D55-9CCF-8416F086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4E2-CF58-4185-BB6D-895EA73A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D21-17F4-4648-AF31-CAA3B6D5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66E-CC68-478D-B457-77A7BF49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D67-8B5F-4927-B4C3-8D134408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7FE-8609-436F-8BA8-D5E2101B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842-DDDF-4D70-8ACD-BE0D0F4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74D0-78E0-447C-85D8-E9D7A14E63F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F502-59A2-43E3-B2B7-0AA4D52C581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1B75-B578-42AC-A692-DE1F985B8AAD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ACC3-8B71-4DE1-AC69-9D2ACEEC7DB5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A.R. Niemeijer</cp:lastModifiedBy>
  <dcterms:modified xsi:type="dcterms:W3CDTF">2016-05-08T08:16:39Z</dcterms:modified>
  <cp:revision>10</cp:revision>
  <dc:subject/>
  <dc:title>DEMENTIE</dc:title>
</cp:coreProperties>
</file>