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DEC-9729-4298-88B6-EA2A8436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711-C788-456B-BD2A-4105908B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2CD-0BFD-414F-95CB-B3C0FD91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6CC-F0FB-4EB7-BE2B-CBF3C21D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EBC5-A0C3-4D0E-81B9-77A52EB2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7989-756C-430B-867F-7ACF5702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DDFB-C18F-450D-B9FF-3937DC12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7297-81A5-4677-A1B6-E3C3BACF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70C4-768C-412D-AEA9-724B915C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B287-790B-4428-B2BB-02EB147F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6E4A-B864-4DA4-AF7E-CF00CC4E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089-AD57-4A12-9E86-1D2ED021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D53F-549E-4C85-B227-C3EC11D0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5B11-2BE3-4F33-BFEF-8EEDB60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E810-7128-4269-AB23-B150B564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23F2-C466-4AF6-8B38-CB459F46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66A2-0742-48D3-BE41-ADEBD405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87F4D-1A54-40F5-A7A4-E948085A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B870-4D03-4206-B550-8BB1885B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CE90-7086-4ABC-B2D9-4BF2A7DB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9F1C7-0A0B-47D2-9974-8BBFDE2B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D5E0-9F80-4A31-BF86-8AA5D623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5A1-20CD-462B-B41E-5840C210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6C73-ED65-452B-98F2-7FDA6814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7895-3F35-4888-97C8-2D337042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D3A2-E8A3-4B07-9618-5D2C1986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362AD-0FD9-4886-9F28-1F94932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58485-6E72-4758-BC6E-0385099F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3DA5B-5620-4D85-89D2-29E2E8F2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9E0A-A549-4831-8BBD-FCE7A951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C592-EB8B-45D0-88F6-77F69D43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B0613-D8FA-4A51-A00D-E31BAA14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8FE93-C6BA-4706-8CC3-CD1DD0E8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2D2-7915-4DBC-83C8-32BED541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A3D52-35AA-430B-9F83-A6257B1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CFE73-E97D-490B-A644-37ECC548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41ED2-C0AF-46DB-9C9A-EA0ED634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A73A-8B1A-4884-9C5B-92CC7C23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CEE1-736F-473B-BE5C-A687752A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74AE3-9899-4AD3-9060-ACE9617F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4E00-B97E-42D2-AECF-5EF9FA3F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756D1-1E76-4D0E-94A3-943E1DDC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0322D-A601-4FC3-AE1B-B5CA0114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35D41-D409-425D-AC41-89BA2770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FF8-46F9-472A-A488-9432C495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9455D-C253-4D80-9307-A91E10C7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01355-DC7D-4318-A6C1-AD482081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1A68C-D8B4-4C51-BFD3-4E1181ED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91D43-149F-4260-805F-39E82E1A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2A6FF-C4B0-4BB9-8F34-2C042EDB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E59AC-02E0-4DF8-8E78-E2D3458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0FAE6-04B1-495E-89A8-AE9B07C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BC5F8-21D0-443B-A2CE-D930D7C7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33C16-380A-4194-97E1-E3D9C9E7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A8855-342A-4AB0-8F7C-1599F8B1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83D-A4E8-45EF-9535-5DF6C67D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679E8-3A29-4C65-AFDA-73841D5C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B3A-94FD-4D47-B591-F2F64D57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B1D-FED2-4D59-9291-72CF52DA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186-7010-46EB-8D49-56408A0B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1660-D850-4026-81E2-68ED0EF56AC4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6519-D72B-40FB-8923-B041065A96A5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F93F-5762-431F-AEB4-07F25DCFD4A7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F564-CE3E-48EF-9066-D14869282EC3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2A9A-C4A6-46E9-A031-3DC8C6193FCC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92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Tremoren:  spiertril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Akinesie: bewegingsarmoede&gt; freez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Rigiditeit: stijfheid spi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Huidproblematie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bstipa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peekselvloed/ droge mo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ogklacht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ictie proble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aap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ognitieve 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sychische gevol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ir_William_Richard_Gowers_Parkinson_Disease_sketch_1886"/>
          <p:cNvPicPr/>
          <p:nvPr/>
        </p:nvPicPr>
        <p:blipFill>
          <a:blip r:embed="rId2"/>
          <a:stretch/>
        </p:blipFill>
        <p:spPr>
          <a:xfrm>
            <a:off x="2700360" y="1773360"/>
            <a:ext cx="3311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loog; klinisch beeld/ verloop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T scan om andere oorzaken uit te sluiten (computer tomografie) dwarsdoorsned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ctie op medicijnen bevestigd de diagn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edicatie: zo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vodop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nticholinergica: meestal in begin van de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opamine antagonis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060412ali"/>
          <p:cNvPicPr/>
          <p:nvPr/>
        </p:nvPicPr>
        <p:blipFill>
          <a:blip r:embed="rId1"/>
          <a:stretch/>
        </p:blipFill>
        <p:spPr>
          <a:xfrm>
            <a:off x="2124000" y="90792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020510_paus"/>
          <p:cNvPicPr/>
          <p:nvPr/>
        </p:nvPicPr>
        <p:blipFill>
          <a:blip r:embed="rId1"/>
          <a:stretch/>
        </p:blipFill>
        <p:spPr>
          <a:xfrm>
            <a:off x="1332000" y="189000"/>
            <a:ext cx="7056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claus_2"/>
          <p:cNvPicPr/>
          <p:nvPr/>
        </p:nvPicPr>
        <p:blipFill>
          <a:blip r:embed="rId1"/>
          <a:stretch/>
        </p:blipFill>
        <p:spPr>
          <a:xfrm>
            <a:off x="1692360" y="549360"/>
            <a:ext cx="597528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111480" y="1100160"/>
            <a:ext cx="294336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hthoek 1"/>
          <p:cNvSpPr/>
          <p:nvPr/>
        </p:nvSpPr>
        <p:spPr>
          <a:xfrm>
            <a:off x="826920" y="1557360"/>
            <a:ext cx="60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tweetallen de vra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ken op pagina 234: 1 t/m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512640" y="244440"/>
            <a:ext cx="8631360" cy="1724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de ziekte van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ie was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het verloop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zijn de symptom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nderzoek en behandelin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pleegkundige zor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04200" cy="1395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55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ef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leidelijke progressieve aandoening van het CZ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ubstantia Nigra (zwarte substanti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transmitters: neuro : zenuw, transmitter : overbreng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parkinson4"/>
          <p:cNvPicPr/>
          <p:nvPr/>
        </p:nvPicPr>
        <p:blipFill>
          <a:blip r:embed="rId1"/>
          <a:stretch/>
        </p:blipFill>
        <p:spPr>
          <a:xfrm>
            <a:off x="900000" y="692280"/>
            <a:ext cx="734400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James Parkinson (Londen 1755 – Londen 1824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irurg en apothek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 1817  schreef hij een artikel shaking pals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ter werd deze ziekte Parkinson genoemd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ziekte komt iets vaker voor bij mannen dan bij vrouw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gint meestal tussen 45jr – 64 ja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1% van mensen boven de 60 jaar  lijdt aan de ziekte van Parkins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g steeds in onderzoek (misvormd eiwit?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rfelijke aanle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6 genen bekend die de ziekte van parkinson kunnen veroorzak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ngaanvergiftiging, mangaan wordt gebruikt in de staal industr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ttps://www.youtube.com/watch?v=ning29u3uj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teer welke verschijnselen worden verteld in de fil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dia van Hoehn en Yah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1.eenzijdige, lichte symtomen die weinig belemmeren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2.tweezijdige symtomen met nog maar een geringe motorische handicap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3.volledig ziektebeeld, problemen met houdingsstabiliteit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4.invaliderend ziektebeeld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5.Alleen met hulp kunnen lopen en staan, bed- en rolstoelgebonden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9:51:25Z</dcterms:created>
  <dc:creator>Joop</dc:creator>
  <dc:description/>
  <dc:language>en-US</dc:language>
  <cp:lastModifiedBy>A.R. Niemeijer</cp:lastModifiedBy>
  <dcterms:modified xsi:type="dcterms:W3CDTF">2016-06-07T15:55:14Z</dcterms:modified>
  <cp:revision>23</cp:revision>
  <dc:subject/>
  <dc:title>College ziektekunde</dc:title>
</cp:coreProperties>
</file>