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CFA-D761-4A19-91AF-E77DDCC5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266-9107-4006-B357-E929B7F8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C15-526A-4924-9228-B8C477FE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8BB-9057-4A06-9A53-2E33E4E6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847E-F983-480F-ABE0-1CE4E897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A458-B477-4BA0-9838-FFB064EA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9E5F-7D18-4D1B-AADF-9CA6E918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F0E6-52C4-43A7-9D00-A392ACD7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D32A-2D0D-4C6B-94D0-6DF63083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E74E-1BF2-4D54-B7F7-C008C29B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FF38-90ED-47A4-8EA3-34BE969D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EB4-DE4C-4526-90A5-24ED9534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D282-C0F6-41B0-AA8B-156FAEE3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DEE9-4862-4456-968A-12FCEB83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1089-DAF5-461D-8943-902494E8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9766-A73C-4F9A-8403-B590D77F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1479-3467-46D4-AF43-905B1FB5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A0F-EE4B-499E-B5BC-3D08176B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3A9-9506-482D-88C1-10C0F878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A94-6159-474B-BE4A-826D63C5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360-E5EF-4FE7-9576-39BB8241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814-99B3-4CD7-B34A-930A40DB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806-5CFC-4D15-83FA-BD084060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3E9-710D-4CCF-82D9-D9CEA8A6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B609-5642-44C8-AB62-CB059E958D6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E739-285F-432B-B955-D64C6D6AB1D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13F2-AFB1-4BAC-9061-D1FD14E4DB7E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69CB-1032-442B-91E5-0958DFAFC878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A.R. Niemeijer</cp:lastModifiedBy>
  <dcterms:modified xsi:type="dcterms:W3CDTF">2016-05-08T08:16:39Z</dcterms:modified>
  <cp:revision>10</cp:revision>
  <dc:subject/>
  <dc:title>DEMENTIE</dc:title>
</cp:coreProperties>
</file>