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18.png" ContentType="image/png"/>
  <Override PartName="/ppt/media/image17.png" ContentType="image/png"/>
  <Override PartName="/ppt/media/image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5B04-DAD8-487A-B5CD-AA929400C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C98B-E002-4D54-A500-650E0273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91B6-7D1D-42FD-B40D-4214ED4BC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46C8-DD88-4DFC-88FF-21F2DBE97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B0F4-6F1C-4ECD-A0FC-7D06C5B80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75D4-0B87-4A68-AB46-61804455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B003-2AFD-4F4D-B160-8CDD6FEC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1DAC-7889-440F-B367-8A14A691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474B9-A64F-4477-A756-2553FE38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EF5F-141F-40E3-AB2E-308DD94F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E3B7-D0A4-402B-838A-BF495BAB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3CDB-3F20-4CE7-8078-DCCE818A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3DCA-2B98-4E59-8487-A7E68A79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7B4A-7DC9-43B4-82C0-C50346FA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B1DD-9ACC-4982-9B72-DC4226A9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CC2E-26AD-4896-9EDA-47F916CEE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4B4C-B962-4D4C-99E2-7DB6656DF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424C1-F823-4643-9161-F0364364B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AC5CA-AE30-4525-BB82-AF057BEF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73BFF-49D0-424B-8ACE-D777BADB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7885E-2649-4162-9B87-A78EB094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AD91A-07FE-4F15-8968-9565DEB8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B178-53F7-4F4B-BC15-6B1D042C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F3A66-5B17-45B8-BECA-7D2CBDCB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28EA4-2651-4D21-8B37-1EF0B156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84136-2750-4127-A245-CE2E3847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2568E-48B3-408F-94EE-CE7A7E3E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B1FF5-F30A-498D-B850-A600FCCA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65CA7-B472-48FD-90F4-A0C6F9B59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1F66D-E30D-43A3-9427-3D82410C8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CE3D9-CB35-477C-B89D-C3EF3EF2E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B4B3C-5C3B-4368-8FED-2DDFD627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5F687-CF07-4F47-928D-3B6503A4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42CE-4FFA-4EE0-A5AB-7BE1E525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0D4E6-EBA9-485E-904F-219AB38D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5F416-793E-4F43-929C-3EB8F872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3E675-CC2A-426B-99FB-C5E28F31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FD4E4-8BD3-4DFD-9D21-15D47B04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F77F4-7618-4236-9381-4BB252F3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93CDE-4DE6-4997-8B6C-7BFB9583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85B6A-DA04-41A2-84F5-AA37E15E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CEBC9-1D3E-4F53-A883-FD99DCCF6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E3E9F-87AD-424A-82AC-A6392525E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1372A-953C-4B11-BB79-37DDACD56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FF16-5001-4187-9C20-A36E5DCE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8A342-1907-4623-BB2E-AB241728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8D6BA-5406-4E0E-ABA9-169911C3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ED541-9849-479B-AAAD-EA88392A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563C1-65BB-45B1-ACB3-3CBFF2E6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7B103-A89D-4ABC-8090-96BC2768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CDBD3-24BC-4B7E-BC8C-C6C3A2FD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613AC-2521-4127-9F95-995D0CF6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237DE-D41E-4A63-A991-662F3FEE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CD321-FA42-40A2-826B-6544FC9A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145BD-AB0F-4C31-A4C0-B5C1FEB52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6823-DA2A-43A0-B2F2-95B27E8E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1273B-08EA-44FD-A58B-00D3B9358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2DD3-357C-4DF5-8D2F-FB7F0758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CE6E-7313-4275-BA76-A6DF0B90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F55B-2B22-4837-ABDB-80B508A4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8817-ED09-459B-9EF5-F34D7BF20637}" type="slidenum">
              <a:rPr b="0" lang="nl-N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hthoek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Rechthoek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Rechte verbindingslijn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F830-74A4-4F02-BF31-780ED5E58640}" type="slidenum">
              <a:rPr b="0" lang="nl-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4901-4F2E-48A7-9842-DF4EC528FDA3}" type="slidenum">
              <a:rPr b="0" lang="nl-N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hthoek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hoek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D12E-1254-47FC-B7D7-E5D87E6655D3}" type="slidenum">
              <a:rPr b="0" lang="nl-NL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0AE5-11C7-4A68-8556-F279A1E068CD}" type="slidenum">
              <a:rPr b="0" lang="nl-N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3365640" y="536400"/>
            <a:ext cx="5529240" cy="31942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Tremoren:  spiertrill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Akinesie: bewegingsarmoede&gt; freez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Rigiditeit: stijfheid spier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Huidproblematiek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Obstipati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Speekselvloed/ droge mon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Oogklachte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Mictie probleme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Slaapstoornisse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Cognitieve stoornisse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Psychische gevolge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el 1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454880" cy="14209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Sir_William_Richard_Gowers_Parkinson_Disease_sketch_1886"/>
          <p:cNvPicPr/>
          <p:nvPr/>
        </p:nvPicPr>
        <p:blipFill>
          <a:blip r:embed="rId2"/>
          <a:stretch/>
        </p:blipFill>
        <p:spPr>
          <a:xfrm>
            <a:off x="2700360" y="1773360"/>
            <a:ext cx="3311640" cy="48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837720" y="1413000"/>
            <a:ext cx="800748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Neuroloog; klinisch beeld/ verloop ziekt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CT scan om andere oorzaken uit te sluiten (computer tomografie) dwarsdoorsnede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Reactie op medicijnen bevestigd de diagnos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Medicatie: zoal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levodop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Anticholinergica: meestal in begin van de ziekt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Dopamine antagonist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5" descr="060412ali"/>
          <p:cNvPicPr/>
          <p:nvPr/>
        </p:nvPicPr>
        <p:blipFill>
          <a:blip r:embed="rId1"/>
          <a:stretch/>
        </p:blipFill>
        <p:spPr>
          <a:xfrm>
            <a:off x="2124000" y="907920"/>
            <a:ext cx="417672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5" descr="020510_paus"/>
          <p:cNvPicPr/>
          <p:nvPr/>
        </p:nvPicPr>
        <p:blipFill>
          <a:blip r:embed="rId1"/>
          <a:stretch/>
        </p:blipFill>
        <p:spPr>
          <a:xfrm>
            <a:off x="1332000" y="189000"/>
            <a:ext cx="705636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5" descr="claus_2"/>
          <p:cNvPicPr/>
          <p:nvPr/>
        </p:nvPicPr>
        <p:blipFill>
          <a:blip r:embed="rId1"/>
          <a:stretch/>
        </p:blipFill>
        <p:spPr>
          <a:xfrm>
            <a:off x="1692360" y="549360"/>
            <a:ext cx="5975280" cy="56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111480" y="1100160"/>
            <a:ext cx="2943360" cy="357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hthoek 1"/>
          <p:cNvSpPr/>
          <p:nvPr/>
        </p:nvSpPr>
        <p:spPr>
          <a:xfrm>
            <a:off x="826920" y="1557360"/>
            <a:ext cx="603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 tweetallen de vra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ken op pagina 234: 1 t/m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512640" y="244440"/>
            <a:ext cx="8631360" cy="172404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at is de ziekte van Parkinson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ie was Parkinson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at is het verloop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at zijn de symptomen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Onderzoek en behandeling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Verpleegkundige zorg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244440" y="324000"/>
            <a:ext cx="7504200" cy="13953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75528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Beefziekt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Geleidelijke progressieve aandoening van het CZ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Substantia Nigra (zwarte substantie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Neurotransmitters: neuro : zenuw, transmitter : overbreng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5" descr="parkinson4"/>
          <p:cNvPicPr/>
          <p:nvPr/>
        </p:nvPicPr>
        <p:blipFill>
          <a:blip r:embed="rId1"/>
          <a:stretch/>
        </p:blipFill>
        <p:spPr>
          <a:xfrm>
            <a:off x="900000" y="692280"/>
            <a:ext cx="7344000" cy="53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James Parkinson (Londen 1755 – Londen 1824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Chirurg en apothek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In 1817  schreef hij een artikel shaking pals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Later werd deze ziekte Parkinson genoemd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De ziekte komt iets vaker voor bij mannen dan bij vrouw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Begint meestal tussen 45jr – 64 jaa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1% van mensen boven de 60 jaar  lijdt aan de ziekte van Parkins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Nog steeds in onderzoek (misvormd eiwit?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Erfelijke aanle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6 genen bekend die de ziekte van parkinson kunnen veroorzak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Mangaanvergiftiging, mangaan wordt gebruikt in de staal industri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8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https://www.youtube.com/watch?v=ning29u3uj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Noteer welke verschijnselen worden verteld in de fil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Rectangle 2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454880" cy="14209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Stadia van Hoehn en Yahr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1.eenzijdige, lichte symtomen die weinig belemmeren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2.tweezijdige symtomen met nog maar een geringe motorische handicap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3.volledig ziektebeeld, problemen met houdingsstabiliteit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4.invaliderend ziektebeeld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5.Alleen met hulp kunnen lopen en staan, bed- en rolstoelgebonden;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9:51:25Z</dcterms:created>
  <dc:creator>Joop</dc:creator>
  <dc:description/>
  <dc:language>en-US</dc:language>
  <cp:lastModifiedBy>A.R. Niemeijer</cp:lastModifiedBy>
  <dcterms:modified xsi:type="dcterms:W3CDTF">2016-06-07T15:55:14Z</dcterms:modified>
  <cp:revision>23</cp:revision>
  <dc:subject/>
  <dc:title>College ziektekunde</dc:title>
</cp:coreProperties>
</file>