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19D-F03A-4F77-BE26-D975D54E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651-B761-4080-A774-9C2A989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85E-639A-448A-8328-09ED57EC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98D-E726-46C4-B828-B203C0B0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A1E2-1C7D-403A-8BD0-CAE5B13E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ECC-1384-4807-801A-48E4B07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9B67-9C48-41FD-B86C-593DA370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5842-0EF8-4DEE-B3E2-7B3D72A5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E2B9-1DCD-473E-957C-5182588D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C6A1-38B4-4272-9DED-DD03807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18E-90BB-40B8-AD46-A43F3C5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4EE-8AB1-47ED-AF83-7D928F0F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81F9-DA02-4CBD-995E-B2CA78D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FB29-8E7D-45D9-9CAA-F413501C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F12D-A3E1-4608-B35F-9A7D8E12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CB4-9C08-46AF-A6FA-694D60DC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F013-E7AF-42C3-8D6C-71F3E91A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826-506E-46D5-964C-0715CAC2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C8F-D03B-40E3-8708-F2AE3E4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220-F830-4311-8F29-D9110A94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455-9644-49B6-BD60-6918E70B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932-7A34-4459-8A5F-EB2EF76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A68-8F6C-4D0E-A19D-D241576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FE6-18C6-4029-B3AA-2367FD9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4ECA-1E21-4FA5-9346-6F0E617F10C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0109-5C36-4055-B7AA-5E0084052C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BB7F-B4F7-4A39-9C7A-48CCD55D76A9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190F-CFB7-4D44-BDE4-ADBFE6BE6B1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A.R. Niemeijer</cp:lastModifiedBy>
  <dcterms:modified xsi:type="dcterms:W3CDTF">2016-05-08T08:16:39Z</dcterms:modified>
  <cp:revision>10</cp:revision>
  <dc:subject/>
  <dc:title>DEMENTIE</dc:title>
</cp:coreProperties>
</file>