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966-5227-4210-8043-930A4441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5F3-147B-4E61-9879-EA49D5A0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871-E830-4B92-BC71-8F0D456F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A09-08F2-4CEE-A231-5134CDD0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C8A7-1AB0-44E9-A505-113DFCEE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1AC2-1D22-4996-82AE-57FB1F4F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4AC3-7D3B-4B43-B144-CBF257D8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F8E5-0E28-41BE-9363-3C5890E5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A160-5915-45A5-98BA-1AC90426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DB6E-D17B-400E-A389-074A14CB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630A-0582-4E3F-9E57-D5B27054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02A-6F60-4759-B2F4-26A5223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5CA0-3C47-4508-BA42-0DC4F3FC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6BD1-47B6-4AAA-992F-074488E5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B73F-D234-4DE7-8B6D-7DA03335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C839-7D97-4BC6-B134-4D41130C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AD0-5AC1-41E8-9DCE-16E76FE8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5800D-AA5A-4112-B768-FB9E75E4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3157-A299-4793-8720-A6BAECCE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42C65-18F7-4E93-849B-CA6EA0CD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BD90-4EA4-4460-88CE-5B15B8B6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509F-9187-4919-B818-A9E0B27B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E21-64C8-4E8A-A3A8-73420EFD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80072-BACE-4321-B1AB-E05A06B2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4207-09B8-4787-AC6B-69BCCBB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9D525-763C-4F81-9428-6D171317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0FB0-E6F1-4C0E-9F3F-AF4E768F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965A-3894-4870-8C99-904B8CA4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54CF-03D8-44DA-B723-86FE8A14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8633-4911-499F-91C0-79E0875F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363D5-1D61-436F-AD7A-B938ADC8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FEAD4-9A93-484B-9AB3-27C28A27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2B0F4-30B5-428C-AE62-67B75F31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458-E969-4E72-8A8A-BA00921F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D493-87C0-4E9C-B311-D6FD2750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6BF4-8F8B-4EC8-B59F-918F5856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3446B-A625-4932-B0C2-E8CC5B8B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3038-94BD-4E58-A919-35A9D00E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A6C18-C408-4646-916A-EF54EBF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2949-8C76-4284-8BFF-7C9D1C99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FF7F-D3EB-4FD9-A72B-10B072DD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107B-3B87-4119-A7C0-EFCD11BD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EDE2-EDB4-4D8A-8ABE-16A4D83D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F0BF-BCF9-42A4-BCF5-48D50DA1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8E9-C605-4B58-88C8-85A4EE06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1793-D80F-488D-9D10-51F90B6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FDB54-1848-4946-A8A6-1938BBB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E3136-478B-4547-A792-11B1DC89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C38B8-C8A9-481A-903D-E98C9AAA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0B75-674E-4C33-9C3B-124B471A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557ED-5330-4160-91C7-E701AFC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602F-182C-47D6-8FAD-37E15DBE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7FF5-9CE6-45D7-80DF-41BD167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2B7F0-F288-4049-AD77-34E73999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ECDE1-2E2C-4EA4-85B6-AD57F3AF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260-E89A-4F81-9F5C-52DE48A0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DA2F5-B811-4135-A52C-D3D88361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99E-E0E4-4819-97E3-DB9EF66F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A05-75CA-4201-AF3C-B421FA4D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4D9-5D22-4DBD-8BA3-7A3B1F0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BD7-6026-4574-83E0-0B79D2FFEFC8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425B-CB56-4046-87D7-00A07F7717D7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01BD-3548-446B-82D9-30DF6AF3B63B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E3A3-96C0-4A96-84EF-13CB1AEC2B7C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C722-86D0-43C0-9C64-7380537349CA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92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Tremoren:  spiertril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Akinesie: bewegingsarmoede&gt; freez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Rigiditeit: stijfheid spi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Huidproblemati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peekselvloed/ droge mo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ogklacht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ictie problem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aap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ognitieve stoorniss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sychische gevol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Sir_William_Richard_Gowers_Parkinson_Disease_sketch_1886"/>
          <p:cNvPicPr/>
          <p:nvPr/>
        </p:nvPicPr>
        <p:blipFill>
          <a:blip r:embed="rId2"/>
          <a:stretch/>
        </p:blipFill>
        <p:spPr>
          <a:xfrm>
            <a:off x="2700360" y="1773360"/>
            <a:ext cx="331164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837720" y="1413000"/>
            <a:ext cx="8007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loog; klinisch beeld/ verloop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T scan om andere oorzaken uit te sluiten (computer tomografie) dwarsdoorsned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ctie op medicijnen bevestigd de diagn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edicatie: z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vodop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nticholinergica: meestal in begin van de 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opamine antagonis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060412ali"/>
          <p:cNvPicPr/>
          <p:nvPr/>
        </p:nvPicPr>
        <p:blipFill>
          <a:blip r:embed="rId1"/>
          <a:stretch/>
        </p:blipFill>
        <p:spPr>
          <a:xfrm>
            <a:off x="2124000" y="90792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020510_paus"/>
          <p:cNvPicPr/>
          <p:nvPr/>
        </p:nvPicPr>
        <p:blipFill>
          <a:blip r:embed="rId1"/>
          <a:stretch/>
        </p:blipFill>
        <p:spPr>
          <a:xfrm>
            <a:off x="1332000" y="189000"/>
            <a:ext cx="705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claus_2"/>
          <p:cNvPicPr/>
          <p:nvPr/>
        </p:nvPicPr>
        <p:blipFill>
          <a:blip r:embed="rId1"/>
          <a:stretch/>
        </p:blipFill>
        <p:spPr>
          <a:xfrm>
            <a:off x="1692360" y="549360"/>
            <a:ext cx="597528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111480" y="1100160"/>
            <a:ext cx="294336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hthoek 1"/>
          <p:cNvSpPr/>
          <p:nvPr/>
        </p:nvSpPr>
        <p:spPr>
          <a:xfrm>
            <a:off x="826920" y="1557360"/>
            <a:ext cx="60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tweetallen de vra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op pagina 234: 1 t/m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512640" y="244440"/>
            <a:ext cx="8631360" cy="1724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de ziekte van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ie was Parkinso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is het verloop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zijn de symptome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nderzoek en behandelin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pleegkundige zorg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04200" cy="1395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755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efziek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leidelijke progressieve aandoening van het CZ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ubstantia Nigra (zwarte substanti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rotransmitters: neuro : zenuw, transmitter : overbreng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parkinson4"/>
          <p:cNvPicPr/>
          <p:nvPr/>
        </p:nvPicPr>
        <p:blipFill>
          <a:blip r:embed="rId1"/>
          <a:stretch/>
        </p:blipFill>
        <p:spPr>
          <a:xfrm>
            <a:off x="900000" y="692280"/>
            <a:ext cx="734400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James Parkinson (Londen 1755 – Londen 1824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irurg en apothek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 1817  schreef hij een artikel shaking pals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ter werd deze ziekte Parkinson genoemd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ziekte komt iets vaker voor bij mannen dan bij vrouw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gint meestal tussen 45jr – 64 ja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1% van mensen boven de 60 jaar  lijdt aan de ziekte van Parkin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g steeds in onderzoek (misvormd eiwit?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rfelijke aanle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6 genen bekend die de ziekte van parkinson kunnen veroorzak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ngaanvergiftiging, mangaan wordt gebruikt in de staal industr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ttps://www.youtube.com/watch?v=ning29u3uj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oteer welke verschijnselen worden verteld in de fil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dia van Hoehn en Yahr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1.eenzijdige, lichte symtomen die weinig belemmeren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2.tweezijdige symtomen met nog maar een geringe motorische handicap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3.volledig ziektebeeld, problemen met houdingsstabiliteit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4.invaliderend ziektebeeld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5.Alleen met hulp kunnen lopen en staan, bed- en rolstoelgebonden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51:25Z</dcterms:created>
  <dc:creator>Joop</dc:creator>
  <dc:description/>
  <dc:language>en-US</dc:language>
  <cp:lastModifiedBy>A.R. Niemeijer</cp:lastModifiedBy>
  <dcterms:modified xsi:type="dcterms:W3CDTF">2016-06-07T15:55:14Z</dcterms:modified>
  <cp:revision>23</cp:revision>
  <dc:subject/>
  <dc:title>College ziektekunde</dc:title>
</cp:coreProperties>
</file>