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02C-537B-46E9-AACE-1A6ABE54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09B-1ED4-4AEA-8386-0AEF803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A37-E81A-43D8-8376-93C54FAA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771-ABA0-4000-959A-8B2EFDFF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364A-CE3A-433C-AB10-94DB41F5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BBB6-B233-4B67-9660-69B7548A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293C-CEEA-44B6-ADB9-D2D62A69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A7A-F4C6-439A-BD47-FFA6CDE3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5ED1-82F1-4EDF-A933-1A0BC4DA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11D-0829-4955-A4A5-CB99B1C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ACFB-55B1-40FA-90EA-5ACCAC5D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484-201A-4F74-A022-49B91B77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87E7-A812-4419-89DC-A3B7ABD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1626-EA0A-48EA-B10C-BE7349E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AB96-FE1B-49B8-92D2-509F9B9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3EB5-63D6-40D4-A635-8846ACAF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29DB-F6E0-449A-9749-42A54290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72F-930F-4273-8993-356877E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5AC-071C-47FF-87B3-5C330CA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B7C-1256-44EF-BE82-F4E9EEBD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82C-AFD0-475D-97E8-6E8287E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485-D130-4D30-BE56-896E7B5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1A7-D5C8-4262-B760-05BA421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DA2-2D44-483D-A6DA-296F3E7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9CAD-9E3D-432C-A03B-824F6D278EE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F3DC-30FB-4DA1-915F-8440350E65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EB87-7C55-4529-944E-E5D7CFBCF111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83E0-0E98-4C40-B130-C17D8764047A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A.R. Niemeijer</cp:lastModifiedBy>
  <dcterms:modified xsi:type="dcterms:W3CDTF">2016-05-08T08:16:39Z</dcterms:modified>
  <cp:revision>10</cp:revision>
  <dc:subject/>
  <dc:title>DEMENTIE</dc:title>
</cp:coreProperties>
</file>