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5A6-BBD2-4F41-9748-20400D93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8F1-DFC6-44F5-BDC4-5D2A5FE4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E53-AA25-401C-8A4A-4D4E2FE8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D37-3D1D-493D-9841-7F5EE1A0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A022-D21C-4BDF-83D2-F3DA2155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45AB-4BEE-4A63-B2D0-499CDB70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8176-62D9-40D9-820E-52F32538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A567-C57A-404B-ADC6-B1D09C0E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77C8-C3D4-4FF8-AB36-61665C85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1358-DD1A-4D4A-AD74-646EB65D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136A-0C26-4AB6-BD5E-E577149A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826-B71A-4A8C-B9D7-3B4FEB0C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7314-A52A-4691-B4A4-48B71612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F78C-FCA0-40A4-9F9C-4B2439FC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F562-BB03-454A-A3F8-F6119C44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0E77-AAA1-48E1-825A-CD03F1F1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4A06-F562-49D8-AB3D-262E6C09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EEF9B-DE92-49F1-87E0-9D53CAAF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93F4-B478-4869-BD5F-7C5D6766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6E3DA-E15F-4660-AE07-E45C58FE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9A382-9CDB-499D-BE90-869971B4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1BEE-3210-4104-9F74-772C012A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E7D-5441-43A7-B43A-521C10D2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8E53A-8BAD-455A-8D99-A5911556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2EF50-DC3F-467C-A6B8-F0D32922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F811-E035-40D0-AAFE-CF0DC444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AC094-C437-4ACD-8E42-624E6CBD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C5984-815D-45DC-A1E2-91A0E868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123E-BFB9-4ADC-88F0-E97BCCCF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9BDE8-F8FF-4CE7-809F-3D1F056A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21591-A15D-40C7-9A0C-4F8D8D38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8A7DF-78DA-4AD5-9CB4-073C86C0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1BA45-92DB-477E-BB95-7767DEF8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2A51-1121-44E6-9FB6-EB674AE4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0D5C5-B654-4123-96EE-20285E30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6EC2B-E9AC-49BE-80B7-6E1AD0E3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05F99-140A-4B28-9659-1BFFCB62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52FB0-9893-4126-91E0-43673B56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82E50-F638-4881-A300-2FFC9C63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175A3-4E23-4676-BC10-B71EB08D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6563D-A9BD-4C56-B3AF-8D483BA0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FE604-AAEA-4C63-BC43-D4EA04F9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B160A-F811-4DEE-B2A6-D58A22C7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22D8E-2516-4235-9B2D-C8F4C711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FF4-180C-4A8D-AE91-97FCB051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83219-FE59-4DDB-98D9-8A74D546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C8B34-2A88-47CB-BC0D-8A2BEE9E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A0E68-615C-4948-A5F6-BDA1277A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2126B-9B05-4B22-9347-F9E92568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E4278-578C-4E25-B2CE-19F3B39B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F715E-B918-4DDB-B050-1BCB0FC1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8E670-BD93-46CA-BFAA-CF02B2D2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97E6C-6526-4769-A854-5006F64D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62135-D7E8-498C-9C05-4BBC6AA9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64355-31C1-4655-A66A-B2302D6E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F29-1067-4C10-9314-98497B0C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4D73A-0038-48F7-9967-5A287EC7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0A7-35A1-4B86-92D1-E9CE9444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455-3A1D-4863-B128-58D5F018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455-32CD-4886-92C0-8CB4D1C6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58D1-3FF2-4FB0-872D-2042FDD32EB6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0A98-5EB8-4723-9671-A90991CFE4B2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C9F7-1A65-42C4-91FA-59AB12CE5F42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C46B-DE03-4CFB-9712-FDF80F6DA70E}" type="slidenum">
              <a:rPr b="0" lang="nl-N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3668-916D-4437-A3C2-B0CADD609271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924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Tremoren:  spiertrill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Akinesie: bewegingsarmoede&gt; freez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Rigiditeit: stijfheid spier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Huidproblematie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bstipat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peekselvloed/ droge mo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ogklacht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ictie problem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laapstoorniss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Cognitieve stoorniss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sychische gevolg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el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Sir_William_Richard_Gowers_Parkinson_Disease_sketch_1886"/>
          <p:cNvPicPr/>
          <p:nvPr/>
        </p:nvPicPr>
        <p:blipFill>
          <a:blip r:embed="rId2"/>
          <a:stretch/>
        </p:blipFill>
        <p:spPr>
          <a:xfrm>
            <a:off x="2700360" y="1773360"/>
            <a:ext cx="331164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roloog; klinisch beeld/ verloop 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T scan om andere oorzaken uit te sluiten (computer tomografie) dwarsdoorsned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actie op medicijnen bevestigd de diagno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edicatie: zoal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evodop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Anticholinergica: meestal in begin van de 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opamine antagonist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060412ali"/>
          <p:cNvPicPr/>
          <p:nvPr/>
        </p:nvPicPr>
        <p:blipFill>
          <a:blip r:embed="rId1"/>
          <a:stretch/>
        </p:blipFill>
        <p:spPr>
          <a:xfrm>
            <a:off x="2124000" y="907920"/>
            <a:ext cx="41767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020510_paus"/>
          <p:cNvPicPr/>
          <p:nvPr/>
        </p:nvPicPr>
        <p:blipFill>
          <a:blip r:embed="rId1"/>
          <a:stretch/>
        </p:blipFill>
        <p:spPr>
          <a:xfrm>
            <a:off x="1332000" y="189000"/>
            <a:ext cx="70563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claus_2"/>
          <p:cNvPicPr/>
          <p:nvPr/>
        </p:nvPicPr>
        <p:blipFill>
          <a:blip r:embed="rId1"/>
          <a:stretch/>
        </p:blipFill>
        <p:spPr>
          <a:xfrm>
            <a:off x="1692360" y="549360"/>
            <a:ext cx="597528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111480" y="1100160"/>
            <a:ext cx="294336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hthoek 1"/>
          <p:cNvSpPr/>
          <p:nvPr/>
        </p:nvSpPr>
        <p:spPr>
          <a:xfrm>
            <a:off x="826920" y="1557360"/>
            <a:ext cx="603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tweetallen de vra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ken op pagina 234: 1 t/m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512640" y="244440"/>
            <a:ext cx="8631360" cy="17240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is de ziekte van Parkinso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ie was Parkinso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is het verloop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zijn de symptome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nderzoek en behandeling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pleegkundige zorg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504200" cy="1395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75528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ef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leidelijke progressieve aandoening van het CZ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ubstantia Nigra (zwarte substanti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rotransmitters: neuro : zenuw, transmitter : overbreng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parkinson4"/>
          <p:cNvPicPr/>
          <p:nvPr/>
        </p:nvPicPr>
        <p:blipFill>
          <a:blip r:embed="rId1"/>
          <a:stretch/>
        </p:blipFill>
        <p:spPr>
          <a:xfrm>
            <a:off x="900000" y="692280"/>
            <a:ext cx="734400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James Parkinson (Londen 1755 – Londen 1824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hirurg en apothek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 1817  schreef hij een artikel shaking pals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ater werd deze ziekte Parkinson genoemd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e ziekte komt iets vaker voor bij mannen dan bij vrouw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gint meestal tussen 45jr – 64 ja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1% van mensen boven de 60 jaar  lijdt aan de ziekte van Parkins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og steeds in onderzoek (misvormd eiwit?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Erfelijke aanle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6 genen bekend die de ziekte van parkinson kunnen veroorzak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ngaanvergiftiging, mangaan wordt gebruikt in de staal industr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ttps://www.youtube.com/watch?v=ning29u3uj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oteer welke verschijnselen worden verteld in de fil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adia van Hoehn en Yahr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1.eenzijdige, lichte symtomen die weinig belemmeren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2.tweezijdige symtomen met nog maar een geringe motorische handicap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3.volledig ziektebeeld, problemen met houdingsstabiliteit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4.invaliderend ziektebeeld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5.Alleen met hulp kunnen lopen en staan, bed- en rolstoelgebonden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9:51:25Z</dcterms:created>
  <dc:creator>Joop</dc:creator>
  <dc:description/>
  <dc:language>en-US</dc:language>
  <cp:lastModifiedBy>A.R. Niemeijer</cp:lastModifiedBy>
  <dcterms:modified xsi:type="dcterms:W3CDTF">2016-06-07T15:55:14Z</dcterms:modified>
  <cp:revision>23</cp:revision>
  <dc:subject/>
  <dc:title>College ziektekunde</dc:title>
</cp:coreProperties>
</file>