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4FCE-DFC2-4955-8BD3-D153C9C759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741D-F13A-403D-A2B3-47F67C3387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A56A-F2C3-4160-9F9D-90486000B1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8CF7-B740-427F-8AB5-357744FC86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B754-A6E3-44E4-A488-6C825981C2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743A-79D7-42D9-A768-7F72C267A0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A047-9A05-4709-840D-9119E79940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353A-CB66-43E3-A7C0-44E523139D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682E-31D5-4C28-A71D-6C312371A0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71A8-9BF5-4373-8323-00F5A6D3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47B2-B07C-4615-A211-48CA442B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54C2-7D6D-4523-9486-7758E1901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7F42-FBFC-4B92-B1F9-D5782D44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07E6-DCC9-4665-8D71-D6959ECF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425A-30E7-485B-B2D3-C3E80E18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33F1-3C35-45C9-97C0-C0E631C3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2720-AFAA-4D86-91A1-6E0778E2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4228-6964-4E77-BDD2-AA8EBCCF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0FD3-E20F-4DA8-84AD-87F452DA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7E01-40FA-4080-9578-EC4A90F6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617A-1519-441A-9A25-F5A75CF4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7580-BC3A-4194-B7A0-A78F50F92CD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esters groenblijv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iburnu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iburnum rhytidophyl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http://www.sci.muni.cz/bot_zahr/fotografie/venkovni%20rostliny/Viburnum%20rhytidophyllum.jpg"/>
          <p:cNvPicPr/>
          <p:nvPr/>
        </p:nvPicPr>
        <p:blipFill>
          <a:blip r:embed="rId1"/>
          <a:stretch/>
        </p:blipFill>
        <p:spPr>
          <a:xfrm>
            <a:off x="0" y="2571840"/>
            <a:ext cx="2738520" cy="4108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http://flora.nhm-wien.ac.at/Bilder-P-Z/Viburnum-rhytidophyllum-2.jpg"/>
          <p:cNvPicPr/>
          <p:nvPr/>
        </p:nvPicPr>
        <p:blipFill>
          <a:blip r:embed="rId2"/>
          <a:stretch/>
        </p:blipFill>
        <p:spPr>
          <a:xfrm>
            <a:off x="2714760" y="2571840"/>
            <a:ext cx="3695400" cy="4071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http://www.havlis.cz/img/61_1.jpeg"/>
          <p:cNvPicPr/>
          <p:nvPr/>
        </p:nvPicPr>
        <p:blipFill>
          <a:blip r:embed="rId3"/>
          <a:stretch/>
        </p:blipFill>
        <p:spPr>
          <a:xfrm>
            <a:off x="6357960" y="2571840"/>
            <a:ext cx="27860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Stekelige olijfwil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laeagnus pun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http://upload.wikimedia.org/wikipedia/commons/d/da/Elaeagnus_pungens2.jpg"/>
          <p:cNvPicPr/>
          <p:nvPr/>
        </p:nvPicPr>
        <p:blipFill>
          <a:blip r:embed="rId1"/>
          <a:stretch/>
        </p:blipFill>
        <p:spPr>
          <a:xfrm>
            <a:off x="3500280" y="3143160"/>
            <a:ext cx="3714840" cy="3380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http://www.cnr.vt.edu/dendro/dendrology/syllabus2/picts/elaeagnus_pungens_twig4.jpg"/>
          <p:cNvPicPr/>
          <p:nvPr/>
        </p:nvPicPr>
        <p:blipFill>
          <a:blip r:embed="rId2"/>
          <a:stretch/>
        </p:blipFill>
        <p:spPr>
          <a:xfrm>
            <a:off x="214200" y="3143160"/>
            <a:ext cx="1247760" cy="359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http://www.cnr.vt.edu/dendro/dendrology/syllabus2/picts/elaeagnus_pungens_fruit.jpg"/>
          <p:cNvPicPr/>
          <p:nvPr/>
        </p:nvPicPr>
        <p:blipFill>
          <a:blip r:embed="rId3"/>
          <a:stretch/>
        </p:blipFill>
        <p:spPr>
          <a:xfrm>
            <a:off x="7286760" y="2857680"/>
            <a:ext cx="1542960" cy="1780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http://www.cnr.vt.edu/dendro/dendrology/syllabus2/picts/elaeagnus_pungens_leaf2.jpg"/>
          <p:cNvPicPr/>
          <p:nvPr/>
        </p:nvPicPr>
        <p:blipFill>
          <a:blip r:embed="rId4"/>
          <a:stretch/>
        </p:blipFill>
        <p:spPr>
          <a:xfrm>
            <a:off x="1643040" y="3143160"/>
            <a:ext cx="1643040" cy="3602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http://www.cnr.vt.edu/dendro/dendrology/syllabus2/picts/elaeagnus_pungens_form.jpg"/>
          <p:cNvPicPr/>
          <p:nvPr/>
        </p:nvPicPr>
        <p:blipFill>
          <a:blip r:embed="rId5"/>
          <a:stretch/>
        </p:blipFill>
        <p:spPr>
          <a:xfrm>
            <a:off x="7286760" y="4714920"/>
            <a:ext cx="154296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Skimm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kimmia japo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http://www.jardineria.pro/wp-content/uploads/2008/01/skimmia.jpg"/>
          <p:cNvPicPr/>
          <p:nvPr/>
        </p:nvPicPr>
        <p:blipFill>
          <a:blip r:embed="rId1"/>
          <a:stretch/>
        </p:blipFill>
        <p:spPr>
          <a:xfrm>
            <a:off x="142920" y="3643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http://www.tuin-aanleggen.be/skimmia.jpg"/>
          <p:cNvPicPr/>
          <p:nvPr/>
        </p:nvPicPr>
        <p:blipFill>
          <a:blip r:embed="rId2"/>
          <a:stretch/>
        </p:blipFill>
        <p:spPr>
          <a:xfrm>
            <a:off x="3643200" y="36432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ttp://www.tuinlinderveld.nl/photogallery/3%20november%2005%20skimmia.JPG"/>
          <p:cNvPicPr/>
          <p:nvPr/>
        </p:nvPicPr>
        <p:blipFill>
          <a:blip r:embed="rId3"/>
          <a:stretch/>
        </p:blipFill>
        <p:spPr>
          <a:xfrm>
            <a:off x="6705720" y="3255840"/>
            <a:ext cx="224316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Bergthe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aultheria procumb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http://www.srgc.org.uk/wisley/2007/241007/Gaultheria%20procumbens.jpg"/>
          <p:cNvPicPr/>
          <p:nvPr/>
        </p:nvPicPr>
        <p:blipFill>
          <a:blip r:embed="rId1"/>
          <a:stretch/>
        </p:blipFill>
        <p:spPr>
          <a:xfrm>
            <a:off x="2928960" y="3643200"/>
            <a:ext cx="3786120" cy="2841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www.nps.gov/plants/pubs/chesapeake/img/Shrubs/Gaultheria-procumbens-1-RHW.jpg"/>
          <p:cNvPicPr/>
          <p:nvPr/>
        </p:nvPicPr>
        <p:blipFill>
          <a:blip r:embed="rId2"/>
          <a:stretch/>
        </p:blipFill>
        <p:spPr>
          <a:xfrm>
            <a:off x="142920" y="3643200"/>
            <a:ext cx="2628720" cy="2857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Gaultheria procumbens"/>
          <p:cNvPicPr/>
          <p:nvPr/>
        </p:nvPicPr>
        <p:blipFill>
          <a:blip r:embed="rId3"/>
          <a:stretch/>
        </p:blipFill>
        <p:spPr>
          <a:xfrm>
            <a:off x="6357960" y="4000680"/>
            <a:ext cx="25002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3" descr="http://images.google.com/url?q=http://upload.wikimedia.org/wikipedia/commons/3/3d/Erica_carnea_IMG_0919.JPG&amp;usg=AFQjCNGt1LHcdzFuwTxRehaSwri8Y5wO6w"/>
          <p:cNvPicPr/>
          <p:nvPr/>
        </p:nvPicPr>
        <p:blipFill>
          <a:blip r:embed="rId1"/>
          <a:stretch/>
        </p:blipFill>
        <p:spPr>
          <a:xfrm>
            <a:off x="5286240" y="4143240"/>
            <a:ext cx="3357720" cy="2519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Winterhe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rica car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Erica carnea in Sorten - die Schneeheide, Winterheide"/>
          <p:cNvPicPr/>
          <p:nvPr/>
        </p:nvPicPr>
        <p:blipFill>
          <a:blip r:embed="rId2"/>
          <a:stretch/>
        </p:blipFill>
        <p:spPr>
          <a:xfrm>
            <a:off x="285840" y="257184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Erica carnea in Sorten - die Schneeheide, Winterheide"/>
          <p:cNvPicPr/>
          <p:nvPr/>
        </p:nvPicPr>
        <p:blipFill>
          <a:blip r:embed="rId3"/>
          <a:stretch/>
        </p:blipFill>
        <p:spPr>
          <a:xfrm>
            <a:off x="285840" y="4643280"/>
            <a:ext cx="2714400" cy="2036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http://www.weekendgardener.net/perennial-flowers/pix/ericalg.jpg"/>
          <p:cNvPicPr/>
          <p:nvPr/>
        </p:nvPicPr>
        <p:blipFill>
          <a:blip r:embed="rId4"/>
          <a:stretch/>
        </p:blipFill>
        <p:spPr>
          <a:xfrm>
            <a:off x="6072120" y="2357280"/>
            <a:ext cx="2716200" cy="2428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http://home.quicknet.nl/qn/prive/tj.de.graaf/_private/lente/hei-(erica).jpg"/>
          <p:cNvPicPr/>
          <p:nvPr/>
        </p:nvPicPr>
        <p:blipFill>
          <a:blip r:embed="rId5"/>
          <a:stretch/>
        </p:blipFill>
        <p:spPr>
          <a:xfrm>
            <a:off x="2286000" y="2928960"/>
            <a:ext cx="42148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4" descr="http://www.heathersociety.org.uk/hhg/cvs/jpegs/C_vul_Dark_Star.jpg"/>
          <p:cNvPicPr/>
          <p:nvPr/>
        </p:nvPicPr>
        <p:blipFill>
          <a:blip r:embed="rId1"/>
          <a:stretch/>
        </p:blipFill>
        <p:spPr>
          <a:xfrm>
            <a:off x="0" y="3214800"/>
            <a:ext cx="4257720" cy="2786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http://www.clarebiodiversity.ie/CountyClare/photos/Heatherjm.jpg"/>
          <p:cNvPicPr/>
          <p:nvPr/>
        </p:nvPicPr>
        <p:blipFill>
          <a:blip r:embed="rId2"/>
          <a:stretch/>
        </p:blipFill>
        <p:spPr>
          <a:xfrm>
            <a:off x="5624640" y="3214800"/>
            <a:ext cx="3519360" cy="28573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2960" y="199980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Struikhe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alluna vulg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http://www.kuleuven-kortrijk.be/facult/wet/biologie/pb/kulakbiocampus/buiten-kulak/lage_planten/Calluna%20vulgaris%20-%20struikhei/calluna%20vulgaris-struikhei-05.jpg"/>
          <p:cNvPicPr/>
          <p:nvPr/>
        </p:nvPicPr>
        <p:blipFill>
          <a:blip r:embed="rId3"/>
          <a:stretch/>
        </p:blipFill>
        <p:spPr>
          <a:xfrm>
            <a:off x="2357280" y="3000240"/>
            <a:ext cx="40942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Rhododendr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hododendron cultiv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http://farm3.static.flickr.com/2287/2526206801_b3215b2bd0.jpg"/>
          <p:cNvPicPr/>
          <p:nvPr/>
        </p:nvPicPr>
        <p:blipFill>
          <a:blip r:embed="rId1"/>
          <a:stretch/>
        </p:blipFill>
        <p:spPr>
          <a:xfrm>
            <a:off x="214200" y="178596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http://www.marteau.be/images/Rhododendron1.jpg"/>
          <p:cNvPicPr/>
          <p:nvPr/>
        </p:nvPicPr>
        <p:blipFill>
          <a:blip r:embed="rId2"/>
          <a:stretch/>
        </p:blipFill>
        <p:spPr>
          <a:xfrm>
            <a:off x="642960" y="4000680"/>
            <a:ext cx="1857240" cy="2593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http://www.ursel.nl/albums/vakantie/gladbeck08/gladbeck00146.jpg"/>
          <p:cNvPicPr/>
          <p:nvPr/>
        </p:nvPicPr>
        <p:blipFill>
          <a:blip r:embed="rId3"/>
          <a:stretch/>
        </p:blipFill>
        <p:spPr>
          <a:xfrm>
            <a:off x="5572080" y="4143240"/>
            <a:ext cx="3286080" cy="2465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http://www.tuinclub.be/tuinartikels/rhodod4.jpg"/>
          <p:cNvPicPr/>
          <p:nvPr/>
        </p:nvPicPr>
        <p:blipFill>
          <a:blip r:embed="rId4"/>
          <a:stretch/>
        </p:blipFill>
        <p:spPr>
          <a:xfrm>
            <a:off x="2643120" y="4143240"/>
            <a:ext cx="2857680" cy="2162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http://www.marechal.be/foto/rhodo2.jpg"/>
          <p:cNvPicPr/>
          <p:nvPr/>
        </p:nvPicPr>
        <p:blipFill>
          <a:blip r:embed="rId5"/>
          <a:stretch/>
        </p:blipFill>
        <p:spPr>
          <a:xfrm>
            <a:off x="6572160" y="2143080"/>
            <a:ext cx="214308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08:14:24Z</dcterms:created>
  <dc:creator>Henk</dc:creator>
  <dc:description/>
  <dc:language>en-US</dc:language>
  <cp:lastModifiedBy>Henk</cp:lastModifiedBy>
  <dcterms:modified xsi:type="dcterms:W3CDTF">2008-10-22T16:42:42Z</dcterms:modified>
  <cp:revision>22</cp:revision>
  <dc:subject/>
  <dc:title>Duindoorn</dc:title>
</cp:coreProperties>
</file>