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F97F-FA88-476B-A7C4-34AAB14C9E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333B-EA6A-47EE-8A4B-C9B2AB8639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6249-6C2B-46EA-A83E-07699F9300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1DFB-CAD6-4C7A-A291-5A6BD977E5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97F3-3F98-41D3-A30A-741EDAE564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9AD6-8702-480B-ADF3-AAFE36E55B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229D-F19B-4E72-9D24-F74014F253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D22B-5823-4690-8750-BE9F7129A9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C423-C81A-43EE-AFF7-2CBE274578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7EE7-1815-4699-AAA3-8B8A1626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0B1-0C63-440E-B1A0-D72C7FD0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B93-B0BB-4A49-B148-349A82AC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40F-AA73-4364-BE82-5D8FF522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172-AFD0-493D-ADA0-2EBCE10B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77A-EC2F-41AD-9EE4-7BC82785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087-2A0C-49BC-B8E0-391F9354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0DDE-FB17-4167-A05D-102E6F1A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C5C-D51D-42A5-B5D6-C7A7A879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5FB-0E2B-435C-A5EA-EDA506D9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38E-0AB4-400A-9A59-40463A40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E92-7FDF-432F-80DC-ABF0EC41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CA5C-BF16-4D8A-BACF-CEDF4BE7C41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esters groenblijv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iburn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iburnum rhytidophy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sci.muni.cz/bot_zahr/fotografie/venkovni%20rostliny/Viburnum%20rhytidophyllum.jpg"/>
          <p:cNvPicPr/>
          <p:nvPr/>
        </p:nvPicPr>
        <p:blipFill>
          <a:blip r:embed="rId1"/>
          <a:stretch/>
        </p:blipFill>
        <p:spPr>
          <a:xfrm>
            <a:off x="0" y="2571840"/>
            <a:ext cx="2738520" cy="410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lora.nhm-wien.ac.at/Bilder-P-Z/Viburnum-rhytidophyllum-2.jpg"/>
          <p:cNvPicPr/>
          <p:nvPr/>
        </p:nvPicPr>
        <p:blipFill>
          <a:blip r:embed="rId2"/>
          <a:stretch/>
        </p:blipFill>
        <p:spPr>
          <a:xfrm>
            <a:off x="2714760" y="2571840"/>
            <a:ext cx="36954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havlis.cz/img/61_1.jpeg"/>
          <p:cNvPicPr/>
          <p:nvPr/>
        </p:nvPicPr>
        <p:blipFill>
          <a:blip r:embed="rId3"/>
          <a:stretch/>
        </p:blipFill>
        <p:spPr>
          <a:xfrm>
            <a:off x="6357960" y="2571840"/>
            <a:ext cx="278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ekelige olijfwil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laeagnus pu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upload.wikimedia.org/wikipedia/commons/d/da/Elaeagnus_pungens2.jpg"/>
          <p:cNvPicPr/>
          <p:nvPr/>
        </p:nvPicPr>
        <p:blipFill>
          <a:blip r:embed="rId1"/>
          <a:stretch/>
        </p:blipFill>
        <p:spPr>
          <a:xfrm>
            <a:off x="3500280" y="3143160"/>
            <a:ext cx="3714840" cy="338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cnr.vt.edu/dendro/dendrology/syllabus2/picts/elaeagnus_pungens_twig4.jpg"/>
          <p:cNvPicPr/>
          <p:nvPr/>
        </p:nvPicPr>
        <p:blipFill>
          <a:blip r:embed="rId2"/>
          <a:stretch/>
        </p:blipFill>
        <p:spPr>
          <a:xfrm>
            <a:off x="214200" y="3143160"/>
            <a:ext cx="1247760" cy="359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cnr.vt.edu/dendro/dendrology/syllabus2/picts/elaeagnus_pungens_fruit.jpg"/>
          <p:cNvPicPr/>
          <p:nvPr/>
        </p:nvPicPr>
        <p:blipFill>
          <a:blip r:embed="rId3"/>
          <a:stretch/>
        </p:blipFill>
        <p:spPr>
          <a:xfrm>
            <a:off x="7286760" y="2857680"/>
            <a:ext cx="1542960" cy="17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http://www.cnr.vt.edu/dendro/dendrology/syllabus2/picts/elaeagnus_pungens_leaf2.jpg"/>
          <p:cNvPicPr/>
          <p:nvPr/>
        </p:nvPicPr>
        <p:blipFill>
          <a:blip r:embed="rId4"/>
          <a:stretch/>
        </p:blipFill>
        <p:spPr>
          <a:xfrm>
            <a:off x="1643040" y="3143160"/>
            <a:ext cx="1643040" cy="360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ttp://www.cnr.vt.edu/dendro/dendrology/syllabus2/picts/elaeagnus_pungens_form.jpg"/>
          <p:cNvPicPr/>
          <p:nvPr/>
        </p:nvPicPr>
        <p:blipFill>
          <a:blip r:embed="rId5"/>
          <a:stretch/>
        </p:blipFill>
        <p:spPr>
          <a:xfrm>
            <a:off x="7286760" y="4714920"/>
            <a:ext cx="1542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kim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kimmia japo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jardineria.pro/wp-content/uploads/2008/01/skimmia.jpg"/>
          <p:cNvPicPr/>
          <p:nvPr/>
        </p:nvPicPr>
        <p:blipFill>
          <a:blip r:embed="rId1"/>
          <a:stretch/>
        </p:blipFill>
        <p:spPr>
          <a:xfrm>
            <a:off x="14292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www.tuin-aanleggen.be/skimmia.jpg"/>
          <p:cNvPicPr/>
          <p:nvPr/>
        </p:nvPicPr>
        <p:blipFill>
          <a:blip r:embed="rId2"/>
          <a:stretch/>
        </p:blipFill>
        <p:spPr>
          <a:xfrm>
            <a:off x="3643200" y="3643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ttp://www.tuinlinderveld.nl/photogallery/3%20november%2005%20skimmia.JPG"/>
          <p:cNvPicPr/>
          <p:nvPr/>
        </p:nvPicPr>
        <p:blipFill>
          <a:blip r:embed="rId3"/>
          <a:stretch/>
        </p:blipFill>
        <p:spPr>
          <a:xfrm>
            <a:off x="6705720" y="3255840"/>
            <a:ext cx="22431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ergth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srgc.org.uk/wisley/2007/241007/Gaultheria%20procumbens.jpg"/>
          <p:cNvPicPr/>
          <p:nvPr/>
        </p:nvPicPr>
        <p:blipFill>
          <a:blip r:embed="rId1"/>
          <a:stretch/>
        </p:blipFill>
        <p:spPr>
          <a:xfrm>
            <a:off x="2928960" y="364320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ww.nps.gov/plants/pubs/chesapeake/img/Shrubs/Gaultheria-procumbens-1-RHW.jpg"/>
          <p:cNvPicPr/>
          <p:nvPr/>
        </p:nvPicPr>
        <p:blipFill>
          <a:blip r:embed="rId2"/>
          <a:stretch/>
        </p:blipFill>
        <p:spPr>
          <a:xfrm>
            <a:off x="142920" y="3643200"/>
            <a:ext cx="26287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Gaultheria procumbens"/>
          <p:cNvPicPr/>
          <p:nvPr/>
        </p:nvPicPr>
        <p:blipFill>
          <a:blip r:embed="rId3"/>
          <a:stretch/>
        </p:blipFill>
        <p:spPr>
          <a:xfrm>
            <a:off x="6357960" y="4000680"/>
            <a:ext cx="2500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http://images.google.com/url?q=http://upload.wikimedia.org/wikipedia/commons/3/3d/Erica_carnea_IMG_0919.JPG&amp;usg=AFQjCNGt1LHcdzFuwTxRehaSwri8Y5wO6w"/>
          <p:cNvPicPr/>
          <p:nvPr/>
        </p:nvPicPr>
        <p:blipFill>
          <a:blip r:embed="rId1"/>
          <a:stretch/>
        </p:blipFill>
        <p:spPr>
          <a:xfrm>
            <a:off x="5286240" y="4143240"/>
            <a:ext cx="3357720" cy="251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inter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ica car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rica carnea in Sorten - die Schneeheide, Winterheide"/>
          <p:cNvPicPr/>
          <p:nvPr/>
        </p:nvPicPr>
        <p:blipFill>
          <a:blip r:embed="rId2"/>
          <a:stretch/>
        </p:blipFill>
        <p:spPr>
          <a:xfrm>
            <a:off x="285840" y="2571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Erica carnea in Sorten - die Schneeheide, Winterheide"/>
          <p:cNvPicPr/>
          <p:nvPr/>
        </p:nvPicPr>
        <p:blipFill>
          <a:blip r:embed="rId3"/>
          <a:stretch/>
        </p:blipFill>
        <p:spPr>
          <a:xfrm>
            <a:off x="285840" y="464328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ttp://www.weekendgardener.net/perennial-flowers/pix/ericalg.jpg"/>
          <p:cNvPicPr/>
          <p:nvPr/>
        </p:nvPicPr>
        <p:blipFill>
          <a:blip r:embed="rId4"/>
          <a:stretch/>
        </p:blipFill>
        <p:spPr>
          <a:xfrm>
            <a:off x="6072120" y="2357280"/>
            <a:ext cx="271620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home.quicknet.nl/qn/prive/tj.de.graaf/_private/lente/hei-(erica).jpg"/>
          <p:cNvPicPr/>
          <p:nvPr/>
        </p:nvPicPr>
        <p:blipFill>
          <a:blip r:embed="rId5"/>
          <a:stretch/>
        </p:blipFill>
        <p:spPr>
          <a:xfrm>
            <a:off x="2286000" y="2928960"/>
            <a:ext cx="42148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http://www.heathersociety.org.uk/hhg/cvs/jpegs/C_vul_Dark_Star.jpg"/>
          <p:cNvPicPr/>
          <p:nvPr/>
        </p:nvPicPr>
        <p:blipFill>
          <a:blip r:embed="rId1"/>
          <a:stretch/>
        </p:blipFill>
        <p:spPr>
          <a:xfrm>
            <a:off x="0" y="3214800"/>
            <a:ext cx="42577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clarebiodiversity.ie/CountyClare/photos/Heatherjm.jpg"/>
          <p:cNvPicPr/>
          <p:nvPr/>
        </p:nvPicPr>
        <p:blipFill>
          <a:blip r:embed="rId2"/>
          <a:stretch/>
        </p:blipFill>
        <p:spPr>
          <a:xfrm>
            <a:off x="5624640" y="3214800"/>
            <a:ext cx="3519360" cy="2857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ruik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alluna vulg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www.kuleuven-kortrijk.be/facult/wet/biologie/pb/kulakbiocampus/buiten-kulak/lage_planten/Calluna%20vulgaris%20-%20struikhei/calluna%20vulgaris-struikhei-05.jpg"/>
          <p:cNvPicPr/>
          <p:nvPr/>
        </p:nvPicPr>
        <p:blipFill>
          <a:blip r:embed="rId3"/>
          <a:stretch/>
        </p:blipFill>
        <p:spPr>
          <a:xfrm>
            <a:off x="2357280" y="300024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hododendr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hododendron cultiv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farm3.static.flickr.com/2287/2526206801_b3215b2bd0.jpg"/>
          <p:cNvPicPr/>
          <p:nvPr/>
        </p:nvPicPr>
        <p:blipFill>
          <a:blip r:embed="rId1"/>
          <a:stretch/>
        </p:blipFill>
        <p:spPr>
          <a:xfrm>
            <a:off x="214200" y="17859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marteau.be/images/Rhododendron1.jpg"/>
          <p:cNvPicPr/>
          <p:nvPr/>
        </p:nvPicPr>
        <p:blipFill>
          <a:blip r:embed="rId2"/>
          <a:stretch/>
        </p:blipFill>
        <p:spPr>
          <a:xfrm>
            <a:off x="642960" y="4000680"/>
            <a:ext cx="1857240" cy="259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ursel.nl/albums/vakantie/gladbeck08/gladbeck00146.jpg"/>
          <p:cNvPicPr/>
          <p:nvPr/>
        </p:nvPicPr>
        <p:blipFill>
          <a:blip r:embed="rId3"/>
          <a:stretch/>
        </p:blipFill>
        <p:spPr>
          <a:xfrm>
            <a:off x="5572080" y="414324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www.tuinclub.be/tuinartikels/rhodod4.jpg"/>
          <p:cNvPicPr/>
          <p:nvPr/>
        </p:nvPicPr>
        <p:blipFill>
          <a:blip r:embed="rId4"/>
          <a:stretch/>
        </p:blipFill>
        <p:spPr>
          <a:xfrm>
            <a:off x="2643120" y="4143240"/>
            <a:ext cx="2857680" cy="21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www.marechal.be/foto/rhodo2.jpg"/>
          <p:cNvPicPr/>
          <p:nvPr/>
        </p:nvPicPr>
        <p:blipFill>
          <a:blip r:embed="rId5"/>
          <a:stretch/>
        </p:blipFill>
        <p:spPr>
          <a:xfrm>
            <a:off x="6572160" y="2143080"/>
            <a:ext cx="2143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8:14:24Z</dcterms:created>
  <dc:creator>Henk</dc:creator>
  <dc:description/>
  <dc:language>en-US</dc:language>
  <cp:lastModifiedBy>Henk</cp:lastModifiedBy>
  <dcterms:modified xsi:type="dcterms:W3CDTF">2008-10-22T16:42:42Z</dcterms:modified>
  <cp:revision>22</cp:revision>
  <dc:subject/>
  <dc:title>Duindoorn</dc:title>
</cp:coreProperties>
</file>