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4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ftr" idx="41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 type="sldNum" idx="42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D08D-DA74-415A-8819-C49733F22F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4A67-6501-43A3-A357-59FEB930727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wezigheid doornemen met de pati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AB4D-5764-4735-80E2-0879B30100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zijn smeersels voor het brood en melkproducten waaraan plantenstanolen of sterolen zijn toegevoeg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is een waardevolle aanvulling. Bekijk het in uw totale vo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inder verzadigd v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r bewe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7555-C9C8-4B3A-A59D-CF0AC5EE5E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holesterol is een vetachtige stof die het lichaam nodig heeft als bouwstof voor lichaamscellen en hormonen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nder cholesterol kan het lichaam niet goed function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root gedeelte maakt het lichaam zelf aan en een klein gedeelte komt uit de v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leggen dat als het om cholesterol gaat dan gaat het om het cholesterol bij elkaar opgete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F50A-2A6A-4558-A832-852030F39F3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inkervoeding bevat drie keer zoveel v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5A06-07F2-4EB9-B7E9-CEE6EE96E1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gelmatig bewegen is goed voor de gezondheid, de kans op diabetes en overgewicht is klei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zond bewegen betekent elke dag actief zi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ijfelt u over uw gezondhei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ysiotherapeut/ arts geeft adviezen over het juiste tempo, en het verkennen van uw grenz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agen naar mogelijke manieren om te bewe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uinier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lokje om, stevig doorwandel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raplop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evig fiets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848C-6307-4D01-B949-A2DE508E23E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ee verschillende soorten cholesterol HDL LDL choles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DL veroorzaakt gemakkelijk verstoppingen, slechte choleste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DL voert het teveel aan cholesterol juist a naar de le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5A99-8AAF-43F7-BE2F-DEE0FB76AF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holesterolgehalte wordt gemeten met behulp van een bloedonderzo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wie is er een verhoogd cholesterol geme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kan oorzaken noemen van een te hoog cholesterol gehalt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verzadigd 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cholesterolrijk e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e hoog lichaamsgewicht (sommige processen veranderen in het lichaam waardoor het cholesterol hoger wordt vooral bij buik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LDL wordt hoger terwijl het HDL lager wor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felijke aanleg: sommige mensen hebben erfelijke aanleg hypercholesterolem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mensen met Diabete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8223E-BECC-4C81-824D-BBFC2705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37BF7-CAC1-4BFD-BBE3-8759C299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6337-12D7-401C-BE72-A268061E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B45AD-4451-4125-A939-D7D33035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CBADC-C5B9-4D40-B0F8-DE4C0F06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7F81D-11F5-48A5-9A81-82B16EC1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22A8E-8E34-4CFD-8CE3-225A95DE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00692-6AAD-44A9-8BB1-0E9A330B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0F87-BAA6-404A-A4DC-40C689B0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27869-CD67-4132-9023-D05C06ED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AC984-C067-4D75-A324-3FB9D1A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23793-FDC0-4F08-81F5-CC47E4AC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668F-930D-4D65-A353-30E0966D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1C930-D474-4C8C-81E2-3EE90FCC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B33A6-7C94-486D-9B50-BA71C3AD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02975-B3F7-4818-B453-D1AA1148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AB2EC-0D4F-4F8E-A371-C63AF45F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64F5C-764B-454F-A683-F641BF49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AD8D7-F50F-415D-BAF2-B8A820EC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B4520-0941-4B37-A613-65979CE3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74446-0C7D-4DE3-9959-9ACA90BE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D4DB3-1F2D-4B4F-8940-2BDC5FA3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F05A8-BB6A-48DD-92BD-6E4B5755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6CBBA-6DE0-4E4C-906A-C9BE11DA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CBC89-40F3-4002-9072-D67E343A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A3DA6-C91A-46ED-835B-DA6BB0D1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51A92-22B4-4FE6-94FD-6025FC89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B1889-7C27-4469-B89B-B049865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F5FE-A08D-450D-A48A-331E5BA7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7FD85-5E5D-405A-AEAD-DB7EEE56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AC2FA-CF9C-4A5F-9B75-791FF51C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3E248-9079-4427-85E0-2C787267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8742B-1F39-489D-82EA-668AFA21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250D9-8636-4F90-8546-A767B509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520B4-ABEE-4C51-BB07-00548814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53864-5D2B-48AB-81F9-B5EF5D91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456CC-8093-46B9-95D5-E1BF4E78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28C40-77DC-4CF3-94D0-9192774D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A1476-1BEA-4BD0-9E12-5ED2B56C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181F1-4CBB-4F13-8072-75C56D8D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54787-FB0C-4C6F-9E61-E2EE0E40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09AB7-9C0E-46CE-9256-036AC4B5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D0CBD-33EB-4328-ACC5-6EA87979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884CB-436F-4AA5-A11D-2A3BFDA3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26BE5-8E24-45F6-8B1A-82BDF455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D3F45-E67D-4B4F-958F-E2FEFB37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8158B-536E-4EA0-BA02-9D2467B0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6C8FB-F5D7-4815-BB89-682DB4C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5682D-E300-4A4B-8EEC-AEB5A4F7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D5678-F770-4EB2-8235-BF9BF127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4E993-A722-4AB6-8CF8-69FE15D5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A1FC4-E509-4612-BDE6-DBE5976F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55840-B665-41F1-BFCE-91A899FF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A3ADD-BACF-48BC-B547-799B0421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11553-74DD-44D9-AA6C-1C1A6C0D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F8AEE-0820-4B3F-B246-616AC004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7799E-F084-47E3-A9B8-078EEF96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4EB41-0A67-4BED-AF14-E3A7E46A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406A1-DA8E-478F-95A5-C58C4D75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7A90C-778E-49FA-8309-3B27EC0C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29169-9A3B-4F54-99F1-EC7AC0EE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74104-5103-4C32-85DE-C4B80033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EFA86-DAA9-4B26-9CCA-182ABA7E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3B1C-F5B2-4F9F-B012-213617C1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4790B-4353-467C-9697-000D171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57292-4CDE-4DF3-A06A-EC4B1426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68313-E38B-4112-9544-8978B42B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C51DE-42ED-41A9-BD26-C4CEC00F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79C9-7C86-4A47-AC77-7C906AA7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682D3-F168-400D-B690-29AE8094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E5D9D-22A9-4FEF-B3D5-4D840CC4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4B15A-FB90-4FB5-A1EF-FE53777E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B2E7B-E626-4625-AEDC-E72E0D5F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5B88E-4600-400C-B673-0CD3F884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3C0EF-B950-4005-A0EB-89D94596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CBAF7-38DC-40CF-9BB4-D0E4FF3E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932D2-20E2-43F6-861C-CE58547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7965B-9550-41AA-9DBE-6FD0E80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64ACD-BA9C-4E23-B018-081ACAF9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8AB9C-0F32-400D-9B90-F247165B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F6474-8109-4782-8B60-B6BCB50C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6CEEC-AF21-4059-AE57-443F0DB6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603AC-9656-4A40-BD4E-5F38220B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17FE1-839C-4E6D-99CE-C8FA5BBD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CF318-B758-488D-8603-B52D37DF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88E20-A61C-4D49-A922-EDB527F3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280D4-70C9-4503-9CEF-00771114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C7DD9-C94F-440D-9576-84FFF11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17C72-9649-4713-A761-7E60008E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33640-2ADE-4A13-A4F4-B1A5BC46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6DF0F-379C-40B0-9903-8A2C658C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65717-9B55-4E28-85E7-8B00E74B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CAA25-62FC-49E3-8B47-30F213CD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0B5-2116-4CF6-A710-4DC975B3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61F-43E3-4B94-8BFA-798500A3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8AA-D520-49E4-A15B-FC6CC4A7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F47-36D8-456E-93B9-03D06888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D75-3375-4776-A0F0-D0381158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27D-A004-4B8F-B3CF-7FEF8C08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B47-C72B-47E9-9ECE-4EBC3B26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FFF-F48D-4E9A-98DE-29814436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E5E-2BE2-400A-B1A4-4A509DB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8AB-EF40-43AD-B7EC-5FDA0595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85D-62F3-441F-BFD0-69AA29B0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DE7-FA09-4597-A8BE-5B4FB92F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7D33-E9C6-4EA7-8751-572AE49C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CAAD-6199-4F99-BB81-881A891D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8A48-45A4-4D14-85C2-1F590408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515F-BA32-420F-8A2F-EA113E7F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E6EA-4D92-47A7-A9A8-E8030A3B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4A7E-C3DB-4AD2-BBBB-FE60DE38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2896-0886-4828-8ACC-D41C7FB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680D-29EB-4255-9443-57DD75C2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0F2C-1E7A-4462-9069-8F1098B7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BCD6-7E7A-4029-A91A-057E95B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93AC-9E76-4B98-95C9-C7AC9A16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97A7-2BF5-4E95-ACDD-C42986CC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93F5-7F3D-465F-BE57-02DC5EB5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D42B-D3E5-4206-A48A-1B896D28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1854-B00C-426C-AA0C-437DD096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3EF6-7990-4375-AD21-8A791FC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8FF9-619B-40DF-8D97-96FE47E2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8BE5-F3B1-4F9C-A521-E52D0381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3F144-B95D-4D06-8449-37D25BA7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C5A1-8F79-4545-BC36-26641E0B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01EA-33BF-4821-AB7A-64D25B3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A630-1215-47FC-B039-9BEA2E77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498A-1A96-425F-9A4B-58449D2C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90B0-1738-42B5-97B0-284E606A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278C-BF5F-48D7-AE94-83A63B1B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24686-5DE4-4E3B-B919-3D05F90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1B4DD-DA79-4F56-8627-13C99C0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192F-F0FA-403F-B7C2-2CBE0FAC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4B8B-25FE-4230-8306-D4B06992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5CFE7-6FCD-4DA4-809C-5EE6357B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4E32-BCD6-43D3-994F-7955B81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4E87-2577-4A06-938C-EA7C5EFE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86BF-209E-455F-B1EE-EF4E1BA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0380-51FC-41EF-BD1B-2AF0182D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E608-07B5-4218-ABE0-39B6DF52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802F-C396-4CE7-AE4F-92D48655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4D4E-1B71-4B24-9A36-00B7668B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7848A-7D36-451F-8207-D4BDBDBF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1A9AC-4C3E-4E05-9540-EBC4E406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63D4F-D660-477C-A5AC-EB83EC17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25F82-8529-4CE0-A708-C369E4A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8BFD-AF4D-4170-AABA-86A8B267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DEEC-B24E-4A27-A5B5-9E4BF86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33D34-8961-4A59-9E5B-83863781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2F82-E7F9-4457-89A8-B15A2FC1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35DA-25B4-4191-834A-FDCCC3D3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CDEF2-1B1D-439D-B188-F1A38E31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9D934-DE13-448B-9AB2-FDFABA33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8FD6-78A4-4454-8D27-D1B6379F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DC0D7-9B4B-4F3D-A786-F6EC56B5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7E628-CD7C-4ED6-AE9A-956E65E9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3510-F78D-4303-B67F-1B6147FDF6C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7A83-88D7-434E-BCC1-D7FBF7B6E86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5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6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920-7297-4B97-AB3B-F187169811C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8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0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E45-A497-406F-AA87-5C01E44581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828F-87F2-44D6-81DA-42BCEF0194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6BE9-CEDB-4B9F-A545-6060BF4300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156E-D2C2-4F2A-8E3C-BED3F795B8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3E09-6D24-4F56-8DEB-873479B5AD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E624-CAFA-4CFB-B3BA-19CF08F6D0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A3C8-514A-450F-81E7-E2233F942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E00E-CFFC-4A5A-8B1D-15BA6BDD8B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3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6877-B6CE-41BF-8258-B65FCA6DC1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6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8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2B71-E369-4B4A-9B7B-5B6518DBB8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source=images&amp;cd=&amp;cad=rja&amp;uact=8&amp;ved=0ahUKEwictKXm4efLAhXCYQ8KHc8MCEEQjRwIBw&amp;url=http%3A%2F%2Fwww.voedingscentrum.nl%2Fnl%2Fgezond-eten-met-de-schijf-van-vijf.aspx&amp;psig=AFQjCNGS803GMEIPaOLnwEZkMO7HMZ64zw&amp;ust=145940506544659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Jeroen Bosch Ziekenhuis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Afdeling Diëtetiek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000000"/>
                </a:solidFill>
                <a:latin typeface="Georgia"/>
              </a:rPr>
              <a:t>Cardio-revalidatie 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5124"/>
          <p:cNvSpPr/>
          <p:nvPr/>
        </p:nvSpPr>
        <p:spPr>
          <a:xfrm>
            <a:off x="1981080" y="3276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Cholesterol en Ve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C:\Documents and Settings\boogaard\Mijn documenten\Mijn afbeeldingen\noten.gif"/>
          <p:cNvPicPr/>
          <p:nvPr/>
        </p:nvPicPr>
        <p:blipFill>
          <a:blip r:embed="rId1"/>
          <a:stretch/>
        </p:blipFill>
        <p:spPr>
          <a:xfrm>
            <a:off x="3809880" y="4419720"/>
            <a:ext cx="2133720" cy="2133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8" name="Picture 3" descr="http://www.typicaldutchstuff.com/croma.jpg"/>
          <p:cNvPicPr/>
          <p:nvPr/>
        </p:nvPicPr>
        <p:blipFill>
          <a:blip r:embed="rId2"/>
          <a:stretch/>
        </p:blipFill>
        <p:spPr>
          <a:xfrm>
            <a:off x="6553080" y="1066680"/>
            <a:ext cx="1935360" cy="1636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9" name="Picture 4" descr="http://www.lunch4kids.com/getfile.php?id=478"/>
          <p:cNvPicPr/>
          <p:nvPr/>
        </p:nvPicPr>
        <p:blipFill>
          <a:blip r:embed="rId3"/>
          <a:stretch/>
        </p:blipFill>
        <p:spPr>
          <a:xfrm>
            <a:off x="685800" y="4724280"/>
            <a:ext cx="2360520" cy="1771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o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verzadigd vet</a:t>
            </a: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457200" y="1523880"/>
            <a:ext cx="56386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en met (vloeibare) plantaardige vetten of visve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, vloeibare margari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oten, sojaprodukten,vette 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7" descr="http://www.agrotropical.andes.com/olive_oil/bot2peq.jpg"/>
          <p:cNvPicPr/>
          <p:nvPr/>
        </p:nvPicPr>
        <p:blipFill>
          <a:blip r:embed="rId4"/>
          <a:stretch/>
        </p:blipFill>
        <p:spPr>
          <a:xfrm>
            <a:off x="6553080" y="2819520"/>
            <a:ext cx="2035440" cy="2076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3" name="Picture 8" descr="http://www.becel.be/images/prod/becelomega3plus-big.gif"/>
          <p:cNvPicPr/>
          <p:nvPr/>
        </p:nvPicPr>
        <p:blipFill>
          <a:blip r:embed="rId5"/>
          <a:stretch/>
        </p:blipFill>
        <p:spPr>
          <a:xfrm>
            <a:off x="6172200" y="4572000"/>
            <a:ext cx="2590920" cy="1936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85800" y="1676520"/>
            <a:ext cx="77724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 max. 2-3 per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vlees, garnalen, paling, mosselen 1 x per 2 we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mboter, slag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990720" y="609480"/>
            <a:ext cx="7772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ijging van het cholesterol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et name het L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5" descr="http://www.freewebs.com/hanenburg/ei01.jpg"/>
          <p:cNvPicPr/>
          <p:nvPr/>
        </p:nvPicPr>
        <p:blipFill>
          <a:blip r:embed="rId1"/>
          <a:stretch/>
        </p:blipFill>
        <p:spPr>
          <a:xfrm>
            <a:off x="990720" y="41911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" descr="http://nl.dreamstime.com/verse-garnalen-thumb2452450.jpg"/>
          <p:cNvPicPr/>
          <p:nvPr/>
        </p:nvPicPr>
        <p:blipFill>
          <a:blip r:embed="rId2"/>
          <a:stretch/>
        </p:blipFill>
        <p:spPr>
          <a:xfrm>
            <a:off x="3851280" y="4797360"/>
            <a:ext cx="1508040" cy="12715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9" descr="http://www.devuurdoorn.be/images/mosselen2.jpg"/>
          <p:cNvPicPr/>
          <p:nvPr/>
        </p:nvPicPr>
        <p:blipFill>
          <a:blip r:embed="rId3"/>
          <a:stretch/>
        </p:blipFill>
        <p:spPr>
          <a:xfrm>
            <a:off x="6324480" y="3962520"/>
            <a:ext cx="1905120" cy="1541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2195640" y="3428640"/>
            <a:ext cx="6262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elling: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s ik deze producten gebruik doe ik voldoende om mijn cholesterol te verlagen. 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2050920" y="1218960"/>
            <a:ext cx="6483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speciale producten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‘functional foods’) op de markt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het cholesterolgehalte in het bl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10-15% kunnen verlagen.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53352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roodsmeersels en zuivelproduct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Plantensterolen / plantenstanol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laagt LDL door verminderde opname 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an cholesterol in de darm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ij gebruik van cholesterolverlagende medicatie eerst arts raadpleg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verlagende product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Group 5"/>
          <p:cNvGrpSpPr/>
          <p:nvPr/>
        </p:nvGrpSpPr>
        <p:grpSpPr>
          <a:xfrm>
            <a:off x="3475080" y="2052720"/>
            <a:ext cx="8572320" cy="360"/>
            <a:chOff x="3475080" y="2052720"/>
            <a:chExt cx="8572320" cy="360"/>
          </a:xfrm>
        </p:grpSpPr>
        <p:sp>
          <p:nvSpPr>
            <p:cNvPr id="754" name="Rectangle 6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Picture 8" descr="http://u1.peersphere.net/becelwebsite/controller/image.jpg?livelinkDataID=5740277"/>
          <p:cNvPicPr/>
          <p:nvPr/>
        </p:nvPicPr>
        <p:blipFill>
          <a:blip r:embed="rId1"/>
          <a:stretch/>
        </p:blipFill>
        <p:spPr>
          <a:xfrm>
            <a:off x="6858000" y="4572000"/>
            <a:ext cx="911160" cy="198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7" name="Picture 9" descr="http://u1.peersphere.net/becelwebsite/controller/image.jpg?livelinkDataID=5671511"/>
          <p:cNvPicPr/>
          <p:nvPr/>
        </p:nvPicPr>
        <p:blipFill>
          <a:blip r:embed="rId2"/>
          <a:stretch/>
        </p:blipFill>
        <p:spPr>
          <a:xfrm>
            <a:off x="3733920" y="4876920"/>
            <a:ext cx="2209680" cy="1523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verzadigde vetzuren in de voeding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producten met vet kiezen voor d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orten die weinig verzadigd vet bevatten,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grootste deel van het vet is dan automatisch onverzadigd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HDL verhogend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zadigd = </a:t>
            </a: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keerd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verzadigd = </a:t>
            </a: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é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Smeren en bakk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340000" y="1219320"/>
            <a:ext cx="568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Smer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rg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8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lv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4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e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unstige verhouding onverzadigde vetten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.o.v. verzadigde vetten.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akk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k- en braadvet/ olijfoli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90 – 10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764" name="Picture 1029" descr="30021"/>
          <p:cNvPicPr/>
          <p:nvPr/>
        </p:nvPicPr>
        <p:blipFill>
          <a:blip r:embed="rId1"/>
          <a:stretch/>
        </p:blipFill>
        <p:spPr>
          <a:xfrm>
            <a:off x="6172200" y="685800"/>
            <a:ext cx="1704960" cy="1658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028" descr="30022"/>
          <p:cNvPicPr/>
          <p:nvPr/>
        </p:nvPicPr>
        <p:blipFill>
          <a:blip r:embed="rId2"/>
          <a:stretch/>
        </p:blipFill>
        <p:spPr>
          <a:xfrm>
            <a:off x="395280" y="1341360"/>
            <a:ext cx="1577880" cy="16588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31" descr="30105"/>
          <p:cNvPicPr/>
          <p:nvPr/>
        </p:nvPicPr>
        <p:blipFill>
          <a:blip r:embed="rId3"/>
          <a:stretch/>
        </p:blipFill>
        <p:spPr>
          <a:xfrm>
            <a:off x="5943600" y="4114800"/>
            <a:ext cx="947880" cy="23036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032" descr="30106"/>
          <p:cNvPicPr/>
          <p:nvPr/>
        </p:nvPicPr>
        <p:blipFill>
          <a:blip r:embed="rId4"/>
          <a:stretch/>
        </p:blipFill>
        <p:spPr>
          <a:xfrm>
            <a:off x="468360" y="4292640"/>
            <a:ext cx="1639800" cy="2303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33" descr="http://www.delicasa.nl/shop/image.php?productid=17407"/>
          <p:cNvPicPr/>
          <p:nvPr/>
        </p:nvPicPr>
        <p:blipFill>
          <a:blip r:embed="rId5"/>
          <a:stretch/>
        </p:blipFill>
        <p:spPr>
          <a:xfrm>
            <a:off x="8001000" y="2590920"/>
            <a:ext cx="792000" cy="184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ieetmargarine is minder vet 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an roomboter.</a:t>
            </a:r>
            <a:endParaRPr b="0" lang="en-US" sz="33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telling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Etiket lezen: Welke te kiez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1955880"/>
            <a:ext cx="914400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57200" y="1828800"/>
          <a:ext cx="8366040" cy="4022640"/>
        </p:xfrm>
        <a:graphic>
          <a:graphicData uri="http://schemas.openxmlformats.org/drawingml/2006/table">
            <a:tbl>
              <a:tblPr/>
              <a:tblGrid>
                <a:gridCol w="2891520"/>
                <a:gridCol w="1170360"/>
                <a:gridCol w="218880"/>
                <a:gridCol w="2915640"/>
                <a:gridCol w="1169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74" name="Text Box 30"/>
          <p:cNvSpPr/>
          <p:nvPr/>
        </p:nvSpPr>
        <p:spPr>
          <a:xfrm>
            <a:off x="457200" y="220968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ieet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31"/>
          <p:cNvSpPr/>
          <p:nvPr/>
        </p:nvSpPr>
        <p:spPr>
          <a:xfrm>
            <a:off x="4724280" y="22096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el menu bevat veel vet?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80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21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21"/>
          <p:cNvSpPr/>
          <p:nvPr/>
        </p:nvSpPr>
        <p:spPr>
          <a:xfrm>
            <a:off x="464832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ere vruchtenyogh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Functie: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celwand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vitamine D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hormon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ga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rten: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L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taal cholesterol 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= HDL + LD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4" descr="http://www.phillips-fit.co.uk/pfiles/images/HDL%20LDL.jpg"/>
          <p:cNvPicPr/>
          <p:nvPr/>
        </p:nvPicPr>
        <p:blipFill>
          <a:blip r:embed="rId1"/>
          <a:stretch/>
        </p:blipFill>
        <p:spPr>
          <a:xfrm>
            <a:off x="5486400" y="3505320"/>
            <a:ext cx="2438280" cy="1930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t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4648320" y="990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Mager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1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16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                              5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4648320" y="1676520"/>
            <a:ext cx="4038480" cy="48553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1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5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6g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  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8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gere vruchten yoghurt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990720" y="14475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- Lichaamsbeweging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ïnvloeden van 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0" name="Picture 5" descr="http://www.debeus.be/trap01.jpg"/>
          <p:cNvPicPr/>
          <p:nvPr/>
        </p:nvPicPr>
        <p:blipFill>
          <a:blip r:embed="rId1"/>
          <a:stretch/>
        </p:blipFill>
        <p:spPr>
          <a:xfrm>
            <a:off x="1676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http://home.planet.nl/~pluym646/foto1/nordic-walking1.jpg"/>
          <p:cNvPicPr/>
          <p:nvPr/>
        </p:nvPicPr>
        <p:blipFill>
          <a:blip r:embed="rId2"/>
          <a:stretch/>
        </p:blipFill>
        <p:spPr>
          <a:xfrm>
            <a:off x="5029200" y="4038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t gebruikt u zelf op brood </a:t>
            </a:r>
            <a:br>
              <a:rPr sz="3300"/>
            </a:b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of om in te bakk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2050920" y="2286000"/>
            <a:ext cx="610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u u momenteel kiezen voor een ander smeersel voor op brood of voor een ander bereidingsv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" descr="http://www.kleinewereld.nl/images/brood.gif"/>
          <p:cNvPicPr/>
          <p:nvPr/>
        </p:nvPicPr>
        <p:blipFill>
          <a:blip r:embed="rId1"/>
          <a:stretch/>
        </p:blipFill>
        <p:spPr>
          <a:xfrm>
            <a:off x="32767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2268360" y="2666520"/>
            <a:ext cx="6113520" cy="22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voedingscentrum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bece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cholestero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loedv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791320" y="198108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stapelt het cholesterol en vet op in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\\domein1.lan\dfs\UserData\evdbogaard\Mijn afbeeldingen\gezonde ader.jpg"/>
          <p:cNvPicPr/>
          <p:nvPr/>
        </p:nvPicPr>
        <p:blipFill>
          <a:blip r:embed="rId1"/>
          <a:stretch/>
        </p:blipFill>
        <p:spPr>
          <a:xfrm>
            <a:off x="4648320" y="4495680"/>
            <a:ext cx="3886200" cy="1609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\\domein1.lan\dfs\UserData\evdbogaard\Mijn afbeeldingen\zieke ader.jpg"/>
          <p:cNvPicPr/>
          <p:nvPr/>
        </p:nvPicPr>
        <p:blipFill>
          <a:blip r:embed="rId2"/>
          <a:stretch/>
        </p:blipFill>
        <p:spPr>
          <a:xfrm>
            <a:off x="838080" y="2057400"/>
            <a:ext cx="3810240" cy="155088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7"/>
          <p:cNvSpPr/>
          <p:nvPr/>
        </p:nvSpPr>
        <p:spPr>
          <a:xfrm>
            <a:off x="685800" y="4419720"/>
            <a:ext cx="3809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haalt het vet en cholesterol weg uit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91440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aal cholestero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ma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vro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2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2,5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houding totaal cholesterol en HDL 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+ Triglicerid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1,7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Cholesterol normaalwaard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Vett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962520" y="91440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6781680" y="2438280"/>
            <a:ext cx="2133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5779440" y="4800600"/>
            <a:ext cx="253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On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-183600" y="1752480"/>
            <a:ext cx="613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nkel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154240" y="54864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Meer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3239280" y="1143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439680" y="38862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420120" y="47242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152280" y="3733920"/>
            <a:ext cx="15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Linol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2284920" y="44956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Alfa-linoleen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380880" y="60199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5541120" y="13716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Transv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1143000" y="2590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D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2514600" y="2819520"/>
            <a:ext cx="3505320" cy="119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ONTZETTEND VERWARR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990720" y="2133720"/>
            <a:ext cx="777240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Soort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inder 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eer on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Cholesterolverlagende produc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99072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Beïnvloeden van choleste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http://www.voedingscentrum.nl/Assets/Uploads/voedingscentrum/Images/Consumenten/Schijf%20van%20Vijf%202016/Schijf-van-Vijf-vaknam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981000"/>
            <a:ext cx="5209920" cy="42483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057040" y="56386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dacht voor voedingsvezels en variati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2057400" y="2060280"/>
            <a:ext cx="6546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vlokk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mou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arwekiem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ojabon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inoa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en (nieuwe schijf van vijf adviseert 1 keer in de week peulvruchten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oten en zaden (eet ten minste 15 gram ongezouten noten per dag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jnzaad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Plantaardige voeding, vezelrijk,</a:t>
            </a:r>
            <a:br>
              <a:rPr sz="3000"/>
            </a:b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verlaagd het LD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verzadigd vet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6" descr="http://www.cheffen.nl/vlees1-thumb.jpg"/>
          <p:cNvPicPr/>
          <p:nvPr/>
        </p:nvPicPr>
        <p:blipFill>
          <a:blip r:embed="rId1"/>
          <a:stretch/>
        </p:blipFill>
        <p:spPr>
          <a:xfrm>
            <a:off x="685800" y="4572000"/>
            <a:ext cx="1457280" cy="167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1" name="Picture 7" descr="http://images.vpro.nl/img.db?32155500+s(200)"/>
          <p:cNvPicPr/>
          <p:nvPr/>
        </p:nvPicPr>
        <p:blipFill>
          <a:blip r:embed="rId2"/>
          <a:stretch/>
        </p:blipFill>
        <p:spPr>
          <a:xfrm>
            <a:off x="7162920" y="3962520"/>
            <a:ext cx="1647720" cy="2514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2" name="Picture 8" descr="http://www.eventail-junior.be/images/croissant.jpg"/>
          <p:cNvPicPr/>
          <p:nvPr/>
        </p:nvPicPr>
        <p:blipFill>
          <a:blip r:embed="rId3"/>
          <a:stretch/>
        </p:blipFill>
        <p:spPr>
          <a:xfrm>
            <a:off x="2438280" y="4648320"/>
            <a:ext cx="1676520" cy="159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3" name="Picture 9" descr="http://www.bakkerijkamstra.nl/images/Kamstras_Broodje_Kaas.jpg"/>
          <p:cNvPicPr/>
          <p:nvPr/>
        </p:nvPicPr>
        <p:blipFill>
          <a:blip r:embed="rId4"/>
          <a:stretch/>
        </p:blipFill>
        <p:spPr>
          <a:xfrm>
            <a:off x="4419720" y="4572000"/>
            <a:ext cx="2438280" cy="172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4" name="Picture 10" descr="http://images.businessweek.com/ss/06/12/1206_transfats/image/margarine.jpg"/>
          <p:cNvPicPr/>
          <p:nvPr/>
        </p:nvPicPr>
        <p:blipFill>
          <a:blip r:embed="rId5"/>
          <a:stretch/>
        </p:blipFill>
        <p:spPr>
          <a:xfrm>
            <a:off x="7238880" y="990720"/>
            <a:ext cx="1676520" cy="140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5" name="Picture 11" descr="http://www.reuserensmulders.nl/storage_accessories/189810los.jpg"/>
          <p:cNvPicPr/>
          <p:nvPr/>
        </p:nvPicPr>
        <p:blipFill>
          <a:blip r:embed="rId6"/>
          <a:stretch/>
        </p:blipFill>
        <p:spPr>
          <a:xfrm>
            <a:off x="7162920" y="2590920"/>
            <a:ext cx="1828800" cy="124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6" name="Text Box 12"/>
          <p:cNvSpPr/>
          <p:nvPr/>
        </p:nvSpPr>
        <p:spPr>
          <a:xfrm>
            <a:off x="533520" y="1523880"/>
            <a:ext cx="60195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Producten met dierlijke vetten z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Boter, volvette (48+) kaas, volle melk,   slagroom, vet v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En ook: chocolade, cake, snacks, koek, geb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7:29:13Z</dcterms:created>
  <dc:creator>rvheertum</dc:creator>
  <dc:description/>
  <dc:language>en-US</dc:language>
  <cp:lastModifiedBy>lvsluisveld</cp:lastModifiedBy>
  <dcterms:modified xsi:type="dcterms:W3CDTF">2016-05-04T09:34:19Z</dcterms:modified>
  <cp:revision>72</cp:revision>
  <dc:subject/>
  <dc:title>LANGER GEZOND MET GEZONDE EET-EN DRINKGEWOONTEN</dc:title>
</cp:coreProperties>
</file>