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image2.wmf" ContentType="image/x-wmf"/>
  <Override PartName="/ppt/media/CAMERA.WAV" ContentType="audio/x-wav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CDB7-39C6-49B7-83D7-0A2ED908C0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2C17-BF73-49D8-A8F2-16B76AD6F7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711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5840" y="4365360"/>
            <a:ext cx="5026320" cy="43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1144440" y="4500720"/>
            <a:ext cx="498960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iekte brengt veelal een verminderde inname van en een verhoogde behoefte aan voeding met zich mee. Daarnaast treden er als gevolg van ziekte vaak abnormale verliezen op. - Dit zorgt voor een verminderde voedingstoestand. - Een verminderde voedingstoestand kan tot complicaties leiden. Ook het minder snel genezen van een ziekte of operatie is een complicatie. - Deze kunnen uitmonden in ziekte enz. - Zo raak je in een steeds slechtere condit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chte voedingstoestand - darmen worden niet goed gevoed - atrofie van de darmwand en translokatie van bacteriën waardoor voeding minder goed wordt opgenomen - achteruitgang van de voedingstoestand van de darmen en het lichaam - verslechtering darmwerking - enz. en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cc"/>
                </a:solidFill>
                <a:latin typeface="Calibri"/>
              </a:rPr>
              <a:t>Bij ondervoeding significant ook  lagere beoordeling voor kwaliteit van leven:</a:t>
            </a:r>
            <a:r>
              <a:rPr b="0" lang="nl-NL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Studie in 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weden 1995 (J. Larsson</a:t>
            </a:r>
            <a:r>
              <a:rPr b="0" i="1" lang="nl-NL" sz="1200" spc="-1" strike="noStrike">
                <a:solidFill>
                  <a:srgbClr val="000000"/>
                </a:solidFill>
                <a:latin typeface="Calibri"/>
              </a:rPr>
              <a:t> et al.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) bij 199 pat. bleken volgende aspecten gerelateerd te zijn aan voedingstoestand: somatische gezondheid (o.a. lichamelijke gezondheid, invloed van ziekte op het lev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sychologische aspecten (o.a. algemeen welzijn, vermogen om te concentreren, denken, herinneren) activiteiten (o.a. zelfzorg, mogelijkheid om actief leven te leiden) gemoedstoestand / stemming uithoudingsverm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 deze neerwaartse spiraal kan aan de cliënt/ patiënt het belang van een goede voedingstoestand worden duidelijk gemaakt. Het kan helpen de cliënt/ patiënt te stimuleren een voedingstherapie vol te hou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0FFE-B152-4117-B3AC-B74D130E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C96C-44BE-4657-840B-A97D878E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9DE60-CFAA-45DC-8D3C-7A5F2A29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0618E9-C648-4875-BFD8-29371C05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C5AD09-3049-46E3-81DB-69306CEB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4C8E40-74DE-4F6F-A4B6-D62A6A8B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D8287-74DF-414D-A261-C120DEE5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18EF8-BF4C-4106-BDA9-C64BC3CD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72D62-BC83-4E09-AC1C-67D8F9BE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F1A85-20CB-4D58-9EF3-EBFA504B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412A8-60F8-4052-BDB6-B7C18819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29DA3-79F9-490E-B76F-21356AC7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206-72FF-4BD7-A82F-1946E918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592DF-F834-4B80-8804-6BE4F25D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1C41A-C731-4B42-A60E-9C20F565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24974-EB0A-4BAB-9715-E9429B9A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332D8D-C06B-4E38-A278-1CFFD60F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B1590-5D7D-4676-BE75-AB8F51B6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65434-D141-407A-83E4-EC808FB3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C04E9-04EF-4621-B5F2-3A18D35B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E8AE2-EB7E-453D-A644-B33C2A9D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3CA31D-E503-431B-AE32-BD99877D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44436-05D0-4085-9B74-4970FC92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D80-E7F5-4059-9ACB-7531A470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B2A09-E311-4D21-BE85-359046B3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17607-29B2-4628-A988-AF1D6422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348E7-BFB7-4F7A-B783-C87F5398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D16C7-42E0-4B00-B830-EFCF5F82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24B19-FBCB-4387-864A-0A1AB5C5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E43E1-04D8-419E-9889-56CB6587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E84C1-8FF6-45C1-8DB9-0B22643A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25367-B8F5-44D4-972F-26CD9FF3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AC295-9731-447C-A747-14D3DF4C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68AD3-577B-4731-9C4B-4A0EDC97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1CB7-9BE5-4D84-BE0C-C46D120A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1A621-BF0E-41CE-A810-FB2C8792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4522B-78CD-4CCD-90CC-19063BB6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DB899-28CB-4E4E-A855-417ADFAE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386B7-7741-4AC2-97CB-AFDB913F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C6DEA-A164-4430-A87D-3456C64A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DCBD7A-4480-40BA-930D-E151A801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724245-1299-4D4D-B96D-7AC769B7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F523D5-278E-45B8-820B-8FEE9303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A869BA-3403-41B0-B656-D2A46992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A5B9E-EE5D-4220-A24D-07CB4C04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639D-78F1-4277-8456-748B9BB5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CF91AD-A80C-42B3-828A-15FE019F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4A90C4-325C-4C2D-9A8B-F54021D4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92670C-7806-42B1-A20B-CEFDD9D2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A1CD6-DACC-490A-920D-706A7A5D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903F5-543D-4F21-99DA-D6AFE63A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7D7E7-0585-40EC-83BA-234B4280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4018B-BC7C-4F5C-9074-EE479A34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425E4-9F3C-4800-837B-B6E086D5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BC1E2-693A-41F4-AD41-C974D0DA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69A34A-876E-44FB-90D9-D8F225A7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7C58-212B-45A7-B28F-3F91238B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56F2F-C07F-4153-B78C-08634699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87C65-97F1-4C5B-97AF-E23C20FA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BBCCC0-52AE-4297-87F1-015FD0B7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D5E21-D0D5-4BC1-A580-9F1BA2D0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D11E8-FABF-4199-AD73-81A194D8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BF43B-61DB-48CA-8052-92180DB0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BC546-0EE5-48BD-8AEE-A6F05B33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A5A0-24F2-4C93-81E8-C4C46339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C952-4356-4FE7-AFBD-8493B44D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C981-1344-423E-BCFF-25DC5E78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74E7-60C8-4384-B4D8-1AD59C38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81C-2345-4946-BE4E-7AEE4973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F1D8-6C89-4214-A861-52B99A6A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AF0F-2B61-408D-8C60-A259CAB3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CD56-A871-4FA8-AB86-B55EA75C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5FD7-7899-4AB9-8017-33300F66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126E-DD7C-466A-8CF4-B76DF335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1F70F-9EBA-4418-B505-98B8A799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B6FBD-41E9-4B2B-9E7B-76C3DA12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6BA50-F94E-4C2E-865B-E2803E7A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ABEB1-67CD-47BE-9760-CBBA7535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2072F-EA6C-4391-8E9B-C16D6689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289-1E69-481C-AAD9-6B2ABB0F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DEAD8-D374-410B-A86C-C14580CE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BBA69-B4B5-4F30-9D5F-A39316D7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AD368-EF83-4BC3-A2D1-C35CB9DF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F8C28-3A5C-4E94-9773-9CF395D8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B2F05-4000-469E-9A93-192827AE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1261E-F1F0-4A10-A020-E803BA2A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6A70D-8BEB-4029-9605-A9B31C52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1CAD2-BDF3-4EE4-914E-7B27A6ED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21C9C-F600-46B0-878C-607BD05B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4B143-6A09-4C7E-A696-E274CF74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1AB2-DE47-4B90-AD42-0B998848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93173-0C33-49D4-B2EB-68212074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37D09-D7D0-4E3B-9448-74BD21A4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76853-4626-4965-BDD6-F54B9D40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8FFA7-0F35-46AC-92F6-A45F7477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EF9CB-A3DA-49FF-B6B4-1A1AA0D2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03A89-8B87-4447-A952-303D1409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14CE6-0079-42D2-95B2-0E74C382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9B565-5558-48DF-8CD3-3CB076B7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D70BC-2AA5-4DAE-98FE-42EF02F9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BE070-102E-4D32-99D4-B1684F19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788-B966-4B58-A4F2-1D92B984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BC3CC-458E-4007-8390-3932096A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EEE69-1FD6-47F2-84BC-360DBF18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4D8BA-8B0B-43E2-A729-748B6C9A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2664A-08FF-4966-B57F-780959C8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F434A-D879-449E-80C4-3D6BE95F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8A02A-7D23-4105-B4A5-B919D075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365E7-1372-44AB-93FE-240A5843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C2A73-125E-4470-9564-A36C2B2D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BC60C-1630-46BA-A39E-D53E6670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A2498-7444-48DD-B935-FAD0968D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BEE-AD45-43E7-8084-04D19868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5C24C-49DD-481F-83DB-791B39DD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ADEB4-4E58-48AA-B389-498ED655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84516-1AD9-4299-AEBC-07EBCEAC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330F7-7088-493C-909E-59D37CF4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EF6B6-3BE6-40A1-A82E-90D3F411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D5ADF-E9B4-4A82-AF34-77EA48FB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C2E8F-3A93-46BC-BCE2-F2FCE15A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62DC7-0C1E-4AC9-9E56-ADDC5A33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2D6DF-C47B-41DB-9D62-193D7FE4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0C10C-039E-4417-A98D-7934FE47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9D6-C1F8-4A51-861C-6FDA9C70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A34AF-6D50-4EDF-912B-FF66BBB4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ADE73-909C-4F45-B166-E9F88DAD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152CC-1420-4E9F-BECD-A9F027DE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53469-370A-44CA-A1D4-FAFC6AF9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CF8F9-3E03-4F2A-ABAB-96D74866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BEC73-0524-4DD3-9F7A-8D38C4CB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702AA-02C6-4AF7-A695-708F0060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D5563-8E11-4F71-8BDB-79655511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A6DF2-2378-449E-8E62-208F4228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1D0CF-05EE-4EFE-8196-79E1B7E7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E8B-7C14-45D9-B225-1A2FB5D2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90223-8D5D-4F71-B1F0-3922736B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F1612-0E0F-4EE7-ADA0-6AE15D17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E11B8-3AA3-443A-A47B-03A8372A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0AB1F-009E-4634-95FF-100CF78D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D8B37-0182-4D42-A01F-648CB702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5D63B-C6A6-4BE4-9511-8E7EF188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60D38-FF9C-419C-BE0F-57CB074A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1736F-C075-4776-A717-EFED2981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BD1D3-BED4-433B-9097-83999219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09216-9D56-4D7B-A6A1-4EF0A5C0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5769-4982-4385-BE4D-814C5E89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1B727-8B2E-4E19-B5D1-8EDC5431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46FB5-E35D-4C53-96DB-D11EA657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C6723-E8D9-488E-B3C2-F90CFF59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F1740-1D6C-430A-8EE5-5AE5B5BC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517C7-6C92-44F1-AAC7-9EEEC006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96311-9137-42A1-8013-151A00AA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EC8D6-036E-44B3-AB18-C45502B3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88941-0672-4CF7-9B40-48AB67B5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88240-92C4-4843-981B-E3882B67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10A38-904B-4482-956E-6FC22805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07CE-BE37-4DF5-8115-0BC192EAB49B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BE03-80B4-472A-BFFE-FDF628A22DD9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7E50-EA34-44AD-87EA-422976E4EC3C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BEC6-E162-41A0-9B2B-30AC61D102F1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3BB8-7218-47CA-A9CE-0725D943526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2E51-2D39-48F3-9AD6-1E17E062817B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4951-AE43-4BDB-BB48-284ECD1F3247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63E9-9504-4AF1-934C-F5141E890443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7DD6-D39D-455F-B9A0-F4732C8FD2ED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EA32-9DDE-49D6-9855-18CFAD993F1F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F618-DCD7-4C2E-9B66-94827DF66BEB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EF76-8009-469E-9373-3229211E7414}" type="slidenum">
              <a:rPr b="0" lang="nl-NL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5B7D-B898-4718-BA9D-31A36BF14479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646b86"/>
                </a:solidFill>
                <a:latin typeface="Georgia"/>
              </a:rPr>
              <a:t>IS DIT EEN PROBLEEM IN NEDERLAND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Ondervoeding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Ziekte en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inname van voed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opname van voeding in de darm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hoogde behoef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hoogde verliezen van energie en eiwit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oedingsadviezen bij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nergie-eiwitverrijkt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3 maaltijden en 3 tussenmaaltijden per da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im boter en beleg op het broo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le produk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eg slagroom en suiker toe aan pap, vla, toetjes en dran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rijke tussendoortjes zoals milkshake, ijs, roomtoetje, roomkwar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dieet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mt persoon niet aan met energie-eiwitrijke maaltijden en tussenmaaltijden dan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ieetdrinkvoeding zoals nutridrink 2 of 3x per dag (400 kcal en 20 gram eiwi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ukt dit ook niet dan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achtelijke sondevoeding of 24 uur sondevoed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Meetbaar maken van ondervoeding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eegschaal,mn gewichtsverloop vol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andknijpkracht meten en vol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uidplooimetin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xame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linische bli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52360" y="392040"/>
            <a:ext cx="8639280" cy="6086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C:\Users\Mies\Downloads\ondervoeding\images.jpg"/>
          <p:cNvPicPr/>
          <p:nvPr/>
        </p:nvPicPr>
        <p:blipFill>
          <a:blip r:embed="rId1"/>
          <a:stretch/>
        </p:blipFill>
        <p:spPr>
          <a:xfrm>
            <a:off x="2195640" y="1773360"/>
            <a:ext cx="4680000" cy="2950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252360" y="392040"/>
            <a:ext cx="8639280" cy="60865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3" descr="C:\Users\Mies\Downloads\ondervoeding\Handknijpkracht-meten-fysiotherapeu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Chronische en acute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98" name="Picture 4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2921040" cy="41148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30006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is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n lichamelijke toestand voorkomend uit een tekort aan voedingsstoffen, waarbij sprake is van een verminderd biologische func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orzaken van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durig honger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een verhoogde behoefte bij ziekte en een geringe inname hierdoor(koorts, pij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grote verliezen bv bij diarree, br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een verhoogde energiebehoefte bv te snelle schildklierwer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ziekte een verhoogde behoeften, het lichaam is topsport aan het bedrijv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Ziekten met een verhoogde behoeft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ank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ziekten zoals COP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armziekten zoals Crohn en Colitu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artfalen, nierziek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randwondpati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norexia  Nervos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lcoholis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udere mensen met dementie, eenzaamhei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Gevolgen van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ing van algeheel functioner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name spierkracht(slikreflexen, kauwe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oeidhei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pressie en apath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weerstand en kans op infect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lechtere wondgenezing, slechter herst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roeiachterstand bij kinder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ans op overlijden neemt to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nneer gaat iemand afvall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ls datgene wat men eet niet voldoende is om het lichaam van energie te voor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name en verbruik niet in balans 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 gaat zijn vetreserves en spiermassa aanspreken en verbrui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Neerwaartse spiraa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0912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Ziek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nnam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mplicaties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ehoef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Verlieze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lech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voedingstoestand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Line 4"/>
          <p:cNvSpPr/>
          <p:nvPr/>
        </p:nvSpPr>
        <p:spPr>
          <a:xfrm>
            <a:off x="7315200" y="2666880"/>
            <a:ext cx="0" cy="29700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5"/>
          <p:cNvSpPr/>
          <p:nvPr/>
        </p:nvSpPr>
        <p:spPr>
          <a:xfrm>
            <a:off x="7696080" y="3886200"/>
            <a:ext cx="0" cy="297000"/>
          </a:xfrm>
          <a:prstGeom prst="line">
            <a:avLst/>
          </a:prstGeom>
          <a:ln w="50760">
            <a:solidFill>
              <a:srgbClr val="0000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Object 2" descr=""/>
          <p:cNvPicPr/>
          <p:nvPr/>
        </p:nvPicPr>
        <p:blipFill>
          <a:blip r:embed="rId1"/>
          <a:stretch/>
        </p:blipFill>
        <p:spPr>
          <a:xfrm>
            <a:off x="2959200" y="2438280"/>
            <a:ext cx="2820960" cy="2654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477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00"/>
                </a:solidFill>
                <a:latin typeface="Georgia"/>
              </a:rPr>
              <a:t>ENERGIEBALANS = INNAME + VERBRUI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Herstel &amp; Balans</a:t>
            </a:r>
            <a:br>
              <a:rPr sz="4200"/>
            </a:b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2" name="Picture 4" descr="WEEGSCHL"/>
          <p:cNvPicPr/>
          <p:nvPr/>
        </p:nvPicPr>
        <p:blipFill>
          <a:blip r:embed="rId1"/>
          <a:stretch/>
        </p:blipFill>
        <p:spPr>
          <a:xfrm>
            <a:off x="2133720" y="2362320"/>
            <a:ext cx="4762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oe kunnen wij ondervoeding herkenn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bedoeld veel afvallen in korte tijd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6 kg in 6 maanden of 3 kg in 1 ma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eetlust afgelopen ma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lasticiteit van de huid verminder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iepliggende o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ffe haren, nagels breken sn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7:42:13Z</dcterms:created>
  <dc:creator>Rianne Nooijen</dc:creator>
  <dc:description/>
  <dc:language>en-US</dc:language>
  <cp:lastModifiedBy>Rianne van Heertum</cp:lastModifiedBy>
  <dcterms:modified xsi:type="dcterms:W3CDTF">2015-02-10T08:26:19Z</dcterms:modified>
  <cp:revision>6</cp:revision>
  <dc:subject/>
  <dc:title>Ondervoeding</dc:title>
</cp:coreProperties>
</file>