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4.jpeg" ContentType="image/jpeg"/>
  <Override PartName="/ppt/media/image2.png" ContentType="image/png"/>
  <Override PartName="/ppt/media/image27.jpeg" ContentType="image/jpeg"/>
  <Override PartName="/ppt/media/image6.jpeg" ContentType="image/jpeg"/>
  <Override PartName="/ppt/media/image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ftr" idx="41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 type="sldNum" idx="42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B948-81B0-475B-810E-DB67081FA2B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990E-2DD4-4E73-AD13-9A8EEB14E55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anwezigheid doornemen met de patien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5724-2905-411F-B5E8-BB705075C26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 zijn smeersels voor het brood en melkproducten waaraan plantenstanolen of sterolen zijn toegevoeg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is een waardevolle aanvulling. Bekijk het in uw totale voe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inder verzadigd v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eer bewe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A115-6B16-441E-A3FE-929D852B502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Cholesterol is een vetachtige stof die het lichaam nodig heeft als bouwstof voor lichaamscellen en hormonen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onder cholesterol kan het lichaam niet goed function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root gedeelte maakt het lichaam zelf aan en een klein gedeelte komt uit de voe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Uitleggen dat als het om cholesterol gaat dan gaat het om het cholesterol bij elkaar opgete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5FB5-AD39-47B0-8B67-B496124ED59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linkervoeding bevat drie keer zoveel v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D1F9-A518-46A6-A573-DFD1A466956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egelmatig bewegen is goed voor de gezondheid, de kans op diabetes en overgewicht is klei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zond bewegen betekent elke dag actief zij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wijfelt u over uw gezondhei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Fysiotherapeut/ arts geeft adviezen over het juiste tempo, en het verkennen van uw grenz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ragen naar mogelijke manieren om te beweg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uinier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lokje om, stevig doorwandel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raplop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tevig fiets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9FBD-6F35-4B6E-8073-ABEFDD5CE7D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wee verschillende soorten cholesterol HDL LDL choles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DL veroorzaakt gemakkelijk verstoppingen, slechte choleste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DL voert het teveel aan cholesterol juist a naar de lev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D631-4CCA-486A-BF24-42C84073331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holesterolgehalte wordt gemeten met behulp van een bloedonderzo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wie is er een verhoogd cholesterol geme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ie kan oorzaken noemen van een te hoog cholesterol gehalt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eten van veel verzadigd v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eten van veel cholesterolrijk et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te hoog lichaamsgewicht (sommige processen veranderen in het lichaam waardoor het cholesterol hoger wordt vooral bij buikv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LDL wordt hoger terwijl het HDL lager word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felijke aanleg: sommige mensen hebben erfelijke aanleg hypercholesterolem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mensen met Diabete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9589C-6230-45B2-B97F-EE8F5AA2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2357A-9662-4732-AE73-81BD800E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F7CC7-F219-4682-921B-CE692581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591B4-4EAA-4AD1-98A6-6CDBB197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2BDDB-7E2E-4021-A290-B4404456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E8877-3466-48BF-A422-C5C73491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70280-1D03-44E3-9AE3-8D959A18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21330-3B2B-4066-AFD5-BB042247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EC50C-0D4C-4707-9AEA-BF9241F4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DCADD-A13B-407A-893A-1E812C0C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B4C64-47E1-46B3-8CB5-523A20CC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2C1CC-4F58-4F59-B59B-2AEA669A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98CEB-5AA1-481D-825F-2826BE9E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DE545-EBA6-4CAE-8C2E-E3066DE4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03613-96B6-4C21-8313-1AB2590E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8FF23-EBD0-4D34-A8F4-E35C70F8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82B1F-685B-40E3-B7AB-B9841D6C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B4ECF-B7FD-4853-B2D0-FBC3E097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44BC5-5D54-43BB-8F82-DF189DB4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598A5-C5CB-4DFB-BDB2-0B2B63B2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8AD34-B142-4B64-A1F1-F88FD41C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F8C76-8E17-4BC5-AB31-90858FD1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07140-50F6-4581-9749-28BFAA46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20352-684C-4791-B42C-7D427A1E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8E23A-6372-43C3-A4E5-81140B42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2EB31-8920-451D-AF12-2E7DF648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75730-13CE-4869-96F1-C3C76B8F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9A360-BEA3-4961-BB88-51F646CB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F71A8-FF72-4A70-8338-A359777B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FCC27-5056-4ED6-B863-540027BE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F981B-8C85-43BC-B709-62ADC223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C8519-7737-4182-84B4-0E4C3736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0ABE9-E4AE-4583-9BAD-74B356F8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185F1-5D49-4BED-875A-5C1D9DAE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2F91A-0087-4E10-862D-B43DE2D2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DEA3F-65FF-4412-B00E-0F095199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C2E7A-CA30-472D-85F0-E5E41240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5B01A-71F9-413A-8552-41C3CD38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6FB9C-C951-4586-BDC3-92ADB5B3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55020-D0E2-40D9-9553-03DD6EE2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8F6B0-655E-4810-B601-7B65ACEC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20EEF-61EA-424F-A296-D0B15E99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AB39C-7CD8-4206-A439-5D737E48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8FE62-83AD-4D4D-BBB9-26ADFC91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63F70-BC4D-4FC4-B240-30AAE3B9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9D47B-4454-4942-AD90-D3F10499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91D6E-CBE3-4EA8-B8B4-66BE2EDB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A89FD-C908-425D-BE57-A02858B4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B093F-019B-4AB4-91E7-600E6597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57C0F-CBF0-4ACC-9D77-6B63391B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E6F88-D62C-464E-AF5A-B876C617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FDCBA-241C-4388-BE74-F4C1824C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47B7F-753F-4135-BC82-4F5EABEB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F5628-70EF-44DD-BC53-AB3CDA9D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4E730-ED89-4E17-A20C-93D2E2F9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12252-0125-440A-A400-5A929AB5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D66F9-D1C2-4B71-83A8-6F687FFA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64ECE-5B2E-4663-92E5-397FC83C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7F66F-733C-4227-95C0-56789336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751A9-A315-4C9B-B00F-38C1BACA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204AE-BC06-48D5-B8CB-1915B5E3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C9A57-65CF-4AAD-9E7E-21CFCF11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CC5D5-355C-47D9-889D-EC847CEE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0C8E8-1DA6-43D6-A7D7-8879B611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2A9EB-E2E3-4A23-A92C-16158D0C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D4AE6-33C2-4071-8170-C808C92E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C11D9-4281-4D35-842E-7B4ACB7F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715EF-B30B-4DF4-A0DB-6FCFC82A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52187-F847-47C0-815A-EE656A54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0D66E-4BB4-4639-A261-293E4E3F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3FFAF-9B0D-42BD-975C-B20B8766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F75D5-EE1F-49D7-8A15-0F49C4E5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4FB04-AE4D-473F-ACFB-10567777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0C18E-9C34-4EB9-A72E-4091F77F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F1D48-AA26-4313-AC9C-664B976B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E9EFE-B569-45BE-B181-76BA8B5F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5AFBB-1DE3-4331-A690-DA1A5AED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7E0C6-3B6E-4162-885F-AB955E6A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D3C6F-66D8-460D-AB67-698BD071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488DF-CF69-4645-957D-638063F1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258C9-C8DB-4041-9AB6-7F99E55B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9E2D3-730D-43D7-8889-265A0612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C04E9-D7C4-4952-9807-8C8F2B05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04F6A-90C0-46AF-B9B0-33546AB3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29D0C-1F2E-47B3-B297-0BF9AE82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B0BA5-EEF3-432A-A90A-5D055C48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3EA471-D95B-48D6-A9FB-B4ED2426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3D6BCC-8A60-4AC0-8FCB-956C4CF9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4F2DF-728A-4844-B271-9C7AFA22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807C3-2752-4AFA-BD7A-3C7510B2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238FC-84FE-49DA-AACB-95A0A071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C4CCF-2AC0-41B8-B8F4-23043BD6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CF29B4-5FC0-439C-95D9-A8B21220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440-9CC5-457D-B3D2-C5AAD6D5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9EF8-18F2-454C-9954-77D8DFC1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E6F-1BE9-46CC-BE24-17379225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F10-C26D-4718-95A3-1E5B5838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536-17BA-48C4-A9D7-67589681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7B7-34B7-4058-80AA-D94CBF3D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AEE-46AB-4188-8474-B662E5D6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EBB-55F2-490F-98EC-B305EB30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421-0B3B-4D96-BC0C-C2342AF1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193-CFD4-48F6-8B36-B40B206C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E984-8986-4C39-B10B-CE48035F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03FA-6ED3-4CED-877B-F19CE0BC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789C-143F-4BC2-8010-8612947F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DB69-B470-414A-97D6-99225858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B4E8-867D-433B-B395-9FBEA697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F87E-7ADD-4620-B04D-B5CE1497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9789-3B9C-4264-B1E1-FEFAFEF8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3C27-3961-4B77-9B3C-8FB0B9BB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BD54-99D5-4EE3-81EA-D7FB00B2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C93E-AF16-4BE1-9CEE-6E54E2CB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758F-F5C7-47A3-8E07-1B231777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D7FA-2023-4EED-991C-1F8209CF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8535-9A39-4874-8400-5A0FAC6F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6EF1-B395-4952-9375-161F534A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1EE5A-1F7D-477A-A4D2-05A0197C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EE9F3-5CA3-42CB-96B3-A480108E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D2234-7766-4E21-A805-7248D1EF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CF4A-C49B-4B24-9F3F-2BEBCCBA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F663D-4045-428C-A180-1AE64680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CF74A-CEA0-4D0A-BDA2-6AB28E0E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A8EED-A202-4C4E-A470-FB5A42FC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C449-C5D7-4B20-8A01-DF1A0013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69DDA-078E-43FD-ADBB-4D18D91D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F400A-7E4C-4C93-91BE-606FDE4F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CFC4A-0B43-49E1-84B8-7B3BFDBE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117DA-C964-4A57-939A-0F0BD907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50FA-BB22-4925-A6D1-A3D99E62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8DB56-96F9-4B90-A003-C705BFF2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15BA0-6B52-4F1B-B52C-5A5E10E0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9A173-4103-4DE5-A98E-7BBF62ED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9DD8A-5D11-4352-8A81-CC4375AB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9735B-F9A1-4E03-9BED-19514FDC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64159-6AF3-461C-B2C0-58AA73F1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2BC82-E301-4944-992B-257289D5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48DDA-F7BB-4EBA-BCB5-B34DB3AF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7C4D1-4CBF-4D36-86F2-90B41393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83C37-8739-43E5-8691-03DBE7F5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226F1-A2AC-48CF-8C60-11F9F593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338F7-BB2A-4649-8866-D060CFC7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84562-24E2-443B-826E-D08B1BEB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EE735-0069-4C54-880B-8DE81B02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70C4F-72DF-469A-A5AD-598458DF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6C79E-106C-45DE-A51E-5B97AFBA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B3540-A5F3-479E-ACC8-A78A2812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22994-0EC1-488A-971D-037CA077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36C46-F210-40BB-9D87-5F70AAEF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A5C3A-0BC0-4CD7-9F3D-448B0CC0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E1DED-F79F-434B-9A03-0AA4EBEB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6834D-CD3A-405E-9D00-49C59D6F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3A8A7-EE9D-44F9-A9C1-B9F5021B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2A358-BAB1-41D3-A463-FC84429C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8E22B-773D-4568-B220-DBBB9700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7E852-4DB8-48CF-925F-DE1F1DFE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20574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96216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80769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0BC5-99F9-4392-AA27-E48DF53C118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20574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96216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80769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57F8-4CE9-430C-9644-729B79C46C9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25"/>
          </p:nvPr>
        </p:nvSpPr>
        <p:spPr>
          <a:xfrm>
            <a:off x="20574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6"/>
          </p:nvPr>
        </p:nvSpPr>
        <p:spPr>
          <a:xfrm>
            <a:off x="396216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3A93-A737-4767-86C9-996D5977E5D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8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0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FF39-CCFA-41AA-A1D9-48A3819F9B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481A-EA5E-4065-A9F7-A2BDE99D4A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34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3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7EFA-CD09-48F5-8730-9C5991C11C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7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FFEA-52F4-4A98-AEB0-218D5955F8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594F-A17D-48A9-A2C5-E03F4C197F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4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C660-ACFA-4418-9A7F-42FCE10EEB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7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8FFC-A309-4BDF-BB99-10AD4E0984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0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6726-C99C-4027-ACFE-3EFBB58ED5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3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5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0CA2-92B0-4B99-9126-4B61270543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6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18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6108-21C7-4932-9776-B2FC526567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source=images&amp;cd=&amp;cad=rja&amp;uact=8&amp;ved=0ahUKEwictKXm4efLAhXCYQ8KHc8MCEEQjRwIBw&amp;url=http%3A%2F%2Fwww.voedingscentrum.nl%2Fnl%2Fgezond-eten-met-de-schijf-van-vijf.aspx&amp;psig=AFQjCNGS803GMEIPaOLnwEZkMO7HMZ64zw&amp;ust=1459405065446596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Jeroen Bosch Ziekenhuis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Afdeling Diëtetiek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6192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000000"/>
                </a:solidFill>
                <a:latin typeface="Georgia"/>
              </a:rPr>
              <a:t>Cardio-revalidatie </a:t>
            </a: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5124"/>
          <p:cNvSpPr/>
          <p:nvPr/>
        </p:nvSpPr>
        <p:spPr>
          <a:xfrm>
            <a:off x="1981080" y="3276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Cholesterol en Ve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2" descr="C:\Documents and Settings\boogaard\Mijn documenten\Mijn afbeeldingen\noten.gif"/>
          <p:cNvPicPr/>
          <p:nvPr/>
        </p:nvPicPr>
        <p:blipFill>
          <a:blip r:embed="rId1"/>
          <a:stretch/>
        </p:blipFill>
        <p:spPr>
          <a:xfrm>
            <a:off x="3809880" y="4419720"/>
            <a:ext cx="2133720" cy="2133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8" name="Picture 3" descr="http://www.typicaldutchstuff.com/croma.jpg"/>
          <p:cNvPicPr/>
          <p:nvPr/>
        </p:nvPicPr>
        <p:blipFill>
          <a:blip r:embed="rId2"/>
          <a:stretch/>
        </p:blipFill>
        <p:spPr>
          <a:xfrm>
            <a:off x="6553080" y="1066680"/>
            <a:ext cx="1935360" cy="1636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9" name="Picture 4" descr="http://www.lunch4kids.com/getfile.php?id=478"/>
          <p:cNvPicPr/>
          <p:nvPr/>
        </p:nvPicPr>
        <p:blipFill>
          <a:blip r:embed="rId3"/>
          <a:stretch/>
        </p:blipFill>
        <p:spPr>
          <a:xfrm>
            <a:off x="685800" y="4724280"/>
            <a:ext cx="2360520" cy="1771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aar zit o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verzadigd vet</a:t>
            </a: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 i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6"/>
          <p:cNvSpPr/>
          <p:nvPr/>
        </p:nvSpPr>
        <p:spPr>
          <a:xfrm>
            <a:off x="457200" y="1523880"/>
            <a:ext cx="563868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ducten met (vloeibare) plantaardige vetten of visve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lie, vloeibare margarin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oten, sojaprodukten,vette 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Picture 7" descr="http://www.agrotropical.andes.com/olive_oil/bot2peq.jpg"/>
          <p:cNvPicPr/>
          <p:nvPr/>
        </p:nvPicPr>
        <p:blipFill>
          <a:blip r:embed="rId4"/>
          <a:stretch/>
        </p:blipFill>
        <p:spPr>
          <a:xfrm>
            <a:off x="6553080" y="2819520"/>
            <a:ext cx="2035440" cy="2076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43" name="Picture 8" descr="http://www.becel.be/images/prod/becelomega3plus-big.gif"/>
          <p:cNvPicPr/>
          <p:nvPr/>
        </p:nvPicPr>
        <p:blipFill>
          <a:blip r:embed="rId5"/>
          <a:stretch/>
        </p:blipFill>
        <p:spPr>
          <a:xfrm>
            <a:off x="6172200" y="4572000"/>
            <a:ext cx="2590920" cy="1936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2"/>
          <p:cNvSpPr/>
          <p:nvPr/>
        </p:nvSpPr>
        <p:spPr>
          <a:xfrm>
            <a:off x="685800" y="1676520"/>
            <a:ext cx="777240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574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 max. 2-3 per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74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anvlees, garnalen, paling, mosselen 1 x per 2 wek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74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oomboter, slag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990720" y="609480"/>
            <a:ext cx="7772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Stijging van het cholesterol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met name het LD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5" descr="http://www.freewebs.com/hanenburg/ei01.jpg"/>
          <p:cNvPicPr/>
          <p:nvPr/>
        </p:nvPicPr>
        <p:blipFill>
          <a:blip r:embed="rId1"/>
          <a:stretch/>
        </p:blipFill>
        <p:spPr>
          <a:xfrm>
            <a:off x="990720" y="4191120"/>
            <a:ext cx="1657080" cy="22096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" descr="http://nl.dreamstime.com/verse-garnalen-thumb2452450.jpg"/>
          <p:cNvPicPr/>
          <p:nvPr/>
        </p:nvPicPr>
        <p:blipFill>
          <a:blip r:embed="rId2"/>
          <a:stretch/>
        </p:blipFill>
        <p:spPr>
          <a:xfrm>
            <a:off x="3851280" y="4797360"/>
            <a:ext cx="1508040" cy="12715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9" descr="http://www.devuurdoorn.be/images/mosselen2.jpg"/>
          <p:cNvPicPr/>
          <p:nvPr/>
        </p:nvPicPr>
        <p:blipFill>
          <a:blip r:embed="rId3"/>
          <a:stretch/>
        </p:blipFill>
        <p:spPr>
          <a:xfrm>
            <a:off x="6324480" y="3962520"/>
            <a:ext cx="1905120" cy="1541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2195640" y="3428640"/>
            <a:ext cx="6262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Stelling: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s ik deze producten gebruik doe ik voldoende om mijn cholesterol te verlagen. 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title"/>
          </p:nvPr>
        </p:nvSpPr>
        <p:spPr>
          <a:xfrm>
            <a:off x="2050920" y="1218960"/>
            <a:ext cx="64836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speciale producten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‘functional foods’) op de markt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het cholesterolgehalte in het bloed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t 10-15% kunnen verlagen.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533520" y="14839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Broodsmeersels en zuivelproducten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Plantensterolen / plantenstanolen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Verlaagt LDL door verminderde opname 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van cholesterol in de darmen.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Bij gebruik van cholesterolverlagende medicatie eerst arts raadplegen.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Cholesterolverlagende product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3" name="Group 5"/>
          <p:cNvGrpSpPr/>
          <p:nvPr/>
        </p:nvGrpSpPr>
        <p:grpSpPr>
          <a:xfrm>
            <a:off x="3475080" y="2052720"/>
            <a:ext cx="8572320" cy="360"/>
            <a:chOff x="3475080" y="2052720"/>
            <a:chExt cx="8572320" cy="360"/>
          </a:xfrm>
        </p:grpSpPr>
        <p:sp>
          <p:nvSpPr>
            <p:cNvPr id="754" name="Rectangle 6"/>
            <p:cNvSpPr/>
            <p:nvPr/>
          </p:nvSpPr>
          <p:spPr>
            <a:xfrm>
              <a:off x="3475080" y="2052720"/>
              <a:ext cx="8572320" cy="360"/>
            </a:xfrm>
            <a:prstGeom prst="rect">
              <a:avLst/>
            </a:prstGeom>
            <a:solidFill>
              <a:srgbClr val="f2f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>
              <a:off x="3475080" y="2052720"/>
              <a:ext cx="8572320" cy="360"/>
            </a:xfrm>
            <a:prstGeom prst="rect">
              <a:avLst/>
            </a:prstGeom>
            <a:solidFill>
              <a:srgbClr val="f2f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6" name="Picture 8" descr="http://u1.peersphere.net/becelwebsite/controller/image.jpg?livelinkDataID=5740277"/>
          <p:cNvPicPr/>
          <p:nvPr/>
        </p:nvPicPr>
        <p:blipFill>
          <a:blip r:embed="rId1"/>
          <a:stretch/>
        </p:blipFill>
        <p:spPr>
          <a:xfrm>
            <a:off x="6858000" y="4572000"/>
            <a:ext cx="911160" cy="1981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57" name="Picture 9" descr="http://u1.peersphere.net/becelwebsite/controller/image.jpg?livelinkDataID=5671511"/>
          <p:cNvPicPr/>
          <p:nvPr/>
        </p:nvPicPr>
        <p:blipFill>
          <a:blip r:embed="rId2"/>
          <a:stretch/>
        </p:blipFill>
        <p:spPr>
          <a:xfrm>
            <a:off x="3733920" y="4876920"/>
            <a:ext cx="2209680" cy="1523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verzadigde vetzuren in de voeding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producten met vet kiezen voor de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oorten die weinig verzadigd vet bevatten,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grootste deel van het vet is dan automatisch onverzadigd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HDL verhogend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80880" y="20574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V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rzadigd = </a:t>
            </a:r>
            <a:r>
              <a:rPr b="1" lang="nl-NL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V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rkeerd</a:t>
            </a: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ff00"/>
                </a:solidFill>
                <a:latin typeface="Calibri"/>
                <a:ea typeface="Times New Roman"/>
              </a:rPr>
              <a:t>O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nverzadigd = </a:t>
            </a:r>
            <a:r>
              <a:rPr b="1" lang="nl-NL" sz="3600" spc="-1" strike="noStrike">
                <a:solidFill>
                  <a:srgbClr val="00ff00"/>
                </a:solidFill>
                <a:latin typeface="Calibri"/>
                <a:ea typeface="Times New Roman"/>
              </a:rPr>
              <a:t>O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é</a:t>
            </a: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Smeren en bakken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340000" y="1219320"/>
            <a:ext cx="56880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Smeren:</a:t>
            </a:r>
            <a:endParaRPr b="0" lang="en-US" sz="2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rgarine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± 80% v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lvarine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± 40% v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e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Gunstige verhouding onverzadigde vetten  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.o.v. verzadigde vetten.  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akken:</a:t>
            </a:r>
            <a:endParaRPr b="0" lang="en-US" sz="2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k- en braadvet/ olijfolie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90 – 100% v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loeibaar 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</p:txBody>
      </p:sp>
      <p:pic>
        <p:nvPicPr>
          <p:cNvPr id="764" name="Picture 1029" descr="30021"/>
          <p:cNvPicPr/>
          <p:nvPr/>
        </p:nvPicPr>
        <p:blipFill>
          <a:blip r:embed="rId1"/>
          <a:stretch/>
        </p:blipFill>
        <p:spPr>
          <a:xfrm>
            <a:off x="6172200" y="685800"/>
            <a:ext cx="1704960" cy="16588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028" descr="30022"/>
          <p:cNvPicPr/>
          <p:nvPr/>
        </p:nvPicPr>
        <p:blipFill>
          <a:blip r:embed="rId2"/>
          <a:stretch/>
        </p:blipFill>
        <p:spPr>
          <a:xfrm>
            <a:off x="395280" y="1341360"/>
            <a:ext cx="1577880" cy="165888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031" descr="30105"/>
          <p:cNvPicPr/>
          <p:nvPr/>
        </p:nvPicPr>
        <p:blipFill>
          <a:blip r:embed="rId3"/>
          <a:stretch/>
        </p:blipFill>
        <p:spPr>
          <a:xfrm>
            <a:off x="5943600" y="4114800"/>
            <a:ext cx="947880" cy="23036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032" descr="30106"/>
          <p:cNvPicPr/>
          <p:nvPr/>
        </p:nvPicPr>
        <p:blipFill>
          <a:blip r:embed="rId4"/>
          <a:stretch/>
        </p:blipFill>
        <p:spPr>
          <a:xfrm>
            <a:off x="468360" y="4292640"/>
            <a:ext cx="1639800" cy="23032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033" descr="http://www.delicasa.nl/shop/image.php?productid=17407"/>
          <p:cNvPicPr/>
          <p:nvPr/>
        </p:nvPicPr>
        <p:blipFill>
          <a:blip r:embed="rId5"/>
          <a:stretch/>
        </p:blipFill>
        <p:spPr>
          <a:xfrm>
            <a:off x="8001000" y="2590920"/>
            <a:ext cx="792000" cy="1847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Dieetmargarine is minder vet </a:t>
            </a: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dan roomboter.</a:t>
            </a:r>
            <a:endParaRPr b="0" lang="en-US" sz="33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Stelling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Etiket lezen: Welke te kieze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0" y="1955880"/>
            <a:ext cx="9144000" cy="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457200" y="1828800"/>
          <a:ext cx="8366040" cy="4022640"/>
        </p:xfrm>
        <a:graphic>
          <a:graphicData uri="http://schemas.openxmlformats.org/drawingml/2006/table">
            <a:tbl>
              <a:tblPr/>
              <a:tblGrid>
                <a:gridCol w="2891520"/>
                <a:gridCol w="1170360"/>
                <a:gridCol w="218880"/>
                <a:gridCol w="2915640"/>
                <a:gridCol w="11696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edings-waarde per 100 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Voedings-waarde per 100 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w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lhydr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waarvan sui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waarvan 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tr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enkel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meer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 K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1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Energ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Eiw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Koolhydr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waarvan sui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V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waarvan 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tr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enkel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meer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720 k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774" name="Text Box 30"/>
          <p:cNvSpPr/>
          <p:nvPr/>
        </p:nvSpPr>
        <p:spPr>
          <a:xfrm>
            <a:off x="457200" y="2209680"/>
            <a:ext cx="28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Dieetmarga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31"/>
          <p:cNvSpPr/>
          <p:nvPr/>
        </p:nvSpPr>
        <p:spPr>
          <a:xfrm>
            <a:off x="4724280" y="22096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rga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Wel menu bevat veel vet?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ctangle 35"/>
          <p:cNvSpPr/>
          <p:nvPr/>
        </p:nvSpPr>
        <p:spPr>
          <a:xfrm>
            <a:off x="3240" y="271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80"/>
          <p:cNvSpPr/>
          <p:nvPr/>
        </p:nvSpPr>
        <p:spPr>
          <a:xfrm>
            <a:off x="3240" y="695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217"/>
          <p:cNvSpPr/>
          <p:nvPr/>
        </p:nvSpPr>
        <p:spPr>
          <a:xfrm>
            <a:off x="228600" y="1676520"/>
            <a:ext cx="4038480" cy="44168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Boterhamm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a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ffie met koffieme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bakken aardappelen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haktbal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ente met boter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omvla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21"/>
          <p:cNvSpPr/>
          <p:nvPr/>
        </p:nvSpPr>
        <p:spPr>
          <a:xfrm>
            <a:off x="4648320" y="1676520"/>
            <a:ext cx="4038480" cy="44168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5 Boterha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lv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okvle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ffie met h.v. koffiemel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kookte aardappelen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pfi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roente zonder b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de sa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gere vruchtenyogh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6094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Functie: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celwanden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vitamine D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hormonen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gal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Soorten: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lvl="3" marL="1584000" indent="-226080">
              <a:spcBef>
                <a:spcPts val="649"/>
              </a:spcBef>
              <a:buClr>
                <a:srgbClr val="000000"/>
              </a:buClr>
              <a:buSzPct val="5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HDL</a:t>
            </a:r>
            <a:endParaRPr b="0" lang="en-US" sz="2600" spc="-1" strike="noStrike">
              <a:solidFill>
                <a:srgbClr val="9e005d"/>
              </a:solidFill>
              <a:latin typeface="Calibri"/>
            </a:endParaRPr>
          </a:p>
          <a:p>
            <a:pPr lvl="3" marL="1584000" indent="-226080">
              <a:spcBef>
                <a:spcPts val="649"/>
              </a:spcBef>
              <a:buClr>
                <a:srgbClr val="000000"/>
              </a:buClr>
              <a:buSzPct val="5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LDL</a:t>
            </a:r>
            <a:endParaRPr b="0" lang="en-US" sz="2600" spc="-1" strike="noStrike">
              <a:solidFill>
                <a:srgbClr val="9e005d"/>
              </a:solidFill>
              <a:latin typeface="Calibri"/>
            </a:endParaRPr>
          </a:p>
          <a:p>
            <a:pPr lvl="3" marL="1584000" indent="-226080">
              <a:spcBef>
                <a:spcPts val="649"/>
              </a:spcBef>
              <a:buClr>
                <a:srgbClr val="000000"/>
              </a:buClr>
              <a:buSzPct val="5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otaal cholesterol </a:t>
            </a:r>
            <a:endParaRPr b="0" lang="en-US" sz="26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= HDL + LDL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Cholestero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4" descr="http://www.phillips-fit.co.uk/pfiles/images/HDL%20LDL.jpg"/>
          <p:cNvPicPr/>
          <p:nvPr/>
        </p:nvPicPr>
        <p:blipFill>
          <a:blip r:embed="rId1"/>
          <a:stretch/>
        </p:blipFill>
        <p:spPr>
          <a:xfrm>
            <a:off x="5486400" y="3505320"/>
            <a:ext cx="2438280" cy="1930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228600" y="990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t dagme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4648320" y="9907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Mager dagme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3240" y="271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3240" y="695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228600" y="1676520"/>
            <a:ext cx="4038480" cy="44168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Boterhamm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2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a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2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ffie met koffiemelk      1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bakken aardappelen      1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haktba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1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ente met boter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16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omvla                              5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g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8"/>
          <p:cNvSpPr/>
          <p:nvPr/>
        </p:nvSpPr>
        <p:spPr>
          <a:xfrm>
            <a:off x="4648320" y="1676520"/>
            <a:ext cx="4038480" cy="48553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5 Boterha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lv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1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okvle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5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ffie met h.v. koffiemelk 6g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kookte aardappelen        -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pfilet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roente zonder boter          -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de saus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8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gere vruchten yoghurt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1g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3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990720" y="144756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9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- Lichaamsbeweging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eïnvloeden van cholestero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0" name="Picture 5" descr="http://www.debeus.be/trap01.jpg"/>
          <p:cNvPicPr/>
          <p:nvPr/>
        </p:nvPicPr>
        <p:blipFill>
          <a:blip r:embed="rId1"/>
          <a:stretch/>
        </p:blipFill>
        <p:spPr>
          <a:xfrm>
            <a:off x="1676520" y="2362320"/>
            <a:ext cx="2590560" cy="19429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7" descr="http://home.planet.nl/~pluym646/foto1/nordic-walking1.jpg"/>
          <p:cNvPicPr/>
          <p:nvPr/>
        </p:nvPicPr>
        <p:blipFill>
          <a:blip r:embed="rId2"/>
          <a:stretch/>
        </p:blipFill>
        <p:spPr>
          <a:xfrm>
            <a:off x="5029200" y="40384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at gebruikt u zelf op brood </a:t>
            </a:r>
            <a:br>
              <a:rPr sz="3300"/>
            </a:b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of om in te bakke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2050920" y="2286000"/>
            <a:ext cx="610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u u momenteel kiezen voor een ander smeersel voor op brood of voor een ander bereidingsv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4" descr="http://www.kleinewereld.nl/images/brood.gif"/>
          <p:cNvPicPr/>
          <p:nvPr/>
        </p:nvPicPr>
        <p:blipFill>
          <a:blip r:embed="rId1"/>
          <a:stretch/>
        </p:blipFill>
        <p:spPr>
          <a:xfrm>
            <a:off x="3276720" y="43434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2268360" y="2666520"/>
            <a:ext cx="6113520" cy="22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ww.voedingscentrum.n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ww.becel.n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ww.cholesterol.n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ebsites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loedv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5791320" y="1981080"/>
            <a:ext cx="2895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stapelt het cholesterol en vet op in de bloedva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5" descr="\\domein1.lan\dfs\UserData\evdbogaard\Mijn afbeeldingen\gezonde ader.jpg"/>
          <p:cNvPicPr/>
          <p:nvPr/>
        </p:nvPicPr>
        <p:blipFill>
          <a:blip r:embed="rId1"/>
          <a:stretch/>
        </p:blipFill>
        <p:spPr>
          <a:xfrm>
            <a:off x="4648320" y="4495680"/>
            <a:ext cx="3886200" cy="1609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" descr="\\domein1.lan\dfs\UserData\evdbogaard\Mijn afbeeldingen\zieke ader.jpg"/>
          <p:cNvPicPr/>
          <p:nvPr/>
        </p:nvPicPr>
        <p:blipFill>
          <a:blip r:embed="rId2"/>
          <a:stretch/>
        </p:blipFill>
        <p:spPr>
          <a:xfrm>
            <a:off x="838080" y="2057400"/>
            <a:ext cx="3810240" cy="155088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7"/>
          <p:cNvSpPr/>
          <p:nvPr/>
        </p:nvSpPr>
        <p:spPr>
          <a:xfrm>
            <a:off x="685800" y="4419720"/>
            <a:ext cx="3809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haalt het vet en cholesterol weg uit de bloedva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914400" y="14839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taal cholestero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5,0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D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ma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ger dan 1,0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vrou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ger dan 1,2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D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2,5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houding totaal cholesterol en HDL 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5,0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+ Triglicerid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1,7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Cholesterol normaalwaarden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Vetten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3962520" y="914400"/>
            <a:ext cx="213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6781680" y="2438280"/>
            <a:ext cx="21337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AGaramond"/>
              </a:rPr>
              <a:t>Verzadigd v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5779440" y="4800600"/>
            <a:ext cx="253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AGaramond"/>
              </a:rPr>
              <a:t>Onverzadigd v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-183600" y="1752480"/>
            <a:ext cx="613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Enkelvoudig onverzadigde vetzu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2154240" y="5486400"/>
            <a:ext cx="61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Meervoudig onverzadigde vetzu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8"/>
          <p:cNvSpPr/>
          <p:nvPr/>
        </p:nvSpPr>
        <p:spPr>
          <a:xfrm>
            <a:off x="3239280" y="114300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Omega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6439680" y="388620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Omega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10"/>
          <p:cNvSpPr/>
          <p:nvPr/>
        </p:nvSpPr>
        <p:spPr>
          <a:xfrm>
            <a:off x="420120" y="472428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Omega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11"/>
          <p:cNvSpPr/>
          <p:nvPr/>
        </p:nvSpPr>
        <p:spPr>
          <a:xfrm>
            <a:off x="152280" y="3733920"/>
            <a:ext cx="15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Linol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12"/>
          <p:cNvSpPr/>
          <p:nvPr/>
        </p:nvSpPr>
        <p:spPr>
          <a:xfrm>
            <a:off x="2284920" y="449568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Alfa-linoleen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3"/>
          <p:cNvSpPr/>
          <p:nvPr/>
        </p:nvSpPr>
        <p:spPr>
          <a:xfrm>
            <a:off x="380880" y="601992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E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14"/>
          <p:cNvSpPr/>
          <p:nvPr/>
        </p:nvSpPr>
        <p:spPr>
          <a:xfrm>
            <a:off x="5541120" y="137160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Transv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15"/>
          <p:cNvSpPr/>
          <p:nvPr/>
        </p:nvSpPr>
        <p:spPr>
          <a:xfrm>
            <a:off x="1143000" y="2590920"/>
            <a:ext cx="9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D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6"/>
          <p:cNvSpPr/>
          <p:nvPr/>
        </p:nvSpPr>
        <p:spPr>
          <a:xfrm>
            <a:off x="2514600" y="2819520"/>
            <a:ext cx="3505320" cy="11912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ONTZETTEND VERWARR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/>
          <p:cNvSpPr/>
          <p:nvPr/>
        </p:nvSpPr>
        <p:spPr>
          <a:xfrm>
            <a:off x="990720" y="2133720"/>
            <a:ext cx="777240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Soort v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Minder verzadigd v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Meer onverzadigd v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Cholesterolverlagende product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99072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Beïnvloeden van choleste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http://www.voedingscentrum.nl/Assets/Uploads/voedingscentrum/Images/Consumenten/Schijf%20van%20Vijf%202016/Schijf-van-Vijf-vaknam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981000"/>
            <a:ext cx="5209920" cy="424836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057040" y="56386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ndacht voor voedingsvezels en variatie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2057400" y="2060280"/>
            <a:ext cx="6546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avervlokken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avermou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arwekiemen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ojabonen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inoa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en (nieuwe schijf van vijf adviseert 1 keer in de week peulvruchten)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oten en zaden (eet ten minste 15 gram ongezouten noten per dag)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ijnzaad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620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Plantaardige voeding, vezelrijk,</a:t>
            </a:r>
            <a:br>
              <a:rPr sz="3000"/>
            </a:b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verlaagd het LD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aar zit verzadigd vet i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Picture 6" descr="http://www.cheffen.nl/vlees1-thumb.jpg"/>
          <p:cNvPicPr/>
          <p:nvPr/>
        </p:nvPicPr>
        <p:blipFill>
          <a:blip r:embed="rId1"/>
          <a:stretch/>
        </p:blipFill>
        <p:spPr>
          <a:xfrm>
            <a:off x="685800" y="4572000"/>
            <a:ext cx="1457280" cy="1677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1" name="Picture 7" descr="http://images.vpro.nl/img.db?32155500+s(200)"/>
          <p:cNvPicPr/>
          <p:nvPr/>
        </p:nvPicPr>
        <p:blipFill>
          <a:blip r:embed="rId2"/>
          <a:stretch/>
        </p:blipFill>
        <p:spPr>
          <a:xfrm>
            <a:off x="7162920" y="3962520"/>
            <a:ext cx="1647720" cy="2514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2" name="Picture 8" descr="http://www.eventail-junior.be/images/croissant.jpg"/>
          <p:cNvPicPr/>
          <p:nvPr/>
        </p:nvPicPr>
        <p:blipFill>
          <a:blip r:embed="rId3"/>
          <a:stretch/>
        </p:blipFill>
        <p:spPr>
          <a:xfrm>
            <a:off x="2438280" y="4648320"/>
            <a:ext cx="1676520" cy="1590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3" name="Picture 9" descr="http://www.bakkerijkamstra.nl/images/Kamstras_Broodje_Kaas.jpg"/>
          <p:cNvPicPr/>
          <p:nvPr/>
        </p:nvPicPr>
        <p:blipFill>
          <a:blip r:embed="rId4"/>
          <a:stretch/>
        </p:blipFill>
        <p:spPr>
          <a:xfrm>
            <a:off x="4419720" y="4572000"/>
            <a:ext cx="2438280" cy="1725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4" name="Picture 10" descr="http://images.businessweek.com/ss/06/12/1206_transfats/image/margarine.jpg"/>
          <p:cNvPicPr/>
          <p:nvPr/>
        </p:nvPicPr>
        <p:blipFill>
          <a:blip r:embed="rId5"/>
          <a:stretch/>
        </p:blipFill>
        <p:spPr>
          <a:xfrm>
            <a:off x="7238880" y="990720"/>
            <a:ext cx="1676520" cy="1404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5" name="Picture 11" descr="http://www.reuserensmulders.nl/storage_accessories/189810los.jpg"/>
          <p:cNvPicPr/>
          <p:nvPr/>
        </p:nvPicPr>
        <p:blipFill>
          <a:blip r:embed="rId6"/>
          <a:stretch/>
        </p:blipFill>
        <p:spPr>
          <a:xfrm>
            <a:off x="7162920" y="2590920"/>
            <a:ext cx="1828800" cy="1245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36" name="Text Box 12"/>
          <p:cNvSpPr/>
          <p:nvPr/>
        </p:nvSpPr>
        <p:spPr>
          <a:xfrm>
            <a:off x="533520" y="1523880"/>
            <a:ext cx="601956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Calibri"/>
              </a:rPr>
              <a:t>Producten met dierlijke vetten zo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Calibri"/>
              </a:rPr>
              <a:t>Boter, volvette (48+) kaas, volle melk,   slagroom, vet vl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Calibri"/>
              </a:rPr>
              <a:t>En ook: chocolade, cake, snacks, koek, geb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7:29:13Z</dcterms:created>
  <dc:creator>rvheertum</dc:creator>
  <dc:description/>
  <dc:language>en-US</dc:language>
  <cp:lastModifiedBy>lvsluisveld</cp:lastModifiedBy>
  <dcterms:modified xsi:type="dcterms:W3CDTF">2016-05-04T09:34:19Z</dcterms:modified>
  <cp:revision>72</cp:revision>
  <dc:subject/>
  <dc:title>LANGER GEZOND MET GEZONDE EET-EN DRINKGEWOONTEN</dc:title>
</cp:coreProperties>
</file>