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png" ContentType="image/png"/>
  <Override PartName="/ppt/media/image10.wmf" ContentType="image/x-wmf"/>
  <Override PartName="/ppt/media/image4.jpeg" ContentType="image/jpeg"/>
  <Override PartName="/ppt/media/image13.wmf" ContentType="image/x-wmf"/>
  <Override PartName="/ppt/media/image8.wmf" ContentType="image/x-wmf"/>
  <Override PartName="/ppt/media/image19.gif" ContentType="image/gif"/>
  <Override PartName="/ppt/media/image1.jpeg" ContentType="image/jpeg"/>
  <Override PartName="/ppt/media/image18.gif" ContentType="image/gif"/>
  <Override PartName="/ppt/media/image17.png" ContentType="image/png"/>
  <Override PartName="/ppt/media/image16.wmf" ContentType="image/x-wmf"/>
  <Override PartName="/ppt/media/image15.gif" ContentType="image/gif"/>
  <Override PartName="/ppt/media/image3.jpeg" ContentType="image/jpeg"/>
  <Override PartName="/ppt/media/image2.jpeg" ContentType="image/jpeg"/>
  <Override PartName="/ppt/media/image6.gif" ContentType="image/gif"/>
  <Override PartName="/ppt/media/image7.gif" ContentType="image/gif"/>
  <Override PartName="/ppt/media/image20.wmf" ContentType="image/x-wmf"/>
  <Override PartName="/ppt/media/image5.jpeg" ContentType="image/jpeg"/>
  <Override PartName="/ppt/media/image9.wmf" ContentType="image/x-wmf"/>
  <Override PartName="/ppt/media/image1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3809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90720" y="4206600"/>
            <a:ext cx="3809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4300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278800" y="20574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67240" y="20574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90720" y="42066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278800" y="42066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567240" y="42066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90720" y="2057400"/>
            <a:ext cx="38095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38095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0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9072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90720" y="2057400"/>
            <a:ext cx="38095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94300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90720" y="4206600"/>
            <a:ext cx="3809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3809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990720" y="4206600"/>
            <a:ext cx="3809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9072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94300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278800" y="20574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567240" y="20574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990720" y="42066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278800" y="42066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3567240" y="42066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4F3C-80EF-4456-992E-15E6F6358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990720" y="2057400"/>
            <a:ext cx="38095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36ED-ED02-4788-9A43-B966D44A5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38095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CAC1-C1DC-41B8-812B-4FEBD9301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EF5E-E779-4F3A-AF40-3A0F07F6A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642E-EB08-4153-B74C-4D4A4BB9C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38095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0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3BF3-D604-4736-827D-D5D02EC7E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99072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3EBB-D63E-467B-B727-5D3E559CD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94300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C061-74EB-4A02-B81D-494B7040D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90720" y="4206600"/>
            <a:ext cx="3809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A4D3-D895-4534-964A-3F62177E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3809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990720" y="4206600"/>
            <a:ext cx="3809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2D98-923B-428F-AD51-39B7D9817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9072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294300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8B23-9AE0-4BE7-971C-B75297D5D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2278800" y="20574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567240" y="20574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990720" y="42066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2278800" y="42066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3567240" y="42066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8370-9413-4AE1-B3A6-EE7AA045D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13ADE-DF82-4BFB-8A34-CC412F7BB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990720" y="2057400"/>
            <a:ext cx="38095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0675A-A48C-4A1E-96BC-015BA090F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38095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72B66-8EAD-4E29-9BD7-A8D015F6D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D4E08-6408-416D-AFFB-382E2D255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114E4-FCBD-452C-8DE5-8C08D5FC8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0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9A978-2E4D-4F23-9C09-73006657D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9072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2A057-5771-4EAA-9ADD-B572D0570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294300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B2688-67AC-45D3-B268-0AD4BF61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90720" y="4206600"/>
            <a:ext cx="3809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158B2-C645-4C7E-B179-9D6843FE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3809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990720" y="4206600"/>
            <a:ext cx="3809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A8CD7-64B8-4695-A37B-7056C867D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9072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294300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DBB48-5FBC-43FC-9AF5-B7E3E5349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2278800" y="20574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3567240" y="20574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990720" y="42066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2278800" y="42066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3567240" y="42066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719AE-1EDF-40A9-9EFC-DA24544D5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F7658-053A-40B2-A6DF-5880FA7B5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990720" y="2057400"/>
            <a:ext cx="38095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9F31C-0E3A-43D8-B45A-EC2FE988A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38095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D4776-3B11-4313-BD67-8C21C2EC3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0B616-53AE-4803-88AE-946DE3A58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3BFD7-C2CB-42D9-AF4B-ABF5AD42C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0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8F901-EBF5-4481-89CD-39D3452FD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9072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3451D-4BF0-4E8F-A7EC-F46761FB5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294300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928AF-AD6E-49C4-9DF9-F4D873555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90720" y="4206600"/>
            <a:ext cx="3809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D3C39-B48F-4CDD-A42E-8FC8C81E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3809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990720" y="4206600"/>
            <a:ext cx="3809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BF9DD-D5A0-4647-B49B-093C0AEE5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9072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294300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EB10E-52BF-4AEF-AB00-5801A17C0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0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2278800" y="20574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3567240" y="20574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990720" y="42066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2278800" y="42066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3567240" y="42066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B8768-A9E8-4EB0-BF01-A18D6BA6D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2E69C-F1D8-48B5-BA7C-76E5164BC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990720" y="2057400"/>
            <a:ext cx="38095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61D7B-E4FC-4718-BB86-0029146B0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38095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071FF-3244-49A7-9FBF-0AE58B27D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5CD93-2ABA-4CDB-B413-3D258C528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6BB5D-FC76-40CB-9486-C44EAC1CE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0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925EB-8C62-4F79-82DD-6A93AF76D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99072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D34F3-D8BA-46EA-B267-3E123EC95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294300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62BF0-9CD3-4690-92C6-202DDBD1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90720" y="4206600"/>
            <a:ext cx="3809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ED1EC-37B6-4AD8-B4B4-019942E46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9072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3809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990720" y="4206600"/>
            <a:ext cx="3809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2CC48-BB4A-4291-A189-209C87D69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99072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294300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3AD6F-6030-4C8F-855D-14C7885B2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2278800" y="20574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3567240" y="20574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990720" y="42066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2278800" y="42066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3567240" y="42066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54985-D808-45AD-A16D-4FACED1DA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4300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90720" y="4206600"/>
            <a:ext cx="3809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Afbeelding 15" descr=""/>
          <p:cNvPicPr/>
          <p:nvPr/>
        </p:nvPicPr>
        <p:blipFill>
          <a:blip r:embed="rId2"/>
          <a:stretch/>
        </p:blipFill>
        <p:spPr>
          <a:xfrm>
            <a:off x="0" y="88920"/>
            <a:ext cx="3034800" cy="6768720"/>
          </a:xfrm>
          <a:prstGeom prst="rect">
            <a:avLst/>
          </a:prstGeom>
          <a:ln w="9525">
            <a:noFill/>
          </a:ln>
        </p:spPr>
      </p:pic>
      <p:sp>
        <p:nvSpPr>
          <p:cNvPr id="1" name="Rectangle 6"/>
          <p:cNvSpPr/>
          <p:nvPr/>
        </p:nvSpPr>
        <p:spPr>
          <a:xfrm>
            <a:off x="2058840" y="6400800"/>
            <a:ext cx="98856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dat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3352680" y="6400800"/>
            <a:ext cx="167616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copyri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4724280" y="6400800"/>
            <a:ext cx="31237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aute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7848720" y="6400800"/>
            <a:ext cx="9140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vers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nl-NL" sz="7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Klik om de stijl te bewerken</a:t>
            </a:r>
            <a:endParaRPr b="0" lang="nl-NL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200" spc="-1" strike="noStrike">
                <a:solidFill>
                  <a:srgbClr val="9e005d"/>
                </a:solidFill>
                <a:latin typeface="Calibri"/>
              </a:rPr>
              <a:t>Click to edit the outline text format</a:t>
            </a: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2000" spc="-1" strike="noStrike">
                <a:solidFill>
                  <a:srgbClr val="9e005d"/>
                </a:solidFill>
                <a:latin typeface="Calibri"/>
              </a:rPr>
              <a:t>Second Outline Level</a:t>
            </a:r>
            <a:endParaRPr b="0" lang="nl-NL" sz="2000" spc="-1" strike="noStrike">
              <a:solidFill>
                <a:srgbClr val="9e005d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1800" spc="-1" strike="noStrike">
                <a:solidFill>
                  <a:srgbClr val="9e005d"/>
                </a:solidFill>
                <a:latin typeface="Calibri"/>
              </a:rPr>
              <a:t>Third Outline Level</a:t>
            </a:r>
            <a:endParaRPr b="0" lang="nl-NL" sz="1800" spc="-1" strike="noStrike">
              <a:solidFill>
                <a:srgbClr val="9e005d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1800" spc="-1" strike="noStrike">
                <a:solidFill>
                  <a:srgbClr val="9e005d"/>
                </a:solidFill>
                <a:latin typeface="Calibri"/>
              </a:rPr>
              <a:t>Fourth Outline Level</a:t>
            </a:r>
            <a:endParaRPr b="0" lang="nl-NL" sz="1800" spc="-1" strike="noStrike">
              <a:solidFill>
                <a:srgbClr val="9e005d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9e005d"/>
                </a:solidFill>
                <a:latin typeface="Calibri"/>
              </a:rPr>
              <a:t>Fifth Outline Level</a:t>
            </a:r>
            <a:endParaRPr b="0" lang="nl-NL" sz="2000" spc="-1" strike="noStrike">
              <a:solidFill>
                <a:srgbClr val="9e005d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9e005d"/>
                </a:solidFill>
                <a:latin typeface="Calibri"/>
              </a:rPr>
              <a:t>Sixth Outline Level</a:t>
            </a:r>
            <a:endParaRPr b="0" lang="nl-NL" sz="2000" spc="-1" strike="noStrike">
              <a:solidFill>
                <a:srgbClr val="9e005d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9e005d"/>
                </a:solidFill>
                <a:latin typeface="Calibri"/>
              </a:rPr>
              <a:t>Seventh Outline Level</a:t>
            </a:r>
            <a:endParaRPr b="0" lang="nl-NL" sz="20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Afbeelding 15" descr=""/>
          <p:cNvPicPr/>
          <p:nvPr/>
        </p:nvPicPr>
        <p:blipFill>
          <a:blip r:embed="rId2"/>
          <a:stretch/>
        </p:blipFill>
        <p:spPr>
          <a:xfrm>
            <a:off x="0" y="88920"/>
            <a:ext cx="3034800" cy="6768720"/>
          </a:xfrm>
          <a:prstGeom prst="rect">
            <a:avLst/>
          </a:prstGeom>
          <a:ln w="9525">
            <a:noFill/>
          </a:ln>
        </p:spPr>
      </p:pic>
      <p:sp>
        <p:nvSpPr>
          <p:cNvPr id="44" name="Rectangle 6"/>
          <p:cNvSpPr/>
          <p:nvPr/>
        </p:nvSpPr>
        <p:spPr>
          <a:xfrm>
            <a:off x="2058840" y="6400800"/>
            <a:ext cx="98856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dat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3352680" y="6400800"/>
            <a:ext cx="167616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copyri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4724280" y="6400800"/>
            <a:ext cx="31237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aute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7848720" y="6400800"/>
            <a:ext cx="9140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vers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2057400" y="2362320"/>
            <a:ext cx="6705360" cy="380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39"/>
              </a:spcBef>
              <a:buClr>
                <a:srgbClr val="9e005d"/>
              </a:buClr>
              <a:buSzPct val="50000"/>
              <a:buFont typeface="Lucida Grande"/>
              <a:buChar char="+"/>
            </a:pPr>
            <a:r>
              <a:rPr b="0" lang="nl-NL" sz="22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Klik om de modelstijlen te bewerken</a:t>
            </a: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39"/>
              </a:spcBef>
              <a:buClr>
                <a:srgbClr val="9e005d"/>
              </a:buClr>
              <a:buSzPct val="50000"/>
              <a:buFont typeface="Lucida Grande"/>
              <a:buChar char="+"/>
            </a:pPr>
            <a:r>
              <a:rPr b="0" lang="nl-NL" sz="22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Tweede niveau</a:t>
            </a: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9e005d"/>
              </a:buClr>
              <a:buSzPct val="50000"/>
              <a:buFont typeface="Lucida Grande"/>
              <a:buChar char="+"/>
            </a:pPr>
            <a:r>
              <a:rPr b="0" lang="nl-NL" sz="2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Derde niveau</a:t>
            </a:r>
            <a:endParaRPr b="0" lang="nl-NL" sz="2000" spc="-1" strike="noStrike">
              <a:solidFill>
                <a:srgbClr val="9e005d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9e005d"/>
              </a:buClr>
              <a:buSzPct val="50000"/>
              <a:buFont typeface="Lucida Grande"/>
              <a:buChar char="+"/>
            </a:pPr>
            <a:r>
              <a:rPr b="0" lang="nl-NL" sz="18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Vierde niveau</a:t>
            </a:r>
            <a:endParaRPr b="0" lang="nl-NL" sz="1800" spc="-1" strike="noStrike">
              <a:solidFill>
                <a:srgbClr val="9e005d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9e005d"/>
              </a:buClr>
              <a:buSzPct val="50000"/>
              <a:buFont typeface="Lucida Grande"/>
              <a:buChar char="+"/>
            </a:pPr>
            <a:r>
              <a:rPr b="0" lang="nl-NL" sz="18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Vijfde niveau</a:t>
            </a:r>
            <a:endParaRPr b="0" lang="nl-NL" sz="18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040" cy="761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Klik om de stijl te bewerken</a:t>
            </a:r>
            <a:endParaRPr b="0" lang="nl-NL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Afbeelding 15" descr=""/>
          <p:cNvPicPr/>
          <p:nvPr/>
        </p:nvPicPr>
        <p:blipFill>
          <a:blip r:embed="rId2"/>
          <a:stretch/>
        </p:blipFill>
        <p:spPr>
          <a:xfrm>
            <a:off x="0" y="88920"/>
            <a:ext cx="3034800" cy="6768720"/>
          </a:xfrm>
          <a:prstGeom prst="rect">
            <a:avLst/>
          </a:prstGeom>
          <a:ln w="9525">
            <a:noFill/>
          </a:ln>
        </p:spPr>
      </p:pic>
      <p:sp>
        <p:nvSpPr>
          <p:cNvPr id="87" name="Rectangle 6"/>
          <p:cNvSpPr/>
          <p:nvPr/>
        </p:nvSpPr>
        <p:spPr>
          <a:xfrm>
            <a:off x="2058840" y="6400800"/>
            <a:ext cx="98856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dat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3352680" y="6400800"/>
            <a:ext cx="167616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copyri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4724280" y="6400800"/>
            <a:ext cx="31237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aute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7848720" y="6400800"/>
            <a:ext cx="9140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vers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dt" idx="1"/>
          </p:nvPr>
        </p:nvSpPr>
        <p:spPr>
          <a:xfrm>
            <a:off x="457200" y="632448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3"/>
          </p:nvPr>
        </p:nvSpPr>
        <p:spPr>
          <a:xfrm>
            <a:off x="6858000" y="632448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0672FA8B-00EA-46CC-89AD-8825E833D9C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200" spc="-1" strike="noStrike">
                <a:solidFill>
                  <a:srgbClr val="9e005d"/>
                </a:solidFill>
                <a:latin typeface="Calibri"/>
              </a:rPr>
              <a:t>Click to edit the outline text format</a:t>
            </a: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2000" spc="-1" strike="noStrike">
                <a:solidFill>
                  <a:srgbClr val="9e005d"/>
                </a:solidFill>
                <a:latin typeface="Calibri"/>
              </a:rPr>
              <a:t>Second Outline Level</a:t>
            </a:r>
            <a:endParaRPr b="0" lang="nl-NL" sz="2000" spc="-1" strike="noStrike">
              <a:solidFill>
                <a:srgbClr val="9e005d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1800" spc="-1" strike="noStrike">
                <a:solidFill>
                  <a:srgbClr val="9e005d"/>
                </a:solidFill>
                <a:latin typeface="Calibri"/>
              </a:rPr>
              <a:t>Third Outline Level</a:t>
            </a:r>
            <a:endParaRPr b="0" lang="nl-NL" sz="1800" spc="-1" strike="noStrike">
              <a:solidFill>
                <a:srgbClr val="9e005d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1800" spc="-1" strike="noStrike">
                <a:solidFill>
                  <a:srgbClr val="9e005d"/>
                </a:solidFill>
                <a:latin typeface="Calibri"/>
              </a:rPr>
              <a:t>Fourth Outline Level</a:t>
            </a:r>
            <a:endParaRPr b="0" lang="nl-NL" sz="1800" spc="-1" strike="noStrike">
              <a:solidFill>
                <a:srgbClr val="9e005d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9e005d"/>
                </a:solidFill>
                <a:latin typeface="Calibri"/>
              </a:rPr>
              <a:t>Fifth Outline Level</a:t>
            </a:r>
            <a:endParaRPr b="0" lang="nl-NL" sz="2000" spc="-1" strike="noStrike">
              <a:solidFill>
                <a:srgbClr val="9e005d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9e005d"/>
                </a:solidFill>
                <a:latin typeface="Calibri"/>
              </a:rPr>
              <a:t>Sixth Outline Level</a:t>
            </a:r>
            <a:endParaRPr b="0" lang="nl-NL" sz="2000" spc="-1" strike="noStrike">
              <a:solidFill>
                <a:srgbClr val="9e005d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9e005d"/>
                </a:solidFill>
                <a:latin typeface="Calibri"/>
              </a:rPr>
              <a:t>Seventh Outline Level</a:t>
            </a:r>
            <a:endParaRPr b="0" lang="nl-NL" sz="20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Afbeelding 15" descr=""/>
          <p:cNvPicPr/>
          <p:nvPr/>
        </p:nvPicPr>
        <p:blipFill>
          <a:blip r:embed="rId2"/>
          <a:stretch/>
        </p:blipFill>
        <p:spPr>
          <a:xfrm>
            <a:off x="0" y="88920"/>
            <a:ext cx="3034800" cy="6768720"/>
          </a:xfrm>
          <a:prstGeom prst="rect">
            <a:avLst/>
          </a:prstGeom>
          <a:ln w="9525">
            <a:noFill/>
          </a:ln>
        </p:spPr>
      </p:pic>
      <p:sp>
        <p:nvSpPr>
          <p:cNvPr id="133" name="Rectangle 6"/>
          <p:cNvSpPr/>
          <p:nvPr/>
        </p:nvSpPr>
        <p:spPr>
          <a:xfrm>
            <a:off x="2058840" y="6400800"/>
            <a:ext cx="98856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dat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3352680" y="6400800"/>
            <a:ext cx="167616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copyri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4724280" y="6400800"/>
            <a:ext cx="31237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aute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7848720" y="6400800"/>
            <a:ext cx="9140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vers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Klik om de stijl te bewerken</a:t>
            </a:r>
            <a:endParaRPr b="0" lang="nl-NL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90720" y="2057400"/>
            <a:ext cx="380952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9e005d"/>
              </a:buClr>
              <a:buSzPct val="50000"/>
              <a:buFont typeface="Lucida Grande"/>
              <a:buChar char="+"/>
            </a:pPr>
            <a:r>
              <a:rPr b="0" lang="nl-NL" sz="28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Klik om de modelstijlen te bewerken</a:t>
            </a:r>
            <a:endParaRPr b="0" lang="nl-NL" sz="2800" spc="-1" strike="noStrike">
              <a:solidFill>
                <a:srgbClr val="9e005d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9e005d"/>
              </a:buClr>
              <a:buSzPct val="50000"/>
              <a:buFont typeface="Lucida Grande"/>
              <a:buChar char="+"/>
            </a:pPr>
            <a:r>
              <a:rPr b="0" lang="nl-NL" sz="24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Tweede niveau</a:t>
            </a:r>
            <a:endParaRPr b="0" lang="nl-NL" sz="2400" spc="-1" strike="noStrike">
              <a:solidFill>
                <a:srgbClr val="9e005d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9e005d"/>
              </a:buClr>
              <a:buSzPct val="50000"/>
              <a:buFont typeface="Lucida Grande"/>
              <a:buChar char="+"/>
            </a:pPr>
            <a:r>
              <a:rPr b="0" lang="nl-NL" sz="2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Derde niveau</a:t>
            </a:r>
            <a:endParaRPr b="0" lang="nl-NL" sz="2000" spc="-1" strike="noStrike">
              <a:solidFill>
                <a:srgbClr val="9e005d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9e005d"/>
              </a:buClr>
              <a:buSzPct val="50000"/>
              <a:buFont typeface="Lucida Grande"/>
              <a:buChar char="+"/>
            </a:pPr>
            <a:r>
              <a:rPr b="0" lang="nl-NL" sz="18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Vierde niveau</a:t>
            </a:r>
            <a:endParaRPr b="0" lang="nl-NL" sz="1800" spc="-1" strike="noStrike">
              <a:solidFill>
                <a:srgbClr val="9e005d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9e005d"/>
              </a:buClr>
              <a:buSzPct val="50000"/>
              <a:buFont typeface="Lucida Grande"/>
              <a:buChar char="+"/>
            </a:pPr>
            <a:r>
              <a:rPr b="0" lang="nl-NL" sz="18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Vijfde niveau</a:t>
            </a:r>
            <a:endParaRPr b="0" lang="nl-NL" sz="18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body"/>
          </p:nvPr>
        </p:nvSpPr>
        <p:spPr>
          <a:xfrm>
            <a:off x="4952880" y="2057400"/>
            <a:ext cx="380952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9e005d"/>
              </a:buClr>
              <a:buSzPct val="50000"/>
              <a:buFont typeface="Lucida Grande"/>
              <a:buChar char="+"/>
            </a:pPr>
            <a:r>
              <a:rPr b="0" lang="nl-NL" sz="28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Klik om de modelstijlen te bewerken</a:t>
            </a:r>
            <a:endParaRPr b="0" lang="nl-NL" sz="2800" spc="-1" strike="noStrike">
              <a:solidFill>
                <a:srgbClr val="9e005d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9e005d"/>
              </a:buClr>
              <a:buSzPct val="50000"/>
              <a:buFont typeface="Lucida Grande"/>
              <a:buChar char="+"/>
            </a:pPr>
            <a:r>
              <a:rPr b="0" lang="nl-NL" sz="24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Tweede niveau</a:t>
            </a:r>
            <a:endParaRPr b="0" lang="nl-NL" sz="2400" spc="-1" strike="noStrike">
              <a:solidFill>
                <a:srgbClr val="9e005d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9e005d"/>
              </a:buClr>
              <a:buSzPct val="50000"/>
              <a:buFont typeface="Lucida Grande"/>
              <a:buChar char="+"/>
            </a:pPr>
            <a:r>
              <a:rPr b="0" lang="nl-NL" sz="2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Derde niveau</a:t>
            </a:r>
            <a:endParaRPr b="0" lang="nl-NL" sz="2000" spc="-1" strike="noStrike">
              <a:solidFill>
                <a:srgbClr val="9e005d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9e005d"/>
              </a:buClr>
              <a:buSzPct val="50000"/>
              <a:buFont typeface="Lucida Grande"/>
              <a:buChar char="+"/>
            </a:pPr>
            <a:r>
              <a:rPr b="0" lang="nl-NL" sz="18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Vierde niveau</a:t>
            </a:r>
            <a:endParaRPr b="0" lang="nl-NL" sz="1800" spc="-1" strike="noStrike">
              <a:solidFill>
                <a:srgbClr val="9e005d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9e005d"/>
              </a:buClr>
              <a:buSzPct val="50000"/>
              <a:buFont typeface="Lucida Grande"/>
              <a:buChar char="+"/>
            </a:pPr>
            <a:r>
              <a:rPr b="0" lang="nl-NL" sz="18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Vijfde niveau</a:t>
            </a:r>
            <a:endParaRPr b="0" lang="nl-NL" sz="18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dt" idx="4"/>
          </p:nvPr>
        </p:nvSpPr>
        <p:spPr>
          <a:xfrm>
            <a:off x="457200" y="632448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3F04E4D8-D3A5-49CA-ABE0-D23640D4F9C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Afbeelding 15" descr=""/>
          <p:cNvPicPr/>
          <p:nvPr/>
        </p:nvPicPr>
        <p:blipFill>
          <a:blip r:embed="rId2"/>
          <a:stretch/>
        </p:blipFill>
        <p:spPr>
          <a:xfrm>
            <a:off x="0" y="88920"/>
            <a:ext cx="3034800" cy="6768720"/>
          </a:xfrm>
          <a:prstGeom prst="rect">
            <a:avLst/>
          </a:prstGeom>
          <a:ln w="9525">
            <a:noFill/>
          </a:ln>
        </p:spPr>
      </p:pic>
      <p:sp>
        <p:nvSpPr>
          <p:cNvPr id="180" name="Rectangle 6"/>
          <p:cNvSpPr/>
          <p:nvPr/>
        </p:nvSpPr>
        <p:spPr>
          <a:xfrm>
            <a:off x="2058840" y="6400800"/>
            <a:ext cx="98856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dat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3352680" y="6400800"/>
            <a:ext cx="167616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copyri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4724280" y="6400800"/>
            <a:ext cx="31237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aute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7848720" y="6400800"/>
            <a:ext cx="9140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vers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90720" y="1066680"/>
            <a:ext cx="7772040" cy="761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Klik om de stijl te bewerken</a:t>
            </a:r>
            <a:endParaRPr b="0" lang="nl-NL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90720" y="205740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400" spc="-1" strike="noStrike">
                <a:solidFill>
                  <a:srgbClr val="9e005d"/>
                </a:solidFill>
                <a:latin typeface="Calibri"/>
              </a:rPr>
              <a:t>Click to edit the outline text format</a:t>
            </a:r>
            <a:endParaRPr b="0" lang="nl-NL" sz="2400" spc="-1" strike="noStrike">
              <a:solidFill>
                <a:srgbClr val="9e005d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2400" spc="-1" strike="noStrike">
                <a:solidFill>
                  <a:srgbClr val="9e005d"/>
                </a:solidFill>
                <a:latin typeface="Calibri"/>
              </a:rPr>
              <a:t>Second Outline Level</a:t>
            </a:r>
            <a:endParaRPr b="0" lang="nl-NL" sz="2400" spc="-1" strike="noStrike">
              <a:solidFill>
                <a:srgbClr val="9e005d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400" spc="-1" strike="noStrike">
                <a:solidFill>
                  <a:srgbClr val="9e005d"/>
                </a:solidFill>
                <a:latin typeface="Calibri"/>
              </a:rPr>
              <a:t>Third Outline Level</a:t>
            </a:r>
            <a:endParaRPr b="0" lang="nl-NL" sz="2400" spc="-1" strike="noStrike">
              <a:solidFill>
                <a:srgbClr val="9e005d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2400" spc="-1" strike="noStrike">
                <a:solidFill>
                  <a:srgbClr val="9e005d"/>
                </a:solidFill>
                <a:latin typeface="Calibri"/>
              </a:rPr>
              <a:t>Fourth Outline Level</a:t>
            </a:r>
            <a:endParaRPr b="0" lang="nl-NL" sz="2400" spc="-1" strike="noStrike">
              <a:solidFill>
                <a:srgbClr val="9e005d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400" spc="-1" strike="noStrike">
                <a:solidFill>
                  <a:srgbClr val="9e005d"/>
                </a:solidFill>
                <a:latin typeface="Calibri"/>
              </a:rPr>
              <a:t>Fifth Outline Level</a:t>
            </a:r>
            <a:endParaRPr b="0" lang="nl-NL" sz="2400" spc="-1" strike="noStrike">
              <a:solidFill>
                <a:srgbClr val="9e005d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400" spc="-1" strike="noStrike">
                <a:solidFill>
                  <a:srgbClr val="9e005d"/>
                </a:solidFill>
                <a:latin typeface="Calibri"/>
              </a:rPr>
              <a:t>Sixth Outline Level</a:t>
            </a:r>
            <a:endParaRPr b="0" lang="nl-NL" sz="2400" spc="-1" strike="noStrike">
              <a:solidFill>
                <a:srgbClr val="9e005d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400" spc="-1" strike="noStrike">
                <a:solidFill>
                  <a:srgbClr val="9e005d"/>
                </a:solidFill>
                <a:latin typeface="Calibri"/>
              </a:rPr>
              <a:t>Seventh Outline Level</a:t>
            </a:r>
            <a:endParaRPr b="0" lang="nl-NL" sz="24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7"/>
          </p:nvPr>
        </p:nvSpPr>
        <p:spPr>
          <a:xfrm>
            <a:off x="457200" y="632448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8"/>
          </p:nvPr>
        </p:nvSpPr>
        <p:spPr>
          <a:xfrm>
            <a:off x="3124080" y="632448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9"/>
          </p:nvPr>
        </p:nvSpPr>
        <p:spPr>
          <a:xfrm>
            <a:off x="6858000" y="632448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D9B593CE-E573-4CFF-84C5-E072DEF9F2E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Afbeelding 15" descr=""/>
          <p:cNvPicPr/>
          <p:nvPr/>
        </p:nvPicPr>
        <p:blipFill>
          <a:blip r:embed="rId2"/>
          <a:stretch/>
        </p:blipFill>
        <p:spPr>
          <a:xfrm>
            <a:off x="0" y="88920"/>
            <a:ext cx="3034800" cy="6768720"/>
          </a:xfrm>
          <a:prstGeom prst="rect">
            <a:avLst/>
          </a:prstGeom>
          <a:ln w="9525">
            <a:noFill/>
          </a:ln>
        </p:spPr>
      </p:pic>
      <p:sp>
        <p:nvSpPr>
          <p:cNvPr id="226" name="Rectangle 6"/>
          <p:cNvSpPr/>
          <p:nvPr/>
        </p:nvSpPr>
        <p:spPr>
          <a:xfrm>
            <a:off x="2058840" y="6400800"/>
            <a:ext cx="98856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dat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3352680" y="6400800"/>
            <a:ext cx="167616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copyri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4724280" y="6400800"/>
            <a:ext cx="31237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aute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7848720" y="6400800"/>
            <a:ext cx="9140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vers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90720" y="1066680"/>
            <a:ext cx="7772040" cy="761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Klik om de stijl te bewerken</a:t>
            </a:r>
            <a:endParaRPr b="0" lang="nl-NL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90720" y="2057400"/>
            <a:ext cx="3809520" cy="41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400" spc="-1" strike="noStrike">
                <a:solidFill>
                  <a:srgbClr val="9e005d"/>
                </a:solidFill>
                <a:latin typeface="Calibri"/>
              </a:rPr>
              <a:t>Click to edit the outline text format</a:t>
            </a:r>
            <a:endParaRPr b="0" lang="nl-NL" sz="2400" spc="-1" strike="noStrike">
              <a:solidFill>
                <a:srgbClr val="9e005d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2400" spc="-1" strike="noStrike">
                <a:solidFill>
                  <a:srgbClr val="9e005d"/>
                </a:solidFill>
                <a:latin typeface="Calibri"/>
              </a:rPr>
              <a:t>Second Outline Level</a:t>
            </a:r>
            <a:endParaRPr b="0" lang="nl-NL" sz="2400" spc="-1" strike="noStrike">
              <a:solidFill>
                <a:srgbClr val="9e005d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400" spc="-1" strike="noStrike">
                <a:solidFill>
                  <a:srgbClr val="9e005d"/>
                </a:solidFill>
                <a:latin typeface="Calibri"/>
              </a:rPr>
              <a:t>Third Outline Level</a:t>
            </a:r>
            <a:endParaRPr b="0" lang="nl-NL" sz="2400" spc="-1" strike="noStrike">
              <a:solidFill>
                <a:srgbClr val="9e005d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2400" spc="-1" strike="noStrike">
                <a:solidFill>
                  <a:srgbClr val="9e005d"/>
                </a:solidFill>
                <a:latin typeface="Calibri"/>
              </a:rPr>
              <a:t>Fourth Outline Level</a:t>
            </a:r>
            <a:endParaRPr b="0" lang="nl-NL" sz="2400" spc="-1" strike="noStrike">
              <a:solidFill>
                <a:srgbClr val="9e005d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400" spc="-1" strike="noStrike">
                <a:solidFill>
                  <a:srgbClr val="9e005d"/>
                </a:solidFill>
                <a:latin typeface="Calibri"/>
              </a:rPr>
              <a:t>Fifth Outline Level</a:t>
            </a:r>
            <a:endParaRPr b="0" lang="nl-NL" sz="2400" spc="-1" strike="noStrike">
              <a:solidFill>
                <a:srgbClr val="9e005d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400" spc="-1" strike="noStrike">
                <a:solidFill>
                  <a:srgbClr val="9e005d"/>
                </a:solidFill>
                <a:latin typeface="Calibri"/>
              </a:rPr>
              <a:t>Sixth Outline Level</a:t>
            </a:r>
            <a:endParaRPr b="0" lang="nl-NL" sz="2400" spc="-1" strike="noStrike">
              <a:solidFill>
                <a:srgbClr val="9e005d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400" spc="-1" strike="noStrike">
                <a:solidFill>
                  <a:srgbClr val="9e005d"/>
                </a:solidFill>
                <a:latin typeface="Calibri"/>
              </a:rPr>
              <a:t>Seventh Outline Level</a:t>
            </a:r>
            <a:endParaRPr b="0" lang="nl-NL" sz="24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body"/>
          </p:nvPr>
        </p:nvSpPr>
        <p:spPr>
          <a:xfrm>
            <a:off x="4952880" y="2057400"/>
            <a:ext cx="380952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39"/>
              </a:spcBef>
              <a:buClr>
                <a:srgbClr val="9e005d"/>
              </a:buClr>
              <a:buSzPct val="50000"/>
              <a:buFont typeface="Lucida Grande"/>
              <a:buChar char="+"/>
            </a:pPr>
            <a:r>
              <a:rPr b="0" lang="nl-NL" sz="22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Klik om de modelstijlen te bewerken</a:t>
            </a: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39"/>
              </a:spcBef>
              <a:buClr>
                <a:srgbClr val="9e005d"/>
              </a:buClr>
              <a:buSzPct val="50000"/>
              <a:buFont typeface="Lucida Grande"/>
              <a:buChar char="+"/>
            </a:pPr>
            <a:r>
              <a:rPr b="0" lang="nl-NL" sz="22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Tweede niveau</a:t>
            </a: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9e005d"/>
              </a:buClr>
              <a:buSzPct val="50000"/>
              <a:buFont typeface="Lucida Grande"/>
              <a:buChar char="+"/>
            </a:pPr>
            <a:r>
              <a:rPr b="0" lang="nl-NL" sz="2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Derde niveau</a:t>
            </a:r>
            <a:endParaRPr b="0" lang="nl-NL" sz="2000" spc="-1" strike="noStrike">
              <a:solidFill>
                <a:srgbClr val="9e005d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9e005d"/>
              </a:buClr>
              <a:buSzPct val="50000"/>
              <a:buFont typeface="Lucida Grande"/>
              <a:buChar char="+"/>
            </a:pPr>
            <a:r>
              <a:rPr b="0" lang="nl-NL" sz="18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Vierde niveau</a:t>
            </a:r>
            <a:endParaRPr b="0" lang="nl-NL" sz="1800" spc="-1" strike="noStrike">
              <a:solidFill>
                <a:srgbClr val="9e005d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9e005d"/>
              </a:buClr>
              <a:buSzPct val="50000"/>
              <a:buFont typeface="Lucida Grande"/>
              <a:buChar char="+"/>
            </a:pPr>
            <a:r>
              <a:rPr b="0" lang="nl-NL" sz="18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Vijfde niveau</a:t>
            </a:r>
            <a:endParaRPr b="0" lang="nl-NL" sz="18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dt" idx="10"/>
          </p:nvPr>
        </p:nvSpPr>
        <p:spPr>
          <a:xfrm>
            <a:off x="457200" y="632448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ftr" idx="11"/>
          </p:nvPr>
        </p:nvSpPr>
        <p:spPr>
          <a:xfrm>
            <a:off x="3124080" y="632448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 type="sldNum" idx="12"/>
          </p:nvPr>
        </p:nvSpPr>
        <p:spPr>
          <a:xfrm>
            <a:off x="6858000" y="632448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8846D28D-B294-4076-827E-19E0E6B014C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kiesikgezond.nl/www/images/schijf_van_vijf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4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newpossibility.nl/images/content_images/groenten_en_fruit_deel_1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55640" y="1066680"/>
            <a:ext cx="7848360" cy="5170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oedingsvoorlichting voor patiënten van de longrevalidatie</a:t>
            </a:r>
            <a:br>
              <a:rPr sz="4400"/>
            </a:b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12</a:t>
            </a:r>
            <a:br>
              <a:rPr sz="4400"/>
            </a:b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oor Rianne v. Heertum</a:t>
            </a:r>
            <a:br>
              <a:rPr sz="4400"/>
            </a:b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iëtist JBZ s’Hertogenbosch</a:t>
            </a: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3480" cy="647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oedingsmiddelen</a:t>
            </a:r>
            <a:br>
              <a:rPr sz="1500"/>
            </a:b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11280" y="548640"/>
            <a:ext cx="3809520" cy="5688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Calibri"/>
                <a:ea typeface="ＭＳ Ｐゴシック"/>
              </a:rPr>
              <a:t>Voedingsmiddelen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elkproducten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Kaas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leeswaren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lees/vis/kip/ei, 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oter/margarine/ bak-en braad-producten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lvarine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ocht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43280" y="620640"/>
            <a:ext cx="3809520" cy="5760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9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nl-NL" sz="3600" spc="-1" strike="noStrike" u="sng">
                <a:solidFill>
                  <a:srgbClr val="000000"/>
                </a:solidFill>
                <a:uFillTx/>
                <a:latin typeface="Calibri"/>
                <a:ea typeface="ＭＳ Ｐゴシック"/>
              </a:rPr>
              <a:t>Hoeveelheden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50-500 ml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 – 2 plakjes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 – 2 plakjes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0 gram (rauw)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5 gram voor de bereiding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 gram per snee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inimaal 1.5 ltr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2057400" y="2362320"/>
            <a:ext cx="6705360" cy="380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eftijd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ngte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wicht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slacht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rbeid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Ziekte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040" cy="761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ergie-behoefte</a:t>
            </a: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Picture 4" descr=""/>
          <p:cNvPicPr/>
          <p:nvPr/>
        </p:nvPicPr>
        <p:blipFill>
          <a:blip r:embed="rId1"/>
          <a:stretch/>
        </p:blipFill>
        <p:spPr>
          <a:xfrm>
            <a:off x="6444360" y="1845000"/>
            <a:ext cx="1523520" cy="1295640"/>
          </a:xfrm>
          <a:prstGeom prst="rect">
            <a:avLst/>
          </a:prstGeom>
          <a:ln w="9525">
            <a:noFill/>
          </a:ln>
        </p:spPr>
      </p:pic>
      <p:pic>
        <p:nvPicPr>
          <p:cNvPr id="304" name="Picture 5" descr=""/>
          <p:cNvPicPr/>
          <p:nvPr/>
        </p:nvPicPr>
        <p:blipFill>
          <a:blip r:embed="rId2"/>
          <a:stretch/>
        </p:blipFill>
        <p:spPr>
          <a:xfrm>
            <a:off x="4876920" y="3200400"/>
            <a:ext cx="1660320" cy="13802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1115640" y="2362320"/>
            <a:ext cx="7647120" cy="380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erhoogde energiebehoefte, + 600 kcal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½ gram eiwit per kg lichaamsgewicht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-55% koolhydraten van totale hoeveelheid kcal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040" cy="761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ij COPD</a:t>
            </a:r>
            <a:endParaRPr b="0" lang="nl-NL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2057400" y="2362320"/>
            <a:ext cx="6705360" cy="380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MI = body mass index = gewicht gedeeld door lengte in het kwadraat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VMI = vetvrije massa index = kg/m2 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nnen 16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rouwen 15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040" cy="761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ichaamssamenstelling</a:t>
            </a:r>
            <a:endParaRPr b="0" lang="nl-NL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7772040" cy="1218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ichaamssamenstelling bij COPD</a:t>
            </a: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0" name="Object 3"/>
          <p:cNvGraphicFramePr/>
          <p:nvPr/>
        </p:nvGraphicFramePr>
        <p:xfrm>
          <a:off x="990720" y="2057400"/>
          <a:ext cx="7772040" cy="4114440"/>
        </p:xfrm>
        <a:graphic>
          <a:graphicData uri="http://schemas.openxmlformats.org/presentationml/2006/ole">
            <p:oleObj progId="MSGraph.Chart.8" r:id="rId1" spid="">
              <p:embed/>
              <p:pic>
                <p:nvPicPr>
                  <p:cNvPr id="31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057400"/>
                    <a:ext cx="7772040" cy="41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68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762120" y="1219320"/>
            <a:ext cx="7772040" cy="4952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ichaamssamenstelling te meten m.b.v</a:t>
            </a:r>
            <a:endParaRPr b="0" lang="nl-NL" sz="28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ioimpedatiemeting</a:t>
            </a:r>
            <a:endParaRPr b="0" lang="nl-NL" sz="28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it is een gevalideerde methode bij stabiele patienten</a:t>
            </a:r>
            <a:endParaRPr b="0" lang="nl-NL" sz="28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Gold 2-4)</a:t>
            </a:r>
            <a:endParaRPr b="0" lang="nl-NL" sz="28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uidplooimeting </a:t>
            </a:r>
            <a:endParaRPr b="0" lang="nl-NL" sz="28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envoudig maar een grote individuele spreiding</a:t>
            </a:r>
            <a:endParaRPr b="0" lang="nl-NL" sz="28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xa; kostbaar en stralingsbelasting</a:t>
            </a:r>
            <a:endParaRPr b="0" lang="nl-NL" sz="28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ndknijpkracht</a:t>
            </a:r>
            <a:endParaRPr b="0" lang="nl-NL" sz="2800" spc="-1" strike="noStrike">
              <a:solidFill>
                <a:srgbClr val="9e005d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nl-NL" sz="28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762120" y="332640"/>
            <a:ext cx="7772040" cy="719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eetmethoden</a:t>
            </a:r>
            <a:endParaRPr b="0" lang="nl-NL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228600" y="1676520"/>
            <a:ext cx="7772040" cy="47044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419040" indent="-41904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Wingdings" charset="2"/>
              <a:buAutoNum type="arabicPeriod"/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ormaal gewicht (BMI 21-25) / depletie spiermassa 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VVMI &lt;15/&lt;16)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419040" indent="-41904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Wingdings" charset="2"/>
              <a:buChar char="•"/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ergierijke voeding evt. aangevuld met dieetpreparaten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419040" indent="-41904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Wingdings" charset="2"/>
              <a:buChar char="•"/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rainen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41904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.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ormaal gewicht/ normale spiermassa 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419040" indent="-41904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Wingdings" charset="2"/>
              <a:buChar char="•"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ichtlijnen gezonde voeding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419040" indent="-41904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Wingdings" charset="2"/>
              <a:buChar char="•"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rainen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419040" indent="0">
              <a:lnSpc>
                <a:spcPct val="9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endParaRPr b="0" lang="nl-NL" sz="1600" spc="-1" strike="noStrike">
              <a:solidFill>
                <a:srgbClr val="9e005d"/>
              </a:solidFill>
              <a:latin typeface="Calibri"/>
            </a:endParaRPr>
          </a:p>
          <a:p>
            <a:pPr marL="419040" indent="0">
              <a:lnSpc>
                <a:spcPct val="9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endParaRPr b="0" lang="nl-NL" sz="16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457200" y="990720"/>
            <a:ext cx="7772040" cy="761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deling van nieuwe COPD-patiënten</a:t>
            </a:r>
            <a:endParaRPr b="0" lang="nl-NL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7772040" cy="5486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. 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ndergewicht (BMI &lt;21) /depletie spiermassa</a:t>
            </a:r>
            <a:endParaRPr b="0" lang="nl-NL" sz="25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•"/>
              <a:tabLst>
                <a:tab algn="l" pos="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ergierijke voeding met evt. dieetpreparaten</a:t>
            </a:r>
            <a:endParaRPr b="0" lang="nl-NL" sz="25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•"/>
              <a:tabLst>
                <a:tab algn="l" pos="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as trainen als gewichtverlies gestopt is</a:t>
            </a:r>
            <a:endParaRPr b="0" lang="nl-NL" sz="25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endParaRPr b="0" lang="nl-NL" sz="25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.  Ondergewicht (BMI &lt;21) /normale spiermassa</a:t>
            </a:r>
            <a:endParaRPr b="0" lang="nl-NL" sz="25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•"/>
              <a:tabLst>
                <a:tab algn="l" pos="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ergierijke voeding met evt. dieetpreparaten</a:t>
            </a:r>
            <a:endParaRPr b="0" lang="nl-NL" sz="25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•"/>
              <a:tabLst>
                <a:tab algn="l" pos="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rainen</a:t>
            </a:r>
            <a:endParaRPr b="0" lang="nl-NL" sz="25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endParaRPr b="0" lang="nl-NL" sz="25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.  Overgewicht</a:t>
            </a:r>
            <a:endParaRPr b="0" lang="nl-NL" sz="25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•"/>
              <a:tabLst>
                <a:tab algn="l" pos="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MI &gt;30</a:t>
            </a:r>
            <a:endParaRPr b="0" lang="nl-NL" sz="25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•"/>
              <a:tabLst>
                <a:tab algn="l" pos="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ergiebeperking</a:t>
            </a:r>
            <a:endParaRPr b="0" lang="nl-NL" sz="25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•"/>
              <a:tabLst>
                <a:tab algn="l" pos="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rainen</a:t>
            </a:r>
            <a:endParaRPr b="0" lang="nl-NL" sz="25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endParaRPr b="0" lang="nl-NL" sz="25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040" cy="761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deling van nieuwe COPD-patienten</a:t>
            </a:r>
            <a:endParaRPr b="0" lang="nl-NL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4360" y="1905120"/>
            <a:ext cx="7773480" cy="3623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OEDINGSTHERAPIE </a:t>
            </a:r>
            <a:br>
              <a:rPr sz="4400"/>
            </a:b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EN </a:t>
            </a:r>
            <a:br>
              <a:rPr sz="4400"/>
            </a:b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EWEGING</a:t>
            </a:r>
            <a:br>
              <a:rPr sz="4400"/>
            </a:b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Picture 4" descr="Gezonder leven"/>
          <p:cNvPicPr/>
          <p:nvPr/>
        </p:nvPicPr>
        <p:blipFill>
          <a:blip r:embed="rId1"/>
          <a:stretch/>
        </p:blipFill>
        <p:spPr>
          <a:xfrm>
            <a:off x="228600" y="152280"/>
            <a:ext cx="2514240" cy="23889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5" descr="Onderzoek"/>
          <p:cNvPicPr/>
          <p:nvPr/>
        </p:nvPicPr>
        <p:blipFill>
          <a:blip r:embed="rId2"/>
          <a:stretch/>
        </p:blipFill>
        <p:spPr>
          <a:xfrm>
            <a:off x="6477120" y="3429000"/>
            <a:ext cx="2079360" cy="25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4" descr="BD05203_"/>
          <p:cNvPicPr/>
          <p:nvPr/>
        </p:nvPicPr>
        <p:blipFill>
          <a:blip r:embed="rId1"/>
          <a:stretch/>
        </p:blipFill>
        <p:spPr>
          <a:xfrm>
            <a:off x="2484360" y="1125360"/>
            <a:ext cx="424764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2267640" y="1412640"/>
            <a:ext cx="6494760" cy="5040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90000"/>
              </a:lnSpc>
              <a:spcBef>
                <a:spcPts val="66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latie Voeding – Longziekten</a:t>
            </a:r>
            <a:endParaRPr b="0" lang="nl-NL" sz="33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6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zonde Voeding</a:t>
            </a:r>
            <a:endParaRPr b="0" lang="nl-NL" sz="33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6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ergie-behoefte</a:t>
            </a:r>
            <a:endParaRPr b="0" lang="nl-NL" sz="33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6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ndergewicht en gevolgen hiervan</a:t>
            </a:r>
            <a:endParaRPr b="0" lang="nl-NL" sz="33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vergewicht en de gevolgen hiervan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ergieverrijkte voeding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ergiebeperkte voeding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ieetvoeding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nderwerpen</a:t>
            </a: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3238560" y="244332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spAutoFit/>
          </a:bodyPr>
          <a:p>
            <a:pPr>
              <a:lnSpc>
                <a:spcPct val="100000"/>
              </a:lnSpc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Picture 4" descr="lichaamlongen"/>
          <p:cNvPicPr/>
          <p:nvPr/>
        </p:nvPicPr>
        <p:blipFill>
          <a:blip r:embed="rId1"/>
          <a:stretch/>
        </p:blipFill>
        <p:spPr>
          <a:xfrm>
            <a:off x="0" y="0"/>
            <a:ext cx="2666520" cy="19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0" y="1828800"/>
            <a:ext cx="5486040" cy="3646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erhoogde energiebehoefte; 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a. 600 kcal extra bij COPD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20"/>
              </a:spcBef>
              <a:buNone/>
            </a:pP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erminderde inname van voeding t.g.v. dyspnoe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title"/>
          </p:nvPr>
        </p:nvSpPr>
        <p:spPr>
          <a:xfrm>
            <a:off x="0" y="30492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wichtsverlies of klinische depletie</a:t>
            </a: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Picture 4" descr="PinkBloater.png                                                000089E2&#10;Marie's HD                     ABA78158:"/>
          <p:cNvPicPr/>
          <p:nvPr/>
        </p:nvPicPr>
        <p:blipFill>
          <a:blip r:embed="rId1"/>
          <a:stretch/>
        </p:blipFill>
        <p:spPr>
          <a:xfrm>
            <a:off x="5589720" y="1447920"/>
            <a:ext cx="3322440" cy="4495320"/>
          </a:xfrm>
          <a:prstGeom prst="rect">
            <a:avLst/>
          </a:prstGeom>
          <a:ln w="28575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611280" y="2493000"/>
            <a:ext cx="7772040" cy="3960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VOLGEN: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aling weerstand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ertraagde wondgenezing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erminderde spierkracht 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oor spierafbraak; te lage spiermassa 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VVM-index onder 16 en 15)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title"/>
          </p:nvPr>
        </p:nvSpPr>
        <p:spPr>
          <a:xfrm>
            <a:off x="179640" y="1196640"/>
            <a:ext cx="8784720" cy="1151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wichtsverlies of klinische depletie</a:t>
            </a: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990720" y="2425680"/>
            <a:ext cx="7772040" cy="3746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9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angzamer herstel en </a:t>
            </a:r>
            <a:endParaRPr b="0" lang="nl-NL" sz="44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eer kans op complicaties</a:t>
            </a:r>
            <a:endParaRPr b="0" lang="nl-NL" sz="44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MI lager dan 21 en</a:t>
            </a:r>
            <a:endParaRPr b="0" lang="nl-NL" sz="44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VM-index lager dan 16 en 15</a:t>
            </a:r>
            <a:endParaRPr b="0" lang="nl-NL" sz="44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title"/>
          </p:nvPr>
        </p:nvSpPr>
        <p:spPr>
          <a:xfrm>
            <a:off x="0" y="1196640"/>
            <a:ext cx="9143640" cy="1007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wichtsverlies of klinische depletie</a:t>
            </a:r>
            <a:br>
              <a:rPr sz="4400"/>
            </a:b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2057400" y="2362320"/>
            <a:ext cx="6705360" cy="380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% van stabiele patiënten met matige en ernstige COPD 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Gold 2 en 3)  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5% van stabiele patiënten met matige en ernstig en zeer ernstige COPD (GOLD 2, 3 en 4) 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040" cy="761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oe vaak komt klinische depletie voor?</a:t>
            </a:r>
            <a:endParaRPr b="0" lang="nl-NL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152280" y="1523880"/>
            <a:ext cx="7772040" cy="5111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Kleine frequente maaltijden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uim gebruik van beleg op brood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xtra melkproducten bij broodmaaltijden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ruchtenkwark, vlaflip, roomijsje, milkshake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uim smeren met dieetmargarine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539640" y="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ergieverrijkte voeding</a:t>
            </a: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Picture 4" descr=""/>
          <p:cNvPicPr/>
          <p:nvPr/>
        </p:nvPicPr>
        <p:blipFill>
          <a:blip r:embed="rId1"/>
          <a:stretch/>
        </p:blipFill>
        <p:spPr>
          <a:xfrm>
            <a:off x="5105520" y="3048120"/>
            <a:ext cx="1523520" cy="11775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323640" y="1484640"/>
            <a:ext cx="8424720" cy="4610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eschuit, cracker met royaal kaas.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olle producten 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oomvla, chocolademelk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ukt dit niet dan overweging dieetdrinkvoeding (bij BMI onder 21 en 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VM=index onder 15 en 16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)</a:t>
            </a:r>
            <a:endParaRPr b="0" lang="nl-NL" sz="40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oedingspreparaat, bijv. Fantomalt</a:t>
            </a:r>
            <a:endParaRPr b="0" lang="nl-NL" sz="40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040" cy="863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ergieverrijkte voeding</a:t>
            </a: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685800" y="2133000"/>
            <a:ext cx="8062200" cy="4104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Courier New"/>
              <a:buChar char="o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MI hoger dan 25 (gewicht : lengte²)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Courier New"/>
              <a:buChar char="o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name niet in overeenstemming met behoefte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Courier New"/>
              <a:buChar char="o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nder invloed van medicijnen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Courier New"/>
              <a:buChar char="o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erminderde en geringe lichaamsbeweging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title"/>
          </p:nvPr>
        </p:nvSpPr>
        <p:spPr>
          <a:xfrm>
            <a:off x="468360" y="620640"/>
            <a:ext cx="7772040" cy="1295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wichtstoename </a:t>
            </a: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5" descr="BD06114_"/>
          <p:cNvPicPr/>
          <p:nvPr/>
        </p:nvPicPr>
        <p:blipFill>
          <a:blip r:embed="rId1"/>
          <a:stretch/>
        </p:blipFill>
        <p:spPr>
          <a:xfrm>
            <a:off x="2057400" y="685800"/>
            <a:ext cx="4098600" cy="54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403812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rie hoofdmaaltijden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t op vet, vnl. magere producten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bruik halvarine i.p.v. margarine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title"/>
          </p:nvPr>
        </p:nvSpPr>
        <p:spPr>
          <a:xfrm>
            <a:off x="971640" y="260280"/>
            <a:ext cx="7411680" cy="864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ergiebeperkte voeding</a:t>
            </a: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Picture 4" descr="BlueBloater.png                                                000089E2&#10;Marie's HD                     ABA78158:"/>
          <p:cNvPicPr/>
          <p:nvPr/>
        </p:nvPicPr>
        <p:blipFill>
          <a:blip r:embed="rId1"/>
          <a:stretch/>
        </p:blipFill>
        <p:spPr>
          <a:xfrm>
            <a:off x="5410080" y="1600200"/>
            <a:ext cx="3422160" cy="4431960"/>
          </a:xfrm>
          <a:prstGeom prst="rect">
            <a:avLst/>
          </a:prstGeom>
          <a:ln w="28575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685800" y="2781000"/>
            <a:ext cx="7772040" cy="3600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bruik voeding met een hoge verzadigingswaarde zoals volkorenbrood, rauwkost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eperk het gebruik van tussendoortjes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eperk het gebruik van suiker, snoep en alcohol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title"/>
          </p:nvPr>
        </p:nvSpPr>
        <p:spPr>
          <a:xfrm>
            <a:off x="611640" y="1196640"/>
            <a:ext cx="7160400" cy="1007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ergiebeperkte voeding</a:t>
            </a: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Picture 4" descr=""/>
          <p:cNvPicPr/>
          <p:nvPr/>
        </p:nvPicPr>
        <p:blipFill>
          <a:blip r:embed="rId1"/>
          <a:stretch/>
        </p:blipFill>
        <p:spPr>
          <a:xfrm>
            <a:off x="6858000" y="1219320"/>
            <a:ext cx="1996560" cy="1996560"/>
          </a:xfrm>
          <a:prstGeom prst="rect">
            <a:avLst/>
          </a:prstGeom>
          <a:ln w="9525">
            <a:noFill/>
          </a:ln>
        </p:spPr>
      </p:pic>
      <p:pic>
        <p:nvPicPr>
          <p:cNvPr id="345" name="Picture 5" descr=""/>
          <p:cNvPicPr/>
          <p:nvPr/>
        </p:nvPicPr>
        <p:blipFill>
          <a:blip r:embed="rId2"/>
          <a:stretch/>
        </p:blipFill>
        <p:spPr>
          <a:xfrm>
            <a:off x="3276720" y="5638680"/>
            <a:ext cx="639360" cy="10285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Bekijk de afbeelding op ware groot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520" y="-365040"/>
            <a:ext cx="761760" cy="7617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5" descr="http://www.voedingscentrum.nl/NR/rdonlyres/C8B81B0E-1ECE-45DA-86D0-5C3537205734/813/schijfvanvijf10x10cm1.jpg"/>
          <p:cNvPicPr/>
          <p:nvPr/>
        </p:nvPicPr>
        <p:blipFill>
          <a:blip r:embed="rId3"/>
          <a:stretch/>
        </p:blipFill>
        <p:spPr>
          <a:xfrm>
            <a:off x="2771640" y="2133000"/>
            <a:ext cx="3816000" cy="378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2057400" y="2362320"/>
            <a:ext cx="6705360" cy="380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ij lage BMI, onder 21 en 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VM index 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ager dan 15 bij vrouwen 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ager dan 16 bij mannen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040" cy="761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egeleiding door diëtist</a:t>
            </a: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0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539640" y="1412640"/>
            <a:ext cx="8223120" cy="47592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+ Klinisch begeleiding opgestart, 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+ poliklinisch vervolg gedurende 3 maanden, 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+ m.b.v. Bio Impedantie Meting VVM-index en gewicht evalueren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+ Eventueel ook poliklinisch opstarten op verwijzing longarts of longverpleegkundige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040" cy="936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egeleiding door diëtist</a:t>
            </a: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0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2057400" y="2362320"/>
            <a:ext cx="6705360" cy="380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39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ereiken en behouden van een beter voedingsgedrag</a:t>
            </a: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39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atienten informeren omtrent voeding in relatie tot COPD</a:t>
            </a: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39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atienten motiveren/stimuleren</a:t>
            </a: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39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oedingsadvies op maat om kwaliteit van leven te bevorderen</a:t>
            </a: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040" cy="761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ol van de dietist</a:t>
            </a:r>
            <a:endParaRPr b="0" lang="nl-NL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2057400" y="2362320"/>
            <a:ext cx="6705360" cy="380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gnalering van: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wichtsverloop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lechte eetlust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pin in het web bij multidisciplinaire aanpak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040" cy="761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ol van longverpleegkundige</a:t>
            </a:r>
            <a:endParaRPr b="0" lang="nl-NL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4920" y="260640"/>
            <a:ext cx="7773480" cy="935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oe komt U bij de diëtist?</a:t>
            </a:r>
            <a:br>
              <a:rPr sz="1500"/>
            </a:b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80880" y="1340640"/>
            <a:ext cx="8223120" cy="4826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ia huisarts of zelfverwijzing bij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vergewicht of ongewenst gewichtstoename.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één schriftelijke verwijzing nodig. 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 uur vergoeding uit aanvullingspakket bij de meeste zorgverzekeraars. 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ia longarts / longverpleegkundige: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iëtist in het ziekenhuis bij ongewenst gewichtsafname.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</p:txBody>
      </p:sp>
      <p:pic>
        <p:nvPicPr>
          <p:cNvPr id="356" name="Picture 5" descr=""/>
          <p:cNvPicPr/>
          <p:nvPr/>
        </p:nvPicPr>
        <p:blipFill>
          <a:blip r:embed="rId1"/>
          <a:stretch/>
        </p:blipFill>
        <p:spPr>
          <a:xfrm>
            <a:off x="7315200" y="404640"/>
            <a:ext cx="1828440" cy="13633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0" y="2590920"/>
            <a:ext cx="7695720" cy="3430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iwitten: 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elkproducten, kaas, vlees, vis,ei, vleesvervangers.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odig voor spieropbouw en voorkomt afbraak spiereiwitten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title"/>
          </p:nvPr>
        </p:nvSpPr>
        <p:spPr>
          <a:xfrm>
            <a:off x="990720" y="914400"/>
            <a:ext cx="7772040" cy="1371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amenstelling Voeding</a:t>
            </a: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Picture 5" descr="http://www.voedingscentrum.nl/NR/rdonlyres/C8B81B0E-1ECE-45DA-86D0-5C3537205734/813/schijfvanvijf10x10cm1.jpg"/>
          <p:cNvPicPr/>
          <p:nvPr/>
        </p:nvPicPr>
        <p:blipFill>
          <a:blip r:embed="rId1"/>
          <a:stretch/>
        </p:blipFill>
        <p:spPr>
          <a:xfrm>
            <a:off x="7010280" y="472428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7">
            <a:hlinkClick r:id="rId2"/>
          </p:cNvPr>
          <p:cNvSpPr/>
          <p:nvPr/>
        </p:nvSpPr>
        <p:spPr>
          <a:xfrm>
            <a:off x="4162320" y="301932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spAutoFit/>
          </a:bodyPr>
          <a:p>
            <a:pPr>
              <a:lnSpc>
                <a:spcPct val="100000"/>
              </a:lnSpc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Picture 10" descr="http://www.slimfast.nl/shared/images/lclc/lclc_koolhydraten_enzo.jpg"/>
          <p:cNvPicPr/>
          <p:nvPr/>
        </p:nvPicPr>
        <p:blipFill>
          <a:blip r:embed="rId3"/>
          <a:stretch/>
        </p:blipFill>
        <p:spPr>
          <a:xfrm>
            <a:off x="0" y="0"/>
            <a:ext cx="1907640" cy="24379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685800" y="1125360"/>
            <a:ext cx="7772040" cy="4970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9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ergie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: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len we uit </a:t>
            </a:r>
            <a:r>
              <a:rPr b="0" i="1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et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en </a:t>
            </a:r>
            <a:r>
              <a:rPr b="0" i="1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koolhydraten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i="1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koolhydraten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: 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 groente, fruit,           suiker, 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rood, pasta, aardappelen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20"/>
              </a:spcBef>
              <a:buNone/>
              <a:tabLst>
                <a:tab algn="l" pos="0"/>
              </a:tabLst>
            </a:pP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eft directe energie voor de spieren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eft geen extra kortademigheid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611280" y="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amenstelling Voeding</a:t>
            </a: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4157640" y="287172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spAutoFit/>
          </a:bodyPr>
          <a:p>
            <a:pPr>
              <a:lnSpc>
                <a:spcPct val="100000"/>
              </a:lnSpc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Picture 4" descr="j0356739"/>
          <p:cNvPicPr/>
          <p:nvPr/>
        </p:nvPicPr>
        <p:blipFill>
          <a:blip r:embed="rId1"/>
          <a:stretch/>
        </p:blipFill>
        <p:spPr>
          <a:xfrm>
            <a:off x="3809880" y="2514600"/>
            <a:ext cx="828360" cy="11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2057400" y="2362320"/>
            <a:ext cx="6705360" cy="380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9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eel </a:t>
            </a:r>
            <a:r>
              <a:rPr b="0" i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koolhydraten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endParaRPr b="0" lang="nl-NL" sz="44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eft een snelle maagontlediging, 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inder kans op vol gevoel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ichter verteerbaar dan 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etrijke voedingsmiddelen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040" cy="1008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amenstelling Voeding</a:t>
            </a: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2057400" y="2362320"/>
            <a:ext cx="6705360" cy="380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et gevarieerd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t op vet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et ruimschoots brood en aardappelen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et volop groente en fruit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539640" y="333360"/>
            <a:ext cx="7772040" cy="790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zonde Voeding</a:t>
            </a: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685800" y="1341360"/>
            <a:ext cx="7772040" cy="4754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oud uw gewicht op peil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es zuinig met zout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rink voldoende; 1½ - 2 L per dag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et niet de hele dag door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040" cy="936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zonde Voeding</a:t>
            </a: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Picture 4" descr=""/>
          <p:cNvPicPr/>
          <p:nvPr/>
        </p:nvPicPr>
        <p:blipFill>
          <a:blip r:embed="rId1"/>
          <a:stretch/>
        </p:blipFill>
        <p:spPr>
          <a:xfrm>
            <a:off x="5791320" y="1295280"/>
            <a:ext cx="1238040" cy="18284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846560" cy="1656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oedingsmiddelen</a:t>
            </a:r>
            <a:br>
              <a:rPr sz="3600"/>
            </a:br>
            <a:r>
              <a:rPr b="1" lang="nl-NL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middeld aanbevolen hoeveelheden voedingsmiddelen voor gezonde volwassenen</a:t>
            </a: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3809520" cy="4179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9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nl-NL" sz="3600" spc="-1" strike="noStrike" u="sng">
                <a:solidFill>
                  <a:srgbClr val="000000"/>
                </a:solidFill>
                <a:uFillTx/>
                <a:latin typeface="Calibri"/>
                <a:ea typeface="ＭＳ Ｐゴシック"/>
              </a:rPr>
              <a:t>Voedingsmiddelen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rood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ardappelen en rijst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roente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ruit, vruchtensap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43280" y="2205000"/>
            <a:ext cx="380952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Calibri"/>
                <a:ea typeface="ＭＳ Ｐゴシック"/>
              </a:rPr>
              <a:t>Hoeveelheden</a:t>
            </a:r>
            <a:r>
              <a:rPr b="1" lang="nl-NL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:</a:t>
            </a:r>
            <a:endParaRPr b="0" lang="nl-NL" sz="40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-7 sneetjes</a:t>
            </a:r>
            <a:endParaRPr b="0" lang="nl-NL" sz="40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-5 stuks/lepels</a:t>
            </a:r>
            <a:endParaRPr b="0" lang="nl-NL" sz="40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 – 4 groentelepels</a:t>
            </a:r>
            <a:endParaRPr b="0" lang="nl-NL" sz="40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 stuks/glazen</a:t>
            </a:r>
            <a:endParaRPr b="0" lang="nl-NL" sz="40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0" lang="nl-NL" sz="40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JBZ licht">
  <a:themeElements>
    <a:clrScheme name="JBZ kleuren">
      <a:dk1>
        <a:srgbClr val="000000"/>
      </a:dk1>
      <a:lt1>
        <a:srgbClr val="ffffff"/>
      </a:lt1>
      <a:dk2>
        <a:srgbClr val="ed145a"/>
      </a:dk2>
      <a:lt2>
        <a:srgbClr val="9e005d"/>
      </a:lt2>
      <a:accent1>
        <a:srgbClr val="007dad"/>
      </a:accent1>
      <a:accent2>
        <a:srgbClr val="8cc63f"/>
      </a:accent2>
      <a:accent3>
        <a:srgbClr val="ffd400"/>
      </a:accent3>
      <a:accent4>
        <a:srgbClr val="00aaad"/>
      </a:accent4>
      <a:accent5>
        <a:srgbClr val="d7df23"/>
      </a:accent5>
      <a:accent6>
        <a:srgbClr val="fcaf17"/>
      </a:accent6>
      <a:hlink>
        <a:srgbClr val="ffffff"/>
      </a:hlink>
      <a:folHlink>
        <a:srgbClr val="ffff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JBZ licht">
  <a:themeElements>
    <a:clrScheme name="JBZ kleuren">
      <a:dk1>
        <a:srgbClr val="000000"/>
      </a:dk1>
      <a:lt1>
        <a:srgbClr val="ffffff"/>
      </a:lt1>
      <a:dk2>
        <a:srgbClr val="ed145a"/>
      </a:dk2>
      <a:lt2>
        <a:srgbClr val="9e005d"/>
      </a:lt2>
      <a:accent1>
        <a:srgbClr val="007dad"/>
      </a:accent1>
      <a:accent2>
        <a:srgbClr val="8cc63f"/>
      </a:accent2>
      <a:accent3>
        <a:srgbClr val="ffd400"/>
      </a:accent3>
      <a:accent4>
        <a:srgbClr val="00aaad"/>
      </a:accent4>
      <a:accent5>
        <a:srgbClr val="d7df23"/>
      </a:accent5>
      <a:accent6>
        <a:srgbClr val="fcaf17"/>
      </a:accent6>
      <a:hlink>
        <a:srgbClr val="ffffff"/>
      </a:hlink>
      <a:folHlink>
        <a:srgbClr val="ffff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JBZ licht">
  <a:themeElements>
    <a:clrScheme name="JBZ kleuren">
      <a:dk1>
        <a:srgbClr val="000000"/>
      </a:dk1>
      <a:lt1>
        <a:srgbClr val="ffffff"/>
      </a:lt1>
      <a:dk2>
        <a:srgbClr val="ed145a"/>
      </a:dk2>
      <a:lt2>
        <a:srgbClr val="9e005d"/>
      </a:lt2>
      <a:accent1>
        <a:srgbClr val="007dad"/>
      </a:accent1>
      <a:accent2>
        <a:srgbClr val="8cc63f"/>
      </a:accent2>
      <a:accent3>
        <a:srgbClr val="ffd400"/>
      </a:accent3>
      <a:accent4>
        <a:srgbClr val="00aaad"/>
      </a:accent4>
      <a:accent5>
        <a:srgbClr val="d7df23"/>
      </a:accent5>
      <a:accent6>
        <a:srgbClr val="fcaf17"/>
      </a:accent6>
      <a:hlink>
        <a:srgbClr val="ffffff"/>
      </a:hlink>
      <a:folHlink>
        <a:srgbClr val="ffff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JBZ licht">
  <a:themeElements>
    <a:clrScheme name="JBZ kleuren">
      <a:dk1>
        <a:srgbClr val="000000"/>
      </a:dk1>
      <a:lt1>
        <a:srgbClr val="ffffff"/>
      </a:lt1>
      <a:dk2>
        <a:srgbClr val="ed145a"/>
      </a:dk2>
      <a:lt2>
        <a:srgbClr val="9e005d"/>
      </a:lt2>
      <a:accent1>
        <a:srgbClr val="007dad"/>
      </a:accent1>
      <a:accent2>
        <a:srgbClr val="8cc63f"/>
      </a:accent2>
      <a:accent3>
        <a:srgbClr val="ffd400"/>
      </a:accent3>
      <a:accent4>
        <a:srgbClr val="00aaad"/>
      </a:accent4>
      <a:accent5>
        <a:srgbClr val="d7df23"/>
      </a:accent5>
      <a:accent6>
        <a:srgbClr val="fcaf17"/>
      </a:accent6>
      <a:hlink>
        <a:srgbClr val="ffffff"/>
      </a:hlink>
      <a:folHlink>
        <a:srgbClr val="ffff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JBZ licht">
  <a:themeElements>
    <a:clrScheme name="JBZ kleuren">
      <a:dk1>
        <a:srgbClr val="000000"/>
      </a:dk1>
      <a:lt1>
        <a:srgbClr val="ffffff"/>
      </a:lt1>
      <a:dk2>
        <a:srgbClr val="ed145a"/>
      </a:dk2>
      <a:lt2>
        <a:srgbClr val="9e005d"/>
      </a:lt2>
      <a:accent1>
        <a:srgbClr val="007dad"/>
      </a:accent1>
      <a:accent2>
        <a:srgbClr val="8cc63f"/>
      </a:accent2>
      <a:accent3>
        <a:srgbClr val="ffd400"/>
      </a:accent3>
      <a:accent4>
        <a:srgbClr val="00aaad"/>
      </a:accent4>
      <a:accent5>
        <a:srgbClr val="d7df23"/>
      </a:accent5>
      <a:accent6>
        <a:srgbClr val="fcaf17"/>
      </a:accent6>
      <a:hlink>
        <a:srgbClr val="ffffff"/>
      </a:hlink>
      <a:folHlink>
        <a:srgbClr val="ffff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JBZ licht">
  <a:themeElements>
    <a:clrScheme name="JBZ kleuren">
      <a:dk1>
        <a:srgbClr val="000000"/>
      </a:dk1>
      <a:lt1>
        <a:srgbClr val="ffffff"/>
      </a:lt1>
      <a:dk2>
        <a:srgbClr val="ed145a"/>
      </a:dk2>
      <a:lt2>
        <a:srgbClr val="9e005d"/>
      </a:lt2>
      <a:accent1>
        <a:srgbClr val="007dad"/>
      </a:accent1>
      <a:accent2>
        <a:srgbClr val="8cc63f"/>
      </a:accent2>
      <a:accent3>
        <a:srgbClr val="ffd400"/>
      </a:accent3>
      <a:accent4>
        <a:srgbClr val="00aaad"/>
      </a:accent4>
      <a:accent5>
        <a:srgbClr val="d7df23"/>
      </a:accent5>
      <a:accent6>
        <a:srgbClr val="fcaf17"/>
      </a:accent6>
      <a:hlink>
        <a:srgbClr val="ffffff"/>
      </a:hlink>
      <a:folHlink>
        <a:srgbClr val="ffff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090400 JBZ Powerpoint POS 2</Template>
  <TotalTime>588</TotalTime>
  <Application>LibreOffice/7.4.7.2$Linux_X86_64 LibreOffice_project/40$Build-2</Application>
  <AppVersion>15.0000</AppVersion>
  <Words>640</Words>
  <Paragraphs>189</Paragraphs>
  <Company>ICT Beheer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12:39:38Z</dcterms:created>
  <dc:creator>kookcentrum</dc:creator>
  <dc:description/>
  <dc:language>en-US</dc:language>
  <cp:lastModifiedBy>Rianne Nooijen</cp:lastModifiedBy>
  <dcterms:modified xsi:type="dcterms:W3CDTF">2012-11-05T18:37:06Z</dcterms:modified>
  <cp:revision>56</cp:revision>
  <dc:subject/>
  <dc:title>Onderwerpe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Diavoorstelling (4:3)</vt:lpwstr>
  </property>
  <property fmtid="{D5CDD505-2E9C-101B-9397-08002B2CF9AE}" pid="3" name="Slides">
    <vt:r8>34</vt:r8>
  </property>
</Properties>
</file>