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CAMERA.WAV" ContentType="audio/x-wav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C6B0-A45B-4F36-986B-BA432F784B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25A8-4348-4A5A-9146-80BBE387D1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711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5840" y="4365360"/>
            <a:ext cx="502632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1144440" y="4500720"/>
            <a:ext cx="498960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ekte brengt veelal een verminderde inname van en een verhoogde behoefte aan voeding met zich mee. Daarnaast treden er als gevolg van ziekte vaak abnormale verliezen op. - Dit zorgt voor een verminderde voedingstoestand. - Een verminderde voedingstoestand kan tot complicaties leiden. Ook het minder snel genezen van een ziekte of operatie is een complicatie. - Deze kunnen uitmonden in ziekte enz. - Zo raak je in een steeds slechtere condit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chte voedingstoestand - darmen worden niet goed gevoed - atrofie van de darmwand en translokatie van bacteriën waardoor voeding minder goed wordt opgenomen - achteruitgang van de voedingstoestand van de darmen en het lichaam - verslechtering darmwerking - enz. en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cc"/>
                </a:solidFill>
                <a:latin typeface="Calibri"/>
              </a:rPr>
              <a:t>Bij ondervoeding significant ook  lagere beoordeling voor kwaliteit van leven:</a:t>
            </a:r>
            <a:r>
              <a:rPr b="0" lang="nl-NL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Studie in 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eden 1995 (J. Larsson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 et al.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) bij 199 pat. bleken volgende aspecten gerelateerd te zijn aan voedingstoestand: somatische gezondheid (o.a. lichamelijke gezondheid, invloed van ziekte op het lev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sychologische aspecten (o.a. algemeen welzijn, vermogen om te concentreren, denken, herinneren) activiteiten (o.a. zelfzorg, mogelijkheid om actief leven te leiden) gemoedstoestand / stemming uithoudingsverm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 deze neerwaartse spiraal kan aan de cliënt/ patiënt het belang van een goede voedingstoestand worden duidelijk gemaakt. Het kan helpen de cliënt/ patiënt te stimuleren een voedingstherapie vol te hou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A16-B1AA-4124-8364-DE9B56C1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274-ECA5-44EE-99CA-9C79AF21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75365-574B-4A4A-B0E5-AE4BA269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F42DC-E61F-4455-8DFB-132E875F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11EF5-1734-4E0F-8060-9998BA94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23B7A-143F-4E36-B762-6832622B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05627-E6A3-49B1-9FD8-EB4D9F85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393D35-844F-4A82-99A6-3DC90C86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E8784-EBE1-46B0-ACD6-D25F7586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1E25B-07A3-48E8-8D21-04F9319C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EB397-19E3-47BA-A298-CC8A211B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8BC5D-EDF7-44F2-B667-67B377DA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DA0-D497-4F4E-8E3E-5FF99C64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A63A0-CA3C-43B0-892D-BF8CEFDF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DF4A7-A410-4559-84D7-71BEC47D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ED919-B854-4F3A-BCD4-544939E0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33350-5C4D-4B48-BB04-201A0AC2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8F2FA-E6A2-4DBE-BA48-2F5E6E7F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7DC20-AFB2-4272-A3A8-4748E5E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7BA7B-1AC6-4ECE-8860-8F233E0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08AED-C43D-4207-B1C4-CF7637CC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12E66-E309-4538-90A4-76DF39B8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66571-7920-4AF1-A3C2-1FF97FA3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287-C41C-4F54-8087-27F42F75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19D1D-0D9E-4806-BA79-817043F5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FFA7C-702A-4556-9EB3-C1D276D8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42B38-5C7B-4D78-B15A-56B79441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08FAB-49B9-4C36-8CF8-19189150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36B34-498A-4063-88A0-806B5F76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B6B11-9E47-4CEE-9399-44B0C263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D3664-9A47-404B-AA79-CCB7E703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87876-4D8A-4BEE-929A-708151DD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E0EF1-7BC3-435C-AFD2-30E07803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411E3-B86F-49E7-8B0B-67790F0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6401-77BB-4350-9E74-DDA6284A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0DD47-66AE-43E7-B966-0350011D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6884D-6C70-40DA-85C3-DB1E484B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D6103-A361-44C0-BBD0-0C8219A9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F3583-AC08-47DE-B10F-F1B8A800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CB33E-8BB8-40AF-96E0-20130972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E62A8-3AE1-46AD-9246-C7AB603C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B7792-F707-48BE-92DE-A389C57B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3A5E7-E45B-411C-95C7-B74BBEFA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BE7A3-8491-49F1-8D04-917EA9D2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265B3-EF62-442D-8CFD-1C6B3571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4144-E919-45C3-A945-29DBA5DC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704BC-F2E1-46C1-837A-DEC1B5FC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18230-751B-4575-B88A-5327BA1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D5A64-751B-499D-B9A3-DA5CDC4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9874F-DA46-40FA-8D42-E1EC7A0C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5022F-9A65-437F-A383-480CE18E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1D83F-6E8A-4E91-8408-434225DF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362E7-F749-4238-97CD-DDA2C636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73156-6E9E-4D7E-8440-7993E912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9DF59-EFA8-4C76-A6F7-3D74FCA2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4A121-D172-47E1-B361-4C5A7196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8395-4CF5-4B1A-BF70-F9B94282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AADD0-1609-42ED-91E6-B742DCA3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EC2AB-DD35-4231-AD07-7120787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B915F-F0FE-4E0A-9EA6-F118F733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3AFC3-1935-424E-81CC-8FC51AAD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860F6-06D2-456F-BBB6-032D85CD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2E538-27F6-44BA-829C-6FF00567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77DD7-42EB-46F9-BCE9-49BCB54D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38E6-7100-4227-90AE-B24B056B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F2DB-77E7-42B2-BE92-2D685596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7B5F-A052-49B1-98CB-546B6942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1D34-D715-4A1F-9B17-95CD2A2E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B2A-8EEF-406F-9243-D43E51D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4D7F-5839-4A6B-9866-0BC4282A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7054-FC29-4198-9122-56B63367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3A15-F2E5-4024-8331-23DDEE5C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DF88-A094-4C6F-B3F4-3BD99836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61A6-40EC-48EE-B513-C5BF3717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FFAE-48F6-4816-AC50-6D1AED89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A3A7-BC3E-4421-92FF-507C556A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EA3B-A99D-4B5C-BAF4-050A336F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3A18-EAC9-46E4-AC96-787FCBCB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F8FC-09B3-46CF-B7E5-D5F276E3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845-C53F-4DE0-9CA7-D971F0AB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B103-B5A6-4789-9BEF-FAEB6483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38BD-AD2F-4152-A13F-F757DCBA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7F70-4A28-4330-A972-B24376B7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49FD-5079-4581-8F5A-39DB363B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C43A-6210-4396-A5D8-59B01F43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8EDB-46ED-4E33-8A63-0E98BB93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EF66-E4C6-428D-B192-6EBD99A8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E79FA-534B-49EA-ABC6-07BF283B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C75F-2A49-4428-8E52-55C305A9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8A15-B6E4-4044-B2A3-688BC065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676-9D9F-4DC6-ACC8-E5BA34E4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3EB2-3CDB-49F3-950A-04D8197A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7F2C4-AF9A-45E9-A1D1-955AF23D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9FB4F-6A53-4C7B-9ACB-FBF507A0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C4B7-AB39-48E3-BEF4-54B0455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6E0AE-E9C2-4921-830C-4AB295E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92D9-8403-4603-BE80-25280568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D6BA9-5240-47B3-915C-E898ADFA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30DA7-2E67-45D2-92BF-165A7BB6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43D87-AEEC-4D55-8C93-C356BDFC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565CE-2C91-4B6D-BE00-388D290F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867-29BA-476D-85F9-FAFA0944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79E18-4DF7-4710-97A1-C1C918FC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FF573-320C-4D85-AF13-05185E79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28B25-AE68-424E-B9E3-58658796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5D93-FCC2-43D2-891E-CD2C10FF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C2DDD-D242-488B-81FB-C93063A5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8C44F-B612-4084-8E9A-8D513DF3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86DD-D417-4995-8170-B4AE7CEB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78F6-8396-4246-965E-960846C5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5E1F9-B22D-4C0D-940F-F37970B6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392AB-9C2A-488A-862E-6BF46F5D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E9B-EF88-4F22-AC15-21274F07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2C11A-1105-4E1D-9273-75D0D058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4560-E665-4680-8756-F13571FA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409C6-DCF8-41CC-924D-B9EE4A0A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64AF-67C1-448C-8AE2-303FC82F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44147-D570-428A-992F-A2805FBB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B38B7-5626-428A-A550-4077AFC1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86118-1CCF-4EB0-A327-C7ABE75B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C0106-0C5F-4D59-BF31-0BB2DA1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C0946-FF16-4796-9352-2BBD3C62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059C2-6691-4506-9EBA-A2D9D401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81D-EF05-4C23-BCE5-077A21FF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B517A-4473-461A-A20A-AC857267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8D044-4436-4DD3-B7F8-D710FC79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B9210-FE55-4A84-8B2E-DDE8C778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B0DCD-F7FD-44F1-BDA2-8DF990A8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C7053-AEBC-4BD0-A33E-8D9DD1A6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235FE-33F7-4EE1-855B-427978CC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34936-C764-4644-96EA-A3BD9846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2F736-0207-4D7F-9398-E331AFE3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1F80D-B13A-4B10-A2BC-840D0EFA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51986-F62C-4B2F-9E7A-9F60C998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A78-FABF-4312-9845-F282D453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48798-1DBF-450C-92A4-965D4AA9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FF326-8DAC-417D-9E65-AA99A3B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223BC-FEAA-4419-B284-D1FF28CF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33C99-8CBB-486C-99A1-0CB8086E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FC259-D5C8-4DBF-B1F8-3683B15D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8D76F-FCFD-424D-B385-6700FB08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DC91B-CB8D-4A10-A4B2-8F711195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91B7A-1EF6-4475-8A75-4737B9A6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52BFC-114C-423B-B7B5-A4ADF623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A8599-78CA-4F01-9449-5E0BEAE4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CD8-49E0-4C5B-9757-9961A18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ED210-33B3-460A-BA83-4E5F6CD3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EE35F-0FFF-4106-8127-86375040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22926-8517-45E9-9C34-510C954E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3063B-E235-424E-9248-8C7191A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4079D-72CB-46CB-9BFD-8769E1D0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BB200-6E1D-44B7-850D-407776FC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85DAB-E6E2-4DFE-936E-07DBAA39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3887D-4B1D-4CFC-85E4-72908D8A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0203D-5282-4D23-A62F-1A3DE76A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D6717-27B5-461D-B7EB-0CE20B30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ACCB-533A-4A35-9815-43C5507F030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5C44-0EF4-4396-BD29-B76E05D25CF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4572-84F7-4838-AFC0-A7ECC9C690B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8D6B-B1AD-4A76-BC49-E62FED139C25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EC1B-BADA-4658-8A16-16EDACDFD04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BF5E-75FB-43B2-8F75-557BE4A1245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8516-950C-4D72-808D-B01C35B41D62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5C25-868F-4EA3-A89D-165478DF43E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83FA-DAEC-4E4A-AC03-ACAA91105C9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9220-A70F-4960-9BAF-AC76807463C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EE4-EC98-448C-AFE7-7A9181A9F8AA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87F4-BE21-4D7A-9D11-80853647886F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C86D-0E91-44F2-8905-9FCC9257A78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S DIT EEN PROBLEEM IN NEDERLAND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Ondervoed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 e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inname van 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opname van voeding in de dar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behoef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verliezen van energie en eiwit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oedingsadviezen bij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nergie-eiwitverrijkt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3 maaltijden en 3 tussenmaaltijden per d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im boter en beleg op het broo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le produ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eg slagroom en suiker toe aan pap, vla, toetjes en dran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rijke tussendoortjes zoals milkshake, ijs, roomtoetje, roomkwar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ieet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mt persoon niet aan met energie-eiwitrijke maaltijden en tussenmaaltijden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etdrinkvoeding zoals nutridrink 2 of 3x per dag (400 kcal en 20 gram eiwi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ukt dit ook niet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achtelijke sondevoeding of 24 uur sonde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Meetbaar maken van ondervoeding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gschaal,mn gewichtsverloop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ndknijpkracht meten en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uidplooimet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xame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linische bli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C:\Users\Mies\Downloads\ondervoeding\images.jpg"/>
          <p:cNvPicPr/>
          <p:nvPr/>
        </p:nvPicPr>
        <p:blipFill>
          <a:blip r:embed="rId1"/>
          <a:stretch/>
        </p:blipFill>
        <p:spPr>
          <a:xfrm>
            <a:off x="2195640" y="1773360"/>
            <a:ext cx="4680000" cy="2950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3" descr="C:\Users\Mies\Downloads\ondervoeding\Handknijpkracht-meten-fysiotherapeu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e en acute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8" name="Picture 4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921040" cy="4114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is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lichamelijke toestand voorkomend uit een tekort aan voedingsstoffen, waarbij sprake is van een verminderd biologische func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orzak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durig hong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behoefte bij ziekte en een geringe inname hierdoor(koorts, pij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grote verliezen bv bij diarree, br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energiebehoefte bv te snelle schildklierwer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ziekte een verhoogde behoeften, het lichaam is topsport aan het bedrij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n met een verhoogde behoef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ziekten zoals COP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armziekten zoals Crohn en Colit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rtfalen, nierzie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andwondpati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orexia  Nervo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coholis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udere mensen met dementie, eenzaam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volg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ing van algeheel function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name spierkracht(slikreflexen, kauwe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oeid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pressie en apath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weerstand en kans op infec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lechtere wondgenezing, slechter herst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eiachterstand bij kind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s op overlijden neemt to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nneer gaat iemand afvall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s datgene wat men eet niet voldoende is om het lichaam van energie te voor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name en verbruik niet in balans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 gaat zijn vetreserves en spiermassa aanspreken en verbrui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eerwaartse spira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Ziek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nam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mplicatie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ehoef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erliez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lech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oedingstoestan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Line 4"/>
          <p:cNvSpPr/>
          <p:nvPr/>
        </p:nvSpPr>
        <p:spPr>
          <a:xfrm>
            <a:off x="7315200" y="266688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"/>
          <p:cNvSpPr/>
          <p:nvPr/>
        </p:nvSpPr>
        <p:spPr>
          <a:xfrm>
            <a:off x="7696080" y="388620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ject 2" descr=""/>
          <p:cNvPicPr/>
          <p:nvPr/>
        </p:nvPicPr>
        <p:blipFill>
          <a:blip r:embed="rId1"/>
          <a:stretch/>
        </p:blipFill>
        <p:spPr>
          <a:xfrm>
            <a:off x="2959200" y="2438280"/>
            <a:ext cx="2820960" cy="265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Georgia"/>
              </a:rPr>
              <a:t>ENERGIEBALANS = INNAME + VERBRUI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Herstel &amp; Balans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2" name="Picture 4" descr="WEEGSCHL"/>
          <p:cNvPicPr/>
          <p:nvPr/>
        </p:nvPicPr>
        <p:blipFill>
          <a:blip r:embed="rId1"/>
          <a:stretch/>
        </p:blipFill>
        <p:spPr>
          <a:xfrm>
            <a:off x="2133720" y="2362320"/>
            <a:ext cx="4762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 kunnen wij ondervoeding herkenn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bedoeld veel afvallen in korte tijd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6 kg in 6 maanden of 3 kg in 1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eetlust afgelopen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lasticiteit van de huid verminder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pliggende o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ffe haren, nagels breken sn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7:42:13Z</dcterms:created>
  <dc:creator>Rianne Nooijen</dc:creator>
  <dc:description/>
  <dc:language>en-US</dc:language>
  <cp:lastModifiedBy>Rianne van Heertum</cp:lastModifiedBy>
  <dcterms:modified xsi:type="dcterms:W3CDTF">2015-02-10T08:26:19Z</dcterms:modified>
  <cp:revision>6</cp:revision>
  <dc:subject/>
  <dc:title>Ondervoeding</dc:title>
</cp:coreProperties>
</file>