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media/image2.wmf" ContentType="image/x-wmf"/>
  <Override PartName="/ppt/media/CAMERA.WAV" ContentType="audio/x-wav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1D38-2988-465B-ACCA-85E4AD5D8F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D433-CC73-4D16-B9A4-81E07E9CD1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711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5840" y="4365360"/>
            <a:ext cx="5026320" cy="43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1144440" y="4500720"/>
            <a:ext cx="498960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iekte brengt veelal een verminderde inname van en een verhoogde behoefte aan voeding met zich mee. Daarnaast treden er als gevolg van ziekte vaak abnormale verliezen op. - Dit zorgt voor een verminderde voedingstoestand. - Een verminderde voedingstoestand kan tot complicaties leiden. Ook het minder snel genezen van een ziekte of operatie is een complicatie. - Deze kunnen uitmonden in ziekte enz. - Zo raak je in een steeds slechtere condit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chte voedingstoestand - darmen worden niet goed gevoed - atrofie van de darmwand en translokatie van bacteriën waardoor voeding minder goed wordt opgenomen - achteruitgang van de voedingstoestand van de darmen en het lichaam - verslechtering darmwerking - enz. en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cc"/>
                </a:solidFill>
                <a:latin typeface="Calibri"/>
              </a:rPr>
              <a:t>Bij ondervoeding significant ook  lagere beoordeling voor kwaliteit van leven:</a:t>
            </a:r>
            <a:r>
              <a:rPr b="0" lang="nl-NL" sz="1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Studie in 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weden 1995 (J. Larsson</a:t>
            </a:r>
            <a:r>
              <a:rPr b="0" i="1" lang="nl-NL" sz="1200" spc="-1" strike="noStrike">
                <a:solidFill>
                  <a:srgbClr val="000000"/>
                </a:solidFill>
                <a:latin typeface="Calibri"/>
              </a:rPr>
              <a:t> et al.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) bij 199 pat. bleken volgende aspecten gerelateerd te zijn aan voedingstoestand: somatische gezondheid (o.a. lichamelijke gezondheid, invloed van ziekte op het lev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sychologische aspecten (o.a. algemeen welzijn, vermogen om te concentreren, denken, herinneren) activiteiten (o.a. zelfzorg, mogelijkheid om actief leven te leiden) gemoedstoestand / stemming uithoudingsverm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 deze neerwaartse spiraal kan aan de cliënt/ patiënt het belang van een goede voedingstoestand worden duidelijk gemaakt. Het kan helpen de cliënt/ patiënt te stimuleren een voedingstherapie vol te hou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B577-97A1-4155-BC12-AEA93747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7B2-67E7-41E3-9DB3-C457F084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3F27D-5E72-4FA9-B66F-3E858572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0327C-3757-488D-8CC0-DF51F476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A93C0E-2908-4C95-8E3D-40396A24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0C6F0-5BA8-4F17-AFDF-98D1E4BF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FB9723-2C4A-4BA1-882B-54786EC7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BE7570-7076-4D57-BA64-70477F38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6E8F5-129B-415B-87B8-1D90710C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B47F7A-9638-4A42-B54E-D7967C2B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9D7D5A-172D-4D94-96CC-61AEFF79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4C58D1-7F01-4589-B6B1-EF7B2E06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0738-29B9-4B04-9EF1-4482D04B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666498-BE6E-42D2-B4F7-717AAB5A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BA1971-375C-40BC-B556-43FBA5ED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54228F-1D84-4CE4-AD1E-9A862D52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6F97D-86AB-4B16-95DC-3630C813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B86564-BD92-46BD-8068-2A6D8664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401A7C-E59E-4CBF-8A01-6AA293CC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063E04-42E4-4F8B-A2B3-129845F5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A5829F-5569-46EF-B19D-DBC34B84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4C5979-4BB7-4365-9970-DFCEF129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CEBCA-BDA1-4030-8FEF-DA71DC79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8553-8D90-46C7-B43B-E32AF4E5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06436-A50D-4009-8FCC-EB9D2887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0679C-C7D3-4F4D-B89B-4EC8AE69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628D3-6289-478E-B8E0-EAD31D42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26D03-81B2-41A9-8527-524F9292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91964-9FA3-4D85-8747-43A96C1F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284A7-D631-4EBB-9E6C-7F421C56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6F1CC-D825-4B9E-B837-80368210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629EC-7EB4-4CBB-8144-3D4E07FC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EB584-9196-48E5-A492-55432E97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61DC4-B533-4DB1-B71A-7403E874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E3A5-3ADE-43F8-BCF7-42D967CE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937A6-D047-4C11-82B2-F06A5149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1ADD8-EA2B-4051-912F-5AE5D2CD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BA5B1-230F-4B63-BAA2-77A3042A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751A5C-0CA6-476E-BE70-F0E18F5F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74290-5687-4C5E-9334-3D8EB164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701966-A4E9-4189-BA37-6D928F34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369A05-8300-43DD-9648-CDDCCA62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15258-3377-492B-B971-CC7017FF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AECBE-664A-444B-8489-72164A91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5D3FDF-F78A-458B-94BE-1729F230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49B2-64CD-4311-95F9-1CEAB2A6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0E06A-74A2-437F-A957-31573CF6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20728A-FAB3-4B6C-8A8B-FAE5444F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16BA11-9190-4191-9DCA-3DE829BD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EC507-1D1C-430D-A706-195DBC77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E4FC7E-C430-45A7-8A5C-BC29D29C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8C26D-5C10-4B01-97C9-5B3160A2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6C87A6-E490-4E57-A698-E015E208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DDC4A4-91B1-47ED-8DD6-A757B1AE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9596F2-2A11-4A90-8ABD-03164D5D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CFBC0D-C9D1-4366-A3E8-9F3F0EA0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C442-1377-4A5C-B614-F760D6D5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EFDF7A-8745-47FC-8DE5-F2686C07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C4C15C-2787-48CF-85D6-0EB67A92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E70D8F-5862-4FF4-B0C3-2256DF49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0FE0C0-BC58-4272-9FD1-76D13888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57BA0-EFE6-4859-A2FA-A887B622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34F576-82E4-48DE-A2BC-B9DB67AC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7F8ED-6205-48C5-B9DC-05D8C0DF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1E8F-8F30-43B1-A57D-F229A102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07BA-678A-483B-BD91-A4049A51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1414-85AB-4B9E-80B4-0B9F6F77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F10F-B2DA-42F7-9509-7BAF5EC6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162E-E750-417D-87ED-47A447D9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4580-FE68-4EDB-A7CA-3DB5026A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92FC-47B4-435E-A4E8-221DCAD9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A8E7-A59C-40BD-8886-F087D222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1C11-A8F9-4278-9451-28211C73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A6DA-FC7C-4878-A8D0-8BD2DEF4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B2F01-6BC0-49AA-B0EC-C5FF8C26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AC7D4-F708-4F37-B557-AA460DF7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B7F28-4901-472D-8A60-A9592BAB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4E209-5E0F-47DD-8353-370C26D6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39755-0CD5-4941-875C-935F71C8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639-48DC-4992-BC4A-D2D0559D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6B71E-9E5A-4AB6-A644-20B46211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CE661-F9D1-4D2E-B516-2CB03DD8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12789-5665-4CE3-AC34-F0D4D0A5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1C03A-FE9C-4220-BC05-59C098E8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3022D-50EC-4C45-967E-9893FEF1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88F75-9164-4627-9FA8-114DBA26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AA79C-929A-4E19-B183-EB9D4429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8D5B3-8781-41B7-826F-B14A7760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974E3-8961-4E6F-AB89-525847B3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879A9-1C17-4D50-8137-56693D9B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F0B1-017C-4768-BF7F-04C96E82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122B6-07D1-4FE2-8820-49831266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ADF42-4FDE-4163-9A55-6A027E60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9FF9B-63FD-4FE4-9CE0-CE037591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3284E-3111-47DF-999C-95ED28DC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A0582-1CC4-428C-9A6B-2E5A25C4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3DE7F-A8BA-43FC-B45F-C31B3C21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3244A-F59D-4679-9500-74AB51F3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D7070-F651-4740-8ED4-094AE3CF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D4E88-8E70-4A07-8801-289BC11A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938EC-F8CB-43B2-ABDB-AEEC6815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F545-2F09-4B4A-A81C-4FED59D5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257C0-81DA-4AF0-8755-E197A6AC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144B1-03D3-407E-B349-E1AD804E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12839-76F7-424D-8081-BEFA2714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8CD23-8B96-4C7F-B604-943A567A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261BA-01F6-4D0E-95AD-2B91D267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4BCE9-6ACD-4B72-9381-7164DA17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DF7DD-7B58-4804-8B5A-DDA3948A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4A74E-3F37-4CA6-81A5-C3280FE6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2EA01-5A7C-4D56-B58F-756E06A8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15A67-7253-4677-A264-78ED2990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4069-C0FD-477F-A511-BED545EF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84AF0-D3E5-4C1B-A4A6-A6F9B640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3D8BD-3D7A-4C5B-B4E8-227538DD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E4679-DD0A-4064-A5D2-E4874B22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CDBA5-1025-458A-8B43-C38EC852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B2102-3152-4320-A655-549F72D6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FD4B7-C416-4B8A-A98B-20284B2B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2D7B2-DC45-462D-9182-DA220504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9050B-F7BF-418D-BBED-3C4949F3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63AFD-48D0-48C9-B0EE-EFB35E7E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D52C7-40F9-4C02-A98E-D4A08401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D79A-6161-4B22-BD5F-28F118FF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674A2-5921-468E-85B0-94974F5D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CC1BB-CCC0-412D-BB77-ED5166D5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49E05-3901-404F-A91D-EC316020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93174-23DC-4612-8D80-C2DEC6C8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749C5-06D8-4838-9E63-AF43BED3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89695-029A-45D6-9557-ED4ED7A4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8BF86-115D-4FC3-A131-FB87FF5D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281A8-41AF-45CC-9B03-F72ACDAA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1FFF4-CE37-499E-85F2-68821223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A6E31-5CCC-44AA-B2AC-ABE88999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505E-8468-4A1D-A9BB-0F4CE398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DE3AA-0AF4-4D7D-A8D1-D8010196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D716F-8116-4FED-9945-B2215C0A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0C474-9D1D-40F8-9731-108BAF02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6DB67-3D03-4582-822B-B4828173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3C96D-DDEA-47EC-B2A3-0222AE3F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64987-282F-4208-8531-2A4321D8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8EBA0-03AB-400A-9F0E-455CAC02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2501A-DB1F-4338-B66F-48F87160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09756-B723-4B9B-BE4E-922F8A96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E54E1-7D9B-41C0-950B-58A0831C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C377-2983-4DE3-9DE8-BA4A7464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BAEBB-14E3-4058-AAEE-3457D0DF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4220D-66CC-4BA0-AA3E-C436E27A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EA4EE-EDA5-4A32-8ED5-A77BE166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79CF6-1235-4202-9E19-70B1A4CB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9640E-E660-4760-B80E-F2EF8349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5BCD0-4DB4-40F1-BA4C-84C39337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FC472-75FE-46FD-B60D-E46D939D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904A9-4B7C-4FEA-893D-11196CC3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F608B-732D-4B16-936F-CA90E3E1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D2120-7A97-47D9-AD19-7CB1873D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704F-4995-410D-81AA-6CBC101B3DCE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12E4-A29D-428A-B30B-2B27D434E052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542D-FD62-4982-893A-19EF52EAA00D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D320-54DE-41A0-B7C7-426755D3C55F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3F09-3835-49BE-AA03-E55F9B3A778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7C6B-C69C-4922-A155-BF5906245EB7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A2BE-5DF1-42CB-9355-BCA6D70D1A19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FD73-BDC1-4678-9B13-931A89E6E43F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544C-64AF-40A1-9E3B-BEB3D1750C04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95F6-D7A5-4235-A0F4-8FE0F4716CA3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540A-A7F9-4039-840F-1D1B7EA5C537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7087-E469-440B-AB0B-CD67658E8B98}" type="slidenum">
              <a:rPr b="0" lang="nl-NL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4112-C632-4164-94DD-5E56464AC069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646b86"/>
                </a:solidFill>
                <a:latin typeface="Georgia"/>
              </a:rPr>
              <a:t>IS DIT EEN PROBLEEM IN NEDERLAND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Ondervoeding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Ziekte en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de inname van voed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de opname van voeding in de darm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hoogde behoef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hoogde verliezen van energie en eiwit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oedingsadviezen bij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nergie-eiwitverrijkt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3 maaltijden en 3 tussenmaaltijden per da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im boter en beleg op het broo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le produk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eg slagroom en suiker toe aan pap, vla, toetjes en dran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rijke tussendoortjes zoals milkshake, ijs, roomtoetje, roomkwar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dieet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mt persoon niet aan met energie-eiwitrijke maaltijden en tussenmaaltijden dan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ieetdrinkvoeding zoals nutridrink 2 of 3x per dag (400 kcal en 20 gram eiwi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ukt dit ook niet dan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achtelijke sondevoeding of 24 uur sondevoed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Meetbaar maken van ondervoeding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eegschaal,mn gewichtsverloop vol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andknijpkracht meten en vol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uidplooimetin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xame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linische bli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252360" y="392040"/>
            <a:ext cx="8639280" cy="6086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C:\Users\Mies\Downloads\ondervoeding\images.jpg"/>
          <p:cNvPicPr/>
          <p:nvPr/>
        </p:nvPicPr>
        <p:blipFill>
          <a:blip r:embed="rId1"/>
          <a:stretch/>
        </p:blipFill>
        <p:spPr>
          <a:xfrm>
            <a:off x="2195640" y="1773360"/>
            <a:ext cx="4680000" cy="2950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252360" y="392040"/>
            <a:ext cx="8639280" cy="60865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3" descr="C:\Users\Mies\Downloads\ondervoeding\Handknijpkracht-meten-fysiotherapeu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Chronische en acute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98" name="Picture 4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2921040" cy="41148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30006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is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n lichamelijke toestand voorkomend uit een tekort aan voedingsstoffen, waarbij sprake is van een verminderd biologische func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Oorzaken van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durig honger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 een verhoogde behoefte bij ziekte en een geringe inname hierdoor(koorts, pij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 grote verliezen bv bij diarree, br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 een verhoogde energiebehoefte bv te snelle schildklierwerk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 ziekte een verhoogde behoeften, het lichaam is topsport aan het bedrijv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Ziekten met een verhoogde behoeft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ank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ziekten zoals COP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armziekten zoals Crohn en Colitu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artfalen, nierziek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randwondpati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norexia  Nervos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lcoholis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udere mensen met dementie, eenzaamhei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Gevolgen van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ing van algeheel functioner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name spierkracht(slikreflexen, kauwe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oeidhei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pressie en apath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de weerstand en kans op infect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lechtere wondgenezing, slechter herst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roeiachterstand bij kinder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ans op overlijden neemt to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nneer gaat iemand afvall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ls datgene wat men eet niet voldoende is om het lichaam van energie te voor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name en verbruik niet in balans 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 gaat zijn vetreserves en spiermassa aanspreken en verbrui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Neerwaartse spiraa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09120" y="16002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Ziek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nnam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omplicaties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ehoef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Verlieze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lech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voedingstoestand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Line 4"/>
          <p:cNvSpPr/>
          <p:nvPr/>
        </p:nvSpPr>
        <p:spPr>
          <a:xfrm>
            <a:off x="7315200" y="2666880"/>
            <a:ext cx="0" cy="29700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5"/>
          <p:cNvSpPr/>
          <p:nvPr/>
        </p:nvSpPr>
        <p:spPr>
          <a:xfrm>
            <a:off x="7696080" y="3886200"/>
            <a:ext cx="0" cy="297000"/>
          </a:xfrm>
          <a:prstGeom prst="line">
            <a:avLst/>
          </a:prstGeom>
          <a:ln w="50760">
            <a:solidFill>
              <a:srgbClr val="0000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Object 2" descr=""/>
          <p:cNvPicPr/>
          <p:nvPr/>
        </p:nvPicPr>
        <p:blipFill>
          <a:blip r:embed="rId1"/>
          <a:stretch/>
        </p:blipFill>
        <p:spPr>
          <a:xfrm>
            <a:off x="2959200" y="2438280"/>
            <a:ext cx="2820960" cy="2654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6477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00"/>
                </a:solidFill>
                <a:latin typeface="Georgia"/>
              </a:rPr>
              <a:t>ENERGIEBALANS = INNAME + VERBRUI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Herstel &amp; Balans</a:t>
            </a:r>
            <a:br>
              <a:rPr sz="4200"/>
            </a:b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2" name="Picture 4" descr="WEEGSCHL"/>
          <p:cNvPicPr/>
          <p:nvPr/>
        </p:nvPicPr>
        <p:blipFill>
          <a:blip r:embed="rId1"/>
          <a:stretch/>
        </p:blipFill>
        <p:spPr>
          <a:xfrm>
            <a:off x="2133720" y="2362320"/>
            <a:ext cx="4762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oe kunnen wij ondervoeding herkenn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bedoeld veel afvallen in korte tijd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6 kg in 6 maanden of 3 kg in 1 ma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de eetlust afgelopen ma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lasticiteit van de huid verminder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iepliggende o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ffe haren, nagels breken sn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7:42:13Z</dcterms:created>
  <dc:creator>Rianne Nooijen</dc:creator>
  <dc:description/>
  <dc:language>en-US</dc:language>
  <cp:lastModifiedBy>Rianne van Heertum</cp:lastModifiedBy>
  <dcterms:modified xsi:type="dcterms:W3CDTF">2015-02-10T08:26:19Z</dcterms:modified>
  <cp:revision>6</cp:revision>
  <dc:subject/>
  <dc:title>Ondervoeding</dc:title>
</cp:coreProperties>
</file>