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4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ftr" idx="41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 type="sldNum" idx="42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0FBF-6EF3-4B0D-BF68-CAACFB7F6FC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9ED6-9222-4A88-B078-B42A4FCEE67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nwezigheid doornemen met de patie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F542-4B1D-4D48-B778-0C36C07CC7B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zijn smeersels voor het brood en melkproducten waaraan plantenstanolen of sterolen zijn toegevoeg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is een waardevolle aanvulling. Bekijk het in uw totale vo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inder verzadigd v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r bewe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D911-A58D-4329-BB57-E3BB5A2859E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holesterol is een vetachtige stof die het lichaam nodig heeft als bouwstof voor lichaamscellen en hormonen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Zonder cholesterol kan het lichaam niet goed function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root gedeelte maakt het lichaam zelf aan en een klein gedeelte komt uit de v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itleggen dat als het om cholesterol gaat dan gaat het om het cholesterol bij elkaar opgete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F902-0A97-4286-A023-6FE7775B5AD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inkervoeding bevat drie keer zoveel v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1544-858C-42A4-88EF-C66686009BA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gelmatig bewegen is goed voor de gezondheid, de kans op diabetes en overgewicht is klei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zond bewegen betekent elke dag actief zij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wijfelt u over uw gezondhei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Fysiotherapeut/ arts geeft adviezen over het juiste tempo, en het verkennen van uw grenz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ragen naar mogelijke manieren om te beweg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uinier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lokje om, stevig doorwandel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raplop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evig fiets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FA54-7DFF-4EB3-A459-3EA00F303E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wee verschillende soorten cholesterol HDL LDL choles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DL veroorzaakt gemakkelijk verstoppingen, slechte choleste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DL voert het teveel aan cholesterol juist a naar de lev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6C94-574C-4339-A9A9-64CFC7C633B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01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holesterolgehalte wordt gemeten met behulp van een bloedonderzo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wie is er een verhoogd cholesterol geme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ie kan oorzaken noemen van een te hoog cholesterol gehalt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eten van veel verzadigd v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eten van veel cholesterolrijk et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te hoog lichaamsgewicht (sommige processen veranderen in het lichaam waardoor het cholesterol hoger wordt vooral bij buikv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LDL wordt hoger terwijl het HDL lager wor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felijke aanleg: sommige mensen hebben erfelijke aanleg hypercholesterolem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mensen met Diabete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30820-DD82-43F9-ACF5-665E765F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0BA73-11EF-47F1-8786-75FA0768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6799E-416B-4DB5-A7FD-4880D419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27B0B-EB98-42E3-B32B-85BDBDBF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5C2AE-FA40-431A-81F1-2B7B3E43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17A43-2FB8-4D77-816A-49C77610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5523E-8852-44F2-B807-1AF58DB5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115E2-C03F-4546-B234-92E870A0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5DB69-1FAA-4180-A7E7-C9FAFDF3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CF992-BFBB-4589-9073-7FC45F3D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699C1-2ACB-4B4F-93F6-22674544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0CF4C-50AB-4089-9E64-E225A5C7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B6AF1-0FC4-48D9-983B-DE568309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47DC6-AD23-4D05-8162-6304099E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25697-3B14-490A-B710-072BDEDB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254B0-8B51-4430-A40E-41400601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D3454-DA09-4183-9716-2CC5FCE8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1381E-5F7C-4BEE-8360-6EF1A34B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5ED69-B2AD-496A-B500-6CE43A1B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2981E-095D-4F3F-8914-82A1012A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C79C8-37ED-48C2-8E73-50A230F9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6B7EE-A808-49BA-8D70-48584C7B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23BF1-5505-4652-8946-001DABC2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FAA67-265B-4401-BBEE-E2AD4E46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42895-5025-4530-B2C5-4EB81F03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28691-D075-4B50-A9C1-17F4B045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2CDA3-E860-4D96-9D2C-9AA54275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5D8D4-B9DE-4602-8E28-303324FD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DB12C-96BA-4C1E-8766-8444ED89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A74B6-7286-4501-A9F1-2DA89673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37DEC-6538-4F97-A362-CBFF78F3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B1B76-3E6F-45F6-8914-E9287D8A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9AFE3-8FCF-43AB-B4A2-324F8BE1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5EAF9-7D82-4826-A557-C9F98485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6F094-299B-4E51-9D6E-DC7490A4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2BD3C-24FF-4CEE-890E-588ED305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EFDE0-2418-43E5-85FF-3CEE49A4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C13EA-DA09-40CF-8FC1-7AB9751D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B5A0E-DB99-4857-AE81-13445A57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D9707-9095-4B37-BBAB-E275764D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DA0CD-E19E-4030-8AAA-37DFF7B5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8BE2A-5F12-4988-89DC-96E72D4A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A9925-98D5-4608-A095-471B5BAE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E6CAD-B137-423B-9620-FA0C853D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22A1D-F0DF-4AB0-9A50-C1DC208F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A8EE1-4495-459C-AF86-2B44DC5D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5268E-4458-4615-A51E-27B198C2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DA24D-1E0E-4977-A1F4-2CA7C8C4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4F7DA-F1B7-40C4-BC8E-863C2D96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688D1-5D17-4F68-92D8-C4D5C565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B0C45-965C-49F3-B81B-F4DA2C2E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76DC5-0DFE-4B1D-99B9-FC7A1A9F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94115-404B-4706-AF92-E3615F13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C4CA9-EEB7-4561-8511-4A1385AD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E72DC-9DE6-4A50-AC35-A5325A19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4D91D-186A-4B62-B61C-96774B1F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F42F2-637C-4E09-9F4B-E669F985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DBB51-DACC-41C7-B2E2-12B8A536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3D76E-792D-442A-815C-1A71A428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90F75-A4F3-418E-83C2-4F0D91C8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4EF0D-A53C-4ADF-8B12-CBBFBA4D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3AB01-ACA9-41E3-81C3-322D0E63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9AF0E-982B-4E0D-AC39-F1DADCBB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FFE6B-6A39-436E-9F13-A41752D2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870FB-2233-49DF-BD55-C220642B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E7FCC-519F-4C66-AD3E-8F15892B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69F6E-A618-4C08-B1F8-8B2222E7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CEF37-6EF8-4E21-AB81-DDCCCA35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EEE27-329F-4392-822C-EDD803AC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5194C-8FEB-47E4-83DF-BB65638A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18EF1-D210-4608-93EC-B3CE7D0D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5B554-8B55-4ACD-A691-2F2668B1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58197-129B-42FB-BAAC-C5E5CA66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627F3-285B-41DD-B766-C93BE9A6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3DFAA-1033-4798-8028-F086519F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ED383-92F0-40F3-BD97-7545DE31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63B9D-25AC-4680-9C90-845EBAA0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CCA1F-8603-447D-AE0C-447A8136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E1E88-0C52-4F84-B8EB-CFFD3A06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D2B35-2DF9-4B82-B27C-4971E246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E2C27-47E8-42DA-8352-D10B1F64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3909A-F96E-4DFC-ADC1-4D5C9A6E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0112F-C05C-4ECB-8628-5A5828D9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A8A38-795B-4EA0-84A3-5F6F9652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65FC1-9274-462E-907C-C12EA5F6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DB85E-B2B2-47A5-9AB1-92C55A45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115BB-BB03-49CF-B027-3873D435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648EE-4A7F-45D2-A99D-20B1B718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91168-9480-4A8B-8884-664E153C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FD2E4-B13C-44B4-AC3F-B48A470A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C36DF-FE13-4B33-AFFB-97668C69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062E5-48AB-4F45-B06A-21503A19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769A3-0E68-4820-917A-1C97A42C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651-4EF8-4290-BD73-2CB704E2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C41-84C7-4340-992C-B70BDA89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730-3404-4B8E-A877-32835E71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051-50A0-4D38-BDBA-310CAEEE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E57-185D-4F56-9D71-1442E3D4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3E7-52FC-4EAD-9C2B-7087FF6B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52D-30DC-4640-A333-8DC1F199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B08-C9A0-45FC-9D4F-D552E639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5B6-8A6E-4EB5-A95F-D607F3DC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B66-F716-47E9-9674-6A778618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D71-9881-4825-9FDA-D2DC518C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6F5-2326-46EC-AA0E-0FFAE35B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CD50-21A2-4906-AF8E-65A2F99C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0BC5-8F12-4F04-A8AD-E5D3AA60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A424-E197-4DD1-B1F5-E3717A2D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7FBE-6AF2-4B17-899E-01621B9E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7610-CC02-462E-8B22-73EF6C8C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7C03-6157-4FA8-BF41-3A4F46E5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B0F4-A3AD-4416-9D1A-06449A47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4195-804B-4D34-A2EE-5E2FE1CD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2F52-7C07-4D1E-B1AC-A08ABE95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CB4B-1CEC-4331-821B-BE0E1B97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FCB2-52F6-4AA8-B171-EE16A628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780A-95CF-46D2-BB58-7010DDA5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CEEF3-BCD2-431E-9EE8-4A4D3EEE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54DD-EAB3-4D6F-A335-58F877D8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24891-06B3-4137-8096-C2AAD6F2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72F8E-8F8D-4E1F-8FB0-94301D55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24834-4042-4EF9-B3D8-3E879AB6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36ED-73B0-4C81-97CE-C70C45C6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593D2-A37B-4013-8338-AD8B5BE9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C8AE-AF96-49CF-A929-3C77D4B0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F73E-6229-460D-B7DD-BB302437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57C01-BD74-47C2-BD2C-8ED42E25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0C32F-C6AE-442F-97DD-6798C5B1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56A8-5607-44B2-A19A-8987B138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C787-9F50-4A0D-A476-AD46BC3C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EFC6-1539-4A10-BC8C-70BABE7C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BD17-8F9A-45DC-8951-1D735341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4BAE3-DB58-4C5D-B523-A5DD6D6E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70080-9101-4E40-916C-849AB601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02909-47C7-407F-958B-D718DCBF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82A8D-5457-457A-B431-A85996A4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3610F-E97A-41A9-9203-43289C85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DB7E-C10E-467F-9591-C3789D50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7EDCB-2783-4D3D-A6EC-AC1DE80E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45FDD-2103-4DDC-82B1-56CB960A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5CAC4-A7C3-4E2F-9F56-33D34DAC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FFDBB-DE57-4C0E-AD80-B587F440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79D62-FEB9-465F-9811-0037B8EB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E7EC-B6EA-468D-9C86-4EAC8688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92F29-6C96-429B-B7F4-2A6DD9C8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D9B8B-5669-4021-A083-3C4D5B4E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2DE8B-63C6-4EA1-AB40-32686712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633D3-84C1-4ED3-B003-9290A286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306F7-7F24-4CB8-9407-DF018C70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1F322-95AA-4707-B413-40437796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057040" y="4352400"/>
            <a:ext cx="6705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64E4-9253-4E2F-B0E3-02FB4AB6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493240" y="236196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0570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493240" y="4352400"/>
            <a:ext cx="3272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B3C1-BACA-4A21-87CF-373BD379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2432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91600" y="236196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205704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32432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91600" y="4352400"/>
            <a:ext cx="215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FB9F6-F48F-4E61-8031-277EB5C2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48462-5C65-4F88-88C2-15FA9591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49D3E-4035-4974-BE8E-6E3DB75C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C8CF-F766-42E0-AC56-D48DA8FA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AA20-AE31-4F36-8E1B-24CF8B49786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A966-9653-4251-BC0D-FBCCE899EF7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5"/>
          </p:nvPr>
        </p:nvSpPr>
        <p:spPr>
          <a:xfrm>
            <a:off x="20574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6"/>
          </p:nvPr>
        </p:nvSpPr>
        <p:spPr>
          <a:xfrm>
            <a:off x="3962160" y="632448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7E23-B540-4964-9907-17FD5317E1E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8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0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8DC4-22F0-44B1-A2D3-A601F3898E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B1DE-583B-4932-8EE4-E5BE9062DA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E054-4EDD-4B7F-9F15-56EA0FBF4F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81C1-FFAD-4BBA-A14E-406FF846BD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Afbeelding 15" descr=""/>
          <p:cNvPicPr/>
          <p:nvPr/>
        </p:nvPicPr>
        <p:blipFill>
          <a:blip r:embed="rId2"/>
          <a:stretch/>
        </p:blipFill>
        <p:spPr>
          <a:xfrm>
            <a:off x="0" y="88920"/>
            <a:ext cx="3035160" cy="67690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9e005d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005d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2058840" y="6400800"/>
            <a:ext cx="98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dat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3526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copyr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au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e005d"/>
                </a:solidFill>
                <a:latin typeface="Calibri"/>
                <a:ea typeface="MS PGothic"/>
              </a:rPr>
              <a:t>vers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62AC-3424-485D-9B30-063CAFF820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4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73EC-9A4E-4D49-9847-1AEF50436B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7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11A7-8E81-41D9-973E-CA2287B40B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0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0685-AB34-419B-A6F2-8FF80C0E05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3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5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9B57-D308-435A-BE82-54281EF475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fbeelding 4" descr=""/>
          <p:cNvPicPr/>
          <p:nvPr/>
        </p:nvPicPr>
        <p:blipFill>
          <a:blip r:embed="rId2"/>
          <a:stretch/>
        </p:blipFill>
        <p:spPr>
          <a:xfrm>
            <a:off x="584280" y="88920"/>
            <a:ext cx="8788320" cy="67690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9e005d"/>
                </a:solidFill>
                <a:latin typeface="Calibri"/>
              </a:rPr>
              <a:t>Click to edit the title text format</a:t>
            </a:r>
            <a:endParaRPr b="1" lang="en-US" sz="7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6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18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FD41-CA95-4078-8E0C-81503375A8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source=images&amp;cd=&amp;cad=rja&amp;uact=8&amp;ved=0ahUKEwictKXm4efLAhXCYQ8KHc8MCEEQjRwIBw&amp;url=http%3A%2F%2Fwww.voedingscentrum.nl%2Fnl%2Fgezond-eten-met-de-schijf-van-vijf.aspx&amp;psig=AFQjCNGS803GMEIPaOLnwEZkMO7HMZ64zw&amp;ust=145940506544659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Jeroen Bosch Ziekenhuis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9e005d"/>
                </a:solidFill>
                <a:latin typeface="Calibri"/>
              </a:rPr>
              <a:t>Afdeling Diëtetiek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6192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000000"/>
                </a:solidFill>
                <a:latin typeface="Georgia"/>
              </a:rPr>
              <a:t>Cardio-revalidatie 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5124"/>
          <p:cNvSpPr/>
          <p:nvPr/>
        </p:nvSpPr>
        <p:spPr>
          <a:xfrm>
            <a:off x="1981080" y="3276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Cholesterol en Ve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C:\Documents and Settings\boogaard\Mijn documenten\Mijn afbeeldingen\noten.gif"/>
          <p:cNvPicPr/>
          <p:nvPr/>
        </p:nvPicPr>
        <p:blipFill>
          <a:blip r:embed="rId1"/>
          <a:stretch/>
        </p:blipFill>
        <p:spPr>
          <a:xfrm>
            <a:off x="3809880" y="4419720"/>
            <a:ext cx="2133720" cy="2133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8" name="Picture 3" descr="http://www.typicaldutchstuff.com/croma.jpg"/>
          <p:cNvPicPr/>
          <p:nvPr/>
        </p:nvPicPr>
        <p:blipFill>
          <a:blip r:embed="rId2"/>
          <a:stretch/>
        </p:blipFill>
        <p:spPr>
          <a:xfrm>
            <a:off x="6553080" y="1066680"/>
            <a:ext cx="1935360" cy="1636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9" name="Picture 4" descr="http://www.lunch4kids.com/getfile.php?id=478"/>
          <p:cNvPicPr/>
          <p:nvPr/>
        </p:nvPicPr>
        <p:blipFill>
          <a:blip r:embed="rId3"/>
          <a:stretch/>
        </p:blipFill>
        <p:spPr>
          <a:xfrm>
            <a:off x="685800" y="4724280"/>
            <a:ext cx="2360520" cy="1771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ar zit o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verzadigd vet</a:t>
            </a: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 i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457200" y="1523880"/>
            <a:ext cx="5638680" cy="19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en met (vloeibare) plantaardige vetten of visve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lie, vloeibare margarin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oten, sojaprodukten,vette 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Picture 7" descr="http://www.agrotropical.andes.com/olive_oil/bot2peq.jpg"/>
          <p:cNvPicPr/>
          <p:nvPr/>
        </p:nvPicPr>
        <p:blipFill>
          <a:blip r:embed="rId4"/>
          <a:stretch/>
        </p:blipFill>
        <p:spPr>
          <a:xfrm>
            <a:off x="6553080" y="2819520"/>
            <a:ext cx="2035440" cy="2076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43" name="Picture 8" descr="http://www.becel.be/images/prod/becelomega3plus-big.gif"/>
          <p:cNvPicPr/>
          <p:nvPr/>
        </p:nvPicPr>
        <p:blipFill>
          <a:blip r:embed="rId5"/>
          <a:stretch/>
        </p:blipFill>
        <p:spPr>
          <a:xfrm>
            <a:off x="6172200" y="4572000"/>
            <a:ext cx="2590920" cy="1936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685800" y="1676520"/>
            <a:ext cx="77724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 max. 2-3 per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vlees, garnalen, paling, mosselen 1 x per 2 we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74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omboter, slag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990720" y="609480"/>
            <a:ext cx="7772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tijging van het cholesterol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met name het L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5" descr="http://www.freewebs.com/hanenburg/ei01.jpg"/>
          <p:cNvPicPr/>
          <p:nvPr/>
        </p:nvPicPr>
        <p:blipFill>
          <a:blip r:embed="rId1"/>
          <a:stretch/>
        </p:blipFill>
        <p:spPr>
          <a:xfrm>
            <a:off x="990720" y="4191120"/>
            <a:ext cx="1657080" cy="22096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" descr="http://nl.dreamstime.com/verse-garnalen-thumb2452450.jpg"/>
          <p:cNvPicPr/>
          <p:nvPr/>
        </p:nvPicPr>
        <p:blipFill>
          <a:blip r:embed="rId2"/>
          <a:stretch/>
        </p:blipFill>
        <p:spPr>
          <a:xfrm>
            <a:off x="3851280" y="4797360"/>
            <a:ext cx="1508040" cy="12715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9" descr="http://www.devuurdoorn.be/images/mosselen2.jpg"/>
          <p:cNvPicPr/>
          <p:nvPr/>
        </p:nvPicPr>
        <p:blipFill>
          <a:blip r:embed="rId3"/>
          <a:stretch/>
        </p:blipFill>
        <p:spPr>
          <a:xfrm>
            <a:off x="6324480" y="3962520"/>
            <a:ext cx="1905120" cy="1541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2195640" y="3428640"/>
            <a:ext cx="6262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elling: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s ik deze producten gebruik doe ik voldoende om mijn cholesterol te verlagen. 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2050920" y="1218960"/>
            <a:ext cx="6483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speciale producten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‘functional foods’) op de markt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het cholesterolgehalte in het bloed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t 10-15% kunnen verlagen.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533520" y="14839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roodsmeersels en zuivelproducten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Plantensterolen / plantenstanolen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erlaagt LDL door verminderde opname 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an cholesterol in de darmen.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ij gebruik van cholesterolverlagende medicatie eerst arts raadplegen.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Cholesterolverlagende producte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3" name="Group 5"/>
          <p:cNvGrpSpPr/>
          <p:nvPr/>
        </p:nvGrpSpPr>
        <p:grpSpPr>
          <a:xfrm>
            <a:off x="3475080" y="2052720"/>
            <a:ext cx="8572320" cy="360"/>
            <a:chOff x="3475080" y="2052720"/>
            <a:chExt cx="8572320" cy="360"/>
          </a:xfrm>
        </p:grpSpPr>
        <p:sp>
          <p:nvSpPr>
            <p:cNvPr id="754" name="Rectangle 6"/>
            <p:cNvSpPr/>
            <p:nvPr/>
          </p:nvSpPr>
          <p:spPr>
            <a:xfrm>
              <a:off x="3475080" y="2052720"/>
              <a:ext cx="8572320" cy="360"/>
            </a:xfrm>
            <a:prstGeom prst="rect">
              <a:avLst/>
            </a:prstGeom>
            <a:solidFill>
              <a:srgbClr val="f2f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>
              <a:off x="3475080" y="2052720"/>
              <a:ext cx="8572320" cy="360"/>
            </a:xfrm>
            <a:prstGeom prst="rect">
              <a:avLst/>
            </a:prstGeom>
            <a:solidFill>
              <a:srgbClr val="f2f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6" name="Picture 8" descr="http://u1.peersphere.net/becelwebsite/controller/image.jpg?livelinkDataID=5740277"/>
          <p:cNvPicPr/>
          <p:nvPr/>
        </p:nvPicPr>
        <p:blipFill>
          <a:blip r:embed="rId1"/>
          <a:stretch/>
        </p:blipFill>
        <p:spPr>
          <a:xfrm>
            <a:off x="6858000" y="4572000"/>
            <a:ext cx="911160" cy="198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57" name="Picture 9" descr="http://u1.peersphere.net/becelwebsite/controller/image.jpg?livelinkDataID=5671511"/>
          <p:cNvPicPr/>
          <p:nvPr/>
        </p:nvPicPr>
        <p:blipFill>
          <a:blip r:embed="rId2"/>
          <a:stretch/>
        </p:blipFill>
        <p:spPr>
          <a:xfrm>
            <a:off x="3733920" y="4876920"/>
            <a:ext cx="2209680" cy="1523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2057040" y="236196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verzadigde vetzuren in de voeding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producten met vet kiezen voor de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oorten die weinig verzadigd vet bevatten,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grootste deel van het vet is dan automatisch onverzadigd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HDL verhogend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0880" y="20574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rzadigd = </a:t>
            </a:r>
            <a:r>
              <a:rPr b="1" lang="nl-NL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V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rkeerd</a:t>
            </a: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ff00"/>
                </a:solidFill>
                <a:latin typeface="Calibri"/>
                <a:ea typeface="Times New Roman"/>
              </a:rPr>
              <a:t>O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nverzadigd = </a:t>
            </a:r>
            <a:r>
              <a:rPr b="1" lang="nl-NL" sz="3600" spc="-1" strike="noStrike">
                <a:solidFill>
                  <a:srgbClr val="00ff00"/>
                </a:solidFill>
                <a:latin typeface="Calibri"/>
                <a:ea typeface="Times New Roman"/>
              </a:rPr>
              <a:t>O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é</a:t>
            </a: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Smeren en bakk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340000" y="1219320"/>
            <a:ext cx="5688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Smeren:</a:t>
            </a: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rgarin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± 8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lvarin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± 4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e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unstige verhouding onverzadigde vetten 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.o.v. verzadigde vetten. 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akken:</a:t>
            </a:r>
            <a:endParaRPr b="0" lang="en-US" sz="20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k- en braadvet/ olijfolie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90 – 100% vet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loeibaar </a:t>
            </a:r>
            <a:endParaRPr b="0" lang="en-US" sz="1800" spc="-1" strike="noStrike">
              <a:solidFill>
                <a:srgbClr val="9e005d"/>
              </a:solidFill>
              <a:latin typeface="Calibri"/>
            </a:endParaRPr>
          </a:p>
        </p:txBody>
      </p:sp>
      <p:pic>
        <p:nvPicPr>
          <p:cNvPr id="764" name="Picture 1029" descr="30021"/>
          <p:cNvPicPr/>
          <p:nvPr/>
        </p:nvPicPr>
        <p:blipFill>
          <a:blip r:embed="rId1"/>
          <a:stretch/>
        </p:blipFill>
        <p:spPr>
          <a:xfrm>
            <a:off x="6172200" y="685800"/>
            <a:ext cx="1704960" cy="16588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028" descr="30022"/>
          <p:cNvPicPr/>
          <p:nvPr/>
        </p:nvPicPr>
        <p:blipFill>
          <a:blip r:embed="rId2"/>
          <a:stretch/>
        </p:blipFill>
        <p:spPr>
          <a:xfrm>
            <a:off x="395280" y="1341360"/>
            <a:ext cx="1577880" cy="16588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31" descr="30105"/>
          <p:cNvPicPr/>
          <p:nvPr/>
        </p:nvPicPr>
        <p:blipFill>
          <a:blip r:embed="rId3"/>
          <a:stretch/>
        </p:blipFill>
        <p:spPr>
          <a:xfrm>
            <a:off x="5943600" y="4114800"/>
            <a:ext cx="947880" cy="23036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032" descr="30106"/>
          <p:cNvPicPr/>
          <p:nvPr/>
        </p:nvPicPr>
        <p:blipFill>
          <a:blip r:embed="rId4"/>
          <a:stretch/>
        </p:blipFill>
        <p:spPr>
          <a:xfrm>
            <a:off x="468360" y="4292640"/>
            <a:ext cx="1639800" cy="2303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33" descr="http://www.delicasa.nl/shop/image.php?productid=17407"/>
          <p:cNvPicPr/>
          <p:nvPr/>
        </p:nvPicPr>
        <p:blipFill>
          <a:blip r:embed="rId5"/>
          <a:stretch/>
        </p:blipFill>
        <p:spPr>
          <a:xfrm>
            <a:off x="8001000" y="2590920"/>
            <a:ext cx="792000" cy="1847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Dieetmargarine is minder vet 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300" spc="-1" strike="noStrike">
                <a:solidFill>
                  <a:srgbClr val="000000"/>
                </a:solidFill>
                <a:latin typeface="Calibri"/>
              </a:rPr>
              <a:t>dan roomboter.</a:t>
            </a:r>
            <a:endParaRPr b="0" lang="en-US" sz="33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telling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Etiket lezen: Welke te kieze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0" y="1955880"/>
            <a:ext cx="9144000" cy="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457200" y="1828800"/>
          <a:ext cx="8366040" cy="4022640"/>
        </p:xfrm>
        <a:graphic>
          <a:graphicData uri="http://schemas.openxmlformats.org/drawingml/2006/table">
            <a:tbl>
              <a:tblPr/>
              <a:tblGrid>
                <a:gridCol w="2891520"/>
                <a:gridCol w="1170360"/>
                <a:gridCol w="218880"/>
                <a:gridCol w="2915640"/>
                <a:gridCol w="1169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edings-waarde per 100 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Voedings-waarde per 100 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w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lhydr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waarvan sui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waarvan 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tr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enkel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meer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 K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Energ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Eiw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Koolhydr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waarvan sui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V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waarvan 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tr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enkel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-meervoudig onverzadig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1b1c20"/>
                          </a:solidFill>
                          <a:latin typeface="Times New Roman"/>
                          <a:ea typeface="Times New Roman"/>
                        </a:rPr>
                        <a:t>720 k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774" name="Text Box 30"/>
          <p:cNvSpPr/>
          <p:nvPr/>
        </p:nvSpPr>
        <p:spPr>
          <a:xfrm>
            <a:off x="457200" y="220968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Dieetmarga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31"/>
          <p:cNvSpPr/>
          <p:nvPr/>
        </p:nvSpPr>
        <p:spPr>
          <a:xfrm>
            <a:off x="4724280" y="22096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rga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el menu bevat veel vet?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35"/>
          <p:cNvSpPr/>
          <p:nvPr/>
        </p:nvSpPr>
        <p:spPr>
          <a:xfrm>
            <a:off x="3240" y="27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80"/>
          <p:cNvSpPr/>
          <p:nvPr/>
        </p:nvSpPr>
        <p:spPr>
          <a:xfrm>
            <a:off x="3240" y="695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217"/>
          <p:cNvSpPr/>
          <p:nvPr/>
        </p:nvSpPr>
        <p:spPr>
          <a:xfrm>
            <a:off x="22860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Boterhamm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a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ffie met koffieme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akken aardappelen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haktbal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ente met bote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omvla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21"/>
          <p:cNvSpPr/>
          <p:nvPr/>
        </p:nvSpPr>
        <p:spPr>
          <a:xfrm>
            <a:off x="464832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 Boterh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lv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okvle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ffie met h.v. koffiemel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kookte aardappelen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pfi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roente zonder b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de sa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gere vruchtenyogh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Functie: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celwanden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vitamine D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hormonen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- gal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rten: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HDL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LDL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lvl="3" marL="1584000" indent="-226080">
              <a:spcBef>
                <a:spcPts val="649"/>
              </a:spcBef>
              <a:buClr>
                <a:srgbClr val="000000"/>
              </a:buClr>
              <a:buSzPct val="5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otaal cholesterol </a:t>
            </a:r>
            <a:endParaRPr b="0" lang="en-US" sz="2600" spc="-1" strike="noStrike">
              <a:solidFill>
                <a:srgbClr val="9e005d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= HDL + LDL</a:t>
            </a: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Choleste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4" descr="http://www.phillips-fit.co.uk/pfiles/images/HDL%20LDL.jpg"/>
          <p:cNvPicPr/>
          <p:nvPr/>
        </p:nvPicPr>
        <p:blipFill>
          <a:blip r:embed="rId1"/>
          <a:stretch/>
        </p:blipFill>
        <p:spPr>
          <a:xfrm>
            <a:off x="5486400" y="3505320"/>
            <a:ext cx="2438280" cy="1930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28600" y="990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t dag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4648320" y="9907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Mager dagme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3240" y="271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3240" y="695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228600" y="1676520"/>
            <a:ext cx="4038480" cy="44168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Boterhamm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2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a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2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ffie met koffiemelk      1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akken aardappelen      1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haktba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1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ente met bote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16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omvla                              5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g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8"/>
          <p:cNvSpPr/>
          <p:nvPr/>
        </p:nvSpPr>
        <p:spPr>
          <a:xfrm>
            <a:off x="4648320" y="1676520"/>
            <a:ext cx="4038480" cy="48553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 Boterha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lvarin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1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okvle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5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ffie met h.v. koffiemelk 6g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kookte aardappelen        -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pfilet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roente zonder boter          -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de saus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8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gere vruchten yoghurt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1g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3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990720" y="14475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9e005d"/>
                </a:solidFill>
                <a:latin typeface="Calibri"/>
              </a:rPr>
              <a:t>	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- Lichaamsbeweging</a:t>
            </a: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eïnvloeden van cholestero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0" name="Picture 5" descr="http://www.debeus.be/trap01.jpg"/>
          <p:cNvPicPr/>
          <p:nvPr/>
        </p:nvPicPr>
        <p:blipFill>
          <a:blip r:embed="rId1"/>
          <a:stretch/>
        </p:blipFill>
        <p:spPr>
          <a:xfrm>
            <a:off x="1676520" y="236232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http://home.planet.nl/~pluym646/foto1/nordic-walking1.jpg"/>
          <p:cNvPicPr/>
          <p:nvPr/>
        </p:nvPicPr>
        <p:blipFill>
          <a:blip r:embed="rId2"/>
          <a:stretch/>
        </p:blipFill>
        <p:spPr>
          <a:xfrm>
            <a:off x="5029200" y="40384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t gebruikt u zelf op brood </a:t>
            </a:r>
            <a:br>
              <a:rPr sz="3300"/>
            </a:b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of om in te bakke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2050920" y="2286000"/>
            <a:ext cx="610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u u momenteel kiezen voor een ander smeersel voor op brood of voor een ander bereidingsv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4" descr="http://www.kleinewereld.nl/images/brood.gif"/>
          <p:cNvPicPr/>
          <p:nvPr/>
        </p:nvPicPr>
        <p:blipFill>
          <a:blip r:embed="rId1"/>
          <a:stretch/>
        </p:blipFill>
        <p:spPr>
          <a:xfrm>
            <a:off x="3276720" y="43434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2268360" y="2666520"/>
            <a:ext cx="6113520" cy="22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voedingscentrum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becel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ww.cholesterol.n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ebsite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loedv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791320" y="1981080"/>
            <a:ext cx="2895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stapelt het cholesterol en vet op in de bloedv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5" descr="\\domein1.lan\dfs\UserData\evdbogaard\Mijn afbeeldingen\gezonde ader.jpg"/>
          <p:cNvPicPr/>
          <p:nvPr/>
        </p:nvPicPr>
        <p:blipFill>
          <a:blip r:embed="rId1"/>
          <a:stretch/>
        </p:blipFill>
        <p:spPr>
          <a:xfrm>
            <a:off x="4648320" y="4495680"/>
            <a:ext cx="3886200" cy="1609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\\domein1.lan\dfs\UserData\evdbogaard\Mijn afbeeldingen\zieke ader.jpg"/>
          <p:cNvPicPr/>
          <p:nvPr/>
        </p:nvPicPr>
        <p:blipFill>
          <a:blip r:embed="rId2"/>
          <a:stretch/>
        </p:blipFill>
        <p:spPr>
          <a:xfrm>
            <a:off x="838080" y="2057400"/>
            <a:ext cx="3810240" cy="155088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7"/>
          <p:cNvSpPr/>
          <p:nvPr/>
        </p:nvSpPr>
        <p:spPr>
          <a:xfrm>
            <a:off x="685800" y="4419720"/>
            <a:ext cx="3809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haalt het vet en cholesterol weg uit de bloedv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914400" y="148392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aal cholestero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5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ma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r dan 1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vro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r dan 1,2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D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2,5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Lucida Grande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houding totaal cholesterol en HDL 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5,0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+ Triglicerid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ger dan 1,7 mmol/l</a:t>
            </a:r>
            <a:endParaRPr b="0" lang="en-US" sz="3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Cholesterol normaalwaard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Vetten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3962520" y="914400"/>
            <a:ext cx="21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6781680" y="2438280"/>
            <a:ext cx="2133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AGaramond"/>
              </a:rPr>
              <a:t>Verzadigd 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5779440" y="4800600"/>
            <a:ext cx="253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AGaramond"/>
              </a:rPr>
              <a:t>Onverzadigd 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-183600" y="1752480"/>
            <a:ext cx="613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Enkelvoudig onverzadigde vetz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2154240" y="5486400"/>
            <a:ext cx="61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Meervoudig onverzadigde vetzu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8"/>
          <p:cNvSpPr/>
          <p:nvPr/>
        </p:nvSpPr>
        <p:spPr>
          <a:xfrm>
            <a:off x="3239280" y="11430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439680" y="38862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420120" y="47242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Omega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11"/>
          <p:cNvSpPr/>
          <p:nvPr/>
        </p:nvSpPr>
        <p:spPr>
          <a:xfrm>
            <a:off x="152280" y="3733920"/>
            <a:ext cx="15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Linol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12"/>
          <p:cNvSpPr/>
          <p:nvPr/>
        </p:nvSpPr>
        <p:spPr>
          <a:xfrm>
            <a:off x="2284920" y="44956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Alfa-linoleen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380880" y="601992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E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4"/>
          <p:cNvSpPr/>
          <p:nvPr/>
        </p:nvSpPr>
        <p:spPr>
          <a:xfrm>
            <a:off x="5541120" y="137160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Transv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5"/>
          <p:cNvSpPr/>
          <p:nvPr/>
        </p:nvSpPr>
        <p:spPr>
          <a:xfrm>
            <a:off x="1143000" y="2590920"/>
            <a:ext cx="9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AGaramond"/>
              </a:rPr>
              <a:t>D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6"/>
          <p:cNvSpPr/>
          <p:nvPr/>
        </p:nvSpPr>
        <p:spPr>
          <a:xfrm>
            <a:off x="2514600" y="2819520"/>
            <a:ext cx="3505320" cy="119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ONTZETTEND VERWARR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990720" y="2133720"/>
            <a:ext cx="777240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Soort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Minder verzadigd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Meer onverzadigd v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Cholesterolverlagende produc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99072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Beïnvloeden van choleste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http://www.voedingscentrum.nl/Assets/Uploads/voedingscentrum/Images/Consumenten/Schijf%20van%20Vijf%202016/Schijf-van-Vijf-vaknam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981000"/>
            <a:ext cx="5209920" cy="424836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057040" y="56386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dacht voor voedingsvezels en variatie</a:t>
            </a:r>
            <a:endParaRPr b="0" lang="en-US" sz="2800" spc="-1" strike="noStrike">
              <a:solidFill>
                <a:srgbClr val="9e005d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2057400" y="2060280"/>
            <a:ext cx="6546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avervlokk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avermout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arwekiem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ojabonen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inoa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en (nieuwe schijf van vijf adviseert 1 keer in de week peulvruchten)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oten en zaden (eet ten minste 15 gram ongezouten noten per dag)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ijnzaad</a:t>
            </a:r>
            <a:endParaRPr b="0" lang="en-US" sz="2200" spc="-1" strike="noStrike">
              <a:solidFill>
                <a:srgbClr val="9e005d"/>
              </a:solidFill>
              <a:latin typeface="Calibri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620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Plantaardige voeding, vezelrijk,</a:t>
            </a:r>
            <a:br>
              <a:rPr sz="3000"/>
            </a:b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verlaagd het LD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Calibri"/>
              </a:rPr>
              <a:t>Waar zit verzadigd vet in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6" descr="http://www.cheffen.nl/vlees1-thumb.jpg"/>
          <p:cNvPicPr/>
          <p:nvPr/>
        </p:nvPicPr>
        <p:blipFill>
          <a:blip r:embed="rId1"/>
          <a:stretch/>
        </p:blipFill>
        <p:spPr>
          <a:xfrm>
            <a:off x="685800" y="4572000"/>
            <a:ext cx="1457280" cy="1677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1" name="Picture 7" descr="http://images.vpro.nl/img.db?32155500+s(200)"/>
          <p:cNvPicPr/>
          <p:nvPr/>
        </p:nvPicPr>
        <p:blipFill>
          <a:blip r:embed="rId2"/>
          <a:stretch/>
        </p:blipFill>
        <p:spPr>
          <a:xfrm>
            <a:off x="7162920" y="3962520"/>
            <a:ext cx="1647720" cy="2514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2" name="Picture 8" descr="http://www.eventail-junior.be/images/croissant.jpg"/>
          <p:cNvPicPr/>
          <p:nvPr/>
        </p:nvPicPr>
        <p:blipFill>
          <a:blip r:embed="rId3"/>
          <a:stretch/>
        </p:blipFill>
        <p:spPr>
          <a:xfrm>
            <a:off x="2438280" y="4648320"/>
            <a:ext cx="1676520" cy="159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3" name="Picture 9" descr="http://www.bakkerijkamstra.nl/images/Kamstras_Broodje_Kaas.jpg"/>
          <p:cNvPicPr/>
          <p:nvPr/>
        </p:nvPicPr>
        <p:blipFill>
          <a:blip r:embed="rId4"/>
          <a:stretch/>
        </p:blipFill>
        <p:spPr>
          <a:xfrm>
            <a:off x="4419720" y="4572000"/>
            <a:ext cx="2438280" cy="172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4" name="Picture 10" descr="http://images.businessweek.com/ss/06/12/1206_transfats/image/margarine.jpg"/>
          <p:cNvPicPr/>
          <p:nvPr/>
        </p:nvPicPr>
        <p:blipFill>
          <a:blip r:embed="rId5"/>
          <a:stretch/>
        </p:blipFill>
        <p:spPr>
          <a:xfrm>
            <a:off x="7238880" y="990720"/>
            <a:ext cx="1676520" cy="140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35" name="Picture 11" descr="http://www.reuserensmulders.nl/storage_accessories/189810los.jpg"/>
          <p:cNvPicPr/>
          <p:nvPr/>
        </p:nvPicPr>
        <p:blipFill>
          <a:blip r:embed="rId6"/>
          <a:stretch/>
        </p:blipFill>
        <p:spPr>
          <a:xfrm>
            <a:off x="7162920" y="2590920"/>
            <a:ext cx="1828800" cy="124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36" name="Text Box 12"/>
          <p:cNvSpPr/>
          <p:nvPr/>
        </p:nvSpPr>
        <p:spPr>
          <a:xfrm>
            <a:off x="533520" y="1523880"/>
            <a:ext cx="60195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Producten met dierlijke vetten z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Boter, volvette (48+) kaas, volle melk,   slagroom, vet vl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Calibri"/>
              </a:rPr>
              <a:t>En ook: chocolade, cake, snacks, koek, geb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7:29:13Z</dcterms:created>
  <dc:creator>rvheertum</dc:creator>
  <dc:description/>
  <dc:language>en-US</dc:language>
  <cp:lastModifiedBy>lvsluisveld</cp:lastModifiedBy>
  <dcterms:modified xsi:type="dcterms:W3CDTF">2016-05-04T09:34:19Z</dcterms:modified>
  <cp:revision>72</cp:revision>
  <dc:subject/>
  <dc:title>LANGER GEZOND MET GEZONDE EET-EN DRINKGEWOONTEN</dc:title>
</cp:coreProperties>
</file>