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wmf" ContentType="image/x-wmf"/>
  <Override PartName="/ppt/media/image2.wmf" ContentType="image/x-wmf"/>
  <Override PartName="/ppt/media/CAMERA.WAV" ContentType="audio/x-wav"/>
  <Override PartName="/ppt/media/image3.wmf" ContentType="image/x-wmf"/>
  <Override PartName="/ppt/media/image4.jpeg" ContentType="image/jpeg"/>
  <Override PartName="/ppt/media/image5.wmf" ContentType="image/x-wmf"/>
  <Override PartName="/ppt/media/image6.jpeg" ContentType="image/jpeg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move the slid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PlaceHolder 6"/>
          <p:cNvSpPr>
            <a:spLocks noGrp="1"/>
          </p:cNvSpPr>
          <p:nvPr>
            <p:ph type="sldNum" idx="4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74E2A-C1DC-4162-B3A3-A2A496F7209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662E0-3753-4739-8AEF-26B236FFE19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1"/>
          <p:cNvSpPr>
            <a:spLocks noGrp="1"/>
          </p:cNvSpPr>
          <p:nvPr>
            <p:ph type="sldImg"/>
          </p:nvPr>
        </p:nvSpPr>
        <p:spPr>
          <a:xfrm>
            <a:off x="1143000" y="71136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915840" y="4365360"/>
            <a:ext cx="5026320" cy="435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Rectangle 4"/>
          <p:cNvSpPr/>
          <p:nvPr/>
        </p:nvSpPr>
        <p:spPr>
          <a:xfrm>
            <a:off x="1144440" y="4500720"/>
            <a:ext cx="4989600" cy="46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95400" indent="-95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iekte brengt veelal een verminderde inname van en een verhoogde behoefte aan voeding met zich mee. Daarnaast treden er als gevolg van ziekte vaak abnormale verliezen op. - Dit zorgt voor een verminderde voedingstoestand. - Een verminderde voedingstoestand kan tot complicaties leiden. Ook het minder snel genezen van een ziekte of operatie is een complicatie. - Deze kunnen uitmonden in ziekte enz. - Zo raak je in een steeds slechtere conditi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5400" indent="-95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echte voedingstoestand - darmen worden niet goed gevoed - atrofie van de darmwand en translokatie van bacteriën waardoor voeding minder goed wordt opgenomen - achteruitgang van de voedingstoestand van de darmen en het lichaam - verslechtering darmwerking - enz. enz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5400" indent="-95400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5400" indent="-95400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200" spc="-1" strike="noStrike">
                <a:solidFill>
                  <a:srgbClr val="0000cc"/>
                </a:solidFill>
                <a:latin typeface="Calibri"/>
              </a:rPr>
              <a:t>Bij ondervoeding significant ook  lagere beoordeling voor kwaliteit van leven:</a:t>
            </a:r>
            <a:r>
              <a:rPr b="0" lang="nl-NL" sz="1200" spc="-1" strike="noStrike">
                <a:solidFill>
                  <a:srgbClr val="4f81bd"/>
                </a:solidFill>
                <a:latin typeface="Calibri"/>
              </a:rPr>
              <a:t> </a:t>
            </a:r>
            <a:r>
              <a:rPr b="0" lang="nl-NL" sz="1200" spc="-1" strike="noStrike">
                <a:solidFill>
                  <a:srgbClr val="1f497d"/>
                </a:solidFill>
                <a:latin typeface="Calibri"/>
              </a:rPr>
              <a:t> Studie in </a:t>
            </a: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Zweden 1995 (J. Larsson</a:t>
            </a:r>
            <a:r>
              <a:rPr b="0" i="1" lang="nl-NL" sz="1200" spc="-1" strike="noStrike">
                <a:solidFill>
                  <a:srgbClr val="000000"/>
                </a:solidFill>
                <a:latin typeface="Calibri"/>
              </a:rPr>
              <a:t> et al.</a:t>
            </a: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) bij 199 pat. bleken volgende aspecten gerelateerd te zijn aan voedingstoestand: somatische gezondheid (o.a. lichamelijke gezondheid, invloed van ziekte op het leve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5400" indent="-95400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psychologische aspecten (o.a. algemeen welzijn, vermogen om te concentreren, denken, herinneren) activiteiten (o.a. zelfzorg, mogelijkheid om actief leven te leiden) gemoedstoestand / stemming uithoudingsvermo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5400" indent="-95400">
              <a:lnSpc>
                <a:spcPct val="150000"/>
              </a:lnSpc>
              <a:buClr>
                <a:srgbClr val="000000"/>
              </a:buClr>
              <a:buFont typeface="Calibri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t deze neerwaartse spiraal kan aan de cliënt/ patiënt het belang van een goede voedingstoestand worden duidelijk gemaakt. Het kan helpen de cliënt/ patiënt te stimuleren een voedingstherapie vol te houde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27754-A4B4-4313-9227-09D419B05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C5D72-124D-4C23-BC28-3C23E3B95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602DEE4-133B-45E5-8471-CF6C7BD9B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D0BB427-98D7-48C3-9C1A-F0F3B0E7B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6C49710-E892-4A57-BC0A-02B60229B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592B29F-A4A5-4047-96F2-2268A8EAC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8766A27-A981-4655-BB58-4C3280C7F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4ED18C6-B7B0-47C5-9A1C-96C75B38E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397C1AE-9BEC-45C2-B421-ED6071FA9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B6AEB45-FF30-4578-AE48-950CBE286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336F4EB-6C2F-482A-B4B2-C16C006BB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13929F3-F876-4744-9DE9-2A24FB9CF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366C4-D59C-4153-9EEF-744FF2443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A9C74F8-0372-4AE8-BB99-94C79D4F1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9356300-8789-4FC9-A418-5F07943D1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1FC28C9-0800-441D-ABC8-2DBB9803E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F5F0E6F-DCC2-4555-B38E-F0CFC6FD7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9829519-7DCF-4B0C-AE39-7441F0868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7BEC58F-448F-4809-AF27-F3E091415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CFD9522-0F0D-4167-81E4-B0D5830E9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EB640B5-E7E1-4614-9801-5B4B8D24F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7598BC1-3F11-401B-913A-80419C964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F527D50-8CB1-4A8A-B8BC-77BE9FE64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9B990-B0E4-4E73-B8BF-E0F21D80E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F80A244-59A4-4230-88B5-C82A39E5B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00DFCA-C868-41A3-A4F1-813DBAEAB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AB4F7D-F0B1-4380-B629-418AFEB1A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6B2E18-AB49-410B-B5E9-7E2022690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2DFA93-33C0-4C3A-9A11-DC2EDAAF3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41E3A5-A2CB-46D9-AB39-83579D11B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B31FCC-476A-408B-9189-E5C2F1DFD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E3B76C-FCAD-46E1-AAEB-B6DD53BF9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EBC733-7E82-419C-8A06-D40BBDA73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1C0346-5AEC-4383-BEAA-6BBB5CBED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4AF55-5940-4E7E-A1A3-E7D23646F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68770D-B335-4914-8CB8-63C98EDB1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85F5D6-A1B9-4054-A8BB-326E1A6FF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04467D-B7AB-42EE-8BD0-B337CDB59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DDE8FD8-FBDC-422C-B690-2B482AA13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970AAC8-2481-407C-A63B-E39C025E6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8A8E79B-931F-4E12-B630-A12CED756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4BBDEE8-4F4C-4EE2-9EDE-B3D2A0B44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7F52454-252D-419C-9D5A-B2AC4534C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C924DE7-7FBE-4BCA-A636-7E4ABEFFF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B1E5F51-E6B9-4C09-8E3C-97B106EB0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06167-FF56-47DC-925E-5CE6074F0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5ACAFB1-F052-4D03-87A9-371E5455A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73A58EA-96A2-45FD-84BF-7E0C0738A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02EBDAE-B25B-4618-B3AA-1EDBA0654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71B6745-E862-477B-84FB-D936E0893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C9764C1-6FFE-46F8-AB22-6D1513A5E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2600DFC-7ADE-49C2-9DDF-16B341A2B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F57F7B8-1C09-4E02-97D4-4E501BE31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7AAB717-3B61-410F-8CDE-A1AD8618A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33A19A2-4308-40E4-8574-7AC352E46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E24D984-F897-4E5F-977F-8C5549DDD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0A551-2F91-4B89-BD37-D7A2457D3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B28E1AA-C72C-40F5-8247-073C984A3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8EB969B-3BA3-4983-B837-5734B9439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027C749-7702-4A78-B273-9AE265076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F48E062-A1C2-45C4-B304-0CFB15A36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DFA8CD1-1A25-4463-9FF7-4661B49DE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32B2E2A-DC3F-4A4C-B7A1-1DB199FAF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5E08407-8FB8-4A20-B93F-B6AA62A8C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BA89C-7C47-4447-9278-458465876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EADFF-276A-4553-A675-384070042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DC41C-B6C6-48E4-9865-B6972F17B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D879F-BFAF-4E06-9C12-2550B921C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4AB25-D02F-40C4-A08B-BEDF3DA34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B1484-B454-41F2-8137-8F70D1E4B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39A3D-6A88-40F7-AB03-618720089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23318-0D25-4681-8B57-338FCB3FC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A6682-AA39-42BD-96DD-6911F6C1A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586A3-0466-4156-B1BB-67CEF81B2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72EA03-D0DF-42C2-A7FD-C3A6CDD34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E9B68F-03B1-4658-BDCF-D366BE32A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102DF9-411E-4464-AE3C-9EEFAB7AA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486443-F1B9-4BC1-813C-16916D66B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01F2F3-B2D0-4615-B0FB-DB09E82CE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CF402-3A78-4A09-9C9C-1528B7E25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FD0512-3C36-4CB6-AC87-DC06E1346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FE169C-C36C-4FDD-83A3-0D1826C9A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718E79-F9B7-46DC-83A5-9F7D28B92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9AA8F9-4B3E-48C5-A503-BBA8E6547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192243-5752-487B-84D0-B95FE5AAD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583D37-1FD8-4699-AD49-1CAC64D82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F72B1C-3E07-4509-8BA2-7C3FDD36D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BBE432-FAF4-4015-A6A2-AEDFC5136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121797-4BC3-42E6-A290-688FF9C23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799AA7-22DC-41E7-8B34-0DB6BA880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65C4E-1A4A-4008-9710-089879E33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8D7D02-C0BF-49F3-A65E-61F557CEB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146D29-B392-45BF-8E4E-85048F2CB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2142C0-9B9B-48A0-8217-0C9FC6359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37C318-76F9-483B-8745-D6AB528DE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071436-B22D-4816-813B-359BFEFC3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90019C-50FE-48B1-90AA-9AE7B43BD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DB32A9-40FE-4C57-985A-FF604198E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1B8E90-BC07-49A2-9D00-63C9A13B4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FD7438-9C9D-4AB6-BCE4-34F916376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5BB966-4051-4FE5-AA15-335B3D4F9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D0659-9ED9-4D78-A60B-F8D59551B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343817-850D-4802-BDA8-329E909AD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96F0E8-F364-4E68-8066-D4B2BDBE5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62FB61-4568-4EA6-825F-A47C2864A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0BE38C-DAC2-47AB-8682-E2578585B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140AAD-9A39-4A02-B7F7-340AF500B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E53B79-6E30-45C5-8EC5-6270A5B50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CA53D8-2079-4238-973A-2187E240E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BD39B6-6AAC-47D7-894F-8C27A44F4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F8A9AA-F921-4F53-AF5E-3F612C937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4C9132-B4BA-485D-A506-ADA122DDE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9D706-D0E7-4E9B-9809-06EBD1178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F3C8EE-F584-47BE-8EB0-49886A4DA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13F521-BD47-410F-B9A2-5FE675A2C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121255-9599-478F-A96C-06D2674C6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9D53DD-363F-4B06-AC83-ED545644C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B0C099-5680-40C6-8F4E-15DDA2BCB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B6AEFB-8970-4FE3-BC95-0D62306C2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2A2F1D-96F9-4442-955A-412C5D855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BA0C66-B444-4D6E-848C-A063E7C7C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DBA9A3-1ECE-4299-A48C-6755A8866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388FA7-57D6-47D6-9FDB-37490EAE1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F24FE-B3AC-4AFF-80B5-0C24E6236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05FB98-4FAB-4995-8997-DDEFF6276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ADCF09-9673-4867-BD5E-C99C40C4C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DC1412-0417-4D1F-A842-AEB91BA3D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0D5A7A-6DEE-4A68-8A81-FD8D3261C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B9478E-70EB-4C1C-A6B5-22D73EF63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C14F66-F324-46AF-A367-62A606D24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33BDE5-904A-4F4B-816C-16BAF0041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91F22C-E2D3-420F-9393-74163FE0A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633C1A-0651-4C04-AD20-D386A90DA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48D7D6-B894-4A6E-B554-D01D93CC5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3356F-0805-4C1C-BA3A-93970FC90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612969-7443-401F-8B26-419057CB9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74282D-71E0-4834-B930-9AEDA4F08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D4F752-1F9D-4A69-924C-05422E6B7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3EF87F-8439-49DE-AE83-676E77083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777608-5AFC-46E6-852B-3144A31D2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6D697C-46B4-4474-820B-EBB850830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E79156-7495-4487-9372-FB2C4D84E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B82CC2-9634-42DA-A4FA-66845B7FF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70A9FD-245B-44C6-9A2D-917F55BDF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2939ED-911E-445A-99AB-876216B09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89678-7DD2-4564-B5A5-2382550C2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425DF9-5D2B-4802-BA17-8305B54F2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3E8559-B488-4EFA-B773-9A690ED9E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C71E87-4B69-4D21-AF46-816433D39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336963-171A-431F-83D8-5EA75CE8D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C6BDA0-B4F1-470D-A022-150D0C9D2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2B0D03-14C2-4416-9D21-959E8C25A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43B1A2-DB34-44B7-B0F4-33DB8D892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CDAA7E1-086A-4D46-B0EB-043A4461C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E2DB287-F653-4377-93E7-985700A15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D23E6AE-6737-4E56-B2F9-20FCDD411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hthoek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hthoek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hthoek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hthoek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hthoek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hthoek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hte verbindingslijn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Ova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55D3D-8F47-4383-BEF4-C3BC1A3BB749}" type="slidenum">
              <a:rPr b="0" lang="nl-NL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hte verbindingslijn 20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hthoek 1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hthoek 15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hthoek 16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hthoek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hthoek 19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hthoek 7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hthoek 1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Ovaal 11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Ovaal 12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hthoek 2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8B176-5FE1-4464-B1F4-5D7B98DF834B}" type="slidenum">
              <a:rPr b="0" lang="nl-NL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hthoek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hthoek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hthoek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hthoek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hthoek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hthoek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hte verbindingslijn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Ova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Ova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DF960-71F8-4F21-9D2E-92B7A0675108}" type="slidenum">
              <a:rPr b="0" lang="nl-NL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hthoek 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hthoek 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hthoek 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hthoek 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hthoek 1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hthoek 1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Rechte verbindingslijn 1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Ovaal 1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Ovaal 1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EACE6-7465-435A-AA0E-376A27A00419}" type="slidenum">
              <a:rPr b="0" lang="nl-NL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hthoek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Rechthoek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Rechthoek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Rechthoek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Rechthoek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Rechthoek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Rechte verbindingslijn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Ova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Ova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37"/>
          </p:nvPr>
        </p:nvSpPr>
        <p:spPr>
          <a:xfrm>
            <a:off x="4572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38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39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41F44-2912-4733-B61F-76F700725515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hthoek 14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hthoek 18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hthoek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hthoek 15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hthoek 11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hte verbindingslijn 6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hthoek 9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al 27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al 28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35933-1449-487B-949E-F9A219D66567}" type="slidenum">
              <a:rPr b="0" lang="nl-NL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hthoek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hthoek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hthoek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hthoek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hthoek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hthoek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hte verbindingslijn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D183B-A3C2-4512-99A7-3B2908E58B32}" type="slidenum">
              <a:rPr b="0" lang="nl-NL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hthoek 1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hthoek 14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hthoek 15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hthoek 17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hthoek 18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hthoek 1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hthoek 1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hthoek 1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hte verbindingslijn 7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al 9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al 10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8ACB7-13BC-4915-96B3-32FAF2E7510B}" type="slidenum">
              <a:rPr b="0" lang="nl-NL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hthoek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hthoek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hthoek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hthoek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hthoek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hthoek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hte verbindingslijn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hte verbindingslijn 7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E9202-0E28-4C4F-A28E-B2A14CFE4FF6}" type="slidenum">
              <a:rPr b="0" lang="nl-NL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hte verbindingslijn 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hthoek 19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hthoek 1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hthoek 2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hthoek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hthoek 10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hthoek 26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hte verbindingslijn 14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hthoek 1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al 24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al 2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B5DCC-75A2-4EB8-9CE2-989707B8AC72}" type="slidenum">
              <a:rPr b="0" lang="nl-NL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hthoek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hthoek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hthoek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hthoek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hthoek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hthoek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hte verbindingslijn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Ova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96E7E-D11E-462F-AC0C-93536FEC3EB5}" type="slidenum">
              <a:rPr b="0" lang="nl-NL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hthoek 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hthoek 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hthoek 9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hthoek 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hthoek 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hthoek 5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1DAD6-B079-440D-8FC5-FD6B5BC052B2}" type="slidenum">
              <a:rPr b="0" lang="nl-NL" sz="16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hthoek 18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hthoek 14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hthoek 17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hthoek 15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hthoek 1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hthoek 1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hthoek 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hte verbindingslijn 8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Ovaal 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Ovaal 1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hthoek 2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7FA1D-74D9-4685-A9CC-1BFD172EF44B}" type="slidenum">
              <a:rPr b="0" lang="nl-NL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4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subTitle"/>
          </p:nvPr>
        </p:nvSpPr>
        <p:spPr>
          <a:xfrm>
            <a:off x="1332000" y="4005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646b86"/>
                </a:solidFill>
                <a:latin typeface="Georgia"/>
              </a:rPr>
              <a:t>IS DIT EEN PROBLEEM IN NEDERLAND?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d16349"/>
                </a:solidFill>
                <a:latin typeface="Georgia"/>
              </a:rPr>
              <a:t>Ondervoeding</a:t>
            </a:r>
            <a:endParaRPr b="0" lang="en-US" sz="42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7b9899"/>
                </a:solidFill>
                <a:latin typeface="Georgia"/>
              </a:rPr>
              <a:t>Ziekte en ondervoeding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86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Verminderde inname van voeding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Verminderde opname van voeding in de darme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Verhoogde behoefte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Verhoogde verliezen van energie en eiwitte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7b9899"/>
                </a:solidFill>
                <a:latin typeface="Georgia"/>
              </a:rPr>
              <a:t>Voedingsadviezen bij ondervoeding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88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Energie-eiwitverrijkt;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3 maaltijden en 3 tussenmaaltijden per dag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Ruim boter en beleg op het brood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Volle produkte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Voeg slagroom en suiker toe aan pap, vla, toetjes en dranke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Eiwitrijke tussendoortjes zoals milkshake, ijs, roomtoetje, roomkwark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7b9899"/>
                </a:solidFill>
                <a:latin typeface="Georgia"/>
              </a:rPr>
              <a:t>dieetvoeding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0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Komt persoon niet aan met energie-eiwitrijke maaltijden en tussenmaaltijden dan;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Dieetdrinkvoeding zoals nutridrink 2 of 3x per dag (400 kcal en 20 gram eiwit)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Lukt dit ook niet dan;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Nachtelijke sondevoeding of 24 uur sondevoeding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7b9899"/>
                </a:solidFill>
                <a:latin typeface="Georgia"/>
              </a:rPr>
              <a:t>Meetbaar maken van ondervoeding: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2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Weegschaal,mn gewichtsverloop volge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Handknijpkracht meten en volge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Huidplooimetinge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Dexameting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Klinische blik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3" name="Picture 2" descr=""/>
          <p:cNvPicPr/>
          <p:nvPr/>
        </p:nvPicPr>
        <p:blipFill>
          <a:blip r:embed="rId1"/>
          <a:stretch/>
        </p:blipFill>
        <p:spPr>
          <a:xfrm>
            <a:off x="252360" y="392040"/>
            <a:ext cx="8639280" cy="608652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4" name="Picture 2" descr="C:\Users\Mies\Downloads\ondervoeding\images.jpg"/>
          <p:cNvPicPr/>
          <p:nvPr/>
        </p:nvPicPr>
        <p:blipFill>
          <a:blip r:embed="rId1"/>
          <a:stretch/>
        </p:blipFill>
        <p:spPr>
          <a:xfrm>
            <a:off x="2195640" y="1773360"/>
            <a:ext cx="4680000" cy="295092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5" name="Picture 2" descr=""/>
          <p:cNvPicPr/>
          <p:nvPr/>
        </p:nvPicPr>
        <p:blipFill>
          <a:blip r:embed="rId1"/>
          <a:stretch/>
        </p:blipFill>
        <p:spPr>
          <a:xfrm>
            <a:off x="252360" y="392040"/>
            <a:ext cx="8639280" cy="608652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6" name="Picture 3" descr="C:\Users\Mies\Downloads\ondervoeding\Handknijpkracht-meten-fysiotherapeut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990720" y="10663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7b9899"/>
                </a:solidFill>
                <a:latin typeface="Georgia"/>
              </a:rPr>
              <a:t>Chronische en acute ondervoeding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98" name="Picture 4" descr=""/>
          <p:cNvPicPr/>
          <p:nvPr/>
        </p:nvPicPr>
        <p:blipFill>
          <a:blip r:embed="rId1"/>
          <a:stretch/>
        </p:blipFill>
        <p:spPr>
          <a:xfrm>
            <a:off x="5435640" y="1773360"/>
            <a:ext cx="2921040" cy="4114800"/>
          </a:xfrm>
          <a:prstGeom prst="rect">
            <a:avLst/>
          </a:prstGeom>
          <a:ln w="0">
            <a:noFill/>
          </a:ln>
        </p:spPr>
      </p:pic>
      <p:pic>
        <p:nvPicPr>
          <p:cNvPr id="699" name="Picture 3" descr=""/>
          <p:cNvPicPr/>
          <p:nvPr/>
        </p:nvPicPr>
        <p:blipFill>
          <a:blip r:embed="rId2"/>
          <a:stretch/>
        </p:blipFill>
        <p:spPr>
          <a:xfrm>
            <a:off x="900000" y="2133720"/>
            <a:ext cx="3000600" cy="411480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7b9899"/>
                </a:solidFill>
                <a:latin typeface="Georgia"/>
              </a:rPr>
              <a:t>Wat is ondervoeding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66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Een lichamelijke toestand voorkomend uit een tekort aan voedingsstoffen, waarbij sprake is van een verminderd biologische functi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7b9899"/>
                </a:solidFill>
                <a:latin typeface="Georgia"/>
              </a:rPr>
              <a:t>Oorzaken van ondervoeding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68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Langdurig hongere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Door een verhoogde behoefte bij ziekte en een geringe inname hierdoor(koorts, pijn)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Door grote verliezen bv bij diarree, brake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Door een verhoogde energiebehoefte bv te snelle schildklierwerking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Door ziekte een verhoogde behoeften, het lichaam is topsport aan het bedrijve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7b9899"/>
                </a:solidFill>
                <a:latin typeface="Georgia"/>
              </a:rPr>
              <a:t>Ziekten met een verhoogde behoeften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0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Kanker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Longziekten zoals COPD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Darmziekten zoals Crohn en Colitu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Hartfalen, nierziekte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Brandwondpatiente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Anorexia  Nervosa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Alcoholiste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Oudere mensen met dementie, eenzaamheid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7b9899"/>
                </a:solidFill>
                <a:latin typeface="Georgia"/>
              </a:rPr>
              <a:t>Gevolgen van ondervoeding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2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Vermindering van algeheel functionere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Afname spierkracht(slikreflexen, kauwen)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Vermoeidheid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Depressie en apathi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Verminderde weerstand en kans op infectie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Slechtere wondgenezing, slechter herst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Groeiachterstand bij kindere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Kans op overlijden neemt to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7b9899"/>
                </a:solidFill>
                <a:latin typeface="Georgia"/>
              </a:rPr>
              <a:t>Wanneer gaat iemand afvallen?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4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Als datgene wat men eet niet voldoende is om het lichaam van energie te voorzie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Inname en verbruik niet in balans i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Men gaat zijn vetreserves en spiermassa aanspreken en verbruike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7b9899"/>
                </a:solidFill>
                <a:latin typeface="Georgia"/>
              </a:rPr>
              <a:t>	</a:t>
            </a:r>
            <a:r>
              <a:rPr b="0" lang="en-US" sz="1900" spc="-1" strike="noStrike">
                <a:solidFill>
                  <a:srgbClr val="7b9899"/>
                </a:solidFill>
                <a:latin typeface="Georgia"/>
              </a:rPr>
              <a:t>	</a:t>
            </a: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Neerwaartse spiraal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6" name=""/>
          <p:cNvSpPr txBox="1"/>
          <p:nvPr/>
        </p:nvSpPr>
        <p:spPr>
          <a:xfrm>
            <a:off x="609120" y="1600200"/>
            <a:ext cx="81536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72880" indent="-272880"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Ziekte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Inname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Complicaties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Behoefte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Verliezen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      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Slechte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voedingstoestand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Line 4"/>
          <p:cNvSpPr/>
          <p:nvPr/>
        </p:nvSpPr>
        <p:spPr>
          <a:xfrm>
            <a:off x="7315200" y="2666880"/>
            <a:ext cx="0" cy="297000"/>
          </a:xfrm>
          <a:prstGeom prst="line">
            <a:avLst/>
          </a:prstGeom>
          <a:ln w="50760">
            <a:solidFill>
              <a:srgbClr val="0000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Line 5"/>
          <p:cNvSpPr/>
          <p:nvPr/>
        </p:nvSpPr>
        <p:spPr>
          <a:xfrm>
            <a:off x="7696080" y="3886200"/>
            <a:ext cx="0" cy="297000"/>
          </a:xfrm>
          <a:prstGeom prst="line">
            <a:avLst/>
          </a:prstGeom>
          <a:ln w="50760">
            <a:solidFill>
              <a:srgbClr val="000099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9" name="Object 2" descr=""/>
          <p:cNvPicPr/>
          <p:nvPr/>
        </p:nvPicPr>
        <p:blipFill>
          <a:blip r:embed="rId1"/>
          <a:stretch/>
        </p:blipFill>
        <p:spPr>
          <a:xfrm>
            <a:off x="2959200" y="2438280"/>
            <a:ext cx="2820960" cy="265428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subTitle"/>
          </p:nvPr>
        </p:nvSpPr>
        <p:spPr>
          <a:xfrm>
            <a:off x="1371600" y="1371240"/>
            <a:ext cx="64771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ff00"/>
                </a:solidFill>
                <a:latin typeface="Georgia"/>
              </a:rPr>
              <a:t>ENERGIEBALANS = INNAME + VERBRUIK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d16349"/>
                </a:solidFill>
                <a:latin typeface="Georgia"/>
              </a:rPr>
              <a:t>Herstel &amp; Balans</a:t>
            </a:r>
            <a:br>
              <a:rPr sz="4200"/>
            </a:br>
            <a:endParaRPr b="0" lang="en-US" sz="42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82" name="Picture 4" descr="WEEGSCHL"/>
          <p:cNvPicPr/>
          <p:nvPr/>
        </p:nvPicPr>
        <p:blipFill>
          <a:blip r:embed="rId1"/>
          <a:stretch/>
        </p:blipFill>
        <p:spPr>
          <a:xfrm>
            <a:off x="2133720" y="2362320"/>
            <a:ext cx="476244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32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6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7b9899"/>
                </a:solidFill>
                <a:latin typeface="Georgia"/>
              </a:rPr>
              <a:t>Hoe kunnen wij ondervoeding herkennen?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84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Onbedoeld veel afvallen in korte tijd;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6 kg in 6 maanden of 3 kg in 1 maand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Verminderde eetlust afgelopen maand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Elasticiteit van de huid verminderd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Diepliggende oge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Doffe haren, nagels breken sn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6T17:42:13Z</dcterms:created>
  <dc:creator>Rianne Nooijen</dc:creator>
  <dc:description/>
  <dc:language>en-US</dc:language>
  <cp:lastModifiedBy>Rianne van Heertum</cp:lastModifiedBy>
  <dcterms:modified xsi:type="dcterms:W3CDTF">2015-02-10T08:26:19Z</dcterms:modified>
  <cp:revision>6</cp:revision>
  <dc:subject/>
  <dc:title>Ondervoeding</dc:title>
</cp:coreProperties>
</file>