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4.jpeg" ContentType="image/jpeg"/>
  <Override PartName="/ppt/media/image2.png" ContentType="image/png"/>
  <Override PartName="/ppt/media/image27.jpeg" ContentType="image/jpeg"/>
  <Override PartName="/ppt/media/image6.jpeg" ContentType="image/jpeg"/>
  <Override PartName="/ppt/media/image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3.png" ContentType="image/png"/>
  <Override PartName="/ppt/media/image29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30.png" ContentType="image/png"/>
  <Override PartName="/ppt/media/image3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23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dt" idx="40"/>
          </p:nvPr>
        </p:nvSpPr>
        <p:spPr>
          <a:xfrm>
            <a:off x="388584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 type="sldImg"/>
          </p:nvPr>
        </p:nvSpPr>
        <p:spPr>
          <a:xfrm>
            <a:off x="901440" y="761760"/>
            <a:ext cx="4978440" cy="373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 type="ftr" idx="41"/>
          </p:nvPr>
        </p:nvSpPr>
        <p:spPr>
          <a:xfrm>
            <a:off x="-360" y="94489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 type="sldNum" idx="42"/>
          </p:nvPr>
        </p:nvSpPr>
        <p:spPr>
          <a:xfrm>
            <a:off x="388584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2EEFC-1F9F-409B-B0DF-A0E05389D41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B76B1-F0E9-4815-B27B-501522A8C00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Aanwezigheid doornemen met de patien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47C0D-A1C2-4E44-9D07-E4EAB1BBDF7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r zijn smeersels voor het brood en melkproducten waaraan plantenstanolen of sterolen zijn toegevoeg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Het is een waardevolle aanvulling. Bekijk het in uw totale voe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Minder verzadigd v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Meer bewe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1AFB5-C7A6-4A92-8237-F35F1235889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Cholesterol is een vetachtige stof die het lichaam nodig heeft als bouwstof voor lichaamscellen en hormonen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Zonder cholesterol kan het lichaam niet goed functioner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Groot gedeelte maakt het lichaam zelf aan en een klein gedeelte komt uit de voed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Uitleggen dat als het om cholesterol gaat dan gaat het om het cholesterol bij elkaar opgetel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FF606-268C-42BE-B169-82B14442FF6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e linkervoeding bevat drie keer zoveel v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B898C-C782-45EB-B119-312501CA588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Regelmatig bewegen is goed voor de gezondheid, de kans op diabetes en overgewicht is klei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Gezond bewegen betekent elke dag actief zij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Twijfelt u over uw gezondheid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Fysiotherapeut/ arts geeft adviezen over het juiste tempo, en het verkennen van uw grenz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Vragen naar mogelijke manieren om te beweg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Tuinieren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Blokje om, stevig doorwandel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Traplop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tevig fiets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82363-DC97-4D9A-A84A-B549D1CAA9A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Twee verschillende soorten cholesterol HDL LDL choles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LDL veroorzaakt gemakkelijk verstoppingen, slechte choleste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HDL voert het teveel aan cholesterol juist a naar de lev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AABDC-9DAE-4C87-B703-CF75616E85C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Cholesterolgehalte wordt gemeten met behulp van een bloedonderzoe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Bij wie is er een verhoogd cholesterol gemet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Wie kan oorzaken noemen van een te hoog cholesterol gehalt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Het eten van veel verzadigd v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Het eten van veel cholesterolrijk et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en te hoog lichaamsgewicht (sommige processen veranderen in het lichaam waardoor het cholesterol hoger wordt vooral bij buikv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Het LDL wordt hoger terwijl het HDL lager word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rfelijke aanleg: sommige mensen hebben erfelijke aanleg hypercholesterolem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Bij mensen met Diabete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8D154-43E0-4508-AA62-BB58AC1C3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7BFCA-B4CB-4E33-8AB4-F577FC1DF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9F077-8D5C-4447-942D-50E439321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9B82D-6AAE-47A5-9056-525A83CF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C8148-436B-4FD3-A620-FE7AE589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B75F2-AF4A-4CDE-B9C5-4A4CED86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051E1E-5E30-47A2-8723-838655243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85161-0DEC-4C88-AA67-64CD09F86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32432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59160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205704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432432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59160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FBD59-70B2-41B9-9DCD-550F54AF4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855404-8A89-464C-9190-C1FA7AB84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A80A1-AA7E-452B-AD81-4DEB20AE0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A0B34-7CC5-44F5-9FD8-765E02378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545EEB-A15D-43FE-86DA-40AFE6936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C668D9-3C1D-49A6-B879-C63FCBB13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4ED21E-D2B0-4EE3-B37E-DA505CAFA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AEFA7D-796A-4755-A169-68112DB9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590CEB-D113-422F-8897-429D446A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AB4FA-45C5-4E45-A5F0-CE5199AE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6D902C-76EC-4E8A-ABF9-3FFF61BDD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85FF72-9607-4994-9DE3-CE7B595AE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2432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9160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05704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32432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9160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32432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59160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205704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32432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59160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9F22B3-4774-47E1-A0CC-3D5805379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51801A-9A5C-426A-A75B-9793AB323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F5219F-1100-4C8F-A367-4BC31BAF8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E9E96D-DBA3-416D-9CBF-C70375236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0BC7D8-E19F-4722-A086-446F557EA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C78A9E-1772-4A80-A1DD-D1B681415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08C414-3D88-4C2D-91E0-E408B4293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D961A3-40D7-47C0-A48B-62912143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0968D9-CD33-4F75-8EB9-1463853F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0813FC-0C7A-45DA-9378-0F26BC77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13B281-FE58-4F90-8ABC-AB6C96D03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FB2432-FC4F-4A7D-87CF-F943FD44E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32432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59160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205704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432432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59160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AF1153-787E-4381-80B4-71FCB4D8F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74B5C0-2929-4F61-B672-DFA5FF073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CA366A-294E-4595-B923-CF01D677A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B9C62C-2884-4698-86C4-1DCC98C5E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1007FC-C274-402F-9B1C-413ED1B23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0A250D-44FC-4EFD-9DE7-C10645FDB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AA55B1-4202-4FF9-B8BC-370FF0EA7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6A5839-F5BB-4FAB-B0FC-3860766C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833328-B738-41D5-9A08-C20E4B38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0FC259-9DE4-408B-821B-70FD9FFC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EA05D0-4F69-4EB0-8002-6818C134C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6A4C81-35B2-4A32-9853-F4AC40F40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32432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59160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205704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432432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59160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2A918F-A9E8-4147-B7DA-1CF26F362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3C6D03-6D03-4D8E-B10F-C640A19EA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37B92B-7F46-44B2-8336-D9451312C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0FC4DA-9668-44C7-9659-7C4E0E279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206F2B-01C7-49C2-8193-CB5EF9038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333579-2C21-4D34-9B12-B75404F7E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FBF1E5-5BDF-4BB0-9E0B-D498FC2DD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F185A2-0810-47B4-A0A3-8CA2D863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42B537-337C-40FD-A7B0-D3400807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5C0F1A-1286-425F-963F-1F05940B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818F4D-89BE-4235-B5A9-0FE623921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A9D634-5799-4358-8C4F-72AF9965C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32432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59160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205704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432432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59160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C6EE45-27A6-42BF-9A4B-DC8E0C21A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F87A68-DE33-488E-9403-6B810869F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9F6D96-2E4B-4F73-881A-A256FB37A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3B10D6-6E57-4B39-91B2-896FE232C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D2F9C7-DF17-4D9F-A98D-5D8EC8F81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A4D349-B34B-414D-B204-5BA74CE18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FE3823-00FD-45D2-8618-10BBB6ADF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1C8BB6-CE3B-4935-A0E6-C1E8325E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B46949-F01F-4E62-8B08-02D759ED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B64D17-7441-4D81-AF5E-99A00D6C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531453-0906-44FD-901D-D5FCC6747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039052-5066-46AE-9FB3-A9B917795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32432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59160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205704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432432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59160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2CE95B-D86D-43BA-B839-8B92C6B29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DFB9EA-4CD3-466B-AD84-A77414DC0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FABE5D-DE30-4E5D-AD52-150A83712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B8F16A-6732-4F67-A0C8-C19D90CFB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4C37F2-8A42-4512-97F8-1F4540D5F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3E2D7C-1C04-464E-9ED3-5BF114C75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39D2BE-560B-4BDA-A8D4-9C32B0039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49AFBC-B5B0-42F2-AA90-25D4185C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69CEDB-71E7-41C8-BCE9-F4ABCE68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DE8067-683E-4390-9445-0D7335B2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3AB36B-FFAF-4084-8C8F-FD7860961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58B71E-DB21-4ABF-9ECF-61BD5DC5D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32432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59160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205704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432432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59160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DA27A3-E323-482E-96D4-362176DDA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18A83E-6D00-41AA-B08A-C80B263E5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F15C2B-6502-4514-AD75-F18BD799D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F07117-AFC5-4933-83C1-5E6477974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A90FEB-0109-4213-80FE-7D526977F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AF0619-E2C1-47EF-945C-F5B5AFD7F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989A59-80EF-446A-A100-4C4D7E89D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16EA98-D2DA-42BD-9C22-F1820331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059328-8F03-437A-9AF2-8E092FC1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A9D25B-695C-40BA-A6B9-091B4496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124ABF-78B9-4B04-BA01-9824296BB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DD8F08-1FDB-45FE-82D0-F5A764BE4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32432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59160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205704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432432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59160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CF5C4B-C281-45D3-8FEF-874A534D0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2432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9160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05704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32432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59160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2432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59160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205704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432432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59160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5F00-711B-43A2-A6BB-640AF5592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6622-9DDB-43B7-B01F-383A3CA07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E499-949C-4B79-BB34-DB9D658D8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0374-DF2F-4FDD-9A00-8F2F35419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8001-BA48-4285-9B70-7C0A2AD45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581B-5698-475E-9FB1-698B36280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17CF-D8D1-452D-9B53-09B0EF71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257E-17C9-443C-8833-73A0B4CC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BFE6-789A-4414-9304-AB1BD219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6A6D-CA3A-4B81-9579-4C8612479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C769-87FF-44F2-93E9-1759DBAF7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32432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59160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205704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432432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59160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FC1C-7F48-4D8C-A6AE-205E3E5C9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CC89E-04FC-4B69-8F64-076176FCE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6064D-D52A-44F8-8D85-CD80DA158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EC80D-4A79-4557-B8B0-3C46D0661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4504B-1DA8-4343-A7CE-3ABB9D5FB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48336-8960-485A-9B76-7C8B797AB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3E6B9-8DC7-4728-86B6-AEB7A2A15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89F0A-B935-4A37-87D6-1CD3056C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00995-4E65-4350-9D11-1DD72F5D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C7787-88A2-4FD2-93DF-433825BA7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3F0E1-98CA-4A24-90D8-20F11472F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03FCA-AA2E-4E0C-BD60-A4F16AE40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32432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59160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205704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432432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59160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11882-55C2-4343-92C3-0EBA7F642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1E54F-4B92-4A3D-B090-9F837C598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C8FB8-65BC-4C22-9E82-7C5757765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08CAB-953D-452A-9D12-2976D0323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17F2C-1F1C-4666-904C-D2F8E9DF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814CA-089C-4731-9E3C-C45C5F4B7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F1866-8CA9-4948-980B-C0E207A5E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23B8B-074B-4EE4-A294-134D5450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A422E-1640-4364-B1F9-B35B16CD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14DDE-6C0C-4AE9-902E-7BFA4A2D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660BA-3921-409C-9EC4-289CAE116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9D3D2-532E-4D52-A82D-B0F2EF654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32432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59160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205704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432432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59160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483D3-43C5-4D9E-B9B6-D7DF9A490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867E5-8B1C-46A2-97E8-25B11CF0A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0C5C5-A2D1-4831-BF68-EBC818CCE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38754-2C90-4DB1-9E88-C634CF83F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923E0-93A7-47D8-AA62-D8B5C5A7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E7EC5-55AB-4331-8ABC-3B8F03D63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F31BD-E715-47A0-B513-7A88A877F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A3DE0-C0E6-45DB-B289-F7245535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BC6D1-7B30-4721-98DF-95392A7F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070DD-48EF-4E49-BEF0-697453B0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B64D4-9988-4BF5-8801-D20FAD390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AD300-50CD-442A-B4BB-525B06C07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32432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59160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205704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32432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59160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1BE1C-81FC-4FEA-900D-FD2C3D18C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3C483-548F-4249-8888-E2F6EB7F2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D9A29-6610-49FF-B200-63001C6AA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3A6BA-512D-4456-BA24-69001ED30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9437A5-E311-4B41-8D0B-AE531BF08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DE76F-225A-4FF9-85C9-F355AF3C3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103AE-349B-4504-A7E3-8B550C5B1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BF060-F965-4A4C-8023-1E77106C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9FCC9-7B64-4CBC-933A-57BC1FF8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99795-AB18-41F9-B3CA-9C468BB6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2670A-7D56-4E20-8D44-1A0006DE3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4AB1F-F7C0-473E-B697-82A583140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32432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59160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205704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432432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59160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03F10-CCFD-43DB-A623-CE891EC23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75CE6F-3873-4AF3-8331-3197236DF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F3FF0C-0C19-4E2A-8708-ED147D072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DEABF5-0583-453D-A0E4-B0E3B93E0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4" descr=""/>
          <p:cNvPicPr/>
          <p:nvPr/>
        </p:nvPicPr>
        <p:blipFill>
          <a:blip r:embed="rId2"/>
          <a:stretch/>
        </p:blipFill>
        <p:spPr>
          <a:xfrm>
            <a:off x="584280" y="88920"/>
            <a:ext cx="8788320" cy="6769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6934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0" spc="-1" strike="noStrike">
                <a:solidFill>
                  <a:srgbClr val="9e005d"/>
                </a:solidFill>
                <a:latin typeface="Calibri"/>
              </a:rPr>
              <a:t>Click to edit the title text format</a:t>
            </a:r>
            <a:endParaRPr b="1" lang="en-US" sz="70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Afbeelding 15" descr=""/>
          <p:cNvPicPr/>
          <p:nvPr/>
        </p:nvPicPr>
        <p:blipFill>
          <a:blip r:embed="rId2"/>
          <a:stretch/>
        </p:blipFill>
        <p:spPr>
          <a:xfrm>
            <a:off x="0" y="88920"/>
            <a:ext cx="3035160" cy="676908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6"/>
          <p:cNvSpPr/>
          <p:nvPr/>
        </p:nvSpPr>
        <p:spPr>
          <a:xfrm>
            <a:off x="2058840" y="6400800"/>
            <a:ext cx="98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dat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6"/>
          <p:cNvSpPr/>
          <p:nvPr/>
        </p:nvSpPr>
        <p:spPr>
          <a:xfrm>
            <a:off x="33526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copyr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4724280" y="6400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aute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6"/>
          <p:cNvSpPr/>
          <p:nvPr/>
        </p:nvSpPr>
        <p:spPr>
          <a:xfrm>
            <a:off x="7848720" y="6400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vers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4" marL="20574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19"/>
          </p:nvPr>
        </p:nvSpPr>
        <p:spPr>
          <a:xfrm>
            <a:off x="20574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0"/>
          </p:nvPr>
        </p:nvSpPr>
        <p:spPr>
          <a:xfrm>
            <a:off x="3962160" y="6324480"/>
            <a:ext cx="990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1"/>
          </p:nvPr>
        </p:nvSpPr>
        <p:spPr>
          <a:xfrm>
            <a:off x="8076960" y="632448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75171-0853-42B4-865B-0B9C20933A02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Afbeelding 15" descr=""/>
          <p:cNvPicPr/>
          <p:nvPr/>
        </p:nvPicPr>
        <p:blipFill>
          <a:blip r:embed="rId2"/>
          <a:stretch/>
        </p:blipFill>
        <p:spPr>
          <a:xfrm>
            <a:off x="0" y="88920"/>
            <a:ext cx="3035160" cy="6769080"/>
          </a:xfrm>
          <a:prstGeom prst="rect">
            <a:avLst/>
          </a:prstGeom>
          <a:ln w="0">
            <a:noFill/>
          </a:ln>
        </p:spPr>
      </p:pic>
      <p:sp>
        <p:nvSpPr>
          <p:cNvPr id="412" name="Rectangle 6"/>
          <p:cNvSpPr/>
          <p:nvPr/>
        </p:nvSpPr>
        <p:spPr>
          <a:xfrm>
            <a:off x="2058840" y="6400800"/>
            <a:ext cx="98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dat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6"/>
          <p:cNvSpPr/>
          <p:nvPr/>
        </p:nvSpPr>
        <p:spPr>
          <a:xfrm>
            <a:off x="33526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copyr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6"/>
          <p:cNvSpPr/>
          <p:nvPr/>
        </p:nvSpPr>
        <p:spPr>
          <a:xfrm>
            <a:off x="4724280" y="6400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aute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6"/>
          <p:cNvSpPr/>
          <p:nvPr/>
        </p:nvSpPr>
        <p:spPr>
          <a:xfrm>
            <a:off x="7848720" y="6400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vers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4" marL="20574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22"/>
          </p:nvPr>
        </p:nvSpPr>
        <p:spPr>
          <a:xfrm>
            <a:off x="20574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23"/>
          </p:nvPr>
        </p:nvSpPr>
        <p:spPr>
          <a:xfrm>
            <a:off x="3962160" y="6324480"/>
            <a:ext cx="990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24"/>
          </p:nvPr>
        </p:nvSpPr>
        <p:spPr>
          <a:xfrm>
            <a:off x="8076960" y="632448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3E3AE-9CDF-4A68-ABF0-DBC11961A592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Afbeelding 15" descr=""/>
          <p:cNvPicPr/>
          <p:nvPr/>
        </p:nvPicPr>
        <p:blipFill>
          <a:blip r:embed="rId2"/>
          <a:stretch/>
        </p:blipFill>
        <p:spPr>
          <a:xfrm>
            <a:off x="0" y="88920"/>
            <a:ext cx="3035160" cy="6769080"/>
          </a:xfrm>
          <a:prstGeom prst="rect">
            <a:avLst/>
          </a:prstGeom>
          <a:ln w="0">
            <a:noFill/>
          </a:ln>
        </p:spPr>
      </p:pic>
      <p:sp>
        <p:nvSpPr>
          <p:cNvPr id="458" name="Rectangle 6"/>
          <p:cNvSpPr/>
          <p:nvPr/>
        </p:nvSpPr>
        <p:spPr>
          <a:xfrm>
            <a:off x="2058840" y="6400800"/>
            <a:ext cx="98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dat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6"/>
          <p:cNvSpPr/>
          <p:nvPr/>
        </p:nvSpPr>
        <p:spPr>
          <a:xfrm>
            <a:off x="33526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copyr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6"/>
          <p:cNvSpPr/>
          <p:nvPr/>
        </p:nvSpPr>
        <p:spPr>
          <a:xfrm>
            <a:off x="4724280" y="6400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aute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6"/>
          <p:cNvSpPr/>
          <p:nvPr/>
        </p:nvSpPr>
        <p:spPr>
          <a:xfrm>
            <a:off x="7848720" y="6400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vers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4" marL="20574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25"/>
          </p:nvPr>
        </p:nvSpPr>
        <p:spPr>
          <a:xfrm>
            <a:off x="20574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26"/>
          </p:nvPr>
        </p:nvSpPr>
        <p:spPr>
          <a:xfrm>
            <a:off x="3962160" y="6324480"/>
            <a:ext cx="990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27"/>
          </p:nvPr>
        </p:nvSpPr>
        <p:spPr>
          <a:xfrm>
            <a:off x="8076960" y="632448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273F9-D481-47C9-9F99-623E61F35FFA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Afbeelding 15" descr=""/>
          <p:cNvPicPr/>
          <p:nvPr/>
        </p:nvPicPr>
        <p:blipFill>
          <a:blip r:embed="rId2"/>
          <a:stretch/>
        </p:blipFill>
        <p:spPr>
          <a:xfrm>
            <a:off x="0" y="88920"/>
            <a:ext cx="3035160" cy="6769080"/>
          </a:xfrm>
          <a:prstGeom prst="rect">
            <a:avLst/>
          </a:prstGeom>
          <a:ln w="0">
            <a:noFill/>
          </a:ln>
        </p:spPr>
      </p:pic>
      <p:sp>
        <p:nvSpPr>
          <p:cNvPr id="504" name="Rectangle 6"/>
          <p:cNvSpPr/>
          <p:nvPr/>
        </p:nvSpPr>
        <p:spPr>
          <a:xfrm>
            <a:off x="2058840" y="6400800"/>
            <a:ext cx="98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dat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6"/>
          <p:cNvSpPr/>
          <p:nvPr/>
        </p:nvSpPr>
        <p:spPr>
          <a:xfrm>
            <a:off x="33526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copyr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Rectangle 6"/>
          <p:cNvSpPr/>
          <p:nvPr/>
        </p:nvSpPr>
        <p:spPr>
          <a:xfrm>
            <a:off x="4724280" y="6400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aute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Rectangle 6"/>
          <p:cNvSpPr/>
          <p:nvPr/>
        </p:nvSpPr>
        <p:spPr>
          <a:xfrm>
            <a:off x="7848720" y="6400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vers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4" marL="20574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28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29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30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A25CF-6C5F-4CBC-BA7F-16A037C48A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Afbeelding 15" descr=""/>
          <p:cNvPicPr/>
          <p:nvPr/>
        </p:nvPicPr>
        <p:blipFill>
          <a:blip r:embed="rId2"/>
          <a:stretch/>
        </p:blipFill>
        <p:spPr>
          <a:xfrm>
            <a:off x="0" y="88920"/>
            <a:ext cx="3035160" cy="6769080"/>
          </a:xfrm>
          <a:prstGeom prst="rect">
            <a:avLst/>
          </a:prstGeom>
          <a:ln w="0">
            <a:noFill/>
          </a:ln>
        </p:spPr>
      </p:pic>
      <p:sp>
        <p:nvSpPr>
          <p:cNvPr id="550" name="Rectangle 6"/>
          <p:cNvSpPr/>
          <p:nvPr/>
        </p:nvSpPr>
        <p:spPr>
          <a:xfrm>
            <a:off x="2058840" y="6400800"/>
            <a:ext cx="98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dat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6"/>
          <p:cNvSpPr/>
          <p:nvPr/>
        </p:nvSpPr>
        <p:spPr>
          <a:xfrm>
            <a:off x="33526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copyr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6"/>
          <p:cNvSpPr/>
          <p:nvPr/>
        </p:nvSpPr>
        <p:spPr>
          <a:xfrm>
            <a:off x="4724280" y="6400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aute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6"/>
          <p:cNvSpPr/>
          <p:nvPr/>
        </p:nvSpPr>
        <p:spPr>
          <a:xfrm>
            <a:off x="7848720" y="6400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vers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4" marL="20574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1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3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4E7D-4BD0-447A-901A-AF081BFA69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Afbeelding 15" descr=""/>
          <p:cNvPicPr/>
          <p:nvPr/>
        </p:nvPicPr>
        <p:blipFill>
          <a:blip r:embed="rId2"/>
          <a:stretch/>
        </p:blipFill>
        <p:spPr>
          <a:xfrm>
            <a:off x="0" y="88920"/>
            <a:ext cx="3035160" cy="6769080"/>
          </a:xfrm>
          <a:prstGeom prst="rect">
            <a:avLst/>
          </a:prstGeom>
          <a:ln w="0">
            <a:noFill/>
          </a:ln>
        </p:spPr>
      </p:pic>
      <p:sp>
        <p:nvSpPr>
          <p:cNvPr id="596" name="Rectangle 6"/>
          <p:cNvSpPr/>
          <p:nvPr/>
        </p:nvSpPr>
        <p:spPr>
          <a:xfrm>
            <a:off x="2058840" y="6400800"/>
            <a:ext cx="98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dat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6"/>
          <p:cNvSpPr/>
          <p:nvPr/>
        </p:nvSpPr>
        <p:spPr>
          <a:xfrm>
            <a:off x="33526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copyr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6"/>
          <p:cNvSpPr/>
          <p:nvPr/>
        </p:nvSpPr>
        <p:spPr>
          <a:xfrm>
            <a:off x="4724280" y="6400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aute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6"/>
          <p:cNvSpPr/>
          <p:nvPr/>
        </p:nvSpPr>
        <p:spPr>
          <a:xfrm>
            <a:off x="7848720" y="6400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vers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4" marL="20574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dt" idx="34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ftr" idx="3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 type="sldNum" idx="3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E84B3-4CAC-4FC8-99EA-273EE4AE6B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Afbeelding 15" descr=""/>
          <p:cNvPicPr/>
          <p:nvPr/>
        </p:nvPicPr>
        <p:blipFill>
          <a:blip r:embed="rId2"/>
          <a:stretch/>
        </p:blipFill>
        <p:spPr>
          <a:xfrm>
            <a:off x="0" y="88920"/>
            <a:ext cx="3035160" cy="6769080"/>
          </a:xfrm>
          <a:prstGeom prst="rect">
            <a:avLst/>
          </a:prstGeom>
          <a:ln w="0">
            <a:noFill/>
          </a:ln>
        </p:spPr>
      </p:pic>
      <p:sp>
        <p:nvSpPr>
          <p:cNvPr id="642" name="Rectangle 6"/>
          <p:cNvSpPr/>
          <p:nvPr/>
        </p:nvSpPr>
        <p:spPr>
          <a:xfrm>
            <a:off x="2058840" y="6400800"/>
            <a:ext cx="98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dat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Rectangle 6"/>
          <p:cNvSpPr/>
          <p:nvPr/>
        </p:nvSpPr>
        <p:spPr>
          <a:xfrm>
            <a:off x="33526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copyr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4724280" y="6400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aute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Rectangle 6"/>
          <p:cNvSpPr/>
          <p:nvPr/>
        </p:nvSpPr>
        <p:spPr>
          <a:xfrm>
            <a:off x="7848720" y="6400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vers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4" marL="20574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37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3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39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09236-E207-40EB-BBD7-ED5AACD96D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Afbeelding 15" descr=""/>
          <p:cNvPicPr/>
          <p:nvPr/>
        </p:nvPicPr>
        <p:blipFill>
          <a:blip r:embed="rId2"/>
          <a:stretch/>
        </p:blipFill>
        <p:spPr>
          <a:xfrm>
            <a:off x="0" y="88920"/>
            <a:ext cx="3035160" cy="67690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4" marL="20574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2058840" y="6400800"/>
            <a:ext cx="98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dat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3526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copyr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4724280" y="6400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aute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7848720" y="6400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vers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Afbeelding 4" descr=""/>
          <p:cNvPicPr/>
          <p:nvPr/>
        </p:nvPicPr>
        <p:blipFill>
          <a:blip r:embed="rId2"/>
          <a:stretch/>
        </p:blipFill>
        <p:spPr>
          <a:xfrm>
            <a:off x="584280" y="88920"/>
            <a:ext cx="8788320" cy="6769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6934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0" spc="-1" strike="noStrike">
                <a:solidFill>
                  <a:srgbClr val="9e005d"/>
                </a:solidFill>
                <a:latin typeface="Calibri"/>
              </a:rPr>
              <a:t>Click to edit the title text format</a:t>
            </a:r>
            <a:endParaRPr b="1" lang="en-US" sz="70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Afbeelding 4" descr=""/>
          <p:cNvPicPr/>
          <p:nvPr/>
        </p:nvPicPr>
        <p:blipFill>
          <a:blip r:embed="rId2"/>
          <a:stretch/>
        </p:blipFill>
        <p:spPr>
          <a:xfrm>
            <a:off x="584280" y="88920"/>
            <a:ext cx="8788320" cy="67690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6934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0" spc="-1" strike="noStrike">
                <a:solidFill>
                  <a:srgbClr val="9e005d"/>
                </a:solidFill>
                <a:latin typeface="Calibri"/>
              </a:rPr>
              <a:t>Click to edit the title text format</a:t>
            </a:r>
            <a:endParaRPr b="1" lang="en-US" sz="70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E601C-E043-45F6-9AD1-D08F09DC53F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Afbeelding 4" descr=""/>
          <p:cNvPicPr/>
          <p:nvPr/>
        </p:nvPicPr>
        <p:blipFill>
          <a:blip r:embed="rId2"/>
          <a:stretch/>
        </p:blipFill>
        <p:spPr>
          <a:xfrm>
            <a:off x="584280" y="88920"/>
            <a:ext cx="8788320" cy="676908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6934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0" spc="-1" strike="noStrike">
                <a:solidFill>
                  <a:srgbClr val="9e005d"/>
                </a:solidFill>
                <a:latin typeface="Calibri"/>
              </a:rPr>
              <a:t>Click to edit the title text format</a:t>
            </a:r>
            <a:endParaRPr b="1" lang="en-US" sz="70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4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EEE94-A4C5-4770-8088-D749F748F83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Afbeelding 4" descr=""/>
          <p:cNvPicPr/>
          <p:nvPr/>
        </p:nvPicPr>
        <p:blipFill>
          <a:blip r:embed="rId2"/>
          <a:stretch/>
        </p:blipFill>
        <p:spPr>
          <a:xfrm>
            <a:off x="584280" y="88920"/>
            <a:ext cx="8788320" cy="676908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6934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0" spc="-1" strike="noStrike">
                <a:solidFill>
                  <a:srgbClr val="9e005d"/>
                </a:solidFill>
                <a:latin typeface="Calibri"/>
              </a:rPr>
              <a:t>Click to edit the title text format</a:t>
            </a:r>
            <a:endParaRPr b="1" lang="en-US" sz="70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dt" idx="7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ftr" idx="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sldNum" idx="9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76639-FA6A-4FE1-9676-4E5CEE89DF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Afbeelding 4" descr=""/>
          <p:cNvPicPr/>
          <p:nvPr/>
        </p:nvPicPr>
        <p:blipFill>
          <a:blip r:embed="rId2"/>
          <a:stretch/>
        </p:blipFill>
        <p:spPr>
          <a:xfrm>
            <a:off x="584280" y="88920"/>
            <a:ext cx="8788320" cy="676908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6934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0" spc="-1" strike="noStrike">
                <a:solidFill>
                  <a:srgbClr val="9e005d"/>
                </a:solidFill>
                <a:latin typeface="Calibri"/>
              </a:rPr>
              <a:t>Click to edit the title text format</a:t>
            </a:r>
            <a:endParaRPr b="1" lang="en-US" sz="70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dt" idx="10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1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12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B2464-7435-428E-8F4C-988A501C475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Afbeelding 4" descr=""/>
          <p:cNvPicPr/>
          <p:nvPr/>
        </p:nvPicPr>
        <p:blipFill>
          <a:blip r:embed="rId2"/>
          <a:stretch/>
        </p:blipFill>
        <p:spPr>
          <a:xfrm>
            <a:off x="584280" y="88920"/>
            <a:ext cx="8788320" cy="676908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6934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0" spc="-1" strike="noStrike">
                <a:solidFill>
                  <a:srgbClr val="9e005d"/>
                </a:solidFill>
                <a:latin typeface="Calibri"/>
              </a:rPr>
              <a:t>Click to edit the title text format</a:t>
            </a:r>
            <a:endParaRPr b="1" lang="en-US" sz="70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3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14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15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B6F1E-BF55-41BB-A241-4FEC343943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Afbeelding 4" descr=""/>
          <p:cNvPicPr/>
          <p:nvPr/>
        </p:nvPicPr>
        <p:blipFill>
          <a:blip r:embed="rId2"/>
          <a:stretch/>
        </p:blipFill>
        <p:spPr>
          <a:xfrm>
            <a:off x="584280" y="88920"/>
            <a:ext cx="8788320" cy="676908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6934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0" spc="-1" strike="noStrike">
                <a:solidFill>
                  <a:srgbClr val="9e005d"/>
                </a:solidFill>
                <a:latin typeface="Calibri"/>
              </a:rPr>
              <a:t>Click to edit the title text format</a:t>
            </a:r>
            <a:endParaRPr b="1" lang="en-US" sz="70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dt" idx="16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ftr" idx="17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sldNum" idx="18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6D91E-0250-4078-89CC-01D42175908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source=images&amp;cd=&amp;cad=rja&amp;uact=8&amp;ved=0ahUKEwictKXm4efLAhXCYQ8KHc8MCEEQjRwIBw&amp;url=http%3A%2F%2Fwww.voedingscentrum.nl%2Fnl%2Fgezond-eten-met-de-schijf-van-vijf.aspx&amp;psig=AFQjCNGS803GMEIPaOLnwEZkMO7HMZ64zw&amp;ust=1459405065446596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9e005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9e005d"/>
                </a:solidFill>
                <a:latin typeface="Calibri"/>
              </a:rPr>
              <a:t>Jeroen Bosch Ziekenhuis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9e005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9e005d"/>
                </a:solidFill>
                <a:latin typeface="Calibri"/>
              </a:rPr>
              <a:t>Afdeling Diëtetiek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title"/>
          </p:nvPr>
        </p:nvSpPr>
        <p:spPr>
          <a:xfrm>
            <a:off x="1371600" y="1600200"/>
            <a:ext cx="61927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000000"/>
                </a:solidFill>
                <a:latin typeface="Georgia"/>
              </a:rPr>
              <a:t>Cardio-revalidatie </a:t>
            </a:r>
            <a:br>
              <a:rPr sz="3900"/>
            </a:br>
            <a:endParaRPr b="1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Text Box 5124"/>
          <p:cNvSpPr/>
          <p:nvPr/>
        </p:nvSpPr>
        <p:spPr>
          <a:xfrm>
            <a:off x="1981080" y="3276720"/>
            <a:ext cx="51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Cholesterol en Vett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7" name="Picture 2" descr="C:\Documents and Settings\boogaard\Mijn documenten\Mijn afbeeldingen\noten.gif"/>
          <p:cNvPicPr/>
          <p:nvPr/>
        </p:nvPicPr>
        <p:blipFill>
          <a:blip r:embed="rId1"/>
          <a:stretch/>
        </p:blipFill>
        <p:spPr>
          <a:xfrm>
            <a:off x="3809880" y="4419720"/>
            <a:ext cx="2133720" cy="21333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738" name="Picture 3" descr="http://www.typicaldutchstuff.com/croma.jpg"/>
          <p:cNvPicPr/>
          <p:nvPr/>
        </p:nvPicPr>
        <p:blipFill>
          <a:blip r:embed="rId2"/>
          <a:stretch/>
        </p:blipFill>
        <p:spPr>
          <a:xfrm>
            <a:off x="6553080" y="1066680"/>
            <a:ext cx="1935360" cy="16369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739" name="Picture 4" descr="http://www.lunch4kids.com/getfile.php?id=478"/>
          <p:cNvPicPr/>
          <p:nvPr/>
        </p:nvPicPr>
        <p:blipFill>
          <a:blip r:embed="rId3"/>
          <a:stretch/>
        </p:blipFill>
        <p:spPr>
          <a:xfrm>
            <a:off x="685800" y="4724280"/>
            <a:ext cx="2360520" cy="17719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58672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000000"/>
                </a:solidFill>
                <a:latin typeface="Calibri"/>
              </a:rPr>
              <a:t>Waar zit o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nverzadigd vet</a:t>
            </a:r>
            <a:r>
              <a:rPr b="1" lang="nl-NL" sz="3300" spc="-1" strike="noStrike">
                <a:solidFill>
                  <a:srgbClr val="000000"/>
                </a:solidFill>
                <a:latin typeface="Calibri"/>
              </a:rPr>
              <a:t> in?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Text Box 6"/>
          <p:cNvSpPr/>
          <p:nvPr/>
        </p:nvSpPr>
        <p:spPr>
          <a:xfrm>
            <a:off x="457200" y="1523880"/>
            <a:ext cx="5638680" cy="19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Producten met (vloeibare) plantaardige vetten of visvett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lie, vloeibare margarin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Noten, sojaprodukten,vette 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2" name="Picture 7" descr="http://www.agrotropical.andes.com/olive_oil/bot2peq.jpg"/>
          <p:cNvPicPr/>
          <p:nvPr/>
        </p:nvPicPr>
        <p:blipFill>
          <a:blip r:embed="rId4"/>
          <a:stretch/>
        </p:blipFill>
        <p:spPr>
          <a:xfrm>
            <a:off x="6553080" y="2819520"/>
            <a:ext cx="2035440" cy="20764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743" name="Picture 8" descr="http://www.becel.be/images/prod/becelomega3plus-big.gif"/>
          <p:cNvPicPr/>
          <p:nvPr/>
        </p:nvPicPr>
        <p:blipFill>
          <a:blip r:embed="rId5"/>
          <a:stretch/>
        </p:blipFill>
        <p:spPr>
          <a:xfrm>
            <a:off x="6172200" y="4572000"/>
            <a:ext cx="2590920" cy="1936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2"/>
          <p:cNvSpPr/>
          <p:nvPr/>
        </p:nvSpPr>
        <p:spPr>
          <a:xfrm>
            <a:off x="685800" y="1676520"/>
            <a:ext cx="7772400" cy="28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574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i max. 2-3 per we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574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rgaanvlees, garnalen, paling, mosselen 1 x per 2 wek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574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Roomboter, slagro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Rectangle 3"/>
          <p:cNvSpPr/>
          <p:nvPr/>
        </p:nvSpPr>
        <p:spPr>
          <a:xfrm>
            <a:off x="990720" y="609480"/>
            <a:ext cx="777240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Stijging van het cholesterol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met name het LD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6" name="Picture 5" descr="http://www.freewebs.com/hanenburg/ei01.jpg"/>
          <p:cNvPicPr/>
          <p:nvPr/>
        </p:nvPicPr>
        <p:blipFill>
          <a:blip r:embed="rId1"/>
          <a:stretch/>
        </p:blipFill>
        <p:spPr>
          <a:xfrm>
            <a:off x="990720" y="4191120"/>
            <a:ext cx="1657080" cy="220968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7" descr="http://nl.dreamstime.com/verse-garnalen-thumb2452450.jpg"/>
          <p:cNvPicPr/>
          <p:nvPr/>
        </p:nvPicPr>
        <p:blipFill>
          <a:blip r:embed="rId2"/>
          <a:stretch/>
        </p:blipFill>
        <p:spPr>
          <a:xfrm>
            <a:off x="3851280" y="4797360"/>
            <a:ext cx="1508040" cy="127152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9" descr="http://www.devuurdoorn.be/images/mosselen2.jpg"/>
          <p:cNvPicPr/>
          <p:nvPr/>
        </p:nvPicPr>
        <p:blipFill>
          <a:blip r:embed="rId3"/>
          <a:stretch/>
        </p:blipFill>
        <p:spPr>
          <a:xfrm>
            <a:off x="6324480" y="3962520"/>
            <a:ext cx="1905120" cy="1541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2195640" y="3428640"/>
            <a:ext cx="6262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Stelling:</a:t>
            </a:r>
            <a:endParaRPr b="0" lang="en-US" sz="2800" spc="-1" strike="noStrike">
              <a:solidFill>
                <a:srgbClr val="9e005d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ls ik deze producten gebruik doe ik voldoende om mijn cholesterol te verlagen. </a:t>
            </a:r>
            <a:endParaRPr b="0" lang="en-US" sz="28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title"/>
          </p:nvPr>
        </p:nvSpPr>
        <p:spPr>
          <a:xfrm>
            <a:off x="2050920" y="1218960"/>
            <a:ext cx="6483600" cy="23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r zijn speciale producten 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(‘functional foods’) op de markt 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ie het cholesterolgehalte in het bloed 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met 10-15% kunnen verlagen.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 txBox="1"/>
          <p:nvPr/>
        </p:nvSpPr>
        <p:spPr>
          <a:xfrm>
            <a:off x="533520" y="1483920"/>
            <a:ext cx="77724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Calibri"/>
              </a:rPr>
              <a:t>Broodsmeersels en zuivelproducten</a:t>
            </a:r>
            <a:endParaRPr b="0" lang="en-US" sz="29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Calibri"/>
              </a:rPr>
              <a:t>Plantensterolen / plantenstanolen</a:t>
            </a:r>
            <a:endParaRPr b="0" lang="en-US" sz="29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Calibri"/>
              </a:rPr>
              <a:t>Verlaagt LDL door verminderde opname </a:t>
            </a:r>
            <a:endParaRPr b="0" lang="en-US" sz="29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900" spc="-1" strike="noStrike">
                <a:solidFill>
                  <a:srgbClr val="000000"/>
                </a:solidFill>
                <a:latin typeface="Calibri"/>
              </a:rPr>
              <a:t>van cholesterol in de darmen.</a:t>
            </a:r>
            <a:endParaRPr b="0" lang="en-US" sz="29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Calibri"/>
              </a:rPr>
              <a:t>Bij gebruik van cholesterolverlagende medicatie eerst arts raadplegen.</a:t>
            </a:r>
            <a:endParaRPr b="0" lang="en-US" sz="29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Cholesterolverlagende producten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3" name="Group 5"/>
          <p:cNvGrpSpPr/>
          <p:nvPr/>
        </p:nvGrpSpPr>
        <p:grpSpPr>
          <a:xfrm>
            <a:off x="3475080" y="2052720"/>
            <a:ext cx="8572320" cy="360"/>
            <a:chOff x="3475080" y="2052720"/>
            <a:chExt cx="8572320" cy="360"/>
          </a:xfrm>
        </p:grpSpPr>
        <p:sp>
          <p:nvSpPr>
            <p:cNvPr id="754" name="Rectangle 6"/>
            <p:cNvSpPr/>
            <p:nvPr/>
          </p:nvSpPr>
          <p:spPr>
            <a:xfrm>
              <a:off x="3475080" y="2052720"/>
              <a:ext cx="8572320" cy="360"/>
            </a:xfrm>
            <a:prstGeom prst="rect">
              <a:avLst/>
            </a:prstGeom>
            <a:solidFill>
              <a:srgbClr val="f2f8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7"/>
            <p:cNvSpPr/>
            <p:nvPr/>
          </p:nvSpPr>
          <p:spPr>
            <a:xfrm>
              <a:off x="3475080" y="2052720"/>
              <a:ext cx="8572320" cy="360"/>
            </a:xfrm>
            <a:prstGeom prst="rect">
              <a:avLst/>
            </a:prstGeom>
            <a:solidFill>
              <a:srgbClr val="f2f8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56" name="Picture 8" descr="http://u1.peersphere.net/becelwebsite/controller/image.jpg?livelinkDataID=5740277"/>
          <p:cNvPicPr/>
          <p:nvPr/>
        </p:nvPicPr>
        <p:blipFill>
          <a:blip r:embed="rId1"/>
          <a:stretch/>
        </p:blipFill>
        <p:spPr>
          <a:xfrm>
            <a:off x="6858000" y="4572000"/>
            <a:ext cx="911160" cy="19810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757" name="Picture 9" descr="http://u1.peersphere.net/becelwebsite/controller/image.jpg?livelinkDataID=5671511"/>
          <p:cNvPicPr/>
          <p:nvPr/>
        </p:nvPicPr>
        <p:blipFill>
          <a:blip r:embed="rId2"/>
          <a:stretch/>
        </p:blipFill>
        <p:spPr>
          <a:xfrm>
            <a:off x="3733920" y="4876920"/>
            <a:ext cx="2209680" cy="15238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 txBox="1"/>
          <p:nvPr/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nverzadigde vetzuren in de voeding</a:t>
            </a:r>
            <a:endParaRPr b="0" lang="en-US" sz="2800" spc="-1" strike="noStrike">
              <a:solidFill>
                <a:srgbClr val="9e005d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e005d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ij producten met vet kiezen voor de</a:t>
            </a:r>
            <a:endParaRPr b="0" lang="en-US" sz="2800" spc="-1" strike="noStrike">
              <a:solidFill>
                <a:srgbClr val="9e005d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oorten die weinig verzadigd vet bevatten,</a:t>
            </a:r>
            <a:endParaRPr b="0" lang="en-US" sz="2800" spc="-1" strike="noStrike">
              <a:solidFill>
                <a:srgbClr val="9e005d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et grootste deel van het vet is dan automatisch onverzadigd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HDL verhogend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 txBox="1"/>
          <p:nvPr/>
        </p:nvSpPr>
        <p:spPr>
          <a:xfrm>
            <a:off x="380880" y="205740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V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erzadigd = </a:t>
            </a:r>
            <a:r>
              <a:rPr b="1" lang="nl-NL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V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erkeerd</a:t>
            </a:r>
            <a:endParaRPr b="0" lang="en-US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ff00"/>
                </a:solidFill>
                <a:latin typeface="Calibri"/>
                <a:ea typeface="Times New Roman"/>
              </a:rPr>
              <a:t>O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nverzadigd = </a:t>
            </a:r>
            <a:r>
              <a:rPr b="1" lang="nl-NL" sz="3600" spc="-1" strike="noStrike">
                <a:solidFill>
                  <a:srgbClr val="00ff00"/>
                </a:solidFill>
                <a:latin typeface="Calibri"/>
                <a:ea typeface="Times New Roman"/>
              </a:rPr>
              <a:t>O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ké</a:t>
            </a:r>
            <a:endParaRPr b="0" lang="en-US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000000"/>
                </a:solidFill>
                <a:latin typeface="Calibri"/>
              </a:rPr>
              <a:t>Smeren en bakken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2340000" y="1219320"/>
            <a:ext cx="568800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Smeren:</a:t>
            </a:r>
            <a:endParaRPr b="0" lang="en-US" sz="20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Margarine</a:t>
            </a:r>
            <a:endParaRPr b="0" lang="en-US" sz="18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± 80% vet</a:t>
            </a:r>
            <a:endParaRPr b="0" lang="en-US" sz="18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Halvarine</a:t>
            </a:r>
            <a:endParaRPr b="0" lang="en-US" sz="18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± 40% vet</a:t>
            </a:r>
            <a:endParaRPr b="0" lang="en-US" sz="18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ieet</a:t>
            </a:r>
            <a:endParaRPr b="0" lang="en-US" sz="18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Gunstige verhouding onverzadigde vetten  </a:t>
            </a:r>
            <a:endParaRPr b="0" lang="en-US" sz="18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t.o.v. verzadigde vetten.  </a:t>
            </a:r>
            <a:endParaRPr b="0" lang="en-US" sz="18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Bakken:</a:t>
            </a:r>
            <a:endParaRPr b="0" lang="en-US" sz="20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k- en braadvet/ olijfolie</a:t>
            </a:r>
            <a:endParaRPr b="0" lang="en-US" sz="18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90 – 100% vet</a:t>
            </a:r>
            <a:endParaRPr b="0" lang="en-US" sz="18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loeibaar </a:t>
            </a:r>
            <a:endParaRPr b="0" lang="en-US" sz="1800" spc="-1" strike="noStrike">
              <a:solidFill>
                <a:srgbClr val="9e005d"/>
              </a:solidFill>
              <a:latin typeface="Calibri"/>
            </a:endParaRPr>
          </a:p>
        </p:txBody>
      </p:sp>
      <p:pic>
        <p:nvPicPr>
          <p:cNvPr id="764" name="Picture 1029" descr="30021"/>
          <p:cNvPicPr/>
          <p:nvPr/>
        </p:nvPicPr>
        <p:blipFill>
          <a:blip r:embed="rId1"/>
          <a:stretch/>
        </p:blipFill>
        <p:spPr>
          <a:xfrm>
            <a:off x="6172200" y="685800"/>
            <a:ext cx="1704960" cy="1658880"/>
          </a:xfrm>
          <a:prstGeom prst="rect">
            <a:avLst/>
          </a:prstGeom>
          <a:ln w="0">
            <a:noFill/>
          </a:ln>
        </p:spPr>
      </p:pic>
      <p:pic>
        <p:nvPicPr>
          <p:cNvPr id="765" name="Picture 1028" descr="30022"/>
          <p:cNvPicPr/>
          <p:nvPr/>
        </p:nvPicPr>
        <p:blipFill>
          <a:blip r:embed="rId2"/>
          <a:stretch/>
        </p:blipFill>
        <p:spPr>
          <a:xfrm>
            <a:off x="395280" y="1341360"/>
            <a:ext cx="1577880" cy="165888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1031" descr="30105"/>
          <p:cNvPicPr/>
          <p:nvPr/>
        </p:nvPicPr>
        <p:blipFill>
          <a:blip r:embed="rId3"/>
          <a:stretch/>
        </p:blipFill>
        <p:spPr>
          <a:xfrm>
            <a:off x="5943600" y="4114800"/>
            <a:ext cx="947880" cy="230364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1032" descr="30106"/>
          <p:cNvPicPr/>
          <p:nvPr/>
        </p:nvPicPr>
        <p:blipFill>
          <a:blip r:embed="rId4"/>
          <a:stretch/>
        </p:blipFill>
        <p:spPr>
          <a:xfrm>
            <a:off x="468360" y="4292640"/>
            <a:ext cx="1639800" cy="230328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1033" descr="http://www.delicasa.nl/shop/image.php?productid=17407"/>
          <p:cNvPicPr/>
          <p:nvPr/>
        </p:nvPicPr>
        <p:blipFill>
          <a:blip r:embed="rId5"/>
          <a:stretch/>
        </p:blipFill>
        <p:spPr>
          <a:xfrm>
            <a:off x="8001000" y="2590920"/>
            <a:ext cx="792000" cy="18478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1295280" y="25146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300" spc="-1" strike="noStrike">
                <a:solidFill>
                  <a:srgbClr val="000000"/>
                </a:solidFill>
                <a:latin typeface="Calibri"/>
              </a:rPr>
              <a:t>Dieetmargarine is minder vet </a:t>
            </a:r>
            <a:r>
              <a:rPr b="0" lang="nl-NL" sz="3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300" spc="-1" strike="noStrike">
                <a:solidFill>
                  <a:srgbClr val="000000"/>
                </a:solidFill>
                <a:latin typeface="Calibri"/>
              </a:rPr>
              <a:t>dan roomboter.</a:t>
            </a:r>
            <a:endParaRPr b="0" lang="en-US" sz="33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Stelling 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000000"/>
                </a:solidFill>
                <a:latin typeface="Calibri"/>
              </a:rPr>
              <a:t>Etiket lezen: Welke te kiezen?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3"/>
          <p:cNvSpPr/>
          <p:nvPr/>
        </p:nvSpPr>
        <p:spPr>
          <a:xfrm>
            <a:off x="0" y="1955880"/>
            <a:ext cx="9144000" cy="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3" name=""/>
          <p:cNvGraphicFramePr/>
          <p:nvPr/>
        </p:nvGraphicFramePr>
        <p:xfrm>
          <a:off x="457200" y="1828800"/>
          <a:ext cx="8366040" cy="4022640"/>
        </p:xfrm>
        <a:graphic>
          <a:graphicData uri="http://schemas.openxmlformats.org/drawingml/2006/table">
            <a:tbl>
              <a:tblPr/>
              <a:tblGrid>
                <a:gridCol w="2891520"/>
                <a:gridCol w="1170360"/>
                <a:gridCol w="218880"/>
                <a:gridCol w="2915640"/>
                <a:gridCol w="116964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edings-waarde per 100 gr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1b1c20"/>
                          </a:solidFill>
                          <a:latin typeface="Times New Roman"/>
                          <a:ea typeface="Times New Roman"/>
                        </a:rPr>
                        <a:t>Voedings-waarde per 100 gr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836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ergi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iwit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olhydra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waarvan suik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waarvan verzadig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tr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enkelvoudig onverzadig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meervoudig onverzadig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0 Kc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1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1b1c20"/>
                          </a:solidFill>
                          <a:latin typeface="Times New Roman"/>
                          <a:ea typeface="Times New Roman"/>
                        </a:rPr>
                        <a:t>Energi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1b1c20"/>
                          </a:solidFill>
                          <a:latin typeface="Times New Roman"/>
                          <a:ea typeface="Times New Roman"/>
                        </a:rPr>
                        <a:t>Eiwit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1b1c20"/>
                          </a:solidFill>
                          <a:latin typeface="Times New Roman"/>
                          <a:ea typeface="Times New Roman"/>
                        </a:rPr>
                        <a:t>Koolhydra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1b1c20"/>
                          </a:solidFill>
                          <a:latin typeface="Times New Roman"/>
                          <a:ea typeface="Times New Roman"/>
                        </a:rPr>
                        <a:t>-waarvan suik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1b1c20"/>
                          </a:solidFill>
                          <a:latin typeface="Times New Roman"/>
                          <a:ea typeface="Times New Roman"/>
                        </a:rPr>
                        <a:t>V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1b1c20"/>
                          </a:solidFill>
                          <a:latin typeface="Times New Roman"/>
                          <a:ea typeface="Times New Roman"/>
                        </a:rPr>
                        <a:t>-waarvan verzadig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1b1c20"/>
                          </a:solidFill>
                          <a:latin typeface="Times New Roman"/>
                          <a:ea typeface="Times New Roman"/>
                        </a:rPr>
                        <a:t>-tr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1b1c20"/>
                          </a:solidFill>
                          <a:latin typeface="Times New Roman"/>
                          <a:ea typeface="Times New Roman"/>
                        </a:rPr>
                        <a:t>-enkelvoudig onverzadig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1b1c20"/>
                          </a:solidFill>
                          <a:latin typeface="Times New Roman"/>
                          <a:ea typeface="Times New Roman"/>
                        </a:rPr>
                        <a:t>-meervoudig onverzadig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1b1c20"/>
                          </a:solidFill>
                          <a:latin typeface="Times New Roman"/>
                          <a:ea typeface="Times New Roman"/>
                        </a:rPr>
                        <a:t>720 kc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sp>
        <p:nvSpPr>
          <p:cNvPr id="774" name="Text Box 30"/>
          <p:cNvSpPr/>
          <p:nvPr/>
        </p:nvSpPr>
        <p:spPr>
          <a:xfrm>
            <a:off x="457200" y="2209680"/>
            <a:ext cx="288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Dieetmargar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Text Box 31"/>
          <p:cNvSpPr/>
          <p:nvPr/>
        </p:nvSpPr>
        <p:spPr>
          <a:xfrm>
            <a:off x="4724280" y="22096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Margar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Wel menu bevat veel vet?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Rectangle 35"/>
          <p:cNvSpPr/>
          <p:nvPr/>
        </p:nvSpPr>
        <p:spPr>
          <a:xfrm>
            <a:off x="3240" y="271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Rectangle 80"/>
          <p:cNvSpPr/>
          <p:nvPr/>
        </p:nvSpPr>
        <p:spPr>
          <a:xfrm>
            <a:off x="3240" y="695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Text Box 217"/>
          <p:cNvSpPr/>
          <p:nvPr/>
        </p:nvSpPr>
        <p:spPr>
          <a:xfrm>
            <a:off x="228600" y="1676520"/>
            <a:ext cx="4038480" cy="441684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Boterhammen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garine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as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ffie met koffieme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bakken aardappelen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haktbal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ente met boter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oomvla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221"/>
          <p:cNvSpPr/>
          <p:nvPr/>
        </p:nvSpPr>
        <p:spPr>
          <a:xfrm>
            <a:off x="4648320" y="1676520"/>
            <a:ext cx="4038480" cy="441684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5 Boterham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alvarine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Rookvlees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offie met h.v. koffiemel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ekookte aardappelen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ipfi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roente zonder bo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Rode saus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gere vruchtenyoghu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 txBox="1"/>
          <p:nvPr/>
        </p:nvSpPr>
        <p:spPr>
          <a:xfrm>
            <a:off x="60948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Functie: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- celwanden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- vitamine D</a:t>
            </a:r>
            <a:endParaRPr b="0" lang="en-US" sz="3000" spc="-1" strike="noStrike">
              <a:solidFill>
                <a:srgbClr val="9e005d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- hormonen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- gal</a:t>
            </a:r>
            <a:endParaRPr b="0" lang="en-US" sz="3000" spc="-1" strike="noStrike">
              <a:solidFill>
                <a:srgbClr val="9e005d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e005d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Soorten:</a:t>
            </a:r>
            <a:endParaRPr b="0" lang="en-US" sz="3000" spc="-1" strike="noStrike">
              <a:solidFill>
                <a:srgbClr val="9e005d"/>
              </a:solidFill>
              <a:latin typeface="Calibri"/>
            </a:endParaRPr>
          </a:p>
          <a:p>
            <a:pPr lvl="3" marL="1584000" indent="-226080">
              <a:spcBef>
                <a:spcPts val="649"/>
              </a:spcBef>
              <a:buClr>
                <a:srgbClr val="000000"/>
              </a:buClr>
              <a:buSzPct val="50000"/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HDL</a:t>
            </a:r>
            <a:endParaRPr b="0" lang="en-US" sz="2600" spc="-1" strike="noStrike">
              <a:solidFill>
                <a:srgbClr val="9e005d"/>
              </a:solidFill>
              <a:latin typeface="Calibri"/>
            </a:endParaRPr>
          </a:p>
          <a:p>
            <a:pPr lvl="3" marL="1584000" indent="-226080">
              <a:spcBef>
                <a:spcPts val="649"/>
              </a:spcBef>
              <a:buClr>
                <a:srgbClr val="000000"/>
              </a:buClr>
              <a:buSzPct val="50000"/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LDL</a:t>
            </a:r>
            <a:endParaRPr b="0" lang="en-US" sz="2600" spc="-1" strike="noStrike">
              <a:solidFill>
                <a:srgbClr val="9e005d"/>
              </a:solidFill>
              <a:latin typeface="Calibri"/>
            </a:endParaRPr>
          </a:p>
          <a:p>
            <a:pPr lvl="3" marL="1584000" indent="-226080">
              <a:spcBef>
                <a:spcPts val="649"/>
              </a:spcBef>
              <a:buClr>
                <a:srgbClr val="000000"/>
              </a:buClr>
              <a:buSzPct val="50000"/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Totaal cholesterol </a:t>
            </a:r>
            <a:endParaRPr b="0" lang="en-US" sz="2600" spc="-1" strike="noStrike">
              <a:solidFill>
                <a:srgbClr val="9e005d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= HDL + LDL</a:t>
            </a:r>
            <a:endParaRPr b="0" lang="en-US" sz="3000" spc="-1" strike="noStrike">
              <a:solidFill>
                <a:srgbClr val="9e005d"/>
              </a:solidFill>
              <a:latin typeface="Calibri"/>
            </a:endParaRPr>
          </a:p>
          <a:p>
            <a:pPr lvl="1" marL="735480" indent="-282960">
              <a:spcBef>
                <a:spcPts val="751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Cholesterol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9" name="Picture 4" descr="http://www.phillips-fit.co.uk/pfiles/images/HDL%20LDL.jpg"/>
          <p:cNvPicPr/>
          <p:nvPr/>
        </p:nvPicPr>
        <p:blipFill>
          <a:blip r:embed="rId1"/>
          <a:stretch/>
        </p:blipFill>
        <p:spPr>
          <a:xfrm>
            <a:off x="5486400" y="3505320"/>
            <a:ext cx="2438280" cy="19303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228600" y="9907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Vet dagmen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4648320" y="99072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Mager dagmen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3240" y="271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Rectangle 6"/>
          <p:cNvSpPr/>
          <p:nvPr/>
        </p:nvSpPr>
        <p:spPr>
          <a:xfrm>
            <a:off x="3240" y="695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Text Box 7"/>
          <p:cNvSpPr/>
          <p:nvPr/>
        </p:nvSpPr>
        <p:spPr>
          <a:xfrm>
            <a:off x="228600" y="1676520"/>
            <a:ext cx="4038480" cy="441684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Boterhammen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garine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20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as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20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ffie met koffiemelk      12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bakken aardappelen      12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haktbal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13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ente met boter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3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16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oomvla                              5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1g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Text Box 8"/>
          <p:cNvSpPr/>
          <p:nvPr/>
        </p:nvSpPr>
        <p:spPr>
          <a:xfrm>
            <a:off x="4648320" y="1676520"/>
            <a:ext cx="4038480" cy="48553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5 Boterham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alvarine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 10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Rookvlees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5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offie met h.v. koffiemelk 6g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ekookte aardappelen        -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ipfilet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   3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roente zonder boter          -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Rode saus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   8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agere vruchten yoghurt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1g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32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 txBox="1"/>
          <p:nvPr/>
        </p:nvSpPr>
        <p:spPr>
          <a:xfrm>
            <a:off x="990720" y="144756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9e005d"/>
                </a:solidFill>
                <a:latin typeface="Calibri"/>
              </a:rPr>
              <a:t>	</a:t>
            </a:r>
            <a:r>
              <a:rPr b="0" lang="nl-NL" sz="2900" spc="-1" strike="noStrike">
                <a:solidFill>
                  <a:srgbClr val="9e005d"/>
                </a:solidFill>
                <a:latin typeface="Calibri"/>
              </a:rPr>
              <a:t>	</a:t>
            </a:r>
            <a:r>
              <a:rPr b="0" lang="nl-NL" sz="2900" spc="-1" strike="noStrike">
                <a:solidFill>
                  <a:srgbClr val="000000"/>
                </a:solidFill>
                <a:latin typeface="Calibri"/>
              </a:rPr>
              <a:t>- Lichaamsbeweging</a:t>
            </a:r>
            <a:endParaRPr b="0" lang="en-US" sz="29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Beïnvloeden van cholesterol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0" name="Picture 5" descr="http://www.debeus.be/trap01.jpg"/>
          <p:cNvPicPr/>
          <p:nvPr/>
        </p:nvPicPr>
        <p:blipFill>
          <a:blip r:embed="rId1"/>
          <a:stretch/>
        </p:blipFill>
        <p:spPr>
          <a:xfrm>
            <a:off x="1676520" y="2362320"/>
            <a:ext cx="2590560" cy="1942920"/>
          </a:xfrm>
          <a:prstGeom prst="rect">
            <a:avLst/>
          </a:prstGeom>
          <a:ln w="0">
            <a:noFill/>
          </a:ln>
        </p:spPr>
      </p:pic>
      <p:pic>
        <p:nvPicPr>
          <p:cNvPr id="791" name="Picture 7" descr="http://home.planet.nl/~pluym646/foto1/nordic-walking1.jpg"/>
          <p:cNvPicPr/>
          <p:nvPr/>
        </p:nvPicPr>
        <p:blipFill>
          <a:blip r:embed="rId2"/>
          <a:stretch/>
        </p:blipFill>
        <p:spPr>
          <a:xfrm>
            <a:off x="5029200" y="4038480"/>
            <a:ext cx="2438280" cy="1828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853416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000000"/>
                </a:solidFill>
                <a:latin typeface="Calibri"/>
              </a:rPr>
              <a:t>Wat gebruikt u zelf op brood </a:t>
            </a:r>
            <a:br>
              <a:rPr sz="3300"/>
            </a:br>
            <a:r>
              <a:rPr b="1" lang="nl-NL" sz="3300" spc="-1" strike="noStrike">
                <a:solidFill>
                  <a:srgbClr val="000000"/>
                </a:solidFill>
                <a:latin typeface="Calibri"/>
              </a:rPr>
              <a:t>of om in te bakken?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Text Box 3"/>
          <p:cNvSpPr/>
          <p:nvPr/>
        </p:nvSpPr>
        <p:spPr>
          <a:xfrm>
            <a:off x="2050920" y="2286000"/>
            <a:ext cx="610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Zou u momenteel kiezen voor een ander smeersel voor op brood of voor een ander bereidingsve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4" name="Picture 4" descr="http://www.kleinewereld.nl/images/brood.gif"/>
          <p:cNvPicPr/>
          <p:nvPr/>
        </p:nvPicPr>
        <p:blipFill>
          <a:blip r:embed="rId1"/>
          <a:stretch/>
        </p:blipFill>
        <p:spPr>
          <a:xfrm>
            <a:off x="3276720" y="4343400"/>
            <a:ext cx="2209680" cy="220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ubTitle"/>
          </p:nvPr>
        </p:nvSpPr>
        <p:spPr>
          <a:xfrm>
            <a:off x="2268360" y="2666520"/>
            <a:ext cx="6113520" cy="22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ww.voedingscentrum.nl</a:t>
            </a:r>
            <a:endParaRPr b="0" lang="en-US" sz="3200" spc="-1" strike="noStrike">
              <a:solidFill>
                <a:srgbClr val="9e005d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ww.becel.nl</a:t>
            </a:r>
            <a:endParaRPr b="0" lang="en-US" sz="3200" spc="-1" strike="noStrike">
              <a:solidFill>
                <a:srgbClr val="9e005d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ww.cholesterol.nl</a:t>
            </a:r>
            <a:endParaRPr b="0" lang="en-US" sz="3200" spc="-1" strike="noStrike">
              <a:solidFill>
                <a:srgbClr val="9e005d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000000"/>
                </a:solidFill>
                <a:latin typeface="Calibri"/>
              </a:rPr>
              <a:t>Websites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Bloedv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Text Box 4"/>
          <p:cNvSpPr/>
          <p:nvPr/>
        </p:nvSpPr>
        <p:spPr>
          <a:xfrm>
            <a:off x="5791320" y="1981080"/>
            <a:ext cx="28954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LDL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stapelt het cholesterol en vet op in de bloedvat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2" name="Picture 5" descr="\\domein1.lan\dfs\UserData\evdbogaard\Mijn afbeeldingen\gezonde ader.jpg"/>
          <p:cNvPicPr/>
          <p:nvPr/>
        </p:nvPicPr>
        <p:blipFill>
          <a:blip r:embed="rId1"/>
          <a:stretch/>
        </p:blipFill>
        <p:spPr>
          <a:xfrm>
            <a:off x="4648320" y="4495680"/>
            <a:ext cx="3886200" cy="160992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6" descr="\\domein1.lan\dfs\UserData\evdbogaard\Mijn afbeeldingen\zieke ader.jpg"/>
          <p:cNvPicPr/>
          <p:nvPr/>
        </p:nvPicPr>
        <p:blipFill>
          <a:blip r:embed="rId2"/>
          <a:stretch/>
        </p:blipFill>
        <p:spPr>
          <a:xfrm>
            <a:off x="838080" y="2057400"/>
            <a:ext cx="3810240" cy="1550880"/>
          </a:xfrm>
          <a:prstGeom prst="rect">
            <a:avLst/>
          </a:prstGeom>
          <a:ln w="0">
            <a:noFill/>
          </a:ln>
        </p:spPr>
      </p:pic>
      <p:sp>
        <p:nvSpPr>
          <p:cNvPr id="704" name="Text Box 7"/>
          <p:cNvSpPr/>
          <p:nvPr/>
        </p:nvSpPr>
        <p:spPr>
          <a:xfrm>
            <a:off x="685800" y="4419720"/>
            <a:ext cx="38098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HDL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haalt het vet en cholesterol weg uit de bloedvat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 txBox="1"/>
          <p:nvPr/>
        </p:nvSpPr>
        <p:spPr>
          <a:xfrm>
            <a:off x="914400" y="1483920"/>
            <a:ext cx="77724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otaal cholesterol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ager dan 5,0 mmol/l</a:t>
            </a:r>
            <a:endParaRPr b="0" lang="en-US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DL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man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ger dan 1,0 mmol/l</a:t>
            </a:r>
            <a:endParaRPr b="0" lang="en-US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vrouw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ger dan 1,2 mmol/l</a:t>
            </a:r>
            <a:endParaRPr b="0" lang="en-US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DL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ager dan 2,5 mmol/l</a:t>
            </a:r>
            <a:endParaRPr b="0" lang="en-US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houding totaal cholesterol en HDL </a:t>
            </a:r>
            <a:endParaRPr b="0" lang="en-US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ager dan 5,0 mmol/l</a:t>
            </a:r>
            <a:endParaRPr b="0" lang="en-US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+ Trigliceriden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ager dan 1,7 mmol/l</a:t>
            </a:r>
            <a:endParaRPr b="0" lang="en-US" sz="3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000000"/>
                </a:solidFill>
                <a:latin typeface="Calibri"/>
              </a:rPr>
              <a:t>Cholesterol normaalwaarden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000000"/>
                </a:solidFill>
                <a:latin typeface="Calibri"/>
              </a:rPr>
              <a:t>Vetten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Text Box 3"/>
          <p:cNvSpPr/>
          <p:nvPr/>
        </p:nvSpPr>
        <p:spPr>
          <a:xfrm>
            <a:off x="3962520" y="914400"/>
            <a:ext cx="2133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4"/>
          <p:cNvSpPr/>
          <p:nvPr/>
        </p:nvSpPr>
        <p:spPr>
          <a:xfrm>
            <a:off x="6781680" y="2438280"/>
            <a:ext cx="213372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AGaramond"/>
              </a:rPr>
              <a:t>Verzadigd v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Rectangle 5"/>
          <p:cNvSpPr/>
          <p:nvPr/>
        </p:nvSpPr>
        <p:spPr>
          <a:xfrm>
            <a:off x="5779440" y="4800600"/>
            <a:ext cx="2533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AGaramond"/>
              </a:rPr>
              <a:t>Onverzadigd v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Rectangle 6"/>
          <p:cNvSpPr/>
          <p:nvPr/>
        </p:nvSpPr>
        <p:spPr>
          <a:xfrm>
            <a:off x="-183600" y="1752480"/>
            <a:ext cx="6138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AGaramond"/>
              </a:rPr>
              <a:t>Enkelvoudig onverzadigde vetzu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Rectangle 7"/>
          <p:cNvSpPr/>
          <p:nvPr/>
        </p:nvSpPr>
        <p:spPr>
          <a:xfrm>
            <a:off x="2154240" y="5486400"/>
            <a:ext cx="610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AGaramond"/>
              </a:rPr>
              <a:t>Meervoudig onverzadigde vetzu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Rectangle 8"/>
          <p:cNvSpPr/>
          <p:nvPr/>
        </p:nvSpPr>
        <p:spPr>
          <a:xfrm>
            <a:off x="3239280" y="1143000"/>
            <a:ext cx="170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AGaramond"/>
              </a:rPr>
              <a:t>Omega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Rectangle 9"/>
          <p:cNvSpPr/>
          <p:nvPr/>
        </p:nvSpPr>
        <p:spPr>
          <a:xfrm>
            <a:off x="6439680" y="3886200"/>
            <a:ext cx="170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AGaramond"/>
              </a:rPr>
              <a:t>Omega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Rectangle 10"/>
          <p:cNvSpPr/>
          <p:nvPr/>
        </p:nvSpPr>
        <p:spPr>
          <a:xfrm>
            <a:off x="420120" y="4724280"/>
            <a:ext cx="170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AGaramond"/>
              </a:rPr>
              <a:t>Omega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Rectangle 11"/>
          <p:cNvSpPr/>
          <p:nvPr/>
        </p:nvSpPr>
        <p:spPr>
          <a:xfrm>
            <a:off x="152280" y="3733920"/>
            <a:ext cx="158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AGaramond"/>
              </a:rPr>
              <a:t>Linolzu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Rectangle 12"/>
          <p:cNvSpPr/>
          <p:nvPr/>
        </p:nvSpPr>
        <p:spPr>
          <a:xfrm>
            <a:off x="2284920" y="4495680"/>
            <a:ext cx="30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AGaramond"/>
              </a:rPr>
              <a:t>Alfa-linoleenzu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Rectangle 13"/>
          <p:cNvSpPr/>
          <p:nvPr/>
        </p:nvSpPr>
        <p:spPr>
          <a:xfrm>
            <a:off x="380880" y="6019920"/>
            <a:ext cx="8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AGaramond"/>
              </a:rPr>
              <a:t>E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Rectangle 14"/>
          <p:cNvSpPr/>
          <p:nvPr/>
        </p:nvSpPr>
        <p:spPr>
          <a:xfrm>
            <a:off x="5541120" y="1371600"/>
            <a:ext cx="162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AGaramond"/>
              </a:rPr>
              <a:t>Transv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Rectangle 15"/>
          <p:cNvSpPr/>
          <p:nvPr/>
        </p:nvSpPr>
        <p:spPr>
          <a:xfrm>
            <a:off x="1143000" y="2590920"/>
            <a:ext cx="95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AGaramond"/>
              </a:rPr>
              <a:t>DH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16"/>
          <p:cNvSpPr/>
          <p:nvPr/>
        </p:nvSpPr>
        <p:spPr>
          <a:xfrm>
            <a:off x="2514600" y="2819520"/>
            <a:ext cx="3505320" cy="119124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ONTZETTEND VERWARRE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4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2"/>
          <p:cNvSpPr/>
          <p:nvPr/>
        </p:nvSpPr>
        <p:spPr>
          <a:xfrm>
            <a:off x="990720" y="2133720"/>
            <a:ext cx="7772400" cy="41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Times New Roman"/>
              </a:rPr>
              <a:t>Soort ve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Times New Roman"/>
              </a:rPr>
              <a:t>Minder verzadigd ve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Times New Roman"/>
              </a:rPr>
              <a:t>Meer onverzadigd ve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Times New Roman"/>
              </a:rPr>
              <a:t>Cholesterolverlagende producte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Rectangle 3"/>
          <p:cNvSpPr/>
          <p:nvPr/>
        </p:nvSpPr>
        <p:spPr>
          <a:xfrm>
            <a:off x="990720" y="6094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Beïnvloeden van cholester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Picture 2" descr="http://www.voedingscentrum.nl/Assets/Uploads/voedingscentrum/Images/Consumenten/Schijf%20van%20Vijf%202016/Schijf-van-Vijf-vakname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56000" y="981000"/>
            <a:ext cx="5209920" cy="4248360"/>
          </a:xfrm>
          <a:prstGeom prst="rect">
            <a:avLst/>
          </a:prstGeom>
          <a:ln w="0">
            <a:noFill/>
          </a:ln>
        </p:spPr>
      </p:pic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057040" y="563868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andacht voor voedingsvezels en variatie</a:t>
            </a:r>
            <a:endParaRPr b="0" lang="en-US" sz="28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 txBox="1"/>
          <p:nvPr/>
        </p:nvSpPr>
        <p:spPr>
          <a:xfrm>
            <a:off x="2057400" y="2060280"/>
            <a:ext cx="654696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havervlokken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havermout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arwekiemen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sojabonen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quinoa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Bonen (nieuwe schijf van vijf adviseert 1 keer in de week peulvruchten)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noten en zaden (eet ten minste 15 gram ongezouten noten per dag)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lijnzaad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09480" y="62028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Plantaardige voeding, vezelrijk,</a:t>
            </a:r>
            <a:br>
              <a:rPr sz="3000"/>
            </a:b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verlaagd het LDL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6172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000000"/>
                </a:solidFill>
                <a:latin typeface="Calibri"/>
              </a:rPr>
              <a:t>Waar zit verzadigd vet in?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Picture 6" descr="http://www.cheffen.nl/vlees1-thumb.jpg"/>
          <p:cNvPicPr/>
          <p:nvPr/>
        </p:nvPicPr>
        <p:blipFill>
          <a:blip r:embed="rId1"/>
          <a:stretch/>
        </p:blipFill>
        <p:spPr>
          <a:xfrm>
            <a:off x="685800" y="4572000"/>
            <a:ext cx="1457280" cy="1677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731" name="Picture 7" descr="http://images.vpro.nl/img.db?32155500+s(200)"/>
          <p:cNvPicPr/>
          <p:nvPr/>
        </p:nvPicPr>
        <p:blipFill>
          <a:blip r:embed="rId2"/>
          <a:stretch/>
        </p:blipFill>
        <p:spPr>
          <a:xfrm>
            <a:off x="7162920" y="3962520"/>
            <a:ext cx="1647720" cy="25146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732" name="Picture 8" descr="http://www.eventail-junior.be/images/croissant.jpg"/>
          <p:cNvPicPr/>
          <p:nvPr/>
        </p:nvPicPr>
        <p:blipFill>
          <a:blip r:embed="rId3"/>
          <a:stretch/>
        </p:blipFill>
        <p:spPr>
          <a:xfrm>
            <a:off x="2438280" y="4648320"/>
            <a:ext cx="1676520" cy="15904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733" name="Picture 9" descr="http://www.bakkerijkamstra.nl/images/Kamstras_Broodje_Kaas.jpg"/>
          <p:cNvPicPr/>
          <p:nvPr/>
        </p:nvPicPr>
        <p:blipFill>
          <a:blip r:embed="rId4"/>
          <a:stretch/>
        </p:blipFill>
        <p:spPr>
          <a:xfrm>
            <a:off x="4419720" y="4572000"/>
            <a:ext cx="2438280" cy="17254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734" name="Picture 10" descr="http://images.businessweek.com/ss/06/12/1206_transfats/image/margarine.jpg"/>
          <p:cNvPicPr/>
          <p:nvPr/>
        </p:nvPicPr>
        <p:blipFill>
          <a:blip r:embed="rId5"/>
          <a:stretch/>
        </p:blipFill>
        <p:spPr>
          <a:xfrm>
            <a:off x="7238880" y="990720"/>
            <a:ext cx="1676520" cy="14047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735" name="Picture 11" descr="http://www.reuserensmulders.nl/storage_accessories/189810los.jpg"/>
          <p:cNvPicPr/>
          <p:nvPr/>
        </p:nvPicPr>
        <p:blipFill>
          <a:blip r:embed="rId6"/>
          <a:stretch/>
        </p:blipFill>
        <p:spPr>
          <a:xfrm>
            <a:off x="7162920" y="2590920"/>
            <a:ext cx="1828800" cy="1245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736" name="Text Box 12"/>
          <p:cNvSpPr/>
          <p:nvPr/>
        </p:nvSpPr>
        <p:spPr>
          <a:xfrm>
            <a:off x="533520" y="1523880"/>
            <a:ext cx="6019560" cy="24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Calibri"/>
              </a:rPr>
              <a:t>Producten met dierlijke vetten zo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Calibri"/>
              </a:rPr>
              <a:t>Boter, volvette (48+) kaas, volle melk,   slagroom, vet vl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Calibri"/>
              </a:rPr>
              <a:t>En ook: chocolade, cake, snacks, koek, geba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5T07:29:13Z</dcterms:created>
  <dc:creator>rvheertum</dc:creator>
  <dc:description/>
  <dc:language>en-US</dc:language>
  <cp:lastModifiedBy>lvsluisveld</cp:lastModifiedBy>
  <dcterms:modified xsi:type="dcterms:W3CDTF">2016-05-04T09:34:19Z</dcterms:modified>
  <cp:revision>72</cp:revision>
  <dc:subject/>
  <dc:title>LANGER GEZOND MET GEZONDE EET-EN DRINKGEWOONTEN</dc:title>
</cp:coreProperties>
</file>