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9.gif" ContentType="image/gif"/>
  <Override PartName="/ppt/media/image1.jpeg" ContentType="image/jpeg"/>
  <Override PartName="/ppt/media/image18.gif" ContentType="image/gif"/>
  <Override PartName="/ppt/media/image17.png" ContentType="image/png"/>
  <Override PartName="/ppt/media/image16.wmf" ContentType="image/x-wmf"/>
  <Override PartName="/ppt/media/image15.gif" ContentType="image/gif"/>
  <Override PartName="/ppt/media/image3.jpeg" ContentType="image/jpeg"/>
  <Override PartName="/ppt/media/image2.jpeg" ContentType="image/jpeg"/>
  <Override PartName="/ppt/media/image6.gif" ContentType="image/gif"/>
  <Override PartName="/ppt/media/image7.gif" ContentType="image/gi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CAB-33C9-4DB8-A305-D05CD33F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D55-3C7E-422E-805C-9DE4AC2A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F10-0627-443B-BC8F-10CF755A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F27-400B-43F2-9DB3-84626BE2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C9E-5AB1-455D-80E3-7EB8FD0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D6B-2B93-4B5D-9450-B01C3453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AD5-E461-4744-B3A3-33401C3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02B-75AB-4109-B10A-50DFB37B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144-C22E-4A9C-AD94-C04250E7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0B9-4E8D-4D97-95F1-75A2852E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7A7-28A8-42FB-9EE3-97C88269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424-5756-4761-A5F0-1D52E6B3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2188-5F0C-4260-89CB-D434D0CC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D886-57F4-49D7-B3F5-4808A3F3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F733-0AB3-4872-8DCB-B6C064CA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4C1D-6B9C-4D84-93E3-321556D9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BEE-E92B-461C-A936-FF8CB145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0444-5A0B-47EA-8D07-0735BA8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7C69-2AC2-4F7E-BA70-1F1F87B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E1F3-7BDD-4FE6-AE2C-1038567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EAC3-CD22-4EE5-8079-5CB1C23A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86F9-34A0-4DA3-96EB-0FC37243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BF98-5090-4DF2-BDD2-CCB139D4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5777-07E3-45B2-8AD0-5143FACC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1504-FCFB-4696-BDC8-0BAF6A71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65C7-32FE-4129-9D72-7E4DFC0E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BB7F-A682-4F5E-A16B-D468D4F0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C9F5-B569-4FA3-BAE8-C6860E21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7633-5214-4B92-9B39-09E72952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D1E3-F074-45F3-B2B7-3637A560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3BA4-1133-4CB1-8CA1-D1AF4CD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A547-CEC7-4ED2-A7FA-5A8E20A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DE14-D189-45B7-AC49-BC836407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3ABD-A62A-4766-90B5-71FCFDC1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541B-7DE8-48B5-A5DA-D6A47B44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55FE-A980-42DC-9883-91B768DB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6220-F1CE-468B-88A5-4358D5DD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8CDC8-29CF-4AC2-B1E1-26CAE9C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124B-92AD-4C0D-9A8B-2E16D1E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71ECA-79DF-4D78-BE35-A2AEF061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5E0D-FF4F-469C-933E-EDA87435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B1C7-34C6-4477-83ED-4842017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1614-F491-444D-B6BA-4196B16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9F67-EA92-4B32-90C0-A2A0E29E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0691C-F149-42C5-BCC0-5763D660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11DB-A9FC-450A-B95D-FC52C7DD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8B5EA-723F-472B-A359-69E63625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D096-8D47-4C88-A684-B1701513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7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B6B1CCA-03A2-425B-89FB-57DD63979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01286FA-B855-460F-9ED2-47BB3480A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9188EA2-1558-4C69-973D-2F4E13861A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5FEADA1-373F-4C9D-91DA-05E79339E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esikgezond.nl/www/images/schijf_van_vijf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wpossibility.nl/images/content_images/groenten_en_fruit_deel_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1066680"/>
            <a:ext cx="7848360" cy="517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voorlichting voor patiënten van de longrevalidatie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Rianne v. Heertum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JBZ s’Hertogenbosch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480" cy="64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48640"/>
            <a:ext cx="38095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as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wa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/vis/kip/ei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er/margarine/ bak-en braad-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varin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280" y="620640"/>
            <a:ext cx="3809520" cy="57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0-500 m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 gram (rauw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gram voor de berei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gram per sne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al 1.5 lt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eftij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sla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iek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444360" y="1845000"/>
            <a:ext cx="1523520" cy="1295640"/>
          </a:xfrm>
          <a:prstGeom prst="rect">
            <a:avLst/>
          </a:prstGeom>
          <a:ln w="9525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1660320" cy="138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115640" y="2362320"/>
            <a:ext cx="764712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, + 600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½ gram eiwit per kg lichaamsgewich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-55% koolhydraten van totale hoeveelheid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COPD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= body mass index = gewicht gedeeld door lengte in het kwadraa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I = vetvrije massa index = kg/m2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nen 16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ouwen 15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0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bij COPD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990720" y="2057400"/>
          <a:ext cx="777204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77204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04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te meten m.b.v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impedatieme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t is een gevalideerde methode bij stabiele patient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-4)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idplooimeting 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nvoudig maar een grote individuele spreid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xa; kostbaar en stralingsbelas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knijpkracht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32640"/>
            <a:ext cx="777204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method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772040" cy="470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AutoNum type="arabicPeriod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 (BMI 21-25) / depletie spiermassa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I &lt;15/&lt;16)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evt. aangevuld met dieetprepara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/ normale spiermassa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chtlijnen gezonde voeding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ë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. 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(BMI &lt;21) /depleti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trainen als gewichtverlies gestopt is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  Ondergewicht (BMI &lt;21) /normal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.  Overgewicht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&gt;30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ing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e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1905120"/>
            <a:ext cx="7773480" cy="362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THERAPIE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EN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WEGING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Gezonder leven"/>
          <p:cNvPicPr/>
          <p:nvPr/>
        </p:nvPicPr>
        <p:blipFill>
          <a:blip r:embed="rId1"/>
          <a:stretch/>
        </p:blipFill>
        <p:spPr>
          <a:xfrm>
            <a:off x="228600" y="152280"/>
            <a:ext cx="2514240" cy="238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Onderzoek"/>
          <p:cNvPicPr/>
          <p:nvPr/>
        </p:nvPicPr>
        <p:blipFill>
          <a:blip r:embed="rId2"/>
          <a:stretch/>
        </p:blipFill>
        <p:spPr>
          <a:xfrm>
            <a:off x="6477120" y="3429000"/>
            <a:ext cx="207936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BD05203_"/>
          <p:cNvPicPr/>
          <p:nvPr/>
        </p:nvPicPr>
        <p:blipFill>
          <a:blip r:embed="rId1"/>
          <a:stretch/>
        </p:blipFill>
        <p:spPr>
          <a:xfrm>
            <a:off x="2484360" y="1125360"/>
            <a:ext cx="4247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67640" y="1412640"/>
            <a:ext cx="6494760" cy="504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e Voeding – Longziekte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en gevolgen hierva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en de gevolgen hierva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et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werpen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38560" y="244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" descr="lichaamlongen"/>
          <p:cNvPicPr/>
          <p:nvPr/>
        </p:nvPicPr>
        <p:blipFill>
          <a:blip r:embed="rId1"/>
          <a:stretch/>
        </p:blipFill>
        <p:spPr>
          <a:xfrm>
            <a:off x="0" y="0"/>
            <a:ext cx="26665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5486040" cy="364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;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. 600 kcal extra bij COP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inname van voeding t.g.v. dyspno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Pink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589720" y="1447920"/>
            <a:ext cx="3322440" cy="449532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2493000"/>
            <a:ext cx="7772040" cy="396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VOLGEN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ling weerstan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traagde wondgenez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spierkracht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spierafbraak; te lage spiermassa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-index onder 16 en 15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79640" y="1196640"/>
            <a:ext cx="878472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90720" y="2425680"/>
            <a:ext cx="7772040" cy="374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zamer herstel en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r kans op complicaties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lager dan 21 en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-index lager dan 16 en 15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0" y="1196640"/>
            <a:ext cx="91436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% van stabiele patiënten met matige en ernstige COPD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 en 3) 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5% van stabiele patiënten met matige en ernstig en zeer ernstige COPD (GOLD 2, 3 en 4)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vaak komt klinische depletie voor?</a:t>
            </a:r>
            <a:endParaRPr b="0" lang="nl-NL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7772040" cy="511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eine frequente 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gebruik van beleg op 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ra melkproducten bij broo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uchtenkwark, vlaflip, roomijsje, milkshak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smeren met dieet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1523520" cy="1177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61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chuit, cracker met royaal kaa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le product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omvla, chocolademelk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kt dit niet dan overweging dieetdrinkvoeding (bij BMI onder 21 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=index onder 15 en 16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preparaat, bijv. Fantomalt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040" cy="86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2133000"/>
            <a:ext cx="8062200" cy="410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hoger dan 25 (gewicht : lengte²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ame niet in overeenstemming met behoef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 invloed van medicij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en geringe lichaamsbeweg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04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toename 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BD06114_"/>
          <p:cNvPicPr/>
          <p:nvPr/>
        </p:nvPicPr>
        <p:blipFill>
          <a:blip r:embed="rId1"/>
          <a:stretch/>
        </p:blipFill>
        <p:spPr>
          <a:xfrm>
            <a:off x="2057400" y="685800"/>
            <a:ext cx="4098600" cy="54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e hoof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, vnl. magere produc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halvarine i.p.v. 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1680" cy="86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Blue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410080" y="1600200"/>
            <a:ext cx="3422160" cy="443196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2781000"/>
            <a:ext cx="7772040" cy="36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voeding met een hoge verzadigingswaarde zoals volkorenbrood, rauwko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tussendoort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suiker, snoep en alcoho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160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996560" cy="1996560"/>
          </a:xfrm>
          <a:prstGeom prst="rect">
            <a:avLst/>
          </a:prstGeom>
          <a:ln w="9525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3276720" y="5638680"/>
            <a:ext cx="639360" cy="10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-3650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http://www.voedingscentrum.nl/NR/rdonlyres/C8B81B0E-1ECE-45DA-86D0-5C3537205734/813/schijfvanvijf10x10cm1.jpg"/>
          <p:cNvPicPr/>
          <p:nvPr/>
        </p:nvPicPr>
        <p:blipFill>
          <a:blip r:embed="rId3"/>
          <a:stretch/>
        </p:blipFill>
        <p:spPr>
          <a:xfrm>
            <a:off x="2771640" y="2133000"/>
            <a:ext cx="3816000" cy="37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lage BMI, onder 21 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 index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5 bij vrouw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6 bij man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3120" cy="4759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Klinisch begeleiding opgestart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poliklinisch vervolg gedurende 3 maanden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m.b.v. Bio Impedantie Meting VVM-index en gewicht evalue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Eventueel ook poliklinisch opstarten op verwijzing longarts of longverpleegkundig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reiken en behouden van een beter voedingsgedrag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informeren omtrent voeding in relatie tot COPD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motiveren/stimul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advies op maat om kwaliteit van leven te bevord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de dietist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alering van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oop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chte eetlus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in in het web bij multidisciplinaire aanpak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longverpleegkundige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260640"/>
            <a:ext cx="7773480" cy="93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komt U bij de diëtist?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40640"/>
            <a:ext cx="8223120" cy="482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huisarts of zelfverwijzing bij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of ongewenst gewichtstoe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één schriftelijke verwijzing nodig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uur vergoeding uit aanvullingspakket bij de meeste zorgverzekeraars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longarts / longverpleegkundige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in het ziekenhuis bij ongewenst gewichtsaf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315200" y="404640"/>
            <a:ext cx="18284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2590920"/>
            <a:ext cx="7695720" cy="3430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witten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, kaas, vlees, vis,ei, vleesvervanger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dig voor spieropbouw en voorkomt afbraak spiereiwit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http://www.voedingscentrum.nl/NR/rdonlyres/C8B81B0E-1ECE-45DA-86D0-5C3537205734/813/schijfvanvijf10x10cm1.jpg"/>
          <p:cNvPicPr/>
          <p:nvPr/>
        </p:nvPicPr>
        <p:blipFill>
          <a:blip r:embed="rId1"/>
          <a:stretch/>
        </p:blipFill>
        <p:spPr>
          <a:xfrm>
            <a:off x="7010280" y="472428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>
            <a:hlinkClick r:id="rId2"/>
          </p:cNvPr>
          <p:cNvSpPr/>
          <p:nvPr/>
        </p:nvSpPr>
        <p:spPr>
          <a:xfrm>
            <a:off x="4162320" y="3019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http://www.slimfast.nl/shared/images/lclc/lclc_koolhydraten_enzo.jpg"/>
          <p:cNvPicPr/>
          <p:nvPr/>
        </p:nvPicPr>
        <p:blipFill>
          <a:blip r:embed="rId3"/>
          <a:stretch/>
        </p:blipFill>
        <p:spPr>
          <a:xfrm>
            <a:off x="0" y="0"/>
            <a:ext cx="190764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040" cy="4970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en we uit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groente, fruit,           suiker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, pasta,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directe energie voor de spier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geen extra kortademigh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157640" y="28717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j0356739"/>
          <p:cNvPicPr/>
          <p:nvPr/>
        </p:nvPicPr>
        <p:blipFill>
          <a:blip r:embed="rId1"/>
          <a:stretch/>
        </p:blipFill>
        <p:spPr>
          <a:xfrm>
            <a:off x="3809880" y="2514600"/>
            <a:ext cx="8283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el </a:t>
            </a:r>
            <a:r>
              <a:rPr b="0" i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een snelle maagontlediging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der kans op vol gevoe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ter verteerbaar da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rijke 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10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gevarieer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ruimschoots brood en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volop groente en frui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040" cy="79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040" cy="4754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d uw gewicht op pei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s zuinig met zou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nk voldoende; 1½ - 2 L per da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niet de hele dag doo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123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4656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36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middeld aanbevolen hoeveelheden voedingsmiddelen voor gezonde volwassenen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0952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ardappelen en rij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en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uit, vruchtensap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3280" y="22050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-7 sneetje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-5 stuks/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– 4 groente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stuks/glazen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400 JBZ Powerpoint POS 2</Template>
  <TotalTime>588</TotalTime>
  <Application>LibreOffice/7.4.7.2$Linux_X86_64 LibreOffice_project/40$Build-2</Application>
  <AppVersion>15.0000</AppVersion>
  <Words>640</Words>
  <Paragraphs>189</Paragraphs>
  <Company>ICT Behe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2:39:38Z</dcterms:created>
  <dc:creator>kookcentrum</dc:creator>
  <dc:description/>
  <dc:language>en-US</dc:language>
  <cp:lastModifiedBy>Rianne Nooijen</cp:lastModifiedBy>
  <dcterms:modified xsi:type="dcterms:W3CDTF">2012-11-05T18:37:06Z</dcterms:modified>
  <cp:revision>56</cp:revision>
  <dc:subject/>
  <dc:title>Onderwerp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Diavoorstelling (4:3)</vt:lpwstr>
  </property>
  <property fmtid="{D5CDD505-2E9C-101B-9397-08002B2CF9AE}" pid="3" name="Slides">
    <vt:r8>34</vt:r8>
  </property>
</Properties>
</file>