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4.jpeg" ContentType="image/jpeg"/>
  <Override PartName="/ppt/media/image2.png" ContentType="image/png"/>
  <Override PartName="/ppt/media/image27.jpeg" ContentType="image/jpeg"/>
  <Override PartName="/ppt/media/image6.jpeg" ContentType="image/jpeg"/>
  <Override PartName="/ppt/media/image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ftr" idx="41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 type="sldNum" idx="42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FF5A-C342-43EB-B846-FBB7FED638E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5E08-9691-463E-B4D6-F75FDFA25E7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anwezigheid doornemen met de patien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7864-C137-4AE6-A1A3-DF6AAD0B531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 zijn smeersels voor het brood en melkproducten waaraan plantenstanolen of sterolen zijn toegevoeg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is een waardevolle aanvulling. Bekijk het in uw totale voe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inder verzadigd v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eer bewe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D7ED-BCB7-4E37-89E6-D1EA531C5F2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Cholesterol is een vetachtige stof die het lichaam nodig heeft als bouwstof voor lichaamscellen en hormonen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onder cholesterol kan het lichaam niet goed functione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root gedeelte maakt het lichaam zelf aan en een klein gedeelte komt uit de voe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Uitleggen dat als het om cholesterol gaat dan gaat het om het cholesterol bij elkaar opgete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19DB-FD9E-4BF9-9F38-A7D93BC5FEE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linkervoeding bevat drie keer zoveel v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6CBA-5D5E-464C-90AF-80646E9391B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egelmatig bewegen is goed voor de gezondheid, de kans op diabetes en overgewicht is klei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zond bewegen betekent elke dag actief zij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wijfelt u over uw gezondhei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Fysiotherapeut/ arts geeft adviezen over het juiste tempo, en het verkennen van uw grenz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ragen naar mogelijke manieren om te beweg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uinier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lokje om, stevig doorwandel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raplop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tevig fiets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296E-29AE-4589-B97E-FAA5653790E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wee verschillende soorten cholesterol HDL LDL choles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DL veroorzaakt gemakkelijk verstoppingen, slechte choleste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DL voert het teveel aan cholesterol juist a naar de lev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DF5B-5C0F-4227-A766-86E8D66C487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holesterolgehalte wordt gemeten met behulp van een bloedonderzo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ij wie is er een verhoogd cholesterol geme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ie kan oorzaken noemen van een te hoog cholesterol gehalt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eten van veel verzadigd v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eten van veel cholesterolrijk et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te hoog lichaamsgewicht (sommige processen veranderen in het lichaam waardoor het cholesterol hoger wordt vooral bij buikv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LDL wordt hoger terwijl het HDL lager word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felijke aanleg: sommige mensen hebben erfelijke aanleg hypercholesterolem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ij mensen met Diabete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5BA2B-87A6-4B1A-B564-BFA5C4AF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137C2-9E7E-4123-8A0B-9E374692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932C8-9BC1-489F-918B-EDE80C86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BC02B-52AF-43E9-874C-45E4FA8F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AD48B-0E8D-44FB-8BF9-8E30005D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35FF9-9775-4719-9517-DE5716F6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91A58-C70E-4956-999E-215D8D26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65C25-B104-47B3-B260-6C71ADAA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AD197-DF2C-45F1-BE9B-24AB7DBB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A07AE-DCDB-4919-94A1-B1F9D931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E4BC4-0A05-47C0-B73C-1B2E5646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A629E-7930-4D79-AE1A-85056BE3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C91BA-AD7F-4ED9-8EAA-26E9CE17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2CC7E-23EB-47E0-9D20-2D8DB517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5B3C3-0A50-459F-A19C-3F870EB0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CAA89-A9DE-4A8F-8D60-8BCDECF2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BE61A-C43E-4980-BEB2-8A2DB03B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3EF74-A6F4-4EAD-9406-72B5BF72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39622-D9C8-4E0F-AC47-10C1123D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7E028-0A7C-4432-988A-ADCF6820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A1954-AFDE-4FEE-9D07-71F44D16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C9085-A29D-4327-AC5A-9039F370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2FDD3-031C-45FC-9FC1-6D0AB1F5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EFCFA-84EA-49E2-888A-816141E0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44980-1ADE-4AC1-B74A-4D0502E6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9DDE6-17E1-4E89-A89C-B2CC4C51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E28F4-A3EA-4C56-9D94-9FBA0ADC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61BBE-3144-426D-A6BF-7671C028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163DF-366A-4124-9BD8-E2829BE1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48AC5-D656-4921-9384-CA6545C3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9B398-52B5-4100-A406-5E2C519D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94624-BBFF-4E95-A707-9F20A626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D96BB-600F-46AB-88B2-8C3E2B9A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096E2-D29B-4579-A771-4A71AE5A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7D720-C7DF-4C1E-BE98-247A53A6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8F17E-1500-4C8B-AA66-445F8883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1DEEB-B22C-4F4B-B0C9-E0AC6938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89373-30D5-4399-A090-902E0045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976B3-E4F6-4822-80F5-47734D6B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A9158-1BFD-4A0E-9C9D-2F4E7210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B1AC7-B036-41A6-93E6-B57011E9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F8A52-3899-4A6C-9EB3-3E35F368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1B770-4248-4F6F-B0F9-D6042EAB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51488-62C9-4C28-91DB-38FC2257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8C5CD-8294-4524-83AE-02161A1B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8675C-5984-47FA-97CA-D2798114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4B9D1-0FC4-41DC-98F3-B4461209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539F1-7E73-487A-AAE3-423D1E64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0D557-7389-4053-8346-A9ACF8F3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03410-3F7C-4085-850E-FF7B014E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083DE-0A4B-447A-9DED-D39CC888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3D182-57BA-49C8-A506-855FA867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F1601-8D48-4EB2-87B7-7017B7DD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E290F-8AD8-4AD1-B6A8-12E0AF63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4F437-D901-4208-A7FA-248DF5B4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62445-042F-4C8A-9986-3593ABF8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C3FC2-1C4E-4F92-B223-DD28C887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3A278-EB8E-4E02-B62C-5C70C40A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27E35-26B3-48E9-9AD6-020F9E9F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07360-53FF-4921-A4B4-29030D3B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FC921-717B-43E2-9793-B69209FA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28777-8D50-4307-ADB9-0F11609E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24B52-11F2-4AD7-B7B7-365B0D39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591AD-ECF2-4A28-9BFD-41043880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1CD36-7356-473A-8CD9-AB644BCD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65F9D-FDE0-4DE7-AAF2-42351ABA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219A6-FEF4-4775-A1D9-351DA1AE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135A3-D342-4102-BF12-147EB9D0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60DDA-4E63-46FF-9D07-F53A3367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92653-9D42-48E0-8A86-521A1AA2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93E1D-B651-4DE0-A179-05CA7C3D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2052E-933C-41F1-87D1-855CD3BF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10D51-47E7-4AE4-88DA-4A65394E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B40C5-7F36-498E-BE74-C4AE4B7A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A6A45-DA54-4E50-9B4E-231AB977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583B8-8977-4021-80B9-F33A7F3C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42002-0433-4627-9F61-3F147A8A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EB999-BB34-43C2-A40B-50603217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F0130-58E2-4009-86B7-4BF3062C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8B831-0FD5-48C7-A881-101821FB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149EC-873F-4B33-8E4E-1029C83B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0E63AD-85AB-48B1-8581-12D0228E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52421-266B-4540-B0D4-02EABD1E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820B3-0317-41D8-ACE6-A70B68D2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885C1-574F-4A43-BA02-2FE533CD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04399-2C5E-4C42-B261-E270561D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B628A4-2514-4A6F-ADBD-A2D3A25A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E9AB35-842C-469E-97D3-C17765B7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AE416-9A54-46A6-B237-79A6719D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997E75-AA72-410A-B50E-30870B42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B687D-6451-43C4-9CDF-72B20C98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A9F630-048A-4E7F-B222-0678B9F4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2DD220-3C60-4534-87B6-52F0B1C7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ADB-B45D-42C8-BB1B-8A6CA989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75E-B9C5-4FFC-9675-9B5405F9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CF19-FBFD-4105-A5B8-70C4A1C8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937-2F86-4B16-8DB2-B09CB857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F78-95C2-4CC0-B486-EF01CB38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D07F-06DC-4A6D-80D9-7EBCDBA8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C16-20A7-4AC2-BCE1-0B8E05B7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0F63-6722-4EE7-BC5F-A47090AE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FFC-13B1-47AC-858A-30D1D89A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8D5C-7581-472E-9116-E4DA18FA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A7C-0F9E-499A-82A1-EFCA2488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405C-1D59-433B-BB50-6C6166C1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43CC-CB65-4E11-82A7-F24B5A31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D103-26D6-416B-AADD-E352EF39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3454-AED4-4E23-AD1D-A5720401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EC6F-4677-4A69-8F0C-E2C536F0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3D82-2221-460E-9404-CD820C25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1560-3EF9-498B-B86A-D59A2E47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FA66-559E-4EF2-9F8D-156317B9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A13F-8BB1-493A-BEF1-1C218F47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3761-FB64-4D15-BC4A-12D42471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FA43-F90A-4178-ADD0-6B309154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CB71-5966-430C-95A2-DB820DFC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EBC4-1186-4F21-8278-43176F97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89C80-31A3-4BB1-98E0-C2F26AFC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3B745-3FD6-46D9-9C17-54B66661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46089-A885-46F3-A70B-A953E059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F6EAC-E8E0-4A09-8CA3-A4C97BCF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79FFC-AA93-4A60-A01C-269822DF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7EDC7-73A2-4ABA-B0CC-1F71D103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145DA-3AB8-4597-B6B0-CA9BB250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72444-6A97-4F8D-A4AE-FCEC8BD4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358AE-CA84-45D3-8181-3EB3177E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660EA-AD1B-42F7-88A8-227FEB88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A6E7F-4AEA-445D-96C5-8CA8E16C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88F6E-5514-42FC-AD7E-DD8A6915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56B86-195F-4773-9E3E-9E9BBF2A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1A768-BB8D-4BB6-B44C-D91AD804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CC20A-E00B-4F69-87DE-65243344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23AAA-2963-4100-A700-C252F598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7347E-A11E-45A4-A92E-AB45BDCC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80566-5AF9-4C84-AD19-D7305D94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79D1A-C4F1-423E-8785-EA993408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D4CD3-76F7-451D-A743-280C7BB7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AAE8B-568A-4634-816A-6ECE7A77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218B6-AE3B-40DB-81DA-23BFB783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688F9-42FE-4BDD-8921-4908A356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11E3E-BFFD-4DA3-9142-00A25075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2F02F-F2AC-4643-BAAA-4B7BE3AF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331EB-0E92-4DBC-A5AE-F74CDDFA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638F7-7A4A-432F-9813-9C93DED2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F8998-CE09-4FA7-8033-2D85503E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64DEE-14AB-418F-A966-7417ED85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07945-F91C-4E20-AA99-54AA004F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B2D9D-2E7E-4A40-94B9-BCC66D7D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0F048-9CD1-48E6-B2FF-C7B7994F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6C926-F04A-473E-9D92-D112884A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4DF43-A40E-4FA2-8809-C70B87E1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68C54-731A-417E-B4A7-A76A9201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85A62-C643-41C5-A9E5-D0952E42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5D846-5C61-4311-8E86-F44352D4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B9A1E-45F6-49DB-98BC-B30086B8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370B2-2288-41EA-B05D-C5CD852F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20574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96216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80769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BCA7-A118-4F41-81CE-ACAE1C30FC3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2"/>
          </p:nvPr>
        </p:nvSpPr>
        <p:spPr>
          <a:xfrm>
            <a:off x="20574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3"/>
          </p:nvPr>
        </p:nvSpPr>
        <p:spPr>
          <a:xfrm>
            <a:off x="396216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4"/>
          </p:nvPr>
        </p:nvSpPr>
        <p:spPr>
          <a:xfrm>
            <a:off x="80769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7E5E-2718-416C-ABC8-28B78E418FD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25"/>
          </p:nvPr>
        </p:nvSpPr>
        <p:spPr>
          <a:xfrm>
            <a:off x="20574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26"/>
          </p:nvPr>
        </p:nvSpPr>
        <p:spPr>
          <a:xfrm>
            <a:off x="396216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94EE-88C9-4604-B0BE-DE0E6AA0F1D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28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0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C877-D313-4E16-AF84-B09982D9F7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0AE4-4541-4980-BB32-7112A65FA8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34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3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C34F-7C7B-40A3-9638-A01ABD42FF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7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FA0F-25C7-4204-8F4F-ED22B74AB3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0740-EE50-4F03-AC61-84DE4532DF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4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543F-1E6B-4705-B17D-9F36849B3D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7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7A7B-8873-467D-A449-EF13052349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0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2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45A1-466C-44A3-B341-7144280C6A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3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5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F85C-8471-46BF-AF71-DA10147526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6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18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39FC-A1BE-4BF0-A343-381D25BAAF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source=images&amp;cd=&amp;cad=rja&amp;uact=8&amp;ved=0ahUKEwictKXm4efLAhXCYQ8KHc8MCEEQjRwIBw&amp;url=http%3A%2F%2Fwww.voedingscentrum.nl%2Fnl%2Fgezond-eten-met-de-schijf-van-vijf.aspx&amp;psig=AFQjCNGS803GMEIPaOLnwEZkMO7HMZ64zw&amp;ust=1459405065446596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Jeroen Bosch Ziekenhuis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Afdeling Diëtetiek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6192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000000"/>
                </a:solidFill>
                <a:latin typeface="Georgia"/>
              </a:rPr>
              <a:t>Cardio-revalidatie </a:t>
            </a:r>
            <a:br>
              <a:rPr sz="3900"/>
            </a:br>
            <a:endParaRPr b="1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5124"/>
          <p:cNvSpPr/>
          <p:nvPr/>
        </p:nvSpPr>
        <p:spPr>
          <a:xfrm>
            <a:off x="1981080" y="327672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Cholesterol en Ve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2" descr="C:\Documents and Settings\boogaard\Mijn documenten\Mijn afbeeldingen\noten.gif"/>
          <p:cNvPicPr/>
          <p:nvPr/>
        </p:nvPicPr>
        <p:blipFill>
          <a:blip r:embed="rId1"/>
          <a:stretch/>
        </p:blipFill>
        <p:spPr>
          <a:xfrm>
            <a:off x="3809880" y="4419720"/>
            <a:ext cx="2133720" cy="2133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8" name="Picture 3" descr="http://www.typicaldutchstuff.com/croma.jpg"/>
          <p:cNvPicPr/>
          <p:nvPr/>
        </p:nvPicPr>
        <p:blipFill>
          <a:blip r:embed="rId2"/>
          <a:stretch/>
        </p:blipFill>
        <p:spPr>
          <a:xfrm>
            <a:off x="6553080" y="1066680"/>
            <a:ext cx="1935360" cy="1636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9" name="Picture 4" descr="http://www.lunch4kids.com/getfile.php?id=478"/>
          <p:cNvPicPr/>
          <p:nvPr/>
        </p:nvPicPr>
        <p:blipFill>
          <a:blip r:embed="rId3"/>
          <a:stretch/>
        </p:blipFill>
        <p:spPr>
          <a:xfrm>
            <a:off x="685800" y="4724280"/>
            <a:ext cx="2360520" cy="1771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5867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aar zit o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verzadigd vet</a:t>
            </a: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 i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6"/>
          <p:cNvSpPr/>
          <p:nvPr/>
        </p:nvSpPr>
        <p:spPr>
          <a:xfrm>
            <a:off x="457200" y="1523880"/>
            <a:ext cx="563868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oducten met (vloeibare) plantaardige vetten of visve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lie, vloeibare margarin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oten, sojaprodukten,vette 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Picture 7" descr="http://www.agrotropical.andes.com/olive_oil/bot2peq.jpg"/>
          <p:cNvPicPr/>
          <p:nvPr/>
        </p:nvPicPr>
        <p:blipFill>
          <a:blip r:embed="rId4"/>
          <a:stretch/>
        </p:blipFill>
        <p:spPr>
          <a:xfrm>
            <a:off x="6553080" y="2819520"/>
            <a:ext cx="2035440" cy="2076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43" name="Picture 8" descr="http://www.becel.be/images/prod/becelomega3plus-big.gif"/>
          <p:cNvPicPr/>
          <p:nvPr/>
        </p:nvPicPr>
        <p:blipFill>
          <a:blip r:embed="rId5"/>
          <a:stretch/>
        </p:blipFill>
        <p:spPr>
          <a:xfrm>
            <a:off x="6172200" y="4572000"/>
            <a:ext cx="2590920" cy="1936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2"/>
          <p:cNvSpPr/>
          <p:nvPr/>
        </p:nvSpPr>
        <p:spPr>
          <a:xfrm>
            <a:off x="685800" y="1676520"/>
            <a:ext cx="777240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574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 max. 2-3 per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74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gaanvlees, garnalen, paling, mosselen 1 x per 2 wek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74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oomboter, slag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990720" y="609480"/>
            <a:ext cx="7772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Stijging van het cholesterol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met name het LD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5" descr="http://www.freewebs.com/hanenburg/ei01.jpg"/>
          <p:cNvPicPr/>
          <p:nvPr/>
        </p:nvPicPr>
        <p:blipFill>
          <a:blip r:embed="rId1"/>
          <a:stretch/>
        </p:blipFill>
        <p:spPr>
          <a:xfrm>
            <a:off x="990720" y="4191120"/>
            <a:ext cx="1657080" cy="22096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7" descr="http://nl.dreamstime.com/verse-garnalen-thumb2452450.jpg"/>
          <p:cNvPicPr/>
          <p:nvPr/>
        </p:nvPicPr>
        <p:blipFill>
          <a:blip r:embed="rId2"/>
          <a:stretch/>
        </p:blipFill>
        <p:spPr>
          <a:xfrm>
            <a:off x="3851280" y="4797360"/>
            <a:ext cx="1508040" cy="12715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9" descr="http://www.devuurdoorn.be/images/mosselen2.jpg"/>
          <p:cNvPicPr/>
          <p:nvPr/>
        </p:nvPicPr>
        <p:blipFill>
          <a:blip r:embed="rId3"/>
          <a:stretch/>
        </p:blipFill>
        <p:spPr>
          <a:xfrm>
            <a:off x="6324480" y="3962520"/>
            <a:ext cx="1905120" cy="1541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2195640" y="3428640"/>
            <a:ext cx="6262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Stelling: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s ik deze producten gebruik doe ik voldoende om mijn cholesterol te verlagen. 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title"/>
          </p:nvPr>
        </p:nvSpPr>
        <p:spPr>
          <a:xfrm>
            <a:off x="2050920" y="1218960"/>
            <a:ext cx="64836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speciale producten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‘functional foods’) op de markt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het cholesterolgehalte in het bloed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t 10-15% kunnen verlagen.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533520" y="148392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Broodsmeersels en zuivelproducten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Plantensterolen / plantenstanolen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Verlaagt LDL door verminderde opname 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van cholesterol in de darmen.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Bij gebruik van cholesterolverlagende medicatie eerst arts raadplegen.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Cholesterolverlagende product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3" name="Group 5"/>
          <p:cNvGrpSpPr/>
          <p:nvPr/>
        </p:nvGrpSpPr>
        <p:grpSpPr>
          <a:xfrm>
            <a:off x="3475080" y="2052720"/>
            <a:ext cx="8572320" cy="360"/>
            <a:chOff x="3475080" y="2052720"/>
            <a:chExt cx="8572320" cy="360"/>
          </a:xfrm>
        </p:grpSpPr>
        <p:sp>
          <p:nvSpPr>
            <p:cNvPr id="754" name="Rectangle 6"/>
            <p:cNvSpPr/>
            <p:nvPr/>
          </p:nvSpPr>
          <p:spPr>
            <a:xfrm>
              <a:off x="3475080" y="2052720"/>
              <a:ext cx="8572320" cy="360"/>
            </a:xfrm>
            <a:prstGeom prst="rect">
              <a:avLst/>
            </a:prstGeom>
            <a:solidFill>
              <a:srgbClr val="f2f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>
              <a:off x="3475080" y="2052720"/>
              <a:ext cx="8572320" cy="360"/>
            </a:xfrm>
            <a:prstGeom prst="rect">
              <a:avLst/>
            </a:prstGeom>
            <a:solidFill>
              <a:srgbClr val="f2f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6" name="Picture 8" descr="http://u1.peersphere.net/becelwebsite/controller/image.jpg?livelinkDataID=5740277"/>
          <p:cNvPicPr/>
          <p:nvPr/>
        </p:nvPicPr>
        <p:blipFill>
          <a:blip r:embed="rId1"/>
          <a:stretch/>
        </p:blipFill>
        <p:spPr>
          <a:xfrm>
            <a:off x="6858000" y="4572000"/>
            <a:ext cx="911160" cy="1981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57" name="Picture 9" descr="http://u1.peersphere.net/becelwebsite/controller/image.jpg?livelinkDataID=5671511"/>
          <p:cNvPicPr/>
          <p:nvPr/>
        </p:nvPicPr>
        <p:blipFill>
          <a:blip r:embed="rId2"/>
          <a:stretch/>
        </p:blipFill>
        <p:spPr>
          <a:xfrm>
            <a:off x="3733920" y="4876920"/>
            <a:ext cx="2209680" cy="1523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verzadigde vetzuren in de voeding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producten met vet kiezen voor de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oorten die weinig verzadigd vet bevatten,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grootste deel van het vet is dan automatisch onverzadigd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HDL verhogend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80880" y="20574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V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rzadigd = </a:t>
            </a:r>
            <a:r>
              <a:rPr b="1" lang="nl-NL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V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rkeerd</a:t>
            </a: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ff00"/>
                </a:solidFill>
                <a:latin typeface="Calibri"/>
                <a:ea typeface="Times New Roman"/>
              </a:rPr>
              <a:t>O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nverzadigd = </a:t>
            </a:r>
            <a:r>
              <a:rPr b="1" lang="nl-NL" sz="3600" spc="-1" strike="noStrike">
                <a:solidFill>
                  <a:srgbClr val="00ff00"/>
                </a:solidFill>
                <a:latin typeface="Calibri"/>
                <a:ea typeface="Times New Roman"/>
              </a:rPr>
              <a:t>O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ké</a:t>
            </a: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Smeren en bakken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340000" y="1219320"/>
            <a:ext cx="56880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Smeren:</a:t>
            </a:r>
            <a:endParaRPr b="0" lang="en-US" sz="2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rgarine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± 80% v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lvarine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± 40% v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e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Gunstige verhouding onverzadigde vetten  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.o.v. verzadigde vetten.  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akken:</a:t>
            </a:r>
            <a:endParaRPr b="0" lang="en-US" sz="2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k- en braadvet/ olijfolie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90 – 100% v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loeibaar 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</p:txBody>
      </p:sp>
      <p:pic>
        <p:nvPicPr>
          <p:cNvPr id="764" name="Picture 1029" descr="30021"/>
          <p:cNvPicPr/>
          <p:nvPr/>
        </p:nvPicPr>
        <p:blipFill>
          <a:blip r:embed="rId1"/>
          <a:stretch/>
        </p:blipFill>
        <p:spPr>
          <a:xfrm>
            <a:off x="6172200" y="685800"/>
            <a:ext cx="1704960" cy="16588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028" descr="30022"/>
          <p:cNvPicPr/>
          <p:nvPr/>
        </p:nvPicPr>
        <p:blipFill>
          <a:blip r:embed="rId2"/>
          <a:stretch/>
        </p:blipFill>
        <p:spPr>
          <a:xfrm>
            <a:off x="395280" y="1341360"/>
            <a:ext cx="1577880" cy="165888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031" descr="30105"/>
          <p:cNvPicPr/>
          <p:nvPr/>
        </p:nvPicPr>
        <p:blipFill>
          <a:blip r:embed="rId3"/>
          <a:stretch/>
        </p:blipFill>
        <p:spPr>
          <a:xfrm>
            <a:off x="5943600" y="4114800"/>
            <a:ext cx="947880" cy="23036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032" descr="30106"/>
          <p:cNvPicPr/>
          <p:nvPr/>
        </p:nvPicPr>
        <p:blipFill>
          <a:blip r:embed="rId4"/>
          <a:stretch/>
        </p:blipFill>
        <p:spPr>
          <a:xfrm>
            <a:off x="468360" y="4292640"/>
            <a:ext cx="1639800" cy="23032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033" descr="http://www.delicasa.nl/shop/image.php?productid=17407"/>
          <p:cNvPicPr/>
          <p:nvPr/>
        </p:nvPicPr>
        <p:blipFill>
          <a:blip r:embed="rId5"/>
          <a:stretch/>
        </p:blipFill>
        <p:spPr>
          <a:xfrm>
            <a:off x="8001000" y="2590920"/>
            <a:ext cx="792000" cy="1847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Dieetmargarine is minder vet </a:t>
            </a: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dan roomboter.</a:t>
            </a:r>
            <a:endParaRPr b="0" lang="en-US" sz="33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Stelling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Etiket lezen: Welke te kieze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0" y="1955880"/>
            <a:ext cx="9144000" cy="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457200" y="1828800"/>
          <a:ext cx="8366040" cy="4022640"/>
        </p:xfrm>
        <a:graphic>
          <a:graphicData uri="http://schemas.openxmlformats.org/drawingml/2006/table">
            <a:tbl>
              <a:tblPr/>
              <a:tblGrid>
                <a:gridCol w="2891520"/>
                <a:gridCol w="1170360"/>
                <a:gridCol w="218880"/>
                <a:gridCol w="2915640"/>
                <a:gridCol w="11696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edings-waarde per 100 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Voedings-waarde per 100 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w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lhydra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waarvan sui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waarvan 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tr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enkel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meer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 K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1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Energ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Eiw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Koolhydra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waarvan sui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V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waarvan 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tr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enkel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meer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720 k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774" name="Text Box 30"/>
          <p:cNvSpPr/>
          <p:nvPr/>
        </p:nvSpPr>
        <p:spPr>
          <a:xfrm>
            <a:off x="457200" y="2209680"/>
            <a:ext cx="28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Dieetmarga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31"/>
          <p:cNvSpPr/>
          <p:nvPr/>
        </p:nvSpPr>
        <p:spPr>
          <a:xfrm>
            <a:off x="4724280" y="22096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rga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Wel menu bevat veel vet?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ctangle 35"/>
          <p:cNvSpPr/>
          <p:nvPr/>
        </p:nvSpPr>
        <p:spPr>
          <a:xfrm>
            <a:off x="3240" y="271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80"/>
          <p:cNvSpPr/>
          <p:nvPr/>
        </p:nvSpPr>
        <p:spPr>
          <a:xfrm>
            <a:off x="3240" y="695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217"/>
          <p:cNvSpPr/>
          <p:nvPr/>
        </p:nvSpPr>
        <p:spPr>
          <a:xfrm>
            <a:off x="228600" y="1676520"/>
            <a:ext cx="4038480" cy="44168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Boterhamm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a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ffie met koffieme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bakken aardappelen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haktbal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ente met boter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omvla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221"/>
          <p:cNvSpPr/>
          <p:nvPr/>
        </p:nvSpPr>
        <p:spPr>
          <a:xfrm>
            <a:off x="4648320" y="1676520"/>
            <a:ext cx="4038480" cy="44168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5 Boterha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lv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okvle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ffie met h.v. koffiemel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kookte aardappelen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pfi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roente zonder b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de sa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gere vruchtenyogh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6094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Functie: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celwanden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vitamine D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hormonen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gal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Soorten: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lvl="3" marL="1584000" indent="-226080">
              <a:spcBef>
                <a:spcPts val="649"/>
              </a:spcBef>
              <a:buClr>
                <a:srgbClr val="000000"/>
              </a:buClr>
              <a:buSzPct val="5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HDL</a:t>
            </a:r>
            <a:endParaRPr b="0" lang="en-US" sz="2600" spc="-1" strike="noStrike">
              <a:solidFill>
                <a:srgbClr val="9e005d"/>
              </a:solidFill>
              <a:latin typeface="Calibri"/>
            </a:endParaRPr>
          </a:p>
          <a:p>
            <a:pPr lvl="3" marL="1584000" indent="-226080">
              <a:spcBef>
                <a:spcPts val="649"/>
              </a:spcBef>
              <a:buClr>
                <a:srgbClr val="000000"/>
              </a:buClr>
              <a:buSzPct val="5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LDL</a:t>
            </a:r>
            <a:endParaRPr b="0" lang="en-US" sz="2600" spc="-1" strike="noStrike">
              <a:solidFill>
                <a:srgbClr val="9e005d"/>
              </a:solidFill>
              <a:latin typeface="Calibri"/>
            </a:endParaRPr>
          </a:p>
          <a:p>
            <a:pPr lvl="3" marL="1584000" indent="-226080">
              <a:spcBef>
                <a:spcPts val="649"/>
              </a:spcBef>
              <a:buClr>
                <a:srgbClr val="000000"/>
              </a:buClr>
              <a:buSzPct val="5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otaal cholesterol </a:t>
            </a:r>
            <a:endParaRPr b="0" lang="en-US" sz="26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= HDL + LDL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Cholestero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Picture 4" descr="http://www.phillips-fit.co.uk/pfiles/images/HDL%20LDL.jpg"/>
          <p:cNvPicPr/>
          <p:nvPr/>
        </p:nvPicPr>
        <p:blipFill>
          <a:blip r:embed="rId1"/>
          <a:stretch/>
        </p:blipFill>
        <p:spPr>
          <a:xfrm>
            <a:off x="5486400" y="3505320"/>
            <a:ext cx="2438280" cy="1930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228600" y="990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t dagme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4648320" y="9907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Mager dagme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3240" y="271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6"/>
          <p:cNvSpPr/>
          <p:nvPr/>
        </p:nvSpPr>
        <p:spPr>
          <a:xfrm>
            <a:off x="3240" y="695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228600" y="1676520"/>
            <a:ext cx="4038480" cy="44168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Boterhamm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2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a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2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ffie met koffiemelk      12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bakken aardappelen      12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haktba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1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ente met boter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16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omvla                              5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g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8"/>
          <p:cNvSpPr/>
          <p:nvPr/>
        </p:nvSpPr>
        <p:spPr>
          <a:xfrm>
            <a:off x="4648320" y="1676520"/>
            <a:ext cx="4038480" cy="48553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5 Boterha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lv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1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okvle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5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ffie met h.v. koffiemelk 6g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kookte aardappelen        -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pfilet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roente zonder boter          -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de saus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8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gere vruchten yoghurt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1g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32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990720" y="144756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9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- Lichaamsbeweging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Beïnvloeden van cholestero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0" name="Picture 5" descr="http://www.debeus.be/trap01.jpg"/>
          <p:cNvPicPr/>
          <p:nvPr/>
        </p:nvPicPr>
        <p:blipFill>
          <a:blip r:embed="rId1"/>
          <a:stretch/>
        </p:blipFill>
        <p:spPr>
          <a:xfrm>
            <a:off x="1676520" y="2362320"/>
            <a:ext cx="2590560" cy="19429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7" descr="http://home.planet.nl/~pluym646/foto1/nordic-walking1.jpg"/>
          <p:cNvPicPr/>
          <p:nvPr/>
        </p:nvPicPr>
        <p:blipFill>
          <a:blip r:embed="rId2"/>
          <a:stretch/>
        </p:blipFill>
        <p:spPr>
          <a:xfrm>
            <a:off x="5029200" y="40384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at gebruikt u zelf op brood </a:t>
            </a:r>
            <a:br>
              <a:rPr sz="3300"/>
            </a:b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of om in te bakke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2050920" y="2286000"/>
            <a:ext cx="610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u u momenteel kiezen voor een ander smeersel voor op brood of voor een ander bereidingsv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4" descr="http://www.kleinewereld.nl/images/brood.gif"/>
          <p:cNvPicPr/>
          <p:nvPr/>
        </p:nvPicPr>
        <p:blipFill>
          <a:blip r:embed="rId1"/>
          <a:stretch/>
        </p:blipFill>
        <p:spPr>
          <a:xfrm>
            <a:off x="3276720" y="43434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2268360" y="2666520"/>
            <a:ext cx="6113520" cy="22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ww.voedingscentrum.n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ww.becel.n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ww.cholesterol.n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ebsites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Bloedv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5791320" y="1981080"/>
            <a:ext cx="2895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stapelt het cholesterol en vet op in de bloedva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5" descr="\\domein1.lan\dfs\UserData\evdbogaard\Mijn afbeeldingen\gezonde ader.jpg"/>
          <p:cNvPicPr/>
          <p:nvPr/>
        </p:nvPicPr>
        <p:blipFill>
          <a:blip r:embed="rId1"/>
          <a:stretch/>
        </p:blipFill>
        <p:spPr>
          <a:xfrm>
            <a:off x="4648320" y="4495680"/>
            <a:ext cx="3886200" cy="16099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" descr="\\domein1.lan\dfs\UserData\evdbogaard\Mijn afbeeldingen\zieke ader.jpg"/>
          <p:cNvPicPr/>
          <p:nvPr/>
        </p:nvPicPr>
        <p:blipFill>
          <a:blip r:embed="rId2"/>
          <a:stretch/>
        </p:blipFill>
        <p:spPr>
          <a:xfrm>
            <a:off x="838080" y="2057400"/>
            <a:ext cx="3810240" cy="155088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7"/>
          <p:cNvSpPr/>
          <p:nvPr/>
        </p:nvSpPr>
        <p:spPr>
          <a:xfrm>
            <a:off x="685800" y="4419720"/>
            <a:ext cx="3809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haalt het vet en cholesterol weg uit de bloedva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914400" y="148392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taal cholestero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5,0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D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ma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ger dan 1,0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vrou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ger dan 1,2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D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2,5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houding totaal cholesterol en HDL 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5,0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+ Triglicerid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1,7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Cholesterol normaalwaarden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Vetten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3"/>
          <p:cNvSpPr/>
          <p:nvPr/>
        </p:nvSpPr>
        <p:spPr>
          <a:xfrm>
            <a:off x="3962520" y="914400"/>
            <a:ext cx="213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6781680" y="2438280"/>
            <a:ext cx="21337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AGaramond"/>
              </a:rPr>
              <a:t>Verzadigd v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5"/>
          <p:cNvSpPr/>
          <p:nvPr/>
        </p:nvSpPr>
        <p:spPr>
          <a:xfrm>
            <a:off x="5779440" y="4800600"/>
            <a:ext cx="2533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AGaramond"/>
              </a:rPr>
              <a:t>Onverzadigd v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-183600" y="1752480"/>
            <a:ext cx="613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Enkelvoudig onverzadigde vetzu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7"/>
          <p:cNvSpPr/>
          <p:nvPr/>
        </p:nvSpPr>
        <p:spPr>
          <a:xfrm>
            <a:off x="2154240" y="5486400"/>
            <a:ext cx="61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Meervoudig onverzadigde vetzu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8"/>
          <p:cNvSpPr/>
          <p:nvPr/>
        </p:nvSpPr>
        <p:spPr>
          <a:xfrm>
            <a:off x="3239280" y="114300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Omega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6439680" y="388620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Omega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10"/>
          <p:cNvSpPr/>
          <p:nvPr/>
        </p:nvSpPr>
        <p:spPr>
          <a:xfrm>
            <a:off x="420120" y="472428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Omega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11"/>
          <p:cNvSpPr/>
          <p:nvPr/>
        </p:nvSpPr>
        <p:spPr>
          <a:xfrm>
            <a:off x="152280" y="3733920"/>
            <a:ext cx="15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Linol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12"/>
          <p:cNvSpPr/>
          <p:nvPr/>
        </p:nvSpPr>
        <p:spPr>
          <a:xfrm>
            <a:off x="2284920" y="449568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Alfa-linoleen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13"/>
          <p:cNvSpPr/>
          <p:nvPr/>
        </p:nvSpPr>
        <p:spPr>
          <a:xfrm>
            <a:off x="380880" y="601992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E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14"/>
          <p:cNvSpPr/>
          <p:nvPr/>
        </p:nvSpPr>
        <p:spPr>
          <a:xfrm>
            <a:off x="5541120" y="137160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Transv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15"/>
          <p:cNvSpPr/>
          <p:nvPr/>
        </p:nvSpPr>
        <p:spPr>
          <a:xfrm>
            <a:off x="1143000" y="2590920"/>
            <a:ext cx="9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D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6"/>
          <p:cNvSpPr/>
          <p:nvPr/>
        </p:nvSpPr>
        <p:spPr>
          <a:xfrm>
            <a:off x="2514600" y="2819520"/>
            <a:ext cx="3505320" cy="11912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ONTZETTEND VERWARR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2"/>
          <p:cNvSpPr/>
          <p:nvPr/>
        </p:nvSpPr>
        <p:spPr>
          <a:xfrm>
            <a:off x="990720" y="2133720"/>
            <a:ext cx="777240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Soort v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Minder verzadigd v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Meer onverzadigd v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Cholesterolverlagende product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99072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Beïnvloeden van choleste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http://www.voedingscentrum.nl/Assets/Uploads/voedingscentrum/Images/Consumenten/Schijf%20van%20Vijf%202016/Schijf-van-Vijf-vaknam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981000"/>
            <a:ext cx="5209920" cy="424836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057040" y="56386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ndacht voor voedingsvezels en variatie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2057400" y="2060280"/>
            <a:ext cx="6546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avervlokken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avermou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arwekiemen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ojabonen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inoa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en (nieuwe schijf van vijf adviseert 1 keer in de week peulvruchten)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oten en zaden (eet ten minste 15 gram ongezouten noten per dag)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ijnzaad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480" y="620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Plantaardige voeding, vezelrijk,</a:t>
            </a:r>
            <a:br>
              <a:rPr sz="3000"/>
            </a:b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verlaagd het LD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aar zit verzadigd vet i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Picture 6" descr="http://www.cheffen.nl/vlees1-thumb.jpg"/>
          <p:cNvPicPr/>
          <p:nvPr/>
        </p:nvPicPr>
        <p:blipFill>
          <a:blip r:embed="rId1"/>
          <a:stretch/>
        </p:blipFill>
        <p:spPr>
          <a:xfrm>
            <a:off x="685800" y="4572000"/>
            <a:ext cx="1457280" cy="1677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1" name="Picture 7" descr="http://images.vpro.nl/img.db?32155500+s(200)"/>
          <p:cNvPicPr/>
          <p:nvPr/>
        </p:nvPicPr>
        <p:blipFill>
          <a:blip r:embed="rId2"/>
          <a:stretch/>
        </p:blipFill>
        <p:spPr>
          <a:xfrm>
            <a:off x="7162920" y="3962520"/>
            <a:ext cx="1647720" cy="2514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2" name="Picture 8" descr="http://www.eventail-junior.be/images/croissant.jpg"/>
          <p:cNvPicPr/>
          <p:nvPr/>
        </p:nvPicPr>
        <p:blipFill>
          <a:blip r:embed="rId3"/>
          <a:stretch/>
        </p:blipFill>
        <p:spPr>
          <a:xfrm>
            <a:off x="2438280" y="4648320"/>
            <a:ext cx="1676520" cy="1590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3" name="Picture 9" descr="http://www.bakkerijkamstra.nl/images/Kamstras_Broodje_Kaas.jpg"/>
          <p:cNvPicPr/>
          <p:nvPr/>
        </p:nvPicPr>
        <p:blipFill>
          <a:blip r:embed="rId4"/>
          <a:stretch/>
        </p:blipFill>
        <p:spPr>
          <a:xfrm>
            <a:off x="4419720" y="4572000"/>
            <a:ext cx="2438280" cy="1725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4" name="Picture 10" descr="http://images.businessweek.com/ss/06/12/1206_transfats/image/margarine.jpg"/>
          <p:cNvPicPr/>
          <p:nvPr/>
        </p:nvPicPr>
        <p:blipFill>
          <a:blip r:embed="rId5"/>
          <a:stretch/>
        </p:blipFill>
        <p:spPr>
          <a:xfrm>
            <a:off x="7238880" y="990720"/>
            <a:ext cx="1676520" cy="1404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5" name="Picture 11" descr="http://www.reuserensmulders.nl/storage_accessories/189810los.jpg"/>
          <p:cNvPicPr/>
          <p:nvPr/>
        </p:nvPicPr>
        <p:blipFill>
          <a:blip r:embed="rId6"/>
          <a:stretch/>
        </p:blipFill>
        <p:spPr>
          <a:xfrm>
            <a:off x="7162920" y="2590920"/>
            <a:ext cx="1828800" cy="1245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36" name="Text Box 12"/>
          <p:cNvSpPr/>
          <p:nvPr/>
        </p:nvSpPr>
        <p:spPr>
          <a:xfrm>
            <a:off x="533520" y="1523880"/>
            <a:ext cx="601956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Calibri"/>
              </a:rPr>
              <a:t>Producten met dierlijke vetten zo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Calibri"/>
              </a:rPr>
              <a:t>Boter, volvette (48+) kaas, volle melk,   slagroom, vet vl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Calibri"/>
              </a:rPr>
              <a:t>En ook: chocolade, cake, snacks, koek, geb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7:29:13Z</dcterms:created>
  <dc:creator>rvheertum</dc:creator>
  <dc:description/>
  <dc:language>en-US</dc:language>
  <cp:lastModifiedBy>lvsluisveld</cp:lastModifiedBy>
  <dcterms:modified xsi:type="dcterms:W3CDTF">2016-05-04T09:34:19Z</dcterms:modified>
  <cp:revision>72</cp:revision>
  <dc:subject/>
  <dc:title>LANGER GEZOND MET GEZONDE EET-EN DRINKGEWOONTEN</dc:title>
</cp:coreProperties>
</file>