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4.jpeg" ContentType="image/jpeg"/>
  <Override PartName="/ppt/media/image2.png" ContentType="image/png"/>
  <Override PartName="/ppt/media/image27.jpeg" ContentType="image/jpeg"/>
  <Override PartName="/ppt/media/image6.jpeg" ContentType="image/jpeg"/>
  <Override PartName="/ppt/media/image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30.png" ContentType="image/png"/>
  <Override PartName="/ppt/media/image3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sldImg"/>
          </p:nvPr>
        </p:nvSpPr>
        <p:spPr>
          <a:xfrm>
            <a:off x="901440" y="761760"/>
            <a:ext cx="497844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 type="ftr" idx="41"/>
          </p:nvPr>
        </p:nvSpPr>
        <p:spPr>
          <a:xfrm>
            <a:off x="-36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 type="sldNum" idx="42"/>
          </p:nvPr>
        </p:nvSpPr>
        <p:spPr>
          <a:xfrm>
            <a:off x="388584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E4BF-36C0-4F93-B8EB-15C8C513632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6641-68B9-455F-9435-83E8D91700B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Aanwezigheid doornemen met de patien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DBA0-17CF-43FB-B8F4-C5A7355ACD3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 zijn smeersels voor het brood en melkproducten waaraan plantenstanolen of sterolen zijn toegevoeg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et is een waardevolle aanvulling. Bekijk het in uw totale voe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Minder verzadigd v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Meer bewe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BAE0-1AFC-4C89-AD72-D069CB5CE0F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Cholesterol is een vetachtige stof die het lichaam nodig heeft als bouwstof voor lichaamscellen en hormonen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Zonder cholesterol kan het lichaam niet goed functioner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root gedeelte maakt het lichaam zelf aan en een klein gedeelte komt uit de voed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Uitleggen dat als het om cholesterol gaat dan gaat het om het cholesterol bij elkaar opgetel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936C-A4F0-4520-BAA7-C53B20011A6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e linkervoeding bevat drie keer zoveel v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D2EA-B043-4481-AC5F-C67546011CB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Regelmatig bewegen is goed voor de gezondheid, de kans op diabetes en overgewicht is klei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Gezond bewegen betekent elke dag actief zij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Twijfelt u over uw gezondhei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Fysiotherapeut/ arts geeft adviezen over het juiste tempo, en het verkennen van uw grenz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ragen naar mogelijke manieren om te beweg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Tuiniere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Blokje om, stevig doorwandel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Traplop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tevig fiets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CB0B-0306-42CB-AF65-5ADE5852B82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Twee verschillende soorten cholesterol HDL LDL choles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DL veroorzaakt gemakkelijk verstoppingen, slechte choleste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DL voert het teveel aan cholesterol juist a naar de lev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76CB-CFC7-477E-AC22-EB8D84766AD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Cholesterolgehalte wordt gemeten met behulp van een bloedonderzoe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Bij wie is er een verhoogd cholesterol gemet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Wie kan oorzaken noemen van een te hoog cholesterol gehalt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et eten van veel verzadigd v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et eten van veel cholesterolrijk et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en te hoog lichaamsgewicht (sommige processen veranderen in het lichaam waardoor het cholesterol hoger wordt vooral bij buikv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et LDL wordt hoger terwijl het HDL lager word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felijke aanleg: sommige mensen hebben erfelijke aanleg hypercholesterolem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Bij mensen met Diabete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25AFA-40EF-4398-BDC5-9B2B435C7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09F7A-3317-4F2D-A68D-EB223284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F9E16-5BB5-4928-9291-80E7D86C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EC0C1-248D-4D19-9D22-43E0DF59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CD9B3-6404-4F36-A3B3-C11389CC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A94BC-0BE5-4AA5-A4A3-1D7055CC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21E50-DA80-4A78-833F-7DFF0304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532D0-6AA6-4BEF-A295-B663FD689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1BA15-86BF-4B57-BD0E-25C5C3AAE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E3420-D5F7-4C25-8834-F6482287A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E738C-4F9F-438E-B67C-ED72616A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BD6A0-81AC-475B-8608-0D269D17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15377-C634-4CA7-B9AF-65AF7963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B436F-62D1-4FAB-9CF9-FFEDFE13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B0A46-2F06-4B13-B7C4-D97D923B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FF1FD-D1DB-4CA8-8D1D-32CBBE1A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E4781-52EF-40EF-BABD-7766FE19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5E9DF-11EF-4C8F-9A1A-8AA2F967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5F12D-501D-4504-8E23-767D32FF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F3168-6E53-4205-BE81-9503941C6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F9581-0B5D-4278-BEA5-CD3816A54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BAE45-1D77-4211-AF67-1500DF3F9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77AE6-DEC5-41C7-B7D2-9CCC897E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55589-1DD6-43EE-8B96-873C037A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1651B-575D-4BAD-B9E6-6B50C406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E82D4-C479-4335-BEBA-6063DE42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4FAAA-CA26-4327-BFEB-7E8695F2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1C48B-E75D-41DF-8C80-57DBD176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FE3CE-A813-4998-B5C2-019593B1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8868E-EBA9-4B6A-8C85-724B7AF6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8075F-FF4A-44DE-829F-96D4A138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638DA-2B2C-4173-A7ED-D1E2BE751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CF397-FF7A-4474-9913-D2ED6F470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809F27-B53A-4236-8C8A-5CC80D2E9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727772-F5A7-4C00-A5A4-8B2EB72A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DD37D1-4AB4-4879-B62D-79C62726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FB19D-3936-47AF-8652-554AFB92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00BD3A-FCEB-4831-9EE7-C60C0E75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8C18E-8EA1-4876-810E-3D3AC6DE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8AA7EA-EC71-45AD-B3F7-6CB4B8A2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5A9DD9-914F-470E-901A-BCAE69B7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4A1F96-32FA-4FF9-9118-965490E0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15476D-5813-415B-A335-0AA2F627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B8A632-0AA3-48E4-B294-DFD6548EE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39097C-65E9-4899-A46B-344C553FF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196B23-DAF7-4927-92BB-C208994B6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482AB8-8467-4EED-93AC-720C0416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D73F02-E5EA-4623-BFD8-8454CF14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5DCED5-06BE-4389-97B7-1DB47A34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A53026-96B0-49DD-90A4-A55C1369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C50B5D-C1D5-4F15-983C-73F9B69E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0A200D-B5FC-43C9-B30B-C44FD2E4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E0BD81-DBBF-4213-B80A-654F4D38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2EEC3F-3E5D-4538-B9C4-510D9D40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B8B118-D622-4989-9569-86B5E4EF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B300A8-575F-41A1-B671-E742A01DE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A7D0DC-6814-458B-9DEF-14A26E810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CBE21F-4584-45A4-A3A1-EDEAB42A2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111D4-69F1-4C1B-B047-269EBD6F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5D08B-9A5A-4121-B7DF-57DC0F4D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0A3ABC-704A-49C7-A4A3-2B5B0D97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2A1627-0FAD-44A1-91EB-962D01E4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86C04-AF30-431E-AE15-DD82C731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8D04E5-662F-414E-9965-4C4A5F8B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164043-2827-47BA-A46C-119FF822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245E5-AFBF-4BA9-B23B-7742C977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02A2CB-A365-4C27-88C5-DD14213D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8BAD6-4C8B-4D30-A2DF-FE6D03B0C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5D36E-80BD-4ECD-80EC-6022B1D6A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40B428-2D76-4BED-93D2-0AE0CE5B5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4AF990-80EC-4A26-817B-4A4EEE1D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15EB93-AF43-4F85-8DE9-267016B6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A0AD06-167B-44D0-91B6-E79CB6E8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B3E9B8-F052-4120-8F7A-D9697620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17DF0C-FF1D-49CD-97F0-59BFE770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CC9354-24EB-4644-A4FB-845564EC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D53E48-6352-4A9B-94ED-1FF3364E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1C4A3A-306A-4979-8B4E-EA671093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757AE5-D2AF-4E0F-9982-9B47BBA0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B3D7F7-B3AF-41ED-8761-75699DEB9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DBF104-F81B-4F15-816D-B69C0CA16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C59B8F-F605-45DF-8ED1-F67A611F0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2BCE7C-32A3-421D-BE00-8A4235D9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07EF58-3E91-456A-A8F2-6628A811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271BD0-1269-4E9A-A443-77D36CED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582FF0-91C9-4A5B-9DB1-75194202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2F1EF8-3268-438E-B840-55ACB4ED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E5808E-EAF1-4BED-BAD9-09EC6FD9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4FDFA3-2A9A-4D20-B410-BDDE38B3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79F3FA-02AA-4A2F-B275-9A236CB7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D82029-F420-471B-BE2C-ECF4334A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0019B7-BE13-4525-A294-BBB1D9A91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23DF96-68D2-41CF-A18F-7B29F53DE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8E68-C997-476E-9B3B-68BE162FF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65FD-1B80-4C2A-A50E-4C081E82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DD96-6A7A-4BD2-A4DC-3B1F747A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1FEB-B752-419A-99CE-F9D6D888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FCCB-5AB5-4DAC-ABDF-6921E399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A078-203D-4F62-809C-6C525B34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68F9-6E6F-41A1-89FF-7533A075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5C53-44D8-4190-9249-934B55B2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86A1-FCC2-4FDB-8DAF-E37EA923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9F42-FFB1-4191-ABCD-D4EAD5F8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D7F9-E882-4FA7-B33F-94182ACFF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E7A3-18FF-4E03-9E5C-D6A5863E8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0E3A-3182-4F6E-B66F-015AC7AF4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EA5B-1D7C-42B8-976F-9375338B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A735-4145-47C0-A75F-82815DFA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D24B-3B03-46D2-94B2-F88C1FD2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5813-ACDB-4598-A7D8-DBD025C9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142F-5830-4829-8680-BD819294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D8EC-A120-43FB-B37D-5AC9873A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9943E-FA16-4FBF-B8D2-037A26F3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72D2-E5F2-4FB4-A13B-BB103465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CDCB-9FD3-44B3-8128-9CAAA6E9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64229-25EC-4000-825C-378A8BBD1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5465A-2800-4EDC-B882-A20B986B5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CBDB5-0744-49D0-8E6E-4554C160B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DF7F1-0E39-4704-9FC6-A7B1A175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0873C-A67F-4C0F-82C9-D3922BB5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B2BD0-CD0D-45D2-AC33-A792289D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2D5A1-D050-49B7-B712-89E609B1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CBCEC-049E-43DC-B971-DBFFCAB7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6B4C0-17B8-4295-A1E1-07513666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18188-143B-4AA0-BEBE-D8DD692C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12237-CA4E-4638-AA96-064251D4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6D287-4055-479A-892C-731B4D52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BCA5D-1C30-483E-9755-5BEACD504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E8419-4894-453B-B14E-9B1BDD504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D2DAA-2315-42E4-9FE4-A1338A8AF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6B152-B7E4-44C6-AAA5-5FEA0D54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2FFEF-318A-402D-880E-BADBEC3D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1C07B-7403-4366-9F05-61D7460A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70DAB-8864-48DB-A680-ED1BD894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BE62A-486D-4752-82BB-62DA4796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EF297-6C04-4AEF-9B34-87DE915A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AC96E-251F-431C-BD1C-351BE528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D886A-3E6B-4AFA-8A55-0260D3DC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A4307-6B3E-4AFC-834F-A5CB6210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F64C2-FFE8-49D8-BB8C-61549CB9E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03297-EDCC-4F3C-AFC3-72CDCCE1A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527FF-46FF-47AB-8E9F-8B6960D9F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06D03-F5A8-4FAF-B4BA-5B4C93E2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65845-8B9B-44CE-84F0-6C91C0AD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123CA-DC21-4956-A09E-D042925C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3FDB1-A0DC-4C13-B23F-C6C95740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014AE-93BF-48B8-9D1D-0CF1BDFF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F401D-62F0-487E-9CB7-1B86C92B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C3112-FC3F-4060-A19F-9DB4D2C6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8DFB6-ABBA-48F6-B8C0-7735665A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1F717-9E6E-4C34-A61B-C5909A7D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BBE81-D1EF-40AB-BE5F-480F09520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D44D4-CF78-43C7-B6DA-AD95B4573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2A577-A719-4298-ACDC-DDDB3209E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BC356-4009-49D8-A250-9CA65200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62307-F495-4412-BC06-AFED217E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4" descr=""/>
          <p:cNvPicPr/>
          <p:nvPr/>
        </p:nvPicPr>
        <p:blipFill>
          <a:blip r:embed="rId2"/>
          <a:stretch/>
        </p:blipFill>
        <p:spPr>
          <a:xfrm>
            <a:off x="584280" y="88920"/>
            <a:ext cx="8788320" cy="6769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6934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9e005d"/>
                </a:solidFill>
                <a:latin typeface="Calibri"/>
              </a:rPr>
              <a:t>Click to edit the title text format</a:t>
            </a:r>
            <a:endParaRPr b="1" lang="en-US" sz="70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5160" cy="676908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6"/>
          <p:cNvSpPr/>
          <p:nvPr/>
        </p:nvSpPr>
        <p:spPr>
          <a:xfrm>
            <a:off x="2058840" y="6400800"/>
            <a:ext cx="98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33526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4724280" y="6400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6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19"/>
          </p:nvPr>
        </p:nvSpPr>
        <p:spPr>
          <a:xfrm>
            <a:off x="20574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0"/>
          </p:nvPr>
        </p:nvSpPr>
        <p:spPr>
          <a:xfrm>
            <a:off x="396216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1"/>
          </p:nvPr>
        </p:nvSpPr>
        <p:spPr>
          <a:xfrm>
            <a:off x="8076960" y="632448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AB70-A3BE-4577-AA81-8A975660C01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5160" cy="676908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6"/>
          <p:cNvSpPr/>
          <p:nvPr/>
        </p:nvSpPr>
        <p:spPr>
          <a:xfrm>
            <a:off x="2058840" y="6400800"/>
            <a:ext cx="98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33526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4724280" y="6400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6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2"/>
          </p:nvPr>
        </p:nvSpPr>
        <p:spPr>
          <a:xfrm>
            <a:off x="20574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3"/>
          </p:nvPr>
        </p:nvSpPr>
        <p:spPr>
          <a:xfrm>
            <a:off x="396216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24"/>
          </p:nvPr>
        </p:nvSpPr>
        <p:spPr>
          <a:xfrm>
            <a:off x="8076960" y="632448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B432-B091-4401-873A-7C7A23B8CA0A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5160" cy="6769080"/>
          </a:xfrm>
          <a:prstGeom prst="rect">
            <a:avLst/>
          </a:prstGeom>
          <a:ln w="0">
            <a:noFill/>
          </a:ln>
        </p:spPr>
      </p:pic>
      <p:sp>
        <p:nvSpPr>
          <p:cNvPr id="458" name="Rectangle 6"/>
          <p:cNvSpPr/>
          <p:nvPr/>
        </p:nvSpPr>
        <p:spPr>
          <a:xfrm>
            <a:off x="2058840" y="6400800"/>
            <a:ext cx="98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6"/>
          <p:cNvSpPr/>
          <p:nvPr/>
        </p:nvSpPr>
        <p:spPr>
          <a:xfrm>
            <a:off x="33526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6"/>
          <p:cNvSpPr/>
          <p:nvPr/>
        </p:nvSpPr>
        <p:spPr>
          <a:xfrm>
            <a:off x="4724280" y="6400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6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25"/>
          </p:nvPr>
        </p:nvSpPr>
        <p:spPr>
          <a:xfrm>
            <a:off x="20574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26"/>
          </p:nvPr>
        </p:nvSpPr>
        <p:spPr>
          <a:xfrm>
            <a:off x="396216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27"/>
          </p:nvPr>
        </p:nvSpPr>
        <p:spPr>
          <a:xfrm>
            <a:off x="8076960" y="632448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FB4A-5D45-4831-BA77-0A64B777D84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5160" cy="6769080"/>
          </a:xfrm>
          <a:prstGeom prst="rect">
            <a:avLst/>
          </a:prstGeom>
          <a:ln w="0">
            <a:noFill/>
          </a:ln>
        </p:spPr>
      </p:pic>
      <p:sp>
        <p:nvSpPr>
          <p:cNvPr id="504" name="Rectangle 6"/>
          <p:cNvSpPr/>
          <p:nvPr/>
        </p:nvSpPr>
        <p:spPr>
          <a:xfrm>
            <a:off x="2058840" y="6400800"/>
            <a:ext cx="98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6"/>
          <p:cNvSpPr/>
          <p:nvPr/>
        </p:nvSpPr>
        <p:spPr>
          <a:xfrm>
            <a:off x="33526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6"/>
          <p:cNvSpPr/>
          <p:nvPr/>
        </p:nvSpPr>
        <p:spPr>
          <a:xfrm>
            <a:off x="4724280" y="6400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6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28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29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0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7E99-9E95-416A-8DAD-AF7150F8E8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5160" cy="676908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6"/>
          <p:cNvSpPr/>
          <p:nvPr/>
        </p:nvSpPr>
        <p:spPr>
          <a:xfrm>
            <a:off x="2058840" y="6400800"/>
            <a:ext cx="98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6"/>
          <p:cNvSpPr/>
          <p:nvPr/>
        </p:nvSpPr>
        <p:spPr>
          <a:xfrm>
            <a:off x="33526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6"/>
          <p:cNvSpPr/>
          <p:nvPr/>
        </p:nvSpPr>
        <p:spPr>
          <a:xfrm>
            <a:off x="4724280" y="6400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6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1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3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BB4B-16AF-482E-9895-212A680A89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5160" cy="6769080"/>
          </a:xfrm>
          <a:prstGeom prst="rect">
            <a:avLst/>
          </a:prstGeom>
          <a:ln w="0">
            <a:noFill/>
          </a:ln>
        </p:spPr>
      </p:pic>
      <p:sp>
        <p:nvSpPr>
          <p:cNvPr id="596" name="Rectangle 6"/>
          <p:cNvSpPr/>
          <p:nvPr/>
        </p:nvSpPr>
        <p:spPr>
          <a:xfrm>
            <a:off x="2058840" y="6400800"/>
            <a:ext cx="98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6"/>
          <p:cNvSpPr/>
          <p:nvPr/>
        </p:nvSpPr>
        <p:spPr>
          <a:xfrm>
            <a:off x="33526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6"/>
          <p:cNvSpPr/>
          <p:nvPr/>
        </p:nvSpPr>
        <p:spPr>
          <a:xfrm>
            <a:off x="4724280" y="6400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6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34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3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3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C27E-E44D-45AF-BCD9-F90C042A56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5160" cy="6769080"/>
          </a:xfrm>
          <a:prstGeom prst="rect">
            <a:avLst/>
          </a:prstGeom>
          <a:ln w="0">
            <a:noFill/>
          </a:ln>
        </p:spPr>
      </p:pic>
      <p:sp>
        <p:nvSpPr>
          <p:cNvPr id="642" name="Rectangle 6"/>
          <p:cNvSpPr/>
          <p:nvPr/>
        </p:nvSpPr>
        <p:spPr>
          <a:xfrm>
            <a:off x="2058840" y="6400800"/>
            <a:ext cx="98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6"/>
          <p:cNvSpPr/>
          <p:nvPr/>
        </p:nvSpPr>
        <p:spPr>
          <a:xfrm>
            <a:off x="33526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4724280" y="6400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6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37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3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3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F578-E5F9-4B2D-999D-3B5C082FAE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5160" cy="67690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2058840" y="6400800"/>
            <a:ext cx="98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3526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4724280" y="6400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Afbeelding 4" descr=""/>
          <p:cNvPicPr/>
          <p:nvPr/>
        </p:nvPicPr>
        <p:blipFill>
          <a:blip r:embed="rId2"/>
          <a:stretch/>
        </p:blipFill>
        <p:spPr>
          <a:xfrm>
            <a:off x="584280" y="88920"/>
            <a:ext cx="8788320" cy="6769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6934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9e005d"/>
                </a:solidFill>
                <a:latin typeface="Calibri"/>
              </a:rPr>
              <a:t>Click to edit the title text format</a:t>
            </a:r>
            <a:endParaRPr b="1" lang="en-US" sz="70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Afbeelding 4" descr=""/>
          <p:cNvPicPr/>
          <p:nvPr/>
        </p:nvPicPr>
        <p:blipFill>
          <a:blip r:embed="rId2"/>
          <a:stretch/>
        </p:blipFill>
        <p:spPr>
          <a:xfrm>
            <a:off x="584280" y="88920"/>
            <a:ext cx="8788320" cy="67690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6934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9e005d"/>
                </a:solidFill>
                <a:latin typeface="Calibri"/>
              </a:rPr>
              <a:t>Click to edit the title text format</a:t>
            </a:r>
            <a:endParaRPr b="1" lang="en-US" sz="70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8131-D421-416A-A15A-88464D2E3F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Afbeelding 4" descr=""/>
          <p:cNvPicPr/>
          <p:nvPr/>
        </p:nvPicPr>
        <p:blipFill>
          <a:blip r:embed="rId2"/>
          <a:stretch/>
        </p:blipFill>
        <p:spPr>
          <a:xfrm>
            <a:off x="584280" y="88920"/>
            <a:ext cx="8788320" cy="67690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6934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9e005d"/>
                </a:solidFill>
                <a:latin typeface="Calibri"/>
              </a:rPr>
              <a:t>Click to edit the title text format</a:t>
            </a:r>
            <a:endParaRPr b="1" lang="en-US" sz="70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4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72EF-5243-4E4E-B984-6AF4E7C633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Afbeelding 4" descr=""/>
          <p:cNvPicPr/>
          <p:nvPr/>
        </p:nvPicPr>
        <p:blipFill>
          <a:blip r:embed="rId2"/>
          <a:stretch/>
        </p:blipFill>
        <p:spPr>
          <a:xfrm>
            <a:off x="584280" y="88920"/>
            <a:ext cx="8788320" cy="67690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6934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9e005d"/>
                </a:solidFill>
                <a:latin typeface="Calibri"/>
              </a:rPr>
              <a:t>Click to edit the title text format</a:t>
            </a:r>
            <a:endParaRPr b="1" lang="en-US" sz="70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dt" idx="7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2252-182D-4853-91B5-0BB028541D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Afbeelding 4" descr=""/>
          <p:cNvPicPr/>
          <p:nvPr/>
        </p:nvPicPr>
        <p:blipFill>
          <a:blip r:embed="rId2"/>
          <a:stretch/>
        </p:blipFill>
        <p:spPr>
          <a:xfrm>
            <a:off x="584280" y="88920"/>
            <a:ext cx="8788320" cy="676908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6934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9e005d"/>
                </a:solidFill>
                <a:latin typeface="Calibri"/>
              </a:rPr>
              <a:t>Click to edit the title text format</a:t>
            </a:r>
            <a:endParaRPr b="1" lang="en-US" sz="70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dt" idx="10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2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FCFF-30E9-49BB-B4BD-68EC30958C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Afbeelding 4" descr=""/>
          <p:cNvPicPr/>
          <p:nvPr/>
        </p:nvPicPr>
        <p:blipFill>
          <a:blip r:embed="rId2"/>
          <a:stretch/>
        </p:blipFill>
        <p:spPr>
          <a:xfrm>
            <a:off x="584280" y="88920"/>
            <a:ext cx="8788320" cy="676908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6934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9e005d"/>
                </a:solidFill>
                <a:latin typeface="Calibri"/>
              </a:rPr>
              <a:t>Click to edit the title text format</a:t>
            </a:r>
            <a:endParaRPr b="1" lang="en-US" sz="70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3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5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AA4E-8FAB-499A-BB12-06E305E4E8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Afbeelding 4" descr=""/>
          <p:cNvPicPr/>
          <p:nvPr/>
        </p:nvPicPr>
        <p:blipFill>
          <a:blip r:embed="rId2"/>
          <a:stretch/>
        </p:blipFill>
        <p:spPr>
          <a:xfrm>
            <a:off x="584280" y="88920"/>
            <a:ext cx="8788320" cy="676908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6934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9e005d"/>
                </a:solidFill>
                <a:latin typeface="Calibri"/>
              </a:rPr>
              <a:t>Click to edit the title text format</a:t>
            </a:r>
            <a:endParaRPr b="1" lang="en-US" sz="70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dt" idx="16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ftr" idx="1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sldNum" idx="18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E504-8183-447B-A714-A0568591B4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source=images&amp;cd=&amp;cad=rja&amp;uact=8&amp;ved=0ahUKEwictKXm4efLAhXCYQ8KHc8MCEEQjRwIBw&amp;url=http%3A%2F%2Fwww.voedingscentrum.nl%2Fnl%2Fgezond-eten-met-de-schijf-van-vijf.aspx&amp;psig=AFQjCNGS803GMEIPaOLnwEZkMO7HMZ64zw&amp;ust=1459405065446596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9e005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9e005d"/>
                </a:solidFill>
                <a:latin typeface="Calibri"/>
              </a:rPr>
              <a:t>Jeroen Bosch Ziekenhuis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9e005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9e005d"/>
                </a:solidFill>
                <a:latin typeface="Calibri"/>
              </a:rPr>
              <a:t>Afdeling Diëtetiek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title"/>
          </p:nvPr>
        </p:nvSpPr>
        <p:spPr>
          <a:xfrm>
            <a:off x="1371600" y="1600200"/>
            <a:ext cx="6192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000000"/>
                </a:solidFill>
                <a:latin typeface="Georgia"/>
              </a:rPr>
              <a:t>Cardio-revalidatie </a:t>
            </a:r>
            <a:br>
              <a:rPr sz="3900"/>
            </a:br>
            <a:endParaRPr b="1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Text Box 5124"/>
          <p:cNvSpPr/>
          <p:nvPr/>
        </p:nvSpPr>
        <p:spPr>
          <a:xfrm>
            <a:off x="1981080" y="3276720"/>
            <a:ext cx="51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Cholesterol en Vet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Picture 2" descr="C:\Documents and Settings\boogaard\Mijn documenten\Mijn afbeeldingen\noten.gif"/>
          <p:cNvPicPr/>
          <p:nvPr/>
        </p:nvPicPr>
        <p:blipFill>
          <a:blip r:embed="rId1"/>
          <a:stretch/>
        </p:blipFill>
        <p:spPr>
          <a:xfrm>
            <a:off x="3809880" y="4419720"/>
            <a:ext cx="2133720" cy="2133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38" name="Picture 3" descr="http://www.typicaldutchstuff.com/croma.jpg"/>
          <p:cNvPicPr/>
          <p:nvPr/>
        </p:nvPicPr>
        <p:blipFill>
          <a:blip r:embed="rId2"/>
          <a:stretch/>
        </p:blipFill>
        <p:spPr>
          <a:xfrm>
            <a:off x="6553080" y="1066680"/>
            <a:ext cx="1935360" cy="1636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39" name="Picture 4" descr="http://www.lunch4kids.com/getfile.php?id=478"/>
          <p:cNvPicPr/>
          <p:nvPr/>
        </p:nvPicPr>
        <p:blipFill>
          <a:blip r:embed="rId3"/>
          <a:stretch/>
        </p:blipFill>
        <p:spPr>
          <a:xfrm>
            <a:off x="685800" y="4724280"/>
            <a:ext cx="2360520" cy="1771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58672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Calibri"/>
              </a:rPr>
              <a:t>Waar zit o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nverzadigd vet</a:t>
            </a:r>
            <a:r>
              <a:rPr b="1" lang="nl-NL" sz="3300" spc="-1" strike="noStrike">
                <a:solidFill>
                  <a:srgbClr val="000000"/>
                </a:solidFill>
                <a:latin typeface="Calibri"/>
              </a:rPr>
              <a:t> in?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 Box 6"/>
          <p:cNvSpPr/>
          <p:nvPr/>
        </p:nvSpPr>
        <p:spPr>
          <a:xfrm>
            <a:off x="457200" y="1523880"/>
            <a:ext cx="5638680" cy="19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Producten met (vloeibare) plantaardige vetten of visvet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lie, vloeibare margarin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oten, sojaprodukten,vette 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2" name="Picture 7" descr="http://www.agrotropical.andes.com/olive_oil/bot2peq.jpg"/>
          <p:cNvPicPr/>
          <p:nvPr/>
        </p:nvPicPr>
        <p:blipFill>
          <a:blip r:embed="rId4"/>
          <a:stretch/>
        </p:blipFill>
        <p:spPr>
          <a:xfrm>
            <a:off x="6553080" y="2819520"/>
            <a:ext cx="2035440" cy="20764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43" name="Picture 8" descr="http://www.becel.be/images/prod/becelomega3plus-big.gif"/>
          <p:cNvPicPr/>
          <p:nvPr/>
        </p:nvPicPr>
        <p:blipFill>
          <a:blip r:embed="rId5"/>
          <a:stretch/>
        </p:blipFill>
        <p:spPr>
          <a:xfrm>
            <a:off x="6172200" y="4572000"/>
            <a:ext cx="2590920" cy="1936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2"/>
          <p:cNvSpPr/>
          <p:nvPr/>
        </p:nvSpPr>
        <p:spPr>
          <a:xfrm>
            <a:off x="685800" y="1676520"/>
            <a:ext cx="777240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574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i max. 2-3 per we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574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rgaanvlees, garnalen, paling, mosselen 1 x per 2 wek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574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oomboter, slagro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3"/>
          <p:cNvSpPr/>
          <p:nvPr/>
        </p:nvSpPr>
        <p:spPr>
          <a:xfrm>
            <a:off x="990720" y="609480"/>
            <a:ext cx="777240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Stijging van het cholesterol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met name het LD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6" name="Picture 5" descr="http://www.freewebs.com/hanenburg/ei01.jpg"/>
          <p:cNvPicPr/>
          <p:nvPr/>
        </p:nvPicPr>
        <p:blipFill>
          <a:blip r:embed="rId1"/>
          <a:stretch/>
        </p:blipFill>
        <p:spPr>
          <a:xfrm>
            <a:off x="990720" y="4191120"/>
            <a:ext cx="1657080" cy="220968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7" descr="http://nl.dreamstime.com/verse-garnalen-thumb2452450.jpg"/>
          <p:cNvPicPr/>
          <p:nvPr/>
        </p:nvPicPr>
        <p:blipFill>
          <a:blip r:embed="rId2"/>
          <a:stretch/>
        </p:blipFill>
        <p:spPr>
          <a:xfrm>
            <a:off x="3851280" y="4797360"/>
            <a:ext cx="1508040" cy="127152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9" descr="http://www.devuurdoorn.be/images/mosselen2.jpg"/>
          <p:cNvPicPr/>
          <p:nvPr/>
        </p:nvPicPr>
        <p:blipFill>
          <a:blip r:embed="rId3"/>
          <a:stretch/>
        </p:blipFill>
        <p:spPr>
          <a:xfrm>
            <a:off x="6324480" y="3962520"/>
            <a:ext cx="1905120" cy="1541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2195640" y="3428640"/>
            <a:ext cx="6262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Stelling:</a:t>
            </a:r>
            <a:endParaRPr b="0" lang="en-US" sz="2800" spc="-1" strike="noStrike">
              <a:solidFill>
                <a:srgbClr val="9e005d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ls ik deze producten gebruik doe ik voldoende om mijn cholesterol te verlagen. </a:t>
            </a:r>
            <a:endParaRPr b="0" lang="en-US" sz="28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title"/>
          </p:nvPr>
        </p:nvSpPr>
        <p:spPr>
          <a:xfrm>
            <a:off x="2050920" y="1218960"/>
            <a:ext cx="648360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 zijn speciale producten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(‘functional foods’) op de markt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e het cholesterolgehalte in het bloed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et 10-15% kunnen verlagen.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 txBox="1"/>
          <p:nvPr/>
        </p:nvSpPr>
        <p:spPr>
          <a:xfrm>
            <a:off x="533520" y="1483920"/>
            <a:ext cx="77724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Broodsmeersels en zuivelproducten</a:t>
            </a:r>
            <a:endParaRPr b="0" lang="en-US" sz="29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Plantensterolen / plantenstanolen</a:t>
            </a:r>
            <a:endParaRPr b="0" lang="en-US" sz="29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Verlaagt LDL door verminderde opname </a:t>
            </a:r>
            <a:endParaRPr b="0" lang="en-US" sz="29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van cholesterol in de darmen.</a:t>
            </a:r>
            <a:endParaRPr b="0" lang="en-US" sz="29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Bij gebruik van cholesterolverlagende medicatie eerst arts raadplegen.</a:t>
            </a:r>
            <a:endParaRPr b="0" lang="en-US" sz="29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Cholesterolverlagende producte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3" name="Group 5"/>
          <p:cNvGrpSpPr/>
          <p:nvPr/>
        </p:nvGrpSpPr>
        <p:grpSpPr>
          <a:xfrm>
            <a:off x="3475080" y="2052720"/>
            <a:ext cx="8572320" cy="360"/>
            <a:chOff x="3475080" y="2052720"/>
            <a:chExt cx="8572320" cy="360"/>
          </a:xfrm>
        </p:grpSpPr>
        <p:sp>
          <p:nvSpPr>
            <p:cNvPr id="754" name="Rectangle 6"/>
            <p:cNvSpPr/>
            <p:nvPr/>
          </p:nvSpPr>
          <p:spPr>
            <a:xfrm>
              <a:off x="3475080" y="2052720"/>
              <a:ext cx="8572320" cy="360"/>
            </a:xfrm>
            <a:prstGeom prst="rect">
              <a:avLst/>
            </a:prstGeom>
            <a:solidFill>
              <a:srgbClr val="f2f8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7"/>
            <p:cNvSpPr/>
            <p:nvPr/>
          </p:nvSpPr>
          <p:spPr>
            <a:xfrm>
              <a:off x="3475080" y="2052720"/>
              <a:ext cx="8572320" cy="360"/>
            </a:xfrm>
            <a:prstGeom prst="rect">
              <a:avLst/>
            </a:prstGeom>
            <a:solidFill>
              <a:srgbClr val="f2f8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56" name="Picture 8" descr="http://u1.peersphere.net/becelwebsite/controller/image.jpg?livelinkDataID=5740277"/>
          <p:cNvPicPr/>
          <p:nvPr/>
        </p:nvPicPr>
        <p:blipFill>
          <a:blip r:embed="rId1"/>
          <a:stretch/>
        </p:blipFill>
        <p:spPr>
          <a:xfrm>
            <a:off x="6858000" y="4572000"/>
            <a:ext cx="911160" cy="19810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57" name="Picture 9" descr="http://u1.peersphere.net/becelwebsite/controller/image.jpg?livelinkDataID=5671511"/>
          <p:cNvPicPr/>
          <p:nvPr/>
        </p:nvPicPr>
        <p:blipFill>
          <a:blip r:embed="rId2"/>
          <a:stretch/>
        </p:blipFill>
        <p:spPr>
          <a:xfrm>
            <a:off x="3733920" y="4876920"/>
            <a:ext cx="2209680" cy="15238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nverzadigde vetzuren in de voeding</a:t>
            </a:r>
            <a:endParaRPr b="0" lang="en-US" sz="2800" spc="-1" strike="noStrike">
              <a:solidFill>
                <a:srgbClr val="9e005d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e005d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ij producten met vet kiezen voor de</a:t>
            </a:r>
            <a:endParaRPr b="0" lang="en-US" sz="2800" spc="-1" strike="noStrike">
              <a:solidFill>
                <a:srgbClr val="9e005d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oorten die weinig verzadigd vet bevatten,</a:t>
            </a:r>
            <a:endParaRPr b="0" lang="en-US" sz="2800" spc="-1" strike="noStrike">
              <a:solidFill>
                <a:srgbClr val="9e005d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grootste deel van het vet is dan automatisch onverzadigd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HDL verhogend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380880" y="20574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V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erzadigd = </a:t>
            </a:r>
            <a:r>
              <a:rPr b="1" lang="nl-NL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V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erkeerd</a:t>
            </a:r>
            <a:endParaRPr b="0" lang="en-US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ff00"/>
                </a:solidFill>
                <a:latin typeface="Calibri"/>
                <a:ea typeface="Times New Roman"/>
              </a:rPr>
              <a:t>O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nverzadigd = </a:t>
            </a:r>
            <a:r>
              <a:rPr b="1" lang="nl-NL" sz="3600" spc="-1" strike="noStrike">
                <a:solidFill>
                  <a:srgbClr val="00ff00"/>
                </a:solidFill>
                <a:latin typeface="Calibri"/>
                <a:ea typeface="Times New Roman"/>
              </a:rPr>
              <a:t>O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ké</a:t>
            </a:r>
            <a:endParaRPr b="0" lang="en-US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Calibri"/>
              </a:rPr>
              <a:t>Smeren en bakken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2340000" y="1219320"/>
            <a:ext cx="568800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Smeren:</a:t>
            </a:r>
            <a:endParaRPr b="0" lang="en-US" sz="20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argarine</a:t>
            </a: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± 80% vet</a:t>
            </a: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alvarine</a:t>
            </a: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± 40% vet</a:t>
            </a: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eet</a:t>
            </a: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Gunstige verhouding onverzadigde vetten  </a:t>
            </a: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t.o.v. verzadigde vetten.  </a:t>
            </a: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Bakken:</a:t>
            </a:r>
            <a:endParaRPr b="0" lang="en-US" sz="20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k- en braadvet/ olijfolie</a:t>
            </a: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90 – 100% vet</a:t>
            </a: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loeibaar </a:t>
            </a: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</p:txBody>
      </p:sp>
      <p:pic>
        <p:nvPicPr>
          <p:cNvPr id="764" name="Picture 1029" descr="30021"/>
          <p:cNvPicPr/>
          <p:nvPr/>
        </p:nvPicPr>
        <p:blipFill>
          <a:blip r:embed="rId1"/>
          <a:stretch/>
        </p:blipFill>
        <p:spPr>
          <a:xfrm>
            <a:off x="6172200" y="685800"/>
            <a:ext cx="1704960" cy="165888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1028" descr="30022"/>
          <p:cNvPicPr/>
          <p:nvPr/>
        </p:nvPicPr>
        <p:blipFill>
          <a:blip r:embed="rId2"/>
          <a:stretch/>
        </p:blipFill>
        <p:spPr>
          <a:xfrm>
            <a:off x="395280" y="1341360"/>
            <a:ext cx="1577880" cy="165888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1031" descr="30105"/>
          <p:cNvPicPr/>
          <p:nvPr/>
        </p:nvPicPr>
        <p:blipFill>
          <a:blip r:embed="rId3"/>
          <a:stretch/>
        </p:blipFill>
        <p:spPr>
          <a:xfrm>
            <a:off x="5943600" y="4114800"/>
            <a:ext cx="947880" cy="23036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1032" descr="30106"/>
          <p:cNvPicPr/>
          <p:nvPr/>
        </p:nvPicPr>
        <p:blipFill>
          <a:blip r:embed="rId4"/>
          <a:stretch/>
        </p:blipFill>
        <p:spPr>
          <a:xfrm>
            <a:off x="468360" y="4292640"/>
            <a:ext cx="1639800" cy="230328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1033" descr="http://www.delicasa.nl/shop/image.php?productid=17407"/>
          <p:cNvPicPr/>
          <p:nvPr/>
        </p:nvPicPr>
        <p:blipFill>
          <a:blip r:embed="rId5"/>
          <a:stretch/>
        </p:blipFill>
        <p:spPr>
          <a:xfrm>
            <a:off x="8001000" y="2590920"/>
            <a:ext cx="792000" cy="18478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300" spc="-1" strike="noStrike">
                <a:solidFill>
                  <a:srgbClr val="000000"/>
                </a:solidFill>
                <a:latin typeface="Calibri"/>
              </a:rPr>
              <a:t>Dieetmargarine is minder vet </a:t>
            </a:r>
            <a:r>
              <a:rPr b="0" lang="nl-NL" sz="3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300" spc="-1" strike="noStrike">
                <a:solidFill>
                  <a:srgbClr val="000000"/>
                </a:solidFill>
                <a:latin typeface="Calibri"/>
              </a:rPr>
              <a:t>dan roomboter.</a:t>
            </a:r>
            <a:endParaRPr b="0" lang="en-US" sz="33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Stelling 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Calibri"/>
              </a:rPr>
              <a:t>Etiket lezen: Welke te kiezen?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3"/>
          <p:cNvSpPr/>
          <p:nvPr/>
        </p:nvSpPr>
        <p:spPr>
          <a:xfrm>
            <a:off x="0" y="1955880"/>
            <a:ext cx="9144000" cy="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3" name=""/>
          <p:cNvGraphicFramePr/>
          <p:nvPr/>
        </p:nvGraphicFramePr>
        <p:xfrm>
          <a:off x="457200" y="1828800"/>
          <a:ext cx="8366040" cy="4022640"/>
        </p:xfrm>
        <a:graphic>
          <a:graphicData uri="http://schemas.openxmlformats.org/drawingml/2006/table">
            <a:tbl>
              <a:tblPr/>
              <a:tblGrid>
                <a:gridCol w="2891520"/>
                <a:gridCol w="1170360"/>
                <a:gridCol w="218880"/>
                <a:gridCol w="2915640"/>
                <a:gridCol w="116964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edings-waarde per 100 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Voedings-waarde per 100 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83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erg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iwit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olhydra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waarvan sui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waarvan verzadig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tr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enkelvoudig onverzadig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meervoudig onverzadig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0 K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1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Energ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Eiwit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Koolhydra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-waarvan sui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V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-waarvan verzadig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-tr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-enkelvoudig onverzadig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-meervoudig onverzadig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720 k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774" name="Text Box 30"/>
          <p:cNvSpPr/>
          <p:nvPr/>
        </p:nvSpPr>
        <p:spPr>
          <a:xfrm>
            <a:off x="457200" y="2209680"/>
            <a:ext cx="28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Dieetmargar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 Box 31"/>
          <p:cNvSpPr/>
          <p:nvPr/>
        </p:nvSpPr>
        <p:spPr>
          <a:xfrm>
            <a:off x="4724280" y="22096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Margar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Wel menu bevat veel vet?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Rectangle 35"/>
          <p:cNvSpPr/>
          <p:nvPr/>
        </p:nvSpPr>
        <p:spPr>
          <a:xfrm>
            <a:off x="3240" y="271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80"/>
          <p:cNvSpPr/>
          <p:nvPr/>
        </p:nvSpPr>
        <p:spPr>
          <a:xfrm>
            <a:off x="3240" y="695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 Box 217"/>
          <p:cNvSpPr/>
          <p:nvPr/>
        </p:nvSpPr>
        <p:spPr>
          <a:xfrm>
            <a:off x="228600" y="1676520"/>
            <a:ext cx="4038480" cy="441684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Boterhammen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garine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a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ffie met koffieme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bakken aardappelen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haktbal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ente met boter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omvla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221"/>
          <p:cNvSpPr/>
          <p:nvPr/>
        </p:nvSpPr>
        <p:spPr>
          <a:xfrm>
            <a:off x="4648320" y="1676520"/>
            <a:ext cx="4038480" cy="441684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5 Boterha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alvarine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ookvlee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offie met h.v. koffiemel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kookte aardappelen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ipfi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roente zonder bo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ode sau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gere vruchtenyoghu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 txBox="1"/>
          <p:nvPr/>
        </p:nvSpPr>
        <p:spPr>
          <a:xfrm>
            <a:off x="60948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Functie: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- celwanden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- vitamine D</a:t>
            </a:r>
            <a:endParaRPr b="0" lang="en-US" sz="3000" spc="-1" strike="noStrike">
              <a:solidFill>
                <a:srgbClr val="9e005d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- hormonen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- gal</a:t>
            </a:r>
            <a:endParaRPr b="0" lang="en-US" sz="3000" spc="-1" strike="noStrike">
              <a:solidFill>
                <a:srgbClr val="9e005d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e005d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Soorten:</a:t>
            </a:r>
            <a:endParaRPr b="0" lang="en-US" sz="3000" spc="-1" strike="noStrike">
              <a:solidFill>
                <a:srgbClr val="9e005d"/>
              </a:solidFill>
              <a:latin typeface="Calibri"/>
            </a:endParaRPr>
          </a:p>
          <a:p>
            <a:pPr lvl="3" marL="1584000" indent="-226080">
              <a:spcBef>
                <a:spcPts val="649"/>
              </a:spcBef>
              <a:buClr>
                <a:srgbClr val="000000"/>
              </a:buClr>
              <a:buSzPct val="50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HDL</a:t>
            </a:r>
            <a:endParaRPr b="0" lang="en-US" sz="2600" spc="-1" strike="noStrike">
              <a:solidFill>
                <a:srgbClr val="9e005d"/>
              </a:solidFill>
              <a:latin typeface="Calibri"/>
            </a:endParaRPr>
          </a:p>
          <a:p>
            <a:pPr lvl="3" marL="1584000" indent="-226080">
              <a:spcBef>
                <a:spcPts val="649"/>
              </a:spcBef>
              <a:buClr>
                <a:srgbClr val="000000"/>
              </a:buClr>
              <a:buSzPct val="50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LDL</a:t>
            </a:r>
            <a:endParaRPr b="0" lang="en-US" sz="2600" spc="-1" strike="noStrike">
              <a:solidFill>
                <a:srgbClr val="9e005d"/>
              </a:solidFill>
              <a:latin typeface="Calibri"/>
            </a:endParaRPr>
          </a:p>
          <a:p>
            <a:pPr lvl="3" marL="1584000" indent="-226080">
              <a:spcBef>
                <a:spcPts val="649"/>
              </a:spcBef>
              <a:buClr>
                <a:srgbClr val="000000"/>
              </a:buClr>
              <a:buSzPct val="50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Totaal cholesterol </a:t>
            </a:r>
            <a:endParaRPr b="0" lang="en-US" sz="2600" spc="-1" strike="noStrike">
              <a:solidFill>
                <a:srgbClr val="9e005d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= HDL + LDL</a:t>
            </a:r>
            <a:endParaRPr b="0" lang="en-US" sz="3000" spc="-1" strike="noStrike">
              <a:solidFill>
                <a:srgbClr val="9e005d"/>
              </a:solidFill>
              <a:latin typeface="Calibri"/>
            </a:endParaRPr>
          </a:p>
          <a:p>
            <a:pPr lvl="1" marL="735480" indent="-282960">
              <a:spcBef>
                <a:spcPts val="75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Cholesterol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9" name="Picture 4" descr="http://www.phillips-fit.co.uk/pfiles/images/HDL%20LDL.jpg"/>
          <p:cNvPicPr/>
          <p:nvPr/>
        </p:nvPicPr>
        <p:blipFill>
          <a:blip r:embed="rId1"/>
          <a:stretch/>
        </p:blipFill>
        <p:spPr>
          <a:xfrm>
            <a:off x="5486400" y="3505320"/>
            <a:ext cx="2438280" cy="19303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228600" y="9907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Vet dagmen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4648320" y="99072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Mager dagmen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3240" y="271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Rectangle 6"/>
          <p:cNvSpPr/>
          <p:nvPr/>
        </p:nvSpPr>
        <p:spPr>
          <a:xfrm>
            <a:off x="3240" y="695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 Box 7"/>
          <p:cNvSpPr/>
          <p:nvPr/>
        </p:nvSpPr>
        <p:spPr>
          <a:xfrm>
            <a:off x="228600" y="1676520"/>
            <a:ext cx="4038480" cy="441684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Boterhammen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garine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20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a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20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ffie met koffiemelk      12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bakken aardappelen      12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haktbal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13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ente met boter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3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16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omvla                              5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1g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 Box 8"/>
          <p:cNvSpPr/>
          <p:nvPr/>
        </p:nvSpPr>
        <p:spPr>
          <a:xfrm>
            <a:off x="4648320" y="1676520"/>
            <a:ext cx="4038480" cy="48553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5 Boterha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alvarine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10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ookvlee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5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offie met h.v. koffiemelk 6g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kookte aardappelen        -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ipfilet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  3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roente zonder boter          -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ode saus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  8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gere vruchten yoghurt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1g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32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 txBox="1"/>
          <p:nvPr/>
        </p:nvSpPr>
        <p:spPr>
          <a:xfrm>
            <a:off x="990720" y="144756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9e005d"/>
                </a:solidFill>
                <a:latin typeface="Calibri"/>
              </a:rPr>
              <a:t>	</a:t>
            </a:r>
            <a:r>
              <a:rPr b="0" lang="nl-NL" sz="2900" spc="-1" strike="noStrike">
                <a:solidFill>
                  <a:srgbClr val="9e005d"/>
                </a:solidFill>
                <a:latin typeface="Calibri"/>
              </a:rPr>
              <a:t>	</a:t>
            </a: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- Lichaamsbeweging</a:t>
            </a:r>
            <a:endParaRPr b="0" lang="en-US" sz="29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Beïnvloeden van cholesterol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0" name="Picture 5" descr="http://www.debeus.be/trap01.jpg"/>
          <p:cNvPicPr/>
          <p:nvPr/>
        </p:nvPicPr>
        <p:blipFill>
          <a:blip r:embed="rId1"/>
          <a:stretch/>
        </p:blipFill>
        <p:spPr>
          <a:xfrm>
            <a:off x="1676520" y="2362320"/>
            <a:ext cx="2590560" cy="194292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7" descr="http://home.planet.nl/~pluym646/foto1/nordic-walking1.jpg"/>
          <p:cNvPicPr/>
          <p:nvPr/>
        </p:nvPicPr>
        <p:blipFill>
          <a:blip r:embed="rId2"/>
          <a:stretch/>
        </p:blipFill>
        <p:spPr>
          <a:xfrm>
            <a:off x="5029200" y="403848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85341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Calibri"/>
              </a:rPr>
              <a:t>Wat gebruikt u zelf op brood </a:t>
            </a:r>
            <a:br>
              <a:rPr sz="3300"/>
            </a:br>
            <a:r>
              <a:rPr b="1" lang="nl-NL" sz="3300" spc="-1" strike="noStrike">
                <a:solidFill>
                  <a:srgbClr val="000000"/>
                </a:solidFill>
                <a:latin typeface="Calibri"/>
              </a:rPr>
              <a:t>of om in te bakken?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 Box 3"/>
          <p:cNvSpPr/>
          <p:nvPr/>
        </p:nvSpPr>
        <p:spPr>
          <a:xfrm>
            <a:off x="2050920" y="2286000"/>
            <a:ext cx="610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ou u momenteel kiezen voor een ander smeersel voor op brood of voor een ander bereidingsve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4" name="Picture 4" descr="http://www.kleinewereld.nl/images/brood.gif"/>
          <p:cNvPicPr/>
          <p:nvPr/>
        </p:nvPicPr>
        <p:blipFill>
          <a:blip r:embed="rId1"/>
          <a:stretch/>
        </p:blipFill>
        <p:spPr>
          <a:xfrm>
            <a:off x="3276720" y="434340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ubTitle"/>
          </p:nvPr>
        </p:nvSpPr>
        <p:spPr>
          <a:xfrm>
            <a:off x="2268360" y="2666520"/>
            <a:ext cx="6113520" cy="22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ww.voedingscentrum.nl</a:t>
            </a: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ww.becel.nl</a:t>
            </a: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ww.cholesterol.nl</a:t>
            </a: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Calibri"/>
              </a:rPr>
              <a:t>Websites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Bloedv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Text Box 4"/>
          <p:cNvSpPr/>
          <p:nvPr/>
        </p:nvSpPr>
        <p:spPr>
          <a:xfrm>
            <a:off x="5791320" y="1981080"/>
            <a:ext cx="28954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stapelt het cholesterol en vet op in de bloedva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2" name="Picture 5" descr="\\domein1.lan\dfs\UserData\evdbogaard\Mijn afbeeldingen\gezonde ader.jpg"/>
          <p:cNvPicPr/>
          <p:nvPr/>
        </p:nvPicPr>
        <p:blipFill>
          <a:blip r:embed="rId1"/>
          <a:stretch/>
        </p:blipFill>
        <p:spPr>
          <a:xfrm>
            <a:off x="4648320" y="4495680"/>
            <a:ext cx="3886200" cy="160992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6" descr="\\domein1.lan\dfs\UserData\evdbogaard\Mijn afbeeldingen\zieke ader.jpg"/>
          <p:cNvPicPr/>
          <p:nvPr/>
        </p:nvPicPr>
        <p:blipFill>
          <a:blip r:embed="rId2"/>
          <a:stretch/>
        </p:blipFill>
        <p:spPr>
          <a:xfrm>
            <a:off x="838080" y="2057400"/>
            <a:ext cx="3810240" cy="1550880"/>
          </a:xfrm>
          <a:prstGeom prst="rect">
            <a:avLst/>
          </a:prstGeom>
          <a:ln w="0">
            <a:noFill/>
          </a:ln>
        </p:spPr>
      </p:pic>
      <p:sp>
        <p:nvSpPr>
          <p:cNvPr id="704" name="Text Box 7"/>
          <p:cNvSpPr/>
          <p:nvPr/>
        </p:nvSpPr>
        <p:spPr>
          <a:xfrm>
            <a:off x="685800" y="4419720"/>
            <a:ext cx="38098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haalt het vet en cholesterol weg uit de bloedva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 txBox="1"/>
          <p:nvPr/>
        </p:nvSpPr>
        <p:spPr>
          <a:xfrm>
            <a:off x="914400" y="1483920"/>
            <a:ext cx="77724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otaal cholesterol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ger dan 5,0 mmol/l</a:t>
            </a: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DL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man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ger dan 1,0 mmol/l</a:t>
            </a: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vrouw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ger dan 1,2 mmol/l</a:t>
            </a: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DL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ger dan 2,5 mmol/l</a:t>
            </a: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houding totaal cholesterol en HDL </a:t>
            </a: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ger dan 5,0 mmol/l</a:t>
            </a: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+ Trigliceriden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ger dan 1,7 mmol/l</a:t>
            </a: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Calibri"/>
              </a:rPr>
              <a:t>Cholesterol normaalwaarden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Calibri"/>
              </a:rPr>
              <a:t>Vetten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Text Box 3"/>
          <p:cNvSpPr/>
          <p:nvPr/>
        </p:nvSpPr>
        <p:spPr>
          <a:xfrm>
            <a:off x="3962520" y="914400"/>
            <a:ext cx="2133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4"/>
          <p:cNvSpPr/>
          <p:nvPr/>
        </p:nvSpPr>
        <p:spPr>
          <a:xfrm>
            <a:off x="6781680" y="2438280"/>
            <a:ext cx="213372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AGaramond"/>
              </a:rPr>
              <a:t>Verzadigd v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5"/>
          <p:cNvSpPr/>
          <p:nvPr/>
        </p:nvSpPr>
        <p:spPr>
          <a:xfrm>
            <a:off x="5779440" y="4800600"/>
            <a:ext cx="2533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AGaramond"/>
              </a:rPr>
              <a:t>Onverzadigd v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6"/>
          <p:cNvSpPr/>
          <p:nvPr/>
        </p:nvSpPr>
        <p:spPr>
          <a:xfrm>
            <a:off x="-183600" y="1752480"/>
            <a:ext cx="6138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AGaramond"/>
              </a:rPr>
              <a:t>Enkelvoudig onverzadigde vetzu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7"/>
          <p:cNvSpPr/>
          <p:nvPr/>
        </p:nvSpPr>
        <p:spPr>
          <a:xfrm>
            <a:off x="2154240" y="5486400"/>
            <a:ext cx="610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AGaramond"/>
              </a:rPr>
              <a:t>Meervoudig onverzadigde vetzu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8"/>
          <p:cNvSpPr/>
          <p:nvPr/>
        </p:nvSpPr>
        <p:spPr>
          <a:xfrm>
            <a:off x="3239280" y="1143000"/>
            <a:ext cx="17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AGaramond"/>
              </a:rPr>
              <a:t>Omega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Rectangle 9"/>
          <p:cNvSpPr/>
          <p:nvPr/>
        </p:nvSpPr>
        <p:spPr>
          <a:xfrm>
            <a:off x="6439680" y="3886200"/>
            <a:ext cx="17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AGaramond"/>
              </a:rPr>
              <a:t>Omega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Rectangle 10"/>
          <p:cNvSpPr/>
          <p:nvPr/>
        </p:nvSpPr>
        <p:spPr>
          <a:xfrm>
            <a:off x="420120" y="4724280"/>
            <a:ext cx="17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AGaramond"/>
              </a:rPr>
              <a:t>Omega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Rectangle 11"/>
          <p:cNvSpPr/>
          <p:nvPr/>
        </p:nvSpPr>
        <p:spPr>
          <a:xfrm>
            <a:off x="152280" y="3733920"/>
            <a:ext cx="158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AGaramond"/>
              </a:rPr>
              <a:t>Linolz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Rectangle 12"/>
          <p:cNvSpPr/>
          <p:nvPr/>
        </p:nvSpPr>
        <p:spPr>
          <a:xfrm>
            <a:off x="2284920" y="4495680"/>
            <a:ext cx="30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AGaramond"/>
              </a:rPr>
              <a:t>Alfa-linoleenz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Rectangle 13"/>
          <p:cNvSpPr/>
          <p:nvPr/>
        </p:nvSpPr>
        <p:spPr>
          <a:xfrm>
            <a:off x="380880" y="601992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AGaramond"/>
              </a:rPr>
              <a:t>E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14"/>
          <p:cNvSpPr/>
          <p:nvPr/>
        </p:nvSpPr>
        <p:spPr>
          <a:xfrm>
            <a:off x="5541120" y="1371600"/>
            <a:ext cx="162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AGaramond"/>
              </a:rPr>
              <a:t>Transv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15"/>
          <p:cNvSpPr/>
          <p:nvPr/>
        </p:nvSpPr>
        <p:spPr>
          <a:xfrm>
            <a:off x="1143000" y="2590920"/>
            <a:ext cx="95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AGaramond"/>
              </a:rPr>
              <a:t>D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16"/>
          <p:cNvSpPr/>
          <p:nvPr/>
        </p:nvSpPr>
        <p:spPr>
          <a:xfrm>
            <a:off x="2514600" y="2819520"/>
            <a:ext cx="3505320" cy="119124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ONTZETTEND VERWARR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2"/>
          <p:cNvSpPr/>
          <p:nvPr/>
        </p:nvSpPr>
        <p:spPr>
          <a:xfrm>
            <a:off x="990720" y="2133720"/>
            <a:ext cx="7772400" cy="41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Soort ve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Minder verzadigd ve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Meer onverzadigd ve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Cholesterolverlagende product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angle 3"/>
          <p:cNvSpPr/>
          <p:nvPr/>
        </p:nvSpPr>
        <p:spPr>
          <a:xfrm>
            <a:off x="990720" y="6094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Beïnvloeden van cholester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2" descr="http://www.voedingscentrum.nl/Assets/Uploads/voedingscentrum/Images/Consumenten/Schijf%20van%20Vijf%202016/Schijf-van-Vijf-vakname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981000"/>
            <a:ext cx="5209920" cy="4248360"/>
          </a:xfrm>
          <a:prstGeom prst="rect">
            <a:avLst/>
          </a:prstGeom>
          <a:ln w="0">
            <a:noFill/>
          </a:ln>
        </p:spPr>
      </p:pic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057040" y="56386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andacht voor voedingsvezels en variatie</a:t>
            </a:r>
            <a:endParaRPr b="0" lang="en-US" sz="28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 txBox="1"/>
          <p:nvPr/>
        </p:nvSpPr>
        <p:spPr>
          <a:xfrm>
            <a:off x="2057400" y="2060280"/>
            <a:ext cx="654696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avervlokken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avermout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arwekiemen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sojabonen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quinoa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onen (nieuwe schijf van vijf adviseert 1 keer in de week peulvruchten)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noten en zaden (eet ten minste 15 gram ongezouten noten per dag)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ijnzaad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09480" y="62028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Plantaardige voeding, vezelrijk,</a:t>
            </a:r>
            <a:br>
              <a:rPr sz="3000"/>
            </a:b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verlaagd het LDL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6172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Calibri"/>
              </a:rPr>
              <a:t>Waar zit verzadigd vet in?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Picture 6" descr="http://www.cheffen.nl/vlees1-thumb.jpg"/>
          <p:cNvPicPr/>
          <p:nvPr/>
        </p:nvPicPr>
        <p:blipFill>
          <a:blip r:embed="rId1"/>
          <a:stretch/>
        </p:blipFill>
        <p:spPr>
          <a:xfrm>
            <a:off x="685800" y="4572000"/>
            <a:ext cx="1457280" cy="1677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31" name="Picture 7" descr="http://images.vpro.nl/img.db?32155500+s(200)"/>
          <p:cNvPicPr/>
          <p:nvPr/>
        </p:nvPicPr>
        <p:blipFill>
          <a:blip r:embed="rId2"/>
          <a:stretch/>
        </p:blipFill>
        <p:spPr>
          <a:xfrm>
            <a:off x="7162920" y="3962520"/>
            <a:ext cx="1647720" cy="25146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32" name="Picture 8" descr="http://www.eventail-junior.be/images/croissant.jpg"/>
          <p:cNvPicPr/>
          <p:nvPr/>
        </p:nvPicPr>
        <p:blipFill>
          <a:blip r:embed="rId3"/>
          <a:stretch/>
        </p:blipFill>
        <p:spPr>
          <a:xfrm>
            <a:off x="2438280" y="4648320"/>
            <a:ext cx="1676520" cy="15904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33" name="Picture 9" descr="http://www.bakkerijkamstra.nl/images/Kamstras_Broodje_Kaas.jpg"/>
          <p:cNvPicPr/>
          <p:nvPr/>
        </p:nvPicPr>
        <p:blipFill>
          <a:blip r:embed="rId4"/>
          <a:stretch/>
        </p:blipFill>
        <p:spPr>
          <a:xfrm>
            <a:off x="4419720" y="4572000"/>
            <a:ext cx="2438280" cy="17254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34" name="Picture 10" descr="http://images.businessweek.com/ss/06/12/1206_transfats/image/margarine.jpg"/>
          <p:cNvPicPr/>
          <p:nvPr/>
        </p:nvPicPr>
        <p:blipFill>
          <a:blip r:embed="rId5"/>
          <a:stretch/>
        </p:blipFill>
        <p:spPr>
          <a:xfrm>
            <a:off x="7238880" y="990720"/>
            <a:ext cx="1676520" cy="1404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35" name="Picture 11" descr="http://www.reuserensmulders.nl/storage_accessories/189810los.jpg"/>
          <p:cNvPicPr/>
          <p:nvPr/>
        </p:nvPicPr>
        <p:blipFill>
          <a:blip r:embed="rId6"/>
          <a:stretch/>
        </p:blipFill>
        <p:spPr>
          <a:xfrm>
            <a:off x="7162920" y="2590920"/>
            <a:ext cx="1828800" cy="1245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736" name="Text Box 12"/>
          <p:cNvSpPr/>
          <p:nvPr/>
        </p:nvSpPr>
        <p:spPr>
          <a:xfrm>
            <a:off x="533520" y="1523880"/>
            <a:ext cx="601956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Calibri"/>
              </a:rPr>
              <a:t>Producten met dierlijke vetten zo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Calibri"/>
              </a:rPr>
              <a:t>Boter, volvette (48+) kaas, volle melk,   slagroom, vet vl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Calibri"/>
              </a:rPr>
              <a:t>En ook: chocolade, cake, snacks, koek, geb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07:29:13Z</dcterms:created>
  <dc:creator>rvheertum</dc:creator>
  <dc:description/>
  <dc:language>en-US</dc:language>
  <cp:lastModifiedBy>lvsluisveld</cp:lastModifiedBy>
  <dcterms:modified xsi:type="dcterms:W3CDTF">2016-05-04T09:34:19Z</dcterms:modified>
  <cp:revision>72</cp:revision>
  <dc:subject/>
  <dc:title>LANGER GEZOND MET GEZONDE EET-EN DRINKGEWOONTEN</dc:title>
</cp:coreProperties>
</file>