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9.gif" ContentType="image/gif"/>
  <Override PartName="/ppt/media/image1.jpeg" ContentType="image/jpeg"/>
  <Override PartName="/ppt/media/image18.gif" ContentType="image/gif"/>
  <Override PartName="/ppt/media/image17.png" ContentType="image/png"/>
  <Override PartName="/ppt/media/image16.wmf" ContentType="image/x-wmf"/>
  <Override PartName="/ppt/media/image15.gif" ContentType="image/gif"/>
  <Override PartName="/ppt/media/image3.jpeg" ContentType="image/jpeg"/>
  <Override PartName="/ppt/media/image2.jpeg" ContentType="image/jpeg"/>
  <Override PartName="/ppt/media/image6.gif" ContentType="image/gif"/>
  <Override PartName="/ppt/media/image7.gif" ContentType="image/gif"/>
  <Override PartName="/ppt/media/image20.wmf" ContentType="image/x-wmf"/>
  <Override PartName="/ppt/media/image5.jpeg" ContentType="image/jpeg"/>
  <Override PartName="/ppt/media/image9.wmf" ContentType="image/x-wmf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27880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6724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72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27880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56724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7880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56724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9072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27880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356724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8EB4-05E2-4685-8CD5-727006A48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E52D-180F-4787-ABD8-37A06A32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FF36-FBE5-4401-866D-4A9AD6D3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7C94-B29B-44B9-9084-44DCC77F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E3AC-554B-431A-8A0B-0EF5C13C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FD3E-67AE-4019-9AAF-4F17FC05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E96F-5563-4561-ABDC-53FC2A7F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2EF8-6C59-45AD-B5E9-E224D000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DCE5-20CF-41B9-8688-DDE926A8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5E12-950D-42D9-A172-91D0F31E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C49D-3834-4383-BA15-B47A31A9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27880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56724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9072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227880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356724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9E91-5C2E-4C1E-B1AF-A194A012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F190-08B3-44CB-AEF1-211B4EB62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BAD7-693A-4A7E-8AF8-F560CCBE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4CE4-8480-4255-A1ED-A5ED029C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E1BB-A596-438F-B2B5-2AF20D35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33B7-A1C8-4786-A2A0-46632B3F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7F73-724C-44DA-A93F-D393BF2E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899E-2A3B-464A-84AE-C512C39B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8254-575F-42AB-AEBF-B2406330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2594-CF0E-46F4-9F83-56E53ABF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12F9-3739-4B00-B6E9-04540679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DE81-6106-4E3E-825F-4A992E9E9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227880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56724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9072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227880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356724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6DDC-34BA-405E-9F1E-78388A18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64B95-34AB-4AB2-A521-38F193F1A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F8D89-46A8-44E3-8D7C-98D7F7E0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1BE73-0E88-4E1C-A323-76635A71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EB86E-F839-4DDB-AD35-A1A41F22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3B78A-7785-48D1-B16C-BF4F788D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29E86-687D-48B0-A9BB-54893DC9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B4101-6C29-4924-B40A-4D870038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CBDCB-36D3-4F98-8A1A-E3DB22CF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A136B-7426-40D0-9232-F10EB444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AD3A4-9DAA-4E22-85F2-10C634D4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8D625-7B9D-42A5-93FB-CA74E8BFB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27880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56724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9072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227880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356724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CBEBB-4A79-4157-A5BC-B6BD8D4BE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1FF9A-E6B4-413E-847A-CE3EF03D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199B9-FBDF-4C8E-99B0-5B82E01D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4B5E4-3713-4A96-B399-0A96C893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2DFCF-0A4D-47A4-83F9-94326ACB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67CC8-8C70-4466-B15F-35D1799C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8B4E5-6286-4E45-8650-698131FA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E0C0F-1CEE-4CCE-B63D-B2539FA5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84FBD-616A-4AC9-9E2E-B14B6999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826AC-086E-483F-BFC1-5D0B2698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A4008-C285-47B7-9AE7-D6D32855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FFF5B-BCFC-47A7-ACD5-70A43748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227880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567240" y="20574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99072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227880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3567240" y="4206600"/>
            <a:ext cx="1226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41ED1-7146-480D-BF80-91A89D08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43000" y="42066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43000" y="2057400"/>
            <a:ext cx="1859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720" y="4206600"/>
            <a:ext cx="3809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4800" cy="6768720"/>
          </a:xfrm>
          <a:prstGeom prst="rect">
            <a:avLst/>
          </a:prstGeom>
          <a:ln w="9525">
            <a:noFill/>
          </a:ln>
        </p:spPr>
      </p:pic>
      <p:sp>
        <p:nvSpPr>
          <p:cNvPr id="1" name="Rectangle 6"/>
          <p:cNvSpPr/>
          <p:nvPr/>
        </p:nvSpPr>
        <p:spPr>
          <a:xfrm>
            <a:off x="2058840" y="6400800"/>
            <a:ext cx="9885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335268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4724280" y="6400800"/>
            <a:ext cx="31237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848720" y="6400800"/>
            <a:ext cx="9140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7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lik om de stijl te bewerken</a:t>
            </a:r>
            <a:endParaRPr b="0" lang="nl-NL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4800" cy="6768720"/>
          </a:xfrm>
          <a:prstGeom prst="rect">
            <a:avLst/>
          </a:prstGeom>
          <a:ln w="9525">
            <a:noFill/>
          </a:ln>
        </p:spPr>
      </p:pic>
      <p:sp>
        <p:nvSpPr>
          <p:cNvPr id="44" name="Rectangle 6"/>
          <p:cNvSpPr/>
          <p:nvPr/>
        </p:nvSpPr>
        <p:spPr>
          <a:xfrm>
            <a:off x="2058840" y="6400800"/>
            <a:ext cx="9885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35268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4724280" y="6400800"/>
            <a:ext cx="31237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7848720" y="6400800"/>
            <a:ext cx="9140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Klik om de modelstijlen te bewerken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39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Tweede niveau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erde niveau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er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jf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lik om de stijl te bewerken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4800" cy="6768720"/>
          </a:xfrm>
          <a:prstGeom prst="rect">
            <a:avLst/>
          </a:prstGeom>
          <a:ln w="9525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058840" y="6400800"/>
            <a:ext cx="9885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35268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724280" y="6400800"/>
            <a:ext cx="31237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7848720" y="6400800"/>
            <a:ext cx="9140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3"/>
          </p:nvPr>
        </p:nvSpPr>
        <p:spPr>
          <a:xfrm>
            <a:off x="68580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D377F25-2D6E-4674-A73F-37A6BB3FBB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4800" cy="6768720"/>
          </a:xfrm>
          <a:prstGeom prst="rect">
            <a:avLst/>
          </a:prstGeom>
          <a:ln w="9525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2058840" y="6400800"/>
            <a:ext cx="9885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335268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724280" y="6400800"/>
            <a:ext cx="31237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7848720" y="6400800"/>
            <a:ext cx="9140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lik om de stijl te bewerken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Klik om de modelstijlen te bewerken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Tweede niveau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erde niveau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er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jf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body"/>
          </p:nvPr>
        </p:nvSpPr>
        <p:spPr>
          <a:xfrm>
            <a:off x="4952880" y="2057400"/>
            <a:ext cx="38095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Klik om de modelstijlen te bewerken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Tweede niveau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erde niveau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er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jf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dt" idx="4"/>
          </p:nvPr>
        </p:nvSpPr>
        <p:spPr>
          <a:xfrm>
            <a:off x="4572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1A4E491-F4B0-4F04-8942-5B1F78AB09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4800" cy="6768720"/>
          </a:xfrm>
          <a:prstGeom prst="rect">
            <a:avLst/>
          </a:prstGeom>
          <a:ln w="9525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2058840" y="6400800"/>
            <a:ext cx="9885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335268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4724280" y="6400800"/>
            <a:ext cx="31237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7848720" y="6400800"/>
            <a:ext cx="9140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lik om de stijl te bewerken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90720" y="20574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7"/>
          </p:nvPr>
        </p:nvSpPr>
        <p:spPr>
          <a:xfrm>
            <a:off x="4572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ED6870D-F5C0-4AF5-B326-98AB6F7BFE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4800" cy="6768720"/>
          </a:xfrm>
          <a:prstGeom prst="rect">
            <a:avLst/>
          </a:prstGeom>
          <a:ln w="9525">
            <a:noFill/>
          </a:ln>
        </p:spPr>
      </p:pic>
      <p:sp>
        <p:nvSpPr>
          <p:cNvPr id="226" name="Rectangle 6"/>
          <p:cNvSpPr/>
          <p:nvPr/>
        </p:nvSpPr>
        <p:spPr>
          <a:xfrm>
            <a:off x="2058840" y="6400800"/>
            <a:ext cx="9885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352680" y="6400800"/>
            <a:ext cx="1676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4724280" y="6400800"/>
            <a:ext cx="31237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7848720" y="6400800"/>
            <a:ext cx="9140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lik om de stijl te bewerken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90720" y="205740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4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nl-NL" sz="24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body"/>
          </p:nvPr>
        </p:nvSpPr>
        <p:spPr>
          <a:xfrm>
            <a:off x="4952880" y="2057400"/>
            <a:ext cx="38095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Klik om de modelstijlen te bewerken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39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Tweede niveau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20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Derde niveau</a:t>
            </a:r>
            <a:endParaRPr b="0" lang="nl-NL" sz="20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er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9e005d"/>
              </a:buClr>
              <a:buSzPct val="50000"/>
              <a:buFont typeface="Lucida Grande"/>
              <a:buChar char="+"/>
            </a:pPr>
            <a:r>
              <a:rPr b="0" lang="nl-NL" sz="1800" spc="-1" strike="noStrike">
                <a:solidFill>
                  <a:srgbClr val="9e005d"/>
                </a:solidFill>
                <a:latin typeface="Calibri"/>
                <a:ea typeface="ＭＳ Ｐゴシック"/>
              </a:rPr>
              <a:t>Vijfde niveau</a:t>
            </a:r>
            <a:endParaRPr b="0" lang="nl-NL" sz="18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dt" idx="10"/>
          </p:nvPr>
        </p:nvSpPr>
        <p:spPr>
          <a:xfrm>
            <a:off x="4572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 type="sldNum" idx="12"/>
          </p:nvPr>
        </p:nvSpPr>
        <p:spPr>
          <a:xfrm>
            <a:off x="6858000" y="6324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B01C871-379E-4052-AA68-8F1861B366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kiesikgezond.nl/www/images/schijf_van_vijf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4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newpossibility.nl/images/content_images/groenten_en_fruit_deel_1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55640" y="1066680"/>
            <a:ext cx="7848360" cy="5170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edingsvoorlichting voor patiënten van de longrevalidatie</a:t>
            </a:r>
            <a:br>
              <a:rPr sz="4400"/>
            </a:b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12</a:t>
            </a:r>
            <a:br>
              <a:rPr sz="4400"/>
            </a:b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or Rianne v. Heertum</a:t>
            </a:r>
            <a:br>
              <a:rPr sz="4400"/>
            </a:b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ëtist JBZ s’Hertogenbosch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3480" cy="647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edingsmiddelen</a:t>
            </a:r>
            <a:br>
              <a:rPr sz="1500"/>
            </a:b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1280" y="548640"/>
            <a:ext cx="3809520" cy="5688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Voedingsmiddelen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lkproducten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aas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leeswaren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lees/vis/kip/ei,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oter/margarine/ bak-en braad-producten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lvarine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cht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43280" y="620640"/>
            <a:ext cx="3809520" cy="5760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nl-NL" sz="36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Hoeveelhed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0-500 ml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 – 2 plakjes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 – 2 plakjes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0 gram (rauw)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 gram voor de bereiding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 gram per sne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nimaal 1.5 ltr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eftij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ngt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wicht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slacht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rbei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Ziekt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-behoefte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1"/>
          <a:stretch/>
        </p:blipFill>
        <p:spPr>
          <a:xfrm>
            <a:off x="6444360" y="1845000"/>
            <a:ext cx="1523520" cy="1295640"/>
          </a:xfrm>
          <a:prstGeom prst="rect">
            <a:avLst/>
          </a:prstGeom>
          <a:ln w="9525">
            <a:noFill/>
          </a:ln>
        </p:spPr>
      </p:pic>
      <p:pic>
        <p:nvPicPr>
          <p:cNvPr id="304" name="Picture 5" descr=""/>
          <p:cNvPicPr/>
          <p:nvPr/>
        </p:nvPicPr>
        <p:blipFill>
          <a:blip r:embed="rId2"/>
          <a:stretch/>
        </p:blipFill>
        <p:spPr>
          <a:xfrm>
            <a:off x="4876920" y="3200400"/>
            <a:ext cx="1660320" cy="1380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1115640" y="2362320"/>
            <a:ext cx="764712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rhoogde energiebehoefte, + 600 kcal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½ gram eiwit per kg lichaamsgewicht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-55% koolhydraten van totale hoeveelheid kcal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ij COPD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MI = body mass index = gewicht gedeeld door lengte in het kwadraat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VMI = vetvrije massa index = kg/m2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nnen 16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rouwen 15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chaamssamenstelling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7772040" cy="1218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chaamssamenstelling bij COPD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Object 3"/>
          <p:cNvGraphicFramePr/>
          <p:nvPr/>
        </p:nvGraphicFramePr>
        <p:xfrm>
          <a:off x="990720" y="2057400"/>
          <a:ext cx="7772040" cy="411444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3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57400"/>
                    <a:ext cx="7772040" cy="41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68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762120" y="1219320"/>
            <a:ext cx="7772040" cy="4952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chaamssamenstelling te meten m.b.v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ioimpedatiemeting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t is een gevalideerde methode bij stabiele patienten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Gold 2-4)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uidplooimeting 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envoudig maar een grote individuele spreiding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xa; kostbaar en stralingsbelasting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ndknijpkracht</a:t>
            </a: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nl-NL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762120" y="332640"/>
            <a:ext cx="7772040" cy="719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etmethoden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7772040" cy="4704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19040" indent="-41904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AutoNum type="arabicPeriod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rmaal gewicht (BMI 21-25) / depletie spiermassa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VVMI &lt;15/&lt;16)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419040" indent="-41904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Char char="•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rijke voeding evt. aangevuld met dieetpreparaten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419040" indent="-41904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Char char="•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in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41904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.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rmaal gewicht/ normale spiermassa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419040" indent="-41904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ichtlijnen gezonde voeding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419040" indent="-41904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in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419040" indent="0">
              <a:lnSpc>
                <a:spcPct val="9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nl-NL" sz="1600" spc="-1" strike="noStrike">
              <a:solidFill>
                <a:srgbClr val="9e005d"/>
              </a:solidFill>
              <a:latin typeface="Calibri"/>
            </a:endParaRPr>
          </a:p>
          <a:p>
            <a:pPr marL="419040" indent="0">
              <a:lnSpc>
                <a:spcPct val="9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nl-NL" sz="1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457200" y="99072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deling van nieuwe COPD-patiënten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7772040" cy="5486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. 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dergewicht (BMI &lt;21) /depletie spiermassa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rijke voeding met evt. dieetpreparaten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s trainen als gewichtverlies gestopt is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.  Ondergewicht (BMI &lt;21) /normale spiermassa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rijke voeding met evt. dieetpreparaten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inen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.  Overgewicht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MI &gt;30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beperking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•"/>
              <a:tabLst>
                <a:tab algn="l" pos="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inen</a:t>
            </a: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nl-NL" sz="25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deling van nieuwe COPD-patienten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4360" y="1905120"/>
            <a:ext cx="7773480" cy="3623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EDINGSTHERAPIE </a:t>
            </a:r>
            <a:br>
              <a:rPr sz="4400"/>
            </a:b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EN </a:t>
            </a:r>
            <a:br>
              <a:rPr sz="4400"/>
            </a:b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WEGING</a:t>
            </a:r>
            <a:br>
              <a:rPr sz="4400"/>
            </a:b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4" descr="Gezonder leven"/>
          <p:cNvPicPr/>
          <p:nvPr/>
        </p:nvPicPr>
        <p:blipFill>
          <a:blip r:embed="rId1"/>
          <a:stretch/>
        </p:blipFill>
        <p:spPr>
          <a:xfrm>
            <a:off x="228600" y="152280"/>
            <a:ext cx="2514240" cy="23889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Onderzoek"/>
          <p:cNvPicPr/>
          <p:nvPr/>
        </p:nvPicPr>
        <p:blipFill>
          <a:blip r:embed="rId2"/>
          <a:stretch/>
        </p:blipFill>
        <p:spPr>
          <a:xfrm>
            <a:off x="6477120" y="3429000"/>
            <a:ext cx="2079360" cy="25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4" descr="BD05203_"/>
          <p:cNvPicPr/>
          <p:nvPr/>
        </p:nvPicPr>
        <p:blipFill>
          <a:blip r:embed="rId1"/>
          <a:stretch/>
        </p:blipFill>
        <p:spPr>
          <a:xfrm>
            <a:off x="2484360" y="1125360"/>
            <a:ext cx="42476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2267640" y="1412640"/>
            <a:ext cx="6494760" cy="5040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66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atie Voeding – Longziekten</a:t>
            </a:r>
            <a:endParaRPr b="0" lang="nl-NL" sz="33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6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zonde Voeding</a:t>
            </a:r>
            <a:endParaRPr b="0" lang="nl-NL" sz="33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6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-behoefte</a:t>
            </a:r>
            <a:endParaRPr b="0" lang="nl-NL" sz="33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6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dergewicht en gevolgen hiervan</a:t>
            </a:r>
            <a:endParaRPr b="0" lang="nl-NL" sz="33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vergewicht en de gevolgen hierva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verrijkte voeding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beperkte voeding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eetvoeding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derwerpen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3238560" y="2443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spAutoFit/>
          </a:bodyPr>
          <a:p>
            <a:pPr>
              <a:lnSpc>
                <a:spcPct val="100000"/>
              </a:lnSpc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4" descr="lichaamlongen"/>
          <p:cNvPicPr/>
          <p:nvPr/>
        </p:nvPicPr>
        <p:blipFill>
          <a:blip r:embed="rId1"/>
          <a:stretch/>
        </p:blipFill>
        <p:spPr>
          <a:xfrm>
            <a:off x="0" y="0"/>
            <a:ext cx="2666520" cy="19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5486040" cy="3646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rhoogde energiebehoefte;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. 600 kcal extra bij COP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20"/>
              </a:spcBef>
              <a:buNone/>
            </a:pP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rminderde inname van voeding t.g.v. dyspno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0" y="30492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wichtsverlies of klinische depletie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4" descr="PinkBloater.png                                                000089E2&#10;Marie's HD                     ABA78158:"/>
          <p:cNvPicPr/>
          <p:nvPr/>
        </p:nvPicPr>
        <p:blipFill>
          <a:blip r:embed="rId1"/>
          <a:stretch/>
        </p:blipFill>
        <p:spPr>
          <a:xfrm>
            <a:off x="5589720" y="1447920"/>
            <a:ext cx="3322440" cy="4495320"/>
          </a:xfrm>
          <a:prstGeom prst="rect">
            <a:avLst/>
          </a:prstGeom>
          <a:ln w="28575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11280" y="2493000"/>
            <a:ext cx="7772040" cy="3960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VOLGEN: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ling weerstan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rtraagde wondgenezing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rminderde spierkracht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or spierafbraak; te lage spiermassa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VVM-index onder 16 en 15)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179640" y="1196640"/>
            <a:ext cx="8784720" cy="115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wichtsverlies of klinische depletie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990720" y="2425680"/>
            <a:ext cx="7772040" cy="3746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ngzamer herstel en </a:t>
            </a:r>
            <a:endParaRPr b="0" lang="nl-NL" sz="44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er kans op complicaties</a:t>
            </a:r>
            <a:endParaRPr b="0" lang="nl-NL" sz="44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MI lager dan 21 en</a:t>
            </a:r>
            <a:endParaRPr b="0" lang="nl-NL" sz="44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VM-index lager dan 16 en 15</a:t>
            </a:r>
            <a:endParaRPr b="0" lang="nl-NL" sz="44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0" y="1196640"/>
            <a:ext cx="9143640" cy="100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wichtsverlies of klinische depletie</a:t>
            </a:r>
            <a:br>
              <a:rPr sz="4400"/>
            </a:b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% van stabiele patiënten met matige en ernstige COPD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Gold 2 en 3) 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5% van stabiele patiënten met matige en ernstig en zeer ernstige COPD (GOLD 2, 3 en 4)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e vaak komt klinische depletie voor?</a:t>
            </a:r>
            <a:endParaRPr b="0" lang="nl-NL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52280" y="1523880"/>
            <a:ext cx="7772040" cy="5111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leine frequente maaltijd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uim gebruik van beleg op broo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tra melkproducten bij broodmaaltijd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ruchtenkwark, vlaflip, roomijsje, milkshak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uim smeren met dieetmargarin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539640" y="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verrijkte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5105520" y="3048120"/>
            <a:ext cx="1523520" cy="1177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23640" y="1484640"/>
            <a:ext cx="8424720" cy="4610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schuit, cracker met royaal kaas.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lle producten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oomvla, chocolademelk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ukt dit niet dan overweging dieetdrinkvoeding (bij BMI onder 21 en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VM=index onder 15 en 16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edingspreparaat, bijv. Fantomalt</a:t>
            </a: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040" cy="863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verrijkte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685800" y="2133000"/>
            <a:ext cx="8062200" cy="410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Courier New"/>
              <a:buChar char="o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MI hoger dan 25 (gewicht : lengte²)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Courier New"/>
              <a:buChar char="o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name niet in overeenstemming met behoeft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Courier New"/>
              <a:buChar char="o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der invloed van medicijn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Courier New"/>
              <a:buChar char="o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rminderde en geringe lichaamsbeweging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468360" y="620640"/>
            <a:ext cx="7772040" cy="129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wichtstoename 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5" descr="BD06114_"/>
          <p:cNvPicPr/>
          <p:nvPr/>
        </p:nvPicPr>
        <p:blipFill>
          <a:blip r:embed="rId1"/>
          <a:stretch/>
        </p:blipFill>
        <p:spPr>
          <a:xfrm>
            <a:off x="2057400" y="685800"/>
            <a:ext cx="4098600" cy="54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40381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ie hoofdmaaltijd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t op vet, vnl. magere product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bruik halvarine i.p.v. margarin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971640" y="260280"/>
            <a:ext cx="7411680" cy="86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beperkte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icture 4" descr="BlueBloater.png                                                000089E2&#10;Marie's HD                     ABA78158:"/>
          <p:cNvPicPr/>
          <p:nvPr/>
        </p:nvPicPr>
        <p:blipFill>
          <a:blip r:embed="rId1"/>
          <a:stretch/>
        </p:blipFill>
        <p:spPr>
          <a:xfrm>
            <a:off x="5410080" y="1600200"/>
            <a:ext cx="3422160" cy="4431960"/>
          </a:xfrm>
          <a:prstGeom prst="rect">
            <a:avLst/>
          </a:prstGeom>
          <a:ln w="28575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685800" y="2781000"/>
            <a:ext cx="7772040" cy="3600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bruik voeding met een hoge verzadigingswaarde zoals volkorenbrood, rauwkost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perk het gebruik van tussendoortjes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perk het gebruik van suiker, snoep en alcohol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611640" y="1196640"/>
            <a:ext cx="7160400" cy="100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beperkte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1"/>
          <a:stretch/>
        </p:blipFill>
        <p:spPr>
          <a:xfrm>
            <a:off x="6858000" y="1219320"/>
            <a:ext cx="1996560" cy="1996560"/>
          </a:xfrm>
          <a:prstGeom prst="rect">
            <a:avLst/>
          </a:prstGeom>
          <a:ln w="9525">
            <a:noFill/>
          </a:ln>
        </p:spPr>
      </p:pic>
      <p:pic>
        <p:nvPicPr>
          <p:cNvPr id="345" name="Picture 5" descr=""/>
          <p:cNvPicPr/>
          <p:nvPr/>
        </p:nvPicPr>
        <p:blipFill>
          <a:blip r:embed="rId2"/>
          <a:stretch/>
        </p:blipFill>
        <p:spPr>
          <a:xfrm>
            <a:off x="3276720" y="5638680"/>
            <a:ext cx="639360" cy="1028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Bekijk de afbeelding op ware groot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-36504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http://www.voedingscentrum.nl/NR/rdonlyres/C8B81B0E-1ECE-45DA-86D0-5C3537205734/813/schijfvanvijf10x10cm1.jpg"/>
          <p:cNvPicPr/>
          <p:nvPr/>
        </p:nvPicPr>
        <p:blipFill>
          <a:blip r:embed="rId3"/>
          <a:stretch/>
        </p:blipFill>
        <p:spPr>
          <a:xfrm>
            <a:off x="2771640" y="2133000"/>
            <a:ext cx="3816000" cy="37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ij lage BMI, onder 21 en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VM index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ger dan 15 bij vrouwen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ger dan 16 bij mann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geleiding door diëtist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539640" y="1412640"/>
            <a:ext cx="8223120" cy="4759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+ Klinisch begeleiding opgestart,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+ poliklinisch vervolg gedurende 3 maanden,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+ m.b.v. Bio Impedantie Meting VVM-index en gewicht evalueren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+ Eventueel ook poliklinisch opstarten op verwijzing longarts of longverpleegkundige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040" cy="93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geleiding door diëtist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reiken en behouden van een beter voedingsgedrag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tienten informeren omtrent voeding in relatie tot COPD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tienten motiveren/stimuleren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edingsadvies op maat om kwaliteit van leven te bevorderen</a:t>
            </a:r>
            <a:endParaRPr b="0" lang="nl-NL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ol van de dietist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gnalering van: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wichtsverloop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lechte eetlust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pin in het web bij multidisciplinaire aanpak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ol van longverpleegkundige</a:t>
            </a:r>
            <a:endParaRPr b="0" lang="nl-NL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260640"/>
            <a:ext cx="7773480" cy="93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e komt U bij de diëtist?</a:t>
            </a:r>
            <a:br>
              <a:rPr sz="1500"/>
            </a:b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0880" y="1340640"/>
            <a:ext cx="8223120" cy="4826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ia huisarts of zelfverwijzing bij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vergewicht of ongewenst gewichtstoename.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één schriftelijke verwijzing nodig.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 uur vergoeding uit aanvullingspakket bij de meeste zorgverzekeraars. 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ia longarts / longverpleegkundige: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ëtist in het ziekenhuis bij ongewenst gewichtsafname.</a:t>
            </a: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nl-NL" sz="3200" spc="-1" strike="noStrike">
              <a:solidFill>
                <a:srgbClr val="9e005d"/>
              </a:solidFill>
              <a:latin typeface="Calibri"/>
            </a:endParaRPr>
          </a:p>
        </p:txBody>
      </p:sp>
      <p:pic>
        <p:nvPicPr>
          <p:cNvPr id="356" name="Picture 5" descr=""/>
          <p:cNvPicPr/>
          <p:nvPr/>
        </p:nvPicPr>
        <p:blipFill>
          <a:blip r:embed="rId1"/>
          <a:stretch/>
        </p:blipFill>
        <p:spPr>
          <a:xfrm>
            <a:off x="7315200" y="404640"/>
            <a:ext cx="1828440" cy="1363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0" y="2590920"/>
            <a:ext cx="7695720" cy="3430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iwitten: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lkproducten, kaas, vlees, vis,ei, vleesvervangers.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dig voor spieropbouw en voorkomt afbraak spiereiwitt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990720" y="914400"/>
            <a:ext cx="7772040" cy="137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menstelling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5" descr="http://www.voedingscentrum.nl/NR/rdonlyres/C8B81B0E-1ECE-45DA-86D0-5C3537205734/813/schijfvanvijf10x10cm1.jpg"/>
          <p:cNvPicPr/>
          <p:nvPr/>
        </p:nvPicPr>
        <p:blipFill>
          <a:blip r:embed="rId1"/>
          <a:stretch/>
        </p:blipFill>
        <p:spPr>
          <a:xfrm>
            <a:off x="7010280" y="472428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7">
            <a:hlinkClick r:id="rId2"/>
          </p:cNvPr>
          <p:cNvSpPr/>
          <p:nvPr/>
        </p:nvSpPr>
        <p:spPr>
          <a:xfrm>
            <a:off x="4162320" y="3019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spAutoFit/>
          </a:bodyPr>
          <a:p>
            <a:pPr>
              <a:lnSpc>
                <a:spcPct val="100000"/>
              </a:lnSpc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10" descr="http://www.slimfast.nl/shared/images/lclc/lclc_koolhydraten_enzo.jpg"/>
          <p:cNvPicPr/>
          <p:nvPr/>
        </p:nvPicPr>
        <p:blipFill>
          <a:blip r:embed="rId3"/>
          <a:stretch/>
        </p:blipFill>
        <p:spPr>
          <a:xfrm>
            <a:off x="0" y="0"/>
            <a:ext cx="1907640" cy="2437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685800" y="1125360"/>
            <a:ext cx="7772040" cy="4970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ergie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len we uit </a:t>
            </a:r>
            <a:r>
              <a:rPr b="0" i="1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t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en </a:t>
            </a:r>
            <a:r>
              <a:rPr b="0" i="1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oolhydrat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i="1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oolhydraten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groente, fruit,           suiker,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ood, pasta, aardappel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eft directe energie voor de spier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eft geen extra kortademighei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611280" y="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menstelling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157640" y="28717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spAutoFit/>
          </a:bodyPr>
          <a:p>
            <a:pPr>
              <a:lnSpc>
                <a:spcPct val="100000"/>
              </a:lnSpc>
            </a:pP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4" descr="j0356739"/>
          <p:cNvPicPr/>
          <p:nvPr/>
        </p:nvPicPr>
        <p:blipFill>
          <a:blip r:embed="rId1"/>
          <a:stretch/>
        </p:blipFill>
        <p:spPr>
          <a:xfrm>
            <a:off x="3809880" y="2514600"/>
            <a:ext cx="82836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el </a:t>
            </a:r>
            <a:r>
              <a:rPr b="0" i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oolhydraten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nl-NL" sz="44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eft een snelle maagontlediging,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nder kans op vol gevoel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chter verteerbaar dan 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etrijke voedingsmiddel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040" cy="1008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menstelling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2057400" y="2362320"/>
            <a:ext cx="6705360" cy="38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et gevarieer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t op vet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et ruimschoots brood en aardappel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et volop groente en fruit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040" cy="790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zonde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772040" cy="4754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ud uw gewicht op peil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es zuinig met zout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rink voldoende; 1½ - 2 L per dag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et niet de hele dag door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040" cy="93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zonde Voeding</a:t>
            </a:r>
            <a:endParaRPr b="0" lang="nl-N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4" descr=""/>
          <p:cNvPicPr/>
          <p:nvPr/>
        </p:nvPicPr>
        <p:blipFill>
          <a:blip r:embed="rId1"/>
          <a:stretch/>
        </p:blipFill>
        <p:spPr>
          <a:xfrm>
            <a:off x="5791320" y="1295280"/>
            <a:ext cx="1238040" cy="1828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846560" cy="165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oedingsmiddelen</a:t>
            </a:r>
            <a:br>
              <a:rPr sz="3600"/>
            </a:br>
            <a:r>
              <a:rPr b="1" lang="nl-NL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middeld aanbevolen hoeveelheden voedingsmiddelen voor gezonde volwassenen</a:t>
            </a:r>
            <a:endParaRPr b="0" lang="nl-N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809520" cy="417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nl-NL" sz="36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Voedingsmiddelen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ood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ardappelen en rijst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roente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ruit, vruchtensap</a:t>
            </a:r>
            <a:endParaRPr b="0" lang="nl-NL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43280" y="2205000"/>
            <a:ext cx="38095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Hoeveelheden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</a:t>
            </a: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-7 sneetjes</a:t>
            </a: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-5 stuks/lepels</a:t>
            </a: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 – 4 groentelepels</a:t>
            </a: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 stuks/glazen</a:t>
            </a: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nl-NL" sz="40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JBZ licht">
  <a:themeElements>
    <a:clrScheme name="JBZ kleuren">
      <a:dk1>
        <a:srgbClr val="000000"/>
      </a:dk1>
      <a:lt1>
        <a:srgbClr val="ffffff"/>
      </a:lt1>
      <a:dk2>
        <a:srgbClr val="ed145a"/>
      </a:dk2>
      <a:lt2>
        <a:srgbClr val="9e005d"/>
      </a:lt2>
      <a:accent1>
        <a:srgbClr val="007dad"/>
      </a:accent1>
      <a:accent2>
        <a:srgbClr val="8cc63f"/>
      </a:accent2>
      <a:accent3>
        <a:srgbClr val="ffd400"/>
      </a:accent3>
      <a:accent4>
        <a:srgbClr val="00aaad"/>
      </a:accent4>
      <a:accent5>
        <a:srgbClr val="d7df23"/>
      </a:accent5>
      <a:accent6>
        <a:srgbClr val="fcaf17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JBZ licht">
  <a:themeElements>
    <a:clrScheme name="JBZ kleuren">
      <a:dk1>
        <a:srgbClr val="000000"/>
      </a:dk1>
      <a:lt1>
        <a:srgbClr val="ffffff"/>
      </a:lt1>
      <a:dk2>
        <a:srgbClr val="ed145a"/>
      </a:dk2>
      <a:lt2>
        <a:srgbClr val="9e005d"/>
      </a:lt2>
      <a:accent1>
        <a:srgbClr val="007dad"/>
      </a:accent1>
      <a:accent2>
        <a:srgbClr val="8cc63f"/>
      </a:accent2>
      <a:accent3>
        <a:srgbClr val="ffd400"/>
      </a:accent3>
      <a:accent4>
        <a:srgbClr val="00aaad"/>
      </a:accent4>
      <a:accent5>
        <a:srgbClr val="d7df23"/>
      </a:accent5>
      <a:accent6>
        <a:srgbClr val="fcaf17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JBZ licht">
  <a:themeElements>
    <a:clrScheme name="JBZ kleuren">
      <a:dk1>
        <a:srgbClr val="000000"/>
      </a:dk1>
      <a:lt1>
        <a:srgbClr val="ffffff"/>
      </a:lt1>
      <a:dk2>
        <a:srgbClr val="ed145a"/>
      </a:dk2>
      <a:lt2>
        <a:srgbClr val="9e005d"/>
      </a:lt2>
      <a:accent1>
        <a:srgbClr val="007dad"/>
      </a:accent1>
      <a:accent2>
        <a:srgbClr val="8cc63f"/>
      </a:accent2>
      <a:accent3>
        <a:srgbClr val="ffd400"/>
      </a:accent3>
      <a:accent4>
        <a:srgbClr val="00aaad"/>
      </a:accent4>
      <a:accent5>
        <a:srgbClr val="d7df23"/>
      </a:accent5>
      <a:accent6>
        <a:srgbClr val="fcaf17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JBZ licht">
  <a:themeElements>
    <a:clrScheme name="JBZ kleuren">
      <a:dk1>
        <a:srgbClr val="000000"/>
      </a:dk1>
      <a:lt1>
        <a:srgbClr val="ffffff"/>
      </a:lt1>
      <a:dk2>
        <a:srgbClr val="ed145a"/>
      </a:dk2>
      <a:lt2>
        <a:srgbClr val="9e005d"/>
      </a:lt2>
      <a:accent1>
        <a:srgbClr val="007dad"/>
      </a:accent1>
      <a:accent2>
        <a:srgbClr val="8cc63f"/>
      </a:accent2>
      <a:accent3>
        <a:srgbClr val="ffd400"/>
      </a:accent3>
      <a:accent4>
        <a:srgbClr val="00aaad"/>
      </a:accent4>
      <a:accent5>
        <a:srgbClr val="d7df23"/>
      </a:accent5>
      <a:accent6>
        <a:srgbClr val="fcaf17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JBZ licht">
  <a:themeElements>
    <a:clrScheme name="JBZ kleuren">
      <a:dk1>
        <a:srgbClr val="000000"/>
      </a:dk1>
      <a:lt1>
        <a:srgbClr val="ffffff"/>
      </a:lt1>
      <a:dk2>
        <a:srgbClr val="ed145a"/>
      </a:dk2>
      <a:lt2>
        <a:srgbClr val="9e005d"/>
      </a:lt2>
      <a:accent1>
        <a:srgbClr val="007dad"/>
      </a:accent1>
      <a:accent2>
        <a:srgbClr val="8cc63f"/>
      </a:accent2>
      <a:accent3>
        <a:srgbClr val="ffd400"/>
      </a:accent3>
      <a:accent4>
        <a:srgbClr val="00aaad"/>
      </a:accent4>
      <a:accent5>
        <a:srgbClr val="d7df23"/>
      </a:accent5>
      <a:accent6>
        <a:srgbClr val="fcaf17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JBZ licht">
  <a:themeElements>
    <a:clrScheme name="JBZ kleuren">
      <a:dk1>
        <a:srgbClr val="000000"/>
      </a:dk1>
      <a:lt1>
        <a:srgbClr val="ffffff"/>
      </a:lt1>
      <a:dk2>
        <a:srgbClr val="ed145a"/>
      </a:dk2>
      <a:lt2>
        <a:srgbClr val="9e005d"/>
      </a:lt2>
      <a:accent1>
        <a:srgbClr val="007dad"/>
      </a:accent1>
      <a:accent2>
        <a:srgbClr val="8cc63f"/>
      </a:accent2>
      <a:accent3>
        <a:srgbClr val="ffd400"/>
      </a:accent3>
      <a:accent4>
        <a:srgbClr val="00aaad"/>
      </a:accent4>
      <a:accent5>
        <a:srgbClr val="d7df23"/>
      </a:accent5>
      <a:accent6>
        <a:srgbClr val="fcaf17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090400 JBZ Powerpoint POS 2</Template>
  <TotalTime>588</TotalTime>
  <Application>LibreOffice/7.4.7.2$Linux_X86_64 LibreOffice_project/40$Build-2</Application>
  <AppVersion>15.0000</AppVersion>
  <Words>640</Words>
  <Paragraphs>189</Paragraphs>
  <Company>ICT Beheer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12:39:38Z</dcterms:created>
  <dc:creator>kookcentrum</dc:creator>
  <dc:description/>
  <dc:language>en-US</dc:language>
  <cp:lastModifiedBy>Rianne Nooijen</cp:lastModifiedBy>
  <dcterms:modified xsi:type="dcterms:W3CDTF">2012-11-05T18:37:06Z</dcterms:modified>
  <cp:revision>56</cp:revision>
  <dc:subject/>
  <dc:title>Onderwerp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Diavoorstelling (4:3)</vt:lpwstr>
  </property>
  <property fmtid="{D5CDD505-2E9C-101B-9397-08002B2CF9AE}" pid="3" name="Slides">
    <vt:r8>34</vt:r8>
  </property>
</Properties>
</file>