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CAMERA.WAV" ContentType="audio/x-wav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AFC-9C49-4568-A44B-5DDA6E68F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E86-F9B0-4763-AB6D-06621EF6E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711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5840" y="4365360"/>
            <a:ext cx="5026320" cy="43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144440" y="4500720"/>
            <a:ext cx="498960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kte brengt veelal een verminderde inname van en een verhoogde behoefte aan voeding met zich mee. Daarnaast treden er als gevolg van ziekte vaak abnormale verliezen op. - Dit zorgt voor een verminderde voedingstoestand. - Een verminderde voedingstoestand kan tot complicaties leiden. Ook het minder snel genezen van een ziekte of operatie is een complicatie. - Deze kunnen uitmonden in ziekte enz. - Zo raak je in een steeds slechtere condit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chte voedingstoestand - darmen worden niet goed gevoed - atrofie van de darmwand en translokatie van bacteriën waardoor voeding minder goed wordt opgenomen - achteruitgang van de voedingstoestand van de darmen en het lichaam - verslechtering darmwerking - enz. en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cc"/>
                </a:solidFill>
                <a:latin typeface="Calibri"/>
              </a:rPr>
              <a:t>Bij ondervoeding significant ook  lagere beoordeling voor kwaliteit van leven:</a:t>
            </a:r>
            <a:r>
              <a:rPr b="0" lang="nl-NL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Studie in 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eden 1995 (J. Larsson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 et al.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) bij 199 pat. bleken volgende aspecten gerelateerd te zijn aan voedingstoestand: somatische gezondheid (o.a. lichamelijke gezondheid, invloed van ziekte op het l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sychologische aspecten (o.a. algemeen welzijn, vermogen om te concentreren, denken, herinneren) activiteiten (o.a. zelfzorg, mogelijkheid om actief leven te leiden) gemoedstoestand / stemming uithoudingsverm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 deze neerwaartse spiraal kan aan de cliënt/ patiënt het belang van een goede voedingstoestand worden duidelijk gemaakt. Het kan helpen de cliënt/ patiënt te stimuleren een voedingstherapie vol te hou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7F3-1A87-4459-94BA-04F18C72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77B-480C-4421-A5BA-6204DC5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52863-79BC-4101-AB83-B8A2235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6485D-BA70-47F2-A119-479C718D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14BB9-6BC2-4585-A30E-1411A5F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EB02A-79DE-4272-820A-3535F48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E3B68-49E5-4C72-82EC-6EA6E23C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EC33B-A2D4-404E-BD10-7C3CE2B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7FFDA-D67B-485F-ADA8-2B4D1122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8BFDF-B3C6-455A-9A75-14854E6E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06BDF-C167-4FF5-9D2E-2440889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FA006-8060-48CB-9E61-A3AA1D24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113-A0A3-4821-BA33-E0371E84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3B0A1-DAE5-4D79-9FAD-928157D8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6B646-D1A4-47B0-AF53-020471D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5C74C-8514-4BC7-B6A7-0BEEB49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AC2E1-CD75-4CC4-B136-DAE82504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93A0F-3225-4C5D-A3F2-0BC5AD6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31791-7CCB-4DC7-86EC-9E46F8B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47446-8505-4973-A168-FB50EBF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F5D26-057C-4CD7-80DD-8B057F3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67665-3B27-4268-B4CD-F617770F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F2864-F465-4811-8906-650409B4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FBC-423D-4BC6-B02E-34A99489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4830A-6DC0-4CBE-ABE9-3A11373C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FBBE3-CF65-4F80-873E-2EEF4C54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0FCA-10B8-43C2-96DA-EC7C85E0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697F2-8B10-47C3-A2FE-62F850F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FF76-4F48-4B51-A871-9EC4E78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F9AE7-0782-467B-AC49-B4E6CEAC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6F76-BF2D-4C3F-870D-3EDF338A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A9903-1E68-4702-838F-06F6E63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1EAC-83B0-4165-9E10-A4EBB1E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7864-DB93-4DA2-9B83-8EAB780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7859-AF4B-445A-97C1-51E92D33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1B5D-EE78-4284-AF42-2BE0D3F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0E8F-EC6D-4E9C-AD48-D8041B55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8C0D2-CC97-4E09-B3C6-0000D74B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E5A1D-5096-4E62-8281-B5235B98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DA69C-7E05-42E0-A0CF-AB16987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1221F-868F-408A-853F-93A79A6B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654B7-828D-42AE-9C72-1FBE10D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CB02B-E3EE-4DAF-9C9A-976A8305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0EC7F-D236-4F40-B919-E283B94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4F54C-A860-4163-8C55-B1873AF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653F-A7E8-48C9-AD81-CB0B6006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1F209-D27A-4558-9EFB-88B8361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2E5C9-096A-469D-B34E-438F6A1E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285BC-7D3E-42D4-93E4-8192A87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FB9B9-04BF-4A6E-9A38-5B3076CB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D8127-DD0F-470A-B7FE-4DE2D956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2839B-7268-417D-8032-8D172205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FA296-4B92-46A6-8335-45A48AEF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BC5F3-23F6-4477-906E-4AC57799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DD1CF-2F5A-4010-AF06-F1A1389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9A8EB-ECCF-4893-B29E-C7C1B960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770-D8C9-4CD4-95F7-5A121C4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43432-F0C8-4128-86E8-EA320CC7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E0656-7B55-48BE-997D-55E7DFE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4619F-20D5-4E3F-90F4-C3DA4FA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16A6B-1E81-43F5-912B-B2AB542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C0881-B96E-4303-8EC0-DFA21007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AA7FD-9E94-431B-89F6-A5806770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4CDB5-E8C4-4E7B-B0BC-05E2A766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2F21-567A-4FA5-B02F-AEA8CB61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F51-A9EC-4AA4-869D-676D154E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4CDA-FA63-4540-AC43-619E9B9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B668-8A99-412D-BDFB-5C497274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6F6-DA5F-46B0-AB70-9D75E4A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C4A-6959-45AE-B55E-5C66A27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F987-FD0E-4A90-8C39-F15770C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5E2-F635-49B5-BE13-BA2E8AA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0372-F2FC-4CAD-B0E4-07B2220C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A0E-A102-4167-96D9-940E120E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A612-452C-410D-80EA-823E875B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573C-D2FB-428F-9C33-146C97BE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6A92-13FA-4954-8519-3C706A3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1C39-068B-4896-AC1D-120DC14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3126-A254-450C-AEC7-BD79982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DA6-E899-4DB0-A8E0-8108FADB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1393-CFF8-4C9A-8D6F-6770E14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1922-97B8-422D-9427-D11B342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18FF-5B2F-4CBA-92B4-842E10B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8896-27C8-4E1F-94C4-760873BD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0010-385C-473C-A934-285C7D97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B279-E029-4E96-BA02-74D9EBE8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70F5-4C66-4853-A6A4-C83AFA8F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CD0E-55DF-497D-9622-64A2FD16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6CA8-2750-4591-BC3C-2C1918DA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AB2F-6CE1-4708-B5D8-B547C0A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10F-5571-4B66-8855-86B7B2D9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FA92-A75D-4E6D-B33B-5E5F736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CD14-3C8C-4A29-8A9F-8B725B4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F712-3BBA-4E0E-8455-B0A6EB4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75BF-B753-4D5B-A49C-11CE417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AC57-5824-4789-BD52-854D5B2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4AA1-6462-4274-8E2C-4D87757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651D-C347-45A1-84C4-2AB6C93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E1EE-6A65-4694-BECE-FAC8B5B8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2B8B-BDF8-4160-A11A-482F4830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4A8D-3FB4-4B02-8A68-C5FA6E08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D7C-2014-412C-AFE3-607FBA9E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142D-C893-4874-AD52-8A79D61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1E314-A354-48F6-AA5C-79AB5B6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732C4-D016-4364-A93E-90920227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AB6C-4964-46F5-990C-33BBC5E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D0D4-AA48-4A76-875B-9FAB3B63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BB41F-2E79-493B-8B3D-48C4E92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F9EE-01D1-4E2B-9CB1-4D106CC3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D68D-5B92-4E1A-9318-23BFE3A5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A39E1-F5E9-40B6-A071-650CE04F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C922-963B-49E5-AC75-FB570843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60-F031-44E7-95E8-35CE2EC0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D52D-7783-4B2A-A090-BE47E4BE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1A5D-AC7C-460A-84C1-85CA8EF3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E360-4335-4BCE-A9D9-F0C84F1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3593-8B42-47C2-B865-15DFC782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7E58-C717-48D3-A4B8-50E7C49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B263-662A-426C-B437-161E6C3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A2E55-7AD1-4C71-9151-E87540B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4BDD-EB53-4149-A41F-7936A45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8353-9034-46F6-9875-79DC4FA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6328-EA84-44B7-92CB-89CF81D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4B3-7712-428F-A3FD-BCEF1ED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C6B2-30FC-4E25-B3C0-B84447F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7B1E-8435-4E96-876A-E7FD5629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D7366-AE48-456B-9A7D-BEFB0A4F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11666-4B34-409E-8D16-AAC72F84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8A7A-4396-4804-9FFC-701DD68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73B86-FB9E-4F36-803D-AB6ECB6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EBCE8-A9D9-40D2-BCED-B01AE9C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71E1-32B9-4E16-86AE-5D208ADE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BACFC-C3B5-4D8A-8A47-FD1A8C34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89E5D-EC2F-4F46-9FC4-64CB4EA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2F4-ACD7-4394-A776-E56C9F8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C318-949E-4662-BC30-AC50F68D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9145-D6B7-41B8-86E6-10E0319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B022-105F-4C3D-97C2-48A52BB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ADBA3-107B-4F42-96F6-B23E8B05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8AD5E-72C8-4CF2-AF13-A33DB61F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450DC-66A8-426B-81A9-48B867C4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231AB-1FDD-48A0-B23C-3F1432E4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7A260-8798-4804-8056-D5E61EB6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3B03F-2E77-494E-BE75-7657EC31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D20FF-D371-401F-9771-0F120CD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0B7-D24C-44A4-932A-4B420B6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2A16-BA1D-4F30-A9AA-93474D4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6AE26-6BF6-41C3-9DA7-35963D4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92A5F-FE73-400A-8950-4630B21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CF31B-41BF-488C-AA98-441D89E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F68B8-4075-40E5-9814-20CC6F2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23632-A370-42CC-B049-2819770A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A4FDD-23FB-4699-98D4-9C500497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82F48-16E3-4B29-8B78-0920C93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58CBB-39EA-4374-972B-A4D7B580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7CA17-907B-4F05-B2C9-5883EDE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FE8-504C-4043-9DA3-FF61676699E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0576-6CD5-4E0A-8F6A-11B67ACCF6E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638-5D0F-4696-BB94-D3A04BA261A8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E73-97A1-45FB-A3A6-C3F261E09E1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D6E-03D1-4C2F-931D-5AE0675FAE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8FC-72BA-466F-AD3C-0C2C2E4A4A1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2EC-75BC-40E5-9AFD-5B18E87B18E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2912-E47D-4501-BC0F-DC22AB62510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BD14-52B2-4B6E-B8A4-612293874D9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213D-78C4-4A2D-91E3-39B40EE6C14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7CE4-7B92-46BF-8C07-A827A2C0E3BD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7BC-DC8D-4190-8BEF-4B52C6BF84E2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F2E-4206-4AEC-8575-60D963FA0D2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646b86"/>
                </a:solidFill>
                <a:latin typeface="Georgia"/>
              </a:rPr>
              <a:t>IS DIT EEN PROBLEEM IN NEDERLAND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Ondervoe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 e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inname van 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opname van voeding in de dar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behoef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hoogde verliezen van energie en eiwit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Voedingsadviezen bij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nergie-eiwitverrijkt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3 maaltijden en 3 tussenmaaltijden per d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im boter en beleg op het broo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le produ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eg slagroom en suiker toe aan pap, vla, toetjes en dran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rijke tussendoortjes zoals milkshake, ijs, roomtoetje, roomkwa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ieet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mt persoon niet aan met energie-eiwitrijke maaltijden en tussenmaaltijden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etdrinkvoeding zoals nutridrink 2 of 3x per dag (400 kcal en 20 gram eiw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ukt dit ook niet dan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achtelijke sondevoeding of 24 uur sondevoed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Meetbaar maken van ondervoeding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gschaal,mn gewichtsverloop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ndknijpkracht meten en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uidplooimetin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xam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linische bli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C:\Users\Mies\Downloads\ondervoeding\images.jpg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295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52360" y="392040"/>
            <a:ext cx="86392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Mies\Downloads\ondervoeding\Handknijpkracht-meten-fysiotherapeu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Chronische en acute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is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lichamelijke toestand voorkomend uit een tekort aan voedingsstoffen, waarbij sprake is van een verminderd biologische func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orzak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durig hong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behoefte bij ziekte en een geringe inname hierdoor(koorts, pij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grote verliezen bv bij diarree, br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een verhoogde energiebehoefte bv te snelle schildklierwe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or ziekte een verhoogde behoeften, het lichaam is topsport aan het bedrij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Ziekten met een verhoogde behoeft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ziekten zoals COP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armziekten zoals Crohn en Coli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artfalen, nierziek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andwondpati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norexia  Nervo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coholis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udere mensen met dementie, eenzaam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Gevolgen van ondervoe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ing van algeheel function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name spierkracht(slikreflexen, kauw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oeidhei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pressie en apath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weerstand en kans op infec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lechtere wondgenezing, slechter herst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eiachterstand bij kinde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ans op overlijden neemt to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nneer gaat iemand afvall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ls datgene wat men eet niet voldoende is om het lichaam van energie te voor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name en verbruik niet in balans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 gaat zijn vetreserves en spiermassa aanspreken en verbrui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erwaartse spira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Ziek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nna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mplicatie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ehoef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erlieze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echt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voedingstoestand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7315200" y="266688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"/>
          <p:cNvSpPr/>
          <p:nvPr/>
        </p:nvSpPr>
        <p:spPr>
          <a:xfrm>
            <a:off x="7696080" y="3886200"/>
            <a:ext cx="0" cy="297000"/>
          </a:xfrm>
          <a:prstGeom prst="line">
            <a:avLst/>
          </a:prstGeom>
          <a:ln w="50760">
            <a:solidFill>
              <a:srgbClr val="0000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ject 2" descr=""/>
          <p:cNvPicPr/>
          <p:nvPr/>
        </p:nvPicPr>
        <p:blipFill>
          <a:blip r:embed="rId1"/>
          <a:stretch/>
        </p:blipFill>
        <p:spPr>
          <a:xfrm>
            <a:off x="2959200" y="2438280"/>
            <a:ext cx="282096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00"/>
                </a:solidFill>
                <a:latin typeface="Georgia"/>
              </a:rPr>
              <a:t>ENERGIEBALANS = INNAME + VERBRUI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Herstel &amp; Balans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Picture 4" descr="WEEGSCHL"/>
          <p:cNvPicPr/>
          <p:nvPr/>
        </p:nvPicPr>
        <p:blipFill>
          <a:blip r:embed="rId1"/>
          <a:stretch/>
        </p:blipFill>
        <p:spPr>
          <a:xfrm>
            <a:off x="2133720" y="2362320"/>
            <a:ext cx="47624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oe kunnen wij ondervoeding herkenn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bedoeld veel afvallen in korte tijd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6 kg in 6 maanden of 3 kg in 1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inderde eetlust afgelopen ma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lasticiteit van de huid verminde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epliggende o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ffe haren, nagels breken sn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42:13Z</dcterms:created>
  <dc:creator>Rianne Nooijen</dc:creator>
  <dc:description/>
  <dc:language>en-US</dc:language>
  <cp:lastModifiedBy>Rianne van Heertum</cp:lastModifiedBy>
  <dcterms:modified xsi:type="dcterms:W3CDTF">2015-02-10T08:26:19Z</dcterms:modified>
  <cp:revision>6</cp:revision>
  <dc:subject/>
  <dc:title>Ondervoeding</dc:title>
</cp:coreProperties>
</file>