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9.gif" ContentType="image/gif"/>
  <Override PartName="/ppt/media/image1.jpeg" ContentType="image/jpeg"/>
  <Override PartName="/ppt/media/image18.gif" ContentType="image/gif"/>
  <Override PartName="/ppt/media/image17.png" ContentType="image/png"/>
  <Override PartName="/ppt/media/image16.wmf" ContentType="image/x-wmf"/>
  <Override PartName="/ppt/media/image15.gif" ContentType="image/gif"/>
  <Override PartName="/ppt/media/image3.jpeg" ContentType="image/jpeg"/>
  <Override PartName="/ppt/media/image2.jpeg" ContentType="image/jpeg"/>
  <Override PartName="/ppt/media/image6.gif" ContentType="image/gif"/>
  <Override PartName="/ppt/media/image7.gif" ContentType="image/gif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A62-7F3E-4CF0-8738-3E54A815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C13-29EE-4BC7-9355-126E5501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A57-C514-4664-8DB5-6BF4F229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5A3-D566-410B-8176-3ACA833D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575-0408-4E9F-BA1A-01DC6D17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4BD-09B3-4EAD-988D-9B288B46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843-4BD9-4677-AD11-6B4773F3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C02-E4AA-4429-8540-EFBE2951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5CB-3873-498D-85B0-EB2A3059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8D3-5EF4-4F56-BDFC-09B458D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E3B-F01A-4125-9AEE-4D4C178E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A46-D293-4337-BDF9-2EBA460D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C243-B7A6-4642-A058-F9D3A5D1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7D34-0F75-48F1-A6B6-64EB07E4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34E5-6F00-4EE9-9CC9-7147622F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325D-B0E8-4E99-81F4-3D29A84F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9CDB-3035-425A-8A0A-39B77315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5547-D0ED-40F5-97A6-B1CE7A16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DAD5-F5FA-46B2-ADF6-B443A15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58D1-13B6-4154-A72D-D27DF6B0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791F-D282-418A-A563-8EEBD6F8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01C8-7230-48EE-8F25-88B9BF21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869B-73D1-4931-9F77-F0EA1F58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0078-DE78-4B20-B037-2902FA02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A42B-0129-4505-A8F3-CD48817A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9EDB-B30B-412E-A012-D0C46F26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DABF0-798A-4AAD-BFB9-DF0C8866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B2F7-CF43-4BCA-B0FE-E4CF5A2A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F217-263D-44C5-986D-3B9C6D48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318A-D804-4235-858A-9C40BB1C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B9D1-3598-4221-9D4D-344AF9DD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D91D-5897-4BA6-8BB3-2125923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037E-ED29-4224-A037-6CC4848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FB5B-6CAF-4016-AA16-34F6A7B6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F842-1164-414D-B221-2FC0EB6F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C622-6DEE-4AAF-BDD3-83D423C3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91B2-1737-415B-90B1-6AA999AD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001A6-CF41-4A09-9EE2-75A00025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3513-0FCB-4CF3-A12E-E29C3115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4C1A4-159D-4765-BC7F-6593EF88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2044-9662-4FA4-9310-79E8D657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144E-A7E6-4F55-BF9A-EAFB0CDD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2F1E0-437D-4B17-B819-DB2DA32F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4F46A-0620-4109-81B6-43AC3952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260E-8855-483E-B25E-207265C5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6F29-40B6-4B3A-9065-CFC10A44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2F6B-05E6-425E-9845-F5955B2E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588D-43C4-4935-9653-20445AFF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7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44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C18926C-B142-492E-BEC0-09FF73522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B6A8F6C-254C-4C44-BA88-CBEA0DDD8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0D30F16-FE47-45EE-9903-56838002D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1DB87D5-7B6A-4805-8F86-A9669498ED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esikgezond.nl/www/images/schijf_van_vijf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wpossibility.nl/images/content_images/groenten_en_fruit_deel_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1066680"/>
            <a:ext cx="7848360" cy="517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voorlichting voor patiënten van de longrevalidatie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Rianne v. Heertum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JBZ s’Hertogenbosch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480" cy="64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48640"/>
            <a:ext cx="380952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as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wa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/vis/kip/ei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er/margarine/ bak-en braad-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varin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3280" y="620640"/>
            <a:ext cx="3809520" cy="57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0-500 m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 gram (rauw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gram voor de berei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 gram per sne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al 1.5 lt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eftij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sla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b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Ziek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6444360" y="1845000"/>
            <a:ext cx="1523520" cy="1295640"/>
          </a:xfrm>
          <a:prstGeom prst="rect">
            <a:avLst/>
          </a:prstGeom>
          <a:ln w="9525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1660320" cy="138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115640" y="2362320"/>
            <a:ext cx="764712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, + 600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½ gram eiwit per kg lichaamsgewich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-55% koolhydraten van totale hoeveelheid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COPD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= body mass index = gewicht gedeeld door lengte in het kwadraa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I = vetvrije massa index = kg/m2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nen 16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ouwen 15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77204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bij COPD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3"/>
          <p:cNvGraphicFramePr/>
          <p:nvPr/>
        </p:nvGraphicFramePr>
        <p:xfrm>
          <a:off x="990720" y="2057400"/>
          <a:ext cx="777204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77204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04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te meten m.b.v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impedatieme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t is een gevalideerde methode bij stabiele patient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-4)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idplooimeting 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nvoudig maar een grote individuele spreid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xa; kostbaar en stralingsbelas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knijpkracht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762120" y="332640"/>
            <a:ext cx="777204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method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772040" cy="470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AutoNum type="arabicPeriod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 (BMI 21-25) / depletie spiermassa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I &lt;15/&lt;16)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evt. aangevuld met dieetprepara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/ normale spiermassa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chtlijnen gezonde voeding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ë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0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. 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(BMI &lt;21) /depleti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trainen als gewichtverlies gestopt is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.  Ondergewicht (BMI &lt;21) /normal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.  Overgewicht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&gt;30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ing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e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1905120"/>
            <a:ext cx="7773480" cy="362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THERAPIE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EN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WEGING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Gezonder leven"/>
          <p:cNvPicPr/>
          <p:nvPr/>
        </p:nvPicPr>
        <p:blipFill>
          <a:blip r:embed="rId1"/>
          <a:stretch/>
        </p:blipFill>
        <p:spPr>
          <a:xfrm>
            <a:off x="228600" y="152280"/>
            <a:ext cx="2514240" cy="238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Onderzoek"/>
          <p:cNvPicPr/>
          <p:nvPr/>
        </p:nvPicPr>
        <p:blipFill>
          <a:blip r:embed="rId2"/>
          <a:stretch/>
        </p:blipFill>
        <p:spPr>
          <a:xfrm>
            <a:off x="6477120" y="3429000"/>
            <a:ext cx="207936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BD05203_"/>
          <p:cNvPicPr/>
          <p:nvPr/>
        </p:nvPicPr>
        <p:blipFill>
          <a:blip r:embed="rId1"/>
          <a:stretch/>
        </p:blipFill>
        <p:spPr>
          <a:xfrm>
            <a:off x="2484360" y="1125360"/>
            <a:ext cx="4247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67640" y="1412640"/>
            <a:ext cx="6494760" cy="504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e Voeding – Longziekte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en gevolgen hierva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en de gevolgen hierva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et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werpen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38560" y="244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4" descr="lichaamlongen"/>
          <p:cNvPicPr/>
          <p:nvPr/>
        </p:nvPicPr>
        <p:blipFill>
          <a:blip r:embed="rId1"/>
          <a:stretch/>
        </p:blipFill>
        <p:spPr>
          <a:xfrm>
            <a:off x="0" y="0"/>
            <a:ext cx="26665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5486040" cy="364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;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. 600 kcal extra bij COP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inname van voeding t.g.v. dyspno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Pink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589720" y="1447920"/>
            <a:ext cx="3322440" cy="449532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2493000"/>
            <a:ext cx="7772040" cy="396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VOLGEN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ling weerstan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traagde wondgenez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spierkracht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spierafbraak; te lage spiermassa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-index onder 16 en 15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79640" y="1196640"/>
            <a:ext cx="8784720" cy="115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90720" y="2425680"/>
            <a:ext cx="7772040" cy="374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zamer herstel en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r kans op complicaties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lager dan 21 en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-index lager dan 16 en 15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0" y="1196640"/>
            <a:ext cx="91436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% van stabiele patiënten met matige en ernstige COPD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 en 3) 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5% van stabiele patiënten met matige en ernstig en zeer ernstige COPD (GOLD 2, 3 en 4)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vaak komt klinische depletie voor?</a:t>
            </a:r>
            <a:endParaRPr b="0" lang="nl-NL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7772040" cy="511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eine frequente 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gebruik van beleg op 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ra melkproducten bij broo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uchtenkwark, vlaflip, roomijsje, milkshak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smeren met dieet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1523520" cy="1177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61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chuit, cracker met royaal kaa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le product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omvla, chocolademelk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kt dit niet dan overweging dieetdrinkvoeding (bij BMI onder 21 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=index onder 15 en 16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preparaat, bijv. Fantomalt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040" cy="86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2133000"/>
            <a:ext cx="8062200" cy="410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hoger dan 25 (gewicht : lengte²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ame niet in overeenstemming met behoef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 invloed van medicij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en geringe lichaamsbeweg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04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toename 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BD06114_"/>
          <p:cNvPicPr/>
          <p:nvPr/>
        </p:nvPicPr>
        <p:blipFill>
          <a:blip r:embed="rId1"/>
          <a:stretch/>
        </p:blipFill>
        <p:spPr>
          <a:xfrm>
            <a:off x="2057400" y="685800"/>
            <a:ext cx="4098600" cy="54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e hoof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, vnl. magere produc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halvarine i.p.v. 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11680" cy="86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Blue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410080" y="1600200"/>
            <a:ext cx="3422160" cy="443196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800" y="2781000"/>
            <a:ext cx="7772040" cy="36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voeding met een hoge verzadigingswaarde zoals volkorenbrood, rauwko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tussendoort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suiker, snoep en alcoho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11640" y="1196640"/>
            <a:ext cx="7160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996560" cy="1996560"/>
          </a:xfrm>
          <a:prstGeom prst="rect">
            <a:avLst/>
          </a:prstGeom>
          <a:ln w="9525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3276720" y="5638680"/>
            <a:ext cx="639360" cy="102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-3650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http://www.voedingscentrum.nl/NR/rdonlyres/C8B81B0E-1ECE-45DA-86D0-5C3537205734/813/schijfvanvijf10x10cm1.jpg"/>
          <p:cNvPicPr/>
          <p:nvPr/>
        </p:nvPicPr>
        <p:blipFill>
          <a:blip r:embed="rId3"/>
          <a:stretch/>
        </p:blipFill>
        <p:spPr>
          <a:xfrm>
            <a:off x="2771640" y="2133000"/>
            <a:ext cx="3816000" cy="37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lage BMI, onder 21 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 index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5 bij vrouw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6 bij man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3120" cy="4759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Klinisch begeleiding opgestart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poliklinisch vervolg gedurende 3 maanden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m.b.v. Bio Impedantie Meting VVM-index en gewicht evalue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Eventueel ook poliklinisch opstarten op verwijzing longarts of longverpleegkundig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reiken en behouden van een beter voedingsgedrag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informeren omtrent voeding in relatie tot COPD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motiveren/stimul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advies op maat om kwaliteit van leven te bevord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de dietist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alering van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oop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chte eetlus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in in het web bij multidisciplinaire aanpak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longverpleegkundige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260640"/>
            <a:ext cx="7773480" cy="93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komt U bij de diëtist?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340640"/>
            <a:ext cx="8223120" cy="482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huisarts of zelfverwijzing bij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of ongewenst gewichtstoe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één schriftelijke verwijzing nodig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uur vergoeding uit aanvullingspakket bij de meeste zorgverzekeraars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longarts / longverpleegkundige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in het ziekenhuis bij ongewenst gewichtsaf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315200" y="404640"/>
            <a:ext cx="18284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2590920"/>
            <a:ext cx="7695720" cy="3430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witten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, kaas, vlees, vis,ei, vleesvervanger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dig voor spieropbouw en voorkomt afbraak spiereiwit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5" descr="http://www.voedingscentrum.nl/NR/rdonlyres/C8B81B0E-1ECE-45DA-86D0-5C3537205734/813/schijfvanvijf10x10cm1.jpg"/>
          <p:cNvPicPr/>
          <p:nvPr/>
        </p:nvPicPr>
        <p:blipFill>
          <a:blip r:embed="rId1"/>
          <a:stretch/>
        </p:blipFill>
        <p:spPr>
          <a:xfrm>
            <a:off x="7010280" y="472428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>
            <a:hlinkClick r:id="rId2"/>
          </p:cNvPr>
          <p:cNvSpPr/>
          <p:nvPr/>
        </p:nvSpPr>
        <p:spPr>
          <a:xfrm>
            <a:off x="4162320" y="3019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" descr="http://www.slimfast.nl/shared/images/lclc/lclc_koolhydraten_enzo.jpg"/>
          <p:cNvPicPr/>
          <p:nvPr/>
        </p:nvPicPr>
        <p:blipFill>
          <a:blip r:embed="rId3"/>
          <a:stretch/>
        </p:blipFill>
        <p:spPr>
          <a:xfrm>
            <a:off x="0" y="0"/>
            <a:ext cx="1907640" cy="24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040" cy="4970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en we uit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groente, fruit,           suiker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, pasta,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directe energie voor de spier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geen extra kortademigh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157640" y="28717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j0356739"/>
          <p:cNvPicPr/>
          <p:nvPr/>
        </p:nvPicPr>
        <p:blipFill>
          <a:blip r:embed="rId1"/>
          <a:stretch/>
        </p:blipFill>
        <p:spPr>
          <a:xfrm>
            <a:off x="3809880" y="2514600"/>
            <a:ext cx="8283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el </a:t>
            </a:r>
            <a:r>
              <a:rPr b="0" i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een snelle maagontlediging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der kans op vol gevoe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ter verteerbaar da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rijke 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100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gevarieer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ruimschoots brood en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volop groente en frui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040" cy="79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040" cy="4754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d uw gewicht op pei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s zuinig met zou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nk voldoende; 1½ - 2 L per da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niet de hele dag doo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123804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46560" cy="16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36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middeld aanbevolen hoeveelheden voedingsmiddelen voor gezonde volwassenen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0952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ardappelen en rij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en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uit, vruchtensap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3280" y="22050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-7 sneetje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-5 stuks/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– 4 groente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 stuks/glazen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400 JBZ Powerpoint POS 2</Template>
  <TotalTime>588</TotalTime>
  <Application>LibreOffice/7.4.7.2$Linux_X86_64 LibreOffice_project/40$Build-2</Application>
  <AppVersion>15.0000</AppVersion>
  <Words>640</Words>
  <Paragraphs>189</Paragraphs>
  <Company>ICT Behe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2:39:38Z</dcterms:created>
  <dc:creator>kookcentrum</dc:creator>
  <dc:description/>
  <dc:language>en-US</dc:language>
  <cp:lastModifiedBy>Rianne Nooijen</cp:lastModifiedBy>
  <dcterms:modified xsi:type="dcterms:W3CDTF">2012-11-05T18:37:06Z</dcterms:modified>
  <cp:revision>56</cp:revision>
  <dc:subject/>
  <dc:title>Onderwerp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Diavoorstelling (4:3)</vt:lpwstr>
  </property>
  <property fmtid="{D5CDD505-2E9C-101B-9397-08002B2CF9AE}" pid="3" name="Slides">
    <vt:r8>34</vt:r8>
  </property>
</Properties>
</file>