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wmf" ContentType="image/x-wmf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5ED0-2766-4A85-9AB0-BF17153022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BE46DB7-A3AB-4410-8540-6491D9021EAB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FD53FB7-5467-4953-BC0D-5F31B002293A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B69C8D9-2A4A-4BC1-B276-5853174FFFEA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A6DE132-00A3-4CF1-8E0F-54C4835AE555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8FF1373-2EAD-4687-95C9-324FA42B96B2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8B51A7D-EB5F-4EAF-8263-10B792BE7E06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123966A-6B29-4B98-95A9-1FD040C1A59B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2AE1B5A-64AC-42ED-9686-AC78FA967A29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F6EDDF7-38ED-4372-A709-0599D5F9DEC8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78D1EC2-2018-4BFC-9357-1EEACDF301CC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2BB4C3E-9865-4C6E-BFC0-1871085F4B1A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FE1D5B2-F02B-41C9-A062-D9DD14694806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94A9C82-51A8-40EC-8F22-529321169933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190852B-7A88-41AB-91F3-53114BFBBE0A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6548F11-C3FD-4A49-92C7-D3AA58921FB5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989F2FF-F621-4699-8041-1BD2066E1ADB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BA064CD-13DF-4C4C-B7A9-8E032D8ACECE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5512E83-47E5-47E3-A9AC-930B12A82346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1F8BE3A-9E1B-478B-A9DF-12E836EED812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2C43866-3043-4F56-B19D-783132D01376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546E7A6-9504-4488-81DC-C99016D15483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BD920F0-C133-44A9-93E3-96C1742869BD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BF9E68D-BD7D-4063-AB1A-1EEECAB4E585}" type="datetime">
              <a:rPr b="0" lang="en-GB" sz="900" spc="-1" strike="noStrike">
                <a:solidFill>
                  <a:srgbClr val="000000"/>
                </a:solidFill>
                <a:latin typeface="News Gothic"/>
              </a:rPr>
              <a:t>30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20B7B46-A3FA-48AF-A41F-58EC904A746A}" type="slidenum">
              <a:rPr b="0" lang="en-GB" sz="9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B23CE-3D1D-4003-895A-A8B10D2F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6A773-128F-425E-9920-AC877E7A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2C5AD6-35EA-4E2E-9332-EAB28260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D76AF-8017-4079-BF98-D88AB46C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F507D3-AE24-4C41-8C0F-BEA8232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5E6A9A-7E71-4236-A428-204AE5F4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2DE2D-8A6F-4AC1-82E3-5878D197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EE95B-CE65-4D47-8E3E-E2403EA0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822BE7-3184-425D-8D5D-DC313CFF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A2E263-0679-4A91-A744-89E3BC42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5D1DDB-8D17-4598-BB93-0547325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01E35E-7C9F-40AB-9881-6BB774E6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83085D-6557-4AC1-8281-84ABEDE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5AEC7B-FA8E-4EBE-8FB3-9EF3F7AF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F91A1C-2EBB-486F-A0EB-5F1FA6E3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A12AFB-FEB0-4E5C-88B5-DB05A05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02BB9F-92A6-4793-825B-A79F024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747236-072E-4832-85E1-846B7608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2C25E7-B744-4D9A-B87C-00F0D6BC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3F1CDE-2138-4BAE-9926-77E645CF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3BF3CB-DF38-40EC-A77B-242B9D6A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648CCA-D2A5-4980-AD4F-C87D87AD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1D637C-4C57-4778-AA73-52342B5B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FCD41F-1E6F-44E1-8EF8-5DA820AA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B3BB71-DAEB-4C73-8569-E56C96B7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B6F1F5-047E-4603-9E9E-EA4D091A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3ED38C-ABA8-4C12-A3B9-851FF9F0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5F41FE-403C-43ED-B14F-12C8C49F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CC6F3-F8C9-49C0-8376-7446AFFA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698A84-98D2-4D0E-8A5C-3E8DB82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ED479-5F93-41D1-ADA0-7667A8B4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F3B2A7-A46C-4D19-B0D0-275E31A4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1D119B-4612-4014-8BEC-C2D13E18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6BE1AF-9630-43C3-8F44-220A8566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7BF8C5-4D51-4A0F-AAE8-ABE4716C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4F0D61-DEDD-41C0-861D-6620432F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7F0DD9-7994-4CB0-A205-8485624E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B96DF7-715C-451E-A6E2-9B404465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EDBB55-29BD-405D-A7EF-247357C9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B18291-94D0-4ABE-B1BF-75EEF9B3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E0581A-DECB-4B89-922E-33B74282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39074-8AA6-4E97-86F5-D7DABD4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E2448E-4C89-4E10-8BEF-4B413AD0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137BCB-417F-45EF-9887-7B0AA46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E5F299-BFE3-4F3F-B38A-D00D0CBC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1FED8D-E97F-4BE6-82A8-67300453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BAE1E1-E39E-403F-B680-C2325717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E7ABF-B370-424F-B8D0-7A3454FF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233C2-EF14-45F1-AAD5-B6216B8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3EC46-902A-4292-8863-846A7E18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2C25A-3FA5-4E87-80B9-E26CED43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B502D-5CC8-413A-9047-FC4E0DE2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FB042-FB10-4843-945E-BBFA960C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4E13F-3572-4D4A-80AD-A002E9AE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2848B-A0D6-47B1-A529-7E3C4FE6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C9747-7B9A-4E0B-92E0-8D557420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024D6-5A3C-4DD8-9BF7-264F8005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F7CF3-551F-4BE7-9D43-3447BAED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5A2B8-E5AF-491A-AAF4-9583D588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3B592-C679-4877-8FB6-E2702834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2278C-A531-4719-A603-FAC2B7CE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F04CC-9818-4664-8E6A-1A0C9CC4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5E4AA-35FB-45D0-B830-EB800F56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350E4-7372-4FBD-AE63-1F9BFA0B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3A11E-C858-4C5C-9395-D67EB3B0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F4D0F-20B6-471B-B78E-2D37DA7A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D1C12-5E66-4BD7-BF7D-5EF3DE5B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9D051-1E3B-4B0F-87EA-B7716AE2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CB34A-01E1-4F73-8E12-7387FE7C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6E31A4-CFC4-4A94-BBD9-CDCEC7C6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5306A-D48D-43E9-9802-EF0308EF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0A979-481E-49E7-BA11-AD69762C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8EB12-7286-4F25-94FD-934AA50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38A27-CE38-4E25-97E5-E4414BA6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2BEB4-18C8-48D2-83B1-686CBA07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2E51D-26DE-48D7-A170-A14664A4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4546E-7F7D-4D11-956B-3AFE9FE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F4453-C31B-4F32-867A-0EF71E47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7FA5D-B07D-4876-A366-8341334B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4C07E-0595-47CE-8EF3-07C3D7A8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81924-5019-4648-A615-DF8CFB3E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16634-E94E-493D-AC28-FF84BEC7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E955F-3364-4759-B510-4268155A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06C5D-1E05-4CB9-ABC2-FC929E4C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C3888-781C-4DCC-BAEA-6F94416B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51E06-C430-4F00-BD54-33D9EC26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4792C-930F-4DEA-8343-BB69082D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B6D02-7DD6-4BB9-BCFD-B8F292B7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02FE4-B9E8-42F0-BE8F-B214412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D7E7C-724E-4C42-AFD2-5BAB9082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5139E-1E99-4B99-951B-8BD236FB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10AAA-E706-4916-830C-314C4B0B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8D139-D18F-4855-B8BC-B441F103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C2A66-79DF-4FD6-8E8D-2D10BD39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16A82-D855-4766-BE7F-2DFCA1EB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BECEE-43D0-4DFB-8CD4-B2097BD7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1CF41-E4A2-42E4-84CA-7EEFCB70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F9B18-3696-4FFD-98F3-6060853E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099FA-3959-449C-8721-D15841FD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549AA-040B-4147-9EE6-D4520E2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E1E75-C6DA-493D-B8D9-15DD5835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5D333-5932-4AB7-BDCA-DB12F707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63C26-96C1-49B9-B32C-476EAE05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F5564-D9F3-4852-86D7-05F60A26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C0D37-D0F4-4A2F-A7D1-7162E301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0B3B5-73BD-448D-8AA3-A20E6191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EE10F-F3BB-4093-ACCE-62CCCEC8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34253-E174-4931-865B-7B462C87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3A131-2B1E-42ED-AD90-E4C8DB50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DEFA7-F231-49E9-B370-297A499F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2ED38-AC73-4BBE-989E-ABF768A0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5A77C-24FE-4847-94AD-BCB7D581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39A48-3D8D-4794-9C6C-DFC185E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764B5-ECB1-4F0A-80FA-A7C6A4F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9BD53-1932-46F3-B45D-F8DF5C70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F026E-51D3-4947-8DDC-4C1CACE4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42196-B3C4-4E75-BE78-77C7A2B2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C8576-160D-4529-AD59-8F40ABA4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3DADBB-5EA7-44DA-BBB1-0EF7C20A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E2DF52-4B55-4C30-BF06-5011DE93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906CD-4DEB-4BDF-9ADA-E8DE8F5E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1BBFB8-FF60-4F61-93F0-3E19B6A1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84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3C44B-A0A4-4A36-86A2-30FAD32B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EFF04-C770-4104-A93B-4E7F3C2F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6DDCD-08C6-4285-8D62-4A7D4F03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DD5751-DA01-43D5-A597-8DCBEDD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84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2AD5F3-91C0-4D5F-A280-4D753B87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64680" y="160020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964680" y="3964320"/>
            <a:ext cx="334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4A1CB-2D16-48D8-8680-A2779F75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77128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85720" y="160020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77128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085720" y="3964320"/>
            <a:ext cx="220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E14621-2286-49E1-B838-91FDE5B7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92E8C3-5622-4301-908C-A1C33E44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E1D7C-BC36-42B4-92B4-9C1C914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8F144-99CF-4ACA-96FE-0220B819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3B8D-77B6-478D-82CB-3386AC1FBB5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86B4-DE85-4D2F-87FD-2C50E853247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2BA3-E927-4FEF-B60A-8394554EB86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842-2DBC-47C6-B357-3012083D7FC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FD89-2594-4574-826B-ED9AADDE203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C705-EC11-414F-80BF-7D3DF352380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43D7-B904-4BE6-830C-D4E9772AEA3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41A7-0807-4877-A3FD-62F712E99AD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E0D-F289-4C8E-92DC-3F6D5BCA491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68A7-15B7-4016-B488-761F9EDCB44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69E2-B331-4E00-A5AD-99A7094A360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057320"/>
            <a:ext cx="6918480" cy="17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Franklin Gothic Medium"/>
              </a:rPr>
              <a:t>Les 6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Franklin Gothic Medium"/>
              </a:rPr>
              <a:t>Bodemprofiel, bodemkaarte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89" name="Picture 23" descr="Koe_oukoop"/>
          <p:cNvPicPr/>
          <p:nvPr/>
        </p:nvPicPr>
        <p:blipFill>
          <a:blip r:embed="rId1"/>
          <a:stretch/>
        </p:blipFill>
        <p:spPr>
          <a:xfrm>
            <a:off x="6970680" y="4273560"/>
            <a:ext cx="2238480" cy="17636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5" descr="IMG_3170"/>
          <p:cNvPicPr/>
          <p:nvPr/>
        </p:nvPicPr>
        <p:blipFill>
          <a:blip r:embed="rId2"/>
          <a:stretch/>
        </p:blipFill>
        <p:spPr>
          <a:xfrm>
            <a:off x="3591000" y="4273560"/>
            <a:ext cx="2349360" cy="1762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6" descr="Zegveld_Google Earth"/>
          <p:cNvPicPr/>
          <p:nvPr/>
        </p:nvPicPr>
        <p:blipFill>
          <a:blip r:embed="rId3"/>
          <a:stretch/>
        </p:blipFill>
        <p:spPr>
          <a:xfrm>
            <a:off x="1028880" y="4273560"/>
            <a:ext cx="1982520" cy="1762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7" descr="Veenbodem"/>
          <p:cNvPicPr/>
          <p:nvPr/>
        </p:nvPicPr>
        <p:blipFill>
          <a:blip r:embed="rId4"/>
          <a:stretch/>
        </p:blipFill>
        <p:spPr>
          <a:xfrm>
            <a:off x="2995560" y="4273560"/>
            <a:ext cx="712800" cy="17636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2" descr="MPj04318480000[1]"/>
          <p:cNvPicPr/>
          <p:nvPr/>
        </p:nvPicPr>
        <p:blipFill>
          <a:blip r:embed="rId5"/>
          <a:stretch/>
        </p:blipFill>
        <p:spPr>
          <a:xfrm>
            <a:off x="7369200" y="427032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3" descr="MPj04317530000[1]"/>
          <p:cNvPicPr/>
          <p:nvPr/>
        </p:nvPicPr>
        <p:blipFill>
          <a:blip r:embed="rId6"/>
          <a:stretch/>
        </p:blipFill>
        <p:spPr>
          <a:xfrm>
            <a:off x="0" y="428148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4" descr="Bodem_WestNL"/>
          <p:cNvPicPr/>
          <p:nvPr/>
        </p:nvPicPr>
        <p:blipFill>
          <a:blip r:embed="rId7"/>
          <a:stretch/>
        </p:blipFill>
        <p:spPr>
          <a:xfrm>
            <a:off x="5267160" y="4273560"/>
            <a:ext cx="210852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657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Franklin Gothic Medium"/>
              </a:rPr>
              <a:t>Leekeerdgrond in kalkrijke oude zeeklei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06200" y="2090880"/>
          <a:ext cx="6008760" cy="4416120"/>
        </p:xfrm>
        <a:graphic>
          <a:graphicData uri="http://schemas.openxmlformats.org/drawingml/2006/table">
            <a:tbl>
              <a:tblPr/>
              <a:tblGrid>
                <a:gridCol w="1005120"/>
                <a:gridCol w="1147680"/>
                <a:gridCol w="1116000"/>
                <a:gridCol w="1336680"/>
                <a:gridCol w="1403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pte cm-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riz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l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u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xtu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w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eer hume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rijk, zeer fijnzandige zware za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/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verg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verg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verga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9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0-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eer kalkrijk, zeer sterk gelaagde uiterst fijnzandige zware zavel en kleiig uiterst fijn zan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&gt;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onker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rijk, kleiig, zeer fijn zand. Gelaag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19" name="Picture 2" descr=""/>
          <p:cNvPicPr/>
          <p:nvPr/>
        </p:nvPicPr>
        <p:blipFill>
          <a:blip r:embed="rId1"/>
          <a:srcRect l="19307" t="8410" r="16414" b="11570"/>
          <a:stretch/>
        </p:blipFill>
        <p:spPr>
          <a:xfrm>
            <a:off x="6114960" y="198360"/>
            <a:ext cx="301968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15560" y="925560"/>
            <a:ext cx="397188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Franklin Gothic Medium"/>
              </a:rPr>
              <a:t>Enkeerdgrond op podzolprofiel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06200" y="2328840"/>
          <a:ext cx="6008760" cy="3443400"/>
        </p:xfrm>
        <a:graphic>
          <a:graphicData uri="http://schemas.openxmlformats.org/drawingml/2006/table">
            <a:tbl>
              <a:tblPr/>
              <a:tblGrid>
                <a:gridCol w="1005120"/>
                <a:gridCol w="1147680"/>
                <a:gridCol w="1116000"/>
                <a:gridCol w="1336680"/>
                <a:gridCol w="1403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pte cm-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riz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l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u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xtu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w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eer hume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wak lemig, matig fijn z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w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eer hume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wak lemig, matig fijn z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5-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ijs tot zeer donker 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atig humeus tot matig 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wak lemig, matig fijn z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0-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onker geelbru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eer 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emarm, matig fijn z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&gt;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onker geelbru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eer 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emarm, matig fijn z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22" name="Picture 2" descr=""/>
          <p:cNvPicPr/>
          <p:nvPr/>
        </p:nvPicPr>
        <p:blipFill>
          <a:blip r:embed="rId1"/>
          <a:srcRect l="27038" t="0" r="0" b="8610"/>
          <a:stretch/>
        </p:blipFill>
        <p:spPr>
          <a:xfrm>
            <a:off x="6222960" y="374760"/>
            <a:ext cx="2921040" cy="6483240"/>
          </a:xfrm>
          <a:prstGeom prst="rect">
            <a:avLst/>
          </a:prstGeom>
          <a:ln w="0">
            <a:noFill/>
          </a:ln>
        </p:spPr>
      </p:pic>
      <p:sp>
        <p:nvSpPr>
          <p:cNvPr id="623" name="Tekstvak 4"/>
          <p:cNvSpPr/>
          <p:nvPr/>
        </p:nvSpPr>
        <p:spPr>
          <a:xfrm>
            <a:off x="582480" y="5772240"/>
            <a:ext cx="18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heel kalklo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42984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4f81bd"/>
                </a:solidFill>
                <a:latin typeface="Franklin Gothic Medium"/>
              </a:rPr>
              <a:t>Bodemcode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95280" y="2060640"/>
          <a:ext cx="8229600" cy="19447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News Gothic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845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4f81bd"/>
                </a:solidFill>
                <a:latin typeface="Franklin Gothic Medium"/>
              </a:rPr>
              <a:t>Betekenis hoofdletters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Zeekleigrond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R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Rivierkleigrond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V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Veengrond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W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Moerige grond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EZ,EL, EK Dikke eerdgrond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H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Humuspodzol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Y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Bruine bosgrond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Z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Zandgrond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L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Leemgrond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Franklin Gothic Book"/>
              </a:rPr>
              <a:t>Brikgronde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Object 3"/>
          <p:cNvGraphicFramePr/>
          <p:nvPr/>
        </p:nvGraphicFramePr>
        <p:xfrm>
          <a:off x="0" y="6230880"/>
          <a:ext cx="403848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30880"/>
                    <a:ext cx="40384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0" name="Picture 6" descr="Bestand:Sand 2003-01-25.jpg"/>
          <p:cNvPicPr/>
          <p:nvPr/>
        </p:nvPicPr>
        <p:blipFill>
          <a:blip r:embed="rId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31" name="WordArt 7"/>
          <p:cNvSpPr txBox="1"/>
          <p:nvPr/>
        </p:nvSpPr>
        <p:spPr>
          <a:xfrm>
            <a:off x="826920" y="2276640"/>
            <a:ext cx="7201080" cy="23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ak de vragen zandgron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Franklin Gothic Medium"/>
              </a:rPr>
              <a:t>Vragen zandgronden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6840" y="1317600"/>
            <a:ext cx="679932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elke fragmenten  hebben voor het grootste gedeelte betrekking op de zandlandschapp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elke hoofdbodemtypen worden in fragment 5 Haaksbergen onderscheid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Geef van een bodemtype de code en de naam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at is de relatie tussen bodemtypen en bijbehorende grondwatertrapp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elke bodemtype is gebonden aan dekzandruggen en welk bodemtype is gebonden aan lager gelegen dekzand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at is het verschil tussen een veldpodzol en een haarpodzol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Zijn de enkeerdgronden ontstaan uit veldpodzolen of uit beekeerdgrond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85000" indent="-5850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Franklin Gothic Medium"/>
              </a:rPr>
              <a:t>Antwoorden  zandgronden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6840" y="907920"/>
            <a:ext cx="7427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Geel/bruin of letters Z, EZ, EL, EK, H, 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ode + gwt + naam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21240" indent="-49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Hn21VI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= veldpodzolgron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21240" indent="-49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zEZ21VII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= hoge zwarte enkeerdgron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21240" indent="-49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Zn23III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= gooreerdgron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21240" indent="-49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Zg23III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= beekeerdgron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ode vertalen op basis van achterkant (tabellen) fragmentenkaart, inclusief grondwatertrap (voorkant kaart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att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beekeerdgrond,   drog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veldpodzolgrond/enkeerdgron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kzandruggen Hn21IV, dekzanden lager = pZgIII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eldpodzol = hydromorf (nat) en Haarpodzol = xeromorf (droog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Franklin Gothic Book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oeren legden akkers aan op de drogere delen. Enkeerdgronden ontstaan door ophoping van mest/organisch materiaal dat door de boeren werd opgebracht. Veldpodzolen liggen van nature hoger dan de beekeerdgronden (die te laag en te nat waren voor akkerbouw)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566640" indent="-566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Bestand:Clay-ss-2005.jpg"/>
          <p:cNvPicPr/>
          <p:nvPr/>
        </p:nvPicPr>
        <p:blipFill>
          <a:blip r:embed="rId1"/>
          <a:stretch/>
        </p:blipFill>
        <p:spPr>
          <a:xfrm>
            <a:off x="0" y="0"/>
            <a:ext cx="9496440" cy="7064280"/>
          </a:xfrm>
          <a:prstGeom prst="rect">
            <a:avLst/>
          </a:prstGeom>
          <a:ln w="0">
            <a:noFill/>
          </a:ln>
        </p:spPr>
      </p:pic>
      <p:sp>
        <p:nvSpPr>
          <p:cNvPr id="637" name="WordArt 9"/>
          <p:cNvSpPr txBox="1"/>
          <p:nvPr/>
        </p:nvSpPr>
        <p:spPr>
          <a:xfrm>
            <a:off x="826920" y="2276640"/>
            <a:ext cx="7201080" cy="23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ak de vragen kleigron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pagina 42"/>
          <p:cNvPicPr/>
          <p:nvPr/>
        </p:nvPicPr>
        <p:blipFill>
          <a:blip r:embed="rId1"/>
          <a:srcRect l="0" t="0" r="26531" b="18706"/>
          <a:stretch/>
        </p:blipFill>
        <p:spPr>
          <a:xfrm>
            <a:off x="2556000" y="1341360"/>
            <a:ext cx="4321080" cy="453564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4f81bd"/>
                </a:solidFill>
                <a:latin typeface="Franklin Gothic Medium"/>
              </a:rPr>
              <a:t>Profielverlopen kleigronden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2490840" y="616572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 van de profielverlopen 1 tot en me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Franklin Gothic Medium"/>
              </a:rPr>
              <a:t>Vragen Kleigronden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elke fragmenten hebben voor het grootste deel betrekking op het rivierenlandschap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ekijk fragment 5 Bemmel. De rivier(en) zelf is (zijn) op het fragment niet zichtbaar. Waar loopt/lopen de rivieren eigenlijk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elk bodemtype treffen we vooral aan op de oeverwallen en welke vooral op de rivierkomm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elke vormen van grondgebruik komen we te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8454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Franklin Gothic Medium"/>
              </a:rPr>
              <a:t>Bodemopbouw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97" name="Picture 4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2760480" cy="452592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6"/>
          <p:cNvSpPr/>
          <p:nvPr/>
        </p:nvSpPr>
        <p:spPr>
          <a:xfrm>
            <a:off x="611280" y="163656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80"/>
                </a:solidFill>
                <a:latin typeface="Frutiger 55 Roman"/>
              </a:rPr>
              <a:t>Bodemprof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80"/>
                </a:solidFill>
                <a:latin typeface="Frutiger 55 Roman"/>
              </a:rPr>
              <a:t>40 cm = bewerkbare bod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80"/>
                </a:solidFill>
                <a:latin typeface="Frutiger 55 Roman"/>
              </a:rPr>
              <a:t>80 cm = bewortelingsdiep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80"/>
                </a:solidFill>
                <a:latin typeface="Frutiger 55 Roman"/>
              </a:rPr>
              <a:t>120 cm = van invloedzijnde ondergr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8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Franklin Gothic Medium"/>
              </a:rPr>
              <a:t>Antwoorden  Kleigronden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Groen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et buiten de kaart (rechtsboven en linksonder): op basis van de textuurklasse. In het midden van de kaart ligt zware klei, dichter bij de rivier lichtere klei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Oeverwallen = Rd10A, Rivierkommen = Rn46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kkerbouw op de lichte klei van de oeverwal en tuinbouw op de zware klei van de kom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6" descr="Bestand:Peat artisanal exploitation2.jpg"/>
          <p:cNvPicPr/>
          <p:nvPr/>
        </p:nvPicPr>
        <p:blipFill>
          <a:blip r:embed="rId1"/>
          <a:stretch/>
        </p:blipFill>
        <p:spPr>
          <a:xfrm>
            <a:off x="9360" y="-5094360"/>
            <a:ext cx="9093240" cy="12123720"/>
          </a:xfrm>
          <a:prstGeom prst="rect">
            <a:avLst/>
          </a:prstGeom>
          <a:ln w="0">
            <a:noFill/>
          </a:ln>
        </p:spPr>
      </p:pic>
      <p:sp>
        <p:nvSpPr>
          <p:cNvPr id="646" name="WordArt 7"/>
          <p:cNvSpPr txBox="1"/>
          <p:nvPr/>
        </p:nvSpPr>
        <p:spPr>
          <a:xfrm>
            <a:off x="826920" y="2276640"/>
            <a:ext cx="7201080" cy="23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ak de vragen veengron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4f81bd"/>
                </a:solidFill>
                <a:latin typeface="Franklin Gothic Medium"/>
              </a:rPr>
              <a:t>Vragen Veengronden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Welke fragmenten hebben voor het grootste deel betrekking op hoogveen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Onder welke omstandigheden vindt veenvorming plaat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AutoNum type="arabicPlain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Welke plantensoorten zijn voornamelijk bij de veenvorming betrokken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4f81bd"/>
                </a:solidFill>
                <a:latin typeface="Franklin Gothic Medium"/>
              </a:rPr>
              <a:t>Antwoorden Veengronden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Hoogveen: Roze fragmenten; laagveen paars/blauwpaa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Moerasachtige/natte omstandighed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enmos, riet, zegge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Franklin Gothic Medium"/>
              </a:rPr>
              <a:t>Bodemhorizonten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6845400" cy="45259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http://www.vcbio.science.ru.nl/images/landscape/landscape-horizont_ned.gif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845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03" name="Tijdelijke aanduiding voor inhoud 9" descr="Les 5 Bodemkaarten.pdf - Adobe Reader"/>
          <p:cNvPicPr/>
          <p:nvPr/>
        </p:nvPicPr>
        <p:blipFill>
          <a:blip r:embed="rId1"/>
          <a:stretch/>
        </p:blipFill>
        <p:spPr>
          <a:xfrm>
            <a:off x="-396720" y="-171360"/>
            <a:ext cx="964872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845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05" name="Tijdelijke aanduiding voor inhoud 3" descr="Les 5 Bodemkaarten.pdf - Adobe Reader"/>
          <p:cNvPicPr/>
          <p:nvPr/>
        </p:nvPicPr>
        <p:blipFill>
          <a:blip r:embed="rId1"/>
          <a:stretch/>
        </p:blipFill>
        <p:spPr>
          <a:xfrm>
            <a:off x="25560" y="-243000"/>
            <a:ext cx="922644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845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4f81bd"/>
                </a:solidFill>
                <a:latin typeface="Franklin Gothic Medium"/>
              </a:rPr>
              <a:t>5 Hoofdbodemtypen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6840" y="1600200"/>
            <a:ext cx="684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Franklin Gothic Book"/>
              </a:rPr>
              <a:t>Veengrond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Franklin Gothic Book"/>
              </a:rPr>
              <a:t>Ophoping organische stof door wat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Franklin Gothic Book"/>
              </a:rPr>
              <a:t>Podzolgrond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Franklin Gothic Book"/>
              </a:rPr>
              <a:t>Uitspoeling en inspoeling van humus, ijzer en aluminiu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Franklin Gothic Book"/>
              </a:rPr>
              <a:t>Brikgrond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Franklin Gothic Book"/>
              </a:rPr>
              <a:t>Uitspoeling en inspoeling van lutu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Franklin Gothic Book"/>
              </a:rPr>
              <a:t>Eerdgrond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Franklin Gothic Book"/>
              </a:rPr>
              <a:t>Ophoping van organische stof door mens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Franklin Gothic Book"/>
              </a:rPr>
              <a:t>Vaaggronde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Franklin Gothic Book"/>
              </a:rPr>
              <a:t>Jonge gronden zonder duidelijke bodemvorming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Franklin Gothic Book"/>
              </a:rPr>
              <a:t>www.bodemdata.n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Franklin Gothic Book"/>
              </a:rPr>
              <a:t>http://aerport.aeres.nl/organisatie/CAH/organisatie/afdelingen/mediatheek/Paginas/Bodemkaarten.aspx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91984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Franklin Gothic Medium"/>
              </a:rPr>
              <a:t>Beekeerdgrond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rcRect l="19208" t="1355" r="16506" b="13967"/>
          <a:stretch/>
        </p:blipFill>
        <p:spPr>
          <a:xfrm>
            <a:off x="6377040" y="399960"/>
            <a:ext cx="2766960" cy="645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0" name=""/>
          <p:cNvGraphicFramePr/>
          <p:nvPr/>
        </p:nvGraphicFramePr>
        <p:xfrm>
          <a:off x="106200" y="2505240"/>
          <a:ext cx="6008760" cy="3565440"/>
        </p:xfrm>
        <a:graphic>
          <a:graphicData uri="http://schemas.openxmlformats.org/drawingml/2006/table">
            <a:tbl>
              <a:tblPr/>
              <a:tblGrid>
                <a:gridCol w="1005120"/>
                <a:gridCol w="1147680"/>
                <a:gridCol w="1116000"/>
                <a:gridCol w="1336680"/>
                <a:gridCol w="1403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pte cm-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riz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l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u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xtu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wart tot zeer donker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usrij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loos, sterk lemig, zeer fijn z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eer donker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atig hume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loos, sterk lemig, zeer fijn z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-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1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ijs tot licht 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loos, sterk lemig, zeer fijn z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&gt;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2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rijk, leemarm, zeer fijn z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67072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Franklin Gothic Medium"/>
              </a:rPr>
              <a:t>Vlakvaaggrond in kalkrijk jong rivierzand met een kleidek</a:t>
            </a:r>
            <a:br>
              <a:rPr sz="2500"/>
            </a:br>
            <a:r>
              <a:rPr b="0" lang="nl-NL" sz="2500" spc="-1" strike="noStrike">
                <a:solidFill>
                  <a:srgbClr val="000000"/>
                </a:solidFill>
                <a:latin typeface="Franklin Gothic Medium"/>
              </a:rPr>
              <a:t>(profielverloop 2)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rcRect l="12416" t="3410" r="14404" b="12044"/>
          <a:stretch/>
        </p:blipFill>
        <p:spPr>
          <a:xfrm>
            <a:off x="6127920" y="682560"/>
            <a:ext cx="3016080" cy="617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3" name=""/>
          <p:cNvGraphicFramePr/>
          <p:nvPr/>
        </p:nvGraphicFramePr>
        <p:xfrm>
          <a:off x="106200" y="2505240"/>
          <a:ext cx="6008760" cy="3047760"/>
        </p:xfrm>
        <a:graphic>
          <a:graphicData uri="http://schemas.openxmlformats.org/drawingml/2006/table">
            <a:tbl>
              <a:tblPr/>
              <a:tblGrid>
                <a:gridCol w="1005120"/>
                <a:gridCol w="1147680"/>
                <a:gridCol w="1116000"/>
                <a:gridCol w="1336680"/>
                <a:gridCol w="140328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pte cm-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riz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l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u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xtu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onker grijsbru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atig 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loos, matig fijnzandige zware za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/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0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ru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rijk, kleiig matig fijn zan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&gt;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iterst 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rijk, kleiarm, matig grof zand met een tussenlaag van grin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628560"/>
            <a:ext cx="5645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Franklin Gothic Medium"/>
              </a:rPr>
              <a:t>Poldervaaggrond in kalkrijke jonge zeeklei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rcRect l="15432" t="14637" r="22529" b="11495"/>
          <a:stretch/>
        </p:blipFill>
        <p:spPr>
          <a:xfrm>
            <a:off x="6245280" y="771480"/>
            <a:ext cx="2898720" cy="611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"/>
          <p:cNvGraphicFramePr/>
          <p:nvPr/>
        </p:nvGraphicFramePr>
        <p:xfrm>
          <a:off x="71280" y="1571760"/>
          <a:ext cx="6102360" cy="5148000"/>
        </p:xfrm>
        <a:graphic>
          <a:graphicData uri="http://schemas.openxmlformats.org/drawingml/2006/table">
            <a:tbl>
              <a:tblPr/>
              <a:tblGrid>
                <a:gridCol w="916200"/>
                <a:gridCol w="954000"/>
                <a:gridCol w="903240"/>
                <a:gridCol w="1170000"/>
                <a:gridCol w="215892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pte cm-m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riz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l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u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xtu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8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onker grijsbru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atig 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rijk, uiterst fijnzandige lichte kle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Vrij kleine, matig ontwikkelde, afgerond-blokkige, matig poreuze elemen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2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oed ontwikkelde, scherpblokkige, dichte elementen/ploegz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rijk, uiterst fijnzandige zware za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0-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m, met schelp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&gt;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us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alkrijk, uiterst fijnzandige zware za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400"/>
                      </a:b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laag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3:58:09Z</dcterms:created>
  <dc:creator>Frans en Joke van erp</dc:creator>
  <dc:description/>
  <dc:language>en-US</dc:language>
  <cp:lastModifiedBy>humptiedumptie</cp:lastModifiedBy>
  <dcterms:modified xsi:type="dcterms:W3CDTF">2015-11-06T11:44:26Z</dcterms:modified>
  <cp:revision>14</cp:revision>
  <dc:subject/>
  <dc:title>Hoofdbodemtypen</dc:title>
</cp:coreProperties>
</file>