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1FEE-C969-49FD-9D5C-891CC5E11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43E5-3E81-485D-9003-D8061FA49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C004-D751-4995-BF67-4FD357F01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B10C-5DBB-4403-8C07-3686A872B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1D258-B807-4F03-942F-7CA11383F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F804B-E2B1-4887-A3D4-6903EC29F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A2BDD-6151-44FB-B82D-E6B602A8E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5B0AE-4762-405D-BBEE-95560C1BF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D2419-84F6-479A-809A-94DB74D5E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BF2E0-5AF3-4618-8B01-67E5F8C59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3BFD0-4BD2-4EB4-9D99-CBDF19A0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A300-F475-4B09-81E2-FD01CADB1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F3F38-A06D-4E7B-8FD7-6196C8B4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CE552-1755-49E6-A064-2C80E1C4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49C6E-2136-468D-83D3-E66D99608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FEEEF-9F42-4C00-9A35-07EFFCF4D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DAC98-0A6C-44B8-B3B0-CDB39D4C7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0A07D-C515-41D2-90CA-C7AB90AAD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9AD40-B8AD-43AF-8FF5-24A7C8CED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303E1-0E44-4613-995C-3A82D356D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A4EFA-2B6D-44B2-8F8C-D413CFE01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145EE-121E-4AAE-A84E-152BCEB96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6986-5A0E-4248-9126-35231882B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7743E-09FE-48D4-8BA3-C3F45E802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63D77-7E9A-4ABF-8271-6ED2F5E45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3B4D1-0E5E-492B-9F5E-D91FB4D7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F3BB2-0D71-4FD6-92BF-2845EC28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E289E-4058-43E8-B0F0-3772823AF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C2645-7E70-4B6E-8B4C-CCE986599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F9E36-3542-480C-ABF6-E30F01B13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A5C39-F038-4672-88D0-31BE3F431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EA8BB-8C85-4352-9FAB-5A22A5447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F9AFB-70C9-4DB5-9B4E-4D6055F43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CB59-1C41-41D4-93C9-F37044B3C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BEEAF-11B4-4CE5-A578-BCB2BB4F9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EFC85-4716-43E5-9A59-3B01C646D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E2D60-677D-4AEE-840E-9C1E2171E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86DB1-B707-42B3-A2CF-83DDD057E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65CBC-7E40-4D08-BA29-C2DCB31AB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862D1-F970-4657-B1E0-96F9C1B8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92665-676A-4242-80E3-A83D25E71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BAAE1-D89F-40BE-83EF-B06F42F2C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9CF99-E987-4404-AE9B-A21F4898E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E45227-EB9F-466D-BE11-739B71A94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6E11-4DFD-48CF-B2D0-B8D174674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0545E-8E30-4D56-8F06-281BF046E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1851E-B981-4C2D-9A73-3F4C901B5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C1D07B-C83D-4FB2-8584-DB6699AB6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26DB27-1086-4894-90DB-FD53ABA12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51BFFB-3E1C-4B89-AF12-3EA75A1CC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4BB920-5754-42AB-87DA-1B718751C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E06E7-2F08-4A2D-81FA-6DF93D2F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840262-44FF-4113-A6B5-D9E8640EC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587FF7-F3C1-4903-BBD3-E28E3A3EB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A0F25-78FF-4276-A265-9E53088DF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E56F-9E76-4141-B31F-476375D16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20607C-837F-4B22-A11B-8632F82BD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CA3CDC-8DF8-4584-B1D7-AEBC64A71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4BD0EC-1C18-4AF3-B59B-6F7043624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09D948-A2C7-436F-80DB-1A203B8E5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FA6CCD-E1F1-46E9-9BE9-4CB1201FF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249961-A1B2-499E-8E36-E792BE016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F4C5E1-9F13-4134-9AD7-AA8DF1DFC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149CF3-985E-4BF7-9C93-B37FA68D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1984DA-474E-47C8-9A75-892B95409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13E57D-40D0-44C9-8FFF-E58F295B6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0467-E21F-4492-8B4A-32B86F5E7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28EB1-1211-43C7-BA47-5B7D741E0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267ABF-B45C-4CBD-9030-A5A021429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CFF5A0-DE67-4A58-B0FB-AD265474C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AD59E-942B-4A17-96F3-AF6E0A237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6E4488-CF22-4001-A361-4E22C915D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F92A16-D51A-4FFB-9236-697665157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90A9F8-0A68-4FEF-B943-4A5BA94B4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C91EE4-821E-4FB5-9164-19A5CC95C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5C71E9-5E5B-448D-9FB7-BE5FF5F56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A9225B-1391-496C-A8A2-BF374244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4578-9840-4255-B9F4-37E2B804E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488499-2A7C-40A1-9111-544A360E0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0227A1-630E-46DC-BEB5-09889869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C6F24D-C890-46E4-812D-981F9F510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988432-A2BB-4E61-B945-1A7716A19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75EA2B-4527-4F19-B045-7477E76A8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D007-DB42-44C6-B3E2-B825A05B6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7A54E-4D1B-4E39-AF79-FB0ADBF5DA8D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B36B3-7B5B-4770-A2E0-ABDC4AB0EC2B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78F73-7411-42EC-876D-C8A55998D84D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029FA-A14D-4E64-9F8C-0B5833245EBE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183E1-9893-4F1A-AB2A-C2C9ACF2C7A6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AEEA6-B95B-47B4-8F41-85E0849CF43C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DABA9-64B3-4F10-A910-73F524F05C58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verpleegtechniekinbeeld.nl/secure/vib/tracheacanule14_uitzuigen_introductie74.html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Zorg voor de ademhaling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ndara"/>
              </a:rPr>
              <a:t>Uitzuigen van een Tracheastoma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ndara"/>
              </a:rPr>
              <a:t>Verzorgen van een Trachea stomie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Verzorging: filmpj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Aandachtspunten verzorging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Maken: Pag. 17 Wet Big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Vr 1 t/m 9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Wet Big: hoe zit dit ook al weer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31b6f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Wordt aangelegd bij een dreigende afsluiting of vernauwing van de luchtpijp. Is blijvend of tijdelijk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buClr>
                <a:srgbClr val="31b6f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Een tracheacanule is een buisje dat bij een tracheastoma en een tracheotomie wordt ingebracht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buClr>
                <a:srgbClr val="31b6f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Het zorgt ervoor dat de opening in de luchtpijp open blijft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Tracheostomi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Tracheastoma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2" name="Picture 4" descr=""/>
          <p:cNvPicPr/>
          <p:nvPr/>
        </p:nvPicPr>
        <p:blipFill>
          <a:blip r:embed="rId1"/>
          <a:stretch/>
        </p:blipFill>
        <p:spPr>
          <a:xfrm>
            <a:off x="1692360" y="1809720"/>
            <a:ext cx="388764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4" name="Picture 2" descr=""/>
          <p:cNvPicPr/>
          <p:nvPr/>
        </p:nvPicPr>
        <p:blipFill>
          <a:blip r:embed="rId1"/>
          <a:stretch/>
        </p:blipFill>
        <p:spPr>
          <a:xfrm>
            <a:off x="1547640" y="1484280"/>
            <a:ext cx="6243840" cy="46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46836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Een tracheacanule kan met of zonder binnencanule zijn uitgevoerd. De binnencanule wordt gebruikt omdat hij makkelijk te reinigen is. Hij wordt daartoe regelmatig uit de buitencanule gehaald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Na het reinigen van de bovenste luchtwegen(bronchiaal toilet) dient het slot goed vastgedraaid te worden en de buitencanule zo min mogelijk bewogen. Dit geeft extra hoestprikkels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ndara"/>
              </a:rPr>
              <a:t>Via een tracheacanule kan de zorgvrager ademen en hoesten of beademd worden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Het uitzuigen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Het reinigen van de binnencanul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Verzorging van de insteekopening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Verzorging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Uitzuigen via de tracheacanule is noodzakelijk bij zorgvragers die </a:t>
            </a:r>
            <a:r>
              <a:rPr b="0" lang="nl-NL" sz="2400" spc="-1" strike="noStrike" u="sng">
                <a:solidFill>
                  <a:srgbClr val="0080ff"/>
                </a:solidFill>
                <a:uFillTx/>
                <a:latin typeface="Candara"/>
                <a:hlinkClick r:id="rId1"/>
              </a:rPr>
              <a:t>niet</a:t>
            </a: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 of onvoldoende in staat zijn om het sputum op te hoesten, bijvoorbeeld na een operatie, bij beademing of bij comateuze zorgvrager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Aandachtspunten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Uitzuigen van een tracheastoma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Afmeten Canule met slang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Niet zuigend de uitzuigslang inbrengen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Stopteken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Denk om prikkeling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Aandachtspunten Uitzuigen van de tracheastoma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8T13:27:49Z</dcterms:created>
  <dc:creator>Rina</dc:creator>
  <dc:description/>
  <dc:language>en-US</dc:language>
  <cp:lastModifiedBy>A.R. Niemeijer</cp:lastModifiedBy>
  <dcterms:modified xsi:type="dcterms:W3CDTF">2016-12-07T08:07:04Z</dcterms:modified>
  <cp:revision>16</cp:revision>
  <dc:subject/>
  <dc:title>De ademhaling:</dc:title>
</cp:coreProperties>
</file>