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BC6-F875-459F-8932-C24AF1D1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E96-92F9-484C-A508-00E78248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532-1DA0-404A-9E2B-EE683526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BEC-562B-44CD-9F11-FCDD9EA1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3302-A836-44F4-88E4-C9C54F70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3512-CD87-4EE8-9A1C-A2CB7B6A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34A1-0F8F-4811-919F-2F8199BB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77B2-867A-451B-837D-A7AB98C9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B3B3-ECF6-4B5B-B1D1-5EC7F83F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C95D-D5A8-4532-9493-B11CE7B1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0094-D7A5-484F-B487-7B52F28C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47EF-0AC6-48CD-8635-5A702073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03F9-A680-4E2B-AF4F-71C42FF6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5B9C-36CB-49CA-93FF-2D751CC4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BB00-F63F-4A70-9457-7133115C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036B-0CA4-4AA3-8E49-5F2D4E76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8763-71BE-4D91-96CA-1F772790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9BA6-052E-493F-A109-D4D173AE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2DF0-4788-4932-B9FB-892F8490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338F-511D-4FB2-9288-5B6D3520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D815-D49C-47B3-B815-008EF327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F35A-E317-48E9-807A-32ABD36F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0F9-FCD7-4BD1-9AB0-79BC8650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8CADB-24BE-4B2D-B837-8F1F9EEF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0F888-03E7-4266-B303-E347340F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CB522-0E61-4444-90BF-EA9A5922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B270-CCBB-4737-83EF-7472DDE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5369-1FCC-44DE-9EDB-1D8E57CE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31A47-8BF0-4929-8C04-BE4833A5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7486E-DA69-47D5-91FB-32016680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74D83-D8E2-4578-BD44-272E29FB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CCC1-FA30-4325-836E-09CF937E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C7B2-2CE4-4E4A-8EE4-0C31EA3F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5D6-3999-41FA-9E0B-15B9F031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9815F-3178-4982-B38F-BA6D3F69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4A5E-5529-4308-B507-B75888A4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8B08-406B-4090-9D01-05AAC468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D61F9-B5E2-4358-B2DA-CB5595D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58F48-89A7-45BB-BF70-54AAD9D8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E2526-00D7-4E77-BE78-FFE5EB76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2DBA7-F941-4B44-9EC3-123BD193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0CDE1-9058-4679-B0CC-423254EC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72E56-52BC-4F26-8FDC-C110C6A9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7763F-C5EC-412C-85C8-2C3E4A01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BD7-4D7E-4A37-A3C7-D71C5F8E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FECA9-C75B-442E-AC9F-F5A29D62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EE748-40A8-4108-8179-E395B7FC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40926-45BC-441C-A00B-10A0B0C8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60F92-A909-465B-899F-EDF293E4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91230-BC99-402A-8A96-2B0E84FE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19DF3-CD74-4281-95FB-81EB5948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7F0EB-4776-4250-A6A0-BF7E2694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074DD-48AD-40AC-AFCF-9532FFD8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46326-1E31-4126-9F90-90A4E3F6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2649A-A960-4E35-835E-A89235B1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AEB-4AE1-493A-BD6C-3A1BBE42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DD7B1-0EB1-4BD7-A09E-D5E40952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B63DF-DA5D-4CFA-8C59-1561AABD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E6563-8656-471C-A4FF-EE9A53F5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BB663-6D82-46A3-999C-33E58A91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A8DA0-B380-4E85-8B80-E90477EF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9BD1E-CE46-405A-8F06-FE6F5F3C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02794-CA7A-4813-9D1B-0CE5FBCF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D68DF-7FED-4BDF-8FFD-A4A5D82C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F8A79-F0CC-4E0C-AF4A-D68378D6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34673-D5D4-49D8-8C1B-3EC84F90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48E-AA3D-4BE7-998D-A3BCA790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74EBA-BA00-4BAD-8311-223E08EF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CE74C-773A-483C-A75F-8765F5A5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7E32A-1569-41DE-A508-C44ED284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9E0E5-BC10-4D49-A6CB-5AB57C9D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C143F-372B-46F5-B173-11941782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65D8D-B567-4333-BBBA-1B5C27D7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23429-DD47-45E3-9599-1C48DFDD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0C4A1-C3A4-436F-8016-10074193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63436-A344-43C5-8FE4-803414C2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5EE64-B743-4C2A-BB56-970D7C99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B86-684B-4C46-8A58-16CA713F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31528-DD1B-4DF1-AC98-3A5E0062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3C393-C17D-4CCE-86FB-7366AFC8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45028-F83C-446E-9016-FCC2AF23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6A5D2-4B9F-4308-B7C7-B573F00A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863A2-D57E-4C17-9B60-1F95E427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41D-D086-488C-A825-184294D5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623E-8F0A-4468-A3EB-8DDDBFCB50C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1D05-56D2-428C-AFBE-8B2BB4AD508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54B2-98C9-4C64-AE2B-73357440D89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86E0-AC7D-4CF9-8CCA-0E2A024AB61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D868-B6F1-45FD-AE7F-DEDC4690DAB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B11C-67C7-4FAF-9884-88A6D3254A3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8BF7-FA7B-40CD-87D7-2FCDA32CA78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erpleegtechniekinbeeld.nl/secure/vib/tracheacanule14_uitzuigen_introductie74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erzorgen van een Trachea stomie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: filmpj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verzorg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Maken: Pag. 17 Wet Bi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r 1 t/m 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et Big: hoe zit dit ook al weer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Wordt aangelegd bij een dreigende afsluiting of vernauwing van de luchtpijp. Is blijvend of tijdelijk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is een buisje dat bij een tracheastoma en een tracheotomie wordt ingebrach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zorgt ervoor dat de opening in de luchtpijp open blijf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ostomi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38876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438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Een tracheacanule kan met of zonder binnencanule zijn uitgevoerd. De binnencanule wordt gebruikt omdat hij makkelijk te reinigen is. Hij wordt daartoe regelmatig uit de buitencanule gehaald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a het reinigen van de bovenste luchtwegen(bronchiaal toilet) dient het slot goed vastgedraaid te worden en de buitencanule zo min mogelijk bewogen. Dit geeft extra hoestprikkel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Via een tracheacanule kan de zorgvrager ademen en hoesten of beademd worden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uitzuige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Het reinigen van de binnencanul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Verzorging van de insteekopen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Verzorg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Uitzuigen via de tracheacanule is noodzakelijk bij zorgvragers die </a:t>
            </a:r>
            <a:r>
              <a:rPr b="0" lang="nl-NL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niet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 of onvoldoende in staat zijn om het sputum op te hoesten, bijvoorbeeld na een operatie, bij beademing of bij comateuze zorgvrag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andachtspunten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een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Afmeten Canule met sla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Niet zuigend de uitzuigslang inbreng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topteke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Denk om prikkel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Aandachtspunten Uitzuigen van de tracheasto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8:07:04Z</dcterms:modified>
  <cp:revision>16</cp:revision>
  <dc:subject/>
  <dc:title>De ademhaling:</dc:title>
</cp:coreProperties>
</file>