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CB8-929C-4D70-835A-42D57665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161-6527-44DB-BFC7-A818141B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C50-3F2B-46F4-A7A8-675AEECC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1FD-603C-4D90-AC98-11711AD0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22E6-92D5-476B-926D-4688E458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6677-6AC4-4B21-A14A-8BC8AD56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DEC5-9390-401E-AAB5-F45E0FB5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DA8A-1C32-4B96-983E-E480B2AB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FABF-26B0-4143-AEBF-5FF88997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B73A-1886-4855-8361-12E1FBC8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E85F-DD1A-44A0-BF40-976E459C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4C35-8218-459D-B683-0A7BC8F6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7356-D04D-4C8D-89D5-D2F789DF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49F5-EF79-4841-A08D-932876CA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A10C-C708-481E-AED1-628993B9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1779-B9B7-47BF-B5A1-721EF697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5C77-7FBB-4F17-87E8-B10CF696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11B2-2866-450E-9EC6-1E8DCDAA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F6EBA-0BFA-4546-AA7F-EF2C03A8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F429F-60D5-4B6B-8F7C-9E6C2A50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4C826-CBD9-439A-AC2C-F1620F1B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065DB-18FD-4C92-9CEC-805144A2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497A-D96C-4742-A49D-FB24128F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E0EAB-9F00-4AA4-AA6E-3A279580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8B3A1-80D4-42D5-BA2C-A054434F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5FF4E-4C83-4737-888D-B828E151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6D8A4-A373-46A5-B699-8EC8C96C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BDC8A-F54B-4BD3-8B94-3CD7714B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BC864-777E-4B92-8CB0-41441024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8BCC1-6C0B-45BF-BFAC-FC31D03F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1FFEF-1455-425D-8805-02AFC717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25C4B-6762-42FF-8A9B-7C961EC4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729E3-372D-43CD-B395-255A1D02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E86-4F75-4B35-B75B-A8CB32C5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A95FE-F0EB-46E5-9DC0-ECE50B5F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3126B-BC85-4444-A7EA-98BCDF7E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4B6FF-B61D-49E0-96B1-B33EE700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D5475-C2C5-4555-8404-05948E52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93BCE-2FB3-4A2F-90E1-C031A656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D8F7B-F17C-45CD-ACEF-AABE4E44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F5EC7-BC07-45DC-AAE7-B2D82174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2C82C-5B8E-4EDA-92CA-7F58A3A3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95A69-507F-4935-A966-16F9149A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B8B35-C1E4-44CD-9BA3-28BF1F4A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48C-C1BF-4AC0-A62B-6611FCEF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BF735-B226-40F7-9427-92E7A5FA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A5067-B59C-4472-8D25-E1EED63E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6DEC1-13F0-4467-8E04-0663AB63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0C0B4-1EFF-493F-A8FD-2BF29941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24D15-A17B-4C38-A2F0-B357AAE0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EDE86-206C-45FA-9AA5-6136E73A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E4A54-5C59-4C2E-B186-01F73146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7E40E-0A44-4684-9185-3DC7AB36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7C632-229E-4401-987E-7219336C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B90A2-FA82-4F73-9F36-E7ECE489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EB9-ACF1-43CB-A68D-7A8DBCA4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E0110-66BE-4862-807E-A2FC3418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7090C-6D5A-4D45-B95A-4D9FAF79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96DFC-73B5-452C-8EE7-E6C95B39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B8597-5236-4EE6-BAE3-319A1216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897D2-DF67-4150-88A0-C79D37F6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1163C-D382-4803-BB5C-C96B91B9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0472E-0402-44F7-9539-46E8C345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90FF7-E4D5-4EF5-8075-52C740BB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3F7A7-D74A-4057-9FB4-6CCCF0EC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38ED1-3A37-48CB-BE5A-30D2F9D4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D8F-A0B5-42AA-A1B2-DC05B33F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741CE-E564-4B76-A3CC-C24AD92B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6B823-663B-417A-8C0E-9F2E4A4A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9F82C-0E79-4369-B040-9B8AF8D0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3529B-8855-41D7-8654-EA22753F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EE78A-A673-4028-A70A-24310D9B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1C301-FB5B-4612-A909-C44662C3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C76C3-B973-4D0D-98F0-544B538B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CA4FD-0DA2-486F-AD04-7E9036B5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17376-9696-49E3-92A3-7BF94587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5D71B-A855-476B-BE12-F1B49F27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67B-03CA-4A45-BB8C-33C5B973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0250C-4FB5-4ABC-A52F-FCFD84B2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5B200-037F-4197-9541-3BEC88E9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5C747-1990-4A1B-BBE1-41D57324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20CA2-BD27-4F53-99EA-8B34262E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52AF4-CCCE-4259-BFC5-74065AE4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244-7FE7-43A2-9D6C-4DB98647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B6AB-0C75-4E78-B3B1-3CB3F93004D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2D9E-6958-480D-9C08-F8E3F38E4A6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9E7B-C327-40B4-8877-8568CB5BD9C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5E74-99E3-4E09-918E-8EAB3AE90FE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789E-A5ED-4BAC-8ED7-3F2C0D41625F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04D2-C1A1-4872-9EA4-4F00A50B267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543C-E8A7-4A24-A48B-F9C363680B4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erpleegtechniekinbeeld.nl/secure/vib/tracheacanule14_uitzuigen_introductie74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erzorgen van een Trachea stomie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: filmpj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verzorg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ken: Pag. 17 Wet Bi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r 1 t/m 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et Big: hoe zit dit ook al wee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ordt aangelegd bij een dreigende afsluiting of vernauwing van de luchtpijp. Is blijvend of tijdelijk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is een buisje dat bij een tracheastoma en een tracheotomie wordt ingebrach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zorgt ervoor dat de opening in de luchtpijp open blijft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ostomi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1692360" y="1809720"/>
            <a:ext cx="38876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2438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kan met of zonder binnencanule zijn uitgevoerd. De binnencanule wordt gebruikt omdat hij makkelijk te reinigen is. Hij wordt daartoe regelmatig uit de buitencanule gehaald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 het reinigen van de bovenste luchtwegen(bronchiaal toilet) dient het slot goed vastgedraaid te worden en de buitencanule zo min mogelijk bewogen. Dit geeft extra hoestprikkel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ia een tracheacanule kan de zorgvrager ademen en hoesten of beademd worden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uitzuige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reinigen van de binnencanu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 van de insteekopen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zorg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itzuigen via de tracheacanule is noodzakelijk bij zorgvragers die </a:t>
            </a:r>
            <a:r>
              <a:rPr b="0" lang="nl-NL" sz="2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niet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 of onvoldoende in staat zijn om het sputum op te hoesten, bijvoorbeeld na een operatie, bij beademing of bij comateuze zorgvrag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andachtspunte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fmeten Canule met sla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iet zuigend de uitzuigslang inbreng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toptek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nk om prikke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Uitzuigen van de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8:07:04Z</dcterms:modified>
  <cp:revision>16</cp:revision>
  <dc:subject/>
  <dc:title>De ademhaling:</dc:title>
</cp:coreProperties>
</file>