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9055-25FA-465D-B45E-11FD5B2D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8702-4850-4A32-A4AC-7356618E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FDC8-FC6F-4DC7-AE24-D5275766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E444-1B5A-4555-8C76-D710A794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3238-2A1C-45FA-8B76-EE1F70BA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F4D4-57E8-4FBB-918C-1DD88208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6B3B-75A5-4ECE-B16B-4A8C3872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B06B-9505-48A5-9B74-4707CB0E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2426-797D-4796-8A95-7D2C3518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5B60-CF97-4A2D-805E-B050FF1F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0E2D-8FFF-4ADC-ABE8-815DE5C6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6800-5B48-4369-934B-EA7EDEA1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34A4-0611-4BFB-9996-439B8B64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E9D3-C095-4180-A2CB-0CEAF770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7845-5B9B-4235-95CF-EA55E6EB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6E26-14E2-4F53-92CF-970A11DF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D2DD-115F-4CA7-93E1-FDD9CBB2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9389F-9D23-4C3B-A75B-22603D7D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6E210-3470-462F-BFA7-0C5D61A0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2DE19-A04C-49F1-9149-C07D1A77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3215E-3574-4BD3-BD2B-9BECDE78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A65BF-A2CB-42AE-9010-44F01D30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6B30-493E-4DCD-9F0C-760301DC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F2E3B-8810-4BFF-94A4-A66BF6BB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EFD1E-6DBF-4675-8AD9-D30D4348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11DBB-56F7-4E41-BAAF-945D6F76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3626B-4866-40A3-944F-85257ECC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37F9B-D8E6-4D41-AB00-33B69422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270CF-3DC0-41E4-8763-B817D712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7882B-562B-462F-A0B9-FB807EF5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CD2A8-53B7-42FA-B11F-6D41FCBC7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FF3BF-30CC-4345-96F1-03D517FB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FE40B-8CFC-4BE2-ACF4-989D492F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49BB-B7EA-4E07-BA05-971D9BF1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FEC4A-3A0E-410D-9DA4-B553928A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A28C0-2808-4061-A500-CD435A46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0A596-E22B-48EB-8EAB-06ACFC55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A90E6-054E-4C99-A4FC-F94EB7E9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27FB4-DF91-4D9F-A90F-B552E666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95170-01D8-4FB5-9546-793370B5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3A3B7-44CC-4B48-99FD-4D3B3D05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4546D-7F31-4AE2-A328-33E24557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357B5-14A8-4BAA-99BD-A8572931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BA4EF-2977-49A5-A746-05B89CC2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3390-CB17-41AD-A708-A1ACE991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96EC2-0DD0-4888-8D5D-6584A414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721F9-4B16-4FB9-8D67-677660A8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F0EB6-FAD5-49E1-B805-49CD3255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FBB61-EE12-49A4-8CB1-822E237C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2FEEA-E021-4106-9C58-E3440A89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388DB-42A6-416E-B5C4-2205B825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BB1C7-0837-4E5E-BCBC-C13D2B00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42D1C-BF29-46F7-AAE0-0A4B7637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63218-EA76-49AD-9BD4-8BCF76F2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F77BE-0971-4E95-8A33-4BB918DB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8CCC-12BF-4675-9362-3A2166DE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0C0D8-78F1-4556-9D27-3A4723A6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32A52-595B-4089-8A66-0AE9336F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3BDBF-5DB2-4C68-89CA-809E72DF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91405-6B9B-4F5F-97F3-68D3C166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77B89-DE0E-4518-886A-50DF29DD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57AFE-979D-49DC-BF46-5EBD12C3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A7366-B4C5-44A4-8802-A740D7CE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C9521-3C08-48EE-B3FB-55053955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DDAAF-69B8-4D44-A1B6-FE34C1B6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8249C-1A85-41B8-82BA-088C2AEC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7465-1765-41EA-99F3-5AD3A721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48622-6A2B-4DB1-9492-B8E661A0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47A1A-E40B-4998-AE6A-B450495E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713BF-7481-4EEE-8E01-D05EC952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83209-B6F7-4D4B-BC8E-4A43FCF9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32BF7-FED5-4A13-9158-092938B1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48C2A-0717-414C-A955-717C113C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CAAF7-7A71-4429-8500-087FEBD9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3C529-BEB5-4349-B7B4-6735E7BD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841F2-24BC-4024-B54A-552F601B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5CE68-9F35-4ECA-AC02-EB76FEE8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67B2-6CCB-4BEE-A2BF-C8AD2FBB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17D15-C39B-4E34-8250-08CD67CF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B0125-1ACC-463C-8269-E9F74EA2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EAACC-5409-4EBD-95B8-7C3EBDD5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0D12D-DA0D-4191-A0F3-05B3799B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A35DA-6DD4-4FA9-BD44-E9337873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1E1B-F8D8-445C-A2BA-CE4A4AEC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9C71-2E7F-4540-A0E4-648656B03F21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1756-4BB8-4495-A45D-30D59DB79A06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A60A-A91E-41D6-9A40-70CF3D9A56E6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EA0A-CE11-48AD-AD80-9E90720F550E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ECCA-8A22-46FA-A5D2-C35B463F9C5F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2D28-976F-411F-ADA8-62E4BD730068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A102-DB7F-4091-91EA-BD5696432432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verpleegtechniekinbeeld.nl/secure/vib/tracheacanule14_uitzuigen_introductie74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van een Tracheastom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Verzorgen van een Trachea stomie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zorging: filmpj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Aandachtspunten verzorgin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aken: Pag. 17 Wet Bi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r 1 t/m 9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et Big: hoe zit dit ook al wee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ordt aangelegd bij een dreigende afsluiting of vernauwing van de luchtpijp. Is blijvend of tijdelijk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en tracheacanule is een buisje dat bij een tracheastoma en een tracheotomie wordt ingebracht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zorgt ervoor dat de opening in de luchtpijp open blijft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Tracheostomi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1692360" y="1809720"/>
            <a:ext cx="388764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24384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en tracheacanule kan met of zonder binnencanule zijn uitgevoerd. De binnencanule wordt gebruikt omdat hij makkelijk te reinigen is. Hij wordt daartoe regelmatig uit de buitencanule gehaald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a het reinigen van de bovenste luchtwegen(bronchiaal toilet) dient het slot goed vastgedraaid te worden en de buitencanule zo min mogelijk bewogen. Dit geeft extra hoestprikkel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Via een tracheacanule kan de zorgvrager ademen en hoesten of beademd worden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uitzuigen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reinigen van de binnencanul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zorging van de insteekopen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Verzorg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Uitzuigen via de tracheacanule is noodzakelijk bij zorgvragers die </a:t>
            </a:r>
            <a:r>
              <a:rPr b="0" lang="nl-NL" sz="24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niet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 of onvoldoende in staat zijn om het sputum op te hoesten, bijvoorbeeld na een operatie, bij beademing of bij comateuze zorgvrage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andachtspunten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een 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fmeten Canule met sla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iet zuigend de uitzuigslang inbreng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toptek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Denk om prikkel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Aandachtspunten Uitzuigen van de 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8:07:04Z</dcterms:modified>
  <cp:revision>16</cp:revision>
  <dc:subject/>
  <dc:title>De ademhaling:</dc:title>
</cp:coreProperties>
</file>