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5619-DB20-4DE8-BCE5-02008AF28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4389-9905-4C67-9033-641731748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54C3-EE25-4F70-981B-4F441449B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279F-CC3C-49B1-BD6D-F38D0265A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42A3C-7A31-4BB8-9693-E213BFB53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5B80E-BBD2-40C1-A6C9-D78DDBB38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2A436-509D-4ADD-B105-14883CC5D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03E06-806F-4B38-89F7-841556016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9C1BE-0FFA-42DA-ACBA-9F86CB927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A3DF8-60DF-4DC9-8257-9BFA12220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1F4CB-5BD1-4EEB-96AF-2EF88EF9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4341-42F2-4124-9CED-7D9C9284F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88F1B-EB07-4C57-B50D-88C69D53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85F08-CD21-46CA-9742-41B8EB64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2EB82-5598-479E-99D2-1F83FDCD0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FD5EF-AA58-457B-9B81-E7B4341B7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3E644-45F2-44BD-B09A-7891DD69C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34EC5-7400-4A86-9BB2-74A326826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3D56D-FFBB-4445-887B-56FF7DDE8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2404C-2502-420C-9055-4A49459FA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8F53A-17D8-4FE7-9DD0-39C21A78A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3C99E-291B-4C5B-AB86-AEF8E589B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4BCF-D51C-48F6-B087-CBDC599E8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75729-588D-40CA-BD3E-FC6984E05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27F7D-B8F2-47BA-B362-D584D50D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A8542-B183-4861-8D13-E109AFB8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FE58C-59E4-4CAC-9A21-FAE13F69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28479-934D-416C-BC9E-0E32BAC1A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5B43A-AA41-4809-99AB-AADC61E8A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93D29-3615-4597-A7A0-4200C3A78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D6B12-DF37-474B-ADAC-9D813B3A5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D400B-0325-4420-8ED8-6C3445B7C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8CCC7-68B7-4DE8-8B76-46A804D31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21FB-8529-4064-A74C-96462D889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9EB0A-BF7C-4741-89A3-7FF3BA6DC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18DB2-4A21-4D1E-B70E-D493ADA1C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9D341-B5BD-473D-B969-0D346C20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932A1-0980-4D1D-9CE4-E572A977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DC5BD-22CA-4430-A78E-B9A0D99E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F26DA-6B66-4D75-B112-81E033B2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E19D4-A056-441C-A5FA-D90A3006A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660E1-EBC4-4E67-BC6D-68574D574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BE837-7332-453D-A6DB-861A9B34F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B0519-10AF-45F1-8A49-F36851E57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5AB6-0CBC-4FE9-B23B-7DA6D44E8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65E2A-EF4B-46BC-AD5F-16E5950A3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57DC6-A379-4D6C-A545-572C0648E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EFBD5-124C-4A91-8B05-999A123F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FE230-B573-45DA-8F91-CD20C1E2E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F54B7-DC41-454E-AF0B-9A7A0E76C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56D38-66BB-4E6F-A56E-03BB2C62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49340-7A84-43C5-9885-6DEC007A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19AB7-0AF2-421C-81BA-68E42BDE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F4B03-9015-4DEB-ACEC-17E755150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FDE8D-6143-4114-9244-BF27EA34A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1A47-C332-40BA-A4B9-6FA6A998C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D05FC-65FE-4C2A-859D-3D38AC15B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15D58-E9DF-4F9C-AD35-4B9A3B8EE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FC8BC5-73D0-4C0D-B7FF-C62F13813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3E7B2-AB6E-4FC7-BC7C-6D8153A45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AACB6-DA4D-4070-ABC1-FAF48FB77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AF66D-B4A5-4367-89BB-0A245964C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8BB569-1B0F-48ED-9561-25396A905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C5BD5B-B300-41D4-B08B-3D7A5844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FF6FFA-7FF6-4977-9F2A-33C8E973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BDBC1-3E6F-4C1A-A661-3592B3C9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71D7-4716-43FF-B06E-72EE0C71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1ED8A-3D01-457F-A5A1-9872C534E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8AD3D-36E6-44BE-9D10-98A0662AA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81166-31B8-41A5-A456-915A3AA4C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1AC8A-7BDD-4D9D-BE09-19C375560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5B334F-DA24-43C5-BF50-BA6A311AE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5206E-1054-461E-ACE9-76CBBCCC2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ED84A-8D12-4A2C-94A3-0612412C6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7EBB3E-3A0C-43F5-9742-CC58E7B75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E94BB-0856-4251-B3D9-301388360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72D31-9615-47DF-8020-46013B3B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4CB3-C991-42C3-9979-32F81807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748AA-CE2B-4D1D-BFBA-A4D4361E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C6717C-D3A7-48F3-9548-32E3539C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AE389-041C-4F7A-83EB-729071DE5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35ABF-9239-4856-851F-06D59B9B6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9B46C7-8DD5-4EBD-8BCC-C1331FD21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6F28-1E06-4EDC-AD19-A96A220C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E8710-91AA-4FE8-A76B-4B2823AB55EA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03C95-D428-4748-99C8-3B3487F3F826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099E2-6BD0-4450-805E-129024A9842A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20C00-0272-4DF1-A5AF-ABB3DDF1571E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343EE-E54A-4EE9-A24A-16B3543B4231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2FBA4-DCAD-4476-A770-E7ED7C5D3ED0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AD48-5B9C-41A8-94E2-99580C08205C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Zorg voor de ademhaling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ndara"/>
              </a:rPr>
              <a:t>Uitzuigen Mond Keel en Neus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39" name="Picture 5" descr="lgn01"/>
          <p:cNvPicPr/>
          <p:nvPr/>
        </p:nvPicPr>
        <p:blipFill>
          <a:blip r:embed="rId1"/>
          <a:stretch/>
        </p:blipFill>
        <p:spPr>
          <a:xfrm>
            <a:off x="1763640" y="1413000"/>
            <a:ext cx="5327640" cy="44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2" name="Picture 5" descr="external image tekening_longinhoud3.jpg"/>
          <p:cNvPicPr/>
          <p:nvPr/>
        </p:nvPicPr>
        <p:blipFill>
          <a:blip r:embed="rId1"/>
          <a:stretch/>
        </p:blipFill>
        <p:spPr>
          <a:xfrm>
            <a:off x="2771640" y="1413000"/>
            <a:ext cx="3459240" cy="37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9280" y="1773000"/>
            <a:ext cx="7480440" cy="44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73e87"/>
                </a:solidFill>
                <a:latin typeface="Candara"/>
              </a:rPr>
              <a:t>Wanneer en waarom ga je uitzuigen van de mond/neus keel holte?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Utzuigen van de mond neus keelholt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5" name="Picture 3" descr=""/>
          <p:cNvPicPr/>
          <p:nvPr/>
        </p:nvPicPr>
        <p:blipFill>
          <a:blip r:embed="rId1"/>
          <a:stretch/>
        </p:blipFill>
        <p:spPr>
          <a:xfrm>
            <a:off x="2556000" y="2997360"/>
            <a:ext cx="414000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Als een zorgvrager niet in staat is om zelf slijm / sputum op te hoesten, kan dat via de mond of neus worden uitgezogen.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Het uitzuigen dient twee doeleinden: </a:t>
            </a:r>
            <a:br>
              <a:rPr sz="2800"/>
            </a:b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-het vrijhouden van de luchtwegen</a:t>
            </a:r>
            <a:br>
              <a:rPr sz="2800"/>
            </a:b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-het voorkomen van luchtweginfecties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Uitzuigen van de mond/keel-neusholt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putumophoping voorkomen / verwijderen 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          </a:t>
            </a: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in de neus of mond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de gasuitwisseling verbeteren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sputum verkrijgen voor onderzoek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aspiratie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bloeding in de mond / keelholt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826920" y="2060280"/>
            <a:ext cx="745344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Controleer altijd de zuigkrach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 niet zuigend in  de neu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 niet zuigend in de mon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poel de zuigkatheter door met water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5867280" y="4437000"/>
            <a:ext cx="275904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Controleer altijd de zuigkrach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 niet zuigend in  de neu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 niet zuigend in de mon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poel de zuigkatheter door met water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ndara"/>
              </a:rPr>
              <a:t>Aandachtspunten bij het uitzuigen: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8T13:27:49Z</dcterms:created>
  <dc:creator>Rina</dc:creator>
  <dc:description/>
  <dc:language>en-US</dc:language>
  <cp:lastModifiedBy>A.R. Niemeijer</cp:lastModifiedBy>
  <dcterms:modified xsi:type="dcterms:W3CDTF">2016-12-07T09:16:48Z</dcterms:modified>
  <cp:revision>13</cp:revision>
  <dc:subject/>
  <dc:title>De ademhaling:</dc:title>
</cp:coreProperties>
</file>