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D847-4D94-4BD5-B57E-798A74A204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0D225-35BF-47E3-ACCA-6377AE225FB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FC6-4AAA-4D67-86C0-8286422D8C0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3A4F-3483-4CAB-90B0-CB978C6844AA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EE79-6628-4CD6-95DD-03A41E0476D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9EF1-D00F-4615-BABE-C4D69BECC650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8FC7-FB66-4CFC-8B83-87F693BC1934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8CE71-7E88-44D0-A0D5-756EA59CCD5D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ECFB-9919-435F-927F-3DDDCA488593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48A0-408A-4DB2-88CC-61365C963567}" type="slidenum">
              <a:rPr b="0" lang="nl-N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48EA-FC87-42F6-ADAF-C82FEC0D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ADA-04A7-4A86-842D-B242C8D9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F3E-97A2-4D61-A631-FCD3BD66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DEE0-52A3-4377-923F-14E283CF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BFBB-B9CA-49E2-92C1-9165CAC5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F81-FDB2-4FB6-A523-659FCFDD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1C4-DE4C-4FED-B772-71C4C23B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665F-0B8A-47B3-B840-6D658A8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EE3D-82D8-4886-9D35-D2A0C88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F32F8-7687-44FA-9AF4-54E719BE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62FA-6883-4C38-BB95-68BFD7C2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763C-1171-4EA4-AD0F-82FB59F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06998-885B-458B-ABF7-F154E1F9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4151-7C34-4EA6-B812-74CC6F48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B9047-6FCD-4CC6-B169-519011B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B6E6-8BCA-4DA5-A77A-E70EC9321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63E1-1349-4040-9410-457A029C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66EE-A254-499D-8D83-0274C04E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546-E00F-4E69-9D50-F09BD46E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D76-5B4C-4342-A392-144DFC15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D58-A7BB-43C4-81A3-F3276632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DCF-7DEB-4DCE-A75E-D6812618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9EE-9355-4AD3-87E3-41402B2D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2A6-962B-4ECB-885C-9BC660E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0F4D-E032-4CC8-87A3-F3AB9CFD821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233F-19AE-438A-8EF1-552914DBE481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ccecff"/>
                </a:solidFill>
                <a:latin typeface="Arial"/>
              </a:rPr>
              <a:t>Intramusculair injectere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Contra indicati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schadigde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tstoken hu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emat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hu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mma amputatie met okselklier verwijd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gel van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naam en geboortedat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medicijn ( let op vervaldat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d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oedieningsv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Juiste tijd en aantal k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Techniek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ats desinf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ak met volle hand spierbun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Spier laten ontspann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Vlot loodrecht inject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Co niet in bloedvat z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(wordt niet altijd meer gedaa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Langzaam in spuit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Naald vlot e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Prikaccident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Nooit huls terug op de naa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bruik naalden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el jezelf op de hoogte, bij de instelling waar je werkt, hoe om te gaan met prikaccide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erekeningen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 ml =10 mg Phener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7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geef j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2 ml = 15 mg Hald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0 m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 voorraad: 1 ml= 5 mg Morf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ef 12,5 m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eveel ml zuig je o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= parenteraal toedienen medicijn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buiten spijsverteringskanaal o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Afbeelding 3" descr="injectie.jpg"/>
          <p:cNvPicPr/>
          <p:nvPr/>
        </p:nvPicPr>
        <p:blipFill>
          <a:blip r:embed="rId1"/>
          <a:stretch/>
        </p:blipFill>
        <p:spPr>
          <a:xfrm>
            <a:off x="5732640" y="4437000"/>
            <a:ext cx="214308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t BI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jecteren is een voorbehouden handel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 houdt dit in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an welke 4 voorwaarden moet voldaan worden als verpleegkundi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eskundigheid: voldoende scho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kwaamheid: erva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pdra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ogelijke tussenkomst van huisarts/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Redenen om te 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Snel (meteen) resulta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ijn onwerkzaam wordt gemaakt door één van de spijsverteringssapp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rale medicatie niet kan worden in geno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Patiënt geen orale medicatie wil innem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edicatie alleen in injectievorm verkrijgba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er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4 verschillende manieren van injecter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cutaan (i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ubcutaan (s.c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musculair (i.m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Intraveneus (i.v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SC_45_90_graden"/>
          <p:cNvPicPr/>
          <p:nvPr/>
        </p:nvPicPr>
        <p:blipFill>
          <a:blip r:embed="rId1"/>
          <a:stretch/>
        </p:blipFill>
        <p:spPr>
          <a:xfrm>
            <a:off x="4716360" y="2421000"/>
            <a:ext cx="4321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Injectie plaats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bilspier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musculus glutaeus maximu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ot, goed doorbloed, grote hvh toedie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bovenste, buitenste bilkwadra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omzeilt zenuwban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Arial"/>
              </a:rPr>
              <a:t>Grote hvh injectere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6012000" y="34448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Dijbee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rectus femor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venbeen in 3-en verdelen: middelste dee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e Vilans proto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"/>
              </a:rPr>
              <a:t>Bovenar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usculus deltoïd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 kleinere hv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v. Griepprik, vaccina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5900760" y="3645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E.H. Scheltens-Flink</cp:lastModifiedBy>
  <dcterms:modified xsi:type="dcterms:W3CDTF">2015-10-07T17:48:49Z</dcterms:modified>
  <cp:revision>25</cp:revision>
  <dc:subject/>
  <dc:title>Wet BIG</dc:title>
</cp:coreProperties>
</file>