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DE5A3-EAC1-4557-B802-9FD8BC11A27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CAC55-E822-42FD-A7ED-010B60A64234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347EA-B33A-41D3-847F-582ED264162D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7D3AC-B5AD-4A5A-A3C7-ED6DCAABE642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D83C2-6234-422B-96A1-2AC848950D63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F362D-D200-4432-A866-833B532687A9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EAA4F-F401-4913-88C7-BA1394CF97D7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91965-5773-4D7E-ADDC-312541C2A2CF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7CD93-6C81-4213-96B9-5E5CF420504E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ACA11-B284-4C04-A58E-9395B64381F4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C868-D286-4BF3-8498-992C9587A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FF5C-9360-49A4-BA5C-F1AA17EDE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A37C-16BE-4597-80AE-C7D603C6F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B464-82C2-4AC2-A25E-89FC35C75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9FC9F-EBF1-4FF6-879E-A3D91AD69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F7FD8-CEC2-4917-88E3-F93CFDA46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C0CFD-85D6-4B42-A4A8-0BB20A69A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2C8A6-4D5D-44DF-81F6-180FBE266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3C30F-A987-48B1-BB9F-0F79B35AA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DBDD6-3C65-482A-BCEA-77063EA34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BD33C-20E6-4435-BD67-EE4D9FB16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5821-51F9-4523-A114-65AC36498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83DDD-73B7-48D0-8CB1-1E25BC8DE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67DFB-9F06-4FE7-A2C0-05FCB163E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A307F-A1AA-49EC-9997-3319552C2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999C4-7FD3-4F98-A019-4682D43BF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F883E-70C9-4BCF-965A-64BCE3269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A2C6-875A-456A-A828-F4BC8661C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2223-E044-4E14-B747-0593EF1D1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E8DC-73DA-4201-8FA1-7CBA521A2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3855-0356-4DF2-8481-44B1A431C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6970-D70E-46BB-A640-30F82A03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7BC2-414A-4D78-8BF1-354BF6F7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D9A3-BA2D-4F11-B55D-24088198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249CF-677F-4247-AF3F-B16C54976F9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02DA6-92F2-4994-8325-0AEF1CD9222A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ccecff"/>
                </a:solidFill>
                <a:latin typeface="Arial"/>
              </a:rPr>
              <a:t>Intramusculair injectere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2225520" y="2968560"/>
            <a:ext cx="441972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Contra indicati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schadigde hu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ntstoken hu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emato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hu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amma amputatie met okselklier verwijd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Regel van 5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uiste naam en geboortedat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uiste medicijn ( let op vervaldatu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uiste d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uiste toedieningsv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uiste tijd en aantal k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Techniek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Plaats desinfecte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Pak met volle hand spierbun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Spier laten ontspann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Vlot loodrecht injecte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Co niet in bloedvat zi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(wordt niet altijd meer gedaa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Langzaam in spui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Naald vlot eru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Prikaccident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Nooit huls terug op de naa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bruik naaldencontain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tel jezelf op de hoogte, bij de instelling waar je werkt, hoe om te gaan met prikacciden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Berekeningen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 voorraa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1 ml =10 mg Phener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ef 7 m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oeveel ml geef j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 voorraa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2 ml = 15 mg Hald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ef 10 m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oeveel ml zuig je op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 voorraad: 1 ml= 5 mg Morf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ef 12,5 m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oeveel ml zuig je op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ject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= parenteraal toedienen medicij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(buiten spijsverteringskanaal o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Afbeelding 3" descr="injectie.jpg"/>
          <p:cNvPicPr/>
          <p:nvPr/>
        </p:nvPicPr>
        <p:blipFill>
          <a:blip r:embed="rId1"/>
          <a:stretch/>
        </p:blipFill>
        <p:spPr>
          <a:xfrm>
            <a:off x="5732640" y="4437000"/>
            <a:ext cx="214308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ject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t BI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jecteren is een voorbehouden handeling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at houdt dit in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an welke 4 voorwaarden moet voldaan worden als verpleegkundig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ject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eskundigheid: voldoende scho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kwaamheid: erva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pdrac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ogelijke tussenkomst van huisarts/a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Redenen om te inject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Snel (meteen) resulta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Medicijn onwerkzaam wordt gemaakt door één van de spijsverteringssapp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Orale medicatie niet kan worden in genom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Patiënt geen orale medicatie wil innem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Medicatie alleen in injectievorm verkrijgbaa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ject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4 verschillende manieren van injectere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tracutaan (i.c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ubcutaan (s.c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tramusculair (i.m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traveneus (i.v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8" descr="SC_45_90_graden"/>
          <p:cNvPicPr/>
          <p:nvPr/>
        </p:nvPicPr>
        <p:blipFill>
          <a:blip r:embed="rId1"/>
          <a:stretch/>
        </p:blipFill>
        <p:spPr>
          <a:xfrm>
            <a:off x="4716360" y="2421000"/>
            <a:ext cx="432144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jectie plaats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Grote bilspier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musculus glutaeus maximu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groot, goed doorbloed, grote hvh toedien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bovenste, buitenste bilkwadra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omzeilt zenuwban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Grote hvh injecter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5" descr=""/>
          <p:cNvPicPr/>
          <p:nvPr/>
        </p:nvPicPr>
        <p:blipFill>
          <a:blip r:embed="rId1"/>
          <a:stretch/>
        </p:blipFill>
        <p:spPr>
          <a:xfrm>
            <a:off x="6012000" y="3444840"/>
            <a:ext cx="264780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Dijbeen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usculus rectus femor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ovenbeen in 3-en verdelen: middelste dee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Zie Vilans protoc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Bovenar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usculus deltoïde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 kleinere hv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v. Griepprik, vaccina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5900760" y="3645000"/>
            <a:ext cx="265752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1:15:47Z</dcterms:created>
  <dc:creator>Rhea</dc:creator>
  <dc:description/>
  <dc:language>en-US</dc:language>
  <cp:lastModifiedBy>E.H. Scheltens-Flink</cp:lastModifiedBy>
  <dcterms:modified xsi:type="dcterms:W3CDTF">2015-10-07T17:48:49Z</dcterms:modified>
  <cp:revision>25</cp:revision>
  <dc:subject/>
  <dc:title>Wet BIG</dc:title>
</cp:coreProperties>
</file>