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17A82-7EE8-44A8-ADD8-DB6807E3DAE6}"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952D-6746-459C-8072-203324D415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B5076-55D3-4190-B977-96313118A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FE54B-CA6D-4594-A30A-4A2870CFF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D30E5-9AFF-4764-892A-874808C94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ED794-159E-4EF1-866D-E63FFBD79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5AB680-8DA9-40F8-976C-06F32DC978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C23E4-FFA0-4678-A1EB-542C6AAC7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A5B48-42B2-47A6-89BA-148AE66ED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80E19-3F13-4389-9ED7-8C6864924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01D5C-5AD5-4561-838D-FAFF14BD5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EE75C-D4E0-4BA9-9E65-4F5E44A1F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E598E-462D-4FAD-B008-B629C457F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EF5E2-29F7-43ED-9C0B-78E5CD579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09BAC-DBF6-4E70-B4CC-EB882F578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E7867-1BD6-4CB4-8A86-0C9310206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AA934-060B-4362-8D8E-24BED5552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741AC8-4ACD-40F2-ABF9-5259FE32E8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04A932-E3DC-40DB-99EA-DA87890739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0C6F0E-591E-4095-AB0E-B3D8C88A03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932671-3A52-4FD1-975D-42196F8B82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E2B247-F4E8-442B-B90D-CF024E7869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51E2FB-1905-4189-B117-5F4C8C6CAA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AC3B62-32AA-44CE-A564-FFCE51E388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F9D06-2B10-4FE6-8264-C54C48E84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DEE4CB-990B-44CD-BBB1-22144215A8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2FC887-3C32-4FB6-99E2-9D718F20DE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126047-D9BF-4FAD-9A8E-60C5185F1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240173-964D-4214-898C-CD09DCF93F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F9C545-CB4F-40D6-9A58-B3BEFB13A8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969514-F4D4-4689-9FAD-980B033DD4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A89E96-B580-4057-B613-4A3738966C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7C023D-846B-4A0B-9FCF-34D6A929F2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4B39D2-DCD0-4245-AE31-AB8EE3667A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7D89C3-C1D0-49AF-A4AF-382A4C6298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0AFFC-C769-46D1-9F77-ABCBD7E09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0A4921-B639-4F1A-819E-C9C70484CD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C47A65-C44E-41B6-8C5F-D1698B5E17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6B1EF4-AA23-41DE-864B-6C7BB25762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3CF267-FBE8-4B68-B68D-6D5D22AB51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2FBC41-5135-49BA-B865-D33C74E26E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C8940E-C01C-4A04-A860-1D605749CE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3A3164-3CA4-4DDC-8D39-3A160D9207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8A09D3-0840-4C2B-9E47-C88D383087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062740-60E4-40B0-9FCF-C55C8952BD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E52DD8-5F8F-4CC8-8CCD-F63FEA452C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BFA3C-495E-4EEB-8592-94F0B0247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F72127-CBB8-4F64-AB74-3E083E3DFC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BFF34A-A509-4CC0-9E62-B9EFD1C209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DE1A1B-1C2D-408B-836B-F10C877CA0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556F97-A197-4CC6-9392-B2A5B3A74F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C20B0B-6B5A-4CA3-A579-D04513283C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155608-52D3-4EC1-B477-F3C906269C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495ADA-AC06-4F07-B369-573B90A406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043FED-3B83-415B-8BAF-8EACC2817C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7716D3-8664-4D7C-B525-F82AE291BD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165D0D-B58B-474B-9CE1-A368A23A1E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EDB51-388B-4773-B8FE-E28D32BC6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AAEB08-90C3-4BC1-8618-2A9C950A1E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8DA41-98E7-49D5-88E4-6F5FFAD3C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99EE8-B771-4408-9F83-09F6047A9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561BD-EA24-4FA8-8058-03F09AFB3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0400" y="-6480"/>
            <a:ext cx="1000080" cy="6870960"/>
            <a:chOff x="8150400" y="-6480"/>
            <a:chExt cx="1000080" cy="6870960"/>
          </a:xfrm>
        </p:grpSpPr>
        <p:pic>
          <p:nvPicPr>
            <p:cNvPr id="1" name="Rechthoek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EE19-258A-4C7D-A005-404C84031A2D}"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64000" y="-6480"/>
            <a:ext cx="6486480" cy="6870960"/>
            <a:chOff x="2664000" y="-6480"/>
            <a:chExt cx="6486480" cy="6870960"/>
          </a:xfrm>
        </p:grpSpPr>
        <p:pic>
          <p:nvPicPr>
            <p:cNvPr id="45" name="Rechthoek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5F2F-F4A1-4B51-8DBC-CCCA0FFE14EB}"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0400" y="-6480"/>
            <a:ext cx="1000080" cy="6870960"/>
            <a:chOff x="8150400" y="-6480"/>
            <a:chExt cx="1000080" cy="6870960"/>
          </a:xfrm>
        </p:grpSpPr>
        <p:pic>
          <p:nvPicPr>
            <p:cNvPr id="90" name="Rechthoek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B2B99-199B-4EB4-9747-B38A376BEDCA}"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297B8-8DCE-433E-8C07-94584F99A182}"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0400" y="-6480"/>
            <a:ext cx="1000080" cy="6870960"/>
            <a:chOff x="8150400" y="-6480"/>
            <a:chExt cx="1000080" cy="6870960"/>
          </a:xfrm>
        </p:grpSpPr>
        <p:pic>
          <p:nvPicPr>
            <p:cNvPr id="177" name="Rechthoek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DA8F-94CE-47FA-B159-0B269454C886}"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2560" y="353880"/>
            <a:ext cx="8601120" cy="32544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212760" y="317520"/>
            <a:ext cx="7493040" cy="1150920"/>
          </a:xfrm>
          <a:prstGeom prst="rect">
            <a:avLst/>
          </a:prstGeom>
          <a:ln w="0">
            <a:noFill/>
          </a:ln>
        </p:spPr>
      </p:pic>
      <p:pic>
        <p:nvPicPr>
          <p:cNvPr id="266" name="Tijdelijke aanduiding voor inhoud 2" descr=""/>
          <p:cNvPicPr/>
          <p:nvPr/>
        </p:nvPicPr>
        <p:blipFill>
          <a:blip r:embed="rId2"/>
          <a:stretch/>
        </p:blipFill>
        <p:spPr>
          <a:xfrm>
            <a:off x="450720" y="1554120"/>
            <a:ext cx="7340760" cy="490716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212760" y="317520"/>
            <a:ext cx="749304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212760" y="317520"/>
            <a:ext cx="7493040" cy="115092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212760" y="633240"/>
            <a:ext cx="7493040" cy="83520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door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d…</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42840" y="853920"/>
            <a:ext cx="8905680" cy="425448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244440" y="133200"/>
            <a:ext cx="7461360" cy="108612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ilmpje</a:t>
            </a: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212760" y="317520"/>
            <a:ext cx="7572240" cy="1150920"/>
          </a:xfrm>
          <a:prstGeom prst="rect">
            <a:avLst/>
          </a:prstGeom>
          <a:ln w="0">
            <a:noFill/>
          </a:ln>
        </p:spPr>
      </p:pic>
      <p:pic>
        <p:nvPicPr>
          <p:cNvPr id="253" name="Tijdelijke aanduiding voor inhoud 2" descr=""/>
          <p:cNvPicPr/>
          <p:nvPr/>
        </p:nvPicPr>
        <p:blipFill>
          <a:blip r:embed="rId3"/>
          <a:stretch/>
        </p:blipFill>
        <p:spPr>
          <a:xfrm>
            <a:off x="334800" y="1596960"/>
            <a:ext cx="7377120" cy="48704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212760" y="317520"/>
            <a:ext cx="7493040" cy="1150920"/>
          </a:xfrm>
          <a:prstGeom prst="rect">
            <a:avLst/>
          </a:prstGeom>
          <a:ln w="0">
            <a:noFill/>
          </a:ln>
        </p:spPr>
      </p:pic>
      <p:pic>
        <p:nvPicPr>
          <p:cNvPr id="258" name="Tijdelijke aanduiding voor inhoud 2" descr=""/>
          <p:cNvPicPr/>
          <p:nvPr/>
        </p:nvPicPr>
        <p:blipFill>
          <a:blip r:embed="rId2"/>
          <a:stretch/>
        </p:blipFill>
        <p:spPr>
          <a:xfrm>
            <a:off x="328680" y="1603440"/>
            <a:ext cx="7377120" cy="485784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212760" y="317520"/>
            <a:ext cx="7493040" cy="1150920"/>
          </a:xfrm>
          <a:prstGeom prst="rect">
            <a:avLst/>
          </a:prstGeom>
          <a:ln w="0">
            <a:noFill/>
          </a:ln>
        </p:spPr>
      </p:pic>
      <p:pic>
        <p:nvPicPr>
          <p:cNvPr id="261" name="Tijdelijke aanduiding voor inhoud 2" descr=""/>
          <p:cNvPicPr/>
          <p:nvPr/>
        </p:nvPicPr>
        <p:blipFill>
          <a:blip r:embed="rId2"/>
          <a:stretch/>
        </p:blipFill>
        <p:spPr>
          <a:xfrm>
            <a:off x="347760" y="1554120"/>
            <a:ext cx="7381800" cy="493236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212760" y="317520"/>
            <a:ext cx="7493040" cy="1150920"/>
          </a:xfrm>
          <a:prstGeom prst="rect">
            <a:avLst/>
          </a:prstGeom>
          <a:ln w="0">
            <a:noFill/>
          </a:ln>
        </p:spPr>
      </p:pic>
      <p:pic>
        <p:nvPicPr>
          <p:cNvPr id="264" name="Tijdelijke aanduiding voor inhoud 2" descr=""/>
          <p:cNvPicPr/>
          <p:nvPr/>
        </p:nvPicPr>
        <p:blipFill>
          <a:blip r:embed="rId2"/>
          <a:stretch/>
        </p:blipFill>
        <p:spPr>
          <a:xfrm>
            <a:off x="414360" y="1547640"/>
            <a:ext cx="7351560" cy="491364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Joke</cp:lastModifiedBy>
  <dcterms:modified xsi:type="dcterms:W3CDTF">2014-01-14T13:54:54Z</dcterms:modified>
  <cp:revision>51</cp:revision>
  <dc:subject/>
  <dc:title>Kinderarbeid</dc:title>
</cp:coreProperties>
</file>